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DA3-DE6E-46AB-A3BE-DCF7DB2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618-AA83-485E-A3CF-04F5C615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127-7B4D-44E4-8C18-E1E734E2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576-3F4A-4D85-94DC-9CCE988E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8093-B957-4BF7-BDA1-A2CCB8B9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F834-DC89-486E-9C0F-E0FCF127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507C-01F6-4D27-B209-027FEA3E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B20F-8757-4747-AA66-1B64B66B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024F-976C-458D-A913-CBF83FB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275-ED39-4B95-836E-97921776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47EC-2343-4C2B-8C16-5B3417A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CFF-CAAE-4921-9444-0EF0EFF7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7C8-D928-4403-B61C-3F5D2D3E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C669-A326-45E9-8610-7D930DD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4B30-980F-413B-B520-8D13CAA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4D10-B7A4-4BA1-B8BE-6832100D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BD67-51AB-4FF3-942E-5637623D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383-4EDE-4E74-82F5-019461B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6CB-EB30-4EF2-990D-47FB1FC6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54A-D5D1-4276-BDFE-92FF46D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37D-649F-4352-BCB7-13DDEF2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229-67DF-45BF-BCF1-03BC6B6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642-6E00-49BA-A2DC-62FE3A4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F37-AB94-4A9D-85CF-53926B3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036-0954-4FF9-9148-7A9E6680AC8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7D5-9CE2-4556-AC79-A4122E232AB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436-29ED-4696-8CBE-7FD9B966373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2B9-648F-4415-B867-F5DCCC85B06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ology of the Autonomic Nervous system (A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حساس محمد حسا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Taha Sadig Ahmed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b, BS ( University of Khartoum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D (University of Bristol , England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ultant , Clinical Neurophysiology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452-7C8C-49E7-968C-20788606259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41A39-8788-460C-AA34-29122835CC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ffect of sympathetic &amp; parasympathetic 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981080"/>
          <a:ext cx="8362800" cy="3861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76400"/>
              </a:tblGrid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pathe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sympathe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ey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liary muscl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 of pup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 (far Visi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ion of pup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ed (near vi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C3A-4AE4-425C-B979-47447BDEF65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9086F-668B-4C7E-A043-A24A30C6EC5E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80880" y="2286000"/>
          <a:ext cx="8229600" cy="3962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sa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r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ivary ( e.g , Parotid 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mandibular, sublingual 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creat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ight secretion , frequently rich in 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ious secretion ( large quantity )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80880" y="609480"/>
          <a:ext cx="8229600" cy="888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eat Gla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380880" y="1600200"/>
            <a:ext cx="82296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E44-9C9C-4D45-A900-021428DA677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6E259-D2EA-4D27-BF1A-153E475DD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228600"/>
          <a:ext cx="8229600" cy="3503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vessels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soconstri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except in sweat glands , and especially in skeletal muscle blood vessels , where the sympathetic system causes vasodilation dilation mediated by both cholinergic receptors and beta receptor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or no ef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negligible . The skin has no significant parasympathetic suppl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88C-3D31-4FF6-97A1-ED0FDDE7641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369D7-9890-41CF-B999-98F256937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685800"/>
          <a:ext cx="9036000" cy="5714640"/>
        </p:xfrm>
        <a:graphic>
          <a:graphicData uri="http://schemas.openxmlformats.org/drawingml/2006/table">
            <a:tbl>
              <a:tblPr/>
              <a:tblGrid>
                <a:gridCol w="1905120"/>
                <a:gridCol w="4267080"/>
                <a:gridCol w="2863800"/>
              </a:tblGrid>
              <a:tr h="57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 no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pacemaker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ntricula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ocard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heart rate ( HR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Beta 1 receptor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contractili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force of contractio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1) The inceased in both HR and contractility lead to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increased cardiac output ( CO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2) The increased CO and increased peripheral resist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 which results from arteriolar vasoconstriction ) together lead to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increased blood pressure ( BP)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d heart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here is no significant cholinergic supply to the myocardium . Therefore , the effect of parasympathetic stimulation is decreased HR  , but it h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o significant effect on contractility</a:t>
                      </a:r>
                      <a:r>
                        <a:rPr b="0" lang="en-GB" sz="2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F74-E1DD-4755-9BAB-CAD3277A98F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B5198-317F-478A-A563-113997B630CE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08000" y="115920"/>
          <a:ext cx="8856720" cy="7074000"/>
        </p:xfrm>
        <a:graphic>
          <a:graphicData uri="http://schemas.openxmlformats.org/drawingml/2006/table">
            <a:tbl>
              <a:tblPr/>
              <a:tblGrid>
                <a:gridCol w="3294000"/>
                <a:gridCol w="2565360"/>
                <a:gridCol w="29973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onary Blood vessels</a:t>
                      </a: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actually , they are mainly influenced by changes in their local environment , rather than by extrinsic nerve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 (dilation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vessels to skeletal musc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lat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ediated by both cholinergic and beta-adrenergic receptors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ignificant effect on vascular cali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hiolar smooth musc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beta 2 receptors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72A-F6A1-450A-9392-9D3F4724529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28B29-753A-41D7-916C-3B2F28A71881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T Digestive and Excretory Func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838080"/>
          <a:ext cx="9143640" cy="6791400"/>
        </p:xfrm>
        <a:graphic>
          <a:graphicData uri="http://schemas.openxmlformats.org/drawingml/2006/table">
            <a:tbl>
              <a:tblPr/>
              <a:tblGrid>
                <a:gridCol w="2813400"/>
                <a:gridCol w="3282480"/>
                <a:gridCol w="3047760"/>
              </a:tblGrid>
              <a:tr h="22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gestive secretion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salivary and other GIT Gland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i.e., GIT secretion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amount of secre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secre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copious secretions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T motili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 movement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d , because longitudinal muscles in walls of organs are relaxed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reased peristaltic and segmentation moveme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contraction of longitudinal muscles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creased peristaltic and mixing  movemets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ore mixing of food with digestive enzymes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gestion promo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IT Sphinct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circular muscles guarding exits ),</a:t>
                      </a: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cluding internal anal sphinc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iction ( therefore , emptying prevented or delayed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 ( this , combined with increased wall motility , promotes emptying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70C-DC52-4A78-B89E-460BAB76849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BBBCD-3B7B-490E-8FBC-0A99E7BA2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ito-urinary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990720"/>
          <a:ext cx="8229600" cy="5348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et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ions increa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ection of penis or clitor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ote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ac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o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dder wall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al urinary sphinc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fore , urine excretion promote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0B7-9A40-463B-8C3D-C946AD21691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C91B0-9853-47FB-8DEA-4B77044A5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and Othe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533520"/>
          <a:ext cx="9144000" cy="5906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renal medul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retion of epinephrine ( 80 %) and norepinephrine (20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glucose leve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( increased glycogenolysis in skeletal muscle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lip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levels ( increased lipolysis in fat cells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coagul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bolic 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tal alertness and vigil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y reach level of anxiet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331-1A77-462E-B4F6-CC1A62614FE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5D1FD-FEA7-443D-B6C6-7E9D5011B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should be noted tha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physiological conditions , nearly all sympathetic and parasympathetic activities are opposite ( contradictory ) to each other ; however , the two systems cooperate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may act in unison/accord )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 salivary secretion ( 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anty secretion rich in enzymes , para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tery , copious secretion )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 Emotional stress : para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eased tear and nasal secretions , 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eased heart-rate , BP 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 Sexual intercourse : para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rection of the penis or clitoris , sympatheti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jaculation or org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662-4A5B-43F3-84D4-CF79953CB5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7F803-D2D0-4663-8E50-2943BFAF5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nomic Neurotransmi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preg. Fibres  (sympathetic and parasympathetic ) secrete acetylcholine at the gangli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postganglionic parasympathetic fibers secrete acetylcholine at target organs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postganglionic sympathetic fibers secrete norepinephrine at target organ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ganglionic sympathetic fibers to sweat gland &amp; blood vessels of skeletal muscles release acetylch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epinephrine in the bloodstream comes from the adrenal medulla . Postganglionic sympathetic nerves can not synthesize epinephrine from its precursor which is norepinephrin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135-ABA4-4C2D-873D-B8D0AE4D6E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3A49D-10A4-46B2-B757-20A3874F2F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0160" y="0"/>
            <a:ext cx="58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.1. The autonomic nervous system:</a:t>
            </a:r>
            <a:r>
              <a:rPr b="1" i="1" lang="en-US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6248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gure 1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28800"/>
            <a:ext cx="378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s regulated by the  Hypothalam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t regulates activities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1)  Visceral  muscles : which are involuntary  , and inclu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rdiac muscle  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mooth moscle in arterioles and the gastro-intesinal tract (GIT)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2) Glands ( e.g. , sweat glands and GIT glands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t consists of  2 subdivisions: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5610" t="0" r="14191" b="2474"/>
          <a:stretch/>
        </p:blipFill>
        <p:spPr>
          <a:xfrm>
            <a:off x="3708360" y="1700280"/>
            <a:ext cx="4560840" cy="4846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762120"/>
            <a:ext cx="8167680" cy="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010E-7141-4512-8409-B29C64B66A1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130753-B8CC-40BD-8D8F-A6F7F5CC82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tions of Norepinephrine and Epinephrine Adrenergic( Alpha and Beta ) Receptors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repinephrine acts on both alpha and beta receptors , but it acts much better on alpha than beta receptor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pinephrine excites both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equally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8D4-0C08-406A-B0ED-1547B5D3E6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25D5-6F09-488A-8222-5591BA2F0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stribution of Adrenergic Recep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found i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ood vessels , especially arteri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s found i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nchi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keletal musc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C6C-DC23-4BFF-846B-0CAA257489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41FE7-3436-4A42-B25A-5867747E358F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1828800"/>
          <a:ext cx="8712000" cy="4172040"/>
        </p:xfrm>
        <a:graphic>
          <a:graphicData uri="http://schemas.openxmlformats.org/drawingml/2006/table">
            <a:tbl>
              <a:tblPr/>
              <a:tblGrid>
                <a:gridCol w="4159080"/>
                <a:gridCol w="455292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pha (</a:t>
                      </a: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α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 recep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ta (</a:t>
                      </a: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 receptors</a:t>
                      </a:r>
                      <a:r>
                        <a:rPr b="1" lang="en-GB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) Vasoconstriction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( 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raised B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 Pupillary  dila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)Vasodilat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 Increased HR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) Increased myocardial strength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2 and 3 above lead to increased CO and consequently lead to increased B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) Bronchiolar  relax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) Intestinal wall relax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) Bladder wall relaxation (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β</a:t>
                      </a:r>
                      <a:r>
                        <a:rPr b="0" lang="en-GB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609480" y="228600"/>
            <a:ext cx="7467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worthy  Eff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Alpha or Beta Receptor St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Norepinephrine or by Epinephri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B4D-453E-4062-82B8-55EE23F5A2D1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42564-C7D7-4933-912E-3D798CDADD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renergic Receptor Stimul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epinephrine and Epinephr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butamol ( Beta 2 stimulant , therefore useful in management of Bronchial Asthma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8D1-12BF-4AF4-9CF2-6201A97E1B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F1FE2-0C3D-48FB-ABAB-8E81A4753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renergic Receptors Block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ck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azosin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himbine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ck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pranolol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&amp;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nolol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012-18D4-4D45-A708-7A5871247F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8387D-98E1-49DF-A6C8-8311ED8081C0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linergic receptors , all of them are stimulated by acetylcholine and drugs which mimic it ( simulate its action )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re divided int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icotinic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 in all ganglia ) , stimulated by small dose of Nicotine and inhibited by a large dose of Nicot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uscarinic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 in target organs  ) , and are blocked by Atropine. Therefore , atropine injection is used for relief of colic , and to dry saliva before general anesthes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F5A-028A-43C3-9371-177C754B3B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13484-6393-445A-AFAE-2EE3FB4887CC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ugs that you should kn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nephrine ( can be used in Tt of asthma , but disadvantage is … ?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butamol ( ventolin 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anolo ( inderal ) , can be used in Tt of hypertension , but cintra-indicated (C/I) in cases of …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enolol ( tenormin ) , used for what ?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opine ( used for what ?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6A2-62F9-42BC-962D-640FBC6495D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2B42A-70B2-44CE-B4FA-B60225C1B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F1-ECC8-4B61-B8FE-CA58EABDA4B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2128C-424E-476E-897D-33147CBA4D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13314" r="0" b="13314"/>
          <a:stretch/>
        </p:blipFill>
        <p:spPr>
          <a:xfrm>
            <a:off x="25560" y="2438280"/>
            <a:ext cx="5626080" cy="3414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44400" y="99072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.2 The autonomic nervous system pathway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676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autonomic division consists of two efferent neurons in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2590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g. 1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256536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rget tissue : effector Eff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FE69-C653-456A-9417-72258614A82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20045CD-005E-430D-B24F-18B41B714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gher control of autonomic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mpathetic functions regulated by posterior hypothala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asympathetic functions regulated by anterior hypo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490-2649-4504-B262-F95C5C0335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1CD33-961F-4918-B0AB-F3C253A0184F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0666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hetic and parasympathe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6248520"/>
            <a:ext cx="55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10647" r="0" b="10647"/>
          <a:stretch/>
        </p:blipFill>
        <p:spPr>
          <a:xfrm>
            <a:off x="533520" y="1752480"/>
            <a:ext cx="7696080" cy="4505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NS has 2 subdivision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57F4-EF69-4C78-B744-111307EE836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EF53EE0-2D05-4A92-BECA-C0A4417BA7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ffect of sympathetic stimul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mpathetic part of ANS is active during fear, anxiety, sever pain preparing the body for fight or f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ing mechanisms which increase energy &amp;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30A-0424-4C0A-8A77-7FC5DBBD7B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3932C-B750-4B11-88D0-A57150E712E8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ffect of parasympathetic 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asympathetic system activities is related to relaxe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getative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 of the sexu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959-0140-4817-85D5-17865B9B17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14CD7-C5EE-4DAB-83C8-581724FBFBE3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48120"/>
            <a:ext cx="5435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The preganglionic fibers are short ( beca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ganglia are paravertebral ) and postg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bers are lo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Pregang fibers are myelinated and postg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bers unmyelinated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Pregang fibers secrete ACh in gangl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The cholinergic receptor in ganglia is nicotinic 5.The neurotransmitter secreted by postgang fibers is Norepinephrine , except  in sweat glands and blood vessels in skeletal muscle (in the latter cases it is AC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There is muchdivergence . The ratio (pre/post) be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1/10  or more . This divergence implies simultane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ffuse ( generalized ) actions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95280" y="164160"/>
            <a:ext cx="2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7400" y="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ympathetic (Thoracolumbar)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13314" r="0" b="49255"/>
          <a:stretch/>
        </p:blipFill>
        <p:spPr>
          <a:xfrm>
            <a:off x="0" y="533520"/>
            <a:ext cx="5724360" cy="2293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7998" t="5335" r="59002" b="0"/>
          <a:stretch/>
        </p:blipFill>
        <p:spPr>
          <a:xfrm>
            <a:off x="5562720" y="533520"/>
            <a:ext cx="3581280" cy="594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38160" y="-76320"/>
            <a:ext cx="8399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3DBF-BE78-4F3F-8C69-4D1B5AD7306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6BD378-0A09-4879-88C2-E5970C18F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49255" r="0" b="13314"/>
          <a:stretch/>
        </p:blipFill>
        <p:spPr>
          <a:xfrm>
            <a:off x="0" y="533520"/>
            <a:ext cx="5580000" cy="2209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38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arasympathetic (Craniosacral ) system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743200"/>
            <a:ext cx="556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The preganglionic neurons are long and postg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ibers are short ( because the parasympathetic gang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re  located either close to the arget organ or embedded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ts wall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Pregang fibers are myelinated and postgang fibers unmyelinated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Pregang fibers secrete ACh in gangl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. The cholinergic receptor in ganglia is nicoti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The neurotransmitter secreted by postgang fibers is A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 The receptors on the target organ is cholinerg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scarinic ( can be blocked by Atropine 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.There is little divergence. The ratio (pre/post) = 1/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imited divergence results in more specific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ve a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7998" t="5335" r="59002" b="0"/>
          <a:stretch/>
        </p:blipFill>
        <p:spPr>
          <a:xfrm>
            <a:off x="5486400" y="533520"/>
            <a:ext cx="3657600" cy="5943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7080" y="990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6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6572-DA73-42C0-888F-A8D032861FF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E272F43-57CD-4C50-8157-B444FD146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1:10:08Z</dcterms:created>
  <dc:creator>Family</dc:creator>
  <dc:description/>
  <dc:language>en-US</dc:language>
  <cp:lastModifiedBy>Dr.Taha</cp:lastModifiedBy>
  <dcterms:modified xsi:type="dcterms:W3CDTF">2006-11-05T09:57:04Z</dcterms:modified>
  <cp:revision>4</cp:revision>
  <dc:subject/>
  <dc:title>Physiology of the Autonomic Nervous system (AN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