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55C-193D-4FA8-A189-1F80859F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F7C-6799-4C21-B04D-AFB47D5F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881-A2D5-4483-9C50-CB33EB3B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073-2B22-4A55-9A77-2964E432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D5A5-C8E8-4D52-BB5E-48888076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CA29-0665-4080-9490-94034313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55E9-448D-490F-9A55-478537B2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A43E-46F9-4679-9D82-AA66BB78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FFDA-240B-48FC-8AC5-2C6A2874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62DF-C7F5-46C7-BCB6-D4600B6E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99E5-5525-4ECC-8CF5-298A8C05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190-6719-4FA9-AA41-140170A1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08A6-B38A-4AA4-8D84-09AA456A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DC14-C2B4-4ADB-A043-C927CA56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EDD1-D1D0-445D-85AF-BC9F0C80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756E-9696-46D9-9AAE-C06226E4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0577-3215-44CB-899F-B0B49B82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5E5-22B7-4D84-A3F3-08A34C89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E59-D2D3-494F-AFA0-56F72CF5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B14-81A0-40D5-901C-125E9E2B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747-E6CC-4CBF-A06C-E176D42B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462-7FF7-4583-97F7-11FBDF3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C38-3099-44C2-A669-4009F89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1CF-0DD3-4BEE-AF21-ED4A6DFC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9165-14C3-469E-AB7F-B15824708F7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DE5C-E59B-43A6-8974-9C2B59477D1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41D1-1231-4625-9E16-81A00986932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C07A-8213-45D9-A7E0-14893196C0F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ysiology of the Autonomic Nervous system (AN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35812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حساس محمد حسا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Taha Sadig Ahmed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b, BS ( University of Khartoum 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D (University of Bristol , England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sultant , Clinical Neurophysiology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825-44FD-4F25-91CD-0F100F9C3A2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9E485-0231-4211-93F5-996B529F82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ffect of sympathetic &amp; parasympathetic 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981080"/>
          <a:ext cx="8362800" cy="3861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876400"/>
              </a:tblGrid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pathe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sympathe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ey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liary musc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latation of pup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 (far Visio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iction of pup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icted (near vi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295-0677-4C14-8C19-B93892810FA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F4924-B965-428E-8B16-7344F278125E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380880" y="2286000"/>
          <a:ext cx="8229600" cy="3962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sal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cri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ivary ( e.g , Parotid 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mandibular, sublingual  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creatic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ght secretion , frequently rich in enzy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pious secretion ( large quantity )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80880" y="609480"/>
          <a:ext cx="8229600" cy="888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eat Gla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380880" y="1600200"/>
            <a:ext cx="8229600" cy="533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153-752E-42E0-825D-08F2C0559F6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FC06A-8E20-47C4-AA93-C34D100632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228600"/>
          <a:ext cx="8229600" cy="3503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5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vessels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soconstric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except in sweat glands , and especially in skeletal muscle blood vessels , where the sympathetic system causes vasodilation dilation mediated by both cholinergic receptors and beta receptors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or no eff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negligible . The skin has no significant parasympathetic suppl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0A7-F7D9-43C9-AABD-765CE0A2ABC0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DBA10-9387-4B18-ABF9-B4ABAA2A6F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685800"/>
          <a:ext cx="9036000" cy="5714640"/>
        </p:xfrm>
        <a:graphic>
          <a:graphicData uri="http://schemas.openxmlformats.org/drawingml/2006/table">
            <a:tbl>
              <a:tblPr/>
              <a:tblGrid>
                <a:gridCol w="1905120"/>
                <a:gridCol w="4267080"/>
                <a:gridCol w="2863800"/>
              </a:tblGrid>
              <a:tr h="57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 no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pacemaker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ntricula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ocard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heart rate ( HR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Beta 1 receptors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contractilit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force of contractio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1) The inceased in both HR and contractility lead to 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 increased cardiac output ( CO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2) The increased CO and increased peripheral resista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 which results from arteriolar vasoconstriction ) together lead to 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 increased blood pressure ( BP)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ased heart 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here is no significant cholinergic supply to the myocardium . Therefore , the effect of parasympathetic stimulation is decreased HR  , but it ha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no significant effect on contractility</a:t>
                      </a:r>
                      <a:r>
                        <a:rPr b="0" lang="en-GB" sz="2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2A0-D5DC-4932-BD03-1F7ECC67001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87248-057F-4A38-A3BE-C613FB3C94C2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08000" y="115920"/>
          <a:ext cx="8856720" cy="7074000"/>
        </p:xfrm>
        <a:graphic>
          <a:graphicData uri="http://schemas.openxmlformats.org/drawingml/2006/table">
            <a:tbl>
              <a:tblPr/>
              <a:tblGrid>
                <a:gridCol w="3294000"/>
                <a:gridCol w="2565360"/>
                <a:gridCol w="29973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onary Blood vessels</a:t>
                      </a: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actually , they are mainly influenced by changes in their local environment , rather than by extrinsic nerves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latation (dilation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la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vessels to skeletal muscl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lat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ediated by both cholinergic and beta-adrenergic receptors 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ignificant effect on vascular cali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hiolar smooth muscl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beta 2 receptors 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ic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16E-0E75-41B3-BE9C-50CBA7875636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2B122-8F74-414A-89C5-037109A8F12C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T Digestive and Excretory Func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838080"/>
          <a:ext cx="9143640" cy="6791400"/>
        </p:xfrm>
        <a:graphic>
          <a:graphicData uri="http://schemas.openxmlformats.org/drawingml/2006/table">
            <a:tbl>
              <a:tblPr/>
              <a:tblGrid>
                <a:gridCol w="2813400"/>
                <a:gridCol w="3282480"/>
                <a:gridCol w="3047760"/>
              </a:tblGrid>
              <a:tr h="22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gestive secretion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salivary and other GIT Gland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i.e., GIT secreti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 amount of secre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secre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copious secretions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IT motilit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 movement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ased , because longitudinal muscles in walls of organs are relaxed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ecreased peristaltic and segmentation moveme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contraction of longitudinal muscles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creased peristaltic and mixing  movemets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ore mixing of food with digestive enzymes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gestion promo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IT Sphincter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circular muscles guarding exits ),</a:t>
                      </a: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cluding internal anal sphinc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iction ( therefore , emptying prevented or delayed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 ( this , combined with increased wall motility , promotes emptying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680-37F8-4477-9522-CB098D15A37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16428-344C-479F-92CB-6115AC040A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ito-urinary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3520" y="990720"/>
          <a:ext cx="8229600" cy="5348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et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tions increas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ection of penis or clitor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ote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ac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o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dder wall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al urinary sphinc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fore , urine excretion promote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A83-3EC3-4F24-A619-1D96D7F4644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CBE5C-FCC1-4DE8-954C-CB330EA475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and Other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533520"/>
          <a:ext cx="9144000" cy="59068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renal medul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retion of epinephrine ( 80 %) and norepinephrine (20%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glucose leve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( increased glycogenolysis in skeletal muscle 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lipi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levels ( increased lipolysis in fat cells 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coagul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bolic 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tal alertness and vigila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y reach level of anxiet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BA5-BED4-41FB-B628-1C67C589529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5D62B-F4E4-45E3-9A57-29F6C48F56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should be noted tha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physiological conditions , nearly all sympathetic and parasympathetic activities are opposite ( contradictory ) to each other ; however , the two systems cooperate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may act in unison/accord )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 salivary secretion ( 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canty secretion rich in enzymes , para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tery , copious secretion )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 Emotional stress : para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reased tear and nasal secretions , 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reased heart-rate , BP 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 Sexual intercourse : para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rection of the penis or clitoris , 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jaculation or org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00C-E804-4AB3-827E-BC4BB1D588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A40A2-D987-4FEF-9827-D5E1F96188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tonomic Neurotransmi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preg. Fibres  (sympathetic and parasympathetic ) secrete acetylcholine at the gangli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postganglionic parasympathetic fibers secrete acetylcholine at target organs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postganglionic sympathetic fibers secrete norepinephrine at target organ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ganglionic sympathetic fibers to sweat gland &amp; blood vessels of skeletal muscles release acetylcho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epinephrine in the bloodstream comes from the adrenal medulla . Postganglionic sympathetic nerves can not synthesize epinephrine from its precursor which is norepinephrin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B43-52CD-4A8E-B798-0C585543FE7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F1166-4818-481F-A213-18BA491052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00160" y="0"/>
            <a:ext cx="58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A.1. The autonomic nervous system:</a:t>
            </a:r>
            <a:r>
              <a:rPr b="1" i="1" lang="en-US" sz="24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6248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gure 1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828800"/>
            <a:ext cx="3780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s regulated by the  Hypothalam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t regulates activities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1)  Visceral  muscles : which are involuntary  , and inclu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rdiac muscle  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mooth moscle in arterioles and the gastro-intesinal tract (GIT)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2) Glands ( e.g. , sweat glands and GIT glands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t consists of  2 subdivisions: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5610" t="0" r="14191" b="2474"/>
          <a:stretch/>
        </p:blipFill>
        <p:spPr>
          <a:xfrm>
            <a:off x="3708360" y="1700280"/>
            <a:ext cx="4560840" cy="4846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160" y="0"/>
            <a:ext cx="839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762120"/>
            <a:ext cx="8167680" cy="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CCC9-8C12-4A82-9BEF-3320EBA9B70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6E6179C-8428-4434-9A83-FDAD4FB7EB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tions of Norepinephrine and Epinephrine Adrenergic( Alpha and Beta ) Receptors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orepinephrine acts on both alpha and beta receptors , but it acts much better on alpha than beta receptor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pinephrine excites both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equally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F50-DE08-475C-8C73-F713A8DC05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E01D1-38F6-4AD9-ADD3-CD0048C291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istribution of Adrenergic Recep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found i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lood vessels , especially arteri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s found i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nchi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keletal musc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F55-F24C-4BBA-B2EB-BCE165C51E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D3D74-5766-43A2-A48E-EF3F015A6BCD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8600" y="1828800"/>
          <a:ext cx="8712000" cy="4172040"/>
        </p:xfrm>
        <a:graphic>
          <a:graphicData uri="http://schemas.openxmlformats.org/drawingml/2006/table">
            <a:tbl>
              <a:tblPr/>
              <a:tblGrid>
                <a:gridCol w="4159080"/>
                <a:gridCol w="455292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pha (</a:t>
                      </a:r>
                      <a:r>
                        <a:rPr b="0" lang="el-G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α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 recep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ta (</a:t>
                      </a:r>
                      <a:r>
                        <a:rPr b="0" lang="el-G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 receptors</a:t>
                      </a:r>
                      <a:r>
                        <a:rPr b="1" lang="en-GB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) Vasoconstriction 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 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 raised B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) Pupillary  dila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)Vasodilatation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) Increased HR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) Increased myocardial strength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 and 3 above lead to increased CO and consequently lead to increased B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) Bronchiolar  relaxation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) Intestinal wall relaxation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) Bladder wall relaxation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609480" y="228600"/>
            <a:ext cx="746784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worthy  Effe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Alpha or Beta Receptor St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Norepinephrine or by Epinephri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C9F-1CEA-41B6-9D93-FEF727AF58C7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8FBF0-FBA9-40C0-8288-6CB4BA06B2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renergic Receptor Stimul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epinephrine and Epinephr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butamol ( Beta 2 stimulant , therefore useful in management of Bronchial Asthma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029-3FC4-4984-811C-45BC3156FF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2519A-B886-41C0-981C-2D23D3082C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renergic Receptors Block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ck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azosin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himbine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ck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pranolol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&amp;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enolol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591-15D0-4740-B9F7-EBAE316BAC9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B9EBB-C6F3-4B3F-B932-DC4360236117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olinergic receptors , all of them are stimulated by acetylcholine and drugs which mimic it ( simulate its action )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are divided into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icotinic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 in all ganglia ) , stimulated by small dose of Nicotine and inhibited by a large dose of Nicot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uscarinic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 in target organs  ) , and are blocked by Atropine. Therefore , atropine injection is used for relief of colic , and to dry saliva before general anesthes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3B5-D9B5-4035-A0B3-D55B3F7337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92A9D-FDB9-4C2A-ACA2-9E09143EFBBB}" type="datetime1">
              <a:rPr lang="en-US"/>
              <a:t>07/31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ugs that you should kn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nephrine ( can be used in Tt of asthma , but disadvantage is … ?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butamol ( ventolin )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ranolo ( inderal ) , can be used in Tt of hypertension , but cintra-indicated (C/I) in cases of …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enolol ( tenormin ) , used for what ?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ropine ( used for what ?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89C-41FA-4AAE-845C-01B899141E2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EEEA0-02BF-44DD-847A-7C346685C5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DBE-F140-42D0-A764-2D872B14ED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61202-0B42-48BC-ACBA-34096C5B02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0" t="13314" r="0" b="13314"/>
          <a:stretch/>
        </p:blipFill>
        <p:spPr>
          <a:xfrm>
            <a:off x="25560" y="2438280"/>
            <a:ext cx="5626080" cy="3414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44400" y="990720"/>
            <a:ext cx="68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.2 The autonomic nervous system pathway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6765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autonomic division consists of two efferent neurons in s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25909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g. 1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2565360"/>
            <a:ext cx="26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srget tissue : effector Eff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160" y="0"/>
            <a:ext cx="839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5454-11A0-4919-BCD5-0C8257A9C00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312A853-1F38-4B24-A47C-99B520372B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igher control of autonomic fu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ympathetic functions regulated by posterior hypothala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asympathetic functions regulated by anterior hypothalam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0B2-0E48-4D59-8F4A-75CDE03BED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8EF2B-9AC1-43D3-B18E-1DF279CAF6AD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0666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hetic and parasympathe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6248520"/>
            <a:ext cx="55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0" y="16002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10647" r="0" b="10647"/>
          <a:stretch/>
        </p:blipFill>
        <p:spPr>
          <a:xfrm>
            <a:off x="533520" y="1752480"/>
            <a:ext cx="7696080" cy="4505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160" y="0"/>
            <a:ext cx="839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ANS has 2 subdivision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C5B2-1FB8-45C8-B8EA-F3520CAD0F5C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0B063BD-B519-4815-A9F4-1DC061CA38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ffect of sympathetic stimul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ympathetic part of ANS is active during fear, anxiety, sever pain preparing the body for fight or f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moting mechanisms which increase energy &amp; 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911-3182-4162-9C05-F11EC1F139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15906-5AEF-4F9C-96C8-A34806861494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ffect of parasympathetic 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asympathetic system activities is related to relaxe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getative fun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 of the sexu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5B2-DB23-478C-B643-15E22C13E1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E7F5A-42C2-41A9-9CE8-D243E5C3CD84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048120"/>
            <a:ext cx="5435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The preganglionic fibers are short ( beca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st ganglia are paravertebral ) and postga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bers are lo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Pregang fibers are myelinated and postga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bers unmyelinated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Pregang fibers secrete ACh in gangl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The cholinergic receptor in ganglia is nicotinic 5.The neurotransmitter secreted by postgang fibers is Norepinephrine , except  in sweat glands and blood vessels in skeletal muscle (in the latter cases it is ACh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There is muchdivergence . The ratio (pre/post) be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1/10  or more . This divergence implies simultane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ffuse ( generalized ) actions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95280" y="164160"/>
            <a:ext cx="2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7400" y="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ympathetic (Thoracolumbar)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13314" r="0" b="49255"/>
          <a:stretch/>
        </p:blipFill>
        <p:spPr>
          <a:xfrm>
            <a:off x="0" y="533520"/>
            <a:ext cx="5724360" cy="2293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7998" t="5335" r="59002" b="0"/>
          <a:stretch/>
        </p:blipFill>
        <p:spPr>
          <a:xfrm>
            <a:off x="5562720" y="533520"/>
            <a:ext cx="3581280" cy="594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V="1">
            <a:off x="38160" y="-76320"/>
            <a:ext cx="8399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D986-D59A-449C-B7AB-816308F1F7B6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7268FC5-CA76-4A25-BE69-AF83E5C649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49255" r="0" b="13314"/>
          <a:stretch/>
        </p:blipFill>
        <p:spPr>
          <a:xfrm>
            <a:off x="0" y="533520"/>
            <a:ext cx="5580000" cy="2209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2388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arasympathetic (Craniosacral ) system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743200"/>
            <a:ext cx="556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The preganglionic neurons are long and postg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ibers are short ( because the parasympathetic gang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are  located either close to the arget organ or embedded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ts wall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Pregang fibers are myelinated and postgang fibers unmyelinated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Pregang fibers secrete ACh in gangl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. The cholinergic receptor in ganglia is nicoti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.The neurotransmitter secreted by postgang fibers is AC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. The receptors on the target organ is cholinerg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scarinic ( can be blocked by Atropine 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.There is little divergence. The ratio (pre/post) = 1/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limited divergence results in more specific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ive a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7998" t="5335" r="59002" b="0"/>
          <a:stretch/>
        </p:blipFill>
        <p:spPr>
          <a:xfrm>
            <a:off x="5486400" y="533520"/>
            <a:ext cx="3657600" cy="5943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97080" y="9907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160" y="0"/>
            <a:ext cx="839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C497-97CB-4A9F-B29E-07820EED75BC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C873575-877F-4DAD-9292-2223734EDE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1:10:08Z</dcterms:created>
  <dc:creator>Family</dc:creator>
  <dc:description/>
  <dc:language>en-US</dc:language>
  <cp:lastModifiedBy>Dr.Taha</cp:lastModifiedBy>
  <dcterms:modified xsi:type="dcterms:W3CDTF">2006-11-05T09:57:04Z</dcterms:modified>
  <cp:revision>4</cp:revision>
  <dc:subject/>
  <dc:title>Physiology of the Autonomic Nervous system (AN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