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EB1-5667-4035-87E6-757C09F4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D71-BB7D-4A85-9656-1D3BE092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CEA-11E5-4379-85A6-F289E44E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508-2466-4057-90D4-4D791C4B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A3D-50C6-4D9F-AC44-CC5A1F20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1AF-A8D3-4499-AD31-556DB497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E0E-5140-483E-95D1-3415C7F3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56D-53E5-4B46-9339-EED9B99C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3CF-38E1-4CBD-A273-D55BD2A6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856-DB41-44C3-96FC-7BA3238E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04D-63B5-4C4D-9DB0-154963C4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2CB-CACC-47B2-B34B-00F8A83E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8E64-74F0-4C41-88B2-2490CF845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990033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03640" y="106056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18_003" descr=""/>
          <p:cNvPicPr/>
          <p:nvPr/>
        </p:nvPicPr>
        <p:blipFill>
          <a:blip r:embed="rId1"/>
          <a:stretch/>
        </p:blipFill>
        <p:spPr>
          <a:xfrm>
            <a:off x="782640" y="1600200"/>
            <a:ext cx="7543800" cy="610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50880" y="1676520"/>
            <a:ext cx="1600200" cy="5181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21520" y="1676520"/>
            <a:ext cx="1295280" cy="5181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6719760"/>
            <a:ext cx="51055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14440"/>
            <a:ext cx="77724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holesterol: 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17680" y="107460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17680" y="118728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18_004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96080" cy="6105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070840" y="1905120"/>
            <a:ext cx="457200" cy="4952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828800"/>
            <a:ext cx="533520" cy="50292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717560"/>
            <a:ext cx="8001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6637320"/>
            <a:ext cx="7315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holesterol: 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17680" y="118728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370000">
            <a:off x="78480" y="4806720"/>
            <a:ext cx="3478680" cy="825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nternsic ER membr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atalytic domain, cy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114800"/>
            <a:ext cx="457200" cy="685800"/>
          </a:xfrm>
          <a:custGeom>
            <a:avLst/>
            <a:gdLst>
              <a:gd name="textAreaLeft" fmla="*/ 61200 w 457200"/>
              <a:gd name="textAreaRight" fmla="*/ 396000 w 4572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18_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53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707320" y="0"/>
            <a:ext cx="4572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88390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4428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6483240"/>
            <a:ext cx="84088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" y="228600"/>
            <a:ext cx="8610840" cy="144792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Impact"/>
              </a:rPr>
              <a:t>Regulation of Cholesterol 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4160" y="2232000"/>
            <a:ext cx="8256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Sterol-dependen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Cholesterol content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SRE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Stability of mRNA &amp; HMG CoA prote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Hormonal-dependen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sulin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(+),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 Glucagon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80" y="1676520"/>
            <a:ext cx="57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A) HMG CoA gene expres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355680" y="4586400"/>
            <a:ext cx="972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B) Phosphorylation/dephosphory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Sterol-independent, Hormonal-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Dephospho-form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680" y="6095880"/>
            <a:ext cx="832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C) Statin drugs: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Reversible, competitive inhib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8_006" descr=""/>
          <p:cNvPicPr/>
          <p:nvPr/>
        </p:nvPicPr>
        <p:blipFill>
          <a:blip r:embed="rId1"/>
          <a:stretch/>
        </p:blipFill>
        <p:spPr>
          <a:xfrm>
            <a:off x="0" y="-2895480"/>
            <a:ext cx="9144000" cy="11353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133668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8200" y="0"/>
            <a:ext cx="156528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6518160"/>
            <a:ext cx="70106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0"/>
            <a:ext cx="6477120" cy="24033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6002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Impact"/>
              </a:rPr>
              <a:t>Regulation of Cholesterol 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28920" y="149220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holesterol: Degrad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9600" y="2286000"/>
            <a:ext cx="677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Cholesterol secretion into b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Coprostan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Choleastan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4040" y="4324320"/>
            <a:ext cx="3335400" cy="10688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duc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0760" y="5467320"/>
            <a:ext cx="3667680" cy="58140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eutral fecal ste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5086440"/>
            <a:ext cx="838080" cy="457200"/>
          </a:xfrm>
          <a:custGeom>
            <a:avLst/>
            <a:gdLst>
              <a:gd name="textAreaLeft" fmla="*/ 146520 w 838080"/>
              <a:gd name="textAreaRight" fmla="*/ 6076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572000" y="4172040"/>
            <a:ext cx="838080" cy="457200"/>
          </a:xfrm>
          <a:custGeom>
            <a:avLst/>
            <a:gdLst>
              <a:gd name="textAreaLeft" fmla="*/ 146520 w 838080"/>
              <a:gd name="textAreaRight" fmla="*/ 6076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25640" y="3790800"/>
            <a:ext cx="0" cy="1600200"/>
          </a:xfrm>
          <a:prstGeom prst="line">
            <a:avLst/>
          </a:prstGeom>
          <a:ln w="57240">
            <a:solidFill>
              <a:srgbClr val="000099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66680" y="4552920"/>
            <a:ext cx="990720" cy="0"/>
          </a:xfrm>
          <a:prstGeom prst="line">
            <a:avLst/>
          </a:prstGeom>
          <a:ln w="381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066680" y="4019400"/>
            <a:ext cx="990720" cy="0"/>
          </a:xfrm>
          <a:prstGeom prst="line">
            <a:avLst/>
          </a:prstGeom>
          <a:ln w="381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066680" y="5010120"/>
            <a:ext cx="990720" cy="0"/>
          </a:xfrm>
          <a:prstGeom prst="line">
            <a:avLst/>
          </a:prstGeom>
          <a:ln w="381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147760"/>
            <a:ext cx="4572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Intact sterol nucleu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Bile acids &amp; sa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Bile Acids and Sal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3680" y="3276720"/>
            <a:ext cx="704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rimary bile aci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olic ac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Chenodeoxychol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760" y="1523880"/>
            <a:ext cx="616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ile aci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4 C, 2 or 3 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-COOH at side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Amphipathic, Emulsifying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31080" y="5749920"/>
            <a:ext cx="5711400" cy="9471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ile salts (Conjugated bile acid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mide-linked with glycine or tau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720" y="4613400"/>
            <a:ext cx="201708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lycoc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Tauroc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82320" y="4597560"/>
            <a:ext cx="3795480" cy="9471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lycochenodeoxyc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aurochenodeoxyc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666160" y="4191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4191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 rot="2757600">
            <a:off x="7428960" y="5829120"/>
            <a:ext cx="837720" cy="762120"/>
          </a:xfrm>
          <a:custGeom>
            <a:avLst/>
            <a:gdLst>
              <a:gd name="textAreaLeft" fmla="*/ 111960 w 837720"/>
              <a:gd name="textAreaRight" fmla="*/ 725760 w 8377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 rot="18842400">
            <a:off x="495000" y="5829120"/>
            <a:ext cx="837720" cy="761760"/>
          </a:xfrm>
          <a:custGeom>
            <a:avLst/>
            <a:gdLst>
              <a:gd name="textAreaLeft" fmla="*/ 111960 w 837720"/>
              <a:gd name="textAreaRight" fmla="*/ 725760 w 83772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18_008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6711840"/>
            <a:ext cx="91440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146844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42400" y="0"/>
            <a:ext cx="1143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0"/>
            <a:ext cx="6858000" cy="222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8_009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925040" cy="6096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315200" y="1447920"/>
            <a:ext cx="1523880" cy="54100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1240" y="1523880"/>
            <a:ext cx="1219320" cy="5334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1420920"/>
            <a:ext cx="5715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6594480"/>
            <a:ext cx="55627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Bile Acids: 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Bile Sal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080" y="2209680"/>
            <a:ext cx="9082440" cy="42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ore effective deter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-COOH (glycine) &amp; -SO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(taurine):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ully-io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Only bile salts, but not acids, found in 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mportant for cholesterol excre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metabolic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Solubilizer for cholesterol in 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Genetic deficiency: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Exogenous bile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391520" cy="1143000"/>
          </a:xfrm>
          <a:prstGeom prst="rect">
            <a:avLst/>
          </a:prstGeom>
          <a:solidFill>
            <a:srgbClr val="00ffff"/>
          </a:solidFill>
          <a:ln w="19080">
            <a:solidFill>
              <a:srgbClr val="99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Impact"/>
              </a:rPr>
              <a:t>Cholesterol Metabolis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solidFill>
            <a:srgbClr val="3333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3360" y="4124160"/>
            <a:ext cx="8103960" cy="764280"/>
          </a:xfrm>
          <a:prstGeom prst="rect">
            <a:avLst/>
          </a:prstGeom>
          <a:solidFill>
            <a:srgbClr val="00ffff"/>
          </a:soli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18_010" descr=""/>
          <p:cNvPicPr/>
          <p:nvPr/>
        </p:nvPicPr>
        <p:blipFill>
          <a:blip r:embed="rId1"/>
          <a:stretch/>
        </p:blipFill>
        <p:spPr>
          <a:xfrm>
            <a:off x="457200" y="0"/>
            <a:ext cx="8610480" cy="7924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142040" y="0"/>
            <a:ext cx="190512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0"/>
            <a:ext cx="18288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6518160"/>
            <a:ext cx="5257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-82440"/>
            <a:ext cx="52578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Secondary Bile Aci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9760" y="2266920"/>
            <a:ext cx="8600760" cy="520560"/>
          </a:xfrm>
          <a:prstGeom prst="rect">
            <a:avLst/>
          </a:prstGeom>
          <a:noFill/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ile salts    Glyco- or Tauro-cholic    -Chenodeoxyc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9120" y="3805200"/>
            <a:ext cx="8669520" cy="520560"/>
          </a:xfrm>
          <a:prstGeom prst="rect">
            <a:avLst/>
          </a:prstGeom>
          <a:noFill/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Bile acids               Cholic acid              Chenodeoxyc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5520" y="5415120"/>
            <a:ext cx="7730640" cy="520560"/>
          </a:xfrm>
          <a:prstGeom prst="rect">
            <a:avLst/>
          </a:prstGeom>
          <a:noFill/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2° Bile acids    Deoxycholic acid            Lithoc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2895480"/>
            <a:ext cx="0" cy="838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4495680"/>
            <a:ext cx="0" cy="838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6360" y="304812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ntestinal 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2320" y="464832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ntestinal 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422880" y="3352680"/>
            <a:ext cx="1372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5157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51575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320" y="304812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ly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11120" y="33526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au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402360" y="3048120"/>
            <a:ext cx="137196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5157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51575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437280" y="4724280"/>
            <a:ext cx="137196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5157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51575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880" y="47242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Enterohepatic Circul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18_011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1468440"/>
            <a:ext cx="91440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523880"/>
            <a:ext cx="366840" cy="52578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818560" y="1600200"/>
            <a:ext cx="325440" cy="52578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580080"/>
            <a:ext cx="88390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holelithia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9480" y="1577880"/>
            <a:ext cx="6682320" cy="48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aus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bile salts in b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malabsorption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Biliary tract ob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hepatic dys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Biliary cholesterol excr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reatm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Bile acid replacement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Sur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71600" y="2362320"/>
            <a:ext cx="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306520" y="4246200"/>
            <a:ext cx="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Hypercholesterolem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5720" y="2076480"/>
            <a:ext cx="871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holesterol blood lev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Famil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ypothyroidism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 Diabetes melli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Nephrotic syndrome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 Obstructive jaund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80880" y="2188800"/>
            <a:ext cx="0" cy="30492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6280" y="4329000"/>
            <a:ext cx="8599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reat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Diete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Bile acid sequestrants,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e.g., Cholestyra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Statin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243828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Outli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6440" y="1298520"/>
            <a:ext cx="687348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Overview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iver cholesterol p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tructure and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ynthesis and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Bile acids and sa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Enterohepatic cir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Overview and F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440" y="1447920"/>
            <a:ext cx="8972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j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erol of anima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onent of cell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ecursor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Bile acids &amp; sa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Vitamin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Steroid horm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Mineralocorticoids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Ald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Glucocorticoids,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Corti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ex hormones,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Test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Estrogen &amp; proge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ypercholesterolemia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herosclerosis &amp; C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Impact"/>
              </a:rPr>
              <a:t>Liver Cholesterol Po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18_001" descr=""/>
          <p:cNvPicPr/>
          <p:nvPr/>
        </p:nvPicPr>
        <p:blipFill>
          <a:blip r:embed="rId1"/>
          <a:stretch/>
        </p:blipFill>
        <p:spPr>
          <a:xfrm>
            <a:off x="0" y="-131760"/>
            <a:ext cx="10210680" cy="8153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247968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69240" y="0"/>
            <a:ext cx="259056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6664320"/>
            <a:ext cx="4724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-20520"/>
            <a:ext cx="4876920" cy="96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8_002" descr=""/>
          <p:cNvPicPr/>
          <p:nvPr/>
        </p:nvPicPr>
        <p:blipFill>
          <a:blip r:embed="rId1"/>
          <a:stretch/>
        </p:blipFill>
        <p:spPr>
          <a:xfrm>
            <a:off x="3762360" y="76320"/>
            <a:ext cx="5838840" cy="784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81280" y="20520"/>
            <a:ext cx="556272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32320" y="380880"/>
            <a:ext cx="1066680" cy="6477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10480" y="380880"/>
            <a:ext cx="533520" cy="6477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6553080"/>
            <a:ext cx="41911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733920" cy="175248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holesterol: Struc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holesterol: Typ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3360" y="2881440"/>
            <a:ext cx="888012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nimal sterol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lant sterol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β-Sito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Poor intestinal absor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ctive transport to intestinal 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Block cholesterol absor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Dietary treatment of hypercholesterol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(Trans fatty acid-free margar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6960" y="2111400"/>
            <a:ext cx="56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nimal and plant sterol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4756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holesterol: Typ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2181240"/>
          <a:ext cx="8534160" cy="4219560"/>
        </p:xfrm>
        <a:graphic>
          <a:graphicData uri="http://schemas.openxmlformats.org/drawingml/2006/table">
            <a:tbl>
              <a:tblPr/>
              <a:tblGrid>
                <a:gridCol w="2438280"/>
                <a:gridCol w="2666880"/>
                <a:gridCol w="342900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93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ree choleste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9360">
                      <a:solidFill>
                        <a:srgbClr val="990033"/>
                      </a:solidFill>
                    </a:lnT>
                    <a:lnB w="93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Esterified choleste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9360">
                      <a:solidFill>
                        <a:srgbClr val="990033"/>
                      </a:solidFill>
                    </a:lnT>
                    <a:lnB w="93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H at 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Hydrophob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Membr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las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rans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9360">
                      <a:solidFill>
                        <a:srgbClr val="990033"/>
                      </a:solidFill>
                    </a:lnT>
                    <a:lnB w="93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DL/HD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resent (PL &amp; bile salt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9360">
                      <a:solidFill>
                        <a:srgbClr val="990033"/>
                      </a:solidFill>
                    </a:lnT>
                    <a:lnB w="93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Fatty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M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Ab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Low lev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M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HDL/LD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Ab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9360">
                      <a:solidFill>
                        <a:srgbClr val="990033"/>
                      </a:solidFill>
                    </a:lnT>
                    <a:lnB w="93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6776640" y="12193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Cholesterol: 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8560" y="1924200"/>
            <a:ext cx="825480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ll tissues, e.g.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Liver, Intestin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drenal cortex, &amp; Reproductiv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ytosol &amp; 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uilding blocks: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cetyl 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ducing equivalents: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NAD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ioester bond &amp;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ate-limiting enzyme: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MG CoA reduct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3-11T03:26:39Z</dcterms:modified>
  <cp:revision>3</cp:revision>
  <dc:subject/>
  <dc:title>PowerPoint Presentation</dc:title>
</cp:coreProperties>
</file>