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B8D1-4C37-4903-9C91-713F294DC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4B0E-D3A5-4DC5-BF3E-C2C454D5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5D87-B198-4C92-8F1D-196581F9C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A438-D221-498C-A062-35DFAEABB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FBBF-6EFE-4877-B923-01746A38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B967-950C-47BA-8085-2842CF7A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CDD0-01A4-4CF2-AD0F-D6E08684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A7EB-D96A-4FAA-8360-D46807EA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4C23-A0DD-4D33-BDAC-CEB0BC58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A79B-3D19-489C-A1F5-C389E2F9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06C5-8A70-45CC-BA3D-256FA1A1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8DB3-3B1B-4924-B05D-287AB4DA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BF54-A78E-4FB7-8C52-A03A0BAE9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09480" y="1066680"/>
            <a:ext cx="77900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990033"/>
                </a:solidFill>
                <a:latin typeface="Impact"/>
              </a:rPr>
              <a:t>بسم الله الرحمن الرحيم</a:t>
            </a:r>
            <a:endParaRPr b="1" lang="en-US" sz="2400" spc="1" strike="noStrike">
              <a:ln w="9360">
                <a:solidFill>
                  <a:srgbClr val="990033"/>
                </a:solidFill>
                <a:miter/>
              </a:ln>
              <a:solidFill>
                <a:srgbClr val="990033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03640" y="106056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18_003" descr=""/>
          <p:cNvPicPr/>
          <p:nvPr/>
        </p:nvPicPr>
        <p:blipFill>
          <a:blip r:embed="rId1"/>
          <a:stretch/>
        </p:blipFill>
        <p:spPr>
          <a:xfrm>
            <a:off x="782640" y="1600200"/>
            <a:ext cx="7543800" cy="6107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50880" y="1676520"/>
            <a:ext cx="1600200" cy="51814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21520" y="1676520"/>
            <a:ext cx="1295280" cy="51814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057400" y="6719760"/>
            <a:ext cx="51055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14440"/>
            <a:ext cx="777240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13716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Cholesterol: Synthes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17680" y="107460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17680" y="118728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18_004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696080" cy="6105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8070840" y="1905120"/>
            <a:ext cx="457200" cy="49528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1828800"/>
            <a:ext cx="533520" cy="50292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1717560"/>
            <a:ext cx="80010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6637320"/>
            <a:ext cx="7315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13716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Cholesterol: Synthes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17680" y="118728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20370000">
            <a:off x="78480" y="4806720"/>
            <a:ext cx="3478680" cy="8254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Internsic ER membra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Catalytic domain, cytos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4114800"/>
            <a:ext cx="457200" cy="685800"/>
          </a:xfrm>
          <a:custGeom>
            <a:avLst/>
            <a:gdLst>
              <a:gd name="textAreaLeft" fmla="*/ 61200 w 457200"/>
              <a:gd name="textAreaRight" fmla="*/ 396000 w 4572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18_0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7534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707320" y="0"/>
            <a:ext cx="45720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88390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44280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6483240"/>
            <a:ext cx="840888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" y="228600"/>
            <a:ext cx="8610840" cy="144792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Impact"/>
              </a:rPr>
              <a:t>Regulation of Cholesterol Syn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4160" y="2232000"/>
            <a:ext cx="8256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Sterol-dependent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Cholesterol content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SREB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Stability of mRNA &amp; HMG CoA prote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Hormonal-dependent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Insulin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(+),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 Glucagon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-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280" y="1676520"/>
            <a:ext cx="572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A) HMG CoA gene express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355680" y="4586400"/>
            <a:ext cx="972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B) Phosphorylation/dephosphoryl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Sterol-independent, Hormonal-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Dephospho-form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A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680" y="6095880"/>
            <a:ext cx="832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C) Statin drugs: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Reversible, competitive inhibi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18_006" descr=""/>
          <p:cNvPicPr/>
          <p:nvPr/>
        </p:nvPicPr>
        <p:blipFill>
          <a:blip r:embed="rId1"/>
          <a:stretch/>
        </p:blipFill>
        <p:spPr>
          <a:xfrm>
            <a:off x="0" y="-2895480"/>
            <a:ext cx="9144000" cy="11353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0"/>
            <a:ext cx="133668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58200" y="0"/>
            <a:ext cx="156528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6518160"/>
            <a:ext cx="701064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0"/>
            <a:ext cx="6477120" cy="240336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10480" cy="16002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Impact"/>
              </a:rPr>
              <a:t>Regulation of Cholesterol Syn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28920" y="149220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Cholesterol: Degrad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9600" y="2286000"/>
            <a:ext cx="6773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Cholesterol secretion into bi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Choleste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Coprostan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Choleastan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14040" y="4324320"/>
            <a:ext cx="3335400" cy="106884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Reduc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Bac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0760" y="5467320"/>
            <a:ext cx="3667680" cy="58140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eutral fecal ster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5086440"/>
            <a:ext cx="838080" cy="457200"/>
          </a:xfrm>
          <a:custGeom>
            <a:avLst/>
            <a:gdLst>
              <a:gd name="textAreaLeft" fmla="*/ 146520 w 838080"/>
              <a:gd name="textAreaRight" fmla="*/ 607680 w 83808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572000" y="4172040"/>
            <a:ext cx="838080" cy="457200"/>
          </a:xfrm>
          <a:custGeom>
            <a:avLst/>
            <a:gdLst>
              <a:gd name="textAreaLeft" fmla="*/ 146520 w 838080"/>
              <a:gd name="textAreaRight" fmla="*/ 607680 w 83808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25640" y="3790800"/>
            <a:ext cx="0" cy="1600200"/>
          </a:xfrm>
          <a:prstGeom prst="line">
            <a:avLst/>
          </a:prstGeom>
          <a:ln w="57240">
            <a:solidFill>
              <a:srgbClr val="000099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066680" y="4552920"/>
            <a:ext cx="990720" cy="0"/>
          </a:xfrm>
          <a:prstGeom prst="line">
            <a:avLst/>
          </a:prstGeom>
          <a:ln w="38160">
            <a:solidFill>
              <a:srgbClr val="9900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066680" y="4019400"/>
            <a:ext cx="990720" cy="0"/>
          </a:xfrm>
          <a:prstGeom prst="line">
            <a:avLst/>
          </a:prstGeom>
          <a:ln w="38160">
            <a:solidFill>
              <a:srgbClr val="9900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066680" y="5010120"/>
            <a:ext cx="990720" cy="0"/>
          </a:xfrm>
          <a:prstGeom prst="line">
            <a:avLst/>
          </a:prstGeom>
          <a:ln w="38160">
            <a:solidFill>
              <a:srgbClr val="9900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2147760"/>
            <a:ext cx="4572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Intact sterol nucleu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Bile acids &amp; sa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Bile Acids and Sal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23680" y="3276720"/>
            <a:ext cx="704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rimary bile aci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olic aci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Chenodeoxycholic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4760" y="1523880"/>
            <a:ext cx="6165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Bile aci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4 C, 2 or 3 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-COOH at side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Amphipathic, Emulsifying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31080" y="5749920"/>
            <a:ext cx="5711400" cy="94716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Bile salts (Conjugated bile acid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mide-linked with glycine or taur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7720" y="4613400"/>
            <a:ext cx="2017080" cy="9471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Glycochol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Taurochol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82320" y="4597560"/>
            <a:ext cx="3795480" cy="94716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Glycochenodeoxychol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aurochenodeoxychol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666160" y="4191120"/>
            <a:ext cx="304920" cy="1066680"/>
          </a:xfrm>
          <a:custGeom>
            <a:avLst/>
            <a:gdLst>
              <a:gd name="textAreaLeft" fmla="*/ 40680 w 304920"/>
              <a:gd name="textAreaRight" fmla="*/ 264240 w 3049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0033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4191120"/>
            <a:ext cx="304920" cy="1066680"/>
          </a:xfrm>
          <a:custGeom>
            <a:avLst/>
            <a:gdLst>
              <a:gd name="textAreaLeft" fmla="*/ 40680 w 304920"/>
              <a:gd name="textAreaRight" fmla="*/ 264240 w 3049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 rot="2757600">
            <a:off x="7428960" y="5829120"/>
            <a:ext cx="837720" cy="762120"/>
          </a:xfrm>
          <a:custGeom>
            <a:avLst/>
            <a:gdLst>
              <a:gd name="textAreaLeft" fmla="*/ 111960 w 837720"/>
              <a:gd name="textAreaRight" fmla="*/ 725760 w 83772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 rot="18842400">
            <a:off x="495000" y="5829120"/>
            <a:ext cx="837720" cy="761760"/>
          </a:xfrm>
          <a:custGeom>
            <a:avLst/>
            <a:gdLst>
              <a:gd name="textAreaLeft" fmla="*/ 111960 w 837720"/>
              <a:gd name="textAreaRight" fmla="*/ 725760 w 837720"/>
              <a:gd name="textAreaTop" fmla="*/ 133200 h 761760"/>
              <a:gd name="textAreaBottom" fmla="*/ 55224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0033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18_008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77724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6711840"/>
            <a:ext cx="914400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146844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042400" y="0"/>
            <a:ext cx="114300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5280" y="0"/>
            <a:ext cx="6858000" cy="22212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18_009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925040" cy="60962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315200" y="1447920"/>
            <a:ext cx="1523880" cy="54100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1240" y="1523880"/>
            <a:ext cx="1219320" cy="533412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1420920"/>
            <a:ext cx="57150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6594480"/>
            <a:ext cx="55627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Bile Acids: Synthes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Bile Sal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3080" y="2209680"/>
            <a:ext cx="9082440" cy="42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ore effective deterg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-COOH (glycine) &amp; -SO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(taurine): 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Fully-ion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Only bile salts, but not acids, found in b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mportant for cholesterol excre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metabolic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Solubilizer for cholesterol in b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Genetic deficiency: 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Exogenous bile ac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391520" cy="1143000"/>
          </a:xfrm>
          <a:prstGeom prst="rect">
            <a:avLst/>
          </a:prstGeom>
          <a:solidFill>
            <a:srgbClr val="00ffff"/>
          </a:solidFill>
          <a:ln w="19080">
            <a:solidFill>
              <a:srgbClr val="99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Impact"/>
              </a:rPr>
              <a:t>Cholesterol Metabolis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201560" y="2678040"/>
            <a:ext cx="834480" cy="764280"/>
          </a:xfrm>
          <a:prstGeom prst="rect">
            <a:avLst/>
          </a:prstGeom>
          <a:solidFill>
            <a:srgbClr val="3333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3360" y="4124160"/>
            <a:ext cx="8103960" cy="764280"/>
          </a:xfrm>
          <a:prstGeom prst="rect">
            <a:avLst/>
          </a:prstGeom>
          <a:solidFill>
            <a:srgbClr val="00ffff"/>
          </a:solidFill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Impact"/>
              </a:rPr>
              <a:t>Amr S. Moustafa, M.D.; Ph.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18_010" descr=""/>
          <p:cNvPicPr/>
          <p:nvPr/>
        </p:nvPicPr>
        <p:blipFill>
          <a:blip r:embed="rId1"/>
          <a:stretch/>
        </p:blipFill>
        <p:spPr>
          <a:xfrm>
            <a:off x="457200" y="0"/>
            <a:ext cx="8610480" cy="79246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142040" y="0"/>
            <a:ext cx="190512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0"/>
            <a:ext cx="182880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6518160"/>
            <a:ext cx="525780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57400" y="-82440"/>
            <a:ext cx="52578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Secondary Bile Aci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9760" y="2266920"/>
            <a:ext cx="8600760" cy="520560"/>
          </a:xfrm>
          <a:prstGeom prst="rect">
            <a:avLst/>
          </a:prstGeom>
          <a:noFill/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Bile salts    Glyco- or Tauro-cholic    -Chenodeoxychol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9120" y="3805200"/>
            <a:ext cx="8669520" cy="520560"/>
          </a:xfrm>
          <a:prstGeom prst="rect">
            <a:avLst/>
          </a:prstGeom>
          <a:noFill/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Bile acids               Cholic acid              Chenodeoxychol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5520" y="5415120"/>
            <a:ext cx="7730640" cy="520560"/>
          </a:xfrm>
          <a:prstGeom prst="rect">
            <a:avLst/>
          </a:prstGeom>
          <a:noFill/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2° Bile acids    Deoxycholic acid            Lithochol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14800" y="2895480"/>
            <a:ext cx="0" cy="8384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14800" y="4495680"/>
            <a:ext cx="0" cy="8384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66360" y="3048120"/>
            <a:ext cx="25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Intestinal bac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2320" y="4648320"/>
            <a:ext cx="25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Intestinal bac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422880" y="3352680"/>
            <a:ext cx="137268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45157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451575"/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09320" y="304812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lyc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11120" y="335268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aur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3402360" y="3048120"/>
            <a:ext cx="137196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45157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451575"/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437280" y="4724280"/>
            <a:ext cx="137196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45157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451575"/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19880" y="472428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Enterohepatic Circul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18_011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0" y="1468440"/>
            <a:ext cx="914400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523880"/>
            <a:ext cx="366840" cy="52578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818560" y="1600200"/>
            <a:ext cx="325440" cy="52578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6580080"/>
            <a:ext cx="88390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Cholelithias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19480" y="1577880"/>
            <a:ext cx="6682320" cy="48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Caus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bile salts in bi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malabsorption syndr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Biliary tract ob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hepatic dys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Biliary cholesterol excre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Treatmen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Bile acid replacement thera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Surg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71600" y="2362320"/>
            <a:ext cx="0" cy="3045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306520" y="4246200"/>
            <a:ext cx="0" cy="3049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Hypercholesterolemi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5720" y="2076480"/>
            <a:ext cx="871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holesterol blood lev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Famili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Hypothyroidism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  Diabetes melli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Nephrotic syndrome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  Obstructive jaund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380880" y="2188800"/>
            <a:ext cx="0" cy="30492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6280" y="4329000"/>
            <a:ext cx="8599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Treat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Diete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Bile acid sequestrants,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e.g., Cholestyram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Statin dru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2438280" cy="9144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Impact"/>
              </a:rPr>
              <a:t>Outlin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6440" y="1298520"/>
            <a:ext cx="6873480" cy="52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Overview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Liver cholesterol p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Structure and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Synthesis and Reg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Bile acids and sa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Enterohepatic circ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Impact"/>
              </a:rPr>
              <a:t>Overview and Func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2440" y="1447920"/>
            <a:ext cx="897264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ajo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terol of animal t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omponent of cell membra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Precursor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Bile acids &amp; sa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Vitamin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Steroid horm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Mineralocorticoids e.g.,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Aldoster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Glucocorticoids, e.g.,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Corti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Sex hormones, e.g.,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 Testoster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             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Estrogen &amp; progester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Hypercholesterolemia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Atherosclerosis &amp; C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ccff"/>
                </a:solidFill>
                <a:latin typeface="Impact"/>
              </a:rPr>
              <a:t>Liver Cholesterol Poo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18_001" descr=""/>
          <p:cNvPicPr/>
          <p:nvPr/>
        </p:nvPicPr>
        <p:blipFill>
          <a:blip r:embed="rId1"/>
          <a:stretch/>
        </p:blipFill>
        <p:spPr>
          <a:xfrm>
            <a:off x="0" y="-131760"/>
            <a:ext cx="10210680" cy="8153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247968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69240" y="0"/>
            <a:ext cx="259056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6664320"/>
            <a:ext cx="472464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-20520"/>
            <a:ext cx="4876920" cy="968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18_002" descr=""/>
          <p:cNvPicPr/>
          <p:nvPr/>
        </p:nvPicPr>
        <p:blipFill>
          <a:blip r:embed="rId1"/>
          <a:stretch/>
        </p:blipFill>
        <p:spPr>
          <a:xfrm>
            <a:off x="3762360" y="76320"/>
            <a:ext cx="5838840" cy="7848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581280" y="20520"/>
            <a:ext cx="556272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32320" y="380880"/>
            <a:ext cx="1066680" cy="647712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610480" y="380880"/>
            <a:ext cx="533520" cy="647712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6553080"/>
            <a:ext cx="41911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3733920" cy="175248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Cholesterol: Structu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Cholesterol: Typ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3360" y="2881440"/>
            <a:ext cx="8880120" cy="36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Animal sterol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holeste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Plant sterol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β-Sitoste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Poor intestinal absor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Active transport to intestinal l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Block cholesterol absor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Dietary treatment of hypercholesterol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(Trans fatty acid-free margari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6960" y="2111400"/>
            <a:ext cx="569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Animal and plant sterol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44756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Cholesterol: Typ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04920" y="2181240"/>
          <a:ext cx="8534160" cy="4219560"/>
        </p:xfrm>
        <a:graphic>
          <a:graphicData uri="http://schemas.openxmlformats.org/drawingml/2006/table">
            <a:tbl>
              <a:tblPr/>
              <a:tblGrid>
                <a:gridCol w="2438280"/>
                <a:gridCol w="2666880"/>
                <a:gridCol w="3429000"/>
              </a:tblGrid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 w="93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Free choleste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 w="9360">
                      <a:solidFill>
                        <a:srgbClr val="990033"/>
                      </a:solidFill>
                    </a:lnT>
                    <a:lnB w="93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Esterified choleste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 w="9360">
                      <a:solidFill>
                        <a:srgbClr val="990033"/>
                      </a:solidFill>
                    </a:lnT>
                    <a:lnB w="93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5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H at C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Hydrophob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Membra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Ce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Plas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Trans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B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 w="9360">
                      <a:solidFill>
                        <a:srgbClr val="990033"/>
                      </a:solidFill>
                    </a:lnT>
                    <a:lnB w="93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L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Fou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Vari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L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LDL/HD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Present (PL &amp; bile salt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 w="9360">
                      <a:solidFill>
                        <a:srgbClr val="990033"/>
                      </a:solidFill>
                    </a:lnT>
                    <a:lnB w="93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Fatty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Mo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Ab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Low leve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M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HDL/LD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Ab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 w="9360">
                      <a:solidFill>
                        <a:srgbClr val="990033"/>
                      </a:solidFill>
                    </a:lnT>
                    <a:lnB w="9360">
                      <a:solidFill>
                        <a:srgbClr val="99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6776640" y="121932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Cholesterol: Synthes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8560" y="1924200"/>
            <a:ext cx="8254800" cy="46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ll tissues, e.g.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Liver, Intestin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Adrenal cortex, &amp; Reproductive org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ytosol &amp; 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Building blocks: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Acetyl 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Reducing equivalents: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NAD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Thioester bond &amp;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Rate-limiting enzyme: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HMG CoA reduct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03-11T03:26:39Z</dcterms:modified>
  <cp:revision>3</cp:revision>
  <dc:subject/>
  <dc:title>PowerPoint Presentation</dc:title>
</cp:coreProperties>
</file>