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7CF-5316-4FE6-935E-FB5732CF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7F1-8195-4AEF-AA84-198E113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B4D-DE01-4389-96D5-85631176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734-572C-403F-A50C-116E5469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66E-03AC-4D86-B98E-5F04C22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469-7A5C-43B4-8018-047FCDD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2CF-6831-4EDE-8EB9-76291FD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301-76B7-4524-8A7E-E6E1E76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B04-BB12-4CBA-A6E5-A1F9204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948-C481-4563-AC22-0817967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3B5-5021-4F1D-B39E-C628207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04E-A150-46B2-A105-6DB0C73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32CD-3822-4BB5-B071-67C348CD8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7_015" descr=""/>
          <p:cNvPicPr/>
          <p:nvPr/>
        </p:nvPicPr>
        <p:blipFill>
          <a:blip r:embed="rId1"/>
          <a:stretch/>
        </p:blipFill>
        <p:spPr>
          <a:xfrm>
            <a:off x="1828800" y="295200"/>
            <a:ext cx="9601200" cy="7553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17560" y="0"/>
            <a:ext cx="25146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36576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Gangliosid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20520"/>
            <a:ext cx="5181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80480" y="380880"/>
            <a:ext cx="53352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6435720"/>
            <a:ext cx="4876920" cy="422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3320" y="2919240"/>
            <a:ext cx="1084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M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ulfate donor: PA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7_016" descr=""/>
          <p:cNvPicPr/>
          <p:nvPr/>
        </p:nvPicPr>
        <p:blipFill>
          <a:blip r:embed="rId1"/>
          <a:stretch/>
        </p:blipFill>
        <p:spPr>
          <a:xfrm>
            <a:off x="1704960" y="197172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1600" y="6421320"/>
            <a:ext cx="6477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5120" y="1981080"/>
            <a:ext cx="228600" cy="4572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0640" y="1960560"/>
            <a:ext cx="228600" cy="4572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884240"/>
            <a:ext cx="5715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7_017" descr=""/>
          <p:cNvPicPr/>
          <p:nvPr/>
        </p:nvPicPr>
        <p:blipFill>
          <a:blip r:embed="rId1"/>
          <a:stretch/>
        </p:blipFill>
        <p:spPr>
          <a:xfrm>
            <a:off x="3305160" y="21924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82840" y="0"/>
            <a:ext cx="6098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477120"/>
            <a:ext cx="57150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0480" y="0"/>
            <a:ext cx="533520" cy="67057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0520"/>
            <a:ext cx="4952880" cy="422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320040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ulfat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0080" y="33829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alactocerbroside 3-sulf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’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17_018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1188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828800"/>
            <a:ext cx="8686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13800" y="2154240"/>
            <a:ext cx="304920" cy="4724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77120"/>
            <a:ext cx="85345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160" y="2209680"/>
            <a:ext cx="304560" cy="4343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’ Degra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5640" y="2479680"/>
            <a:ext cx="614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ysosomal hydrolytic 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Last on, First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Defective: Total or par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phingolipid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240" y="2362320"/>
            <a:ext cx="858384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nthesis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Normal);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Degradation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Def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bstrate accumulates in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gressive, early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henotypic and genotypic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utosomal recessive,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Excep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Fabry (X-link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re,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Excep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Ashkenazi Je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9920" y="2117880"/>
            <a:ext cx="8457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Measure enzyme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Cultured fibroblasts or peripheral leuk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6600"/>
                </a:solidFill>
                <a:latin typeface="Times New Roman"/>
              </a:rPr>
              <a:t>Cultured amniocytes (prenat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Histologic exa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DNA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8240" y="5130720"/>
            <a:ext cx="8303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Replacement Therapy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Recombinant human enzy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Bone marrow transplantation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Gaucher dise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9880" y="152388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Diagnos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080" y="4506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Treat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2600" y="10666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7_020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8153640" cy="755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0"/>
            <a:ext cx="8384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6629400"/>
            <a:ext cx="7925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69440" y="0"/>
            <a:ext cx="80316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0520"/>
            <a:ext cx="73152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191120" cy="9907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Sphingolip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9160" y="126036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7637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197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69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280" y="-76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Niemann - Pick Dise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7_012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82640" y="0"/>
            <a:ext cx="685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73800" y="0"/>
            <a:ext cx="685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676920"/>
            <a:ext cx="5486400" cy="20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0520"/>
            <a:ext cx="533376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Gaucher Dise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17_019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4400" y="1600200"/>
            <a:ext cx="60948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6629400"/>
            <a:ext cx="6477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1523880"/>
            <a:ext cx="609840" cy="5334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523880"/>
            <a:ext cx="5867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91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Glycolip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124160"/>
            <a:ext cx="8103960" cy="76428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6760" y="1727280"/>
            <a:ext cx="465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icosanoids (20 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staglandins 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hromboxanes (T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eukotrienes (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5680" y="3809880"/>
            <a:ext cx="7927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G Vs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l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ocal acting &amp; Not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hort half-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lasma membrane &amp; nuclear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’S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360" y="1905120"/>
            <a:ext cx="68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Dietary precurs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inoleic acid 18:2 (9,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720" y="2590920"/>
            <a:ext cx="87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mmediate precurs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rachidonic acid 20:4 (5, 8,11,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040" y="3352680"/>
            <a:ext cx="78786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rostaglandin endoperoxide synth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icrosomal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wo Catalytic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Fatty acid cyclooxygenase (COX), 2 O</a:t>
            </a:r>
            <a:r>
              <a:rPr b="1" lang="en-US" sz="28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eroxidase (G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680" y="5958000"/>
            <a:ext cx="459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arent Prostaglandin :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GH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7_02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20520" y="1143000"/>
            <a:ext cx="2971800" cy="5715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128600"/>
            <a:ext cx="6400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7120" y="1295280"/>
            <a:ext cx="2936880" cy="55627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746760"/>
            <a:ext cx="64771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Prostaglandin’S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400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soenzy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240" y="2130480"/>
            <a:ext cx="783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X-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onstitu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Most t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mportant fo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Integrity of gastric muc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Renal 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Platelet aggr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soenzy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560" y="1720800"/>
            <a:ext cx="8396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X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Induc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Limited No. of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timul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roducts of inflammatory &amp;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Media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Inflammatory respon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Pain, Redness &amp; Sw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Fever of inf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2760" y="1111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OX Inhibi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9760" y="1905120"/>
            <a:ext cx="469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tisol (Steroi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elective COX-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hospholipase A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560" y="3505320"/>
            <a:ext cx="777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SA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oth COX-1 and –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ide effects: Gastric, Renal &amp; Clo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ow-dose Asprin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7200" y="55627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lecoxi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elective COX-2 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83059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Prostaglandin’S F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7_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34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26440" y="0"/>
            <a:ext cx="8380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"/>
            <a:ext cx="762120" cy="662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608880"/>
            <a:ext cx="7696080" cy="249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83818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ut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5200" y="2409840"/>
            <a:ext cx="65876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verview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ucture an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ynthesis and Degra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phingolip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3320" y="1901880"/>
            <a:ext cx="85489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ssential component of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undant in nervous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tra-nervous tissu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.g., Receptor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olera tox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phtheria tox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ir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9840" y="2270160"/>
            <a:ext cx="8749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gulation of growth &amp;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Very antigenic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lood group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mbryonic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umor anti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ell trans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820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9051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phingolipids: </a:t>
            </a:r>
            <a:br>
              <a:rPr sz="5400"/>
            </a:b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tructure and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120" y="2773440"/>
            <a:ext cx="59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amide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hingos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fatty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40" y="3505320"/>
            <a:ext cx="78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Sphingomyelin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Phosphor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480" y="4191120"/>
            <a:ext cx="73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ebroside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Monosaccha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1560" y="5745240"/>
            <a:ext cx="82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angliosid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oligosaccharides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N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640" y="4983120"/>
            <a:ext cx="71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lobooside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Oligosaccha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Neutral Glycosphingolipi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7800" y="4194000"/>
            <a:ext cx="81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Globosides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Ceramide Oilgosacchar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760" y="1949400"/>
            <a:ext cx="8631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ebrosides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Ceramide monosacchar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alactocerbrosid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Galact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lucocerbrosid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eramid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640" y="4876920"/>
            <a:ext cx="8126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actosylcerami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-Glc-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orssman antig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er-Glc-(Gal)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(GalNac)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7_014" descr=""/>
          <p:cNvPicPr/>
          <p:nvPr/>
        </p:nvPicPr>
        <p:blipFill>
          <a:blip r:embed="rId1"/>
          <a:stretch/>
        </p:blipFill>
        <p:spPr>
          <a:xfrm>
            <a:off x="533520" y="1476360"/>
            <a:ext cx="8076960" cy="629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43800" y="1447920"/>
            <a:ext cx="1066680" cy="541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71629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137160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7040" y="6588000"/>
            <a:ext cx="5943600" cy="270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Galactocerbros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Impact"/>
              </a:rPr>
              <a:t>Acidic Glycosphingolipi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01320" y="167652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egatively charged at physiological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120" y="2362320"/>
            <a:ext cx="952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Ganglios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ost compl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anglion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amide oligosaccharides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N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5840" y="4800600"/>
            <a:ext cx="639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2. Sulfa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erve tissue and kidne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erbrosides + Sulfated 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0T01:15:05Z</dcterms:modified>
  <cp:revision>4</cp:revision>
  <dc:subject/>
  <dc:title>PowerPoint Presentation</dc:title>
</cp:coreProperties>
</file>