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FA7-51CA-4AE3-9581-9C497D70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816-0EBB-4698-819D-F4A215F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825-642D-4A6E-A345-77E8BC09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2ED-9F82-4156-AD3E-5B21F84A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9DC-CF58-489C-ABDE-87269CED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519-0842-4AB4-BD28-476CB78D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9AA-BEFE-4815-A8B9-999ADFD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4D9-14FB-49B1-A565-6EEA642E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C78-A73F-4972-902A-E1F742C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C7A-A537-4A1D-B652-797483C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F98-1893-4A8C-972A-4DE2142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68C-30B0-4231-B694-0934932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ACA-48C4-406F-80CE-DB8C1E1A22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00" y="-4284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7240"/>
            <a:ext cx="909720" cy="7086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770440"/>
            <a:ext cx="8458200" cy="1371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82160" y="-247680"/>
            <a:ext cx="861840" cy="6172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138240" y="-247680"/>
            <a:ext cx="914400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2240" y="5915160"/>
            <a:ext cx="78008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Chylomicron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465880"/>
            <a:ext cx="91440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685800"/>
            <a:ext cx="1163520" cy="6172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-685800"/>
            <a:ext cx="815328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249120"/>
            <a:ext cx="1219320" cy="5334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-762120"/>
            <a:ext cx="17938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970600"/>
            <a:ext cx="7620120" cy="88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-762120"/>
            <a:ext cx="18288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-762120"/>
            <a:ext cx="579132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4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-380880"/>
            <a:ext cx="9144000" cy="53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52280"/>
            <a:ext cx="457200" cy="7010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05520"/>
            <a:ext cx="876312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48720" y="-152280"/>
            <a:ext cx="457200" cy="640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265200">
            <a:off x="325440" y="577044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3334800">
            <a:off x="8521560" y="5770440"/>
            <a:ext cx="38088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095880"/>
            <a:ext cx="784872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-762120"/>
            <a:ext cx="12952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-762120"/>
            <a:ext cx="7924680" cy="87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-76320"/>
            <a:ext cx="990720" cy="6782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770440"/>
            <a:ext cx="7924680" cy="108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6160" y="5908680"/>
            <a:ext cx="731520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-3200400"/>
            <a:ext cx="9144000" cy="982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008680"/>
            <a:ext cx="9524880" cy="184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249120"/>
            <a:ext cx="9504360" cy="1904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03360"/>
            <a:ext cx="1773360" cy="3505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75560" y="1503360"/>
            <a:ext cx="18288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62880" y="539604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bd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08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s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gestion: aft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mulsi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bsorption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ic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ood transport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37480" y="58104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0"/>
            <a:ext cx="563904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05720"/>
            <a:ext cx="91440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371600"/>
            <a:ext cx="30477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Impact"/>
              </a:rPr>
              <a:t>Mixed Mice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755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1585800" cy="792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6518160"/>
            <a:ext cx="7772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82040" y="0"/>
            <a:ext cx="1523880" cy="655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0"/>
            <a:ext cx="6400800" cy="55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-41400"/>
            <a:ext cx="3262320" cy="8001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6754680"/>
            <a:ext cx="62485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-41400"/>
            <a:ext cx="3124080" cy="689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-41400"/>
            <a:ext cx="29718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8240" y="24382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743200" y="-2057400"/>
            <a:ext cx="11117160" cy="1059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141640" y="-2057400"/>
            <a:ext cx="3657600" cy="929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3880" y="6726240"/>
            <a:ext cx="548640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5200" y="-1974960"/>
            <a:ext cx="7373880" cy="2417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0"/>
            <a:ext cx="4952880" cy="723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0800" y="6734160"/>
            <a:ext cx="2743200" cy="504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Ultracentif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7553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670800"/>
            <a:ext cx="9144000" cy="72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56844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1360" y="304920"/>
            <a:ext cx="53316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419040" y="0"/>
            <a:ext cx="9677520" cy="10820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380880" y="5562720"/>
            <a:ext cx="8153280" cy="152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6019920"/>
            <a:ext cx="1523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5548320"/>
            <a:ext cx="83808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685800"/>
            <a:ext cx="838080" cy="5334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457200" y="0"/>
            <a:ext cx="9601200" cy="55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57200" y="533520"/>
            <a:ext cx="457200" cy="502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86800" y="0"/>
            <a:ext cx="990720" cy="91440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86800" y="5181480"/>
            <a:ext cx="762120" cy="2210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ubOvalCallout"/>
          <p:cNvSpPr/>
          <p:nvPr/>
        </p:nvSpPr>
        <p:spPr>
          <a:xfrm>
            <a:off x="-442800" y="320040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ubOvalCallout"/>
          <p:cNvSpPr/>
          <p:nvPr/>
        </p:nvSpPr>
        <p:spPr>
          <a:xfrm>
            <a:off x="-436680" y="215424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ubOvalCallout"/>
          <p:cNvSpPr/>
          <p:nvPr/>
        </p:nvSpPr>
        <p:spPr>
          <a:xfrm>
            <a:off x="-442800" y="110808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ubOvalCallout"/>
          <p:cNvSpPr/>
          <p:nvPr/>
        </p:nvSpPr>
        <p:spPr>
          <a:xfrm>
            <a:off x="-436680" y="426708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7200" y="304920"/>
            <a:ext cx="539640" cy="5562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990600">
            <a:off x="7655040" y="558180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20609400">
            <a:off x="7917840" y="561816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5548320"/>
            <a:ext cx="166680" cy="9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51880" y="5576760"/>
            <a:ext cx="166680" cy="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633240" y="5970600"/>
            <a:ext cx="10377720" cy="7034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Secretion of Chylomicron from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4663800">
            <a:off x="45720" y="156816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16936200">
            <a:off x="119880" y="20390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6936200">
            <a:off x="72360" y="305028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6936200">
            <a:off x="72360" y="41234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16936200">
            <a:off x="59760" y="537804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16936200">
            <a:off x="78840" y="94572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4663800">
            <a:off x="52200" y="4950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663800">
            <a:off x="80640" y="25794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4663800">
            <a:off x="58320" y="366048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4663800">
            <a:off x="58320" y="473364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27880" y="345600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800" y="32068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70720" y="215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7240" y="10666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7880" y="4537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0200" y="42530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07360" y="242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80" y="1351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08-03-16T10:48:46Z</dcterms:modified>
  <cp:revision>6</cp:revision>
  <dc:subject/>
  <dc:title>PowerPoint Presentation</dc:title>
</cp:coreProperties>
</file>