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1FE3-5FD6-405A-867F-E3A2FFBC1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C217-0C1F-4C38-9AB8-A73C3135A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E5E1-05AE-40B2-A08A-D8D4581A3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FA5E-098C-48C9-9D52-730F7542E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CEA4-9DDD-49E4-8FCC-EE815E105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CF45-22EF-49BD-8E1D-BA96509B3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E5BC-6BB2-47E2-958E-6946E88A2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C956-70E4-4BB4-9D94-8808168B8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FC77-9E1F-4DCD-B182-D4883380D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25EA-7E21-4BC9-ADBA-4B00E618B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C46F-1435-4473-B987-C44EE620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A381-A358-404A-AED4-ED9E551E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A3F30-63F2-4D7A-B902-D8C36FA5688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09480" y="1066680"/>
            <a:ext cx="779004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بسم الله الرحمن الرحيم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4400" y="-42840"/>
            <a:ext cx="9144000" cy="70581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57240"/>
            <a:ext cx="909720" cy="70866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5770440"/>
            <a:ext cx="8458200" cy="13716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282160" y="-247680"/>
            <a:ext cx="861840" cy="61722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-138240" y="-247680"/>
            <a:ext cx="9144000" cy="4572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42240" y="5915160"/>
            <a:ext cx="7800840" cy="82512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Impact"/>
              </a:rPr>
              <a:t>Chylomicron Metabolis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0" y="5465880"/>
            <a:ext cx="9144000" cy="16002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-685800"/>
            <a:ext cx="1163520" cy="61722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90720" y="-685800"/>
            <a:ext cx="8153280" cy="10666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924680" y="249120"/>
            <a:ext cx="1219320" cy="53341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826640" y="5711760"/>
            <a:ext cx="5481360" cy="82512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Impact"/>
              </a:rPr>
              <a:t>VLDL Metabolis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76197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-762120"/>
            <a:ext cx="1793880" cy="76201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23880" y="5970600"/>
            <a:ext cx="7620120" cy="887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315200" y="-762120"/>
            <a:ext cx="1828800" cy="685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00200" y="-762120"/>
            <a:ext cx="5791320" cy="8240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76520" y="6019920"/>
            <a:ext cx="5715000" cy="68580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Impact"/>
              </a:rPr>
              <a:t>Lipid-Transfer Prote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-380880"/>
            <a:ext cx="9144000" cy="72482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0" y="-380880"/>
            <a:ext cx="9144000" cy="5331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-152280"/>
            <a:ext cx="457200" cy="70102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6005520"/>
            <a:ext cx="8763120" cy="8380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48720" y="-152280"/>
            <a:ext cx="457200" cy="6400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18265200">
            <a:off x="325440" y="5770440"/>
            <a:ext cx="380880" cy="533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 rot="3334800">
            <a:off x="8521560" y="5770440"/>
            <a:ext cx="380880" cy="53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6095880"/>
            <a:ext cx="7848720" cy="60984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Impact"/>
              </a:rPr>
              <a:t>LDL: Receptor-Mediated Endocyto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-762120"/>
            <a:ext cx="1295280" cy="76201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19320" y="-762120"/>
            <a:ext cx="7924680" cy="879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153280" y="-76320"/>
            <a:ext cx="990720" cy="67820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19320" y="5770440"/>
            <a:ext cx="7924680" cy="1087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46160" y="5908680"/>
            <a:ext cx="7315200" cy="76212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Impact"/>
              </a:rPr>
              <a:t>Athersclerotic plaque Form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80880" y="-3200400"/>
            <a:ext cx="9144000" cy="98298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0" y="5008680"/>
            <a:ext cx="9524880" cy="18493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-249120"/>
            <a:ext cx="9504360" cy="19047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1503360"/>
            <a:ext cx="1773360" cy="35053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675560" y="1503360"/>
            <a:ext cx="1828800" cy="35812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162880" y="5396040"/>
            <a:ext cx="5207040" cy="82512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Impact"/>
              </a:rPr>
              <a:t>HDL Metabolis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dbdb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99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00"/>
                </a:solidFill>
                <a:latin typeface="Impact"/>
              </a:rPr>
              <a:t>Lipoprotein Metabolis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201560" y="2678040"/>
            <a:ext cx="834480" cy="764280"/>
          </a:xfrm>
          <a:prstGeom prst="rect">
            <a:avLst/>
          </a:prstGeom>
          <a:gradFill rotWithShape="0">
            <a:gsLst>
              <a:gs pos="0">
                <a:srgbClr val="8e8e00"/>
              </a:gs>
              <a:gs pos="100000">
                <a:srgbClr val="ffff00"/>
              </a:gs>
            </a:gsLst>
            <a:lin ang="13500000"/>
          </a:gra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B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4124160"/>
            <a:ext cx="8103960" cy="76428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Impact"/>
              </a:rPr>
              <a:t>Amr S. Moustafa, M.D.; Ph.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908000"/>
            <a:ext cx="9144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Lipids compounds: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78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Relatively water insolu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78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78000"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Digestion: after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Emulsif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78000"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Absorption: a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Micel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78000"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Blood transport: a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Lipoprote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337480" y="581040"/>
            <a:ext cx="4551480" cy="91692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Impact"/>
              </a:rPr>
              <a:t>Introduc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305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1981080" cy="6858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81080" y="0"/>
            <a:ext cx="5639040" cy="152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0"/>
            <a:ext cx="1752480" cy="6858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705720"/>
            <a:ext cx="9144000" cy="1143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19920" y="1371600"/>
            <a:ext cx="3047760" cy="53352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Impact"/>
              </a:rPr>
              <a:t>Mixed Micel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7553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0"/>
            <a:ext cx="1585800" cy="79246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6518160"/>
            <a:ext cx="7772400" cy="16002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82040" y="0"/>
            <a:ext cx="1523880" cy="65530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95280" y="0"/>
            <a:ext cx="6400800" cy="5540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15000" y="5410080"/>
            <a:ext cx="3352680" cy="76212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Impact"/>
              </a:rPr>
              <a:t>Lipoprotein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-41400"/>
            <a:ext cx="9144000" cy="8077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-41400"/>
            <a:ext cx="3262320" cy="8001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95480" y="6754680"/>
            <a:ext cx="6248520" cy="1143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19920" y="-41400"/>
            <a:ext cx="3124080" cy="6899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8120" y="-41400"/>
            <a:ext cx="2971800" cy="228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8240" y="2438280"/>
            <a:ext cx="2971800" cy="228600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Impact"/>
              </a:rPr>
              <a:t>Composi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Impact"/>
              </a:rPr>
              <a:t>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Impact"/>
              </a:rPr>
              <a:t>Lipoprote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-2743200" y="-2057400"/>
            <a:ext cx="11117160" cy="105919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-2141640" y="-2057400"/>
            <a:ext cx="3657600" cy="92962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93880" y="6726240"/>
            <a:ext cx="5486400" cy="3049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465200" y="-1974960"/>
            <a:ext cx="7373880" cy="24177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91120" y="0"/>
            <a:ext cx="4952880" cy="7238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50800" y="6734160"/>
            <a:ext cx="2743200" cy="504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343400" y="3048120"/>
            <a:ext cx="4572000" cy="190476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Impact"/>
              </a:rPr>
              <a:t>Ultracentifu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Impact"/>
              </a:rPr>
              <a:t>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Impact"/>
              </a:rPr>
              <a:t>Lipoprote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828720"/>
            <a:ext cx="9144000" cy="7553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6670800"/>
            <a:ext cx="9144000" cy="720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04920"/>
            <a:ext cx="568440" cy="64767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631360" y="304920"/>
            <a:ext cx="533160" cy="64767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152280"/>
            <a:ext cx="8686800" cy="7621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Impact"/>
              </a:rPr>
              <a:t>Lipoprotein</a:t>
            </a:r>
            <a:r>
              <a:rPr b="1" lang="en-US" sz="44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1" lang="en-US" sz="4400" spc="-1" strike="noStrike">
                <a:solidFill>
                  <a:srgbClr val="cc0000"/>
                </a:solidFill>
                <a:latin typeface="Impact"/>
              </a:rPr>
              <a:t>Electrophore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-419040" y="0"/>
            <a:ext cx="9677520" cy="10820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380880" y="5562720"/>
            <a:ext cx="8153280" cy="15238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20120" y="6019920"/>
            <a:ext cx="1523880" cy="10666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305920" y="5548320"/>
            <a:ext cx="838080" cy="5335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991720" y="685800"/>
            <a:ext cx="838080" cy="53341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-457200" y="0"/>
            <a:ext cx="9601200" cy="5526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-457200" y="533520"/>
            <a:ext cx="457200" cy="50292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686800" y="0"/>
            <a:ext cx="990720" cy="914400"/>
          </a:xfrm>
          <a:prstGeom prst="ellipse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686800" y="5181480"/>
            <a:ext cx="762120" cy="2210040"/>
          </a:xfrm>
          <a:prstGeom prst="ellipse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ubOvalCallout"/>
          <p:cNvSpPr/>
          <p:nvPr/>
        </p:nvSpPr>
        <p:spPr>
          <a:xfrm>
            <a:off x="-442800" y="3200400"/>
            <a:ext cx="1066680" cy="685800"/>
          </a:xfrm>
          <a:custGeom>
            <a:avLst/>
            <a:gdLst>
              <a:gd name="textAreaLeft" fmla="*/ 156240 w 1066680"/>
              <a:gd name="textAreaRight" fmla="*/ 910440 w 1066680"/>
              <a:gd name="textAreaTop" fmla="*/ 75240 h 685800"/>
              <a:gd name="textAreaBottom" fmla="*/ 439200 h 68580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ubOvalCallout"/>
          <p:cNvSpPr/>
          <p:nvPr/>
        </p:nvSpPr>
        <p:spPr>
          <a:xfrm>
            <a:off x="-436680" y="2154240"/>
            <a:ext cx="1067040" cy="685800"/>
          </a:xfrm>
          <a:custGeom>
            <a:avLst/>
            <a:gdLst>
              <a:gd name="textAreaLeft" fmla="*/ 156240 w 1067040"/>
              <a:gd name="textAreaRight" fmla="*/ 910800 w 1067040"/>
              <a:gd name="textAreaTop" fmla="*/ 75240 h 685800"/>
              <a:gd name="textAreaBottom" fmla="*/ 439200 h 68580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ubOvalCallout"/>
          <p:cNvSpPr/>
          <p:nvPr/>
        </p:nvSpPr>
        <p:spPr>
          <a:xfrm>
            <a:off x="-442800" y="1108080"/>
            <a:ext cx="1066680" cy="685800"/>
          </a:xfrm>
          <a:custGeom>
            <a:avLst/>
            <a:gdLst>
              <a:gd name="textAreaLeft" fmla="*/ 156240 w 1066680"/>
              <a:gd name="textAreaRight" fmla="*/ 910440 w 1066680"/>
              <a:gd name="textAreaTop" fmla="*/ 75240 h 685800"/>
              <a:gd name="textAreaBottom" fmla="*/ 439200 h 68580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ubOvalCallout"/>
          <p:cNvSpPr/>
          <p:nvPr/>
        </p:nvSpPr>
        <p:spPr>
          <a:xfrm>
            <a:off x="-436680" y="4267080"/>
            <a:ext cx="1067040" cy="685800"/>
          </a:xfrm>
          <a:custGeom>
            <a:avLst/>
            <a:gdLst>
              <a:gd name="textAreaLeft" fmla="*/ 156240 w 1067040"/>
              <a:gd name="textAreaRight" fmla="*/ 910800 w 1067040"/>
              <a:gd name="textAreaTop" fmla="*/ 75240 h 685800"/>
              <a:gd name="textAreaBottom" fmla="*/ 439200 h 68580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-457200" y="304920"/>
            <a:ext cx="539640" cy="5562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990600">
            <a:off x="7655040" y="5581800"/>
            <a:ext cx="457200" cy="457200"/>
          </a:xfrm>
          <a:prstGeom prst="rtTriangl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 rot="20609400">
            <a:off x="7917840" y="5618160"/>
            <a:ext cx="457200" cy="457200"/>
          </a:xfrm>
          <a:prstGeom prst="rtTriangl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153280" y="5548320"/>
            <a:ext cx="166680" cy="90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751880" y="5576760"/>
            <a:ext cx="166680" cy="90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-633240" y="5970600"/>
            <a:ext cx="10377720" cy="70344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Impact"/>
              </a:rPr>
              <a:t>Secretion of Chylomicron from Intest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4663800">
            <a:off x="45720" y="1568160"/>
            <a:ext cx="152280" cy="228600"/>
          </a:xfrm>
          <a:prstGeom prst="rtTriangl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 rot="16936200">
            <a:off x="119880" y="2039040"/>
            <a:ext cx="152640" cy="228600"/>
          </a:xfrm>
          <a:prstGeom prst="rtTriangl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 rot="16936200">
            <a:off x="72360" y="3050280"/>
            <a:ext cx="152640" cy="228600"/>
          </a:xfrm>
          <a:prstGeom prst="rtTriangl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 rot="16936200">
            <a:off x="72360" y="4123440"/>
            <a:ext cx="152640" cy="228600"/>
          </a:xfrm>
          <a:prstGeom prst="rtTriangl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 rot="16936200">
            <a:off x="59760" y="5378040"/>
            <a:ext cx="152280" cy="228960"/>
          </a:xfrm>
          <a:prstGeom prst="rtTriangl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 rot="16936200">
            <a:off x="78840" y="945720"/>
            <a:ext cx="152280" cy="228960"/>
          </a:xfrm>
          <a:prstGeom prst="rtTriangl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4663800">
            <a:off x="52200" y="495000"/>
            <a:ext cx="152280" cy="228600"/>
          </a:xfrm>
          <a:prstGeom prst="rtTriangl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4663800">
            <a:off x="80640" y="2579400"/>
            <a:ext cx="152280" cy="228600"/>
          </a:xfrm>
          <a:prstGeom prst="rtTriangl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4663800">
            <a:off x="58320" y="3660480"/>
            <a:ext cx="152280" cy="228600"/>
          </a:xfrm>
          <a:prstGeom prst="rtTriangl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4663800">
            <a:off x="58320" y="4733640"/>
            <a:ext cx="152280" cy="228600"/>
          </a:xfrm>
          <a:prstGeom prst="rtTriangl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27880" y="3456000"/>
            <a:ext cx="352440" cy="263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262800" y="3206880"/>
            <a:ext cx="352440" cy="263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270720" y="2154240"/>
            <a:ext cx="352440" cy="263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237240" y="1066680"/>
            <a:ext cx="352440" cy="263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227880" y="4537080"/>
            <a:ext cx="352440" cy="263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250200" y="4253040"/>
            <a:ext cx="352440" cy="263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207360" y="2424240"/>
            <a:ext cx="352440" cy="263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227880" y="1351080"/>
            <a:ext cx="352440" cy="263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p</cp:lastModifiedBy>
  <dcterms:modified xsi:type="dcterms:W3CDTF">2008-03-16T10:48:46Z</dcterms:modified>
  <cp:revision>6</cp:revision>
  <dc:subject/>
  <dc:title>PowerPoint Presentation</dc:title>
</cp:coreProperties>
</file>