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385-FCA3-49BC-99D5-2C06BF2D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107-4507-4E50-9AB7-2B6C4337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8EF-55E8-45F8-8D5D-168E12C0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6C3-4D14-42A4-9987-8B0D943F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544-4E52-4A26-A30D-35ECDDD1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843-6BAA-4E21-BE15-7EE3E70E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ED8-23D5-4EF6-8666-FA33036E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64A-C75F-47EE-BF59-6444ECB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716-B128-4FAB-A8F5-92B014AC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768-9763-40BE-932D-49AFF8A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C1C-FA4A-4DBD-94FB-3E7164E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262-D795-49EF-9841-52B7D66D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9E7D-FAD4-49D3-B9B3-60ECAA18A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8_016" descr=""/>
          <p:cNvPicPr/>
          <p:nvPr/>
        </p:nvPicPr>
        <p:blipFill>
          <a:blip r:embed="rId1"/>
          <a:stretch/>
        </p:blipFill>
        <p:spPr>
          <a:xfrm>
            <a:off x="14400" y="-4284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7240"/>
            <a:ext cx="909720" cy="7086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770440"/>
            <a:ext cx="8458200" cy="1371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82160" y="-247680"/>
            <a:ext cx="861840" cy="6172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138240" y="-247680"/>
            <a:ext cx="914400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2240" y="5915160"/>
            <a:ext cx="78008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Chylomicron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8_017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465880"/>
            <a:ext cx="91440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685800"/>
            <a:ext cx="1163520" cy="6172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-685800"/>
            <a:ext cx="815328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249120"/>
            <a:ext cx="1219320" cy="5334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8_018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-762120"/>
            <a:ext cx="17938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970600"/>
            <a:ext cx="7620120" cy="887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-762120"/>
            <a:ext cx="18288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-762120"/>
            <a:ext cx="579132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8_020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4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-380880"/>
            <a:ext cx="9144000" cy="533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-152280"/>
            <a:ext cx="457200" cy="7010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05520"/>
            <a:ext cx="876312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48720" y="-152280"/>
            <a:ext cx="457200" cy="640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265200">
            <a:off x="325440" y="577044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3334800">
            <a:off x="8521560" y="5770440"/>
            <a:ext cx="38088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095880"/>
            <a:ext cx="784872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8_022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-762120"/>
            <a:ext cx="1295280" cy="762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-762120"/>
            <a:ext cx="7924680" cy="87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-76320"/>
            <a:ext cx="990720" cy="6782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770440"/>
            <a:ext cx="7924680" cy="108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6160" y="5908680"/>
            <a:ext cx="731520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8_023" descr=""/>
          <p:cNvPicPr/>
          <p:nvPr/>
        </p:nvPicPr>
        <p:blipFill>
          <a:blip r:embed="rId1"/>
          <a:stretch/>
        </p:blipFill>
        <p:spPr>
          <a:xfrm>
            <a:off x="380880" y="-3200400"/>
            <a:ext cx="9144000" cy="982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008680"/>
            <a:ext cx="9524880" cy="184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249120"/>
            <a:ext cx="9504360" cy="1904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03360"/>
            <a:ext cx="1773360" cy="3505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75560" y="1503360"/>
            <a:ext cx="1828800" cy="358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62880" y="539604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7120" y="304920"/>
            <a:ext cx="89193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Lipoprotein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3040" y="1219320"/>
            <a:ext cx="7665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Lipoprotein lipas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a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hypercholestr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unctional defect of LDL-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dysbeta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po 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7120" y="304920"/>
            <a:ext cx="89193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Lipoprotein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4120" y="136836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lipoprotei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7400" y="2482920"/>
            <a:ext cx="65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Congenital abetalipoprotei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ficiency of Apo B-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5520" y="3870360"/>
            <a:ext cx="26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2880" y="4616280"/>
            <a:ext cx="59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creased secretion of V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18_025" descr=""/>
          <p:cNvPicPr/>
          <p:nvPr/>
        </p:nvPicPr>
        <p:blipFill>
          <a:blip r:embed="rId1"/>
          <a:stretch/>
        </p:blipFill>
        <p:spPr>
          <a:xfrm>
            <a:off x="3495600" y="990720"/>
            <a:ext cx="5418360" cy="701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414360" y="157320"/>
            <a:ext cx="56883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Steroid Horm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18_028" descr=""/>
          <p:cNvPicPr/>
          <p:nvPr/>
        </p:nvPicPr>
        <p:blipFill>
          <a:blip r:embed="rId1"/>
          <a:stretch/>
        </p:blipFill>
        <p:spPr>
          <a:xfrm>
            <a:off x="0" y="-304920"/>
            <a:ext cx="9753480" cy="8391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32004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0"/>
            <a:ext cx="327672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6781680"/>
            <a:ext cx="396252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bd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8e8e00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08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s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gestion: aft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Emulsif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bsorption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ic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ood transport: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37480" y="58104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_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0"/>
            <a:ext cx="5639040" cy="152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05720"/>
            <a:ext cx="91440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371600"/>
            <a:ext cx="30477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Impact"/>
              </a:rPr>
              <a:t>Mixed Mice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8_01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755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1585800" cy="792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6518160"/>
            <a:ext cx="7772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82040" y="0"/>
            <a:ext cx="1523880" cy="655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0"/>
            <a:ext cx="6400800" cy="55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8_019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8077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-41400"/>
            <a:ext cx="3262320" cy="8001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6754680"/>
            <a:ext cx="62485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-41400"/>
            <a:ext cx="3124080" cy="6899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-41400"/>
            <a:ext cx="29718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8240" y="24382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8_025" descr=""/>
          <p:cNvPicPr/>
          <p:nvPr/>
        </p:nvPicPr>
        <p:blipFill>
          <a:blip r:embed="rId1"/>
          <a:stretch/>
        </p:blipFill>
        <p:spPr>
          <a:xfrm>
            <a:off x="-2743200" y="-2057400"/>
            <a:ext cx="11117160" cy="1059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141640" y="-2057400"/>
            <a:ext cx="3657600" cy="9296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3880" y="6726240"/>
            <a:ext cx="548640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5200" y="-1974960"/>
            <a:ext cx="7373880" cy="2417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0"/>
            <a:ext cx="4952880" cy="723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0800" y="6734160"/>
            <a:ext cx="2743200" cy="504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Ultracentif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8_015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7553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670800"/>
            <a:ext cx="9144000" cy="72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920"/>
            <a:ext cx="56844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31360" y="304920"/>
            <a:ext cx="533160" cy="647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86868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5_006" descr=""/>
          <p:cNvPicPr/>
          <p:nvPr/>
        </p:nvPicPr>
        <p:blipFill>
          <a:blip r:embed="rId1"/>
          <a:stretch/>
        </p:blipFill>
        <p:spPr>
          <a:xfrm>
            <a:off x="-419040" y="0"/>
            <a:ext cx="9677520" cy="10820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380880" y="5562720"/>
            <a:ext cx="8153280" cy="1523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6019920"/>
            <a:ext cx="1523880" cy="1066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5548320"/>
            <a:ext cx="83808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91720" y="685800"/>
            <a:ext cx="838080" cy="5334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457200" y="0"/>
            <a:ext cx="9601200" cy="55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57200" y="533520"/>
            <a:ext cx="457200" cy="502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86800" y="0"/>
            <a:ext cx="990720" cy="91440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686800" y="5181480"/>
            <a:ext cx="762120" cy="221004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ubOvalCallout"/>
          <p:cNvSpPr/>
          <p:nvPr/>
        </p:nvSpPr>
        <p:spPr>
          <a:xfrm>
            <a:off x="-442800" y="320040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ubOvalCallout"/>
          <p:cNvSpPr/>
          <p:nvPr/>
        </p:nvSpPr>
        <p:spPr>
          <a:xfrm>
            <a:off x="-436680" y="215424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ubOvalCallout"/>
          <p:cNvSpPr/>
          <p:nvPr/>
        </p:nvSpPr>
        <p:spPr>
          <a:xfrm>
            <a:off x="-442800" y="1108080"/>
            <a:ext cx="1066680" cy="68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ubOvalCallout"/>
          <p:cNvSpPr/>
          <p:nvPr/>
        </p:nvSpPr>
        <p:spPr>
          <a:xfrm>
            <a:off x="-436680" y="4267080"/>
            <a:ext cx="1067040" cy="685800"/>
          </a:xfrm>
          <a:custGeom>
            <a:avLst/>
            <a:gdLst>
              <a:gd name="textAreaLeft" fmla="*/ 156240 w 1067040"/>
              <a:gd name="textAreaRight" fmla="*/ 910800 w 1067040"/>
              <a:gd name="textAreaTop" fmla="*/ 752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7200" y="304920"/>
            <a:ext cx="539640" cy="5562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990600">
            <a:off x="7655040" y="558180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20609400">
            <a:off x="7917840" y="5618160"/>
            <a:ext cx="457200" cy="4572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5548320"/>
            <a:ext cx="166680" cy="9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51880" y="5576760"/>
            <a:ext cx="166680" cy="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633240" y="5970600"/>
            <a:ext cx="10377720" cy="7034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Secretion of Chylomicron from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4663800">
            <a:off x="45720" y="156816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 rot="16936200">
            <a:off x="119880" y="20390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16936200">
            <a:off x="72360" y="305028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6936200">
            <a:off x="72360" y="4123440"/>
            <a:ext cx="15264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16936200">
            <a:off x="59760" y="537804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16936200">
            <a:off x="78840" y="945720"/>
            <a:ext cx="152280" cy="22896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4663800">
            <a:off x="52200" y="4950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663800">
            <a:off x="80640" y="257940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4663800">
            <a:off x="58320" y="366048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4663800">
            <a:off x="58320" y="4733640"/>
            <a:ext cx="152280" cy="22860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27880" y="345600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800" y="32068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70720" y="215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7240" y="10666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27880" y="4537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0200" y="42530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07360" y="242424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80" y="1351080"/>
            <a:ext cx="35244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8T05:05:36Z</dcterms:modified>
  <cp:revision>7</cp:revision>
  <dc:subject/>
  <dc:title>PowerPoint Presentation</dc:title>
</cp:coreProperties>
</file>