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4FC-35A7-48F9-8014-9C49AF31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DE6-4E77-4C21-AACC-2E36E4E9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91D-EDB6-4996-804E-48A24B9F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C7D7-7852-4AA5-9205-8FBBB9A9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A03-2440-45AD-8672-B86CF7FE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AC0-81D3-4E2F-B230-171C0132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A7B0-67B6-45A5-855D-2F4D3462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B55-BA1E-4AC1-8571-23E9DA96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E28-8D2C-4060-A075-A18EA42E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797-631E-4E69-B233-E7B3A9AB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D4E-9DCB-434B-8CBD-70606FF3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B99-1FA8-4476-8679-CF326A40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B896-2364-44AA-89D3-1DA923BA1F4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bdb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Impact"/>
              </a:rPr>
              <a:t>Lipid Metabolis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8e8e00"/>
              </a:gs>
              <a:gs pos="100000">
                <a:srgbClr val="ffff00"/>
              </a:gs>
            </a:gsLst>
            <a:lin ang="135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3040" y="4124160"/>
            <a:ext cx="7430400" cy="76428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Muhammad Azhar Chish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gradation by pancreatic enzy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Triacylglycerol degrad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TG molecule is too long cannot taken up by mucosal and intestinal vil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Pancreatic lipase and estrase remove 2 fatty acid at 1,3 and make 2 monoacylglyce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malabsorption in severe pancreatic deficiency as in cystic fibro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colip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B:</a:t>
            </a: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Cholesteryl ester degrad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Dietary cholesterol is  present in free form with 10-15% esterifie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It is hydrolyzed by pancreatic cholesterol hydrolase (cholesterol estr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End product is cholesterol + fatty ac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Activity greatly increased in the presence of bile salts.</a:t>
            </a:r>
            <a:r>
              <a:rPr b="0" lang="e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C: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Phospholipid derad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Pancreatic juice is rich in procolipase is activated by trypsin and required bile salts for optimal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Procolipase remove one FA of phospholipid result in lysophospholip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phosphotidylcholine  ---- procolipase--- lysophosphotidylcho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lysophosphotidylcholine—lysophospholipase—glycerylphosphoryl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Excreated in feces, further degraded or absor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: Control of Lipid diges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Pancreatic secretion is controlled by hormone Chlolecystokinin (CCK) when lipids enter in small intestine by mucosa of jejunium and duoden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CCK acts on gall bladder and exocrine cells of pancreas to release enzy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CCK also decreases gastric motility to slow release of gastric cont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Secretin release for small intestine in response to low pH of chyme entering in intest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Secretin causes the pancreas and the liver to release watery solution rich in carbonate that neutralize pH for digestive activity of pancreatic enzy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906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-609480"/>
            <a:ext cx="3124080" cy="7467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-609480"/>
            <a:ext cx="6172200" cy="609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0"/>
            <a:ext cx="2666880" cy="685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orption of Lip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Dietary degraded products of lipid mix with bile salts and form mixed mic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Mixed micelle  are disk shape clusters of amphipathic lipid with hydrophobic group inside and yhdrophilic group outside of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They are soluble in instertinal lumen and absorb through the brush boders membranes of enter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These membranes is sepreted from the liquid contents in intestinal lumen by unstirred water l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Hydrophilic surface assist in transport of hydrophobic lipid by unstirred water layer of brush boders and abso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Short or medium chain FA do’t need mice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</a:rPr>
              <a:t>Dietary therapy for individual with malabsor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05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0"/>
            <a:ext cx="5639040" cy="152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0"/>
            <a:ext cx="1752480" cy="685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6705720"/>
            <a:ext cx="5867280" cy="152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ynthesis of TG and Cholesteryl ester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Mixture of absorbed lipid by enterocyte move to ER for biosynthesis of complex lip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acyl-CoA synthase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 FA acyl C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2-monoacylglycerol 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no&amp;di acyltransferase 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Triacylglyc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Lysophosphlipid 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yltransferase 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 Phospholip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Cholesterol 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AT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  Cholesterol 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Long chain FA undergo thes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Short chain FA release into portal circulation and carried to liver by serum albu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419040" y="0"/>
            <a:ext cx="9677520" cy="10820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-380880" y="5562720"/>
            <a:ext cx="8153280" cy="1523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6019920"/>
            <a:ext cx="1523880" cy="10666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05920" y="5486400"/>
            <a:ext cx="838080" cy="533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991720" y="685800"/>
            <a:ext cx="838080" cy="5334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457200" y="0"/>
            <a:ext cx="9601200" cy="55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457200" y="533520"/>
            <a:ext cx="457200" cy="5029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686800" y="0"/>
            <a:ext cx="990720" cy="91440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86800" y="5181480"/>
            <a:ext cx="762120" cy="221004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52560" y="6018120"/>
            <a:ext cx="92545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ecretion of Lipids from Entrocytes as Chylomi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labsorption of lip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Malabsorption result in increase lipid in feces called steatorrh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Soluble vitamins (A, D, E,K ) and essential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Cystic fibrosis causing poor di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Shortened bowl leasd decrease absor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cretion of lip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Newly synthesized TG and cholesteryl esters are very hydrophobic and deposit in watery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These need to packed as lipid droplet covered by a layer composed of phospholipid, unesterfied cholesterol and prote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This layer stabilize the droplet and help in absorption and prevent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Milky colour of ly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The lymph is called Cyle and these particles called cylomic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These move into lacteals (LV of villi) then Lamphatics system to thoracis ducts and finally enter into bl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55692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 u="sng">
                <a:solidFill>
                  <a:srgbClr val="000000"/>
                </a:solidFill>
                <a:uFillTx/>
                <a:latin typeface="Times New Roman"/>
              </a:rPr>
              <a:t>Dr. M. Azhar Chishti</a:t>
            </a:r>
            <a:r>
              <a:rPr b="0" lang="e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Welcome to the University of Toronto homepage"/>
          <p:cNvPicPr/>
          <p:nvPr/>
        </p:nvPicPr>
        <p:blipFill>
          <a:blip r:embed="rId1"/>
          <a:stretch/>
        </p:blipFill>
        <p:spPr>
          <a:xfrm>
            <a:off x="1143000" y="3489480"/>
            <a:ext cx="5715000" cy="2171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8480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14480" y="586188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iversityof Toronto Ca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31920" y="1706400"/>
            <a:ext cx="37717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 of dietary lipid to t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TG contained in chylomicrons is broken down in capilleries of skeletal muscles and adipose tissues of heart, liver, kidne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TG is broken down into FA and glycerol by lipoprotein lip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This enzyme is synthesize by adipocyte and muscle cells and secreted in lumen of capilleries of pheripheral blood vess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Familial lipoprotein lipase deficiency (ARD) lead into massive chylomicronem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Fate of free Fatty ac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FFA from hydrolysis enter in muscle call or adipocyte otherwise transported to blood with serum albumin until taken up by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Most cells oxidize FA to produce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Adepocyte also reesterify FFA to produce TG molecules and stored until body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Fate of Glycero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-152280"/>
            <a:ext cx="9296280" cy="7391160"/>
            <a:chOff x="0" y="-152280"/>
            <a:chExt cx="9296280" cy="739116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152280" y="52560"/>
              <a:ext cx="9144000" cy="70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33200" y="152280"/>
              <a:ext cx="914400" cy="70866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5867280"/>
              <a:ext cx="8458200" cy="13716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20040" y="152280"/>
              <a:ext cx="838440" cy="58676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-152280"/>
              <a:ext cx="9144000" cy="457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596960" y="5959440"/>
            <a:ext cx="62902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Chylomicron Meta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084320" y="-4267080"/>
            <a:ext cx="11752200" cy="12648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219320" y="-4267080"/>
            <a:ext cx="2819520" cy="12877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6039000"/>
            <a:ext cx="9753840" cy="2286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-4267080"/>
            <a:ext cx="2895480" cy="10591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-4343400"/>
            <a:ext cx="6324480" cy="380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609480" y="-347760"/>
            <a:ext cx="10591560" cy="8750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838080" y="6819840"/>
            <a:ext cx="9982080" cy="1600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609480" y="-457200"/>
            <a:ext cx="2361960" cy="7620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-380880"/>
            <a:ext cx="8305560" cy="380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0"/>
            <a:ext cx="2514600" cy="8381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685800" y="-106200"/>
            <a:ext cx="9906120" cy="8183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743040" y="-19080"/>
            <a:ext cx="2514600" cy="7791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6591240"/>
            <a:ext cx="7010280" cy="1219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-19080"/>
            <a:ext cx="7010280" cy="228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34240" y="0"/>
            <a:ext cx="1714680" cy="685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609480" y="60480"/>
            <a:ext cx="10515600" cy="8474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609480" y="6591240"/>
            <a:ext cx="10287000" cy="1524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685800" y="0"/>
            <a:ext cx="2209680" cy="6629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-19080"/>
            <a:ext cx="7239240" cy="228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43760" y="0"/>
            <a:ext cx="1962360" cy="8077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9800" cy="8120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0"/>
            <a:ext cx="1523880" cy="8305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6477120"/>
            <a:ext cx="8839080" cy="1828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53280" y="0"/>
            <a:ext cx="2210040" cy="6553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0"/>
            <a:ext cx="6781680" cy="266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25280"/>
            <a:ext cx="77724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Lipids are heterogeneous groups of relatively water insoluble molecules related to fatty ac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They are soluble in non-polar solvents such as Benzene, Ether, Chloroform and acet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They are insoluble and mostly in the form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A:  Compartmentalized of membrane associated lipid (adipocy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B.   Plasma: Associated with protein-- Lipo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25280"/>
            <a:ext cx="77724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Function of Lipid: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Major source of energy  ( 1gms = 9Kc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Hydrophobic barrier (cell membra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Fat soluble vitamins – coenzymes, regulatory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PG &amp; steroid hormones are regulatory role in body homeost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Imbalance lead to diseases like Obesity and atherosclero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 u="sng">
                <a:solidFill>
                  <a:srgbClr val="000000"/>
                </a:solidFill>
                <a:uFillTx/>
                <a:latin typeface="Times New Roman"/>
              </a:rPr>
              <a:t>Classification of 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A: 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mple lipids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 such as fats and w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B: 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ound lipids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 such as phospholipids, Glycolipids, Lip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C: 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rived lipids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 are after hydrolysis associated 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are formed mainly from an alcohol and FA combined by an ester link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tty Acid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drophobi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CO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drophi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000" spc="-1" strike="noStrike">
                <a:solidFill>
                  <a:srgbClr val="000000"/>
                </a:solidFill>
                <a:latin typeface="Times New Roman"/>
              </a:rPr>
              <a:t>Hydrocarbon chain</a:t>
            </a:r>
            <a:r>
              <a:rPr b="1" lang="e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000" spc="-1" strike="noStrike">
                <a:solidFill>
                  <a:srgbClr val="000000"/>
                </a:solidFill>
                <a:latin typeface="Times New Roman"/>
              </a:rPr>
              <a:t>Carboxyl group (COO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gestion:</a:t>
            </a:r>
            <a:r>
              <a:rPr b="1" lang="e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An adult ingest 60-150gms of lipid/d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90% is triacylglycerol  (called triglyceri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10% is cholesterol, cholesterol esters, phospholipids and free F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6303960" cy="8153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0"/>
            <a:ext cx="1981080" cy="685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0"/>
            <a:ext cx="1523880" cy="685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0"/>
            <a:ext cx="3429000" cy="228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6553080"/>
            <a:ext cx="4876920" cy="304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gestion start in stomach</a:t>
            </a: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Catalyzed by acid stable lipase  (lingual lipase)  back of tou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Short chain TG molecules (less than 12 corbons as milk fat) hydroly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These TG molecules also hydrolyzed by gastric lip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Acid lipase play major role in lipid digestion to provide energy to neon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Times New Roman"/>
              </a:rPr>
              <a:t>Lingual and gastric acid lipases mainly hydrolyzed TG molecules in patients of cystic fibrosis with no pancreatic lipase.</a:t>
            </a:r>
            <a:r>
              <a:rPr b="0" lang="e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ulsification of dietary lip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This process occurred in duode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Emulsification increase the surface area of  hydrophobic lipid so digestive enzymes can work at interface of lipid and surrounding by water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Emulsification is by 2 complimentary mechanisms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Detergents properties of bile salts. These are made in liver and store in gall bladder and release to duodenum by bile du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B: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Mechanical mixing by peristal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These emulsifying agents stabilize the lipid particles as they become smaller and prevent then to more coalescing or uniting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imes New Roman"/>
              </a:rPr>
              <a:t>Bile salt are glycocholic acid that is cholic acid and glyc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372600" cy="7539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553080"/>
            <a:ext cx="9372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" cy="6553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0"/>
            <a:ext cx="7925040" cy="457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686800" y="0"/>
            <a:ext cx="685800" cy="6553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diovisual</cp:lastModifiedBy>
  <dcterms:modified xsi:type="dcterms:W3CDTF">2008-02-17T09:29:17Z</dcterms:modified>
  <cp:revision>17</cp:revision>
  <dc:subject/>
  <dc:title>PowerPoint Presentation</dc:title>
</cp:coreProperties>
</file>