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6A6-0C58-42C0-8683-4535166E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BB8-9429-4725-AD4B-5AAA47B7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E53-B655-4810-8876-DAE8CE03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356-3CFC-4A95-80D1-FE918626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AEC-B2B9-4C37-92FA-1153B3F6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69C-6D1E-42F8-8688-DAE138DA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B65-97A5-40F3-BB2B-DBC4AD5F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103-3258-4741-A520-E813D86B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A00-2CA4-46D0-93DB-689E1D4C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4AB-5120-4F53-AA02-FB80E263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772-DB14-4256-8D07-8BE2B9C9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068-F4C1-4615-AF11-0F0EB356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6E79-3A49-4600-AD58-1AFEFD03E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0360" y="1418040"/>
            <a:ext cx="76726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Fat Soluble Vitami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Vitami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Vitami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Vitami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Vitami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chanism of Action of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xidized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oi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ide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oi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nds with high-affinity to specific receptor proteins present in the nucleus of target tissue, such as epithelial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at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oic acid - receptor 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acts with nuclear chromatin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stimulate retinoid-specific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nthesis, resulting in the production of specific proteins that mediate several physiological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retinoids control the expression of keratin gene in most epithelial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921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981000"/>
            <a:ext cx="6059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unctions of Vitamin A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5986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pithelial cells mainte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unctions of Vitam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tamin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component of the visual pigments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l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Rhod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 visual pigment of the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rod cells in the reti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for vision in dim l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11-cis reti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pecially bound to the protein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opsin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rhod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exposed t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gh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 series of photochemical isomerization occurs, which results in release of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all trans reti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ith bleaching of the visual pigmen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ocess triggers a nerve impulse that is transmitted by the optic nerve to the br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enerat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od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quires isomeriza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 trans reti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ack to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1-cis reti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hich spontaneously combines wi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od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min A is essential f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rmal growth of ce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y synthesis of important 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one grow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low in vitamin A de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deprived of vitamin A suffers keratinzation of taste buds leading to losing of their appet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tin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tina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essential for normal re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pporting spermatogenesis in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m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venting fetal resorption in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inoic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a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aintaining reproduction &amp; the visual cycl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grow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tinoic acids given only since bir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nimals, leads to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lind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r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pithelial cells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min A is essential f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rmal different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epithelial tissues and mucus secretio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stribution of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tino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tinyl esters) 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nimal 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r, kidney, cream, butter &amp; egg yo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arot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cursors of vitamin A) 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lant 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&amp; dark green vegetables &amp; fr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quirement for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inol equivalents) =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 of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i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 of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arote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 of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caroten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D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 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8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e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362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Clinical ind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ietary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min A, administered 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yl est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treat pat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cient in the vitamin (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retinoic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Night blind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arliest sig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vitamin A de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in seeing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m l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nged deficiency leads to irreversible loss o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isual c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ffection of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rods of ret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Xerophthal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v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ciency of vitam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ological dryness of the epithelium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conjunctiv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corn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ay end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rneal ulcerations and blind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Acne 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&amp;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 Psori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rmatolog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blems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soria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effectively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etinoic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its deriv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Mil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cases of ac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reated by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top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ication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tretino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l trans retinoic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too toxic for systemic adminis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Severe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recalcitrant cystic ac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responsive to conven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apies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sotretinoin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3-cis retinoic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dministered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r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Prevention of chronic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s consuming diets high i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arotene show decreased incidence of heart diseases &amp; lung &amp; skin canc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ption of foods rich i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arotene is associated with reduced risk of cataracts and macular de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2033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cc"/>
                </a:solidFill>
                <a:uFillTx/>
                <a:latin typeface="Arial"/>
              </a:rPr>
              <a:t>Vitamin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Toxicity of Retino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itamin A excess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hypervitaminosis A syndr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exceeding 7.5 mg/day of reti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xcessive intake of vitamin A may cause the follow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k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pruiritis are early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i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larged, cirrho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tracra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ssure (mimic symptoms of brain tumours e.g. headache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gnant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not ingest excessive amounts of vitamin  A because of it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causing congenital malformations in developing fe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sotretinoin drug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13-cis retinoic acid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Teratogeni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absolutely contraindicated in women with childbearing potent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gnancy should be excluded before initiation of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adequate contraceptive (birth control) must be u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Risk of coronary heart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onged treatment with 13-cis retinoic acid lead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lipidemia &amp; increase in LDL/HDL ratio with increased ris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onary heart dis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033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cc"/>
                </a:solidFill>
                <a:uFillTx/>
                <a:latin typeface="Arial"/>
              </a:rPr>
              <a:t>Vitamin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Arial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Vitamin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tamins consist o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ally occurr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copher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f which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ocophe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ost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mary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tam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ntioxid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evention of the nonenzymic oxidation of cell components as polyunsaturated fatty acids by molecula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fre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istribution &amp; requirements of vitamin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Vegetable o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s                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lant 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v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g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unts 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nimal 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tocophe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      10  mg for 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  mg for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 is increased with increased intake of polyunsaturated fatty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ficiency of vitamin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ciency of vitamin E is almost entirely restrict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mature inf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ul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is usually associated with defective lip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rption or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Signs of vitamin E defici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sensitivity of RBCs to peroxide &amp; appearance of abnormal cellular membr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Clinical in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min 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for the preven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disease, such as coronary heart disease or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s in the Alpha-Tocopherol, Beta Carotene Can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Study trial who received high doses of vitam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, not only lack cardiovascular benefit but also had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 incidence of strok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xicity of vitamin 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xicity at 300mg / day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cc"/>
                </a:solidFill>
                <a:uFillTx/>
                <a:latin typeface="Arial"/>
              </a:rPr>
              <a:t>Vitamin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Vitamin </a:t>
            </a: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 vitam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 group of sterols that have a hormone-like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e molecule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,25-dihydroxycholecalcife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,25-di OH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s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racellular recep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e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1,25-diOH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ceptor 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acts with DNA in the nucleus of target cells, and eit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imulates gene ex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resses gene transcri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action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25-diOH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o regulate plasma level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um &amp; phosphor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569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istribution of vitami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Source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ocalcefe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vitam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s foun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alcefer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tam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s foun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ndogenous vitamin precur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-Dehydrocholeste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convert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alcefer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tamin D3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dermis and epidermis of human skin exposed to sunl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with limited exposure to sunlight requi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or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tami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ETIN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ino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a family of molecules that are relat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ino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vitamin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tino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ynthe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s of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itamin 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ay or may not show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itamin A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6000" y="185760"/>
            <a:ext cx="698508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5690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etabolism of vitami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Formation of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25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 dihydroxycholecalcefero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diOH D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m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ologically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nverted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v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active form of D vitamin by two sequential hydroxylation reactions (two hydroxylases) that requi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nooxygen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lecular oxy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AD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wo hydroxylases us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cytochrome P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First Hydroxy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s at the posi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yzed by a specific hydroxylase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iv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 hydroxycholecalcefe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-OH D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edominant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vitamin D in plas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maj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orage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vita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573360"/>
            <a:ext cx="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Second Hydroxy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-OH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urther hydroxylated 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si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enzyme 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-hydroxycholecalcefero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-hydroxy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primarily in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idne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ing in the formation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, 25 dihydroxycholecalcefe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1,25 diOH D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ost a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tami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b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645000"/>
            <a:ext cx="0" cy="576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Regulation of 1-hydr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formation is regulated by the level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lasm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evels in plas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-hydroxyl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y is increas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RECT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w phosph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RECTE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w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alcium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evels (hypocalcemia)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lease of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Parathyroid Hormon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PTH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ctivation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hydroxy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reased production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,25-di(OH) D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933720"/>
            <a:ext cx="0" cy="433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4941720"/>
            <a:ext cx="0" cy="648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3141720"/>
            <a:ext cx="0" cy="433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04836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Function of Vitamin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all function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,25-diOH D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 maint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plasma levels o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alc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t performs this function b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uptake of calcium  by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intesti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loss of calcium by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ing resorpt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b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hen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ffect of vitamin </a:t>
            </a: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INTEST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25-diOH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imulates intestinal absor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alcium &amp; phosph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,25-diOH D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ters intestinal cell and bind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solic re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5-diOH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eceptor comp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nucle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interacts with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synthesis of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pecific calcium-binding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lcium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708280"/>
            <a:ext cx="0" cy="360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57720"/>
            <a:ext cx="0" cy="360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860640"/>
            <a:ext cx="0" cy="358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437000"/>
            <a:ext cx="0" cy="360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5157720"/>
            <a:ext cx="0" cy="433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75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ffect of vitamin </a:t>
            </a: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B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,25-diOH D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at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bilization of calcium and phosph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one by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cess that requir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crease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calcium &amp;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0000" y="2708280"/>
            <a:ext cx="0" cy="1008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769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istributio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&amp;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 Requirement of vitami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tamin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olecalcerfe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naturally in fatty fish, liver, and egg yol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k 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ood source for vitamin D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less if fortifi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dults is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 I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tami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vailable in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olecalcefe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itamin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Clinical in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-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Nutritional Ri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tam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t demineralizatio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f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ick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 childre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steomala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 ad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149720"/>
            <a:ext cx="0" cy="50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335772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763640" y="4581360"/>
            <a:ext cx="2232000" cy="4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4581360"/>
            <a:ext cx="1871640" cy="4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Ri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tinued formation of the collagen matr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complete mi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of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for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Osteomalac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mineralization of preexisting b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usceptibility t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19162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581360"/>
            <a:ext cx="0" cy="4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70828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22936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Causes of vitami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 deficiency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ne or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 b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f the following ca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-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Insufficient exposure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dayligh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sunligh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 Deficiencies in vitamin D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consum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reas whe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unl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be increased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up to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800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U/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 of 200 IU/day (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 cholecalcefero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incidence of osteoprotic fr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4005360"/>
            <a:ext cx="0" cy="43164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Renal Rickets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enal osteodystroph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order results fro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ronic renal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with    activity of 1-hydroxyl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ability to form the active form of the vita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25-diOH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Treatmen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1,25-diOH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citr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280" y="2205000"/>
            <a:ext cx="0" cy="432000"/>
          </a:xfrm>
          <a:prstGeom prst="line">
            <a:avLst/>
          </a:prstGeom>
          <a:ln w="57240">
            <a:solidFill>
              <a:srgbClr val="0000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2708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Hypoparathyroidism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   P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ciency or absence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roid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mone 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au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p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em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sphatem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Trea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form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vitamin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836640"/>
            <a:ext cx="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Toxicity of vitami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mi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ost tox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ll vitam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mi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ored in the body and is only slowly metabo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ose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,000 IU for weeks or mont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n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appetite, nausea, thirst and stu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calcium absorption and bone resorption result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percalcem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can lead to deposition of calcium in many organs, particularl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dne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cc"/>
                </a:solidFill>
                <a:uFillTx/>
                <a:latin typeface="Arial"/>
              </a:rPr>
              <a:t>Vitamin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Arial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686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Vitamin 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om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forms of vitamin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phylloquino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tamin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stinal bacterial flo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menaquino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ta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ntheti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tive of vitamin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nad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Function of vitam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rmation of gamma carboxygluta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min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quired in the hepatic synthesis of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throm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otting factors II, VII, IX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d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proteins are synthesiz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a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cursor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ion of clotting factors requires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itamin K-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xylation of glutamic acid resi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s a mature clotting factor that contai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xyglutamate (Gla),  which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tting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314280"/>
            <a:ext cx="7920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o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i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ch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onone ring with an unsaturated sid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found in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nima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inyl e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long-chain fat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dhy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ived from the oxidation of retin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inol and retinal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terconver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89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tamin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hibited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ticoagu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cumar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atural, available in some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rfaryn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nthetic analog of vitamin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496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eraction of prothrombin with 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idues of prothrombin are chelatoers of positively charged calcium ions, because of  the negatively charged carboxylate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thrombin – calcium complex is then able to b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olipids essential for blood clotting on the surface of platel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ment to platelets increase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which the proteolytic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sion of prothrombin to throm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 occ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7210440" cy="815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04880"/>
            <a:ext cx="86756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686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ole of gamma carboxyglutamate residues in 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lso present in other proteins (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teocalc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) unrelated to the clot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physiologic role of these proteins a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of vitamin K in their synthesis is not yet underst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9647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Distribution and requirement of vitamin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Sources of vitamin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Die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sour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bage, cauliflower, egg yolk &amp; l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bacterial flor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intest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equirement of vitamin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no R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vitami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70 – 140 mg / 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Clinical in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Vitamin </a:t>
            </a: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ue vitamin K deficiency i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rar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dequate amounts are produ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ntestinal bacteria or obtained from di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cterial population of the intestine is decreased as for ex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antibio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amount of endogenously formed vitamin is de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an lea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oprothrombinaem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lnourish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(as in debilitated geriatric pati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is condition may require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supplementation with vitamin K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to correc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leeding tend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Second generation cephalospor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tibiotics as cefoperazone, cefamandole and moxalactam cause hypoprothrombinemia, by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arfaren-like mechan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nsequently, their use in treatment is usually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supplemented with vitamin K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51688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eficiency of vitamin </a:t>
            </a: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new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borns hav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erile intest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annot initially synthesize vitamin 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human milk provides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nly about one fifth of the daily requi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vitamin 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So, it is recommended that all newborns receive a single  intramuscular dose of vitamin K as prophylaxis against hemorrhagic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Toxicity of vitam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onged administration of vitamin K can produc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emolytic anem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jaund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infant, due to tox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on the membrane of red blood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oi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ived from oxidation of ret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duced in the body, and therefore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 rise to either retinal or reti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caro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lan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s conta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rotene, which can be oxidatively cleaved in the intestine to yield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wo molecules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f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t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umans, the conversion is insufficient, and vitamin A activity o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rotene is only about one sixth of that of reti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sorp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ranspor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vitam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 Retinol is derived from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IET SOURC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DIET Retinyl esters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(animal sourc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are hydrolyzed in the intestinal mucosa,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tin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free fatty ac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-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DIET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-carote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plant sour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is cleaved          2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tinal              retin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-  Retinol is esterified with fatty acids to giv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tinyl e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I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inyl esters are collected by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ylomicr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to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V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inyl esters contained in the chylomicrons are taken up and stored by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needed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tin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leased from the liver and transported to extra hepatic tissue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inol binding 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B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inol - RBP 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aches to specific receptors on the surface of the cells of peripheral tissues permitting retinol to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913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7:10:40Z</dcterms:created>
  <dc:creator>Sherif</dc:creator>
  <dc:description/>
  <dc:language>en-US</dc:language>
  <cp:lastModifiedBy>Sherif</cp:lastModifiedBy>
  <dcterms:modified xsi:type="dcterms:W3CDTF">2007-03-03T06:29:21Z</dcterms:modified>
  <cp:revision>434</cp:revision>
  <dc:subject/>
  <dc:title>Slide 1</dc:title>
</cp:coreProperties>
</file>