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9E71-8758-4D5B-AD4D-16A9AB56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1087-7A6E-4CF2-9328-89041BB2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B823-4573-4ACB-B765-718820CC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BF95-5EEC-401A-80B2-652A5D8A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BBC0-CA11-4893-A0C2-AA233C53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C92F-6C16-44D3-BABA-2F44B757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0B23-D748-4277-A24C-283F8AA8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916F-7C83-4ED9-9AF0-44AF5EC3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EDF4-77EB-407A-BFA3-071C2BA9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EED5-4A55-4BB8-8CF6-8D8B3D8E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2369-2517-4D2C-862C-FF88FAB4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1287-AFD5-48C5-A39B-306FF6C2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2C19-59D9-4802-8592-2352B60B1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0360" y="1418040"/>
            <a:ext cx="76726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Fat Soluble Vitami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Vitamin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Vitamin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Vitamin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Vitamin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chanism of Action of vitami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tin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oxidized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tin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oic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ide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tin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oic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nds with high-affinity to specific receptor proteins present in the nucleus of target tissue, such as epithelial ce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tivat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tinoic acid - receptor compl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acts with nuclear chromatin (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e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o stimulate retinoid-specific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m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nthesis, resulting in the production of specific proteins that mediate several physiological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retinoids control the expression of keratin gene in most epithelial t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79218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360" y="981000"/>
            <a:ext cx="6059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unctions of Vitamin A</a:t>
            </a:r>
            <a:br>
              <a:rPr sz="6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63280" y="1915920"/>
            <a:ext cx="5986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Epithelial cells mainten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unctions of Vitami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tamin 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component of the visual pigments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ell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Rhodops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the visual pigment of the </a:t>
            </a:r>
            <a:r>
              <a:rPr b="1" lang="en-US" sz="1600" spc="-1" strike="noStrike" u="sng">
                <a:solidFill>
                  <a:srgbClr val="0000cc"/>
                </a:solidFill>
                <a:uFillTx/>
                <a:latin typeface="Arial"/>
              </a:rPr>
              <a:t>rod cells in the retin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(for vision in dim lig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sts of </a:t>
            </a:r>
            <a:r>
              <a:rPr b="1" lang="en-US" sz="1600" spc="-1" strike="noStrike" u="sng">
                <a:solidFill>
                  <a:srgbClr val="0000cc"/>
                </a:solidFill>
                <a:uFillTx/>
                <a:latin typeface="Arial"/>
              </a:rPr>
              <a:t>11-cis retin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pecially bound to the protein </a:t>
            </a:r>
            <a:r>
              <a:rPr b="1" lang="en-US" sz="1600" spc="-1" strike="noStrike" u="sng">
                <a:solidFill>
                  <a:srgbClr val="0000cc"/>
                </a:solidFill>
                <a:uFillTx/>
                <a:latin typeface="Arial"/>
              </a:rPr>
              <a:t>opsin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rhodops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exposed to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igh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 series of photochemical isomerization occurs, which results in release of </a:t>
            </a:r>
            <a:r>
              <a:rPr b="1" lang="en-US" sz="1600" spc="-1" strike="noStrike" u="sng">
                <a:solidFill>
                  <a:srgbClr val="0000cc"/>
                </a:solidFill>
                <a:uFillTx/>
                <a:latin typeface="Arial"/>
              </a:rPr>
              <a:t>all trans retin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 u="sng">
                <a:solidFill>
                  <a:srgbClr val="0000cc"/>
                </a:solidFill>
                <a:uFillTx/>
                <a:latin typeface="Arial"/>
              </a:rPr>
              <a:t>ops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ith bleaching of the visual pigmen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process triggers a nerve impulse that is transmitted by the optic nerve to the br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eneration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hodops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quires isomerization of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ll trans retin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ack to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1-cis retin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which spontaneously combines wit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s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hodops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tamin A is essential for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ormal growth of cel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y synthesis of important prote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one grow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slow in vitamin A defici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s deprived of vitamin A suffers keratinzation of taste buds leading to losing of their appet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etin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etina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essential for normal repro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upporting spermatogenesis in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ma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venting fetal resorption in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fe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tinoic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a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maintaining reproduction &amp; the visual cycle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motes grow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tinoic acids given only since bir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nimals, leads to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lind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eril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pithelial cells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tamin A is essential for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ormal different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epithelial tissues and mucus secretion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362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istribution of Vitami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s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etinol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tinyl esters) :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nimal sou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r, kidney, cream, butter &amp; egg yo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s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arote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ecursors of vitamin A) :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plant sou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llow &amp; dark green vegetables &amp; fr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quirement for Vitami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inol equivalents) =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  of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i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  of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carote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  of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caroten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D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r ad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a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8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em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3628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Verdana"/>
              </a:rPr>
              <a:t>Clinical ind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Dietary de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min A, administered 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tino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tinyl est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treat pati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cient in the vitamin (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not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retinoic ac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Night blindn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arliest sig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vitamin A de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y in seeing i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m l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longed deficiency leads to irreversible loss of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visual ce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ffection of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rods of ret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Xerophthal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v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ficiency of vitamin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ological dryness of the epithelium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conjunctiv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corn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ay end i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rneal ulcerations and blind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920" y="765000"/>
            <a:ext cx="864216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Acne </a:t>
            </a: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&amp;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 Psori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rmatolog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blems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c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sorias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effectively tre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retinoic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its deriv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Mild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cases of ac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reated by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top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lication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tretino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ll trans retinoic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s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too toxic for systemic administ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Severe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recalcitrant cystic ac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responsive to conven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apies,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sotretinoin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3-cis retinoic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dministered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or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Prevention of chronic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pulations consuming diets high in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carotene show decreased incidence of heart diseases &amp; lung &amp; skin canc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ption of foods rich in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carotene is associated with reduced risk of cataracts and macular de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24000" y="2033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000cc"/>
                </a:solidFill>
                <a:uFillTx/>
                <a:latin typeface="Arial"/>
              </a:rPr>
              <a:t>Vitamin </a:t>
            </a:r>
            <a:r>
              <a:rPr b="1" lang="en-US" sz="72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Toxicity of Retino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itamin A excess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hypervitaminosis A syndro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s exceeding 7.5 mg/day of retin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-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Excessive intake of vitamin A may cause the follow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y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k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 pruiritis are early 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li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larged, cirrho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tracra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ssure (mimic symptoms of brain tumours e.g. headache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egnant fe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not ingest excessive amounts of vitamin  A because of its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for causing congenital malformations in developing fe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6407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sotretinoin drug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(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13-cis retinoic acid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Teratogeni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, absolutely contraindicated in women with childbearing potent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gnancy should be excluded before initiation of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adequate contraceptive (birth control) must be u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Risk of coronary heart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longed treatment with 13-cis retinoic acid lead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erlipidemia &amp; increase in LDL/HDL ratio with increased risk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onary heart dis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2033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000cc"/>
                </a:solidFill>
                <a:uFillTx/>
                <a:latin typeface="Arial"/>
              </a:rPr>
              <a:t>Vitamin </a:t>
            </a:r>
            <a:r>
              <a:rPr b="1" lang="en-US" sz="7200" spc="-1" strike="noStrike" u="sng">
                <a:solidFill>
                  <a:srgbClr val="ff0000"/>
                </a:solidFill>
                <a:uFillTx/>
                <a:latin typeface="Arial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Vitamin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itamins consist of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turally occurr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copher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f which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tocophe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most a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imary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vitam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antioxida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evention of the nonenzymic oxidation of cell components as polyunsaturated fatty acids by molecular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free rad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Distribution &amp; requirements of vitamin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Vegetable o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s                (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lant sour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Liv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g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ounts (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nimal sour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tocophe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      10  mg for 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  mg for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 is increased with increased intake of polyunsaturated fatty ac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6840" y="907560"/>
            <a:ext cx="84358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Deficiency of vitamin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ciency of vitamin E is almost entirely restricte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emature inf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dul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t is usually associated with defective lip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rption or tran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Verdana"/>
              </a:rPr>
              <a:t>Signs of vitamin E defici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e sensitivity of RBCs to peroxide &amp; appearance of abnormal cellular membra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Clinical ind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tamin E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for the preven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ic disease, such as coronary heart disease or can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s in the Alpha-Tocopherol, Beta Carotene Canc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Study trial who received high doses of vitam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, not only lack cardiovascular benefit but also had 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 incidence of strok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oxicity of vitamin 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xicity at 300mg / day d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000cc"/>
                </a:solidFill>
                <a:uFillTx/>
                <a:latin typeface="Arial"/>
              </a:rPr>
              <a:t>Vitamin </a:t>
            </a:r>
            <a:r>
              <a:rPr b="1" lang="en-US" sz="72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6840" y="836280"/>
            <a:ext cx="843588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Vitamin </a:t>
            </a: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 vitami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a group of sterols that have a hormone-like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tive molecule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,25-dihydroxycholecalcifer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,25-di OH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s t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racellular recep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te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1,25-diOH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receptor compl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acts with DNA in the nucleus of target cells, and eith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imulates gene expres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presses gene transcri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in actions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25-diOH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to regulate plasma level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ium &amp; phosphoro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3640" y="764640"/>
            <a:ext cx="8569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Distribution of vitamin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Verdana"/>
              </a:rPr>
              <a:t>D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(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Sources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D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gocalcefer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(vitam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is found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lecalcefero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itam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is found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im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ss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Endogenous vitamin precur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-Dehydrocholester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s convert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lecalcefero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itamin D3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dermis and epidermis of human skin exposed to sunligh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s with limited exposure to sunlight requi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form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itamin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RETIN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tinoid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a family of molecules that are relate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tinol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(vitamin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tino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lu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natu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synthe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s of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itamin A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ay or may not show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itamin A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16000" y="185760"/>
            <a:ext cx="6985080" cy="66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50560" y="836280"/>
            <a:ext cx="856908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Metabolism of vitamin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Formation of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Verdana"/>
              </a:rPr>
              <a:t>1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,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Verdana"/>
              </a:rPr>
              <a:t>25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 dihydroxycholecalceferol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5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diOH D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tami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ologically 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converted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 viv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the active form of D vitamin by two sequential hydroxylation reactions (two hydroxylases) that requir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nooxygen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lecular oxy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AD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wo hydroxylases uses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cytochrome P4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First Hydroxy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rs at the positio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alyzed by a specific hydroxylase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giv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5 hydroxycholecalcefe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5-OH D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edominant f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vitamin D in plas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major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orage f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vita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573360"/>
            <a:ext cx="0" cy="576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Second Hydroxy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-OH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further hydroxylated a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ositio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enzyme specif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-hydroxycholecalceferol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-hydroxyl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 primarily in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kidne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ing in the formation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, 25 dihydroxycholecalcefer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(1,25 diOH D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most a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itamin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abo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3645000"/>
            <a:ext cx="0" cy="576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89647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Regulation of 1-hydroxy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s formation is regulated by the level of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lasm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alci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sph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evels in plas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-hydroxyla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ctivity is increas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RECTL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low phosph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DIRECTEL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y    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low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alcium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levels (hypocalcemia)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                          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lease of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Parathyroid Hormone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PTH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                                 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ctivation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 hydroxyl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   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creased production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,25-di(OH) D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95640" y="3933720"/>
            <a:ext cx="0" cy="43344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95640" y="4941720"/>
            <a:ext cx="0" cy="648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3141720"/>
            <a:ext cx="0" cy="43344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76360" y="333360"/>
            <a:ext cx="6048360" cy="61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Function of Vitamin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Verdan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verall function of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,25-diOH D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o maint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quate plasma levels of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calc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t performs this function b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uptake of calcium  by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intesti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ing loss of calcium by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ki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ing resorption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b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hen neces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ffect of vitamin </a:t>
            </a:r>
            <a:r>
              <a:rPr b="1" lang="en-US" sz="2400" spc="-1" strike="noStrike">
                <a:solidFill>
                  <a:srgbClr val="0000cc"/>
                </a:solidFill>
                <a:latin typeface="Verdana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n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INTEST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 25-diOH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imulates intestinal absor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calcium &amp; phosph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,25-diOH D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ters intestinal cell and binds 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solic rece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25-diOH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receptor compl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nucle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vely interacts with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synthesis of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pecific calcium-binding pro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alcium Up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2708280"/>
            <a:ext cx="0" cy="360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357720"/>
            <a:ext cx="0" cy="360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3860640"/>
            <a:ext cx="0" cy="35892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437000"/>
            <a:ext cx="0" cy="360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5157720"/>
            <a:ext cx="0" cy="43344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775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3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ffect of vitamin </a:t>
            </a:r>
            <a:r>
              <a:rPr b="1" lang="en-US" sz="2400" spc="-1" strike="noStrike">
                <a:solidFill>
                  <a:srgbClr val="0000cc"/>
                </a:solidFill>
                <a:latin typeface="Verdana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n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B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,25-diOH D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imulate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bilization of calcium and phosph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bone by a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cess that require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crease 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sma calcium &amp; phosp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0000" y="2708280"/>
            <a:ext cx="0" cy="1008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7690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78544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Distribution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Verdana"/>
              </a:rPr>
              <a:t>&amp;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 Requirement of vitamin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tamin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olecalcerfe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 naturally in fatty fish, liver, and egg yol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k i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good source for vitamin D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nless if fortifi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dults is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00 I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itamin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available in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5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holecalcefe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itamin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84358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Clinical in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-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Nutritional Ri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itam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de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et demineralization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f 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Rick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 childre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Osteomalac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 ad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95640" y="4149720"/>
            <a:ext cx="0" cy="503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95640" y="3357720"/>
            <a:ext cx="0" cy="43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763640" y="4581360"/>
            <a:ext cx="2232000" cy="43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5640" y="4581360"/>
            <a:ext cx="1871640" cy="43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Ri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ntinued formation of the collagen matri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complete miner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of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form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Osteomalac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emineralization of preexisting b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usceptibility to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fra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191628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4581360"/>
            <a:ext cx="0" cy="43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2708280"/>
            <a:ext cx="0" cy="43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5229360"/>
            <a:ext cx="0" cy="43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Causes of vitamin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Verdana"/>
              </a:rPr>
              <a:t>D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 deficiency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one or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 bo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of the following cau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1-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Insufficient exposure to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dayligh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(sunligh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2-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 Deficiencies in vitamin D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consum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reas wher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unl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t su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be increased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up to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800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IU/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ead of 200 IU/day (5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 cholecalcefero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duce the incidence of osteoprotic fra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4005360"/>
            <a:ext cx="0" cy="43164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920" y="765000"/>
            <a:ext cx="864216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Renal Rickets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renal osteodystrophy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order results from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ronic renal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with    activity of 1-hydroxyl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d ability to form the active form of the vita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25-diOH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Verdana"/>
              </a:rPr>
              <a:t>Treatmen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1,25-diOH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lcitri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59280" y="2205000"/>
            <a:ext cx="0" cy="432000"/>
          </a:xfrm>
          <a:prstGeom prst="line">
            <a:avLst/>
          </a:prstGeom>
          <a:ln w="57240">
            <a:solidFill>
              <a:srgbClr val="0000c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27640" y="270828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864216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Hypoparathyroidism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(   P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ciency or absence of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roid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mone (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au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yp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em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yp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sphatem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Verdana"/>
              </a:rPr>
              <a:t>Treat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form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vitamin 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P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836640"/>
            <a:ext cx="0" cy="576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Toxicity of vitamin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tamin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most tox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ll vitami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tamin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stored in the body and is only slowly metabo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dose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,000 IU for weeks or month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an c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f appetite, nausea, thirst and stup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calcium absorption and bone resorption results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percalcem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can lead to deposition of calcium in many organs, particularly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e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dne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5280" y="2349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000cc"/>
                </a:solidFill>
                <a:uFillTx/>
                <a:latin typeface="Arial"/>
              </a:rPr>
              <a:t>Vitamin </a:t>
            </a:r>
            <a:r>
              <a:rPr b="1" lang="en-US" sz="7200" spc="-1" strike="noStrike" u="sng">
                <a:solidFill>
                  <a:srgbClr val="ff0000"/>
                </a:solidFill>
                <a:uFillTx/>
                <a:latin typeface="Arial"/>
              </a:rPr>
              <a:t>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686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Vitamin </a:t>
            </a:r>
            <a:r>
              <a:rPr b="1" lang="en-US" sz="3200" spc="-1" strike="noStrike">
                <a:solidFill>
                  <a:srgbClr val="0000cc"/>
                </a:solidFill>
                <a:latin typeface="Verdan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Som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forms of vitamin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K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l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phylloquinon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tamin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stinal bacterial flor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menaquinon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ta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ntheti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ative of vitamin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nadi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Function of vitamin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ormation of gamma carboxygluta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tamin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required in the hepatic synthesis of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othromb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od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lotting factors II, VII, IX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nd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proteins are synthesized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a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cursor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ion of clotting factors requires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vitamin K-depen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boxylation of glutamic acid resid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forms a mature clotting factor that contain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boxyglutamate (Gla),  which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tting fa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314280"/>
            <a:ext cx="792000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tin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o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ti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o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ima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ch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aining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onone ring with an unsaturated side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found in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animal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tiss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tinyl es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long-chain fat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ti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dhy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ived from the oxidation of retino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inol and retinal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terconver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9640" y="1197000"/>
            <a:ext cx="889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tion of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itamin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hibited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follow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nticoagul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cumaro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natural, available in some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arfaryn: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ynthetic analog of vitamin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496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Interaction of prothrombin with plate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idues of prothrombin are chelatoers of positively charged calcium ions, because of  the negatively charged carboxylate 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thrombin – calcium complex is then able to bi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spholipids essential for blood clotting on the surface of platel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achment to platelets increase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which the proteolytic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version of prothrombin to thromb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 occ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7210440" cy="815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704880"/>
            <a:ext cx="8675640" cy="67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686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ole of gamma carboxyglutamate residues in o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lso present in other proteins (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teocalc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e) unrelated to the clot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 physiologic role of these proteins and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of vitamin K in their synthesis is not yet underst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836280"/>
            <a:ext cx="896472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Distribution and requirement of vitamin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Sources of vitamin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Diet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sourc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bbage, cauliflower, egg yolk &amp; li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bacterial flora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intest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Requirement of vitamin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no R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vitamin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bu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70 – 140 mg / 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Clinical ind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Vitamin </a:t>
            </a:r>
            <a:r>
              <a:rPr b="1" lang="en-US" sz="2400" spc="-1" strike="noStrike">
                <a:solidFill>
                  <a:srgbClr val="0000cc"/>
                </a:solidFill>
                <a:latin typeface="Verdana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de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ue vitamin K deficiency is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rar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dequate amounts are produ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intestinal bacteria or obtained from di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cterial population of the intestine is decreased as for exam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antibio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amount of endogenously formed vitamin is depr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an lead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poprothrombinaemi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alnourish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(as in debilitated geriatric patie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is condition may require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supplementation with vitamin K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to correc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leeding tend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Second generation cephalospori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tibiotics as cefoperazone, cefamandole and moxalactam cause hypoprothrombinemia, by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arfaren-like mechan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nsequently, their use in treatment is usually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supplemented with vitamin K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51688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Deficiency of vitamin </a:t>
            </a:r>
            <a:r>
              <a:rPr b="1" lang="en-US" sz="2400" spc="-1" strike="noStrike">
                <a:solidFill>
                  <a:srgbClr val="0000cc"/>
                </a:solidFill>
                <a:latin typeface="Verdana"/>
              </a:rPr>
              <a:t>K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newb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borns have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terile intest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annot initially synthesize vitamin 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human milk provides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only about one fifth of the daily requir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vitamin 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So, it is recommended that all newborns receive a single  intramuscular dose of vitamin K as prophylaxis against hemorrhagic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Toxicity of vitamin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longed administration of vitamin K can produce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hemolytic anem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jaund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infant, due to tox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s on the membrane of red blood ce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ti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oic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ived from oxidation of reti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n 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reduced in the body, and therefore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n 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 rise to either retinal or retin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caro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Plan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ds conta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arotene, which can be oxidatively cleaved in the intestine to yield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wo molecules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of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ret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humans, the conversion is insufficient, and vitamin A activity of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arotene is only about one sixth of that of retin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bsorp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amp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Transpor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f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vitami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L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- Retinol is derived from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IET SOURC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DIET Retinyl esters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(animal source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ch are hydrolyzed in the intestinal mucosa,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easing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etino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free fatty ac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-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DIET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-caroten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(plant sour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ch is cleaved          2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etinal              retin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-  Retinol is esterified with fatty acids to giv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etinyl e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I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inyl esters are collected by th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hylomicr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nto the lymphatic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V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inyl esters contained in the chylomicrons are taken up and stored by th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37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37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needed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etin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released from the liver and transported to extra hepatic tissue b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lasm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tinol binding 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B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tinol - RBP compl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aches to specific receptors on the surface of the cells of peripheral tissues permitting retinol to 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569080" cy="633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120" rIns="96120" tIns="52920" bIns="5292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9134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07:10:40Z</dcterms:created>
  <dc:creator>Sherif</dc:creator>
  <dc:description/>
  <dc:language>en-US</dc:language>
  <cp:lastModifiedBy>Sherif</cp:lastModifiedBy>
  <dcterms:modified xsi:type="dcterms:W3CDTF">2007-03-03T06:29:21Z</dcterms:modified>
  <cp:revision>434</cp:revision>
  <dc:subject/>
  <dc:title>Slide 1</dc:title>
</cp:coreProperties>
</file>