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9.png" ContentType="image/png"/>
  <Override PartName="/ppt/media/image18.wmf" ContentType="image/x-wmf"/>
  <Override PartName="/ppt/media/image3.jpeg" ContentType="image/jpeg"/>
  <Override PartName="/ppt/media/image16.wmf" ContentType="image/x-wmf"/>
  <Override PartName="/ppt/media/image15.wmf" ContentType="image/x-wmf"/>
  <Override PartName="/ppt/media/image1.wmf" ContentType="image/x-wmf"/>
  <Override PartName="/ppt/media/image14.wmf" ContentType="image/x-wmf"/>
  <Override PartName="/ppt/media/image6.png" ContentType="image/png"/>
  <Override PartName="/ppt/media/image4.jpeg" ContentType="image/jpe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1AF0-6CB3-456B-B4BF-A62C6C8CDB1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3800-BCA2-4249-A8BD-E9C66058DE3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B841-6BED-4E82-809A-DAEBF4665F0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E52D-70A9-44BE-A465-743B51D3700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B7ED-80D5-4892-BC41-C62F23CE463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B952-8D89-429B-9D58-38B8F85FB52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4A7D-755D-443F-99F1-3C59A4F6050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7FBC-B33A-43C4-920D-90BC52FA849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1170-88A3-4619-BACD-ADACDC2D5FB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5B65-70D9-4B77-B3CB-EE5896ECF84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13B4-7D4F-45EC-92C7-6638A45884C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EF74-6656-437A-8EF8-B8DC5D4822F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0A02-0F6A-4033-95BB-D865BCE28F3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4692-2E71-439A-A928-2C25F36B06A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9285-700F-4D92-9A43-88C6459A227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A389-21D4-4077-BBAB-47BF5B00E1F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E66E-E77D-4CE3-9EED-76BDA8773D6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90B4-C4CB-4CC8-93DE-5B0A98AAAA3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E2C1-6D2D-44CF-9368-C303BAD1F8A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C4D7-D65B-4B27-8EBE-48566D8C232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AF87-91B1-4ED2-B30C-7BECAE5BBBF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D239-FE1A-4CF9-BC54-2F0C949257B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2762-B3D7-4ED6-AEDA-0763E82F135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CBCF-CC72-4E20-84DB-5C52F5FE217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2278-C58A-4043-A606-C064B1877CA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BE5A-ECEA-4E9D-9C4B-E230E9380E7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5D95-19CF-40BE-A15D-4E54717E3A7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A4B5-6F54-4303-96E8-0A0ACAE82D8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37A0-209B-4179-911E-7761E7FB6B6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858C-5BCB-4609-8A17-276EE770271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CD4D-D181-4314-B22E-6F19D7BCA44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4F21-5410-4867-881F-EFF7C9D776B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FE83-D586-44CA-9D01-FD979AEE766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DA34-9CF1-47DC-9E5A-49B0B2E84B4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A806-85B3-47F8-B4E0-7D2AC6004DC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BA1A-EDC4-4329-B2FA-352B312FF9E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B05B-96A8-4BB5-9230-5DDC797C71A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C9B0-8D1A-46B0-A1F9-B9C28958684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5A15-C308-4412-A7D6-76434F1B372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8A83-55B3-4F0C-B30A-08767844D5D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72F6-2148-47D7-A227-C6497379727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FB7B-7CF2-4CD7-834E-E3424CA2413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2029-2E82-4A7B-BB4C-31DEEDF4FBF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4A01-D9E0-421C-A852-AEBCEF2B7CB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74E3-FF8D-48B3-9AED-F2381984AC9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2B5E-0478-4A17-803E-3CCFDA6A3F1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F61C-FA56-4BC0-8427-1316F851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A0D-3F62-455C-AE4E-9675F5F7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A115-4BD4-45DC-BC32-7E44663A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0674-F225-45B5-902C-68B3C54E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8509-88B9-4A27-8674-32DCA9EB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765-D12E-42A2-AFEA-FC6E5B50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E17B-E002-4168-809B-EB54A1DC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7C65-8C81-451B-B8A4-14EC6CAD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3E3C-2371-459F-9111-04F94008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605-9002-4E1F-857A-1192A7AE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4321-94A6-423A-A44E-799DBD4B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054-60F3-44A0-B244-60FAAA0D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F37A-248B-4979-9F7C-C17F08863A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640" y="1844280"/>
            <a:ext cx="8229600" cy="187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Amino Acids</a:t>
            </a: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Disposal of Nitrog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echanism of action of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biquitin-proteasom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otein is covalently attached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biquitin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(small globular pro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ore ubiquitin is added to for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lyubiquitin chain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(protein is tagged with ubiquit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biquitin-tagged protein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is recognized by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teasom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(proteolytic molec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teasom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uts the target protein into fra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requires A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ragments are cut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n-specific protease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to 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7797960" cy="935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emical Signals for Protein Degra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tein degradation  is influenced by som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tructural aspect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e half-life of a protein is influenced by the nature of the N-termin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sid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ong-lived proteins (half-life is more than 20 ho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par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ort-lived (half-life is about 3 min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teins  rich sequence contai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apidly degraded (i.e. with short half-lif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PEST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sequence: proline, glutamate, serine &amp; threo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Digestion of Dietary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ost of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nitrogen in die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is consumed in the form of pro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Dietary protein/day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:  70 – 100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ietary proteins must be hydrolyzed to amino acids by proteoly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Proteolytic enzyme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are produced by three different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om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anc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mall intes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9_004"/>
          <p:cNvPicPr/>
          <p:nvPr/>
        </p:nvPicPr>
        <p:blipFill>
          <a:blip r:embed="rId1"/>
          <a:stretch/>
        </p:blipFill>
        <p:spPr>
          <a:xfrm>
            <a:off x="1547640" y="549360"/>
            <a:ext cx="58388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- Digestion of Proteins By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Verdana"/>
              </a:rPr>
              <a:t>Gastric Secr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Gastric secretions contai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-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hydrochloric Acid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 - pH 2 – 3 (for activation pepsino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 kills some 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 denature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-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epsin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ecreted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as peopsinogen (inactive zymo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ctivated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to pepsin by Hcl or autocatalytically by pep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product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f hydrolysis of proteins: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eptides +     few free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oligo- + poly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3588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Digestion of Proteins by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Verdana"/>
              </a:rPr>
              <a:t>Pancreatic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42472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n entering the small intesti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ancreatic Proteas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Large polypeptides are further cleaved to oligopeptides &amp; free amino ac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TEA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ecreted as inactive zymogen from pancreatic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Secretion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of zymog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s mediated by the secretion of </a:t>
            </a: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cholecystokinin &amp; secretin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(polypeptide hormones of G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Activation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of zymoge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y </a:t>
            </a: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enteropeptidase (enterokinase):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enzyme present on the luminal surface of intestinal mucosal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onverts trypsinogen to trypsin (by removal of hexapeptide from trypsinog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rypsin converts other trypsinogen molecules  to tryps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rypsin activates all other pancreatic zymogens (chymotrypsinogen, proelastase &amp;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carboxypeptid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Specificity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ypsin: cleaves when the carbonyl group of the peptide bond i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ibuted by argenine or lys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19_005"/>
          <p:cNvPicPr/>
          <p:nvPr/>
        </p:nvPicPr>
        <p:blipFill>
          <a:blip r:embed="rId1"/>
          <a:stretch/>
        </p:blipFill>
        <p:spPr>
          <a:xfrm>
            <a:off x="826920" y="102888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9810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Abnormalities in Protein Di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Deficiency of pancreatic secretion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occurs due to chronic pancreatitis, cystic fibrosis or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surgical removal of the pancre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Digestion &amp; absorption of fat &amp; protein is in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bnormal appearance of lipids (steatorrohea) &amp; undigested protein in f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minopeptid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on the luminal surface of the intes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- is an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exopeptid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- cleaves the N-terminal residue from oligopeptide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o produce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free amino acids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&amp;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smaller pep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395280" y="549000"/>
            <a:ext cx="842472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Digestion of oligopeptides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by enzymes of the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Verdana"/>
              </a:rPr>
              <a:t>Small Intes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931160" cy="922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ransport of Amino acids into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ovement of a.a. to cells is performed by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ve transport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(requires A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Seven different transport sys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ith overlapping specificity for different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r example: cystine, ornithine, argenine &amp; lysine are transported in  kidney tubul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y one transp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stinu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herited disease , one of the most common inherited d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: 7000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fective carrier system for these 4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ppearance of all 4 amino acids in the u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ecipitation of cystine to form kidney stones (may block urinary tra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1247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mino acids are not stored in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o,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mino Acids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must b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obtained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fro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1-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2-Synthesized de no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3-produced from normal protein degradation (turno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mino Acids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in excess of biosynthetic needs of the cel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Verdana"/>
              </a:rPr>
              <a:t>Not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stored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But: rapidly degraded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first step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: removal of th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amino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group              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-keto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(of a.a.)                          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mm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c. in urine  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6227640" y="450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6227640" y="4508640"/>
            <a:ext cx="648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 flipH="1">
            <a:off x="6227640" y="5300640"/>
            <a:ext cx="1368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7596360" y="5300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411280" y="620640"/>
            <a:ext cx="3600720" cy="5472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Removal of Nitrogen from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233208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Removing the 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-amino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Essential for producing energy from any amino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An obligatory step for the catabolism of all 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9"/>
          <p:cNvGrpSpPr/>
          <p:nvPr/>
        </p:nvGrpSpPr>
        <p:grpSpPr>
          <a:xfrm>
            <a:off x="250920" y="981000"/>
            <a:ext cx="8427960" cy="4032360"/>
            <a:chOff x="250920" y="981000"/>
            <a:chExt cx="8427960" cy="4032360"/>
          </a:xfrm>
        </p:grpSpPr>
        <p:pic>
          <p:nvPicPr>
            <p:cNvPr id="113" name="Picture 4" descr=""/>
            <p:cNvPicPr/>
            <p:nvPr/>
          </p:nvPicPr>
          <p:blipFill>
            <a:blip r:embed="rId1"/>
            <a:stretch/>
          </p:blipFill>
          <p:spPr>
            <a:xfrm>
              <a:off x="250920" y="981000"/>
              <a:ext cx="39639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6" descr=""/>
            <p:cNvPicPr/>
            <p:nvPr/>
          </p:nvPicPr>
          <p:blipFill>
            <a:blip r:embed="rId2"/>
            <a:stretch/>
          </p:blipFill>
          <p:spPr>
            <a:xfrm>
              <a:off x="4143600" y="982440"/>
              <a:ext cx="453528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7" descr=""/>
            <p:cNvPicPr/>
            <p:nvPr/>
          </p:nvPicPr>
          <p:blipFill>
            <a:blip r:embed="rId3"/>
            <a:stretch/>
          </p:blipFill>
          <p:spPr>
            <a:xfrm>
              <a:off x="250920" y="3141720"/>
              <a:ext cx="38894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8" descr=""/>
            <p:cNvPicPr/>
            <p:nvPr/>
          </p:nvPicPr>
          <p:blipFill>
            <a:blip r:embed="rId4"/>
            <a:stretch/>
          </p:blipFill>
          <p:spPr>
            <a:xfrm>
              <a:off x="4067280" y="3141720"/>
              <a:ext cx="4608360" cy="18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Text Box 9"/>
          <p:cNvSpPr/>
          <p:nvPr/>
        </p:nvSpPr>
        <p:spPr>
          <a:xfrm>
            <a:off x="1258920" y="5516640"/>
            <a:ext cx="684216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mino Ac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2916360" y="1125360"/>
            <a:ext cx="3543120" cy="43308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2987640" y="5734080"/>
            <a:ext cx="345600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mino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mino Acid 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aminatio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)</a:t>
            </a:r>
            <a:br>
              <a:rPr sz="40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oval of amino group (nitro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     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Amino group                   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(nitrogen)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                    skelet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-ketoac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incorpo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i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other                 excreted         catabolised           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Compounds                                                       of other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(e.g. ur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                   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energy                                          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 flipH="1">
            <a:off x="1115640" y="335772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2124000" y="3357720"/>
            <a:ext cx="100800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 flipH="1">
            <a:off x="5003640" y="3357720"/>
            <a:ext cx="72072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5724360" y="3357720"/>
            <a:ext cx="122580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2410920" y="1844640"/>
            <a:ext cx="201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4427640" y="1844640"/>
            <a:ext cx="1439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485928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1"/>
          <p:cNvSpPr/>
          <p:nvPr/>
        </p:nvSpPr>
        <p:spPr>
          <a:xfrm>
            <a:off x="4284720" y="2133720"/>
            <a:ext cx="295272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611280" y="2133720"/>
            <a:ext cx="288108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eamination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mino group (nitrogen) is removed from an amino acid by 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ransamin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AMINA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Oxidative Deamin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TAMATE DEHYDROGEN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993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-</a:t>
            </a: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Transa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671640" cy="4525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468360" y="1413000"/>
            <a:ext cx="55450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Funneling of amino groups to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gluta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3160800"/>
            <a:ext cx="59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959280" y="2421000"/>
            <a:ext cx="518472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-ketoglutarate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accepts the amino group from amino acids to become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gluta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By: aminotransferases (transamina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Glutamate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Oxidat. Deam      ammonia    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Verdana"/>
              </a:rPr>
              <a:t>urea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i="1" lang="en-US" sz="1800" spc="-1" strike="noStrike">
                <a:solidFill>
                  <a:srgbClr val="0000ff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gives amino group to oxalacetate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produce aspartate---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Verdana"/>
              </a:rPr>
              <a:t>urea cycle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i="1" lang="en-US" sz="1600" spc="-1" strike="noStrike">
                <a:solidFill>
                  <a:srgbClr val="0000ff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gives amino group to carbon skeleton t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produce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Verdana"/>
              </a:rPr>
              <a:t>new amino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All amino acids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 (with the </a:t>
            </a: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exception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lysine &amp; threonine) participate in transa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 flipH="1">
            <a:off x="3276360" y="2637000"/>
            <a:ext cx="718920" cy="7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 flipH="1">
            <a:off x="3419280" y="3716280"/>
            <a:ext cx="647640" cy="936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 flipH="1">
            <a:off x="1547280" y="1844640"/>
            <a:ext cx="1008360" cy="1152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6012000" y="40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>
            <a:off x="7524720" y="400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bstrate Specificity of Aminotransfe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ac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minotransfer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is specific for one or few group of do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minotransferas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s named after the specific amino group donor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ino acid that donates its amino group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2 most important aminotransfer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- alanine aminotransferase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- aspartate aminotranspeptidase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S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2440" cy="11574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AL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ine Amino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ransferase (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ALT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&amp; 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AS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partate Amino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ransferase (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AST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5688000" cy="5111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48" name="Line 5"/>
          <p:cNvSpPr/>
          <p:nvPr/>
        </p:nvSpPr>
        <p:spPr>
          <a:xfrm>
            <a:off x="2050920" y="3645000"/>
            <a:ext cx="122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0" y="1628640"/>
            <a:ext cx="2014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UREA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H="1">
            <a:off x="1979640" y="6165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 flipH="1">
            <a:off x="6372360" y="3716280"/>
            <a:ext cx="720720" cy="1008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1979640" y="2205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8244000" y="6165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 flipV="1">
            <a:off x="8820000" y="2133720"/>
            <a:ext cx="0" cy="4032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8028000" y="2133720"/>
            <a:ext cx="792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chanism of Action of Aminotransfer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3672000" cy="4525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569080" cy="15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nthesis of proteins                                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                       &amp; other compounds</a:t>
            </a:r>
            <a:br>
              <a:rPr sz="24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mino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gra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Keto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mm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rbon skeleton)                  (nitrogen of a.a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lucose         Fatty acids           other        exc. In urine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etone Bodies    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lycogen                                                                                   exc. in u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ERGY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 flipH="1">
            <a:off x="1908000" y="2852640"/>
            <a:ext cx="2448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4356000" y="285264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 flipH="1">
            <a:off x="1979280" y="522936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826920" y="4941720"/>
            <a:ext cx="115272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1763640" y="4149720"/>
            <a:ext cx="7938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H="1">
            <a:off x="900000" y="4149720"/>
            <a:ext cx="935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>
            <a:off x="5292360" y="4221000"/>
            <a:ext cx="9349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6227640" y="4221000"/>
            <a:ext cx="79236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 flipV="1">
            <a:off x="2843280" y="1268280"/>
            <a:ext cx="43344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2843280" y="1700280"/>
            <a:ext cx="64908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4"/>
          <p:cNvSpPr/>
          <p:nvPr/>
        </p:nvSpPr>
        <p:spPr>
          <a:xfrm>
            <a:off x="1763640" y="4149720"/>
            <a:ext cx="2016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 flipH="1">
            <a:off x="684360" y="4941720"/>
            <a:ext cx="1425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395280" y="189000"/>
            <a:ext cx="259236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grad. of Prot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 novo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7"/>
          <p:cNvSpPr/>
          <p:nvPr/>
        </p:nvSpPr>
        <p:spPr>
          <a:xfrm>
            <a:off x="1187280" y="1197000"/>
            <a:ext cx="48600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0"/>
          <p:cNvSpPr/>
          <p:nvPr/>
        </p:nvSpPr>
        <p:spPr>
          <a:xfrm>
            <a:off x="7308720" y="494172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qulibrium of Transamination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quilibrium constant : ~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lowing the reaction to function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fter protein-rich m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mino aci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grad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removal of amino group from amino acid        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keto ac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pply of amino acids from diet is not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mino aci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iosynthesi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addition of amino group to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keto acid          amino ac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4500720" y="3068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4572000" y="5013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5940360" y="5877000"/>
            <a:ext cx="43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6012000" y="393372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1187280" y="2708280"/>
            <a:ext cx="6840720" cy="14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187280" y="4653000"/>
            <a:ext cx="684072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Diagnostic Value of Plasma Aminotransfe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4560" y="184464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Aminotransferases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 are normall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racellular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enzy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Plasma contains low levels of aminotransferases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representing release of cellular contents during normal cell turn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Elevated plasma levels of aminotransferases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indicat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damage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to cells rich in these enzy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(as physical trauma or disease to tiss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Plasma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AST &amp; ALT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are of particular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diagnostic value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1-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liver disease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Plasma ALT &amp; AST are elevated in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nearly all liver diseases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but, particularly high in conditions that cause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ell necrosis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viral hepat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oxic inj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prolonged circulatory colla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LT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is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more specific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for liver disease than 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ST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is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more sensitive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(as liver contains a large amount of A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2-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Nonhepatic disease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as: myocardial infar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muscle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hese disorders can be distinguished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linically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from liver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Diagnostic Value of Plasma Aminotransfe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351640" cy="1224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Oxidative deamination of amino acids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 </a:t>
            </a:r>
            <a:br>
              <a:rPr sz="3600"/>
            </a:b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By: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Glutamate Dehydrogenase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233208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xidativ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eamination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lutamat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tamate dehydrogen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results in liberation of the amino group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free ammo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i.e. no transfer of amino gro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ver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&amp;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idney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(but can occur in other cells of the bod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Oxi Deamin. Of Glutamate provide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-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ketoglutarat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can be reused for transamination of a.a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-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re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mmonia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rea cycle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"/>
          <p:cNvSpPr/>
          <p:nvPr/>
        </p:nvSpPr>
        <p:spPr>
          <a:xfrm>
            <a:off x="5148360" y="5300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277164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UTAMATE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from transami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lutamate                           oxi. deamin.  (liver &amp; kidney (mainly) &amp; oth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hydrogen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mmonia                    a-ketogluta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rea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rea            used for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ranas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f a.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"/>
          <p:cNvSpPr/>
          <p:nvPr/>
        </p:nvSpPr>
        <p:spPr>
          <a:xfrm flipH="1">
            <a:off x="2123640" y="1773360"/>
            <a:ext cx="187164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"/>
          <p:cNvSpPr/>
          <p:nvPr/>
        </p:nvSpPr>
        <p:spPr>
          <a:xfrm>
            <a:off x="4068720" y="1773360"/>
            <a:ext cx="201600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2050920" y="2997360"/>
            <a:ext cx="0" cy="158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6084720" y="2997360"/>
            <a:ext cx="0" cy="1439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IDATIVE DEAMINATION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br>
              <a:rPr sz="24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LUTAMATE DEHYDROGEN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119640" cy="4427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Glutamate Dehydrogen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mino group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st amino aci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funneled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TA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y transamination 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ketogluta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TAM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nly amino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undergoes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xidative deamin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y glutamate dehydrogenase) to giv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ketoglutarate  &amp; ammo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mino Acids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 donate their amino group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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-ketoglutarate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 to produce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glutamate 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(Transa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Glutamate is oxi deamin. to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-ketoglutarate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 &amp;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mmonia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(by Glutamate dehydrogen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395280" y="3429000"/>
            <a:ext cx="8424720" cy="25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mino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ci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+          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ketoglutarat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mmonia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NS        AMINASE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LUTA MATE                       UREA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EHYDROGEN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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-keto aci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+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utamat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carbon Skele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etabo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ergy                  othe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cata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835280" y="2060640"/>
            <a:ext cx="950760" cy="1584360"/>
          </a:xfrm>
          <a:custGeom>
            <a:avLst/>
            <a:gdLst>
              <a:gd name="textAreaLeft" fmla="*/ 127080 w 950760"/>
              <a:gd name="textAreaRight" fmla="*/ 823680 w 95076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 flipH="1">
            <a:off x="2771640" y="1989000"/>
            <a:ext cx="1224000" cy="158436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1187280" y="4365720"/>
            <a:ext cx="0" cy="3585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1116000" y="5084640"/>
            <a:ext cx="2952720" cy="36036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"/>
          <p:cNvSpPr/>
          <p:nvPr/>
        </p:nvSpPr>
        <p:spPr>
          <a:xfrm flipH="1">
            <a:off x="900000" y="5084640"/>
            <a:ext cx="216000" cy="36216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"/>
          <p:cNvSpPr/>
          <p:nvPr/>
        </p:nvSpPr>
        <p:spPr>
          <a:xfrm flipV="1">
            <a:off x="6012000" y="1773360"/>
            <a:ext cx="503280" cy="1800000"/>
          </a:xfrm>
          <a:custGeom>
            <a:avLst/>
            <a:gdLst>
              <a:gd name="textAreaLeft" fmla="*/ 67320 w 503280"/>
              <a:gd name="textAreaRight" fmla="*/ 435960 w 50328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7740720" y="2060640"/>
            <a:ext cx="0" cy="28083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"/>
          <p:cNvSpPr/>
          <p:nvPr/>
        </p:nvSpPr>
        <p:spPr>
          <a:xfrm flipV="1">
            <a:off x="6443640" y="1989000"/>
            <a:ext cx="432000" cy="64800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6680" cy="1295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</a:rPr>
              <a:t>Removal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of Amino Group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from an Amino Acid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616720" cy="3816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197" name="Text Box 5"/>
          <p:cNvSpPr/>
          <p:nvPr/>
        </p:nvSpPr>
        <p:spPr>
          <a:xfrm>
            <a:off x="1692360" y="5805360"/>
            <a:ext cx="56880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oenzyme for glutamate dehydrogenase: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1332000" y="292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324000" y="2708280"/>
            <a:ext cx="113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-252360" y="4149720"/>
            <a:ext cx="21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ske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n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 flipH="1">
            <a:off x="1476000" y="450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6516720" y="2060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7885080" y="1844640"/>
            <a:ext cx="12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</a:rPr>
              <a:t>Synthesis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of an Amino Acid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from its carbon skeleton</a:t>
            </a:r>
            <a:br>
              <a:rPr sz="2400"/>
            </a:b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(reductive am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248000" cy="36482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206" name="Text Box 5"/>
          <p:cNvSpPr/>
          <p:nvPr/>
        </p:nvSpPr>
        <p:spPr>
          <a:xfrm>
            <a:off x="1332000" y="5805360"/>
            <a:ext cx="62643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oenzyme for glutamate dehydrogenase: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 flipV="1">
            <a:off x="1835280" y="450828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0" y="4365720"/>
            <a:ext cx="21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ske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n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 flipH="1">
            <a:off x="1476360" y="2924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97800" y="2708280"/>
            <a:ext cx="11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627280" y="620640"/>
            <a:ext cx="3303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bined Actions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ransaminas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&amp;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utamate Dehydrogens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574880" cy="49687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rection of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fter protein in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lutam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vel in liver is ele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s proceeds in direction of amin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 degradation &amp; formation of amm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llosteric Regulation of Glutamate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Dehydrogena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T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GTP are allosteric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nhibito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glutamate dehydrogen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D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GDP are allosteric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ctivat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glutamate dehydrogen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ergy in cell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glutamate degradation by glutamate dehydrogen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Energy production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from the carbon skeleton of amino aci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4427640" y="443700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4427640" y="3500280"/>
            <a:ext cx="0" cy="50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684360" y="2924280"/>
            <a:ext cx="8064360" cy="302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5796000" y="2997360"/>
            <a:ext cx="0" cy="64764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 flipV="1">
            <a:off x="8532720" y="3933720"/>
            <a:ext cx="0" cy="5032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D-amino acid oxid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-amino acids are found in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pla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ll walls of micro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d in synthesis of mammalian prot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-amino acids is available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die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rom pla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tabolized by D-amino acid oxidase (in liver)      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FAD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idative Deamination of D-amino aci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keto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amin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-amino acids           U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3059280" y="4365720"/>
            <a:ext cx="0" cy="358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5"/>
          <p:cNvSpPr/>
          <p:nvPr/>
        </p:nvSpPr>
        <p:spPr>
          <a:xfrm flipH="1">
            <a:off x="1692360" y="5157720"/>
            <a:ext cx="1295280" cy="21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2987640" y="5157720"/>
            <a:ext cx="1224000" cy="14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9"/>
          <p:cNvSpPr/>
          <p:nvPr/>
        </p:nvSpPr>
        <p:spPr>
          <a:xfrm>
            <a:off x="5003640" y="5516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68360" y="3933720"/>
            <a:ext cx="777564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3059280" y="4365720"/>
            <a:ext cx="3528720" cy="57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7236000" y="5516640"/>
            <a:ext cx="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92000" y="274680"/>
            <a:ext cx="5832360" cy="922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ansport of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mmon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to L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59220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50920" y="1628640"/>
            <a:ext cx="4105080" cy="41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in most t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mmo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uta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utam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ynt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ut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n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y blood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o li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utamin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utam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mm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7"/>
          <p:cNvSpPr/>
          <p:nvPr/>
        </p:nvSpPr>
        <p:spPr>
          <a:xfrm>
            <a:off x="1908000" y="4005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8"/>
          <p:cNvSpPr/>
          <p:nvPr/>
        </p:nvSpPr>
        <p:spPr>
          <a:xfrm>
            <a:off x="1908000" y="263700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9"/>
          <p:cNvSpPr/>
          <p:nvPr/>
        </p:nvSpPr>
        <p:spPr>
          <a:xfrm flipH="1">
            <a:off x="1403280" y="4941720"/>
            <a:ext cx="5047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1908000" y="4941720"/>
            <a:ext cx="576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" descr=""/>
          <p:cNvPicPr/>
          <p:nvPr/>
        </p:nvPicPr>
        <p:blipFill>
          <a:blip r:embed="rId1"/>
          <a:stretch/>
        </p:blipFill>
        <p:spPr>
          <a:xfrm>
            <a:off x="4356000" y="1557360"/>
            <a:ext cx="3384720" cy="4248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39" name="Line 14"/>
          <p:cNvSpPr/>
          <p:nvPr/>
        </p:nvSpPr>
        <p:spPr>
          <a:xfrm>
            <a:off x="3492360" y="1773360"/>
            <a:ext cx="223200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6084720" y="1052640"/>
            <a:ext cx="2283120" cy="53658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243" name="Text Box 5"/>
          <p:cNvSpPr/>
          <p:nvPr/>
        </p:nvSpPr>
        <p:spPr>
          <a:xfrm>
            <a:off x="179280" y="1197000"/>
            <a:ext cx="554508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 skeletal 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ransamination of pyruvate to form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la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lanine is transported in blood to 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 liver, alanine is converted to pyruvate &amp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mmonia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(by transa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yruvate can be converted to gluc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y gluconeogenesis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can enter the blood and us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k.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LUCOSE - ALANINE PATHWAY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Amino Acid P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 grams of a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Collected fro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ietary Proteins (by hydro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gradation of Tissue Prote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 novo synthesis of a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te of amino acids obtained by tissue protein hydro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5%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of amino acids            used t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ynthesiz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new prot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5%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of amino acids            metabo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                                          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precursor for other 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ompensated by dietary proteins ---- amino acids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1547640" y="5229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3132000" y="443700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 flipV="1">
            <a:off x="3203640" y="5013360"/>
            <a:ext cx="431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3203640" y="508464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Protein Turn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Protein turnover results from the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Verdana"/>
              </a:rPr>
              <a:t>simultaneous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synthesis &amp; degradation of tissue prot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The total amounts of protein in the body is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Verdana"/>
              </a:rPr>
              <a:t>constant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because the rate of protein </a:t>
            </a:r>
            <a:r>
              <a:rPr b="0" i="1" lang="en-US" sz="2000" spc="-1" strike="noStrike">
                <a:solidFill>
                  <a:srgbClr val="0000ff"/>
                </a:solidFill>
                <a:latin typeface="Verdana"/>
              </a:rPr>
              <a:t>synthesis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is just sufficient to replace the </a:t>
            </a:r>
            <a:r>
              <a:rPr b="0" i="1" lang="en-US" sz="2000" spc="-1" strike="noStrike">
                <a:solidFill>
                  <a:srgbClr val="0000ff"/>
                </a:solidFill>
                <a:latin typeface="Verdana"/>
              </a:rPr>
              <a:t>degraded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pro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Protein turnover leads to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Verdana"/>
              </a:rPr>
              <a:t>hydrolysis &amp; synthesis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of 300-400 grams of body protein each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Rate of Protein Turn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hort-lived prote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inutes – hours half-lif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as many regulatory proteins &amp; misfolded protei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Long-lived prote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ys – weeks half-lif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majority of proteins in the c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tructural prote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nths – years half-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as collage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Protein Degra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29840" y="1483920"/>
            <a:ext cx="8713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Two Major Enzym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Ubiquitin-proteasome mechani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ergy-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inly fo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dogenous protein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proteins synthesized within the c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Lysosomes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n-energy-depe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fo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xtracellular protein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plasma proteins that are taken into cells by endocy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cell surface membrane proteins: for receptor-mediated endocy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biquitin-proteasome path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2987640" y="1413000"/>
            <a:ext cx="2948040" cy="5040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07:00:55Z</dcterms:created>
  <dc:creator>Sherif</dc:creator>
  <dc:description/>
  <dc:language>en-US</dc:language>
  <cp:lastModifiedBy>es</cp:lastModifiedBy>
  <dcterms:modified xsi:type="dcterms:W3CDTF">2009-05-03T10:25:11Z</dcterms:modified>
  <cp:revision>375</cp:revision>
  <dc:subject/>
  <dc:title>Overview</dc:title>
</cp:coreProperties>
</file>