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9.png" ContentType="image/png"/>
  <Override PartName="/ppt/media/image18.wmf" ContentType="image/x-wmf"/>
  <Override PartName="/ppt/media/image3.jpeg" ContentType="image/jpeg"/>
  <Override PartName="/ppt/media/image16.wmf" ContentType="image/x-wmf"/>
  <Override PartName="/ppt/media/image15.wmf" ContentType="image/x-wmf"/>
  <Override PartName="/ppt/media/image1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485A-5DA0-47ED-A549-299C9101B4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293-4864-4F95-9395-944233E787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94F-D7D4-4E30-9208-B7DAAC3362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AE37-A080-4ADB-97A4-0C6150BAC2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D5F-9585-4969-9983-752D3096F7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8FB8-0ED6-4B93-97A9-44A3968EA9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108B-A72F-45CA-8DDE-FA1CFE3203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543C-9473-4586-BAD9-584185F7D7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1154-3864-40AA-B8E4-8CA398B1B1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4514-9BF0-4D71-8430-D29F70C6DA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7B6F-F1AE-4550-A6A8-3904B5C4B2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F48E-2B6F-4F7A-B32A-97345E96EC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4391-4DBA-4983-9E17-9E7EB23140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9830-A4DC-4B08-BD40-33731F4864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A41-E7F8-4A7A-B8FD-497D26FB32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E786-E5CD-4570-821A-E9D3014CCC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6000-54F8-4DCA-9CD3-9D38ADAE8B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D9AF-AF62-4E1A-90E5-F1B56BF4FAF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C1C3-D163-4D49-B073-4874BEB54F1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AE37-CC83-466A-9288-88170BE438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2F1D-9830-42CF-95D6-6E6FA08E2E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587F-0DB1-4800-94E0-B85CE22B49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EFE-1E1E-4DA1-A346-DF7D7E7A955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13DC-BBC1-46CF-9A02-6ECDAEE75A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CC2F-B30B-4CE7-B803-F1B9FBDEFB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A23-9361-4748-8823-8C3D7A3FB8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9036-B2A4-46C6-88F3-C608C42B74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156F-DF81-4C2B-A15A-52A6662543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C618-5049-4150-82E3-C23ADCED37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56F9-4875-4494-AE4F-1143606B9E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BEC0-8DE0-4599-8A6F-3FC3070EF4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5183-4629-495A-BEF5-FA14E44915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A1A0-1C4B-4B09-9074-5152EBCF54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36E4-16DF-4D5E-89CE-19DAD2B9F1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AB6C-641C-4630-BA46-A4CAC5781D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5D8E-CCD1-4BE1-ACC1-9247FECA60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0029-6ABF-4AC7-89E2-FF7B85CF08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3495-4B98-40CD-BB04-4D9288A7F6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DE4-555B-4B95-A14C-B509B207DC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2D08-AA94-4AF5-A9F0-4BBEC404B8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FBDD-5BBD-45B8-B2ED-97834760EA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F45-2E75-43EC-92B3-AC94DE285D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BDD1-36B1-48B8-8477-26C37E7F35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930C-C85E-421C-9C7B-FE0E1D3883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335F-C3E6-48FA-9717-637A3C359D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685F-5B93-4324-AF8F-1DAE8F266A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D54-9297-4684-95B9-AEC43032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E19-1CB9-4E46-A741-8A923F13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40D-C530-4C4F-B030-FE2FE8BE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B10-C33C-4815-82A4-D78E346A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085-E560-4B3A-8842-A3319553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00A-1E42-45FD-8077-45E90A19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6EE-82A0-4979-ABB4-91B89ACA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A74-F64A-4D41-AE64-ECDBA424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15F-75B4-4488-9DF0-B34B7A83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73D-11BC-4DE7-9B8D-47FFC6EB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DC2-0757-4940-9DA9-CA2C059E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F50-901C-47F5-B38A-6460D344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8816-714E-4E6C-BA8F-477C3FDDD9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229600" cy="187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Amino Acids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Disposal of Nitro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echanism of action of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biquitin-proteas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tein is covalently attached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biquiti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small globular 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ore ubiquitin is added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lyubiquitin chai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protein is tagged with ubiqui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biquitin-tagged protei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recognized by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teasom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proteolytic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aso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uts the target protein into fra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requires A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ragments are cut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specific proteas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797960" cy="935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emical Signals for Protein Degra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tein degradation  is influenced by som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ructural aspect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half-life of a protein is influenced by the nature of the N-termin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sid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ng-lived proteins (half-life is more than 20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par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ort-lived (half-life is about 3 min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teins  rich sequence contai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pidly degraded (i.e. with short half-lif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PEST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sequence: proline, glutamate, serine &amp; threo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Digestion of Dietary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ost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nitrogen in di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consumed in the form of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Dietary protein/day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  70 – 1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etary proteins must be hydrolyzed to amino acids by proteoly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roteolytic enzym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re produced by three different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9_004"/>
          <p:cNvPicPr/>
          <p:nvPr/>
        </p:nvPicPr>
        <p:blipFill>
          <a:blip r:embed="rId1"/>
          <a:stretch/>
        </p:blipFill>
        <p:spPr>
          <a:xfrm>
            <a:off x="1547640" y="549360"/>
            <a:ext cx="58388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- Digestion of Proteins By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Gastric 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astric secretions co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ydrochloric Aci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- pH 2 – 3 (for activation pepsino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kills some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denature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epsi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ecret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s peopsinogen (inactive zymo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ctivat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to pepsin by Hcl or autocatalytically by 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roduct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f hydrolysis of proteins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ptides +     few free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oligo- + poly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358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gestion of Proteins by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Pancreatic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n entering the small intesti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ancreatic Proteas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arge polypeptides are further cleaved to oligopeptides &amp; free amino ac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TE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creted as inactive zymogen from pancreatic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ecretion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of zymog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s mediated by the secretion of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cholecystokinin &amp; secretin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(polypeptide hormones of G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Activation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of zymog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y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enteropeptidase (enterokinase)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enzyme present on the luminal surface of intestinal mucosal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verts trypsinogen to trypsin (by removal of hexapeptide from trypsino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ypsin converts other trypsinogen molecules  to tryp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ypsin activates all other pancreatic zymogens (chymotrypsinogen, proelastase &amp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carboxypeptid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pecificity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ypsin: cleaves when the carbonyl group of the peptide bond i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ed by argenine or lys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9_005"/>
          <p:cNvPicPr/>
          <p:nvPr/>
        </p:nvPicPr>
        <p:blipFill>
          <a:blip r:embed="rId1"/>
          <a:stretch/>
        </p:blipFill>
        <p:spPr>
          <a:xfrm>
            <a:off x="826920" y="102888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Abnormalities in Protein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eficiency of pancreatic secretion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ccurs due to chronic pancreatitis, cystic fibrosis 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urgical removal of the panc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gestion &amp; absorption of fat &amp; protein is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bnormal appearance of lipids (steatorrohea) &amp; undigested protein in f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minopeptid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n the luminal surface of the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- is an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exopeptid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- cleaves the N-terminal residue from oligopeptide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o produce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ree amino acid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&amp;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maller 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95280" y="549000"/>
            <a:ext cx="842472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gestion of oligopeptides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y enzymes of the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Small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31160" cy="92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ransport of Amino acids into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vement of a.a. to cells is performed by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ve transpor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(requires A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Seven different transport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ith overlapping specificity for different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example: cystine, ornithine, argenine &amp; lysine are transported in  kidney tubul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 one transp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stinu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herited disease , one of the most common inherited d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: 7000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fective carrier system for these 4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ppearance of all 4 amino acids in the 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cipitation of cystine to form kidney stones (may block urinary tr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1247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ino acids are not stored in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o,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ino Acids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must b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obtained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fr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1-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2-Synthesized de n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3-produced from normal protein degradation (turno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ino Acids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in excess of biosynthetic needs of the cel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stored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ut: rapidly degraded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first step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: removal of th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min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roup              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-keto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(of a.a.)            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m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c. in urine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6227640" y="450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6227640" y="4508640"/>
            <a:ext cx="648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6227640" y="5300640"/>
            <a:ext cx="1368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7596360" y="5300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3600720" cy="547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Removal of Nitrogen from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emoving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-amino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Essential for producing energy from any amin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n obligatory step for the catabolism of all 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9"/>
          <p:cNvGrpSpPr/>
          <p:nvPr/>
        </p:nvGrpSpPr>
        <p:grpSpPr>
          <a:xfrm>
            <a:off x="250920" y="981000"/>
            <a:ext cx="8427960" cy="4032360"/>
            <a:chOff x="250920" y="981000"/>
            <a:chExt cx="8427960" cy="4032360"/>
          </a:xfrm>
        </p:grpSpPr>
        <p:pic>
          <p:nvPicPr>
            <p:cNvPr id="113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981000"/>
              <a:ext cx="39639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4143600" y="982440"/>
              <a:ext cx="453528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"/>
            <p:cNvPicPr/>
            <p:nvPr/>
          </p:nvPicPr>
          <p:blipFill>
            <a:blip r:embed="rId3"/>
            <a:stretch/>
          </p:blipFill>
          <p:spPr>
            <a:xfrm>
              <a:off x="250920" y="3141720"/>
              <a:ext cx="38894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"/>
            <p:cNvPicPr/>
            <p:nvPr/>
          </p:nvPicPr>
          <p:blipFill>
            <a:blip r:embed="rId4"/>
            <a:stretch/>
          </p:blipFill>
          <p:spPr>
            <a:xfrm>
              <a:off x="4067280" y="3141720"/>
              <a:ext cx="46083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Text Box 9"/>
          <p:cNvSpPr/>
          <p:nvPr/>
        </p:nvSpPr>
        <p:spPr>
          <a:xfrm>
            <a:off x="1258920" y="5516640"/>
            <a:ext cx="68421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ino Ac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543120" cy="4330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987640" y="5734080"/>
            <a:ext cx="34560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mino Acid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aminatio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br>
              <a:rPr sz="40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val of amino group (nitro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mino group                  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(nitrogen)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               skele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-ketoac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ncorpo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other                 excreted         catabolised           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ompounds                                                       of other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(e.g. u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energy                                 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 flipH="1">
            <a:off x="1115640" y="335772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124000" y="3357720"/>
            <a:ext cx="1008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5003640" y="3357720"/>
            <a:ext cx="72072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5724360" y="3357720"/>
            <a:ext cx="12258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410920" y="1844640"/>
            <a:ext cx="201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427640" y="1844640"/>
            <a:ext cx="143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485928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4284720" y="2133720"/>
            <a:ext cx="295272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611280" y="2133720"/>
            <a:ext cx="2881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amination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mino group (nitrogen) is removed from an amino acid by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ransamin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AMIN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xidative Deam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TAMATE DEHYDROGE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93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Transa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671640" cy="4525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468360" y="1413000"/>
            <a:ext cx="55450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Funneling of amino groups to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glut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316080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59280" y="2421000"/>
            <a:ext cx="518472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-ketoglutarate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accepts the amino group from amino acids to becom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gluta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y: aminotransferases (transamin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Glutamate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Oxidat. Deam      ammonia    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urea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ives amino group to oxalacetat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roduce aspartate---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urea cycle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i="1" lang="en-US" sz="1600" spc="-1" strike="noStrike">
                <a:solidFill>
                  <a:srgbClr val="0000f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ives amino group to carbon skeleton 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roduce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new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All amino acids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(with the 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exception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lysine &amp; threonine) participate in trans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3276360" y="2637000"/>
            <a:ext cx="71892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H="1">
            <a:off x="3419280" y="3716280"/>
            <a:ext cx="64764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1547280" y="1844640"/>
            <a:ext cx="1008360" cy="1152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601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752472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strate Specificity of Aminotransfe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inotransfer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specific for one or few group of d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inotransferas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s named after the specific amino group donor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ino acid that donates its amino group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2 most important aminotransfe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- alanine aminotransferas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- aspartate aminotranspeptidas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2440" cy="1157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L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ine Amino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ransferase (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LT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amp;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S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artate Amino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ransferase (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ST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5688000" cy="511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8" name="Line 5"/>
          <p:cNvSpPr/>
          <p:nvPr/>
        </p:nvSpPr>
        <p:spPr>
          <a:xfrm>
            <a:off x="2050920" y="364500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0" y="1628640"/>
            <a:ext cx="2014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REA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1979640" y="61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6372360" y="3716280"/>
            <a:ext cx="720720" cy="1008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1979640" y="2205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8244000" y="61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8820000" y="2133720"/>
            <a:ext cx="0" cy="4032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8028000" y="213372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chanism of Action of Aminotransfe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672000" cy="452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nthesis of proteins                          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&amp; other compounds</a:t>
            </a:r>
            <a:br>
              <a:rPr sz="2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Ket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rbon skeleton)                  (nitrogen of a.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cose         Fatty acids           other        exc. In urine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etone Bodies    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ycogen                                                                                   exc. in 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ERG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 flipH="1">
            <a:off x="1908000" y="2852640"/>
            <a:ext cx="244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356000" y="285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1979280" y="522936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826920" y="4941720"/>
            <a:ext cx="115272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1763640" y="4149720"/>
            <a:ext cx="7938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900000" y="414972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5292360" y="4221000"/>
            <a:ext cx="934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6227640" y="422100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V="1">
            <a:off x="2843280" y="1268280"/>
            <a:ext cx="43344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2843280" y="1700280"/>
            <a:ext cx="64908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1763640" y="4149720"/>
            <a:ext cx="201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 flipH="1">
            <a:off x="684360" y="4941720"/>
            <a:ext cx="142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95280" y="189000"/>
            <a:ext cx="259236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grad. of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 novo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1187280" y="1197000"/>
            <a:ext cx="48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7308720" y="49417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qulibrium of Transamin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quilibrium constant : ~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owing the reaction to function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fter protein-rich m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ino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gra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removal of amino group from amino acid        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keto ac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pply of amino acids from diet is not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ino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synthesi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ddition of amino group to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keto acid          amino ac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4500720" y="3068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4572000" y="5013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5940360" y="587700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6012000" y="39337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187280" y="2708280"/>
            <a:ext cx="684072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187280" y="4653000"/>
            <a:ext cx="684072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agnostic Value of Plasma Aminotransf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4560" y="1844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Aminotransferases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 are normall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racellular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Plasma contains low levels of aminotransferases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presenting release of cellular contents during normal cell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Elevated plasma levels of aminotransferase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ndicat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damage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to cells rich in these 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(as physical trauma or disease to 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lasm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AST &amp; ALT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are of particula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diagnostic value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liver disease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lasma ALT &amp; AST are elevated in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nearly all liver diseases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ut, particularly high in conditions that caus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ell necrosis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ral hepa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oxic 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rolonged circulatory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LT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i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ore specific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for liver disease than 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ST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i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ore sensitive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(as liver contains a large amount of 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2-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Nonhepatic disease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: myocardial infar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le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se disorders can be distinguished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linically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from liver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agnostic Value of Plasma Aminotransf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351640" cy="1224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xidative deamination of amino acids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y: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Glutamate Dehydrogenase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23320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aminatio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tamat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tamate dehydrogen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results in liberation of the amino group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ree amm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i.e. no transfer of amino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ver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&amp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idney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but can occur in other cells of the b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xi Deamin. Of Glutamate provid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-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ketoglutarat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can be reused for transamination of a.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re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rea cycle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5148360" y="5300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277164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UTAMATE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from transa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tamate                           oxi. deamin.  (liver &amp; kidney (mainly) &amp; ot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hydroge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monia                    a-ketoglut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ea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ea            used for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ranas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f a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123640" y="1773360"/>
            <a:ext cx="187164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4068720" y="1773360"/>
            <a:ext cx="201600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2050920" y="2997360"/>
            <a:ext cx="0" cy="158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6084720" y="299736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IDATIVE DEAMINATION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LUTAMATE DEHYDROGE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19640" cy="4427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Glutamate Dehydroge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ino group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st amino aci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funneled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T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transamination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ketogluta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TAM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ly amino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undergoe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xidative deam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y glutamate dehydrogenase) to giv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ketoglutarate  &amp; amm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ino Acids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donate their amino gro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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-ketoglutarate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to produc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glutamate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(Transa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Glutamate is oxi deamin. to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-ketoglutarate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&amp;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monia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(by Glutamate dehydrogen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95280" y="3429000"/>
            <a:ext cx="842472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mino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ci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+      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ketoglutara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mmoni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        AMINASE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LUTA MATE                       UREA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-keto aci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+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tama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carbon Skele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tabo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ergy                 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ata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835280" y="2060640"/>
            <a:ext cx="950760" cy="1584360"/>
          </a:xfrm>
          <a:custGeom>
            <a:avLst/>
            <a:gdLst>
              <a:gd name="textAreaLeft" fmla="*/ 127080 w 950760"/>
              <a:gd name="textAreaRight" fmla="*/ 823680 w 9507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 flipH="1">
            <a:off x="2771640" y="1989000"/>
            <a:ext cx="1224000" cy="158436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1187280" y="4365720"/>
            <a:ext cx="0" cy="358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1116000" y="5084640"/>
            <a:ext cx="2952720" cy="36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900000" y="5084640"/>
            <a:ext cx="216000" cy="36216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 flipV="1">
            <a:off x="6012000" y="1773360"/>
            <a:ext cx="503280" cy="1800000"/>
          </a:xfrm>
          <a:custGeom>
            <a:avLst/>
            <a:gdLst>
              <a:gd name="textAreaLeft" fmla="*/ 67320 w 503280"/>
              <a:gd name="textAreaRight" fmla="*/ 435960 w 503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7740720" y="2060640"/>
            <a:ext cx="0" cy="280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6443640" y="1989000"/>
            <a:ext cx="432000" cy="648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6680" cy="1295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Removal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of Amino Group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om an Amino Acid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3816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97" name="Text Box 5"/>
          <p:cNvSpPr/>
          <p:nvPr/>
        </p:nvSpPr>
        <p:spPr>
          <a:xfrm>
            <a:off x="1692360" y="5805360"/>
            <a:ext cx="568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oenzyme for glutamate dehydrogenase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3200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24000" y="2708280"/>
            <a:ext cx="113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252360" y="4149720"/>
            <a:ext cx="21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ske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n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 flipH="1">
            <a:off x="1476000" y="450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6516720" y="2060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7885080" y="1844640"/>
            <a:ext cx="12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Synthesi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of an Amino Aci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om its carbon skeleton</a:t>
            </a: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(reductive a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248000" cy="36482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1332000" y="5805360"/>
            <a:ext cx="6264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oenzyme for glutamate dehydrogenase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 flipV="1">
            <a:off x="1835280" y="450828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0" y="4365720"/>
            <a:ext cx="21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ske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n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 flipH="1">
            <a:off x="1476360" y="2924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97800" y="270828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3303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bined Actions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ransaminas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utamate Dehydrogen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574880" cy="4968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rection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fter protein i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lutam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 in liver is ele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proceeds in direction of amin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degradation &amp; formation of 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llosteric Regulation of Glutamate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ehydrogena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GTP are allosteric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nhibi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GDP are allosteric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ctiva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in cell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glutamate degradation by glutamate dehydrogen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Energy production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from the carbon skeleton of amino ac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4427640" y="443700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4427640" y="3500280"/>
            <a:ext cx="0" cy="50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684360" y="2924280"/>
            <a:ext cx="8064360" cy="302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5796000" y="2997360"/>
            <a:ext cx="0" cy="647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V="1">
            <a:off x="8532720" y="3933720"/>
            <a:ext cx="0" cy="5032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D-amino acid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amino acids are found in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walls of micro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in synthesis of mammalian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amino acids is available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die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om pl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tabolized by D-amino acid oxidase (in liver)      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A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Deamination of D-amino ac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ket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min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-amino acids          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3059280" y="4365720"/>
            <a:ext cx="0" cy="358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 flipH="1">
            <a:off x="1692360" y="5157720"/>
            <a:ext cx="129528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2987640" y="5157720"/>
            <a:ext cx="122400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5003640" y="551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68360" y="3933720"/>
            <a:ext cx="777564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3059280" y="4365720"/>
            <a:ext cx="352872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7236000" y="551664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5832360" cy="92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nsport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mmon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o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2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50920" y="1628640"/>
            <a:ext cx="410508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in most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nt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n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 blood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o l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mi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m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1908000" y="4005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1908000" y="2637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 flipH="1">
            <a:off x="1403280" y="494172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1908000" y="4941720"/>
            <a:ext cx="576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3384720" cy="424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39" name="Line 14"/>
          <p:cNvSpPr/>
          <p:nvPr/>
        </p:nvSpPr>
        <p:spPr>
          <a:xfrm>
            <a:off x="3492360" y="1773360"/>
            <a:ext cx="22320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084720" y="1052640"/>
            <a:ext cx="2283120" cy="5365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243" name="Text Box 5"/>
          <p:cNvSpPr/>
          <p:nvPr/>
        </p:nvSpPr>
        <p:spPr>
          <a:xfrm>
            <a:off x="179280" y="1197000"/>
            <a:ext cx="5545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 skeletal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ansamination of pyruvate to for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a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anine is transported in blood to 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 liver, alanine is converted to pyruvate &amp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(by transa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yruvate can be converted to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 gluconeogenesi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can enter the blood and us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k.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 - ALANINE PATHWAY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Amino Acid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grams of a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Collect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etary Proteins (by hydro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gradation of Tissue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 novo synthesis of a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te of amino acids obtained by tissue protein hydro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5%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of amino acids            used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nthesiz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new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%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of amino acids            metabo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recursor for other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ompensated by dietary proteins ---- amino acids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547640" y="5229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3132000" y="4437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203640" y="501336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3203640" y="508464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Protein Turn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tein turnover results from the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</a:rPr>
              <a:t>simultaneou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synthesis &amp; degradation of tissue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The total amounts of protein in the body is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</a:rPr>
              <a:t>constant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because the rate of protein </a:t>
            </a:r>
            <a:r>
              <a:rPr b="0" i="1" lang="en-US" sz="2000" spc="-1" strike="noStrike">
                <a:solidFill>
                  <a:srgbClr val="0000ff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is just sufficient to replace the </a:t>
            </a:r>
            <a:r>
              <a:rPr b="0" i="1" lang="en-US" sz="2000" spc="-1" strike="noStrike">
                <a:solidFill>
                  <a:srgbClr val="0000ff"/>
                </a:solidFill>
                <a:latin typeface="Verdana"/>
              </a:rPr>
              <a:t>degrad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tein turnover leads to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</a:rPr>
              <a:t>hydrolysis &amp; synthesi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of 300-400 grams of body protein each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Rate of Protein Turn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hort-lived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nutes – hours half-lif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s many regulatory proteins &amp; misfolded prote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Long-lived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ys – weeks half-lif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majority of proteins in the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tructural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nths – years half-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s collag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Protein Degra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9840" y="148392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wo Major Enzy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Ubiquitin-proteasome mecha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inly f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dogenous protei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proteins synthesized within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Lysosomes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energy-dep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f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tracellular protei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plasma proteins that are taken into cells by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cell surface membrane proteins: for receptor-mediated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biquitin-proteasom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2948040" cy="504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00:55Z</dcterms:created>
  <dc:creator>Sherif</dc:creator>
  <dc:description/>
  <dc:language>en-US</dc:language>
  <cp:lastModifiedBy>es</cp:lastModifiedBy>
  <dcterms:modified xsi:type="dcterms:W3CDTF">2009-05-03T10:25:11Z</dcterms:modified>
  <cp:revision>375</cp:revision>
  <dc:subject/>
  <dc:title>Overview</dc:title>
</cp:coreProperties>
</file>