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B09A-9046-437E-B370-BC3B1E2CF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5CEB-C2E3-44BD-B096-C16AC0B6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AB2-43EF-4547-A419-54C8EFBDC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948-86F7-4086-B9AD-EB545818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7BE-916F-41DB-B77B-746F5296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79E-C2DF-4D5B-8673-C17EF866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5CD-7A99-430A-B2C8-E8BD05ED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66F-B688-4D89-8AE6-531B8E96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DF4-0994-4660-9D10-237D5AFF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ED5-D912-41D0-88B2-ADF2BC8A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D78-D7ED-4756-9234-CEFCCC71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32A-9246-4EDA-A14E-8C413F2D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14D-C0B4-4D44-8292-ED891E6F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43E-16B7-4A23-A55B-B3C4199D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DD7-A814-430A-B5E4-0113F91E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277F-DBCF-4880-B1A3-4A310D778B9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Impact"/>
              </a:rPr>
              <a:t>Glucose Transpor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04920" y="1149480"/>
            <a:ext cx="853416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Tissue-specific expression patter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BCs and 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er, kidney &amp; panc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T-4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dipose tissue &amp; skelet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 intestine &amp;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er (ER-membra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Functio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1, 3 &amp;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cose uptake from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 &amp; cells (either dir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uctose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50292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A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76320" y="1523880"/>
            <a:ext cx="89154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Glycolysis, the major pathway for glucose oxidation, occurs in the cytosol of all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is unique, in that it can function either aerobically or anaerobically, depending on the availability of oxygen and intact mitochond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allows tissues to survive in presence or absence of oxygen, e.g., skeletal mus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BCs, which lack mitochondria, are completely reliant on glucose as their metabolic fuel, and metabolizes it by anaerobic glyco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My Documents\My Pictures\08_001.jpg"/>
          <p:cNvPicPr/>
          <p:nvPr/>
        </p:nvPicPr>
        <p:blipFill>
          <a:blip r:embed="rId1"/>
          <a:srcRect l="15833" t="3703" r="15001" b="16048"/>
          <a:stretch/>
        </p:blipFill>
        <p:spPr>
          <a:xfrm>
            <a:off x="1523880" y="1676520"/>
            <a:ext cx="63248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5029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C:\My Documents\My Pictures\08_015.jpg"/>
          <p:cNvPicPr/>
          <p:nvPr/>
        </p:nvPicPr>
        <p:blipFill>
          <a:blip r:embed="rId1"/>
          <a:srcRect l="10981" t="2412" r="10272" b="13255"/>
          <a:stretch/>
        </p:blipFill>
        <p:spPr>
          <a:xfrm>
            <a:off x="3048120" y="1371600"/>
            <a:ext cx="3504960" cy="533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C:\My Documents\My Pictures\08_016.jpg"/>
          <p:cNvPicPr/>
          <p:nvPr/>
        </p:nvPicPr>
        <p:blipFill>
          <a:blip r:embed="rId1"/>
          <a:srcRect l="15476" t="2507" r="13096" b="15352"/>
          <a:stretch/>
        </p:blipFill>
        <p:spPr>
          <a:xfrm>
            <a:off x="25146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: 3-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11480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6 -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2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694440" y="2971800"/>
            <a:ext cx="189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st 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Hepat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Major Metabolic Pathways of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125240" y="295272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58360" y="4230720"/>
            <a:ext cx="6267600" cy="64260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Impact"/>
              </a:rPr>
              <a:t>Amr S. Moustafa, MD, Ph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6760" y="4952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linical Chemistry Unit, Patholog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My Documents\My Pictures\08_016.jpg"/>
          <p:cNvPicPr/>
          <p:nvPr/>
        </p:nvPicPr>
        <p:blipFill>
          <a:blip r:embed="rId1"/>
          <a:srcRect l="15476" t="2507" r="13096" b="42734"/>
          <a:stretch/>
        </p:blipFill>
        <p:spPr>
          <a:xfrm>
            <a:off x="4191120" y="213372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PFK-1 : Reg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-74160" y="2614680"/>
            <a:ext cx="4423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262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Allosteric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hibited: ATP &amp; c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Stimulated: AMP &amp; F2,6 bi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2626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3767040" y="341460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My Documents\My Pictures\08_016.jpg"/>
          <p:cNvPicPr/>
          <p:nvPr/>
        </p:nvPicPr>
        <p:blipFill>
          <a:blip r:embed="rId1"/>
          <a:srcRect l="15476" t="25004" r="13096" b="15476"/>
          <a:stretch/>
        </p:blipFill>
        <p:spPr>
          <a:xfrm>
            <a:off x="2057400" y="1905120"/>
            <a:ext cx="5029200" cy="4190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ldolase and Triose Isome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eraldehy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3-Phosphate Dehydroge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245880" y="2666880"/>
            <a:ext cx="519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wo NADH are produc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For each NADH, 3 ATP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be produced by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.e., 6 ATP are produc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his reaction of aerobic 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C:\My Documents\My Pictures\08_018.jpg"/>
          <p:cNvPicPr/>
          <p:nvPr/>
        </p:nvPicPr>
        <p:blipFill>
          <a:blip r:embed="rId1"/>
          <a:srcRect l="35002" t="2040" r="41963" b="71298"/>
          <a:stretch/>
        </p:blipFill>
        <p:spPr>
          <a:xfrm>
            <a:off x="5411880" y="2514600"/>
            <a:ext cx="3274920" cy="309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5375520" y="316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643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42320" y="37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14708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hosphoglycer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C:\My Documents\My Pictures\08_018.jpg"/>
          <p:cNvPicPr/>
          <p:nvPr/>
        </p:nvPicPr>
        <p:blipFill>
          <a:blip r:embed="rId1"/>
          <a:srcRect l="35002" t="20018" r="46291" b="53668"/>
          <a:stretch/>
        </p:blipFill>
        <p:spPr>
          <a:xfrm>
            <a:off x="3192480" y="2305080"/>
            <a:ext cx="3276720" cy="3762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3143520" y="314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15756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037200" y="3595680"/>
            <a:ext cx="259092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27080" y="3753000"/>
            <a:ext cx="36493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hosphoglycerate 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reaction of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303880" y="36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03880" y="43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My Documents\My Pictures\08_018.jpg"/>
          <p:cNvPicPr/>
          <p:nvPr/>
        </p:nvPicPr>
        <p:blipFill>
          <a:blip r:embed="rId1"/>
          <a:srcRect l="34170" t="63267" r="35835" b="15309"/>
          <a:stretch/>
        </p:blipFill>
        <p:spPr>
          <a:xfrm>
            <a:off x="2548080" y="2819520"/>
            <a:ext cx="4309920" cy="2514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4114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094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30499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880" y="236232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 flipH="1">
            <a:off x="2057400" y="3559320"/>
            <a:ext cx="990720" cy="609480"/>
          </a:xfrm>
          <a:custGeom>
            <a:avLst/>
            <a:gdLst>
              <a:gd name="textAreaLeft" fmla="*/ 132480 w 990720"/>
              <a:gd name="textAreaRight" fmla="*/ 858240 w 9907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319640" y="35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49960" y="405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5026320" y="4896000"/>
            <a:ext cx="3807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yruvate kinase re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My Documents\My Pictures\08_019.jpg"/>
          <p:cNvPicPr/>
          <p:nvPr/>
        </p:nvPicPr>
        <p:blipFill>
          <a:blip r:embed="rId1"/>
          <a:srcRect l="10845" t="2064" r="15667" b="16324"/>
          <a:stretch/>
        </p:blipFill>
        <p:spPr>
          <a:xfrm>
            <a:off x="5181480" y="1981080"/>
            <a:ext cx="371808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Regulation: 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27960" y="1973160"/>
            <a:ext cx="4642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losteric Regu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eed-forward by F1,6 bi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valent Mod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ctive pyruvate 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phospho-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duction/Re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4648320" y="249228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My Documents\My Pictures\08_020.jpg"/>
          <p:cNvPicPr/>
          <p:nvPr/>
        </p:nvPicPr>
        <p:blipFill>
          <a:blip r:embed="rId1"/>
          <a:srcRect l="23960" t="2545" r="22918" b="14718"/>
          <a:stretch/>
        </p:blipFill>
        <p:spPr>
          <a:xfrm>
            <a:off x="2666880" y="1752480"/>
            <a:ext cx="3886200" cy="4953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Metabolic Path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75840" y="1676520"/>
            <a:ext cx="8610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ellular (tissue) and Subcel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te-limiting enzym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ovalen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05840" y="2468520"/>
            <a:ext cx="86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Metabolic Pathways of Glucose: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Production and Ut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663360" y="3652920"/>
            <a:ext cx="1180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837720" y="53038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lyc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065040" y="25146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ucone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725080" y="22096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xose inter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08760" y="22096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ycogen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504600" y="46483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432960" y="56386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Kreb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6534720" y="47242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MP/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5801400" y="52578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exose inter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Straight Arrow Connector 19"/>
          <p:cNvCxnSpPr/>
          <p:nvPr/>
        </p:nvCxnSpPr>
        <p:spPr>
          <a:xfrm flipH="1">
            <a:off x="4263840" y="4192560"/>
            <a:ext cx="2160" cy="534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" name="Straight Arrow Connector 20"/>
          <p:cNvCxnSpPr/>
          <p:nvPr/>
        </p:nvCxnSpPr>
        <p:spPr>
          <a:xfrm flipH="1">
            <a:off x="4265280" y="2971800"/>
            <a:ext cx="2160" cy="5342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67" name="Straight Arrow Connector 21"/>
          <p:cNvCxnSpPr/>
          <p:nvPr/>
        </p:nvCxnSpPr>
        <p:spPr>
          <a:xfrm flipH="1">
            <a:off x="4265280" y="5167080"/>
            <a:ext cx="2160" cy="5338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>
            <a:off x="4495320" y="4190760"/>
            <a:ext cx="2057760" cy="610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9" name="Straight Arrow Connector 24"/>
          <p:cNvCxnSpPr/>
          <p:nvPr/>
        </p:nvCxnSpPr>
        <p:spPr>
          <a:xfrm flipH="1">
            <a:off x="2285280" y="4190040"/>
            <a:ext cx="1600920" cy="99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0" name="Straight Arrow Connector 27"/>
          <p:cNvCxnSpPr/>
          <p:nvPr/>
        </p:nvCxnSpPr>
        <p:spPr>
          <a:xfrm>
            <a:off x="4481640" y="4190760"/>
            <a:ext cx="129600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1" name="Straight Arrow Connector 30"/>
          <p:cNvCxnSpPr/>
          <p:nvPr/>
        </p:nvCxnSpPr>
        <p:spPr>
          <a:xfrm flipH="1">
            <a:off x="4571280" y="2742120"/>
            <a:ext cx="1600920" cy="762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>
            <a:off x="2133720" y="2742840"/>
            <a:ext cx="1753200" cy="762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73" name="Straight Connector 44"/>
          <p:cNvSpPr/>
          <p:nvPr/>
        </p:nvSpPr>
        <p:spPr>
          <a:xfrm>
            <a:off x="4849920" y="3884760"/>
            <a:ext cx="3989160" cy="1440"/>
          </a:xfrm>
          <a:prstGeom prst="line">
            <a:avLst/>
          </a:prstGeom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46"/>
          <p:cNvSpPr/>
          <p:nvPr/>
        </p:nvSpPr>
        <p:spPr>
          <a:xfrm flipH="1" flipV="1">
            <a:off x="228240" y="3809880"/>
            <a:ext cx="3429000" cy="74880"/>
          </a:xfrm>
          <a:prstGeom prst="line">
            <a:avLst/>
          </a:prstGeom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7"/>
          <p:cNvSpPr/>
          <p:nvPr/>
        </p:nvSpPr>
        <p:spPr>
          <a:xfrm>
            <a:off x="7244640" y="3352680"/>
            <a:ext cx="1637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4"/>
          <p:cNvSpPr/>
          <p:nvPr/>
        </p:nvSpPr>
        <p:spPr>
          <a:xfrm>
            <a:off x="235080" y="3957480"/>
            <a:ext cx="155520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Metabolic Pathways of Glucose: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Catabolic and Anabo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456480" y="2743200"/>
            <a:ext cx="41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atabol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Glycolys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Mai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Kreb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Mai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Glycogen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H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4675680" y="2743200"/>
            <a:ext cx="360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nabol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uconeo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yco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49568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Glycogenesis and Glycogen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99320" y="2286000"/>
            <a:ext cx="825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Synthesis of glycogen from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Mainly liver and muscle, Cyto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o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gradation of glycogen into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Mainly liver and muscle, Cyto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Hexose Monophosphate Pathway (HMP) or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Pentose Phosphate Pathway (PP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70480" y="2743200"/>
            <a:ext cx="7515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mportant source for NAD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Reductive synthe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urce for metabolically active rib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Production of nucleoti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For nucleic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For co-enz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410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Impact"/>
              </a:rPr>
              <a:t>Glucose Tran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19040" y="1444680"/>
            <a:ext cx="826776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Monosaccharide Cotransporter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gainst concentration grad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nerg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arrier-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upled to Na</a:t>
            </a:r>
            <a:r>
              <a:rPr b="1" lang="en-US" sz="2800" spc="-1" strike="noStrike" baseline="30000">
                <a:solidFill>
                  <a:srgbClr val="a50021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mall intestine, renal tubules &amp; choroid plex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Independent Facilitated Diffu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ith concentration gradient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nergy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se Transporters (GLUT 1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56236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Impact"/>
              </a:rPr>
              <a:t>Glucose Transport: Facilitated Dif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26" descr="C:\My Documents\My Pictures\08_010.jpg"/>
          <p:cNvPicPr/>
          <p:nvPr/>
        </p:nvPicPr>
        <p:blipFill>
          <a:blip r:embed="rId1"/>
          <a:srcRect l="5642" t="2702" r="5241" b="14866"/>
          <a:stretch/>
        </p:blipFill>
        <p:spPr>
          <a:xfrm>
            <a:off x="1600200" y="1905120"/>
            <a:ext cx="6084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4-10-20T10:12:28Z</dcterms:modified>
  <cp:revision>66</cp:revision>
  <dc:subject/>
  <dc:title>PowerPoint Presentation</dc:title>
</cp:coreProperties>
</file>