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677-FD3F-4CF3-90DF-EDE845BE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EFC-7CFB-49D5-B5CB-895A3C07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D48-A3D9-4D3D-8309-6EC65D04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C13-0C93-4F0C-8BD1-A49D3770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251-C4FC-46F8-B125-A038ED4E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B34-16C4-4F03-AC14-8A72AFCA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1AC-AB44-4B29-AB92-DA3814ED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7AD-4465-4ED4-A116-01410BCE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7B8-D4F4-480C-A4CA-F5322D99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945-B404-4765-B0EB-6D57F385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30A-FCA1-4E39-82FD-AA48B6DA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F7D-F788-436F-90EF-7EA99E57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0EB4-366A-43C6-A15E-1D2DBF433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C:\My Documents\My Pictures\08_009.jpg"/>
          <p:cNvPicPr/>
          <p:nvPr/>
        </p:nvPicPr>
        <p:blipFill>
          <a:blip r:embed="rId1"/>
          <a:srcRect l="3332" t="2970" r="2497" b="44303"/>
          <a:stretch/>
        </p:blipFill>
        <p:spPr>
          <a:xfrm>
            <a:off x="304920" y="1905120"/>
            <a:ext cx="8610480" cy="4419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Vs Anaerobic 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My Documents\My Pictures\08_022.jpg"/>
          <p:cNvPicPr/>
          <p:nvPr/>
        </p:nvPicPr>
        <p:blipFill>
          <a:blip r:embed="rId1"/>
          <a:srcRect l="34170" t="1906" r="35835" b="19999"/>
          <a:stretch/>
        </p:blipFill>
        <p:spPr>
          <a:xfrm>
            <a:off x="5867280" y="152280"/>
            <a:ext cx="2895840" cy="6596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18148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257400" y="2514600"/>
            <a:ext cx="54950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ADH produced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anno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be used by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r ATP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No 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and/or No mitochond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ss ATP production, as compared to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erobic 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ctate is an obligatory end produ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My Documents\My Pictures\08_021.jpg"/>
          <p:cNvPicPr/>
          <p:nvPr/>
        </p:nvPicPr>
        <p:blipFill>
          <a:blip r:embed="rId1"/>
          <a:srcRect l="7830" t="5171" r="6036" b="33292"/>
          <a:stretch/>
        </p:blipFill>
        <p:spPr>
          <a:xfrm>
            <a:off x="2057400" y="1828800"/>
            <a:ext cx="5029200" cy="4648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553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Lactate Dehydrogen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naerobic Glycolysi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-29520" y="1770120"/>
            <a:ext cx="922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 flipH="1">
            <a:off x="782280" y="4516560"/>
            <a:ext cx="8001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41911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 in RB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8" descr="C:\My Documents\My Pictures\08_018.jpg"/>
          <p:cNvPicPr/>
          <p:nvPr/>
        </p:nvPicPr>
        <p:blipFill>
          <a:blip r:embed="rId1"/>
          <a:srcRect l="35002" t="2040" r="35835" b="15309"/>
          <a:stretch/>
        </p:blipFill>
        <p:spPr>
          <a:xfrm>
            <a:off x="5715000" y="104760"/>
            <a:ext cx="2819520" cy="6524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5650200" y="50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563904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5653080" y="328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664240" y="432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5664240" y="5238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5685120" y="62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7650360" y="63468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c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Straight Arrow Connector 15"/>
          <p:cNvCxnSpPr/>
          <p:nvPr/>
        </p:nvCxnSpPr>
        <p:spPr>
          <a:xfrm>
            <a:off x="7016760" y="6519600"/>
            <a:ext cx="53424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2" name="Text Box 16"/>
          <p:cNvSpPr/>
          <p:nvPr/>
        </p:nvSpPr>
        <p:spPr>
          <a:xfrm>
            <a:off x="7466040" y="624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My Documents\My Pictures\08_018.jpg"/>
          <p:cNvPicPr/>
          <p:nvPr/>
        </p:nvPicPr>
        <p:blipFill>
          <a:blip r:embed="rId1"/>
          <a:srcRect l="34589" t="19389" r="36254" b="53572"/>
          <a:stretch/>
        </p:blipFill>
        <p:spPr>
          <a:xfrm>
            <a:off x="2374920" y="2590920"/>
            <a:ext cx="4830840" cy="3657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 in RBCs: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2,3-BPG Sh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397240" y="34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053320" y="460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408400" y="585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Glycolysis in RBC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920" y="1770120"/>
            <a:ext cx="9224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 X 2 =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– 2 =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"/>
          <p:cNvSpPr/>
          <p:nvPr/>
        </p:nvSpPr>
        <p:spPr>
          <a:xfrm flipH="1">
            <a:off x="837720" y="5029200"/>
            <a:ext cx="8001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344120" y="3951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344120" y="58975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6858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Glycolysis in RBC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44720" y="1295280"/>
            <a:ext cx="8832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d produc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ac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No net production or consumption of NAD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ergy y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No 2,3-BPG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,3-BPG shunt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0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KD hemolytic anemia depend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Degree of PK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ompensation by 2,3-B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51640" y="2313000"/>
            <a:ext cx="8565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the major oxidative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employed by al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a tightly-regulated pat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K-1 is the rate-limiting regulatory enz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5840" y="2468520"/>
            <a:ext cx="8605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mainly a catabolic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production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u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some anabolic features (amphibol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yruvate kinase deficiency in RBCs result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molytic 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Glucose Metabolism: 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201560" y="2743200"/>
            <a:ext cx="834480" cy="764280"/>
          </a:xfrm>
          <a:prstGeom prst="rect">
            <a:avLst/>
          </a:prstGeom>
          <a:solidFill>
            <a:srgbClr val="ffff00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376640" y="3886200"/>
            <a:ext cx="6709680" cy="76428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</a:t>
            </a:r>
            <a:r>
              <a:rPr b="1" i="1" lang="en-US" sz="3200" spc="-1" strike="noStrike">
                <a:solidFill>
                  <a:srgbClr val="990000"/>
                </a:solidFill>
                <a:latin typeface="Impact"/>
              </a:rPr>
              <a:t>MD; Ph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66760" y="49514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Assistant Prof. &amp; Consultant, Medical Biochemistry De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College of Medicine, K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Impact"/>
              </a:rPr>
              <a:t>amrsm@ksu.edu.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07360" y="2468520"/>
            <a:ext cx="861624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obic glycoly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erobic glycoly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n RB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out 2,3 BPG synthe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2,3 BPG synthe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44197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Re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228600" y="1908000"/>
            <a:ext cx="8686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Major oxidative pathway of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main reactions of glycolytic path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rate-limiting enzymes/Reg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ATP production (aerobic/anaerob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Pyruvate kinase deficiency hemolytic 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Summary: Regulation of 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78720" y="1467000"/>
            <a:ext cx="844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Enzymes (Irreversible reaction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Glucokinase/hexo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FK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yruvate 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Mechanis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apid, short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llost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Covalen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low, long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Apply the above mechanisms for each enzyme where appl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08_023.jpg"/>
          <p:cNvPicPr/>
          <p:nvPr/>
        </p:nvPicPr>
        <p:blipFill>
          <a:blip r:embed="rId1"/>
          <a:srcRect l="21253" t="2221" r="23750" b="14446"/>
          <a:stretch/>
        </p:blipFill>
        <p:spPr>
          <a:xfrm>
            <a:off x="5410080" y="609480"/>
            <a:ext cx="335304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480060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Long-Term Regulation of Glyc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18320" y="304812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sulin: In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Glucagon: 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y Documents\My Pictures\08_020.jpg"/>
          <p:cNvPicPr/>
          <p:nvPr/>
        </p:nvPicPr>
        <p:blipFill>
          <a:blip r:embed="rId1"/>
          <a:srcRect l="25002" t="2545" r="22918" b="15991"/>
          <a:stretch/>
        </p:blipFill>
        <p:spPr>
          <a:xfrm>
            <a:off x="4952880" y="1828800"/>
            <a:ext cx="3810240" cy="4876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93396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 Deficiency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Hemolytic A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491400" y="3078000"/>
            <a:ext cx="418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K Mutation may lea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Altered Enz. ki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Decreased Enz. stability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Altered response to acti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ubstrate-level phosphorylation Vs. Oxidative phosphory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is the metabolic reaction of introducing a phosphate group into an organic molec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xidative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transfer of electrons from reduced coenzymes to molecular oxygen via the electron transport chain (ETC); it occurs in the mitochond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ubstrate-level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(or GDP to GTP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cleavage of a high-energy metabolic intermediate (substrate). It may occur in cytosol or 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C:\My Documents\My Pictures\08_011.jpg"/>
          <p:cNvPicPr/>
          <p:nvPr/>
        </p:nvPicPr>
        <p:blipFill>
          <a:blip r:embed="rId1"/>
          <a:srcRect l="14150" t="3436" r="14150" b="14132"/>
          <a:stretch/>
        </p:blipFill>
        <p:spPr>
          <a:xfrm>
            <a:off x="1752480" y="1981080"/>
            <a:ext cx="5791320" cy="4648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erobic Glycolysis: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Total Vs Net ATP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erobic Glycolysi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-56520" y="1770120"/>
            <a:ext cx="922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8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3-10-22T09:36:14Z</dcterms:modified>
  <cp:revision>54</cp:revision>
  <dc:subject/>
  <dc:title>PowerPoint Presentation</dc:title>
</cp:coreProperties>
</file>