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9350-90D6-4E13-BEBA-34AD956B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2C35-A8FE-4F8F-943D-A43AABD5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73FF-B0C8-4B31-AA63-6ABBF8D4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C377-353F-42B4-A01B-F9C8EC50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DBB8-C417-4CE9-B735-4B1C6105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7CE4-84C2-4309-91AA-F58829BE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9074-8CAB-4862-87A2-7F1D6435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576E-C4BE-43FE-AD41-736866F8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5D91-C081-46BA-ABCC-2D348D96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E998-3C9B-44CE-8197-933D4B5D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4656-C0C7-42B4-B9CA-809E5944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AC36-C60A-40D2-8396-CA1AAB69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9FD8-E47D-478E-A531-9C764A07D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C:\My Documents\My Pictures\08_009.jpg"/>
          <p:cNvPicPr/>
          <p:nvPr/>
        </p:nvPicPr>
        <p:blipFill>
          <a:blip r:embed="rId1"/>
          <a:srcRect l="3332" t="2970" r="2497" b="44303"/>
          <a:stretch/>
        </p:blipFill>
        <p:spPr>
          <a:xfrm>
            <a:off x="304920" y="1905120"/>
            <a:ext cx="8610480" cy="44193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Vs Anaerobic Glycoly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My Documents\My Pictures\08_022.jpg"/>
          <p:cNvPicPr/>
          <p:nvPr/>
        </p:nvPicPr>
        <p:blipFill>
          <a:blip r:embed="rId1"/>
          <a:srcRect l="34170" t="1906" r="35835" b="19999"/>
          <a:stretch/>
        </p:blipFill>
        <p:spPr>
          <a:xfrm>
            <a:off x="5867280" y="152280"/>
            <a:ext cx="2895840" cy="65962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18148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Anaerobic Glyco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257400" y="2514600"/>
            <a:ext cx="549504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ADH produced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canno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be used by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or ATP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(No O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and/or No mitochond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ss ATP production, as compared to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erobic glyc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actate is an obligatory end produc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My Documents\My Pictures\08_021.jpg"/>
          <p:cNvPicPr/>
          <p:nvPr/>
        </p:nvPicPr>
        <p:blipFill>
          <a:blip r:embed="rId1"/>
          <a:srcRect l="7830" t="5171" r="6036" b="33292"/>
          <a:stretch/>
        </p:blipFill>
        <p:spPr>
          <a:xfrm>
            <a:off x="2057400" y="1828800"/>
            <a:ext cx="5029200" cy="46483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553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Lactate Dehydrogen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Anaerobic Glycolysis: ATP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-29520" y="1770120"/>
            <a:ext cx="9224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 Consum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 Produc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ubstrat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2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Oxidativ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3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6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ota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Net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4"/>
          <p:cNvSpPr/>
          <p:nvPr/>
        </p:nvSpPr>
        <p:spPr>
          <a:xfrm flipH="1">
            <a:off x="782280" y="4516560"/>
            <a:ext cx="8001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41911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Anaerobic Glycolysis in RBC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8" descr="C:\My Documents\My Pictures\08_018.jpg"/>
          <p:cNvPicPr/>
          <p:nvPr/>
        </p:nvPicPr>
        <p:blipFill>
          <a:blip r:embed="rId1"/>
          <a:srcRect l="35002" t="2040" r="35835" b="15309"/>
          <a:stretch/>
        </p:blipFill>
        <p:spPr>
          <a:xfrm>
            <a:off x="5715000" y="104760"/>
            <a:ext cx="2819520" cy="6524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5650200" y="503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563904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5653080" y="3287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5664240" y="4324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5664240" y="5238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5685120" y="624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7650360" y="63468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c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Straight Arrow Connector 15"/>
          <p:cNvCxnSpPr/>
          <p:nvPr/>
        </p:nvCxnSpPr>
        <p:spPr>
          <a:xfrm>
            <a:off x="7016760" y="6519600"/>
            <a:ext cx="534240" cy="10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2" name="Text Box 16"/>
          <p:cNvSpPr/>
          <p:nvPr/>
        </p:nvSpPr>
        <p:spPr>
          <a:xfrm>
            <a:off x="7466040" y="624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My Documents\My Pictures\08_018.jpg"/>
          <p:cNvPicPr/>
          <p:nvPr/>
        </p:nvPicPr>
        <p:blipFill>
          <a:blip r:embed="rId1"/>
          <a:srcRect l="34589" t="19389" r="36254" b="53572"/>
          <a:stretch/>
        </p:blipFill>
        <p:spPr>
          <a:xfrm>
            <a:off x="2374920" y="2590920"/>
            <a:ext cx="4830840" cy="3657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Anaerobic Glycolysis in RBCs: 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2,3-BPG Shu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397240" y="34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053320" y="460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2408400" y="5853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Glycolysis in RBCs: ATP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5920" y="1770120"/>
            <a:ext cx="9224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 Consum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 Produc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ubstrat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2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1 X 2 =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Oxidativ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3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6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ota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Net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– 2 =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4"/>
          <p:cNvSpPr/>
          <p:nvPr/>
        </p:nvSpPr>
        <p:spPr>
          <a:xfrm flipH="1">
            <a:off x="837720" y="5029200"/>
            <a:ext cx="8001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344120" y="3951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344120" y="58975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80880"/>
            <a:ext cx="68580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Glycolysis in RBC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44720" y="1295280"/>
            <a:ext cx="8832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d produc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Lac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No net production or consumption of NAD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ergy yi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No 2,3-BPG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,3-BPG shunt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0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KD hemolytic anemia depends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Degree of PK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ompensation by 2,3-B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51640" y="2313000"/>
            <a:ext cx="85654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the major oxidative pathway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employed by all t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a tightly-regulated path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K-1 is the rate-limiting regulatory enzy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5840" y="2468520"/>
            <a:ext cx="8605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mainly a catabolic pathway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production,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But 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has some anabolic features (amphibol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yruvate kinase deficiency in RBCs result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molytic a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Glucose Metabolism: Glyc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201560" y="2743200"/>
            <a:ext cx="834480" cy="764280"/>
          </a:xfrm>
          <a:prstGeom prst="rect">
            <a:avLst/>
          </a:prstGeom>
          <a:solidFill>
            <a:srgbClr val="ffff00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376640" y="3886200"/>
            <a:ext cx="6709680" cy="764280"/>
          </a:xfrm>
          <a:prstGeom prst="rect">
            <a:avLst/>
          </a:prstGeom>
          <a:solidFill>
            <a:srgbClr val="ffff00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Amr S. Moustafa, </a:t>
            </a:r>
            <a:r>
              <a:rPr b="1" i="1" lang="en-US" sz="3200" spc="-1" strike="noStrike">
                <a:solidFill>
                  <a:srgbClr val="990000"/>
                </a:solidFill>
                <a:latin typeface="Impact"/>
              </a:rPr>
              <a:t>MD; Ph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66760" y="495144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Impact"/>
              </a:rPr>
              <a:t>Assistant Prof. &amp; Consultant, Medical Biochemistry Dep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Impact"/>
              </a:rPr>
              <a:t>College of Medicine, K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Impact"/>
              </a:rPr>
              <a:t>amrsm@ksu.edu.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07360" y="2468520"/>
            <a:ext cx="861624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erobic glycolysi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erobic glycolysi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n RB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out 2,3 BPG synthesi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2,3 BPG synthesi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44197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Impact"/>
              </a:rPr>
              <a:t>Glycolysis: Rev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228600" y="1908000"/>
            <a:ext cx="86868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Major oxidative pathway of gluc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The main reactions of glycolytic path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The rate-limiting enzymes/Reg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ATP production (aerobic/anaerobi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Pyruvate kinase deficiency hemolytic  anem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Summary: Regulation of Glyc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78720" y="1467000"/>
            <a:ext cx="8449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gulatory Enzymes (Irreversible reaction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Glucokinase/hexokin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FK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yruvate kin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gulatory Mechanis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apid, short-te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Alloste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Covalent mod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low, long-te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Induction/r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Apply the above mechanisms for each enzyme where appli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08_023.jpg"/>
          <p:cNvPicPr/>
          <p:nvPr/>
        </p:nvPicPr>
        <p:blipFill>
          <a:blip r:embed="rId1"/>
          <a:srcRect l="21253" t="2221" r="23750" b="14446"/>
          <a:stretch/>
        </p:blipFill>
        <p:spPr>
          <a:xfrm>
            <a:off x="5410080" y="609480"/>
            <a:ext cx="335304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480060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Long-Term Regulation of Glyco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418320" y="3048120"/>
            <a:ext cx="352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Insulin: In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Glucagon: R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My Documents\My Pictures\08_020.jpg"/>
          <p:cNvPicPr/>
          <p:nvPr/>
        </p:nvPicPr>
        <p:blipFill>
          <a:blip r:embed="rId1"/>
          <a:srcRect l="25002" t="2545" r="22918" b="15991"/>
          <a:stretch/>
        </p:blipFill>
        <p:spPr>
          <a:xfrm>
            <a:off x="4952880" y="1828800"/>
            <a:ext cx="3810240" cy="4876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93396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Pyruvate Kinase Deficiency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Hemolytic Anem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491400" y="3078000"/>
            <a:ext cx="418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K Mutation may lea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d2db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Altered Enz. kine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d2db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Decreased Enz. stability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d2db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Altered response to acti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Substrate-level phosphorylation Vs. Oxidative phosphory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hosphoryl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is the metabolic reaction of introducing a phosphate group into an organic molec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Oxidative phosphorylation: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The formation of high-energy phosphate bonds by phosphorylation of ADP to ATP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coupled to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the transfer of electrons from reduced coenzymes to molecular oxygen via the electron transport chain (ETC); it occurs in the mitochond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ubstrate-level phosphorylation: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The formation of high-energy phosphate bonds by phosphorylation of ADP to ATP (or GDP to GTP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coupled to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cleavage of a high-energy metabolic intermediate (substrate). It may occur in cytosol or mitoch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C:\My Documents\My Pictures\08_011.jpg"/>
          <p:cNvPicPr/>
          <p:nvPr/>
        </p:nvPicPr>
        <p:blipFill>
          <a:blip r:embed="rId1"/>
          <a:srcRect l="14150" t="3436" r="14150" b="14132"/>
          <a:stretch/>
        </p:blipFill>
        <p:spPr>
          <a:xfrm>
            <a:off x="1752480" y="1981080"/>
            <a:ext cx="5791320" cy="4648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4475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Aerobic Glycolysis: 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Total Vs Net ATP 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Aerobic Glycolysis: ATP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-56520" y="1770120"/>
            <a:ext cx="9224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 Consum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 Produc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ubstrat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2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Oxidativ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3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6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ota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10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Net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8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Amr</cp:lastModifiedBy>
  <dcterms:modified xsi:type="dcterms:W3CDTF">2013-10-22T09:36:14Z</dcterms:modified>
  <cp:revision>54</cp:revision>
  <dc:subject/>
  <dc:title>PowerPoint Presentation</dc:title>
</cp:coreProperties>
</file>