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28F-1406-443F-BE7B-1678D700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7C2-C0BD-4213-9060-1CB5F27A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C98-8CFE-4A56-9761-DB9035E06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714-A727-460E-8132-6CB09D17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B55A-EE1E-4F5A-909D-07D96B2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23E-5419-4184-B9C5-A0D2B6EC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729-54F1-4191-B6FA-5C370669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AEF-D9E3-434D-BBE2-8EE9E37D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AD0B-FD06-479F-BA93-A55F6B23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CE4-05EA-4453-BFBC-16CC6FFB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1A1-7295-4C68-94C7-900CD18B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C5A-C037-4DE3-A6F7-8BCDA882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B83-C7C3-40C9-BCD4-595F3A615E2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4648320" y="457200"/>
            <a:ext cx="2666880" cy="6172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380988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Impact"/>
              </a:rPr>
              <a:t>Phospho-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Impact"/>
              </a:rPr>
              <a:t>glycerate Kin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573800" y="78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264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5770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58820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88200" y="529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6087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6130800" y="241776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33520" y="5562720"/>
            <a:ext cx="36576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6248520" y="5334120"/>
            <a:ext cx="266688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533520" y="380880"/>
            <a:ext cx="3429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(Cytos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 Reac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51246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086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: Energy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0866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: Energy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1295280" y="2063880"/>
            <a:ext cx="6705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46784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Net ATP Production b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Complete Glucose Oxi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2592360"/>
            <a:ext cx="882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erobic glycolysis: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 decarboxylation: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Krebs cycle: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2 X 12 =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24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3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28600" y="1749600"/>
            <a:ext cx="85503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yruvate is oxidatively decarboxylated by PDH to   acetyl CoA inside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s cyc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common pathway for the oxidation of carbohydrates, fatty acids and amino aci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b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ly catabolic, with some anabolic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te oxidation of one glucose molecule results in a net production of 38 ATP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Decarboxylation and Krebs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920" y="3382920"/>
            <a:ext cx="6562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965960" y="4525920"/>
            <a:ext cx="55299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0" i="1" lang="en-US" sz="3200" spc="-1" strike="noStrike">
                <a:solidFill>
                  <a:srgbClr val="990000"/>
                </a:solidFill>
                <a:latin typeface="Impact"/>
              </a:rPr>
              <a:t>M.D.;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nical Biochemistry Unit, Pathology D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llege of Medicine, King Sau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My Documents\My Pictures\08_024.jpg"/>
          <p:cNvPicPr/>
          <p:nvPr/>
        </p:nvPicPr>
        <p:blipFill>
          <a:blip r:embed="rId1"/>
          <a:srcRect l="34897" t="2145" r="34207" b="12106"/>
          <a:stretch/>
        </p:blipFill>
        <p:spPr>
          <a:xfrm>
            <a:off x="6095880" y="136440"/>
            <a:ext cx="2133720" cy="6477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47246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Fates of Pyru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1773000" y="2286000"/>
            <a:ext cx="4780080" cy="1396440"/>
            <a:chOff x="1773000" y="2286000"/>
            <a:chExt cx="4780080" cy="1396440"/>
          </a:xfrm>
        </p:grpSpPr>
        <p:sp>
          <p:nvSpPr>
            <p:cNvPr id="49" name="Line 9"/>
            <p:cNvSpPr/>
            <p:nvPr/>
          </p:nvSpPr>
          <p:spPr>
            <a:xfrm flipH="1">
              <a:off x="3048120" y="2743200"/>
              <a:ext cx="3504960" cy="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10"/>
            <p:cNvSpPr/>
            <p:nvPr/>
          </p:nvSpPr>
          <p:spPr>
            <a:xfrm flipH="1">
              <a:off x="3580560" y="2757600"/>
              <a:ext cx="1676520" cy="533160"/>
            </a:xfrm>
            <a:custGeom>
              <a:avLst/>
              <a:gdLst>
                <a:gd name="textAreaLeft" fmla="*/ 293040 w 1676520"/>
                <a:gd name="textAreaRight" fmla="*/ 1215360 w 1676520"/>
                <a:gd name="textAreaTop" fmla="*/ 71280 h 533160"/>
                <a:gd name="textAreaBottom" fmla="*/ 46188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1"/>
            <p:cNvSpPr/>
            <p:nvPr/>
          </p:nvSpPr>
          <p:spPr>
            <a:xfrm>
              <a:off x="4448160" y="322272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luta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3516480" y="3222720"/>
              <a:ext cx="82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αK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3"/>
            <p:cNvSpPr/>
            <p:nvPr/>
          </p:nvSpPr>
          <p:spPr>
            <a:xfrm>
              <a:off x="4025520" y="228600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Times New Roman"/>
                </a:rPr>
                <a:t>A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1773000" y="2473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Alan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5"/>
            <p:cNvSpPr/>
            <p:nvPr/>
          </p:nvSpPr>
          <p:spPr>
            <a:xfrm>
              <a:off x="4158000" y="2860560"/>
              <a:ext cx="7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Times New Roman"/>
                </a:rPr>
                <a:t>PL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Oxidative Decarboxylation of Pyru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138560" cy="5031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346680" y="3733920"/>
            <a:ext cx="184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Alloster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urved Up Arrow 4"/>
          <p:cNvSpPr/>
          <p:nvPr/>
        </p:nvSpPr>
        <p:spPr>
          <a:xfrm>
            <a:off x="1143000" y="4724280"/>
            <a:ext cx="1600200" cy="1143000"/>
          </a:xfrm>
          <a:custGeom>
            <a:avLst/>
            <a:gdLst>
              <a:gd name="textAreaLeft" fmla="*/ 292680 w 1600200"/>
              <a:gd name="textAreaRight" fmla="*/ 1164600 w 16002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07" hR="21600" stAng="10800000" swAng="-5400000"/>
                <a:lnTo>
                  <a:pt x="11765" y="21600"/>
                </a:lnTo>
                <a:arcTo wR="7907" hR="21600" stAng="5400000" swAng="-3288197"/>
                <a:lnTo>
                  <a:pt x="21349" y="5400"/>
                </a:lnTo>
                <a:lnTo>
                  <a:pt x="17743" y="0"/>
                </a:lnTo>
                <a:lnTo>
                  <a:pt x="13635" y="5400"/>
                </a:lnTo>
                <a:lnTo>
                  <a:pt x="15563" y="5400"/>
                </a:lnTo>
                <a:arcTo wR="7907" hR="21600" stAng="2111803" swAng="2972512"/>
                <a:lnTo>
                  <a:pt x="9836" y="20947"/>
                </a:lnTo>
                <a:arcTo wR="7907" hR="21600" stAng="5715685" swAng="5084315"/>
                <a:close/>
              </a:path>
              <a:path fill="darkenLess" w="21600" h="21600">
                <a:moveTo>
                  <a:pt x="0" y="0"/>
                </a:moveTo>
                <a:arcTo wR="7907" hR="21600" stAng="10800000" swAng="-5400000"/>
                <a:lnTo>
                  <a:pt x="11765" y="21600"/>
                </a:lnTo>
                <a:arcTo wR="7907" hR="21600" stAng="5400000" swAng="315685"/>
                <a:lnTo>
                  <a:pt x="9836" y="20947"/>
                </a:lnTo>
                <a:arcTo wR="7907" hR="21600" stAng="5715685" swAng="5084315"/>
                <a:close/>
              </a:path>
            </a:pathLst>
          </a:custGeom>
          <a:solidFill>
            <a:srgbClr val="c00000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DH Complex: Covalent Reg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9"/>
          <p:cNvSpPr/>
          <p:nvPr/>
        </p:nvSpPr>
        <p:spPr>
          <a:xfrm>
            <a:off x="533520" y="3398760"/>
            <a:ext cx="2590560" cy="1295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yruvate dehydroge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 (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715000" y="3689280"/>
            <a:ext cx="2743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yruvate dehydroge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 (in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7064280" y="2909880"/>
            <a:ext cx="53352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 flipH="1">
            <a:off x="7238880" y="345456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3200400" y="4038480"/>
            <a:ext cx="2460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rc 17"/>
          <p:cNvSpPr/>
          <p:nvPr/>
        </p:nvSpPr>
        <p:spPr>
          <a:xfrm>
            <a:off x="3686040" y="4037040"/>
            <a:ext cx="1828800" cy="4906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fill="none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</a:path>
              <a:path stroke="0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278160" y="4495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4908600" y="4572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962520" y="41148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in Kin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3836880" y="55627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 flipV="1">
            <a:off x="4403880" y="51483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25"/>
          <p:cNvSpPr/>
          <p:nvPr/>
        </p:nvSpPr>
        <p:spPr>
          <a:xfrm>
            <a:off x="4130640" y="4724280"/>
            <a:ext cx="533520" cy="38124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26"/>
          <p:cNvSpPr/>
          <p:nvPr/>
        </p:nvSpPr>
        <p:spPr>
          <a:xfrm rot="10800000">
            <a:off x="3352680" y="3526920"/>
            <a:ext cx="1828800" cy="4906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fill="none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</a:path>
              <a:path stroke="0" w="43200" h="32855">
                <a:moveTo>
                  <a:pt x="565" y="26512"/>
                </a:moveTo>
                <a:cubicBezTo>
                  <a:pt x="189" y="24901"/>
                  <a:pt x="0" y="2325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5571"/>
                  <a:pt x="-23431" y="29465"/>
                  <a:pt x="-25501" y="-32682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4958640" y="3276720"/>
            <a:ext cx="60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3281040" y="3124080"/>
            <a:ext cx="35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3910680" y="22096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1"/>
          <p:cNvSpPr/>
          <p:nvPr/>
        </p:nvSpPr>
        <p:spPr>
          <a:xfrm>
            <a:off x="1981080" y="2438280"/>
            <a:ext cx="542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657600" y="33210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in Phosphat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33"/>
          <p:cNvSpPr/>
          <p:nvPr/>
        </p:nvSpPr>
        <p:spPr>
          <a:xfrm>
            <a:off x="4068720" y="2971800"/>
            <a:ext cx="533520" cy="3808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4"/>
          <p:cNvSpPr/>
          <p:nvPr/>
        </p:nvSpPr>
        <p:spPr>
          <a:xfrm flipV="1">
            <a:off x="4343400" y="2514600"/>
            <a:ext cx="0" cy="411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35"/>
          <p:cNvSpPr/>
          <p:nvPr/>
        </p:nvSpPr>
        <p:spPr>
          <a:xfrm>
            <a:off x="1981080" y="1905120"/>
            <a:ext cx="533520" cy="380880"/>
          </a:xfrm>
          <a:prstGeom prst="ellipse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6"/>
          <p:cNvSpPr/>
          <p:nvPr/>
        </p:nvSpPr>
        <p:spPr>
          <a:xfrm>
            <a:off x="306360" y="236232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7"/>
          <p:cNvSpPr/>
          <p:nvPr/>
        </p:nvSpPr>
        <p:spPr>
          <a:xfrm>
            <a:off x="459720" y="1897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u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8"/>
          <p:cNvSpPr/>
          <p:nvPr/>
        </p:nvSpPr>
        <p:spPr>
          <a:xfrm>
            <a:off x="2516040" y="24526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2516040" y="1905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0"/>
          <p:cNvSpPr/>
          <p:nvPr/>
        </p:nvSpPr>
        <p:spPr>
          <a:xfrm>
            <a:off x="1523880" y="19810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1"/>
          <p:cNvSpPr/>
          <p:nvPr/>
        </p:nvSpPr>
        <p:spPr>
          <a:xfrm>
            <a:off x="1523880" y="25146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228600" y="1752480"/>
            <a:ext cx="3048120" cy="11430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ricarboxylic Acid Cycle: Krebs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271440" y="1447920"/>
            <a:ext cx="875304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Final common pathway for oxid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Exclusively in mitochondr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Major source for AT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Mainly catabolic with some anabolic fea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Synthetic reactions (anabolic features)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Glucose from amino aci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Nonessential amino aci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Fatty aci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a50021"/>
                </a:solidFill>
                <a:latin typeface="Times New Roman"/>
              </a:rPr>
              <a:t>He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My Documents\My Pictures\09_001.jpg"/>
          <p:cNvPicPr/>
          <p:nvPr/>
        </p:nvPicPr>
        <p:blipFill>
          <a:blip r:embed="rId1"/>
          <a:srcRect l="26919" t="3027" r="27406" b="17278"/>
          <a:stretch/>
        </p:blipFill>
        <p:spPr>
          <a:xfrm>
            <a:off x="5867280" y="228600"/>
            <a:ext cx="2819520" cy="6364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38862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78168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 Reac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78204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Krebs Cycle Reac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80880" y="2773440"/>
            <a:ext cx="327672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ccinate </a:t>
            </a: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hio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0880" y="4594320"/>
            <a:ext cx="327672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strate-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3879720" y="1143000"/>
            <a:ext cx="4730760" cy="5562720"/>
          </a:xfrm>
          <a:prstGeom prst="rect">
            <a:avLst/>
          </a:prstGeom>
          <a:ln w="0">
            <a:noFill/>
          </a:ln>
        </p:spPr>
      </p:pic>
      <p:sp>
        <p:nvSpPr>
          <p:cNvPr id="99" name="Right Arrow 6"/>
          <p:cNvSpPr/>
          <p:nvPr/>
        </p:nvSpPr>
        <p:spPr>
          <a:xfrm>
            <a:off x="3809880" y="3276720"/>
            <a:ext cx="5335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2556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9-28T12:38:59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