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521-FD83-4001-B024-CA71987E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2A6-C855-4076-9C7E-1623E7C6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790-D1A7-4B3F-B7C3-9AE7ED31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105-16C6-4B78-A94F-873BBB35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E3E9-B6A1-403D-8665-EF0195A9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08A2-491C-44F2-AFF4-864CCE3A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ED19-01F7-4BD3-B417-6811CB0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D711-9F97-40C9-8E0A-BB6B582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4789-8572-4287-9A24-77D616B3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018-BADB-46A5-A74D-F47BFF81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4A69-1B5A-4215-B004-95DC7D7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1B1-22AD-4060-B563-397B0C2C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B314-2552-4A5B-9783-9C011C72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5CA9-3381-4F5A-826B-84A34DE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2925-7C47-413C-B4AA-CE0CC1E8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7FD8-BF09-4533-96D9-1D626D02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7F33-11EB-4A94-B981-5BAC73C1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819-1FC6-480A-96F1-D67F7D5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817B-E220-43A2-B9B9-F38ACC6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D57-B59B-42C7-9AD4-DC108C1C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0A5-4212-4E03-881E-FB5576B0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CC5-FE43-4D54-A19A-3AE9C3B1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B62-01C9-4E36-92D7-1BEEAC84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E72-DD15-449B-A452-9F32F7C2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8897-CDCA-40D7-BA3F-8307508F248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50EE-2A1B-4D05-B90C-2292FDCA8A45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1206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iochemical markers for diagnosis of disease and follow u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ation blo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factors affecting serum enzyme levels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680" y="114264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of enzyme synthesis and clea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nzyme inhibi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uco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ocalized hypoxia (less oxyg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chemia (obstruction of blood vesse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ssue infarction due to ischemic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 ass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680" y="16765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bility to accurately diagnose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ility to accurately predict 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omplies with treatment follow 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mple should be easily obtained (blood, urine, etc.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 ass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16761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pid test to deliver results fas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en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small quantities of a mark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pecif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only the marker of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zymatic marker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(some example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09680" y="16761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nine aminotransferase (AL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partate aminotransferase (AS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mylase in acute pancreatit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440" y="17524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cute pancreatitis is the inflammation of pancreas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bstruction of the pancreatic du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allsto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cohol abus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3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7720" y="533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825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cb092"/>
                </a:solidFill>
                <a:latin typeface="Calibri"/>
              </a:rPr>
              <a:t>Abnormal release of pancreatic enzymes and their premature activatio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The main pancreatic enzyme is trypsinoge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cb092"/>
                </a:solidFill>
                <a:latin typeface="Calibri"/>
              </a:rPr>
              <a:t>Trypsinogen is activated to trypsin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Trypsin converts other enzymes to active form such as kallikrein, phospholipase A</a:t>
            </a: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300" spc="-1" strike="noStrike">
                <a:solidFill>
                  <a:srgbClr val="ffffff"/>
                </a:solidFill>
                <a:latin typeface="Calibri"/>
              </a:rPr>
              <a:t>, elastase, etc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 algn="just">
              <a:spcBef>
                <a:spcPts val="825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cb092"/>
                </a:solidFill>
                <a:latin typeface="Calibri"/>
              </a:rPr>
              <a:t>Effects of abnormal release of enzymes: autodigestion of pancreas, vasodilation, respiratory failure, etc.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14040" y="11430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nzymatic dia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asurement of pancreatic enzym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rypsino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levated serum amylase level is a diagnostic indicator of acute  pancre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Amylase level greater than 10 times the upper limit indicates acute pancreat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st has low specificity because elevated serum amylase level is also present in other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 appears in the serum within 2-12 hours after abdominal p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amylase (unbound form) is rapidly cleared by the kidn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igh ALT and AST in liver dise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3520" y="15238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cohol ab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hronic hepatitis B and 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atosis and steato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utoimmune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son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cb092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antitrypsin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Poisons and infectious ag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80820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Serum enzymes used in the assessment of liver function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ers used in hepatocellular necro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anin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spartat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Markers used in cholesta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kaline phosphat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5’-nucleotid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glutamyl transfer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iochemical 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04760" y="1294920"/>
            <a:ext cx="6095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What is a biomark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atic diagnosis and 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nzymes as markers of disease: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ylase, ALT,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sma proteins as markers of disease: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bu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umor markers: </a:t>
            </a:r>
            <a:r>
              <a:rPr b="0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-fetoprotein, P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lanine aminotransferase (AL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stly present in li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he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re specific for liver disease than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liver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spartate aminotransferase (AS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Widely distributed in heart, liver, skeletal muscle, kid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erythrocy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activity of AST foun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Liver disease, heart disease, skeletal muscle disease, hemoly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myocardial infarction, liver and muscle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(albumin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un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Oncotic pressure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(pressure exerted by plasma proteins that pulls water into the circulatory system)– 80% of plasma oncotic pressure is maintained by album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Fluid distribution in and outside cell, maintains plasma volu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uffering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some buffering fun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ransport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– lipid-soluble molecules,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mones, calcium, drugs, etc. in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oalbuminemia – Ca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ecreased albumin synthesis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– failure of synthesis due to genetic reasons and malnutr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creased volume of albumin distribu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– in liver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creased losses of albumin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– increased catabolism in infections, nephrotic syndrome, hemorrhage, severe burns,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oalbuminemia – Effec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dema due to low oncotic press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bumin level drops in liver disease causing low oncotic press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Fluid moves into the interstitial spaces causing ede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duced transport o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s in plas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s (free form – more activ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lasma proteins as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yperalbuminemia – ca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Dehydration is a major cause of hyperalbuminemi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tumor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4040" y="12949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molecule secreted by a tumor that is measured for diagnosis and management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fetoprote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state specific antigen (PS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-fetoprotei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newborn babies </a:t>
            </a: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fetoprotein levels are very 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observe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patocellular carcinomas (hepatom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sticular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 tract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owever, high serum levels are also found in benign (non-cancerous) conditions e.g.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not always suggestive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rostate specific antigen (PSA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serine protease enzyme also called kallikrein III, semin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by prostate gl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iquefies ejacul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serum PSA levels are observed in prostate canc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ess specific in dia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levels are also observed in benign prostatic hypertrophy (enlarged prostate glan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is a biomark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A biological molecule found in blood, other body fluids, or tissues that indicates a normal or abnormal process such as a disease or a condi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iomarker is measured to follow up a disease or trea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pro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360" y="13712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Dia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Identification of a disease from its signs and sympto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future outcome of a dise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6" descr="Creek.jpg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nzymatic diagnosis and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rognosis of diseas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36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es are used clinically in three way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 indicators of enzyme activity or conc. in body fluids (serum, urine) in the diagnosis/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analytical reagents in measuring activity of other enzymes or compounds in body flu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 therapeutic ag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5" descr="Forest Flowers.jpg"/>
          <p:cNvPicPr/>
          <p:nvPr/>
        </p:nvPicPr>
        <p:blipFill>
          <a:blip r:embed="rId1"/>
          <a:stretch/>
        </p:blipFill>
        <p:spPr>
          <a:xfrm>
            <a:off x="304920" y="457200"/>
            <a:ext cx="160020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360" y="205704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-16776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Most common body fluids: serum and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nzymes ar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asma-specif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ssue-specif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167760" indent="-1677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5" descr="Forest Flowers.jpg"/>
          <p:cNvPicPr/>
          <p:nvPr/>
        </p:nvPicPr>
        <p:blipFill>
          <a:blip r:embed="rId1"/>
          <a:stretch/>
        </p:blipFill>
        <p:spPr>
          <a:xfrm>
            <a:off x="1066680" y="45720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360" y="7617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Plasma-specific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Normally present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rform their functions in bl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High level of activity in plasma than in tissue ce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amples: blood clotting enzymes (thrombin), cholinesterase, etc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5" descr="Forest Flowers.jpg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440" y="9140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issue-specific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Present inside the cel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. is lower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Released into the body fluids in high conc. due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cell membra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5" descr="Forest Flowers.jpg"/>
          <p:cNvPicPr/>
          <p:nvPr/>
        </p:nvPicPr>
        <p:blipFill>
          <a:blip r:embed="rId1"/>
          <a:stretch/>
        </p:blipFill>
        <p:spPr>
          <a:xfrm>
            <a:off x="6781680" y="30492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360" y="10666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tracellular enzymes are present only in their cells of orig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are secretory enzymes that are secreted by salivary glands, gastric mucosa and panc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disease, plasma levels of secretory enzymes increase when their cells are dam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nosis of organ disease is done by measurement of enzymes of that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5" descr="Forest Flowers.jpg"/>
          <p:cNvPicPr/>
          <p:nvPr/>
        </p:nvPicPr>
        <p:blipFill>
          <a:blip r:embed="rId1"/>
          <a:stretch/>
        </p:blipFill>
        <p:spPr>
          <a:xfrm>
            <a:off x="0" y="0"/>
            <a:ext cx="1523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06:37Z</dcterms:created>
  <dc:creator>Usman</dc:creator>
  <dc:description/>
  <dc:language>en-US</dc:language>
  <cp:lastModifiedBy>UG</cp:lastModifiedBy>
  <dcterms:modified xsi:type="dcterms:W3CDTF">2014-11-09T05:38:25Z</dcterms:modified>
  <cp:revision>23</cp:revision>
  <dc:subject/>
  <dc:title>Genetic Counsel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5671033</vt:lpwstr>
  </property>
</Properties>
</file>