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477-1D05-45CA-9FB3-7DB87907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8F1-FD96-42AF-8195-A54893F7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FA4-D7FE-4DED-A665-7096A551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5C3-EAC8-44A3-96CA-8DBEFCEB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886E-E45C-4010-8741-A37E1741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7330-D532-4E20-A3FA-99E8C3C8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F6BA-E750-4654-86AA-F8A4BB1C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5CF0-C1EF-4202-807B-EB51BB8F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59D6-F2C7-4F29-B98E-010C2B63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A311-460A-41A5-9F2F-7AA24328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EA14-E214-4A60-BEFF-393223C8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B19-4F2C-48D1-98F0-7C0B0504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5739-9D9F-4B86-B297-5F63D077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DD3B-5539-4714-8E1D-0011EE2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3954-4907-4A7C-8416-3137AAED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7B1A-5374-43B3-A609-454CBB6A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96A-5E87-4812-8DBD-382D9423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AE9-E244-48D0-AF03-AC887391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6FD-E8C5-4DBE-AD31-4C5852DF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BB0-A611-4E09-8B0A-5FBD7C00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35C-88AF-4139-82F5-4DBB2FB0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7B9-D59D-48FB-A2AF-01C8448F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D74-2C8D-4D4C-B3BF-147DFC9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928-0BE8-45AF-B830-88F157CE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C940-7671-4E0C-9A4A-62259C71F3D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5C17-7F12-4181-80DB-6239EE02931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11206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iochemical markers for diagnosis of disease and follow u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ndation blo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factors affecting serum enzyme levels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680" y="1142640"/>
            <a:ext cx="7467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ell da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e of enzyme synthesis and clear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Enzyme inhibito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uco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ocalized hypoxia (less oxyge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chemia (obstruction of blood vessel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Necr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ssue infarction due to ischemic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cr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yocardial infar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qualities of a good biomarker ass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16765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bility to accurately diagnose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ility to accurately predict prognosis of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omplies with treatment follow u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mple should be easily obtained (blood, urine, etc.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qualities of a good biomarker ass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6761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pid test to deliver results fas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Sens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ility of an assay to detect small quantities of a mark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Specif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ility of an assay to detect only the marker of 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zymatic mark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(some example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09680" y="1676160"/>
            <a:ext cx="5943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myl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anine aminotransferase (AL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spartate aminotransferase (AS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mylase in acute pancreati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440" y="175248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cute pancreatitis is the inflammation of pancreas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bstruction of the pancreatic 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llston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cohol abu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7720" y="5335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825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cb092"/>
                </a:solidFill>
                <a:latin typeface="Calibri"/>
              </a:rPr>
              <a:t>Abnormal release of pancreatic enzymes and their premature activat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 algn="just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The main pancreatic enzyme is trypsinoge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 algn="just">
              <a:spcBef>
                <a:spcPts val="825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cb092"/>
                </a:solidFill>
                <a:latin typeface="Calibri"/>
              </a:rPr>
              <a:t>Trypsinogen is activated to trypsi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 algn="just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Trypsin converts other enzymes to active form such as kallikrein, phospholipase A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, elastase, etc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 algn="just">
              <a:spcBef>
                <a:spcPts val="825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cb092"/>
                </a:solidFill>
                <a:latin typeface="Calibri"/>
              </a:rPr>
              <a:t>Effects of abnormal release of enzymes: autodigestion of pancreas, vasodilation, respiratory failure, etc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14040" y="11430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nzymatic diagn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asurement of pancreatic enzym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myl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p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Trypsino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3352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myl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Elevated serum amylase level is a diagnostic indicator of acute  pancre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Amylase level greater than 10 times the upper limit indicates acute pancreatit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est has low specificity because elevated serum amylase level is also present in other dise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mylase appears in the serum within 2-12 hours after abdominal p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ee amylase (unbound form) is rapidly cleared by the kidne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High ALT and AST in liver dise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3520" y="1523880"/>
            <a:ext cx="632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lcohol ab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hronic hepatitis B and 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eatosis and steato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utoimmune 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lson’s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cb092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antitrypsin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ligna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Poisons and infectious ag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80820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Serum enzymes used in the assessment of liver function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rkers used in hepatocellular necrosi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lanine aminotransfera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spartate aminotransfera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Markers used in cholestasi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lkaline phosphat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5’-nucleotid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glutamyl transfer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iochemical mark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4760" y="12949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What is a biomark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zymatic diagnosis and prognosis of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Enzymes as markers of disease: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mylase, ALT, A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sma proteins as markers of disease: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lbum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Tumor markers: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-fetoprotein, P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lanine aminotransferase (AL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ostly present in li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amounts in hea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ore specific for liver disease than A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diagnosis: liver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spartate aminotransferase (AS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Widely distributed in heart, liver, skeletal muscle, kidne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amounts in erythrocy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igh serum activity of AST found i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Liver disease, heart disease, skeletal muscle disease, hemoly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diagnosis: myocardial infarction, liver and muscle dise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lasma proteins as marker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(albumin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ncotic pressure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(pressure exerted by plasma proteins that pulls water into the circulatory system)– 80% of plasma oncotic pressure is maintained by album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Fluid distribution in and outside cell, maintains plasma vol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uffering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– some buffering fun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ransport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– lipid-soluble molecules,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rmones, calcium, drugs, etc. in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lasma proteins as mark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ypoalbuminemia – Ca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ecreased albumin synthesis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– failure of synthesis due to genetic reasons and malnutr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creased volume of albumin distribu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in liver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creased losses of albumin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– increased catabolism in infections, nephrotic syndrome, hemorrhage, severe burns,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lasma proteins as mark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ypoalbuminemia – Effe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dema due to low oncotic press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lbumin level drops in liver disease causing low oncotic press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Fluid moves into the interstitial spaces causing ede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duced transport o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ances in plas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s (free form – more activ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lasma proteins as mark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yperalbuminemia – ca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Dehydration is a major cause of hyperalbuminem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tumor mark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4040" y="12949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 molecule secreted by a tumor that is measured for diagnosis and management of a tum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fetoprote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state specific antigen (PS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-fetoprotei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 newborn babies </a:t>
            </a: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fetoprotein levels are very 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conc. are observed i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patocellular carcinomas (hepatom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sticular carcinom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I tract carcinom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owever, high serum levels are also found in benign (non-cancerous) conditions e.g. 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conc. are not always suggestive of a tum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rostate specific antigen (PSA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 serine protease enzyme also called kallikrein III, semin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ed by prostate gl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iquefies ejacul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serum PSA levels are observed in prostate canc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ess specific in diagn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igh serum levels are also observed in benign prostatic hypertrophy (enlarged prostate glan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at is a biomarke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2952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A biological molecule found in blood, other body fluids, or tissues that indicates a normal or abnormal process such as a disease or a condi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biomarker is measured to follow up a disease or trea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progn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360" y="13712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Diagnosi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Identification of a disease from its signs and symptom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nosi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future outcome of a disea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6" descr="Creek.jpg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nzymatic diagnosis and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rognosis of disea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36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zymes are used clinically in three way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s indicators of enzyme activity or conc. in body fluids (serum, urine) in the diagnosis/prognosis of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analytical reagents in measuring activity of other enzymes or compounds in body flu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s therapeutic ag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5" descr="Forest Flowers.jpg"/>
          <p:cNvPicPr/>
          <p:nvPr/>
        </p:nvPicPr>
        <p:blipFill>
          <a:blip r:embed="rId1"/>
          <a:stretch/>
        </p:blipFill>
        <p:spPr>
          <a:xfrm>
            <a:off x="304920" y="457200"/>
            <a:ext cx="16002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360" y="20570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Most common body fluids: serum and 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nzymes are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lasma-specifi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ssue-specifi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5" descr="Forest Flowers.jpg"/>
          <p:cNvPicPr/>
          <p:nvPr/>
        </p:nvPicPr>
        <p:blipFill>
          <a:blip r:embed="rId1"/>
          <a:stretch/>
        </p:blipFill>
        <p:spPr>
          <a:xfrm>
            <a:off x="1066680" y="457200"/>
            <a:ext cx="1981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90360" y="7617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Plasma-specific enzym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Normally present in 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rform their functions in bloo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High level of activity in plasma than in tissue ce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amples: blood clotting enzymes (thrombin), cholinesterase, etc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5" descr="Forest Flowers.jpg"/>
          <p:cNvPicPr/>
          <p:nvPr/>
        </p:nvPicPr>
        <p:blipFill>
          <a:blip r:embed="rId1"/>
          <a:stretch/>
        </p:blipFill>
        <p:spPr>
          <a:xfrm>
            <a:off x="6858000" y="2286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440" y="9140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Tissue-specific enzym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Present inside the cel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. is lower in 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Released into the body fluids in high conc. due to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ll da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cell membra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5" descr="Forest Flowers.jpg"/>
          <p:cNvPicPr/>
          <p:nvPr/>
        </p:nvPicPr>
        <p:blipFill>
          <a:blip r:embed="rId1"/>
          <a:stretch/>
        </p:blipFill>
        <p:spPr>
          <a:xfrm>
            <a:off x="6781680" y="304920"/>
            <a:ext cx="1981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90360" y="10666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tracellular enzymes are present only in their cells of orig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are secretory enzymes that are secreted by salivary glands, gastric mucosa and panc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 disease, plasma levels of secretory enzymes increase when their cells are damag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agnosis of organ disease is done by measurement of enzymes of that t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5" descr="Forest Flowers.jpg"/>
          <p:cNvPicPr/>
          <p:nvPr/>
        </p:nvPicPr>
        <p:blipFill>
          <a:blip r:embed="rId1"/>
          <a:stretch/>
        </p:blipFill>
        <p:spPr>
          <a:xfrm>
            <a:off x="0" y="0"/>
            <a:ext cx="15238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3:06:37Z</dcterms:created>
  <dc:creator>Usman</dc:creator>
  <dc:description/>
  <dc:language>en-US</dc:language>
  <cp:lastModifiedBy>UG</cp:lastModifiedBy>
  <dcterms:modified xsi:type="dcterms:W3CDTF">2014-11-09T05:38:25Z</dcterms:modified>
  <cp:revision>23</cp:revision>
  <dc:subject/>
  <dc:title>Genetic Counsel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5671033</vt:lpwstr>
  </property>
</Properties>
</file>