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0FA-FD84-42FF-9A67-1F2F542A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213-1176-4750-B609-5D9B0E9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413-C399-4811-8FE1-6E418FA6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609-FAFC-47C5-9B4D-981FB1F4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17FC-CC3E-48E7-A6AB-D191FF1A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ECE7-A697-4AED-B451-7FB81EC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14E-FD0A-44DA-906C-F9205A7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7BE8-EC32-4E9C-9F2E-607627E5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0D4F-78E7-4DB0-97BF-B21C3B7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64D-CEB1-474D-B927-D16C9D4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7419-E6B4-4968-BD8F-91DCF8C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417-9F51-427A-B917-7CA15470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CE3-E859-47C7-BDC0-3D9AC7E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AB8-8334-49DC-BE57-356DBB4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371-B6F0-4FCA-9393-D0AB01D3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036-8930-42A2-AA4B-BD5547E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D68-9C90-4293-80F5-49052DDB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9C6AC-749F-41EC-A080-A2E4432B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DE574-B446-46C1-9FE8-8C362FF2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B6D6F-9095-44E6-B410-92A0C15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3F53E-13D8-49CD-9BAE-FFD3813E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67F80-79D2-4D16-ABE0-12D5E992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0DF-ED61-4A31-A80D-624AD18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8BF82-20AA-43B3-8D64-FB43619E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ACF49-3959-44E0-B6C7-1F1C1FA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71A64-ECF8-489B-A1DB-1A4ED93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CC3E4-0E99-427B-84DC-8D4C441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8BEA9-C864-4F6E-ABDB-D14DAA3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F46A9-D73C-439C-AF18-0DE824F8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9786B-6DA0-4E2F-B55E-27AE1324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47BA4-56A4-486B-B8E2-FF3FC2D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7E6B3-392C-4A1E-A2FF-A7CB30B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39569-B275-477A-A11D-E73BCD6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A85-1578-44DB-9849-ADBC83B4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A1092-250A-4AF3-898D-2E43F95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53C3D-D196-40B6-B368-058EB0A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5FBB2-7C3E-41D1-8A30-37CA1B8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289E6-E086-48CE-8295-AA37305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1989D-264E-4DF9-9472-9920D50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B1CCE-073D-4953-ACF0-7F26581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CC787-A0A9-45FA-9992-5497D5E4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FC8CF-B805-47FD-B01D-7419EEF5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7BA1C-DBD4-4A7E-B4A6-083D26E8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65BA9-234D-4975-B684-77657093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B55-BFFF-4103-A808-66CE9BF1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609DE-699A-49B0-846A-14D52A7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831B0-BAF6-48F2-B9FE-66131F4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E0E60-F10C-428F-B52F-C310BDD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91BFD-EC0A-409E-9B3D-E5E33773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ED2A3-0942-42D3-B793-0CA15525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8AD11-6BC9-46EC-863D-5B43B97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469EF-DA88-465A-9F79-64D6C94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5C425-B3D8-4C5E-8640-9C2E2991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3FFF1-0682-45BD-A6AD-C2C222F1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FAB15-FD21-469E-84A8-505AD793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82F-155E-412C-BBA5-9F92FD9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0CA10-DEEA-4D9E-BD1D-34AA7132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1DFB-42C2-4E27-9B1F-B6C74A82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6051A-C3BF-46FA-B8C4-FDEE736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EE622-D626-47B0-A36C-72DF8514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7A37-C9D7-472F-9470-ABB23D7B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5634-2BE1-449F-A4B7-A2F7838C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A346-2E31-4952-A9BC-226F5D2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86E98-B5F2-427C-AB43-0DA9410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7E61-681D-4DFF-B0E8-64F8E32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5CF4-DA07-45C3-8A8B-C272347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76F-7F28-4805-A384-6378113B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B821D-F61D-4A86-BAB0-B8FB298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A249-9C08-4F6F-AFD1-1F6A138B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1F20-FE43-428D-91E2-7C9DEA7B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3DED6-F808-4CF0-8E45-A3D58F9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FF231-B4F2-4E60-B07A-CC8976FC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4E9E9-5ACA-4961-841A-1EA080C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2EA3D-4B52-4ED6-A346-AF2D881B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ECB2C-5385-43E8-82B3-4439A66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D210F-E769-4C32-8566-6DCEF1C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59CEF-FE0E-4E83-AE61-2D54896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CA4-1399-458A-B947-6887E60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3E0D3-DE5B-4F88-AFF4-390ED7E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7E306-ADB4-4008-9C4A-2525380E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CA3BA-F05E-41D3-9F78-5D68AB9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0DF5F-55EB-41C2-B560-37E63B96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0D75B-53B0-43D9-BC0D-97C6CABF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1877B-5CA9-4973-9CE8-DBCA512C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04B0-2FE7-45D6-8E84-2D6E25C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377E-4E97-4E94-95AE-C3B5F1F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1CF7-6516-4D8B-AA54-A6A897E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5F8DB-656C-44CB-83F8-00AB952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985-65CC-4500-8693-1DFB612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0D9CD-5784-4B60-BFA3-1B8E4FC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2303-8F02-4106-B120-BB1DBA5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8881-4E11-4E7B-A0CB-4DD2EA2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07F0-6827-44E5-B749-0311718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12C32-5819-4AA7-B5E6-D241370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8FB2-AE6C-4F12-AAAE-BAD7BC64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0DE9-68C5-4E85-8537-AD9CAC84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A18E-7193-40A5-83F0-853CA72724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081-7117-4392-9EA3-88854B4BE4A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F1F-F6B3-4CAC-9C91-36CA0017860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C08E-C991-41B8-BBA0-759498E49D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178B-4A0C-4C36-AF5A-7463D0232D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42C3-8DB6-4525-A885-6F0A0B2C741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D11-7766-4796-8D1E-103CBED36E6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907D-EC85-45F1-A177-F4902D5AAE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Amr S. Moustafa, MD, PhD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 No. of isomers depends on the No. of asymmetric C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6"/>
          <p:cNvSpPr/>
          <p:nvPr/>
        </p:nvSpPr>
        <p:spPr>
          <a:xfrm rot="18767400">
            <a:off x="4252680" y="479124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Right Arrow 7"/>
          <p:cNvSpPr/>
          <p:nvPr/>
        </p:nvSpPr>
        <p:spPr>
          <a:xfrm rot="12503400">
            <a:off x="8145000" y="4715640"/>
            <a:ext cx="38124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ericep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i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0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Amr</cp:lastModifiedBy>
  <dcterms:modified xsi:type="dcterms:W3CDTF">2014-09-10T12:36:08Z</dcterms:modified>
  <cp:revision>86</cp:revision>
  <dc:subject/>
  <dc:title>Carbohydrates structure and FunCTION</dc:title>
</cp:coreProperties>
</file>