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31B5-50BE-43A2-94E3-15910E890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AEFA-F5B2-4A52-BF47-43DE0A48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768A-6C88-4393-A4CA-5F29391A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9A14-AE1C-4663-BCBD-30CE30D1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A7EE-A5FE-417B-AAD2-A8A98447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F631-75A7-456D-82DA-2ADAEEF5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6B3B-E520-4C34-9674-18A6E364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EDE0-D600-4111-9547-2CC0ADF8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A63E-CB9E-4121-A055-D2747FE4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846C-6109-4B18-A87C-EC70E1E5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5B81-FE8D-4A48-8958-980A15FE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AE35-D6CF-4FEF-8DF8-7E747F00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A834-BEE9-4127-968C-AE328699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3CF0-CC13-4E74-82A3-4CBE75E6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7729-C9C9-46C0-8E88-C4A95693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5EEC-8596-449D-AF17-66B38B0F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2941-7BC0-423D-A557-2046DB98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55E792-5DC8-4D20-BFF4-C3098C42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F5B88-CFBB-45FE-A520-C1E123D5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14B74-890D-4473-AF84-7686B446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CB1231-9463-4D3B-BBA9-47999854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617AD-2D93-49A6-886C-AE973C7E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7D3-475D-4E8D-8EA0-FCF2CC9E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840987-E78D-4B4B-8E02-B04831E8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2D0ED-33CF-48BB-B52C-963F6BAD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299DA-E03B-4CDD-A5F9-A7C71C5A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D3E3E2-310C-458E-9A9F-F46273DA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D40D6-CBB5-4AFF-A44F-D6FA22E3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D2D875-EF95-440A-B143-5F1BD046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780A2-8480-44E1-AA3D-444AF492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A1DE42-DD8A-4FC2-921D-EF749243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3DCA57-EA57-42E6-9A50-31545401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67D5CB-C8FA-42A7-9B29-8BEBD420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BE24-0064-480A-A42D-791BE317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DA6A0C-D240-49A9-BDAB-CE0CC5BF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5A0EA8-FAC4-46CC-B26B-A46B029A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ABE5DC-3E9C-4AFB-B258-0CAC6FD8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6F26B9-2535-46FF-8D48-B601CB78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BB6BC8-4F36-4D93-BBC8-08FB07D1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746126-A1CB-456F-A7CD-A158239C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BD951B-D0C0-4BFA-BD47-39D7919B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AF6372-9C24-492B-A452-B5EFF635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8286EE-C13C-41D2-9FD5-2155ED0C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904DB7-05ED-4085-A5D8-7D631664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7E21-DDE1-4722-8AEC-59B15047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E65E39-EDCC-442E-8BE8-FE6E86E6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ED8496-375D-4023-B13B-9A984D91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667BD8-760B-4D93-99AD-6D59926B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D08D63-887C-427E-A7FB-EA8F5C9A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19DEB4-3939-486F-8096-FE2BA6DD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6DD8F5-BCB0-42ED-AD78-F63FF094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C5C89D-DD6D-43F1-8588-3682F1C4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DF63F5-6786-46DC-B394-ADB90ED9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A3C2EC-A1A0-4B83-9A81-D5CBBE63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7941C1-2C3C-4488-A5D1-2F9757EA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F36B-F093-454A-93AC-E519EB15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A9D725-C7CD-4B88-9828-DF99E873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34836-B2BE-4807-8F27-AAFF691A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F11AD-4582-44E7-9F42-DCAE5C33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22B48-0973-40DE-8F7A-01C5B59C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18A76-2AD6-49D8-8ECC-8BA79961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7CBA7-75E4-4D95-93DD-80582A62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ACAB1-7219-45DC-95DC-891A6B54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43821-112A-4D4F-A057-8A550332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34823-C55E-4002-B613-F680136D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58D64-3947-4FA8-BA7C-F633B4B0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2212-40DA-467D-A2E8-D520EF6B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EF401-B2C9-4A21-A2AB-F36CE494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4E5B7-AF9A-4619-A620-131054A0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6E96A-7246-43E1-A38A-A591C5DF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767594-E6C5-4C6B-9F38-AC3B0F65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9DC612-7D0E-4CAE-B153-28EBACF8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6ED8D0-E7D6-453B-AD60-850D2318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45A4A1-5F70-492B-885F-87BC27B7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EAA5D5-F413-4935-8480-3EA850F8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30ED8D-2104-4198-B994-06D5AFD8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5A9E47-63E8-469D-AFBD-3CC10235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2E6-E5A7-4391-B271-49E60499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F85A7C-EE2C-49E9-965C-918FD5C2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9805F6-0A4D-4F70-9066-F9B77EF2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405F95-A190-43F9-9772-B147C225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6BE38A-E1C4-4718-9209-AF12E855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9B0FC1-665D-4977-A83A-18D7D97A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5974D-55D1-41F7-8393-F627BFDE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73A47-86C1-435F-A09E-29A22BF3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11799-CCF2-467D-8D1C-7805E73A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B9C61-5758-4BBF-91A1-790069AC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03631-846A-40B4-B06E-250D9AEE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908-9D10-41DE-913A-39C2D397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73FE6-E5E5-4B40-B6A1-AE30E1A0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7BC3D-776F-400C-9CBC-CF52BF61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C7940-7773-40D5-ADF2-216C3C70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161A2-37B1-49C8-9CFE-15303FBC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59DD8-2EDD-4703-98A7-ADFC93F3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B5580-778B-4073-81F8-5210A0CC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21DF4-CEF3-40DF-836E-F2A64041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4F6E-788C-45A2-AB81-9601AC43D33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0BFE-D908-4582-9336-1F8CA257B262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0A5D-FCA2-47AC-BC49-D2BDBA886EE3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2C5F-F487-4937-8DD8-E51B211DF0B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56E7-0EF8-4FA6-AC6A-5999EBE7ADE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CF1C-433F-47B8-AA6C-8F6CA692A0AA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E8EE-57AC-4E73-AC59-769A94A6F889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2324-9B00-4B07-A59B-CF959C56450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6960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ebddc3"/>
                </a:solidFill>
                <a:latin typeface="Tw Cen MT"/>
                <a:ea typeface="Arial"/>
              </a:rPr>
              <a:t>CARBOHYDRATES: STRUCTURE AND FUNCTION</a:t>
            </a:r>
            <a:endParaRPr b="0" lang="en-US" sz="49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3978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"/>
              </a:rPr>
              <a:t>Dr. Amr S. Moustafa, MD, PhD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Poly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76520"/>
            <a:ext cx="837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Homopolysaccharide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Branched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Glycogen and starch (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-glycosidic polymer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Unbranched: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ellulose (</a:t>
            </a: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-glycosidic polymer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Heteropolysaccharide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e.g., glycosaminoglycans (GAGs)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2895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Isomeris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33160" y="152388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somer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ompounds having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same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chemical formula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but different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structural formul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The No. of isomers depends on the No. of asymmetric C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8" name="Picture 2" descr="C:\Documents and Settings\Dr.Chisti\Desktop\OLD Computer\Biochemistry\lippincot Pic\c07\07_004.jpg"/>
          <p:cNvPicPr/>
          <p:nvPr/>
        </p:nvPicPr>
        <p:blipFill>
          <a:blip r:embed="rId1"/>
          <a:srcRect l="25532" t="2321" r="29015" b="11773"/>
          <a:stretch/>
        </p:blipFill>
        <p:spPr>
          <a:xfrm>
            <a:off x="4876920" y="217440"/>
            <a:ext cx="403848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Aldo-Keto Isomer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560" y="1828800"/>
            <a:ext cx="4190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Glucose (Aldose)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Fructose (Ketose)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1" name="Picture 2" descr="C:\Documents and Settings\Dr.Chisti\Desktop\OLD Computer\Biochemistry\lippincot Pic\c07\07_004.jpg"/>
          <p:cNvPicPr/>
          <p:nvPr/>
        </p:nvPicPr>
        <p:blipFill>
          <a:blip r:embed="rId1"/>
          <a:srcRect l="25532" t="2321" r="29015" b="11773"/>
          <a:stretch/>
        </p:blipFill>
        <p:spPr>
          <a:xfrm>
            <a:off x="4495680" y="87480"/>
            <a:ext cx="44197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2971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Epim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0880" y="158904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Epim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CHO dimers that differ in configuration around only one specific carbon ato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1" lang="en-US" sz="2700" spc="-1" strike="noStrike">
                <a:solidFill>
                  <a:srgbClr val="002060"/>
                </a:solidFill>
                <a:latin typeface="Tw Cen MT"/>
              </a:rPr>
              <a:t>Glucose and galactose, C4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1" lang="en-US" sz="2700" spc="-1" strike="noStrike">
                <a:solidFill>
                  <a:srgbClr val="c00000"/>
                </a:solidFill>
                <a:latin typeface="Tw Cen MT"/>
              </a:rPr>
              <a:t>Glucose and Mannose, C2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Galactose and mannose </a:t>
            </a:r>
            <a:r>
              <a:rPr b="1" lang="en-US" sz="2700" spc="-1" strike="noStrike">
                <a:solidFill>
                  <a:srgbClr val="c00000"/>
                </a:solidFill>
                <a:latin typeface="Tw Cen MT"/>
              </a:rPr>
              <a:t>are not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epimers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4" name="Picture 2" descr="C:\Documents and Settings\Dr.Chisti\Desktop\OLD Computer\Biochemistry\lippincot Pic\c07\07_004.jpg"/>
          <p:cNvPicPr/>
          <p:nvPr/>
        </p:nvPicPr>
        <p:blipFill>
          <a:blip r:embed="rId1"/>
          <a:srcRect l="25532" t="2321" r="29015" b="11773"/>
          <a:stretch/>
        </p:blipFill>
        <p:spPr>
          <a:xfrm>
            <a:off x="4800600" y="57240"/>
            <a:ext cx="41148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-360" y="18288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tructures that ar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mirror images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of each other are designated as D- and L- sugars based on the position of –OH grp on th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asymmetric carbon farthest from the carbonyl carbo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ajority of sugars in humans ar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D-suga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Enantiomers (D- and L-Form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7" name="Picture 2" descr="C:\Documents and Settings\Dr.Chisti\Desktop\OLD Computer\Biochemistry\lippincot Pic\c07\07_005.jpg"/>
          <p:cNvPicPr/>
          <p:nvPr/>
        </p:nvPicPr>
        <p:blipFill>
          <a:blip r:embed="rId1"/>
          <a:srcRect l="19644" t="1787" r="9822" b="41070"/>
          <a:stretch/>
        </p:blipFill>
        <p:spPr>
          <a:xfrm>
            <a:off x="4114800" y="1676520"/>
            <a:ext cx="4778280" cy="5008320"/>
          </a:xfrm>
          <a:prstGeom prst="rect">
            <a:avLst/>
          </a:prstGeom>
          <a:ln w="0">
            <a:noFill/>
          </a:ln>
        </p:spPr>
      </p:pic>
      <p:sp>
        <p:nvSpPr>
          <p:cNvPr id="388" name="Right Arrow 6"/>
          <p:cNvSpPr/>
          <p:nvPr/>
        </p:nvSpPr>
        <p:spPr>
          <a:xfrm rot="18767400">
            <a:off x="4252680" y="4791240"/>
            <a:ext cx="38088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Right Arrow 7"/>
          <p:cNvSpPr/>
          <p:nvPr/>
        </p:nvSpPr>
        <p:spPr>
          <a:xfrm rot="12503400">
            <a:off x="8145000" y="4715640"/>
            <a:ext cx="381240" cy="381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775f55"/>
                </a:solidFill>
                <a:latin typeface="Arial"/>
                <a:ea typeface="Arial"/>
              </a:rPr>
              <a:t>α</a:t>
            </a:r>
            <a:r>
              <a:rPr b="1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- and </a:t>
            </a:r>
            <a:r>
              <a:rPr b="1" lang="el-GR" sz="4400" spc="-1" strike="noStrike">
                <a:solidFill>
                  <a:srgbClr val="775f55"/>
                </a:solidFill>
                <a:latin typeface="Arial"/>
                <a:ea typeface="Arial"/>
              </a:rPr>
              <a:t>β</a:t>
            </a:r>
            <a:r>
              <a:rPr b="1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-Form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1" name="Object 11" descr=""/>
          <p:cNvPicPr/>
          <p:nvPr/>
        </p:nvPicPr>
        <p:blipFill>
          <a:blip r:embed="rId1"/>
          <a:stretch/>
        </p:blipFill>
        <p:spPr>
          <a:xfrm>
            <a:off x="5562720" y="4422600"/>
            <a:ext cx="3555720" cy="2206800"/>
          </a:xfrm>
          <a:prstGeom prst="rect">
            <a:avLst/>
          </a:prstGeom>
          <a:ln w="0">
            <a:noFill/>
          </a:ln>
        </p:spPr>
      </p:pic>
      <p:pic>
        <p:nvPicPr>
          <p:cNvPr id="392" name="Object 18" descr=""/>
          <p:cNvPicPr/>
          <p:nvPr/>
        </p:nvPicPr>
        <p:blipFill>
          <a:blip r:embed="rId2"/>
          <a:stretch/>
        </p:blipFill>
        <p:spPr>
          <a:xfrm>
            <a:off x="5694480" y="1219320"/>
            <a:ext cx="3144600" cy="3087720"/>
          </a:xfrm>
          <a:prstGeom prst="rect">
            <a:avLst/>
          </a:prstGeom>
          <a:ln w="0">
            <a:noFill/>
          </a:ln>
        </p:spPr>
      </p:pic>
      <p:sp>
        <p:nvSpPr>
          <p:cNvPr id="393" name="TextBox 7"/>
          <p:cNvSpPr/>
          <p:nvPr/>
        </p:nvSpPr>
        <p:spPr>
          <a:xfrm>
            <a:off x="304920" y="1847880"/>
            <a:ext cx="5333760" cy="63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Cyclization of Monosaccharides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onosaccharides with 5 or more carbon are predominantly found in the ring for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aldehyde or ketone grp reacts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ith the –OH grp on the same suga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yclization creates an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anomeric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carbon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(former carbonyl carbon) generating th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figura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Mutarot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09120" y="1665000"/>
            <a:ext cx="800100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In solution,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e cyclic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anomers of a sugar are in equilibrium with each other, and can be interconverted spontaneous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TextBox 9"/>
          <p:cNvSpPr/>
          <p:nvPr/>
        </p:nvSpPr>
        <p:spPr>
          <a:xfrm>
            <a:off x="1177920" y="594360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Fischer Proje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47520" y="3111480"/>
            <a:ext cx="9052200" cy="3581280"/>
          </a:xfrm>
          <a:prstGeom prst="rect">
            <a:avLst/>
          </a:prstGeom>
          <a:ln w="0">
            <a:noFill/>
          </a:ln>
        </p:spPr>
      </p:pic>
      <p:sp>
        <p:nvSpPr>
          <p:cNvPr id="398" name="TextBox 11"/>
          <p:cNvSpPr/>
          <p:nvPr/>
        </p:nvSpPr>
        <p:spPr>
          <a:xfrm>
            <a:off x="5627520" y="6259680"/>
            <a:ext cx="24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w Cen MT"/>
              </a:rPr>
              <a:t>Haworth Proje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TextBox 7"/>
          <p:cNvSpPr/>
          <p:nvPr/>
        </p:nvSpPr>
        <p:spPr>
          <a:xfrm>
            <a:off x="1007280" y="626580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w Cen MT"/>
              </a:rPr>
              <a:t>Fischer Proje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ugar Isom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09120" y="1969560"/>
            <a:ext cx="800100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2401"/>
              </a:spcAft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o-keto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2401"/>
              </a:spcAft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mer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2401"/>
              </a:spcAft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- and L-Form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2401"/>
              </a:spcAft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nd 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nomer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Reducing Suga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the O on the anomeric C of a sugar is not attached to any other structure </a:t>
            </a:r>
            <a:r>
              <a:rPr b="1" lang="en-US" sz="2900" spc="-1" strike="noStrike">
                <a:solidFill>
                  <a:srgbClr val="c00000"/>
                </a:solidFill>
                <a:latin typeface="Tw Cen MT"/>
              </a:rPr>
              <a:t>(Free)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,</a:t>
            </a:r>
            <a:r>
              <a:rPr b="1" lang="en-US" sz="29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at sugar can act as a reducing agen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R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ducing sugars reduce chromogenic agents like Benedict’s reagent or Fehling’s solution to give a colored pericept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U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ine is tested for the presence of reducing sugars using these colorimetric tes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Reducing Suga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Monosaccharide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Maltose and Lactos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Sucrose is non-reducing, Why?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7452360" y="92556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Objectiv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480" y="1523520"/>
            <a:ext cx="784872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understand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of carbohydrates of physiological significanc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in role of carbohydrates in providing and storing of energy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and function of glycosaminoglycans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mplex Carbohydrat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8288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arbohydrates attached to non-carbohydrate structures by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glycosidic bonds (O- or N-type)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e.g.,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1.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Purine and pyrimidine bases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n nucleic acid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2.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Bilirubi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3.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Protein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 in glycoproteins and proteoglycan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4.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Lipid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 found in glycolipid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Glycosidic Bon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0" name="Picture 2" descr="C:\Documents and Settings\Dr.Chisti\Desktop\OLD Computer\Biochemistry\lippincot Pic\c07\07_007.jpg"/>
          <p:cNvPicPr/>
          <p:nvPr/>
        </p:nvPicPr>
        <p:blipFill>
          <a:blip r:embed="rId1"/>
          <a:srcRect l="16185" t="3069" r="16598" b="15076"/>
          <a:stretch/>
        </p:blipFill>
        <p:spPr>
          <a:xfrm>
            <a:off x="3429000" y="1523880"/>
            <a:ext cx="4952880" cy="53341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560" y="2666880"/>
            <a:ext cx="3886200" cy="34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N-Glycosidic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TextBox 6"/>
          <p:cNvSpPr/>
          <p:nvPr/>
        </p:nvSpPr>
        <p:spPr>
          <a:xfrm>
            <a:off x="220320" y="4876920"/>
            <a:ext cx="32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O-Glycosidic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Glycosaminoglycans (GAG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lycosaminoglycans (GAGs) are large complexes of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negatively</a:t>
            </a:r>
            <a:r>
              <a:rPr b="0" lang="en-US" sz="27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harged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hetero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olysaccharide chains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re associated with a small amount of protein, forming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proteoglycan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, which consist of over 95 percent carbohydrat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ind with large amounts of water, producing the gel-like matrix that forms body's ground substance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 viscous, lubricating properties of mucous secretions also result from GAGs, which led to the original naming of these compounds as </a:t>
            </a:r>
            <a:r>
              <a:rPr b="0" lang="en-US" sz="2700" spc="-1" strike="noStrike">
                <a:solidFill>
                  <a:srgbClr val="002060"/>
                </a:solidFill>
                <a:latin typeface="Tw Cen MT"/>
              </a:rPr>
              <a:t>mucopolysaccharide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4768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lycosaminoglycans (GAG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75960" y="1447560"/>
            <a:ext cx="56386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lnSpc>
                <a:spcPct val="95000"/>
              </a:lnSpc>
              <a:spcAft>
                <a:spcPts val="862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b615"/>
                </a:solidFill>
                <a:latin typeface="Tw Cen MT"/>
              </a:rPr>
              <a:t> </a:t>
            </a:r>
            <a:r>
              <a:rPr b="1" lang="en-US" sz="2300" spc="-1" strike="noStrike">
                <a:solidFill>
                  <a:srgbClr val="f7b615"/>
                </a:solidFill>
                <a:latin typeface="Tw Cen MT"/>
              </a:rPr>
              <a:t>GAGs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re linear polymers of </a:t>
            </a:r>
            <a:r>
              <a:rPr b="1" lang="en-US" sz="2300" spc="-1" strike="noStrike">
                <a:solidFill>
                  <a:srgbClr val="000099"/>
                </a:solidFill>
                <a:latin typeface="Tw Cen MT"/>
              </a:rPr>
              <a:t>repeating disaccharide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unit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c00000"/>
                </a:solidFill>
                <a:latin typeface="Tw Cen MT"/>
              </a:rPr>
              <a:t>[acidic sugar-amino sugar]n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he amino sugar (usually sulfated) is either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D-glucosamine or D-galactosamin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he acidic sugar is either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D-glucuronic acid or L-iduronic ac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GAGs are strongly negatively-charged: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carboxyl groups of acidic sugar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Sulfate group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7" name="Picture 4" descr="14_001"/>
          <p:cNvPicPr/>
          <p:nvPr/>
        </p:nvPicPr>
        <p:blipFill>
          <a:blip r:embed="rId1"/>
          <a:srcRect l="12502" t="3261" r="16405" b="21843"/>
          <a:stretch/>
        </p:blipFill>
        <p:spPr>
          <a:xfrm>
            <a:off x="5486400" y="1847880"/>
            <a:ext cx="3611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Resilience of GAG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52280" y="1512360"/>
            <a:ext cx="655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Tw Cen MT"/>
              </a:rPr>
              <a:t>Relationship between glycosaminoglycan structure and function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Because of negative charges, the GAG chains tend to be extended in solution and repel each other and when brought together, they "slip" past each other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This produces th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w Cen MT"/>
              </a:rPr>
              <a:t>"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Tw Cen MT"/>
              </a:rPr>
              <a:t>slippery" consistency of mucous secretions and synovial fluid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When a solution of GAGs is compressed, the water is "squeezed out" and the GAGs are forced to occupy a smaller volume. When the compression is released, the GAGs spring back to their original, hydrated volume because of the repulsion of their negative charge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This property contributes to the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Tw Cen MT"/>
              </a:rPr>
              <a:t>resilience of synovial fluid and the vitreous humor of the eye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0" name="Picture 2" descr="E:\c14\14_003.jpg"/>
          <p:cNvPicPr/>
          <p:nvPr/>
        </p:nvPicPr>
        <p:blipFill>
          <a:blip r:embed="rId1"/>
          <a:srcRect l="29687" t="3069" r="39848" b="12068"/>
          <a:stretch/>
        </p:blipFill>
        <p:spPr>
          <a:xfrm>
            <a:off x="6705720" y="214200"/>
            <a:ext cx="228600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152280" y="1588680"/>
            <a:ext cx="876312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Examples of GAGs are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1108080" indent="-514440">
              <a:lnSpc>
                <a:spcPct val="80000"/>
              </a:lnSpc>
              <a:spcBef>
                <a:spcPts val="499"/>
              </a:spcBef>
              <a:spcAft>
                <a:spcPts val="2401"/>
              </a:spcAft>
              <a:buClr>
                <a:srgbClr val="c00000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Chondroitin sulfates: Most abundant GA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1108080" indent="-514440">
              <a:lnSpc>
                <a:spcPct val="80000"/>
              </a:lnSpc>
              <a:spcBef>
                <a:spcPts val="499"/>
              </a:spcBef>
              <a:spcAft>
                <a:spcPts val="2401"/>
              </a:spcAft>
              <a:buClr>
                <a:srgbClr val="c00000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Keratan sulfates: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st heterogeneous GAG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1108080" indent="-514440">
              <a:lnSpc>
                <a:spcPct val="80000"/>
              </a:lnSpc>
              <a:spcBef>
                <a:spcPts val="499"/>
              </a:spcBef>
              <a:spcAft>
                <a:spcPts val="2401"/>
              </a:spcAft>
              <a:buClr>
                <a:srgbClr val="c00000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Hyaluronic acid: Compared to other GAGs, it is unsulfated and not covalently attached to protei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1108080" indent="-514440">
              <a:lnSpc>
                <a:spcPct val="80000"/>
              </a:lnSpc>
              <a:spcBef>
                <a:spcPts val="499"/>
              </a:spcBef>
              <a:spcAft>
                <a:spcPts val="2401"/>
              </a:spcAft>
              <a:buClr>
                <a:srgbClr val="c00000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Heparin: Unlike other GAGs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at are extracellular, heparin is </a:t>
            </a:r>
            <a:r>
              <a:rPr b="1" lang="en-US" sz="2700" spc="-1" strike="noStrike">
                <a:solidFill>
                  <a:srgbClr val="c00000"/>
                </a:solidFill>
                <a:latin typeface="Tw Cen MT"/>
              </a:rPr>
              <a:t>intracellular and serves as an anticoagulant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Members of GAG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ake home Messag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ructure and function of carbohydra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no-, Di-, and Poly-saccharid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ugar Isomers: Aldo-keto, epimers, D- and L-, </a:t>
            </a: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and </a:t>
            </a: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anom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plex carbohydrat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.g., Glycosaminoglycans and proteoglyca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ructure and function of GAG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amples of GAGs: chondroitin sulfate, keratin sulfate, hyaluronic acid and hepar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OVER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7226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rbohydrates: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abundant organic molecules in natur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mpiric formula is (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n,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“hydrates of carbon”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rbohydrates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824760" indent="-50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important part of energy in die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824760" indent="-50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as the storage form of energy in the body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824760" indent="-50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tructural component of cell membran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OVER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33520" y="17226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ny diseases associated with disorders of carbohydrate metabolism including: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abetes mellitus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alactosemia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lycogen storage diseas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actose intoleranc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TextBox 3"/>
          <p:cNvSpPr/>
          <p:nvPr/>
        </p:nvSpPr>
        <p:spPr>
          <a:xfrm>
            <a:off x="7110000" y="838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CONT’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LASSIFIC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2027160"/>
            <a:ext cx="868680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61360" indent="-261360"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Monosaccharide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: Simple sugar     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Disaccharide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: 2 monosaccharide unit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Oligosaccharide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: 3-10 monosaccharide unit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Polysaccharide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: more than 10 sugar unit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24520" indent="-223560"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Homopolysaccharides &amp; heteropolysaccharid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Mono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51920" y="1589040"/>
            <a:ext cx="4038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Further classified based on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1. No. of carbon ato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2. Functional sugar group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Aldehyde group –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aldos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Keto group –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ketos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1" descr="C:\Documents and Settings\Dr.Chisti\Desktop\OLD Computer\Biochemistry\lippincot Pic\c07\07_001.jpg"/>
          <p:cNvPicPr/>
          <p:nvPr/>
        </p:nvPicPr>
        <p:blipFill>
          <a:blip r:embed="rId1"/>
          <a:srcRect l="4514" t="3705" r="6596" b="29630"/>
          <a:stretch/>
        </p:blipFill>
        <p:spPr>
          <a:xfrm>
            <a:off x="4114800" y="2057400"/>
            <a:ext cx="4876920" cy="1828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C:\Documents and Settings\Dr.Chisti\Desktop\OLD Computer\Biochemistry\lippincot Pic\c07\07_002.jpg"/>
          <p:cNvPicPr/>
          <p:nvPr/>
        </p:nvPicPr>
        <p:blipFill>
          <a:blip r:embed="rId2"/>
          <a:srcRect l="6520" t="0" r="6520" b="22250"/>
          <a:stretch/>
        </p:blipFill>
        <p:spPr>
          <a:xfrm>
            <a:off x="4356000" y="4267080"/>
            <a:ext cx="4330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Mono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51000" y="2286000"/>
          <a:ext cx="8458200" cy="3122640"/>
        </p:xfrm>
        <a:graphic>
          <a:graphicData uri="http://schemas.openxmlformats.org/drawingml/2006/table">
            <a:tbl>
              <a:tblPr/>
              <a:tblGrid>
                <a:gridCol w="1752480"/>
                <a:gridCol w="3352680"/>
                <a:gridCol w="33530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Tw Cen MT"/>
                        </a:rPr>
                        <a:t>Aldo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2060"/>
                          </a:solidFill>
                          <a:latin typeface="Tw Cen MT"/>
                        </a:rPr>
                        <a:t>Keto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ri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lyceraldehyd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hydroxyaceto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nt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ib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ibul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ex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luc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ruct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367" name="Rectangle 9"/>
          <p:cNvSpPr/>
          <p:nvPr/>
        </p:nvSpPr>
        <p:spPr>
          <a:xfrm>
            <a:off x="7528680" y="9144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Di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04920" y="18288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Joining of 2 monosaccharides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by O-glycosidic bond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2060"/>
                </a:solidFill>
                <a:latin typeface="Tw Cen MT"/>
              </a:rPr>
              <a:t>Maltose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1" lang="el-GR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1, 4)= glucose +  glucos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2060"/>
                </a:solidFill>
                <a:latin typeface="Tw Cen MT"/>
              </a:rPr>
              <a:t>Sucrose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1" lang="el-GR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1,2)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= glucose 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+  fructose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2060"/>
                </a:solidFill>
                <a:latin typeface="Tw Cen MT"/>
              </a:rPr>
              <a:t>Lactose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1" lang="el-GR" sz="33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1,4)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= glucose 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+ galactose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Di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w Cen MT"/>
              </a:rPr>
              <a:t>Lactos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2" name="Picture 5" descr="C:\Documents and Settings\Dr.Chisti\Desktop\OLD Computer\Biochemistry\lippincot Pic\c07\07_003.jpg"/>
          <p:cNvPicPr/>
          <p:nvPr/>
        </p:nvPicPr>
        <p:blipFill>
          <a:blip r:embed="rId1"/>
          <a:srcRect l="4674" t="3508" r="4452" b="33335"/>
          <a:stretch/>
        </p:blipFill>
        <p:spPr>
          <a:xfrm>
            <a:off x="1096920" y="2286000"/>
            <a:ext cx="7010280" cy="41371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6"/>
          <p:cNvSpPr/>
          <p:nvPr/>
        </p:nvSpPr>
        <p:spPr>
          <a:xfrm>
            <a:off x="7300080" y="9144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Dr.Amr</cp:lastModifiedBy>
  <dcterms:modified xsi:type="dcterms:W3CDTF">2014-09-10T12:36:08Z</dcterms:modified>
  <cp:revision>86</cp:revision>
  <dc:subject/>
  <dc:title>Carbohydrates structure and FunCTION</dc:title>
</cp:coreProperties>
</file>