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676-6B38-4195-9707-A9684169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C06-4CE5-4780-91AA-418E125B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868-2C36-4792-9D0F-214B4709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C6F-4EDC-4632-92F6-881EAC08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E26-ACB4-43C6-AA0A-16CB1725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B9D-4C9F-4179-8151-120E162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293-EE54-4449-B1D8-1BEE98BC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8BE-BEB8-439B-A237-8EBC6533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D7D-4A72-4155-84EB-C4D6F86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8F7-9C32-4A95-8E84-7B020F4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B93-4BD2-4A75-A86F-24E6DCF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F24-A2B8-4226-877C-E348C98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A096-08E8-4E6C-90D9-9424A764BF5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_004"/>
          <p:cNvPicPr/>
          <p:nvPr/>
        </p:nvPicPr>
        <p:blipFill>
          <a:blip r:embed="rId1"/>
          <a:srcRect l="22301" t="3975" r="23744" b="17654"/>
          <a:stretch/>
        </p:blipFill>
        <p:spPr>
          <a:xfrm>
            <a:off x="3149640" y="152280"/>
            <a:ext cx="546084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60440" y="3200400"/>
            <a:ext cx="2428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atty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Essential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78000" y="2209680"/>
            <a:ext cx="853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. Linoleic acid, 18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. Linolenic acid, 18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precursor of 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achidonic acid 20: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also considere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ssential fatty aci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 linoleic acid is deficient from d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51444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610480" y="0"/>
            <a:ext cx="533520" cy="6477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04920" y="0"/>
            <a:ext cx="8381880" cy="30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04200" y="240660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ed form (~90%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iacylglycerol, cholesterol ester,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s part of li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e-form (unesterifi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ansported in association with 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Triacylglyce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rage form in adipos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~ 90% of dietary 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lyscerol plus 3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ood transport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 and V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6_022"/>
          <p:cNvPicPr/>
          <p:nvPr/>
        </p:nvPicPr>
        <p:blipFill>
          <a:blip r:embed="rId1"/>
          <a:srcRect l="32406" t="3027" r="31482" b="13241"/>
          <a:stretch/>
        </p:blipFill>
        <p:spPr>
          <a:xfrm>
            <a:off x="312408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1828800" y="1371600"/>
            <a:ext cx="6248520" cy="27432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820600" y="2284560"/>
            <a:ext cx="35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Hydroxybuty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578600" y="1635120"/>
            <a:ext cx="2986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etone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33160" y="1495440"/>
            <a:ext cx="38048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Water-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Diabetic Ketoacid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21906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057400" y="0"/>
            <a:ext cx="3657600" cy="20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5800" y="1371600"/>
            <a:ext cx="8039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. Glycero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erol-containing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 Phosphatidylcholine (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urfactant (Dipalmitoy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 Phosphatidyl inosito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signaling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. Sphingo-phospho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phingosine-containing phospholip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 sphingomyeli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Myelin sh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(To be discussed with CNS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95480" y="492120"/>
            <a:ext cx="358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7_001"/>
          <p:cNvPicPr/>
          <p:nvPr/>
        </p:nvPicPr>
        <p:blipFill>
          <a:blip r:embed="rId1"/>
          <a:srcRect l="24169" t="2831" r="46669" b="19813"/>
          <a:stretch/>
        </p:blipFill>
        <p:spPr>
          <a:xfrm>
            <a:off x="1600200" y="228600"/>
            <a:ext cx="2666880" cy="6248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419720" y="1219320"/>
            <a:ext cx="396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Phosphatid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g., 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Dipalmitoyl 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425840" y="415800"/>
            <a:ext cx="3935880" cy="1069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. Glycero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/>
          <p:cNvSpPr/>
          <p:nvPr/>
        </p:nvSpPr>
        <p:spPr>
          <a:xfrm rot="2628600">
            <a:off x="4366800" y="4800600"/>
            <a:ext cx="762120" cy="7621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399560" y="175248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arent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atid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_002"/>
          <p:cNvPicPr/>
          <p:nvPr/>
        </p:nvPicPr>
        <p:blipFill>
          <a:blip r:embed="rId1"/>
          <a:srcRect l="13866" t="3884" r="16968" b="17478"/>
          <a:stretch/>
        </p:blipFill>
        <p:spPr>
          <a:xfrm>
            <a:off x="4572000" y="38088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Overview and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2440" y="1357200"/>
            <a:ext cx="8972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ypercholesterolemi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herosclerosis &amp; 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id Compounds of Physiological Signific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56080" y="4124160"/>
            <a:ext cx="746388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D, Ph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8_014"/>
          <p:cNvPicPr/>
          <p:nvPr/>
        </p:nvPicPr>
        <p:blipFill>
          <a:blip r:embed="rId1"/>
          <a:srcRect l="17504" t="2021" r="15833" b="19294"/>
          <a:stretch/>
        </p:blipFill>
        <p:spPr>
          <a:xfrm>
            <a:off x="1600200" y="53352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8_019"/>
          <p:cNvPicPr/>
          <p:nvPr/>
        </p:nvPicPr>
        <p:blipFill>
          <a:blip r:embed="rId1"/>
          <a:srcRect l="35835" t="2397" r="34170" b="15528"/>
          <a:stretch/>
        </p:blipFill>
        <p:spPr>
          <a:xfrm>
            <a:off x="2971800" y="152280"/>
            <a:ext cx="274320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228600" y="22096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15000" y="577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8_025"/>
          <p:cNvPicPr/>
          <p:nvPr/>
        </p:nvPicPr>
        <p:blipFill>
          <a:blip r:embed="rId1"/>
          <a:srcRect l="38387" t="23741" r="37629" b="17268"/>
          <a:stretch/>
        </p:blipFill>
        <p:spPr>
          <a:xfrm>
            <a:off x="1523880" y="304920"/>
            <a:ext cx="2667240" cy="6248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39760" y="2208240"/>
            <a:ext cx="8599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Take 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080" y="1828800"/>
            <a:ext cx="910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heterogeneous group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relatively water-in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FA, TG, Ketone bodies,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, Phospholipids, 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have important physio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disorders are the basis for common 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ases, name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bes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7432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ctions of lipi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nic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id compounds of physiological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lex lipid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olipids, glycolipids and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unctions of 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jor energy source for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ortant regulatory molec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t-soluble vitam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teroid hormone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stagland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ignaling molecules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ositol triphosphate (I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id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be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791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geneous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atively water-insoluble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? Exception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luble in non-polar sol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5_001"/>
          <p:cNvPicPr/>
          <p:nvPr/>
        </p:nvPicPr>
        <p:blipFill>
          <a:blip r:embed="rId1"/>
          <a:srcRect l="25384" t="1868" r="22640" b="19627"/>
          <a:stretch/>
        </p:blipFill>
        <p:spPr>
          <a:xfrm>
            <a:off x="3352680" y="152280"/>
            <a:ext cx="327672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5569560" y="4530600"/>
            <a:ext cx="3525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ipid Comp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eterogeneou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44360" y="762120"/>
            <a:ext cx="32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. 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tone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51560" y="3733920"/>
            <a:ext cx="356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. 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hosph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Glyc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 (F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16_002"/>
          <p:cNvPicPr/>
          <p:nvPr/>
        </p:nvPicPr>
        <p:blipFill>
          <a:blip r:embed="rId1"/>
          <a:srcRect l="3027" t="2612" r="3150" b="55561"/>
          <a:stretch/>
        </p:blipFill>
        <p:spPr>
          <a:xfrm>
            <a:off x="1143000" y="25909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537480" y="535932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mphipathic: Both hydrophobic &amp; hydrophilic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070840" y="2438280"/>
            <a:ext cx="311040" cy="26672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85800" y="2438280"/>
            <a:ext cx="739764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43040" y="2666880"/>
            <a:ext cx="233280" cy="24386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4320" y="1371600"/>
            <a:ext cx="834804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in leng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hort-chain and Medium-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ong-Chain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.g., Palmitic acid 16: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ery long-cha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.g., Nervonic acid 2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Degree of sat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aturated: No doub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Unsaturated: Mono- or poly-unsatu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is- or trans-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 Essential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4-09-24T06:46:13Z</dcterms:modified>
  <cp:revision>24</cp:revision>
  <dc:subject/>
  <dc:title>PowerPoint Presentation</dc:title>
</cp:coreProperties>
</file>