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76B-B6BB-4046-91A5-7879E951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BC1-AAF1-45B9-A710-3F2E5F05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27D4-CB05-4810-B144-63E8B385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4057-D489-4C8B-A9C5-29DD7608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C1C-87D2-4D57-9DF9-37F3B71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B6E-D37B-4DC0-A7B1-B58A3B65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65A-1585-4A7C-AD7B-61A73938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8877-F98A-457A-8463-A1934F2F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102-DF6C-4638-9017-3B109A33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61D4-6B1B-4A68-89A4-BD1AEF68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A7D-0D35-445F-9064-7AC03CFD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223-7ED6-4E55-BE97-A6801737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A8A7-B07E-427F-921E-F508BC4F02D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6_004"/>
          <p:cNvPicPr/>
          <p:nvPr/>
        </p:nvPicPr>
        <p:blipFill>
          <a:blip r:embed="rId1"/>
          <a:srcRect l="22301" t="3975" r="23744" b="17654"/>
          <a:stretch/>
        </p:blipFill>
        <p:spPr>
          <a:xfrm>
            <a:off x="3149640" y="152280"/>
            <a:ext cx="546084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460440" y="3200400"/>
            <a:ext cx="2428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Fatty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Essential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78000" y="2209680"/>
            <a:ext cx="853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. Linoleic acid, 18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2. Linolenic acid, 18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precursor of 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achidonic acid 20: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also considere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ssential fatty aci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f linoleic acid is deficient from di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51444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8610480" y="0"/>
            <a:ext cx="533520" cy="6477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04920" y="0"/>
            <a:ext cx="8381880" cy="304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04200" y="240660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erified form (~90%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riacylglycerol, cholesterol ester,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as part of lipoprote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e-form (unesterifi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ransported in association with 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Triacylglyce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rage form in adipos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~ 90% of dietary 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lyscerol plus 3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ood transport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 and V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6_022"/>
          <p:cNvPicPr/>
          <p:nvPr/>
        </p:nvPicPr>
        <p:blipFill>
          <a:blip r:embed="rId1"/>
          <a:srcRect l="32406" t="3027" r="31482" b="13241"/>
          <a:stretch/>
        </p:blipFill>
        <p:spPr>
          <a:xfrm>
            <a:off x="3124080" y="22860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1828800" y="1371600"/>
            <a:ext cx="6248520" cy="274320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820600" y="2284560"/>
            <a:ext cx="35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e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etoace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Hydroxybuty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578600" y="1635120"/>
            <a:ext cx="2986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Ketone Bo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033160" y="1495440"/>
            <a:ext cx="38048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Water-sol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Diabetic Ketoacid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219060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057400" y="0"/>
            <a:ext cx="3657600" cy="209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85800" y="1371600"/>
            <a:ext cx="8039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. Glycero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ycerol-containing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 Phosphatidylcholine (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urfactant (Dipalmitoy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 Phosphatidyl inositol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signaling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B. Sphingo-phospho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phingosine-containing phospholip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 sphingomyeli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Myelin sh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(To be discussed with CNS 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95480" y="492120"/>
            <a:ext cx="3581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7_001"/>
          <p:cNvPicPr/>
          <p:nvPr/>
        </p:nvPicPr>
        <p:blipFill>
          <a:blip r:embed="rId1"/>
          <a:srcRect l="24169" t="2831" r="46669" b="19813"/>
          <a:stretch/>
        </p:blipFill>
        <p:spPr>
          <a:xfrm>
            <a:off x="1600200" y="228600"/>
            <a:ext cx="2666880" cy="6248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419720" y="1219320"/>
            <a:ext cx="3968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Phosphatidylch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.g., Surfa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Dipalmitoyl 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425840" y="415800"/>
            <a:ext cx="3935880" cy="1069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. Glycero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/>
          <p:cNvSpPr/>
          <p:nvPr/>
        </p:nvSpPr>
        <p:spPr>
          <a:xfrm rot="2628600">
            <a:off x="4366800" y="4800600"/>
            <a:ext cx="762120" cy="762120"/>
          </a:xfrm>
          <a:custGeom>
            <a:avLst/>
            <a:gdLst>
              <a:gd name="textAreaLeft" fmla="*/ 101880 w 762120"/>
              <a:gd name="textAreaRight" fmla="*/ 660240 w 7621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4399560" y="175248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arent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atid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8_002"/>
          <p:cNvPicPr/>
          <p:nvPr/>
        </p:nvPicPr>
        <p:blipFill>
          <a:blip r:embed="rId1"/>
          <a:srcRect l="13866" t="3884" r="16968" b="17478"/>
          <a:stretch/>
        </p:blipFill>
        <p:spPr>
          <a:xfrm>
            <a:off x="4572000" y="380880"/>
            <a:ext cx="4038480" cy="617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Cholesterol: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52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Overview and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2440" y="1357200"/>
            <a:ext cx="8972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j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erol of anim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ecursor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ile acids &amp;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Vitami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Steroid horm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ineralocorticoids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lucocorticoid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Cort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x hormone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Estrogen &amp; 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ypercholesterolemi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herosclerosis &amp; 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ipid Compounds of Physiological Signific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56080" y="4124160"/>
            <a:ext cx="7463880" cy="76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D, Ph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8_014"/>
          <p:cNvPicPr/>
          <p:nvPr/>
        </p:nvPicPr>
        <p:blipFill>
          <a:blip r:embed="rId1"/>
          <a:srcRect l="17504" t="2021" r="15833" b="19294"/>
          <a:stretch/>
        </p:blipFill>
        <p:spPr>
          <a:xfrm>
            <a:off x="1600200" y="53352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8_019"/>
          <p:cNvPicPr/>
          <p:nvPr/>
        </p:nvPicPr>
        <p:blipFill>
          <a:blip r:embed="rId1"/>
          <a:srcRect l="35835" t="2397" r="34170" b="15528"/>
          <a:stretch/>
        </p:blipFill>
        <p:spPr>
          <a:xfrm>
            <a:off x="2971800" y="152280"/>
            <a:ext cx="2743200" cy="6629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228600" y="22096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15000" y="577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8_025"/>
          <p:cNvPicPr/>
          <p:nvPr/>
        </p:nvPicPr>
        <p:blipFill>
          <a:blip r:embed="rId1"/>
          <a:srcRect l="38387" t="23741" r="37629" b="17268"/>
          <a:stretch/>
        </p:blipFill>
        <p:spPr>
          <a:xfrm>
            <a:off x="1523880" y="304920"/>
            <a:ext cx="2667240" cy="6248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39760" y="2208240"/>
            <a:ext cx="85993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iacylglycerol trans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olesterol trans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H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Take 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080" y="1828800"/>
            <a:ext cx="9100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are heterogeneous group of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are relatively water-in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FA, TG, Ketone bodies, 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, Phospholipids, 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have important physiologic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disorders are the basis for common hu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ases, name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besit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7432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unctions of lipi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linical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id compounds of physiological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lex lipid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olipids, glycolipids and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Functions of lipi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jor energy source for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portant regulatory molec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t-soluble vitamin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teroid hormone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staglandin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ignaling molecules: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ositol triphosphate (I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ipids and Related Clinic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be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herosclerosis and hyperten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57913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Lipi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terogeneous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atively water-insoluble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? Exception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luble in non-polar sol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5_001"/>
          <p:cNvPicPr/>
          <p:nvPr/>
        </p:nvPicPr>
        <p:blipFill>
          <a:blip r:embed="rId1"/>
          <a:srcRect l="25384" t="1868" r="22640" b="19627"/>
          <a:stretch/>
        </p:blipFill>
        <p:spPr>
          <a:xfrm>
            <a:off x="3352680" y="152280"/>
            <a:ext cx="327672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5569560" y="4530600"/>
            <a:ext cx="3525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ipid Compou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eterogeneou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44360" y="762120"/>
            <a:ext cx="321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. 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tone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iacyl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51560" y="3733920"/>
            <a:ext cx="356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. 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hosph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Glyc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 (F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16_002"/>
          <p:cNvPicPr/>
          <p:nvPr/>
        </p:nvPicPr>
        <p:blipFill>
          <a:blip r:embed="rId1"/>
          <a:srcRect l="3027" t="2612" r="3150" b="55561"/>
          <a:stretch/>
        </p:blipFill>
        <p:spPr>
          <a:xfrm>
            <a:off x="1143000" y="25909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537480" y="535932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mphipathic: Both hydrophobic &amp; hydrophilic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070840" y="2438280"/>
            <a:ext cx="311040" cy="266724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85800" y="2438280"/>
            <a:ext cx="739764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43040" y="2666880"/>
            <a:ext cx="233280" cy="243864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4320" y="1371600"/>
            <a:ext cx="834804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in leng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hort-chain and Medium-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ong-Chain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.g., Palmitic acid 16: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Very long-cha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.g., Nervonic acid 24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. Degree of sat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Saturated: No doubl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Unsaturated: Mono- or poly-unsatu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Cis- or trans-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. Essential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4-09-24T06:46:13Z</dcterms:modified>
  <cp:revision>24</cp:revision>
  <dc:subject/>
  <dc:title>PowerPoint Presentation</dc:title>
</cp:coreProperties>
</file>