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380-5924-4B1D-9ACD-51B7E81A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0178-440C-43E9-9924-4037E6B48E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8DD-0328-4FB2-B6DA-DB96075B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6EC-2150-41DD-A39A-6800C766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7DDC-EFE2-458B-B205-3EB4E63B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B01-F67D-4F6B-BB49-B9ACD7F3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73B-5F0C-4FC3-9956-53DDB91E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1C05-CCAE-4881-A94F-DE2286F4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52B-174C-4889-AB19-574FDCB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9CF-FEC0-4DAE-BED5-793751E2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B42-AFFE-4CEF-9392-3B42E518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EF26-CC2A-46A1-ADCF-278DF0F1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A6E2-DD3C-4ACB-A266-FE52C7B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877-4891-4B32-929F-E0017777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278F-17B6-4C3A-8328-CA02CA9D8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41911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Impact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5840" y="1828800"/>
            <a:ext cx="860544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triacylglycerol from dihydroxyacetone phosp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2,3 B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 &amp; its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3-10-23T04:58:46Z</dcterms:modified>
  <cp:revision>56</cp:revision>
  <dc:subject/>
  <dc:title>PowerPoint Presentation</dc:title>
</cp:coreProperties>
</file>