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853-18B5-4085-9E23-649FA7F3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4C76-67EC-4D64-88B6-6338ED42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6F3-4F51-4786-8112-231541AE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D49-0594-4C2F-9D9D-F06223B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080-F9DE-44C3-8B79-C6C9D381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CD1-A39C-4377-92B6-5998A0A7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E74-5223-427A-952F-B2E44AE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3A3-E239-4C6B-A21F-BDAA15D4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07B-C347-46F4-A379-651A562A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56A-96AC-4757-BB7A-BA0ECCF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3C7-2CB4-45E4-A578-C251859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C83-82D3-43F4-AC61-9871CD2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FDC-EF26-4D33-93CF-62E8CCB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68B-378E-4916-BB5C-D6564810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898-4FD8-4912-B411-2358D39B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41911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Impact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5840" y="1828800"/>
            <a:ext cx="860544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triacylglycerol from dihydroxyacetone phosp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2,3 B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 &amp; its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3-10-23T04:58:46Z</dcterms:modified>
  <cp:revision>56</cp:revision>
  <dc:subject/>
  <dc:title>PowerPoint Presentation</dc:title>
</cp:coreProperties>
</file>