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885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584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09F3-D141-4095-B57A-F53DE6B6EB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9705-B06E-4F18-B77E-A1F09605B16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8137-6B13-48C6-BBEA-484C8411519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CA09-31A7-4EF5-B7B7-182D821F542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2BBC-F37F-4EB3-85C5-28F2EAAEEF8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09FF-8C07-43A9-BC32-A99ADFF3C48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A8C5-D475-4F70-B880-46786B9CC12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9560-2B42-4F3B-AD52-4F496261806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0DDC-570D-43C4-AF5F-D5E4FCEC9AB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7A30-8589-4310-A2D7-402A07F8A48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D72C-23BB-4E5C-8994-CE594242818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706A-83F0-4AFC-9767-6E21C8A4DF1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B171-8763-4E56-8C5B-6C1207946AE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CB5E-D6DB-4048-96D2-E81F5C229C9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7FDA-6B21-4141-B581-E5EE70B4A1D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514F-49E5-41C1-9DC4-09F1D08AC26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063800"/>
            <a:ext cx="91440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pithelial Tissu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12880" y="1546200"/>
            <a:ext cx="7727760" cy="465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the end of this lecture, you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eneral characterist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pithelial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croscopic struc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different types of epithelial membra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assify glandular epithel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cording to different para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umerate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pithelial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the follow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nical applic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otile cilia syndrome (Kartagener’s syndrom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pl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4240" y="1343160"/>
            <a:ext cx="58323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1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presence or</a:t>
            </a:r>
            <a:br>
              <a:rPr sz="2400"/>
            </a:b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bsence of ducts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ocrin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ndocrin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thyroid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ixed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.g. pancr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2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number of cells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Unicell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e.g. goble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ulticell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exoendocrine"/>
          <p:cNvPicPr/>
          <p:nvPr/>
        </p:nvPicPr>
        <p:blipFill>
          <a:blip r:embed="rId1"/>
          <a:srcRect l="0" t="0" r="72375" b="22226"/>
          <a:stretch/>
        </p:blipFill>
        <p:spPr>
          <a:xfrm>
            <a:off x="5538960" y="1419120"/>
            <a:ext cx="1593720" cy="202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exoendocrine"/>
          <p:cNvPicPr/>
          <p:nvPr/>
        </p:nvPicPr>
        <p:blipFill>
          <a:blip r:embed="rId2"/>
          <a:srcRect l="68206" t="0" r="839" b="17619"/>
          <a:stretch/>
        </p:blipFill>
        <p:spPr>
          <a:xfrm>
            <a:off x="7188120" y="1419120"/>
            <a:ext cx="16858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4240" y="1342800"/>
            <a:ext cx="5451480" cy="47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3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mode of secretion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r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No part of the cell is lost with the secretion, 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p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he top of the cell is lost with the secretion, e.g. mammary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Hol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he whole cell detaches with the secretion, e.g. sebaceous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9" descr="03_24"/>
          <p:cNvPicPr/>
          <p:nvPr/>
        </p:nvPicPr>
        <p:blipFill>
          <a:blip r:embed="rId1"/>
          <a:srcRect l="0" t="15111" r="28794" b="0"/>
          <a:stretch/>
        </p:blipFill>
        <p:spPr>
          <a:xfrm>
            <a:off x="5697360" y="2108160"/>
            <a:ext cx="3218040" cy="2146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5989680" y="3713040"/>
            <a:ext cx="834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r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024680" y="3713040"/>
            <a:ext cx="77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8016840" y="3713040"/>
            <a:ext cx="793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4600" y="1343160"/>
            <a:ext cx="6137280" cy="527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4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shape of secretory part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Tubular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testina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Alveolar (acinar)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mmar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Tubulo-alveolar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cre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9" descr="Simple tubular"/>
          <p:cNvPicPr/>
          <p:nvPr/>
        </p:nvPicPr>
        <p:blipFill>
          <a:blip r:embed="rId1"/>
          <a:stretch/>
        </p:blipFill>
        <p:spPr>
          <a:xfrm>
            <a:off x="6192720" y="2584440"/>
            <a:ext cx="889200" cy="1028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Simple alveolar"/>
          <p:cNvPicPr/>
          <p:nvPr/>
        </p:nvPicPr>
        <p:blipFill>
          <a:blip r:embed="rId2"/>
          <a:stretch/>
        </p:blipFill>
        <p:spPr>
          <a:xfrm>
            <a:off x="6192720" y="3917880"/>
            <a:ext cx="828720" cy="974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Compound tubuloalveolar"/>
          <p:cNvPicPr/>
          <p:nvPr/>
        </p:nvPicPr>
        <p:blipFill>
          <a:blip r:embed="rId3"/>
          <a:stretch/>
        </p:blipFill>
        <p:spPr>
          <a:xfrm>
            <a:off x="6192720" y="5195880"/>
            <a:ext cx="1965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4600" y="1342800"/>
            <a:ext cx="557856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5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nature of secretion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Ser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rot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Muc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.g. goble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Muco-ser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sublingual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Watery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.g. sweat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Epith-1"/>
          <p:cNvPicPr/>
          <p:nvPr/>
        </p:nvPicPr>
        <p:blipFill>
          <a:blip r:embed="rId1"/>
          <a:srcRect l="0" t="3869" r="38488" b="0"/>
          <a:stretch/>
        </p:blipFill>
        <p:spPr>
          <a:xfrm>
            <a:off x="4938840" y="2971800"/>
            <a:ext cx="4014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548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FUNCTIONS OF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4240" y="1554120"/>
            <a:ext cx="7174080" cy="378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1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rote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epidermis of sk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2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ecre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gl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3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bsorp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small intest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4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cre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kid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5- 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produ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gon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6- 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mooth lin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blood vessel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linical Applica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000" y="1469520"/>
            <a:ext cx="814068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Immotile cilia syndrome (Kartegener’s syndrome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der that causes infertility in male and chronic respiratory tract infection in both s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caused by immobility of cilia and flagella induced by deficiency of dyne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ein protein is responsible for movements of cilia and flagel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linical Applica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95000" y="1469520"/>
            <a:ext cx="8140680" cy="420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Metaplas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ransformation of one type of tissue to another in response to injury. This condition is usually reversible if the injury is remo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pseudostratified ciliated columnar epithelium of the respiratory passages, e.g. trachea, of heavy smokers may underg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quamous metaplas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ransforming into stratified squamous epithel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Squamous_metaplasia_(HE)_x_100_Labelled.jpg"/>
          <p:cNvPicPr/>
          <p:nvPr/>
        </p:nvPicPr>
        <p:blipFill>
          <a:blip r:embed="rId1"/>
          <a:stretch/>
        </p:blipFill>
        <p:spPr>
          <a:xfrm>
            <a:off x="920880" y="1450800"/>
            <a:ext cx="7207200" cy="5015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000"/>
                </a:solidFill>
                <a:latin typeface="Times New Roman"/>
              </a:rPr>
              <a:t>Squamous Metaplas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2857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EPITHELIAL TISSU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1720" y="1214280"/>
            <a:ext cx="5135400" cy="496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General characterist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lls are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ightly join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with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ittle intercellular spa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st on a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asement membra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vasc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 power of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egener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Classific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pithelial membra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mple epithelium: 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atified epithelium: more than 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Glands (Glandular Epitheliu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52501" t="6271" r="0" b="55905"/>
          <a:stretch/>
        </p:blipFill>
        <p:spPr>
          <a:xfrm>
            <a:off x="5734080" y="1371600"/>
            <a:ext cx="2895480" cy="130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2"/>
          <a:srcRect l="0" t="0" r="52112" b="56034"/>
          <a:stretch/>
        </p:blipFill>
        <p:spPr>
          <a:xfrm>
            <a:off x="5711760" y="2889360"/>
            <a:ext cx="2919600" cy="151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Epith-1"/>
          <p:cNvPicPr/>
          <p:nvPr/>
        </p:nvPicPr>
        <p:blipFill>
          <a:blip r:embed="rId3"/>
          <a:srcRect l="6099" t="13701" r="71878" b="52390"/>
          <a:stretch/>
        </p:blipFill>
        <p:spPr>
          <a:xfrm>
            <a:off x="5700600" y="4552920"/>
            <a:ext cx="13939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7480" y="1344240"/>
            <a:ext cx="5403960" cy="46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30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Squamous Epithelium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layer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of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lat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flat nuclei. Provides smooth thin surfa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 of sit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0656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ndothelium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(lining the CVS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0656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lveoli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of lu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031" descr="Simple"/>
          <p:cNvPicPr/>
          <p:nvPr/>
        </p:nvPicPr>
        <p:blipFill>
          <a:blip r:embed="rId1"/>
          <a:srcRect l="0" t="18629" r="56365" b="4236"/>
          <a:stretch/>
        </p:blipFill>
        <p:spPr>
          <a:xfrm>
            <a:off x="5632560" y="1892160"/>
            <a:ext cx="3273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1960" y="1344240"/>
            <a:ext cx="50673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Cuboidal Epithelium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laye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of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boid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central rounded nucle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61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yroi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ll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Simple"/>
          <p:cNvPicPr/>
          <p:nvPr/>
        </p:nvPicPr>
        <p:blipFill>
          <a:blip r:embed="rId1"/>
          <a:srcRect l="50285" t="0" r="0" b="0"/>
          <a:stretch/>
        </p:blipFill>
        <p:spPr>
          <a:xfrm>
            <a:off x="5329080" y="1928880"/>
            <a:ext cx="325440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5240" y="1240920"/>
            <a:ext cx="5333760" cy="531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tabLst>
                <a:tab algn="l" pos="0"/>
                <a:tab algn="l" pos="4381560"/>
                <a:tab algn="l" pos="876312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Columnar Epithel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yer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lumn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basal oval nucle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3808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Lining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oma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estines (with goblet cells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&amp;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gall bladd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3808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l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n free surface.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allopian tub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Simple-col"/>
          <p:cNvPicPr/>
          <p:nvPr/>
        </p:nvPicPr>
        <p:blipFill>
          <a:blip r:embed="rId1"/>
          <a:srcRect l="0" t="0" r="52036" b="0"/>
          <a:stretch/>
        </p:blipFill>
        <p:spPr>
          <a:xfrm>
            <a:off x="5589720" y="1440000"/>
            <a:ext cx="3263760" cy="234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Simple-col"/>
          <p:cNvPicPr/>
          <p:nvPr/>
        </p:nvPicPr>
        <p:blipFill>
          <a:blip r:embed="rId2"/>
          <a:srcRect l="53809" t="0" r="0" b="0"/>
          <a:stretch/>
        </p:blipFill>
        <p:spPr>
          <a:xfrm>
            <a:off x="5587920" y="4255920"/>
            <a:ext cx="32511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6560" y="1312560"/>
            <a:ext cx="631836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4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Pseudo-Stratified Columnar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yer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lumn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cells are t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are short and don’t reach the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l cells rest on the basement membr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clei appear at different lev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2240" indent="-2919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vas deferen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2240" indent="-2919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Ciliated with Goblet Cells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rachea &amp; bronch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PseudoStrat-col"/>
          <p:cNvPicPr/>
          <p:nvPr/>
        </p:nvPicPr>
        <p:blipFill>
          <a:blip r:embed="rId1"/>
          <a:srcRect l="0" t="0" r="54041" b="0"/>
          <a:stretch/>
        </p:blipFill>
        <p:spPr>
          <a:xfrm>
            <a:off x="6515280" y="1746360"/>
            <a:ext cx="2438280" cy="198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PseudoStrat-col"/>
          <p:cNvPicPr/>
          <p:nvPr/>
        </p:nvPicPr>
        <p:blipFill>
          <a:blip r:embed="rId2"/>
          <a:srcRect l="53179" t="0" r="539" b="0"/>
          <a:stretch/>
        </p:blipFill>
        <p:spPr>
          <a:xfrm>
            <a:off x="6497640" y="4456080"/>
            <a:ext cx="24559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533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5800" y="1190160"/>
            <a:ext cx="5429160" cy="547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tratified Squamous Epithelium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 with basal oval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 with central rounded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rface cell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ar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la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flattened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0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Keratinized</a:t>
            </a:r>
            <a:r>
              <a:rPr b="0" lang="en-GB" sz="20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a layer of keratin on the surface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pidermis of ski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0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keratinized</a:t>
            </a:r>
            <a:r>
              <a:rPr b="0" lang="en-GB" sz="20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thout a layer of keratin on the surface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sophagu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Epith-3a"/>
          <p:cNvPicPr/>
          <p:nvPr/>
        </p:nvPicPr>
        <p:blipFill>
          <a:blip r:embed="rId1"/>
          <a:srcRect l="46101" t="0" r="0" b="12092"/>
          <a:stretch/>
        </p:blipFill>
        <p:spPr>
          <a:xfrm>
            <a:off x="5710320" y="1257480"/>
            <a:ext cx="3171600" cy="270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Epith-3a"/>
          <p:cNvPicPr/>
          <p:nvPr/>
        </p:nvPicPr>
        <p:blipFill>
          <a:blip r:embed="rId2"/>
          <a:srcRect l="0" t="0" r="53952" b="13582"/>
          <a:stretch/>
        </p:blipFill>
        <p:spPr>
          <a:xfrm>
            <a:off x="6237360" y="4146480"/>
            <a:ext cx="2644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533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9040" y="1272960"/>
            <a:ext cx="4816440" cy="53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6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Transitional Epithelium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rface cells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large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boidal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convex free surfac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may be binucleate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rinary bladder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Epith-2"/>
          <p:cNvPicPr/>
          <p:nvPr/>
        </p:nvPicPr>
        <p:blipFill>
          <a:blip r:embed="rId1"/>
          <a:srcRect l="0" t="0" r="37408" b="9576"/>
          <a:stretch/>
        </p:blipFill>
        <p:spPr>
          <a:xfrm>
            <a:off x="5019840" y="1370160"/>
            <a:ext cx="3794040" cy="2912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Epith-2"/>
          <p:cNvPicPr/>
          <p:nvPr/>
        </p:nvPicPr>
        <p:blipFill>
          <a:blip r:embed="rId2"/>
          <a:srcRect l="62833" t="43438" r="1437" b="8719"/>
          <a:stretch/>
        </p:blipFill>
        <p:spPr>
          <a:xfrm>
            <a:off x="5019840" y="4424400"/>
            <a:ext cx="2998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9360" y="1336320"/>
            <a:ext cx="5357880" cy="473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4381560"/>
                <a:tab algn="l" pos="876312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tratified Columnar Epithel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urface cell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olumna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large duct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gl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Strat-col"/>
          <p:cNvPicPr/>
          <p:nvPr/>
        </p:nvPicPr>
        <p:blipFill>
          <a:blip r:embed="rId1"/>
          <a:srcRect l="11406" t="5592" r="56362" b="11075"/>
          <a:stretch/>
        </p:blipFill>
        <p:spPr>
          <a:xfrm>
            <a:off x="5791320" y="1644480"/>
            <a:ext cx="276840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7:21:01Z</dcterms:created>
  <dc:creator>Mohammad Atteya</dc:creator>
  <dc:description/>
  <dc:language>en-US</dc:language>
  <cp:lastModifiedBy>Muhammad Atteya</cp:lastModifiedBy>
  <dcterms:modified xsi:type="dcterms:W3CDTF">2013-09-08T16:38:56Z</dcterms:modified>
  <cp:revision>392</cp:revision>
  <dc:subject/>
  <dc:title>Epithelium</dc:title>
</cp:coreProperties>
</file>