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driveby.wav" ContentType="audio/x-wav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1278C-4CD0-44B5-9A77-3E9F5C8FD9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F2303-998C-4264-9F16-34EE7F1BA7C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4A3EBC-60A3-4F65-B6B2-E812598CDC7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A4E27E-DD1A-45BD-B2AA-E58B52D2904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64A3A8-8BC6-4AA9-9577-8054A250F0C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0FCE0C-031A-468E-87B7-0F61433232D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6CB9B4-769B-4F58-910E-2B07EF0B355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A873A4-AECB-4FE2-B50C-88603913B08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52F470-BC1B-4204-B7A1-2909CC60C9B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8D90C2-A3B6-49C8-A20B-05D02951B71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996C81-F4C9-4D5B-86A9-B0024E6EA94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720E7-1826-4EC2-BCC4-396DF9172D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A0232-50F7-47D3-AE09-9A4C794747A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85E2D-9258-4FF2-85F5-D6CC9B2BF9B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B371F-E455-458E-AD5B-6D938710662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9F8BD-27E1-4767-B4FD-8E77EFC0612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F8F82-5B15-46FC-8932-3A528F89B7D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BE747-9A1B-4609-BB2A-04B4DD7CA95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84510-FF82-4604-8124-7D93B01D8EF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D632B-8A12-437C-9DCC-9413EDAA1F7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56BE7-ACE0-4741-A1D4-EB00E927563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3AEE9-9B30-4B6F-896E-CA6F7BD9F67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73C16-3350-4F8D-A374-6B5DD802B1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3CB18-47C5-40D9-A03E-4DC2233C800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5A410-791B-4AB6-B00A-857989E8733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F82874-D7EA-40BE-BF93-6BD5556BF33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08E4DE-ACD3-4148-8432-6B2D124DFA3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AA9A7F-76C7-487D-8A6D-F418C826838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85BEBF-7A27-4E3B-9E8C-7571ECFE0C5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963851-1432-4EB2-BCE7-1BDE5EE2EAE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808BCD-A81D-43C4-AF15-C4844C251DD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73D86B-5603-4592-9F75-DAFAC2CE07B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6DA895-5DDC-4EB3-B91E-12F32127F8D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9212DA-5B8B-4BAC-AAB5-F42E8A6736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283E7-A1A0-43E0-8272-21C5DD642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B68199-9D69-45C7-AC69-7FA5C38B0D5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BF7DAC-8AF1-45A2-9FEC-CCDE1380DEA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61716D-AFA3-4B8A-A827-811D26EEE33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62F5C8-7391-4B37-B41B-96D3CBC6D99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97183D-D7DA-4921-B06C-F720C7D10FB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7EA681-7BE7-4E8E-8EB3-EAADC254241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C46258-8C52-4A98-9EB0-76001E76176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8D862F-10F8-4813-9000-E19A6E2113B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D03D99-925D-430F-9876-4B497D4C483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80B698-7D89-4EDA-98B0-BD427F2946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FC3DE-B47B-4A83-B0EA-303CB02B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0A4C31-910C-4515-B32E-205C81F18B1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1F92AB-0C5F-42B1-9278-183C95AEB92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A10F53-EEDE-4DA0-8A21-A41FB9EFF7B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9FB44F-CAEB-43DE-8539-DE579D2B248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BF9F14-F7C7-4528-8C42-5FA6EA08F5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A5442-2219-463C-B354-F3307683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3258D2-A151-4223-A8F7-E27A5201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3CF10-CF90-4CFD-AC1B-686AE6DB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60C9C-2EAD-4652-8012-B913125B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B9EDA-B384-46FB-AB1C-87EE4605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F3FB8-71C7-4FD2-B310-2C571E218E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6ADB0-982B-4BD8-AADE-BC1C2BB2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3D1DEA-567C-44AF-9C17-AB83912B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7EA47-0EB9-4D51-A968-975AB3AD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981B2-C22A-440D-8FFE-40993E764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20996E-7681-4A4F-A181-39C8333F3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70C8A-4E33-46B4-B955-0B329148583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B0E95-9E99-49AE-98F2-132E29E0ABE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03BEC-DAC8-49D8-B09C-31EF3BA40D4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AF342-C46A-4F09-BD00-545A8C8ACBF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DBEE7-2A4A-44B1-AB6B-137EB17CD4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2A73D-49E4-4663-B3ED-5FFFAFBE174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FA104-C204-4576-BF0D-642F92E93CA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DF229-761D-4B75-953A-8DECDBE79C0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68F35-F8A7-4908-BAD7-05513F336C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1D42A-4396-4A58-B462-54EA32C2C69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61BBD-9F3F-4E6E-A8EB-E15A77E54D9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74C47-AC62-4CB9-BE15-8F71387297D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80F77-4E04-4732-8A7D-B51E206FECC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E778-7A08-4671-9B39-2227EE9B073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4258-1D79-4211-A472-24120C595B2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FAA8-B095-4CEC-9FC6-29BB88B3AF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7F8F8-0B1A-4BC4-96F8-854F08AD549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C2B3-AAF8-4ECF-BCD5-7EF7C98CD1D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0B93-9424-47E9-98CB-1BD35F1D9DF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7F0E-3D24-4541-99F0-BCF0C8E3364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A945-84EF-4239-ADEB-6D45580FD13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CE6A-574F-47B3-AE07-8A6545CC278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BB45-D2CB-4635-B124-D211A714817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C2AD-D8CD-4095-97F5-7CA836CF8A1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A2FE-8E46-44DB-B260-B130942EFDB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858E-3F6D-4415-AC9C-989B7E0D16A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A11262-E701-46CF-9380-693A94166D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9E60D-1990-4940-8A9D-0A3D6847F7F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594B05-16B7-47D5-BC86-87B37838E79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5BF0ED-5B1A-4A4E-A8F1-102A124BA61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E40287-BBF5-4367-A3B8-B9FF752035F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4C244C-C003-4BEF-938F-4D6B7D2B458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225141-EE3C-4552-A8CB-006256A8BD6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61A43D-8767-4654-B1B0-F76CDC2FDC4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758907-C008-4BD0-A052-36A0492A8DA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81FF8C-02E2-4A1A-B99F-E446FA6F8B0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09DED9-9F1B-4992-9ADF-7F23ED99A6D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EE70F4-86A9-401A-ADF0-2B59B61816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850E3-7AD4-48F2-9AF3-3E580395093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2EC39D-B343-417C-840A-AA21AE2F389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7BE1DB-92D3-41AA-9D3A-EA589377A3E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45467E-7E78-4F3A-9BE7-05A0DC206DC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5AF375-410E-495A-871B-AB313147585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0C75C7-0F92-4339-932C-22FD95C412D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3C66DE-A11B-474F-B3FF-8ADE1AEF8C5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BED710-27F2-41D6-B94B-DFC99B66B95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8CCC7C-17D0-4069-9CB6-10F0E6E858D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502257-170B-40C1-95E0-1838FE51BB0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2A2417-3355-4EC0-849A-4925266B05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87206-D53B-45A3-BC72-2A4DE7E368F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1615EC-3AE8-4DC3-B2EB-5611C3E495F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505660-1476-48B0-90EA-B808548D0FE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746BDB-75EB-48A4-B77B-B8DF68154B5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3C667-7ECF-42F2-986D-83D4E52008D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DABE0-7704-4752-AD29-4D9A0811564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1C705-8DF6-43A2-8DB5-FE560E07B1F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8AB68-63BC-44AC-A767-A11A1152D24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9B8C1-C211-49D2-A9C4-8E0DCDB6B62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CE833-B3BF-4AE5-B367-04D560B0AB3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6263B-D166-4D8D-9688-9A36E9A3D5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5B824-27BE-47D2-B2D5-60FDFEF999D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DC280-397B-46CF-B090-4A3A627BB6A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553B9-56AF-4092-A33B-4B28F10C99C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53CE0-BFC9-49DF-8470-1234EE2DCA9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50C01-7051-4C9C-AE2C-315817818DF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3EE3B-8246-4457-B06E-AA99817C571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D45D99-D2D3-4C9E-9E2A-D302222FEBB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7D1217-9750-4233-AFA0-456347D4988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15305D-629D-4F17-93DC-ED885E032A2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0DF939-6B2F-42CC-8351-835941D6DAB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E6C65F-35CA-4128-A2AF-209AFD3502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FB84D-28B0-483A-92BB-264CE77B5FC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89F612-FAF9-4448-94E3-E3C11B7ED94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D76055-61CF-4F5D-8A44-87DDB90044D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EB16A9-72D6-4269-B780-BD3125005A3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753185-E0D3-498A-B3E4-FBE6AE0F585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9FA636-B025-4E14-93CF-EB37CBDBA6F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34AC77-5655-4E05-95ED-D67F96AF53C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C93954-4072-40C1-AC48-2F30E6EBAA0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5B586F-3DDB-427F-8155-460D9B37665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4F33F1-57F5-45AA-A7E6-FD10378EE4C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514A48-EC2A-4C1B-B7B5-A059ACFC64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5c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Text Box 13"/>
          <p:cNvSpPr/>
          <p:nvPr/>
        </p:nvSpPr>
        <p:spPr>
          <a:xfrm>
            <a:off x="533520" y="6491160"/>
            <a:ext cx="3733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Mosby items and derived items © 2006 by Mosby, Inc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3CC2-A4DC-444E-8E89-B31705816C0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5c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6535-25C3-4008-8FA7-72CA685E923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5c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922F-B265-4E96-8D8A-F251969761B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5c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F39F-EFE4-401B-A0E1-8C3B7D9C98A4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5c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0E69-0033-4370-BE6E-6016980ADD9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5c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923B-261D-47AB-8022-A272116FF9B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5c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2616-5D6D-4BE6-858D-6EBD30A20CE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5c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7897-A5F4-43A3-9CB5-7CABCEA21B9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5c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A022-F6E3-4C52-B551-C1657272333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5c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961C-E0C7-4A77-9FBC-5146DABDCA5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5c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5DFF-4D8C-42E8-BEFE-DC8AA6F5848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5c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50E9-337F-457C-8E91-56F56C7B542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atural Defense Mechanisms.</a:t>
            </a:r>
            <a:endParaRPr b="0" lang="en-US" sz="48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762120" y="419076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a6a6"/>
                </a:solidFill>
                <a:latin typeface="Times New Roman"/>
              </a:rPr>
              <a:t>Immunology Uni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a6a6"/>
                </a:solidFill>
                <a:latin typeface="Times New Roman"/>
              </a:rPr>
              <a:t>College of Medicine &amp; KKU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lammation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89560" indent="-427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9560" indent="-427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vent and limit infection and further dam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9560" indent="-427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act with adaptive immune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9560" indent="-427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example Monocytes / Macrophag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ve as a link between the adaptive a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nate immunity by antigen pres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9560" indent="-427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are the area of injury for hea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9560" indent="-427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533520" y="380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853200" indent="-410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3200" indent="-410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e Complement syste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853200" indent="-410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853200" indent="-410040">
              <a:lnSpc>
                <a:spcPct val="90000"/>
              </a:lnSpc>
              <a:spcBef>
                <a:spcPts val="901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sist of a group of serum proteins circulate in inactive form once they become activated they produce important biological effects  that initiate inflammation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853200" indent="-410040">
              <a:lnSpc>
                <a:spcPct val="90000"/>
              </a:lnSpc>
              <a:spcBef>
                <a:spcPts val="901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system plays an important role in Innate &amp; Adaptive immun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853200" indent="-4100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complement system: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Pathways of activation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assic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s antigen-antibody bind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1,C4,C2,C3,C5,C6,C7,C8,C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ct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vated by mannan binding protien binding manose groups of bacterial carbohydrat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-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4,C2,C3,C5,C6,C7,C8,C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ternati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vated by bacterial produc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-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3,C5,C6,C7,C8,C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8D4F-CC5A-4DFD-ABD7-4D940D042044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8" name="Picture 5" descr=""/>
          <p:cNvPicPr/>
          <p:nvPr/>
        </p:nvPicPr>
        <p:blipFill>
          <a:blip r:embed="rId1"/>
          <a:stretch/>
        </p:blipFill>
        <p:spPr>
          <a:xfrm>
            <a:off x="41400" y="914400"/>
            <a:ext cx="9061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4"/>
          <p:cNvSpPr/>
          <p:nvPr/>
        </p:nvSpPr>
        <p:spPr>
          <a:xfrm>
            <a:off x="2362320" y="343080"/>
            <a:ext cx="4952880" cy="1104840"/>
          </a:xfrm>
          <a:prstGeom prst="rect">
            <a:avLst/>
          </a:prstGeom>
          <a:solidFill>
            <a:srgbClr val="00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Lytic pathway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5-activ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0" name="Group 5"/>
          <p:cNvGrpSpPr/>
          <p:nvPr/>
        </p:nvGrpSpPr>
        <p:grpSpPr>
          <a:xfrm>
            <a:off x="6392520" y="3651480"/>
            <a:ext cx="1152720" cy="1859040"/>
            <a:chOff x="6392520" y="3651480"/>
            <a:chExt cx="1152720" cy="1859040"/>
          </a:xfrm>
        </p:grpSpPr>
        <p:sp>
          <p:nvSpPr>
            <p:cNvPr id="541" name="AutoShape 6"/>
            <p:cNvSpPr/>
            <p:nvPr/>
          </p:nvSpPr>
          <p:spPr>
            <a:xfrm>
              <a:off x="6475320" y="3692520"/>
              <a:ext cx="990360" cy="1818000"/>
            </a:xfrm>
            <a:prstGeom prst="flowChartProcess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3b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AutoShape 7"/>
            <p:cNvSpPr/>
            <p:nvPr/>
          </p:nvSpPr>
          <p:spPr>
            <a:xfrm rot="21544200">
              <a:off x="6397200" y="3660840"/>
              <a:ext cx="1143000" cy="609480"/>
            </a:xfrm>
            <a:prstGeom prst="flowChartMerge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3" name="Group 8"/>
          <p:cNvGrpSpPr/>
          <p:nvPr/>
        </p:nvGrpSpPr>
        <p:grpSpPr>
          <a:xfrm>
            <a:off x="4853880" y="3817440"/>
            <a:ext cx="1868040" cy="2331000"/>
            <a:chOff x="4853880" y="3817440"/>
            <a:chExt cx="1868040" cy="2331000"/>
          </a:xfrm>
        </p:grpSpPr>
        <p:grpSp>
          <p:nvGrpSpPr>
            <p:cNvPr id="544" name="Group 9"/>
            <p:cNvGrpSpPr/>
            <p:nvPr/>
          </p:nvGrpSpPr>
          <p:grpSpPr>
            <a:xfrm>
              <a:off x="4853880" y="3817440"/>
              <a:ext cx="1868040" cy="2331000"/>
              <a:chOff x="4853880" y="3817440"/>
              <a:chExt cx="1868040" cy="2331000"/>
            </a:xfrm>
          </p:grpSpPr>
          <p:sp>
            <p:nvSpPr>
              <p:cNvPr id="545" name="AutoShape 10"/>
              <p:cNvSpPr/>
              <p:nvPr/>
            </p:nvSpPr>
            <p:spPr>
              <a:xfrm rot="21344400">
                <a:off x="4985640" y="3947760"/>
                <a:ext cx="1523880" cy="1904760"/>
              </a:xfrm>
              <a:prstGeom prst="pie">
                <a:avLst/>
              </a:prstGeom>
              <a:solidFill>
                <a:srgbClr val="33cc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AutoShape 11"/>
              <p:cNvSpPr/>
              <p:nvPr/>
            </p:nvSpPr>
            <p:spPr>
              <a:xfrm rot="21286800">
                <a:off x="4949640" y="3889080"/>
                <a:ext cx="1676160" cy="2187360"/>
              </a:xfrm>
              <a:custGeom>
                <a:avLst/>
                <a:gdLst>
                  <a:gd name="textAreaLeft" fmla="*/ 66600 w 1676160"/>
                  <a:gd name="textAreaRight" fmla="*/ 1609560 w 1676160"/>
                  <a:gd name="textAreaTop" fmla="*/ 0 h 2187360"/>
                  <a:gd name="textAreaBottom" fmla="*/ 942840 h 218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7730" y="8553"/>
                    </a:moveTo>
                    <a:cubicBezTo>
                      <a:pt x="8446" y="7574"/>
                      <a:pt x="9587" y="6995"/>
                      <a:pt x="10800" y="6996"/>
                    </a:cubicBezTo>
                    <a:cubicBezTo>
                      <a:pt x="12012" y="6996"/>
                      <a:pt x="13153" y="7574"/>
                      <a:pt x="13869" y="8553"/>
                    </a:cubicBezTo>
                    <a:lnTo>
                      <a:pt x="19515" y="4421"/>
                    </a:lnTo>
                    <a:cubicBezTo>
                      <a:pt x="17481" y="1642"/>
                      <a:pt x="14243" y="-1"/>
                      <a:pt x="10799" y="0"/>
                    </a:cubicBezTo>
                    <a:cubicBezTo>
                      <a:pt x="7356" y="0"/>
                      <a:pt x="4118" y="1642"/>
                      <a:pt x="2084" y="4421"/>
                    </a:cubicBez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Text Box 12"/>
              <p:cNvSpPr/>
              <p:nvPr/>
            </p:nvSpPr>
            <p:spPr>
              <a:xfrm rot="778200">
                <a:off x="5950080" y="4651920"/>
                <a:ext cx="304200" cy="36828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48" name="AutoShape 13"/>
            <p:cNvSpPr/>
            <p:nvPr/>
          </p:nvSpPr>
          <p:spPr>
            <a:xfrm>
              <a:off x="5105520" y="5489640"/>
              <a:ext cx="1295280" cy="425520"/>
            </a:xfrm>
            <a:custGeom>
              <a:avLst/>
              <a:gdLst>
                <a:gd name="textAreaLeft" fmla="*/ 269640 w 1295280"/>
                <a:gd name="textAreaRight" fmla="*/ 1025640 w 1295280"/>
                <a:gd name="textAreaTop" fmla="*/ 88920 h 425520"/>
                <a:gd name="textAreaBottom" fmla="*/ 336600 h 42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9" name="Group 14"/>
          <p:cNvGrpSpPr/>
          <p:nvPr/>
        </p:nvGrpSpPr>
        <p:grpSpPr>
          <a:xfrm>
            <a:off x="3730680" y="3736800"/>
            <a:ext cx="1371600" cy="2210040"/>
            <a:chOff x="3730680" y="3736800"/>
            <a:chExt cx="1371600" cy="2210040"/>
          </a:xfrm>
        </p:grpSpPr>
        <p:sp>
          <p:nvSpPr>
            <p:cNvPr id="550" name="Oval 15"/>
            <p:cNvSpPr/>
            <p:nvPr/>
          </p:nvSpPr>
          <p:spPr>
            <a:xfrm>
              <a:off x="3730680" y="3736800"/>
              <a:ext cx="1295640" cy="221004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4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AutoShape 16"/>
            <p:cNvSpPr/>
            <p:nvPr/>
          </p:nvSpPr>
          <p:spPr>
            <a:xfrm>
              <a:off x="3807000" y="5521320"/>
              <a:ext cx="1295280" cy="425520"/>
            </a:xfrm>
            <a:custGeom>
              <a:avLst/>
              <a:gdLst>
                <a:gd name="textAreaLeft" fmla="*/ 269640 w 1295280"/>
                <a:gd name="textAreaRight" fmla="*/ 1025640 w 1295280"/>
                <a:gd name="textAreaTop" fmla="*/ 88920 h 425520"/>
                <a:gd name="textAreaBottom" fmla="*/ 336600 h 42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2" name="AutoShape 17"/>
          <p:cNvSpPr/>
          <p:nvPr/>
        </p:nvSpPr>
        <p:spPr>
          <a:xfrm rot="16168200">
            <a:off x="7077240" y="3286080"/>
            <a:ext cx="1766880" cy="992160"/>
          </a:xfrm>
          <a:custGeom>
            <a:avLst/>
            <a:gdLst>
              <a:gd name="textAreaLeft" fmla="*/ 0 w 1766880"/>
              <a:gd name="textAreaRight" fmla="*/ 1767240 w 176688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664" y="0"/>
                </a:lnTo>
                <a:lnTo>
                  <a:pt x="21600" y="10800"/>
                </a:lnTo>
                <a:lnTo>
                  <a:pt x="136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3" name="Group 18"/>
          <p:cNvGrpSpPr/>
          <p:nvPr/>
        </p:nvGrpSpPr>
        <p:grpSpPr>
          <a:xfrm>
            <a:off x="7463880" y="1754640"/>
            <a:ext cx="1073880" cy="2977200"/>
            <a:chOff x="7463880" y="1754640"/>
            <a:chExt cx="1073880" cy="2977200"/>
          </a:xfrm>
        </p:grpSpPr>
        <p:sp>
          <p:nvSpPr>
            <p:cNvPr id="554" name="Text Box 19"/>
            <p:cNvSpPr/>
            <p:nvPr/>
          </p:nvSpPr>
          <p:spPr>
            <a:xfrm flipH="1">
              <a:off x="8152560" y="3660840"/>
              <a:ext cx="228600" cy="36828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AutoShape 20"/>
            <p:cNvSpPr/>
            <p:nvPr/>
          </p:nvSpPr>
          <p:spPr>
            <a:xfrm rot="10806600">
              <a:off x="7464240" y="1755720"/>
              <a:ext cx="1069920" cy="611280"/>
            </a:xfrm>
            <a:prstGeom prst="flowChartMerg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5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AutoShape 21"/>
            <p:cNvSpPr/>
            <p:nvPr/>
          </p:nvSpPr>
          <p:spPr>
            <a:xfrm rot="10806600">
              <a:off x="7467120" y="4119480"/>
              <a:ext cx="1069920" cy="611280"/>
            </a:xfrm>
            <a:prstGeom prst="flowChartMerge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7" name="Rectangle 22"/>
          <p:cNvSpPr/>
          <p:nvPr/>
        </p:nvSpPr>
        <p:spPr>
          <a:xfrm>
            <a:off x="685800" y="5489640"/>
            <a:ext cx="8077320" cy="45720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4"/>
          <p:cNvSpPr/>
          <p:nvPr/>
        </p:nvSpPr>
        <p:spPr>
          <a:xfrm>
            <a:off x="1143000" y="343080"/>
            <a:ext cx="7238880" cy="1104840"/>
          </a:xfrm>
          <a:prstGeom prst="rect">
            <a:avLst/>
          </a:prstGeom>
          <a:solidFill>
            <a:srgbClr val="00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omponents of the lytic pathw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Oval 5"/>
          <p:cNvSpPr/>
          <p:nvPr/>
        </p:nvSpPr>
        <p:spPr>
          <a:xfrm>
            <a:off x="4114800" y="2209680"/>
            <a:ext cx="1143000" cy="1143000"/>
          </a:xfrm>
          <a:prstGeom prst="ellipse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AutoShape 6"/>
          <p:cNvSpPr/>
          <p:nvPr/>
        </p:nvSpPr>
        <p:spPr>
          <a:xfrm>
            <a:off x="5867280" y="4267080"/>
            <a:ext cx="304920" cy="990720"/>
          </a:xfrm>
          <a:prstGeom prst="can">
            <a:avLst>
              <a:gd name="adj" fmla="val 31874"/>
            </a:avLst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Group 7"/>
          <p:cNvGrpSpPr/>
          <p:nvPr/>
        </p:nvGrpSpPr>
        <p:grpSpPr>
          <a:xfrm>
            <a:off x="2614320" y="3232440"/>
            <a:ext cx="1981440" cy="2939760"/>
            <a:chOff x="2614320" y="3232440"/>
            <a:chExt cx="1981440" cy="2939760"/>
          </a:xfrm>
        </p:grpSpPr>
        <p:sp>
          <p:nvSpPr>
            <p:cNvPr id="562" name="AutoShape 8"/>
            <p:cNvSpPr/>
            <p:nvPr/>
          </p:nvSpPr>
          <p:spPr>
            <a:xfrm>
              <a:off x="3276720" y="4876920"/>
              <a:ext cx="380880" cy="1295280"/>
            </a:xfrm>
            <a:prstGeom prst="can">
              <a:avLst>
                <a:gd name="adj" fmla="val 31874"/>
              </a:avLst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AutoShape 9"/>
            <p:cNvSpPr/>
            <p:nvPr/>
          </p:nvSpPr>
          <p:spPr>
            <a:xfrm rot="16033800">
              <a:off x="2500200" y="3443040"/>
              <a:ext cx="2209680" cy="1876680"/>
            </a:xfrm>
            <a:prstGeom prst="pi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C8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4" name="Group 10"/>
          <p:cNvGrpSpPr/>
          <p:nvPr/>
        </p:nvGrpSpPr>
        <p:grpSpPr>
          <a:xfrm>
            <a:off x="6934320" y="1905120"/>
            <a:ext cx="1143000" cy="2057400"/>
            <a:chOff x="6934320" y="1905120"/>
            <a:chExt cx="1143000" cy="2057400"/>
          </a:xfrm>
        </p:grpSpPr>
        <p:sp>
          <p:nvSpPr>
            <p:cNvPr id="565" name="Oval 11"/>
            <p:cNvSpPr/>
            <p:nvPr/>
          </p:nvSpPr>
          <p:spPr>
            <a:xfrm>
              <a:off x="6934320" y="1905120"/>
              <a:ext cx="1143000" cy="1133640"/>
            </a:xfrm>
            <a:prstGeom prst="ellipse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C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AutoShape 12"/>
            <p:cNvSpPr/>
            <p:nvPr/>
          </p:nvSpPr>
          <p:spPr>
            <a:xfrm>
              <a:off x="7315200" y="2667240"/>
              <a:ext cx="380880" cy="1295280"/>
            </a:xfrm>
            <a:prstGeom prst="can">
              <a:avLst>
                <a:gd name="adj" fmla="val 31874"/>
              </a:avLst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7" name="AutoShape 13"/>
          <p:cNvSpPr/>
          <p:nvPr/>
        </p:nvSpPr>
        <p:spPr>
          <a:xfrm rot="16227600">
            <a:off x="755280" y="2368440"/>
            <a:ext cx="1766880" cy="992160"/>
          </a:xfrm>
          <a:custGeom>
            <a:avLst/>
            <a:gdLst>
              <a:gd name="textAreaLeft" fmla="*/ 0 w 1766880"/>
              <a:gd name="textAreaRight" fmla="*/ 1767240 w 176688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143" y="0"/>
                </a:lnTo>
                <a:lnTo>
                  <a:pt x="21600" y="10800"/>
                </a:lnTo>
                <a:lnTo>
                  <a:pt x="1514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4"/>
          <p:cNvSpPr/>
          <p:nvPr/>
        </p:nvSpPr>
        <p:spPr>
          <a:xfrm>
            <a:off x="685800" y="5489640"/>
            <a:ext cx="8077320" cy="45720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Rectangle 5"/>
          <p:cNvSpPr/>
          <p:nvPr/>
        </p:nvSpPr>
        <p:spPr>
          <a:xfrm>
            <a:off x="1447920" y="343080"/>
            <a:ext cx="6553080" cy="1104840"/>
          </a:xfrm>
          <a:prstGeom prst="rect">
            <a:avLst/>
          </a:prstGeom>
          <a:solidFill>
            <a:srgbClr val="00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Lytic pathway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ssembly of the lytic comple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0" name="Group 6"/>
          <p:cNvGrpSpPr/>
          <p:nvPr/>
        </p:nvGrpSpPr>
        <p:grpSpPr>
          <a:xfrm>
            <a:off x="7456680" y="2894400"/>
            <a:ext cx="1081080" cy="1837440"/>
            <a:chOff x="7456680" y="2894400"/>
            <a:chExt cx="1081080" cy="1837440"/>
          </a:xfrm>
        </p:grpSpPr>
        <p:sp>
          <p:nvSpPr>
            <p:cNvPr id="571" name="AutoShape 7"/>
            <p:cNvSpPr/>
            <p:nvPr/>
          </p:nvSpPr>
          <p:spPr>
            <a:xfrm rot="16168200">
              <a:off x="7077240" y="3286080"/>
              <a:ext cx="1766880" cy="992160"/>
            </a:xfrm>
            <a:custGeom>
              <a:avLst/>
              <a:gdLst>
                <a:gd name="textAreaLeft" fmla="*/ 0 w 1766880"/>
                <a:gd name="textAreaRight" fmla="*/ 1767240 w 1766880"/>
                <a:gd name="textAreaTop" fmla="*/ 0 h 992160"/>
                <a:gd name="textAreaBottom" fmla="*/ 992520 h 99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664" y="0"/>
                  </a:lnTo>
                  <a:lnTo>
                    <a:pt x="21600" y="10800"/>
                  </a:lnTo>
                  <a:lnTo>
                    <a:pt x="1366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C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Text Box 8"/>
            <p:cNvSpPr/>
            <p:nvPr/>
          </p:nvSpPr>
          <p:spPr>
            <a:xfrm flipH="1">
              <a:off x="8152560" y="3657600"/>
              <a:ext cx="228600" cy="36828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AutoShape 9"/>
            <p:cNvSpPr/>
            <p:nvPr/>
          </p:nvSpPr>
          <p:spPr>
            <a:xfrm rot="10806600">
              <a:off x="7467120" y="4119480"/>
              <a:ext cx="1069920" cy="611280"/>
            </a:xfrm>
            <a:prstGeom prst="flowChartMerge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4" name="Oval 10"/>
          <p:cNvSpPr/>
          <p:nvPr/>
        </p:nvSpPr>
        <p:spPr>
          <a:xfrm>
            <a:off x="6705720" y="2286000"/>
            <a:ext cx="1143000" cy="1143000"/>
          </a:xfrm>
          <a:prstGeom prst="ellipse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5" name="Group 11"/>
          <p:cNvGrpSpPr/>
          <p:nvPr/>
        </p:nvGrpSpPr>
        <p:grpSpPr>
          <a:xfrm>
            <a:off x="6324480" y="3352680"/>
            <a:ext cx="1143000" cy="2057400"/>
            <a:chOff x="6324480" y="3352680"/>
            <a:chExt cx="1143000" cy="2057400"/>
          </a:xfrm>
        </p:grpSpPr>
        <p:sp>
          <p:nvSpPr>
            <p:cNvPr id="576" name="Oval 12"/>
            <p:cNvSpPr/>
            <p:nvPr/>
          </p:nvSpPr>
          <p:spPr>
            <a:xfrm>
              <a:off x="6324480" y="3352680"/>
              <a:ext cx="1143000" cy="1133640"/>
            </a:xfrm>
            <a:prstGeom prst="ellipse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C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AutoShape 13"/>
            <p:cNvSpPr/>
            <p:nvPr/>
          </p:nvSpPr>
          <p:spPr>
            <a:xfrm>
              <a:off x="6705360" y="4114800"/>
              <a:ext cx="380880" cy="1295280"/>
            </a:xfrm>
            <a:prstGeom prst="can">
              <a:avLst>
                <a:gd name="adj" fmla="val 31874"/>
              </a:avLst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4"/>
          <p:cNvSpPr/>
          <p:nvPr/>
        </p:nvSpPr>
        <p:spPr>
          <a:xfrm>
            <a:off x="685800" y="5489640"/>
            <a:ext cx="8077320" cy="45720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1143000" y="343080"/>
            <a:ext cx="7315200" cy="1028520"/>
          </a:xfrm>
          <a:prstGeom prst="rect">
            <a:avLst/>
          </a:prstGeom>
          <a:solidFill>
            <a:srgbClr val="00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Lytic pathway:</a:t>
            </a:r>
            <a:br>
              <a:rPr sz="36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sertion of lytic complex into cell membr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0" name="Group 6"/>
          <p:cNvGrpSpPr/>
          <p:nvPr/>
        </p:nvGrpSpPr>
        <p:grpSpPr>
          <a:xfrm>
            <a:off x="6324480" y="1981080"/>
            <a:ext cx="2213280" cy="3124440"/>
            <a:chOff x="6324480" y="1981080"/>
            <a:chExt cx="2213280" cy="3124440"/>
          </a:xfrm>
        </p:grpSpPr>
        <p:grpSp>
          <p:nvGrpSpPr>
            <p:cNvPr id="581" name="Group 7"/>
            <p:cNvGrpSpPr/>
            <p:nvPr/>
          </p:nvGrpSpPr>
          <p:grpSpPr>
            <a:xfrm>
              <a:off x="7456680" y="2589480"/>
              <a:ext cx="1081080" cy="1837440"/>
              <a:chOff x="7456680" y="2589480"/>
              <a:chExt cx="1081080" cy="1837440"/>
            </a:xfrm>
          </p:grpSpPr>
          <p:sp>
            <p:nvSpPr>
              <p:cNvPr id="582" name="AutoShape 8"/>
              <p:cNvSpPr/>
              <p:nvPr/>
            </p:nvSpPr>
            <p:spPr>
              <a:xfrm rot="16168200">
                <a:off x="7077240" y="2981160"/>
                <a:ext cx="1766880" cy="992160"/>
              </a:xfrm>
              <a:custGeom>
                <a:avLst/>
                <a:gdLst>
                  <a:gd name="textAreaLeft" fmla="*/ 0 w 1766880"/>
                  <a:gd name="textAreaRight" fmla="*/ 1767240 w 176688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3664" y="0"/>
                    </a:lnTo>
                    <a:lnTo>
                      <a:pt x="21600" y="10800"/>
                    </a:lnTo>
                    <a:lnTo>
                      <a:pt x="1366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Arial"/>
                  </a:rPr>
                  <a:t>C5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Text Box 9"/>
              <p:cNvSpPr/>
              <p:nvPr/>
            </p:nvSpPr>
            <p:spPr>
              <a:xfrm flipH="1">
                <a:off x="8152560" y="3352680"/>
                <a:ext cx="228600" cy="36828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AutoShape 10"/>
              <p:cNvSpPr/>
              <p:nvPr/>
            </p:nvSpPr>
            <p:spPr>
              <a:xfrm rot="10806600">
                <a:off x="7467120" y="3814560"/>
                <a:ext cx="1069920" cy="611280"/>
              </a:xfrm>
              <a:prstGeom prst="flowChartMerge">
                <a:avLst/>
              </a:prstGeom>
              <a:solidFill>
                <a:srgbClr val="eaeaea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5" name="Oval 11"/>
            <p:cNvSpPr/>
            <p:nvPr/>
          </p:nvSpPr>
          <p:spPr>
            <a:xfrm>
              <a:off x="6705720" y="1981080"/>
              <a:ext cx="1143000" cy="114300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C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6" name="Group 12"/>
            <p:cNvGrpSpPr/>
            <p:nvPr/>
          </p:nvGrpSpPr>
          <p:grpSpPr>
            <a:xfrm>
              <a:off x="6324480" y="3048120"/>
              <a:ext cx="1143000" cy="2057400"/>
              <a:chOff x="6324480" y="3048120"/>
              <a:chExt cx="1143000" cy="2057400"/>
            </a:xfrm>
          </p:grpSpPr>
          <p:sp>
            <p:nvSpPr>
              <p:cNvPr id="587" name="Oval 13"/>
              <p:cNvSpPr/>
              <p:nvPr/>
            </p:nvSpPr>
            <p:spPr>
              <a:xfrm>
                <a:off x="6324480" y="3048120"/>
                <a:ext cx="1143000" cy="1133640"/>
              </a:xfrm>
              <a:prstGeom prst="ellipse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Arial"/>
                  </a:rPr>
                  <a:t>C7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AutoShape 14"/>
              <p:cNvSpPr/>
              <p:nvPr/>
            </p:nvSpPr>
            <p:spPr>
              <a:xfrm>
                <a:off x="6705360" y="3810240"/>
                <a:ext cx="380880" cy="1295280"/>
              </a:xfrm>
              <a:prstGeom prst="can">
                <a:avLst>
                  <a:gd name="adj" fmla="val 31874"/>
                </a:avLst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9" name="Group 15"/>
          <p:cNvGrpSpPr/>
          <p:nvPr/>
        </p:nvGrpSpPr>
        <p:grpSpPr>
          <a:xfrm>
            <a:off x="5895360" y="2553120"/>
            <a:ext cx="1696680" cy="2704320"/>
            <a:chOff x="5895360" y="2553120"/>
            <a:chExt cx="1696680" cy="2704320"/>
          </a:xfrm>
        </p:grpSpPr>
        <p:sp>
          <p:nvSpPr>
            <p:cNvPr id="590" name="AutoShape 16"/>
            <p:cNvSpPr/>
            <p:nvPr/>
          </p:nvSpPr>
          <p:spPr>
            <a:xfrm>
              <a:off x="6463440" y="4064760"/>
              <a:ext cx="324720" cy="1192680"/>
            </a:xfrm>
            <a:prstGeom prst="can">
              <a:avLst>
                <a:gd name="adj" fmla="val 31874"/>
              </a:avLst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AutoShape 17"/>
            <p:cNvSpPr/>
            <p:nvPr/>
          </p:nvSpPr>
          <p:spPr>
            <a:xfrm rot="16033800">
              <a:off x="5725800" y="2807640"/>
              <a:ext cx="2035080" cy="1600200"/>
            </a:xfrm>
            <a:prstGeom prst="pi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C8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92" name="Picture 18" descr="ComplRBC"/>
          <p:cNvPicPr/>
          <p:nvPr/>
        </p:nvPicPr>
        <p:blipFill>
          <a:blip r:embed="rId1"/>
          <a:stretch/>
        </p:blipFill>
        <p:spPr>
          <a:xfrm>
            <a:off x="762120" y="1676520"/>
            <a:ext cx="3533760" cy="3733560"/>
          </a:xfrm>
          <a:prstGeom prst="rect">
            <a:avLst/>
          </a:prstGeom>
          <a:ln w="0">
            <a:noFill/>
          </a:ln>
        </p:spPr>
      </p:pic>
      <p:grpSp>
        <p:nvGrpSpPr>
          <p:cNvPr id="593" name="Group 19"/>
          <p:cNvGrpSpPr/>
          <p:nvPr/>
        </p:nvGrpSpPr>
        <p:grpSpPr>
          <a:xfrm>
            <a:off x="4495680" y="4419720"/>
            <a:ext cx="1676520" cy="1218960"/>
            <a:chOff x="4495680" y="4419720"/>
            <a:chExt cx="1676520" cy="1218960"/>
          </a:xfrm>
        </p:grpSpPr>
        <p:sp>
          <p:nvSpPr>
            <p:cNvPr id="594" name="AutoShape 20"/>
            <p:cNvSpPr/>
            <p:nvPr/>
          </p:nvSpPr>
          <p:spPr>
            <a:xfrm>
              <a:off x="5791320" y="4495680"/>
              <a:ext cx="380880" cy="1143000"/>
            </a:xfrm>
            <a:prstGeom prst="irregularSeal1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AutoShape 21"/>
            <p:cNvSpPr/>
            <p:nvPr/>
          </p:nvSpPr>
          <p:spPr>
            <a:xfrm>
              <a:off x="4495680" y="4419720"/>
              <a:ext cx="457200" cy="1143000"/>
            </a:xfrm>
            <a:prstGeom prst="irregularSeal1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6" name="AutoShape 22"/>
          <p:cNvSpPr/>
          <p:nvPr/>
        </p:nvSpPr>
        <p:spPr>
          <a:xfrm>
            <a:off x="4968720" y="3657600"/>
            <a:ext cx="320760" cy="990720"/>
          </a:xfrm>
          <a:prstGeom prst="can">
            <a:avLst>
              <a:gd name="adj" fmla="val 31874"/>
            </a:avLst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AutoShape 23"/>
          <p:cNvSpPr/>
          <p:nvPr/>
        </p:nvSpPr>
        <p:spPr>
          <a:xfrm>
            <a:off x="4740120" y="3733920"/>
            <a:ext cx="320760" cy="990360"/>
          </a:xfrm>
          <a:prstGeom prst="can">
            <a:avLst>
              <a:gd name="adj" fmla="val 31874"/>
            </a:avLst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AutoShape 24"/>
          <p:cNvSpPr/>
          <p:nvPr/>
        </p:nvSpPr>
        <p:spPr>
          <a:xfrm>
            <a:off x="5257800" y="3657600"/>
            <a:ext cx="320760" cy="990720"/>
          </a:xfrm>
          <a:prstGeom prst="can">
            <a:avLst>
              <a:gd name="adj" fmla="val 31874"/>
            </a:avLst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AutoShape 25"/>
          <p:cNvSpPr/>
          <p:nvPr/>
        </p:nvSpPr>
        <p:spPr>
          <a:xfrm>
            <a:off x="5578560" y="3733920"/>
            <a:ext cx="304560" cy="990360"/>
          </a:xfrm>
          <a:prstGeom prst="can">
            <a:avLst>
              <a:gd name="adj" fmla="val 31874"/>
            </a:avLst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AutoShape 26"/>
          <p:cNvSpPr/>
          <p:nvPr/>
        </p:nvSpPr>
        <p:spPr>
          <a:xfrm>
            <a:off x="5730840" y="4038480"/>
            <a:ext cx="320760" cy="990720"/>
          </a:xfrm>
          <a:prstGeom prst="can">
            <a:avLst>
              <a:gd name="adj" fmla="val 31874"/>
            </a:avLst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AutoShape 27"/>
          <p:cNvSpPr/>
          <p:nvPr/>
        </p:nvSpPr>
        <p:spPr>
          <a:xfrm>
            <a:off x="4572000" y="4038480"/>
            <a:ext cx="320760" cy="990720"/>
          </a:xfrm>
          <a:prstGeom prst="can">
            <a:avLst>
              <a:gd name="adj" fmla="val 31874"/>
            </a:avLst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AutoShape 28"/>
          <p:cNvSpPr/>
          <p:nvPr/>
        </p:nvSpPr>
        <p:spPr>
          <a:xfrm>
            <a:off x="4816440" y="4267080"/>
            <a:ext cx="320760" cy="990720"/>
          </a:xfrm>
          <a:prstGeom prst="can">
            <a:avLst>
              <a:gd name="adj" fmla="val 31874"/>
            </a:avLst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AutoShape 29"/>
          <p:cNvSpPr/>
          <p:nvPr/>
        </p:nvSpPr>
        <p:spPr>
          <a:xfrm>
            <a:off x="5153040" y="4343400"/>
            <a:ext cx="320760" cy="990720"/>
          </a:xfrm>
          <a:prstGeom prst="can">
            <a:avLst>
              <a:gd name="adj" fmla="val 31874"/>
            </a:avLst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AutoShape 30"/>
          <p:cNvSpPr/>
          <p:nvPr/>
        </p:nvSpPr>
        <p:spPr>
          <a:xfrm>
            <a:off x="5486400" y="4267080"/>
            <a:ext cx="320760" cy="990720"/>
          </a:xfrm>
          <a:prstGeom prst="can">
            <a:avLst>
              <a:gd name="adj" fmla="val 31874"/>
            </a:avLst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Bent Arrow 32"/>
          <p:cNvSpPr/>
          <p:nvPr/>
        </p:nvSpPr>
        <p:spPr>
          <a:xfrm flipH="1">
            <a:off x="4419000" y="2057400"/>
            <a:ext cx="685800" cy="1523880"/>
          </a:xfrm>
          <a:custGeom>
            <a:avLst/>
            <a:gdLst/>
            <a:ahLst/>
            <a:rect l="l" t="t" r="r" b="b"/>
            <a:pathLst>
              <a:path w="685800" h="1524000">
                <a:moveTo>
                  <a:pt x="0" y="1524000"/>
                </a:moveTo>
                <a:lnTo>
                  <a:pt x="0" y="385763"/>
                </a:lnTo>
                <a:lnTo>
                  <a:pt x="0" y="385763"/>
                </a:lnTo>
                <a:arcTo wR="300038" hR="300038" stAng="10800000" swAng="5400011"/>
                <a:lnTo>
                  <a:pt x="514350" y="85725"/>
                </a:lnTo>
                <a:lnTo>
                  <a:pt x="514350" y="0"/>
                </a:lnTo>
                <a:lnTo>
                  <a:pt x="685800" y="171450"/>
                </a:lnTo>
                <a:lnTo>
                  <a:pt x="514350" y="342900"/>
                </a:lnTo>
                <a:lnTo>
                  <a:pt x="514350" y="257175"/>
                </a:lnTo>
                <a:lnTo>
                  <a:pt x="300038" y="257175"/>
                </a:lnTo>
                <a:lnTo>
                  <a:pt x="300038" y="257175"/>
                </a:lnTo>
                <a:arcTo wR="128588" hR="128588" stAng="-5400000" swAng="-5400000"/>
                <a:lnTo>
                  <a:pt x="171450" y="1524000"/>
                </a:lnTo>
                <a:close/>
              </a:path>
            </a:pathLst>
          </a:custGeom>
          <a:solidFill>
            <a:srgbClr val="a7d2df"/>
          </a:solidFill>
          <a:ln w="25560">
            <a:solidFill>
              <a:srgbClr val="7a9a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iological effects of complement activation</a:t>
            </a:r>
            <a:endParaRPr b="0" lang="en-US" sz="32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914400" y="17935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Anaphylatoxin  (C3a, C5a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Induce histamine release from mast cel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ease chemotactic ag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Opsonization: (opsonin, C3b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ating of  bacteria enhances phagocyt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Cause direct cell 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Destruction of bacter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09E0-A681-44AF-A783-A44E9FD35EC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Process of chemotaxis: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olling on vessel wall.         Adhesion (attach)    Pass through.  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275c6d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275c6d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302000"/>
          </a:xfrm>
          <a:prstGeom prst="rect">
            <a:avLst/>
          </a:prstGeom>
          <a:ln w="0">
            <a:noFill/>
          </a:ln>
        </p:spPr>
      </p:pic>
      <p:sp>
        <p:nvSpPr>
          <p:cNvPr id="61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33B1-5739-48EC-8994-45BEFADCF32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2" name="Picture 2" descr="http://www.chronicprostatitis.com/images/f3.jpg"/>
          <p:cNvPicPr/>
          <p:nvPr/>
        </p:nvPicPr>
        <p:blipFill>
          <a:blip r:embed="rId2"/>
          <a:stretch/>
        </p:blipFill>
        <p:spPr>
          <a:xfrm>
            <a:off x="228600" y="1371600"/>
            <a:ext cx="8610480" cy="5257800"/>
          </a:xfrm>
          <a:prstGeom prst="rect">
            <a:avLst/>
          </a:prstGeom>
          <a:ln w="0">
            <a:noFill/>
          </a:ln>
        </p:spPr>
      </p:pic>
      <p:cxnSp>
        <p:nvCxnSpPr>
          <p:cNvPr id="613" name="Straight Arrow Connector 8"/>
          <p:cNvCxnSpPr/>
          <p:nvPr/>
        </p:nvCxnSpPr>
        <p:spPr>
          <a:xfrm flipH="1">
            <a:off x="6017400" y="1220760"/>
            <a:ext cx="3960" cy="1296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614" name="Down Arrow 8"/>
          <p:cNvSpPr/>
          <p:nvPr/>
        </p:nvSpPr>
        <p:spPr>
          <a:xfrm>
            <a:off x="1371600" y="1295280"/>
            <a:ext cx="304920" cy="4572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00003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Down Arrow 9"/>
          <p:cNvSpPr/>
          <p:nvPr/>
        </p:nvSpPr>
        <p:spPr>
          <a:xfrm>
            <a:off x="5791320" y="1295280"/>
            <a:ext cx="380880" cy="121932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00003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Down Arrow 10"/>
          <p:cNvSpPr/>
          <p:nvPr/>
        </p:nvSpPr>
        <p:spPr>
          <a:xfrm>
            <a:off x="7315200" y="1295280"/>
            <a:ext cx="380880" cy="1130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33"/>
          </a:solidFill>
          <a:ln w="9360">
            <a:solidFill>
              <a:srgbClr val="a7d2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First (non-specific immunity) and second (adaptive immunity) lines of defe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ment activation provides protection by killing pathoge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umulation of inflammatory cells important for clearance of inf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ytokines as mediators regulate inflamm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C636-8A0E-4229-9D76-220392BDA15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ypes of Cells attracted to site of infection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that mediate inflammation : </a:t>
            </a:r>
            <a:endParaRPr b="0" lang="en-US" sz="36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nocyt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come Macrophages when they leave the blood and  enter the tissu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eutrophil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(Phagocytic cel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osinophil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(Allergy and Parasitic infect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atural Killer (NK) cell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(Kill tumor cells and virus infected cel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C7DF-CCDB-4B92-BE4C-61CDEE22DD8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hagocytic cells (neutrophils &amp; macrophages) at site of infection start the process of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hagocytosis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e process by which a cell ingests and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  destroy foreign material</a:t>
            </a:r>
            <a:endParaRPr b="0" lang="en-US" sz="3600" spc="-1" strike="noStrike">
              <a:solidFill>
                <a:srgbClr val="275c6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456840" y="1828800"/>
            <a:ext cx="33526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2" name="Picture 2" descr=""/>
          <p:cNvPicPr/>
          <p:nvPr/>
        </p:nvPicPr>
        <p:blipFill>
          <a:blip r:embed="rId1"/>
          <a:srcRect l="4865" t="7887" r="17372" b="12055"/>
          <a:stretch/>
        </p:blipFill>
        <p:spPr>
          <a:xfrm>
            <a:off x="4572000" y="0"/>
            <a:ext cx="4572000" cy="6705720"/>
          </a:xfrm>
          <a:prstGeom prst="rect">
            <a:avLst/>
          </a:prstGeom>
          <a:ln w="0">
            <a:noFill/>
          </a:ln>
        </p:spPr>
      </p:pic>
      <p:sp>
        <p:nvSpPr>
          <p:cNvPr id="623" name="Content Placeholder 2"/>
          <p:cNvSpPr/>
          <p:nvPr/>
        </p:nvSpPr>
        <p:spPr>
          <a:xfrm>
            <a:off x="304920" y="1752480"/>
            <a:ext cx="3352680" cy="43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4" name="Picture 2" descr="http://www.chronicprostatitis.com/images/neutrophil.jpg"/>
          <p:cNvPicPr/>
          <p:nvPr/>
        </p:nvPicPr>
        <p:blipFill>
          <a:blip r:embed="rId2"/>
          <a:stretch/>
        </p:blipFill>
        <p:spPr>
          <a:xfrm>
            <a:off x="0" y="0"/>
            <a:ext cx="4605480" cy="669924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10"/>
          <p:cNvSpPr/>
          <p:nvPr/>
        </p:nvSpPr>
        <p:spPr>
          <a:xfrm>
            <a:off x="4572000" y="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rophage attacking E. coli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302000"/>
          </a:xfrm>
          <a:prstGeom prst="rect">
            <a:avLst/>
          </a:prstGeom>
          <a:ln w="0">
            <a:noFill/>
          </a:ln>
        </p:spPr>
      </p:pic>
      <p:sp>
        <p:nvSpPr>
          <p:cNvPr id="62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7C5E-1F6C-42E7-8B4B-CFE0449B4CB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9" name="Picture 2" descr="http://www.metapathogen.com/IMG/phagocytosis-diagram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630" name="TextBox 5"/>
          <p:cNvSpPr/>
          <p:nvPr/>
        </p:nvSpPr>
        <p:spPr>
          <a:xfrm>
            <a:off x="685800" y="0"/>
            <a:ext cx="7772400" cy="764280"/>
          </a:xfrm>
          <a:prstGeom prst="rect">
            <a:avLst/>
          </a:prstGeom>
          <a:solidFill>
            <a:srgbClr val="a7d2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  <a:ea typeface="Arial"/>
              </a:rPr>
              <a:t>Phagocyto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ytokines 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luble molecules, produced by different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cells, that control cell functions e.g. activation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        or inhibition.</a:t>
            </a:r>
            <a:endParaRPr b="0" lang="en-US" sz="32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57200" y="2437920"/>
            <a:ext cx="822960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.g.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erleuk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ed primarily by macrophages and lymphocytes in response to a pathoge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-1, IL-2, IL-3…....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4c8d9"/>
                </a:solidFill>
                <a:latin typeface="Times New Roman"/>
              </a:rPr>
              <a:t>Cytokines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erfero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cts against viral inf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ed and released by virally infected cells in response to viral infec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4c8d9"/>
                </a:solidFill>
                <a:latin typeface="Times New Roman"/>
              </a:rPr>
              <a:t>Cytokines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umor necrosis factor (TNF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reted by macrophag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uces fever by acting as an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ndogenous pyroge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a substance released from inside the body that produces fev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reases synthesis of inflammatory serum prote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ke home message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57200" y="16002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specific (innate immunity) acts as a first line of defense against invading pathoge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nate immunity is an important initial step for generation adaptive immune respo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lammation is vital for controlling infection and limiting tissue damage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9F22-96E4-4497-87D8-904C8936E66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AutoShape 10"/>
          <p:cNvSpPr/>
          <p:nvPr/>
        </p:nvSpPr>
        <p:spPr>
          <a:xfrm>
            <a:off x="1144440" y="4432320"/>
            <a:ext cx="1016280" cy="5335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6835320" y="5410080"/>
            <a:ext cx="20840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teria e.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ubercule bacill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phylococc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12"/>
          <p:cNvSpPr/>
          <p:nvPr/>
        </p:nvSpPr>
        <p:spPr>
          <a:xfrm>
            <a:off x="533520" y="5410080"/>
            <a:ext cx="1746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gi e.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dida albica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228600" y="9144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uses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luen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i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5791320" y="1295280"/>
            <a:ext cx="24462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sites e.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pewor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a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1" name="Group 15"/>
          <p:cNvGrpSpPr/>
          <p:nvPr/>
        </p:nvGrpSpPr>
        <p:grpSpPr>
          <a:xfrm>
            <a:off x="770400" y="2033640"/>
            <a:ext cx="1392120" cy="1269720"/>
            <a:chOff x="770400" y="2033640"/>
            <a:chExt cx="1392120" cy="1269720"/>
          </a:xfrm>
        </p:grpSpPr>
        <p:sp>
          <p:nvSpPr>
            <p:cNvPr id="482" name="AutoShape 16"/>
            <p:cNvSpPr/>
            <p:nvPr/>
          </p:nvSpPr>
          <p:spPr>
            <a:xfrm rot="1849800">
              <a:off x="1262160" y="2653920"/>
              <a:ext cx="542160" cy="549360"/>
            </a:xfrm>
            <a:prstGeom prst="sun">
              <a:avLst>
                <a:gd name="adj" fmla="val 25000"/>
              </a:avLst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AutoShape 17"/>
            <p:cNvSpPr/>
            <p:nvPr/>
          </p:nvSpPr>
          <p:spPr>
            <a:xfrm rot="1849800">
              <a:off x="1517760" y="2133720"/>
              <a:ext cx="542160" cy="549360"/>
            </a:xfrm>
            <a:prstGeom prst="sun">
              <a:avLst>
                <a:gd name="adj" fmla="val 25000"/>
              </a:avLst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AutoShape 18"/>
            <p:cNvSpPr/>
            <p:nvPr/>
          </p:nvSpPr>
          <p:spPr>
            <a:xfrm rot="1849800">
              <a:off x="872640" y="2188080"/>
              <a:ext cx="542160" cy="549000"/>
            </a:xfrm>
            <a:prstGeom prst="sun">
              <a:avLst>
                <a:gd name="adj" fmla="val 25000"/>
              </a:avLst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5" name="AutoShape 19"/>
          <p:cNvSpPr/>
          <p:nvPr/>
        </p:nvSpPr>
        <p:spPr>
          <a:xfrm>
            <a:off x="1460520" y="4957920"/>
            <a:ext cx="1015920" cy="5331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6" name="Group 20"/>
          <p:cNvGrpSpPr/>
          <p:nvPr/>
        </p:nvGrpSpPr>
        <p:grpSpPr>
          <a:xfrm>
            <a:off x="5938920" y="4316400"/>
            <a:ext cx="1610640" cy="1150560"/>
            <a:chOff x="5938920" y="4316400"/>
            <a:chExt cx="1610640" cy="1150560"/>
          </a:xfrm>
        </p:grpSpPr>
        <p:grpSp>
          <p:nvGrpSpPr>
            <p:cNvPr id="487" name="Group 21"/>
            <p:cNvGrpSpPr/>
            <p:nvPr/>
          </p:nvGrpSpPr>
          <p:grpSpPr>
            <a:xfrm>
              <a:off x="6658560" y="4316400"/>
              <a:ext cx="825480" cy="262080"/>
              <a:chOff x="6658560" y="4316400"/>
              <a:chExt cx="825480" cy="262080"/>
            </a:xfrm>
          </p:grpSpPr>
          <p:sp>
            <p:nvSpPr>
              <p:cNvPr id="488" name="AutoShape 22"/>
              <p:cNvSpPr/>
              <p:nvPr/>
            </p:nvSpPr>
            <p:spPr>
              <a:xfrm>
                <a:off x="7071120" y="4316400"/>
                <a:ext cx="412920" cy="26208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AutoShape 23"/>
              <p:cNvSpPr/>
              <p:nvPr/>
            </p:nvSpPr>
            <p:spPr>
              <a:xfrm flipH="1">
                <a:off x="6658560" y="4316400"/>
                <a:ext cx="412560" cy="26208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Group 24"/>
            <p:cNvGrpSpPr/>
            <p:nvPr/>
          </p:nvGrpSpPr>
          <p:grpSpPr>
            <a:xfrm>
              <a:off x="5938920" y="4637160"/>
              <a:ext cx="825480" cy="262080"/>
              <a:chOff x="5938920" y="4637160"/>
              <a:chExt cx="825480" cy="262080"/>
            </a:xfrm>
          </p:grpSpPr>
          <p:sp>
            <p:nvSpPr>
              <p:cNvPr id="491" name="AutoShape 25"/>
              <p:cNvSpPr/>
              <p:nvPr/>
            </p:nvSpPr>
            <p:spPr>
              <a:xfrm>
                <a:off x="6351480" y="4637160"/>
                <a:ext cx="412920" cy="26208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AutoShape 26"/>
              <p:cNvSpPr/>
              <p:nvPr/>
            </p:nvSpPr>
            <p:spPr>
              <a:xfrm flipH="1">
                <a:off x="5938920" y="4637160"/>
                <a:ext cx="412560" cy="26208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Group 27"/>
            <p:cNvGrpSpPr/>
            <p:nvPr/>
          </p:nvGrpSpPr>
          <p:grpSpPr>
            <a:xfrm>
              <a:off x="6724440" y="4869360"/>
              <a:ext cx="825120" cy="262080"/>
              <a:chOff x="6724440" y="4869360"/>
              <a:chExt cx="825120" cy="262080"/>
            </a:xfrm>
          </p:grpSpPr>
          <p:sp>
            <p:nvSpPr>
              <p:cNvPr id="494" name="AutoShape 28"/>
              <p:cNvSpPr/>
              <p:nvPr/>
            </p:nvSpPr>
            <p:spPr>
              <a:xfrm>
                <a:off x="7137000" y="4869360"/>
                <a:ext cx="412560" cy="26208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AutoShape 29"/>
              <p:cNvSpPr/>
              <p:nvPr/>
            </p:nvSpPr>
            <p:spPr>
              <a:xfrm flipH="1">
                <a:off x="6724080" y="4869360"/>
                <a:ext cx="412200" cy="26208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6" name="Group 30"/>
            <p:cNvGrpSpPr/>
            <p:nvPr/>
          </p:nvGrpSpPr>
          <p:grpSpPr>
            <a:xfrm>
              <a:off x="6095880" y="5205240"/>
              <a:ext cx="825120" cy="261720"/>
              <a:chOff x="6095880" y="5205240"/>
              <a:chExt cx="825120" cy="261720"/>
            </a:xfrm>
          </p:grpSpPr>
          <p:sp>
            <p:nvSpPr>
              <p:cNvPr id="497" name="AutoShape 31"/>
              <p:cNvSpPr/>
              <p:nvPr/>
            </p:nvSpPr>
            <p:spPr>
              <a:xfrm>
                <a:off x="6508440" y="5205240"/>
                <a:ext cx="412560" cy="26172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AutoShape 32"/>
              <p:cNvSpPr/>
              <p:nvPr/>
            </p:nvSpPr>
            <p:spPr>
              <a:xfrm flipH="1">
                <a:off x="6095520" y="5205240"/>
                <a:ext cx="412200" cy="26172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9" name="Line 33"/>
          <p:cNvSpPr/>
          <p:nvPr/>
        </p:nvSpPr>
        <p:spPr>
          <a:xfrm>
            <a:off x="4921200" y="4309920"/>
            <a:ext cx="692280" cy="43992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Line 34"/>
          <p:cNvSpPr/>
          <p:nvPr/>
        </p:nvSpPr>
        <p:spPr>
          <a:xfrm flipH="1">
            <a:off x="4955400" y="2686680"/>
            <a:ext cx="683640" cy="538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Line 35"/>
          <p:cNvSpPr/>
          <p:nvPr/>
        </p:nvSpPr>
        <p:spPr>
          <a:xfrm flipH="1">
            <a:off x="2387160" y="4281480"/>
            <a:ext cx="692280" cy="43992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Line 36"/>
          <p:cNvSpPr/>
          <p:nvPr/>
        </p:nvSpPr>
        <p:spPr>
          <a:xfrm>
            <a:off x="2421360" y="2657880"/>
            <a:ext cx="683640" cy="538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Text Box 37"/>
          <p:cNvSpPr/>
          <p:nvPr/>
        </p:nvSpPr>
        <p:spPr>
          <a:xfrm>
            <a:off x="609480" y="1522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ain function of the immune system is to protect from infection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4" name="Object 2"/>
          <p:cNvGraphicFramePr/>
          <p:nvPr/>
        </p:nvGraphicFramePr>
        <p:xfrm>
          <a:off x="3436920" y="2454120"/>
          <a:ext cx="1116000" cy="24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6920" y="2454120"/>
                    <a:ext cx="1116000" cy="24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6" name="Group 2"/>
          <p:cNvGrpSpPr/>
          <p:nvPr/>
        </p:nvGrpSpPr>
        <p:grpSpPr>
          <a:xfrm>
            <a:off x="5750280" y="2556000"/>
            <a:ext cx="2193120" cy="631440"/>
            <a:chOff x="5750280" y="2556000"/>
            <a:chExt cx="2193120" cy="631440"/>
          </a:xfrm>
        </p:grpSpPr>
        <p:sp>
          <p:nvSpPr>
            <p:cNvPr id="507" name="AutoShape 3"/>
            <p:cNvSpPr/>
            <p:nvPr/>
          </p:nvSpPr>
          <p:spPr>
            <a:xfrm rot="21489000">
              <a:off x="5758560" y="2652120"/>
              <a:ext cx="394920" cy="52884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528840"/>
                <a:gd name="textAreaBottom" fmla="*/ 188640 h 52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AutoShape 4"/>
            <p:cNvSpPr/>
            <p:nvPr/>
          </p:nvSpPr>
          <p:spPr>
            <a:xfrm flipV="1" rot="21489000">
              <a:off x="6055920" y="2642400"/>
              <a:ext cx="396720" cy="52884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-360 h 528840"/>
                <a:gd name="textAreaBottom" fmla="*/ 188280 h 52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AutoShape 5"/>
            <p:cNvSpPr/>
            <p:nvPr/>
          </p:nvSpPr>
          <p:spPr>
            <a:xfrm rot="21489000">
              <a:off x="6352200" y="2633040"/>
              <a:ext cx="396720" cy="52884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528840"/>
                <a:gd name="textAreaBottom" fmla="*/ 188640 h 52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AutoShape 6"/>
            <p:cNvSpPr/>
            <p:nvPr/>
          </p:nvSpPr>
          <p:spPr>
            <a:xfrm rot="21489000">
              <a:off x="7540560" y="2561760"/>
              <a:ext cx="394200" cy="528840"/>
            </a:xfrm>
            <a:custGeom>
              <a:avLst/>
              <a:gdLst>
                <a:gd name="textAreaLeft" fmla="*/ 0 w 394200"/>
                <a:gd name="textAreaRight" fmla="*/ 394560 w 394200"/>
                <a:gd name="textAreaTop" fmla="*/ 0 h 528840"/>
                <a:gd name="textAreaBottom" fmla="*/ 188640 h 52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AutoShape 7"/>
            <p:cNvSpPr/>
            <p:nvPr/>
          </p:nvSpPr>
          <p:spPr>
            <a:xfrm rot="21489000">
              <a:off x="6911280" y="2611440"/>
              <a:ext cx="398160" cy="52884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528840"/>
                <a:gd name="textAreaBottom" fmla="*/ 188640 h 52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AutoShape 8"/>
            <p:cNvSpPr/>
            <p:nvPr/>
          </p:nvSpPr>
          <p:spPr>
            <a:xfrm flipV="1" rot="21489000">
              <a:off x="7239600" y="2576160"/>
              <a:ext cx="397080" cy="52884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-360 h 528840"/>
                <a:gd name="textAreaBottom" fmla="*/ 188280 h 52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AutoShape 9"/>
            <p:cNvSpPr/>
            <p:nvPr/>
          </p:nvSpPr>
          <p:spPr>
            <a:xfrm flipV="1" rot="21489000">
              <a:off x="6649920" y="2623320"/>
              <a:ext cx="396720" cy="52884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-360 h 528840"/>
                <a:gd name="textAreaBottom" fmla="*/ 188280 h 52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4" name="Oval 39"/>
          <p:cNvSpPr/>
          <p:nvPr/>
        </p:nvSpPr>
        <p:spPr>
          <a:xfrm>
            <a:off x="5824440" y="2743200"/>
            <a:ext cx="684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3" descr="E:\MEDIA\1421\142122.JPG"/>
          <p:cNvPicPr/>
          <p:nvPr/>
        </p:nvPicPr>
        <p:blipFill>
          <a:blip r:embed="rId1"/>
          <a:srcRect l="1612" t="0" r="1612" b="0"/>
          <a:stretch/>
        </p:blipFill>
        <p:spPr>
          <a:xfrm>
            <a:off x="0" y="1905120"/>
            <a:ext cx="9194760" cy="4952880"/>
          </a:xfrm>
          <a:prstGeom prst="rect">
            <a:avLst/>
          </a:prstGeom>
          <a:ln w="0">
            <a:noFill/>
          </a:ln>
        </p:spPr>
      </p:pic>
      <p:sp>
        <p:nvSpPr>
          <p:cNvPr id="516" name="TextBox 2"/>
          <p:cNvSpPr/>
          <p:nvPr/>
        </p:nvSpPr>
        <p:spPr>
          <a:xfrm>
            <a:off x="304920" y="30492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rst and the second lines of defense: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17" name="Straight Arrow Connector 4"/>
          <p:cNvCxnSpPr/>
          <p:nvPr/>
        </p:nvCxnSpPr>
        <p:spPr>
          <a:xfrm>
            <a:off x="990720" y="990720"/>
            <a:ext cx="1829520" cy="838800"/>
          </a:xfrm>
          <a:prstGeom prst="straightConnector1">
            <a:avLst/>
          </a:prstGeom>
          <a:ln w="28440">
            <a:solidFill>
              <a:srgbClr val="fede54"/>
            </a:solidFill>
            <a:miter/>
            <a:tailEnd len="med" type="arrow" w="med"/>
          </a:ln>
        </p:spPr>
      </p:cxnSp>
      <p:cxnSp>
        <p:nvCxnSpPr>
          <p:cNvPr id="518" name="Straight Arrow Connector 6"/>
          <p:cNvCxnSpPr/>
          <p:nvPr/>
        </p:nvCxnSpPr>
        <p:spPr>
          <a:xfrm>
            <a:off x="4267080" y="914400"/>
            <a:ext cx="2439000" cy="915120"/>
          </a:xfrm>
          <a:prstGeom prst="straightConnector1">
            <a:avLst/>
          </a:prstGeom>
          <a:ln w="31680">
            <a:solidFill>
              <a:srgbClr val="fede54"/>
            </a:solidFill>
            <a:miter/>
            <a:tailEnd len="med" type="arrow" w="med"/>
          </a:ln>
        </p:spPr>
      </p:cxnSp>
      <p:sp>
        <p:nvSpPr>
          <p:cNvPr id="519" name="TextBox 6"/>
          <p:cNvSpPr/>
          <p:nvPr/>
        </p:nvSpPr>
        <p:spPr>
          <a:xfrm>
            <a:off x="76320" y="3254400"/>
            <a:ext cx="5790960" cy="703800"/>
          </a:xfrm>
          <a:prstGeom prst="rect">
            <a:avLst/>
          </a:prstGeom>
          <a:solidFill>
            <a:srgbClr val="ddba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 Narrow"/>
                <a:ea typeface="Arial"/>
              </a:rPr>
              <a:t>First Line of Defen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TextBox 7"/>
          <p:cNvSpPr/>
          <p:nvPr/>
        </p:nvSpPr>
        <p:spPr>
          <a:xfrm>
            <a:off x="5867280" y="3254400"/>
            <a:ext cx="3276720" cy="703800"/>
          </a:xfrm>
          <a:prstGeom prst="rect">
            <a:avLst/>
          </a:prstGeom>
          <a:solidFill>
            <a:srgbClr val="d4f1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 Narrow"/>
              </a:rPr>
              <a:t>Second Line of Defen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irst line of defense :</a:t>
            </a:r>
            <a:endParaRPr b="0" lang="en-US" sz="40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lnSpc>
                <a:spcPct val="80000"/>
              </a:lnSpc>
              <a:spcBef>
                <a:spcPts val="11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atural (Innate) Immun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hysical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skin/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ucous membranes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Mechanical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Coughing, sneezing, vomiting, action of cilia in trachea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Biochemical barriers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antimicrobial peptides, lung secretions, mucus, saliva, tea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al and mechanical barriers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kin, impermeable to microb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cous membranes lining the gastrointestinal, genitourinary and respiratory tra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 protective mechanism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dding of outer skin layer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ghing and sneez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ushing of ur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mit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cus and cilia in respiratory trac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iochemical barriers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0880" y="1295280"/>
            <a:ext cx="83059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dy  secretions contain anti-bacterial substances   e.g. saliva, tears and swe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imicrobial peptides (e.g., defensins, hepcidi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 bacterial flor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ompete with pathogenic bacteria for nutrien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11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flammation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901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flammation is the first response of the immune system to infection or irritat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901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consist of a series of vascular &amp; cellular changes that occur in response to  vari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 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imul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.g. infections, injury, radiation  etc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D461-B3F6-4742-84F9-AA919D7B2A5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bacteria possess an array of pro-inflammatory    molecu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.g.   Lipopolysaccharides (LPS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F082-ED60-4F25-9349-40640B26D51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Rectangle 4"/>
          <p:cNvSpPr/>
          <p:nvPr/>
        </p:nvSpPr>
        <p:spPr>
          <a:xfrm>
            <a:off x="533520" y="2286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crobial infections initiate inflamm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2T15:02:25Z</dcterms:created>
  <dc:creator>kchugg</dc:creator>
  <dc:description/>
  <dc:language>en-US</dc:language>
  <cp:lastModifiedBy>Dr.Zahid</cp:lastModifiedBy>
  <dcterms:modified xsi:type="dcterms:W3CDTF">2013-09-25T07:15:02Z</dcterms:modified>
  <cp:revision>210</cp:revision>
  <dc:subject/>
  <dc:title>Cellular Biology</dc:title>
</cp:coreProperties>
</file>