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driveby.wav" ContentType="audio/x-wav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C839-3927-4A8B-9005-A044E83A5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ED2F-DD17-4A3E-B69C-D447B88BDEF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070E5-4285-4D61-B306-AE021868F8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D09E0-CF25-4DB6-9D26-704A4D3DA5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D01EF-6E92-491D-B483-3CA30441A6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61CE8-E7C4-4302-A511-5CC5775603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C9A76-E7B9-4315-AEF6-20A80607EE4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AFC13-0F60-4EC2-81D2-63B4360114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A3F6D-AF0E-4DD2-9A7F-4A4CFA9BB2B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CACC0-8A64-4D6B-B6AA-2B01AE76B56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012DA-EC54-4DA0-8A21-76B8AFBE8F3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9E7B-2BF3-4B72-B1E2-3924C3F9D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7FE8-3D9D-4C0F-A04A-A253E49C803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B18F-0E0F-4B93-A977-B48C3BFAFD5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F2B2-2438-43C5-834A-06348E3FAC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F88D-B119-478D-A737-B9F2D30B3D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23745-A7EB-448B-B95F-8AE93040079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1CDB-A91B-4619-AF7A-BB37F8E8D7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6BC6-1FC7-46D2-80F8-6CDBA9BEF8B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D43AB-1F0E-4B73-882E-F4BB243E9AB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2C93-58BD-40F4-ABA4-760DB4E74D4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BB10-B1B6-4210-8794-2DDBB9CFDA9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A9E3-E8D0-45F3-9E1E-1E938DA25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7635-B089-4787-B5CB-BF37B0A0B0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A7A7A-2689-4AFE-8535-F268265D33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AA4D7E-97BA-49B7-AABA-860244E37D2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E47CB1-A925-499C-B5FA-4979222D9D1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AA292-19E0-48B8-88AE-31090C3F113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F249C-C473-40A1-88D8-CCEF7093416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01E214-E479-4B57-B8FA-8AF5E6C686E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B008A7-5597-4F30-9AEF-946BDF1AB5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56594-2602-4272-BA67-46B337494A3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6FA75C-2714-4189-9DFF-082B243B5B2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E0FED1-5F21-4B04-88CF-F69F246CA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B21A8-826C-42A4-88EE-EA036030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BFE956-5FC2-416B-B2E1-19CCFC0D4B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A89C04-8B01-4CB2-893E-C2EE8005EEE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9D293-D522-43A1-BEF8-422B644FB0A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164F4-6D6D-4817-B698-6EFF36098D6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26DAC-A4AA-4998-8C6F-9DFC4C5BC9D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7E743-BDC7-43EB-B40C-5C6D729F6AF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DB263-63D1-438D-AB44-2414FC0B0C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E1609-1B36-46B5-9E2A-801F17D5EAE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B75E8-B088-4C44-B7E4-B848F52F07A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3FF79-6762-4AD5-8604-78B4D7BC71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108CF-3CAF-440D-90E3-7499533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65557-F15E-402E-9D2D-205B09C5D70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C2893-664B-4337-86A5-EEE4FDB39FB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EACC4-3CBD-454E-B152-D02C0E02BBA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782DF-8F89-4C4D-AA6C-B4916FE5697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BB4A8-C0B8-4BBB-925E-4C154684A8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9FA90-0613-43C5-AC22-33678A2C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86275-5C00-48E7-A813-E5ED2770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BBCD8-78EC-4512-9D05-9CF9A5BB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660FE-E5DA-4B2C-A943-3B8676EA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7419A-61B5-4C0C-9223-7111B0B9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DADB-483F-46A8-84FE-7430C15F4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BDCA9-AC3C-40C2-ACE7-770EB4D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D5E2C-AD5B-4B92-A4CB-BBA0E9B8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011D-AE8C-4C24-88C2-F077285A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9AE97-4FE7-4034-BDAC-5A009FB7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17611-EDE0-4C21-B3A0-4FB65D57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A2CB0-8252-4638-AFC4-12F0CA33E9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3624F-2CB3-4330-8265-A89C61B89C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86229-18E6-4CCF-A824-406B5CCD07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C7E75-8918-4B2A-A033-119BAFDAD0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3F272-5F22-4637-A458-AC23545A26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C887-D304-4D46-AECD-859B681985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15719-9BDF-4F41-8760-E106DAA11A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04D94-A353-44DC-B90D-F2B04B55D5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2542D-DC12-4D10-8633-C3BD764D5C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E2BC7-576B-477D-902A-709343EC96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5DD49-4052-4E4F-8321-C60D2FD883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CE5C4-43AC-410A-93F1-9E9AD2C5C4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609C8-5A29-4446-BC62-A106D4BC62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5762-AC48-4F71-ADC1-B159ED3D7F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4654-0E0B-49E8-9774-C8E025C0CE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F00C-0D6E-4ACB-884D-97F7A5528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8407-7F0B-4DA5-B42A-938C155FA3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05FA-CD27-49C3-88F1-C519D9DBE3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333D-87C6-4258-BD38-E2ABC9764C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6C16-DC74-4C6F-BAB8-D574174138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5C91-6919-4F08-81A8-BEF23E6C22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5C7C-4E46-4AC4-9D2C-5C2175FB1A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E7AB-D3FC-45D2-85D9-CF73BA9CD7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FB6F-9604-46AE-B6AB-9E35507D27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AFD4-8978-449F-B4AC-9DE6FDBF35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101C-9E23-4E8E-9C97-A4A8F2C0D43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F6F25-57C7-4D54-B23A-A0D795B04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D33B-826E-4D79-AE6A-C81B03DCE5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7AE8E-E0E9-44FB-8202-801F4689FB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B04B9-04B9-4DBE-9A29-67342BA8D3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CE1B24-D77A-44F0-B186-D93A152BA74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C07C7-532F-4D26-97D4-2826F46A79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5D3D6-905F-460F-8A05-A928524CB4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9C265-9890-4C1F-94F1-7D23992F92B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109C3-F472-4601-A74F-FA679FF65E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2D38C-EDCF-4C98-AD77-6FD7E2AB0D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E46DB-8E81-4088-8F4B-2B8B25306F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74A36-54CD-4E4C-84A1-F237902D0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2B39-636F-4A9C-9DAB-07C5D2E0D45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B5A6DD-7530-40B0-939B-125434DE674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2CA4A-32D4-401F-AD98-C3BFA7174E5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26495-BEFF-4229-B56C-6FB5CD52BAB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59309-4AD2-4E8A-876D-388EE1FC5A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EB39D-A6AF-4699-B181-8F161A09B5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B51F5-BA33-4A8E-8766-BBDD0819A8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8DBC5-8D2E-42D8-A227-C3599BEAD5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E877D-3E98-419C-A58D-D3773EA5A5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2D243-F4B0-42FF-B7AA-B138E15CF7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8549A-CCD0-4EDA-95E7-45D892BC5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22A1-2A6F-447F-903E-0A39299C85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0EAF0-9E57-43E4-937B-2E0BC81511E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E3C1C-6F44-47F6-B684-13DBB0DF2CD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524E7-EC23-4FA9-BD28-8CA8050CB6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884F-E7A4-43D3-9A23-3D400790C4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8F6F-9386-409B-964F-A5615651AD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DB03-1086-4356-9ED8-2B023F9349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C22C-46B1-4298-8626-39A7130141A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E378-483A-4AEB-9EE4-7AA8B990DE4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5DF08-45CD-40AA-A318-6D25BF9513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28FA-BA02-46DE-B187-E8CC643BC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3759-12C7-44B2-89B1-DBBA5DE5A6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CD46D-D78A-435B-A428-94D0FC3330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D1D5-D3E3-44DE-972B-EF5228709E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BC3A-0957-43EE-BEAD-E8694201FC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02C0-1079-4D68-BAF8-B4EB383405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45FB-61AC-4A9E-842E-DB6619B89B8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C47C4-7620-476D-B05E-7071957830C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7D648-5163-43D2-BD10-9BB26F0F907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F8EB1-FFBF-4F4B-9C7D-242843210A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DB039-9652-4E19-B0DB-F94BBC5430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E268B-A089-4447-BF04-51445E145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1576-F67C-47F0-812C-9E6101ED4FE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1A509-0301-4629-8B0C-BACB51F8085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8A2C2-3745-4B3C-995B-80345E8C021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5B946-40A5-442A-8F8C-5E0A3BC5BF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598A8-8751-40C7-9754-1E1D867D1FA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00D12-F182-4797-B11F-0C2CE0EE66F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34110-F473-4B9F-8571-A72AB164C4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847F8B-7822-46A6-849A-E91C38CC510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256CB-68D6-4451-9360-4722E71203C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559FD-F4EF-488D-95EA-69F67F575B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DFF05-01BC-46CB-AB2A-77CEE8788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533520" y="6491160"/>
            <a:ext cx="37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sby items and derived items © 2006 by Mosby, Inc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BA4E-2C45-46CD-9BCB-201A14E91B8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2768-0F4A-452F-9436-D45CD04442D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E97B-8CAD-42B4-8AE1-A35C16EDC22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7688-05BC-4E28-95CA-A5797843E5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5F75-21B9-454D-9860-380F8A6647F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1B6C-D787-421D-83D4-25A9BD2AC3F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8D63-C495-4DBE-8AA2-E8D504E7A4E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0CD8-1143-48CE-A5F9-D1564E62669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BB42-9526-4FA7-BF10-0AE3BB57025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7C5-1774-4BCE-8302-BF9287E93C3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4C17-41D7-4570-AFD0-69DED9BEA8D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4CC1-84FD-4386-83CE-7DBB410485B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atural Defense Mechanisms.</a:t>
            </a:r>
            <a:endParaRPr b="0" lang="en-US" sz="48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62120" y="41907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Times New Roman"/>
              </a:rPr>
              <a:t>Immunology Un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Times New Roman"/>
              </a:rPr>
              <a:t>College of Medicine &amp; KKU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lammation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 and limit infection and further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 with adaptive immun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 Monocytes / Macrophag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 as a link between the adaptive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ate immunity by antigen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the area of injury for he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533520" y="380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53200" indent="-410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mplement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ist of a group of serum proteins circulate in inactive form once they become activated they produce important biological effects  that initiate inflammatio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ystem plays an important role in Innate &amp; Adaptive i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omplement system: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Pathways of activatio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ass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antigen-antibody bin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1,C4,C2,C3,C5,C6,C7,C8,C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ct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by mannan binding protien binding manose groups of bacterial carbohydr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4,C2,C3,C5,C6,C7,C8,C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ern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by bacterial produc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3,C5,C6,C7,C8,C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5E3A-CA02-488B-9C36-AACB09491DE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41400" y="914400"/>
            <a:ext cx="9061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4"/>
          <p:cNvSpPr/>
          <p:nvPr/>
        </p:nvSpPr>
        <p:spPr>
          <a:xfrm>
            <a:off x="2362320" y="343080"/>
            <a:ext cx="4952880" cy="110484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ytic pathwa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5-activ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Group 5"/>
          <p:cNvGrpSpPr/>
          <p:nvPr/>
        </p:nvGrpSpPr>
        <p:grpSpPr>
          <a:xfrm>
            <a:off x="6392520" y="3651480"/>
            <a:ext cx="1152720" cy="1859040"/>
            <a:chOff x="6392520" y="3651480"/>
            <a:chExt cx="1152720" cy="1859040"/>
          </a:xfrm>
        </p:grpSpPr>
        <p:sp>
          <p:nvSpPr>
            <p:cNvPr id="541" name="AutoShape 6"/>
            <p:cNvSpPr/>
            <p:nvPr/>
          </p:nvSpPr>
          <p:spPr>
            <a:xfrm>
              <a:off x="6475320" y="3692520"/>
              <a:ext cx="990360" cy="1818000"/>
            </a:xfrm>
            <a:prstGeom prst="flowChartProcess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3b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AutoShape 7"/>
            <p:cNvSpPr/>
            <p:nvPr/>
          </p:nvSpPr>
          <p:spPr>
            <a:xfrm rot="21544200">
              <a:off x="6397200" y="3660840"/>
              <a:ext cx="1143000" cy="6094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Group 8"/>
          <p:cNvGrpSpPr/>
          <p:nvPr/>
        </p:nvGrpSpPr>
        <p:grpSpPr>
          <a:xfrm>
            <a:off x="4853880" y="3817440"/>
            <a:ext cx="1868040" cy="2331000"/>
            <a:chOff x="4853880" y="3817440"/>
            <a:chExt cx="1868040" cy="2331000"/>
          </a:xfrm>
        </p:grpSpPr>
        <p:grpSp>
          <p:nvGrpSpPr>
            <p:cNvPr id="544" name="Group 9"/>
            <p:cNvGrpSpPr/>
            <p:nvPr/>
          </p:nvGrpSpPr>
          <p:grpSpPr>
            <a:xfrm>
              <a:off x="4853880" y="3817440"/>
              <a:ext cx="1868040" cy="2331000"/>
              <a:chOff x="4853880" y="3817440"/>
              <a:chExt cx="1868040" cy="2331000"/>
            </a:xfrm>
          </p:grpSpPr>
          <p:sp>
            <p:nvSpPr>
              <p:cNvPr id="545" name="AutoShape 10"/>
              <p:cNvSpPr/>
              <p:nvPr/>
            </p:nvSpPr>
            <p:spPr>
              <a:xfrm rot="21344400">
                <a:off x="4985640" y="3947760"/>
                <a:ext cx="1523880" cy="190476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AutoShape 11"/>
              <p:cNvSpPr/>
              <p:nvPr/>
            </p:nvSpPr>
            <p:spPr>
              <a:xfrm rot="21286800">
                <a:off x="4949640" y="3889080"/>
                <a:ext cx="1676160" cy="2187360"/>
              </a:xfrm>
              <a:custGeom>
                <a:avLst/>
                <a:gdLst>
                  <a:gd name="textAreaLeft" fmla="*/ 66600 w 1676160"/>
                  <a:gd name="textAreaRight" fmla="*/ 1609560 w 1676160"/>
                  <a:gd name="textAreaTop" fmla="*/ 0 h 2187360"/>
                  <a:gd name="textAreaBottom" fmla="*/ 942840 h 218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730" y="8553"/>
                    </a:moveTo>
                    <a:cubicBezTo>
                      <a:pt x="8446" y="7574"/>
                      <a:pt x="9587" y="6995"/>
                      <a:pt x="10800" y="6996"/>
                    </a:cubicBezTo>
                    <a:cubicBezTo>
                      <a:pt x="12012" y="6996"/>
                      <a:pt x="13153" y="7574"/>
                      <a:pt x="13869" y="8553"/>
                    </a:cubicBezTo>
                    <a:lnTo>
                      <a:pt x="19515" y="4421"/>
                    </a:lnTo>
                    <a:cubicBezTo>
                      <a:pt x="17481" y="1642"/>
                      <a:pt x="14243" y="-1"/>
                      <a:pt x="10799" y="0"/>
                    </a:cubicBezTo>
                    <a:cubicBezTo>
                      <a:pt x="7356" y="0"/>
                      <a:pt x="4118" y="1642"/>
                      <a:pt x="2084" y="4421"/>
                    </a:cubicBez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Text Box 12"/>
              <p:cNvSpPr/>
              <p:nvPr/>
            </p:nvSpPr>
            <p:spPr>
              <a:xfrm rot="778200">
                <a:off x="5950080" y="4651920"/>
                <a:ext cx="304200" cy="3682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8" name="AutoShape 13"/>
            <p:cNvSpPr/>
            <p:nvPr/>
          </p:nvSpPr>
          <p:spPr>
            <a:xfrm>
              <a:off x="5105520" y="5489640"/>
              <a:ext cx="1295280" cy="425520"/>
            </a:xfrm>
            <a:custGeom>
              <a:avLst/>
              <a:gdLst>
                <a:gd name="textAreaLeft" fmla="*/ 269640 w 1295280"/>
                <a:gd name="textAreaRight" fmla="*/ 1025640 w 1295280"/>
                <a:gd name="textAreaTop" fmla="*/ 88920 h 425520"/>
                <a:gd name="textAreaBottom" fmla="*/ 3366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Group 14"/>
          <p:cNvGrpSpPr/>
          <p:nvPr/>
        </p:nvGrpSpPr>
        <p:grpSpPr>
          <a:xfrm>
            <a:off x="3730680" y="3736800"/>
            <a:ext cx="1371600" cy="2210040"/>
            <a:chOff x="3730680" y="3736800"/>
            <a:chExt cx="1371600" cy="2210040"/>
          </a:xfrm>
        </p:grpSpPr>
        <p:sp>
          <p:nvSpPr>
            <p:cNvPr id="550" name="Oval 15"/>
            <p:cNvSpPr/>
            <p:nvPr/>
          </p:nvSpPr>
          <p:spPr>
            <a:xfrm>
              <a:off x="3730680" y="3736800"/>
              <a:ext cx="1295640" cy="22100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4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AutoShape 16"/>
            <p:cNvSpPr/>
            <p:nvPr/>
          </p:nvSpPr>
          <p:spPr>
            <a:xfrm>
              <a:off x="3807000" y="5521320"/>
              <a:ext cx="1295280" cy="425520"/>
            </a:xfrm>
            <a:custGeom>
              <a:avLst/>
              <a:gdLst>
                <a:gd name="textAreaLeft" fmla="*/ 269640 w 1295280"/>
                <a:gd name="textAreaRight" fmla="*/ 1025640 w 1295280"/>
                <a:gd name="textAreaTop" fmla="*/ 88920 h 425520"/>
                <a:gd name="textAreaBottom" fmla="*/ 3366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2" name="AutoShape 17"/>
          <p:cNvSpPr/>
          <p:nvPr/>
        </p:nvSpPr>
        <p:spPr>
          <a:xfrm rot="16168200">
            <a:off x="7077240" y="328608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64" y="0"/>
                </a:lnTo>
                <a:lnTo>
                  <a:pt x="21600" y="10800"/>
                </a:lnTo>
                <a:lnTo>
                  <a:pt x="136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Group 18"/>
          <p:cNvGrpSpPr/>
          <p:nvPr/>
        </p:nvGrpSpPr>
        <p:grpSpPr>
          <a:xfrm>
            <a:off x="7463880" y="1754640"/>
            <a:ext cx="1073880" cy="2977200"/>
            <a:chOff x="7463880" y="1754640"/>
            <a:chExt cx="1073880" cy="2977200"/>
          </a:xfrm>
        </p:grpSpPr>
        <p:sp>
          <p:nvSpPr>
            <p:cNvPr id="554" name="Text Box 19"/>
            <p:cNvSpPr/>
            <p:nvPr/>
          </p:nvSpPr>
          <p:spPr>
            <a:xfrm flipH="1">
              <a:off x="8152560" y="3660840"/>
              <a:ext cx="228600" cy="3682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AutoShape 20"/>
            <p:cNvSpPr/>
            <p:nvPr/>
          </p:nvSpPr>
          <p:spPr>
            <a:xfrm rot="10806600">
              <a:off x="7464240" y="1755720"/>
              <a:ext cx="1069920" cy="611280"/>
            </a:xfrm>
            <a:prstGeom prst="flowChartMerg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5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AutoShape 21"/>
            <p:cNvSpPr/>
            <p:nvPr/>
          </p:nvSpPr>
          <p:spPr>
            <a:xfrm rot="10806600">
              <a:off x="7467120" y="4119480"/>
              <a:ext cx="1069920" cy="6112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Rectangle 22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1143000" y="343080"/>
            <a:ext cx="7238880" cy="110484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s of the lytic path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4114800" y="220968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5867280" y="4267080"/>
            <a:ext cx="30492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Group 7"/>
          <p:cNvGrpSpPr/>
          <p:nvPr/>
        </p:nvGrpSpPr>
        <p:grpSpPr>
          <a:xfrm>
            <a:off x="2614320" y="3232440"/>
            <a:ext cx="1981440" cy="2939760"/>
            <a:chOff x="2614320" y="3232440"/>
            <a:chExt cx="1981440" cy="2939760"/>
          </a:xfrm>
        </p:grpSpPr>
        <p:sp>
          <p:nvSpPr>
            <p:cNvPr id="562" name="AutoShape 8"/>
            <p:cNvSpPr/>
            <p:nvPr/>
          </p:nvSpPr>
          <p:spPr>
            <a:xfrm>
              <a:off x="3276720" y="487692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AutoShape 9"/>
            <p:cNvSpPr/>
            <p:nvPr/>
          </p:nvSpPr>
          <p:spPr>
            <a:xfrm rot="16033800">
              <a:off x="2500200" y="3443040"/>
              <a:ext cx="2209680" cy="187668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8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Group 10"/>
          <p:cNvGrpSpPr/>
          <p:nvPr/>
        </p:nvGrpSpPr>
        <p:grpSpPr>
          <a:xfrm>
            <a:off x="6934320" y="1905120"/>
            <a:ext cx="1143000" cy="2057400"/>
            <a:chOff x="6934320" y="1905120"/>
            <a:chExt cx="1143000" cy="2057400"/>
          </a:xfrm>
        </p:grpSpPr>
        <p:sp>
          <p:nvSpPr>
            <p:cNvPr id="565" name="Oval 11"/>
            <p:cNvSpPr/>
            <p:nvPr/>
          </p:nvSpPr>
          <p:spPr>
            <a:xfrm>
              <a:off x="6934320" y="190512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AutoShape 12"/>
            <p:cNvSpPr/>
            <p:nvPr/>
          </p:nvSpPr>
          <p:spPr>
            <a:xfrm>
              <a:off x="7315200" y="266724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" name="AutoShape 13"/>
          <p:cNvSpPr/>
          <p:nvPr/>
        </p:nvSpPr>
        <p:spPr>
          <a:xfrm rot="16227600">
            <a:off x="755280" y="236844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43" y="0"/>
                </a:lnTo>
                <a:lnTo>
                  <a:pt x="21600" y="10800"/>
                </a:lnTo>
                <a:lnTo>
                  <a:pt x="151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1447920" y="343080"/>
            <a:ext cx="6553080" cy="110484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ytic pathwa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sembly of the lytic comple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Group 6"/>
          <p:cNvGrpSpPr/>
          <p:nvPr/>
        </p:nvGrpSpPr>
        <p:grpSpPr>
          <a:xfrm>
            <a:off x="7456680" y="2894400"/>
            <a:ext cx="1081080" cy="1837440"/>
            <a:chOff x="7456680" y="2894400"/>
            <a:chExt cx="1081080" cy="1837440"/>
          </a:xfrm>
        </p:grpSpPr>
        <p:sp>
          <p:nvSpPr>
            <p:cNvPr id="571" name="AutoShape 7"/>
            <p:cNvSpPr/>
            <p:nvPr/>
          </p:nvSpPr>
          <p:spPr>
            <a:xfrm rot="16168200">
              <a:off x="7077240" y="3286080"/>
              <a:ext cx="1766880" cy="9921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664" y="0"/>
                  </a:lnTo>
                  <a:lnTo>
                    <a:pt x="21600" y="10800"/>
                  </a:lnTo>
                  <a:lnTo>
                    <a:pt x="136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Text Box 8"/>
            <p:cNvSpPr/>
            <p:nvPr/>
          </p:nvSpPr>
          <p:spPr>
            <a:xfrm flipH="1">
              <a:off x="8152560" y="3657600"/>
              <a:ext cx="228600" cy="3682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AutoShape 9"/>
            <p:cNvSpPr/>
            <p:nvPr/>
          </p:nvSpPr>
          <p:spPr>
            <a:xfrm rot="10806600">
              <a:off x="7467120" y="4119480"/>
              <a:ext cx="1069920" cy="6112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Oval 10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Group 11"/>
          <p:cNvGrpSpPr/>
          <p:nvPr/>
        </p:nvGrpSpPr>
        <p:grpSpPr>
          <a:xfrm>
            <a:off x="6324480" y="3352680"/>
            <a:ext cx="1143000" cy="2057400"/>
            <a:chOff x="6324480" y="3352680"/>
            <a:chExt cx="1143000" cy="2057400"/>
          </a:xfrm>
        </p:grpSpPr>
        <p:sp>
          <p:nvSpPr>
            <p:cNvPr id="576" name="Oval 12"/>
            <p:cNvSpPr/>
            <p:nvPr/>
          </p:nvSpPr>
          <p:spPr>
            <a:xfrm>
              <a:off x="6324480" y="335268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AutoShape 13"/>
            <p:cNvSpPr/>
            <p:nvPr/>
          </p:nvSpPr>
          <p:spPr>
            <a:xfrm>
              <a:off x="6705360" y="411480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343080"/>
            <a:ext cx="7315200" cy="102852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ytic pathway: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sertion of lytic complex into cell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6"/>
          <p:cNvGrpSpPr/>
          <p:nvPr/>
        </p:nvGrpSpPr>
        <p:grpSpPr>
          <a:xfrm>
            <a:off x="6324480" y="1981080"/>
            <a:ext cx="2213280" cy="3124440"/>
            <a:chOff x="6324480" y="1981080"/>
            <a:chExt cx="2213280" cy="3124440"/>
          </a:xfrm>
        </p:grpSpPr>
        <p:grpSp>
          <p:nvGrpSpPr>
            <p:cNvPr id="581" name="Group 7"/>
            <p:cNvGrpSpPr/>
            <p:nvPr/>
          </p:nvGrpSpPr>
          <p:grpSpPr>
            <a:xfrm>
              <a:off x="7456680" y="2589480"/>
              <a:ext cx="1081080" cy="1837440"/>
              <a:chOff x="7456680" y="2589480"/>
              <a:chExt cx="1081080" cy="1837440"/>
            </a:xfrm>
          </p:grpSpPr>
          <p:sp>
            <p:nvSpPr>
              <p:cNvPr id="582" name="AutoShape 8"/>
              <p:cNvSpPr/>
              <p:nvPr/>
            </p:nvSpPr>
            <p:spPr>
              <a:xfrm rot="16168200">
                <a:off x="7077240" y="2981160"/>
                <a:ext cx="1766880" cy="992160"/>
              </a:xfrm>
              <a:custGeom>
                <a:avLst/>
                <a:gdLst>
                  <a:gd name="textAreaLeft" fmla="*/ 0 w 1766880"/>
                  <a:gd name="textAreaRight" fmla="*/ 1767240 w 1766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664" y="0"/>
                    </a:lnTo>
                    <a:lnTo>
                      <a:pt x="21600" y="10800"/>
                    </a:lnTo>
                    <a:lnTo>
                      <a:pt x="1366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C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Text Box 9"/>
              <p:cNvSpPr/>
              <p:nvPr/>
            </p:nvSpPr>
            <p:spPr>
              <a:xfrm flipH="1">
                <a:off x="8152560" y="3352680"/>
                <a:ext cx="228600" cy="36828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AutoShape 10"/>
              <p:cNvSpPr/>
              <p:nvPr/>
            </p:nvSpPr>
            <p:spPr>
              <a:xfrm rot="10806600">
                <a:off x="7467120" y="3814560"/>
                <a:ext cx="1069920" cy="611280"/>
              </a:xfrm>
              <a:prstGeom prst="flowChartMerg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5" name="Oval 11"/>
            <p:cNvSpPr/>
            <p:nvPr/>
          </p:nvSpPr>
          <p:spPr>
            <a:xfrm>
              <a:off x="6705720" y="1981080"/>
              <a:ext cx="1143000" cy="114300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6" name="Group 12"/>
            <p:cNvGrpSpPr/>
            <p:nvPr/>
          </p:nvGrpSpPr>
          <p:grpSpPr>
            <a:xfrm>
              <a:off x="6324480" y="3048120"/>
              <a:ext cx="1143000" cy="2057400"/>
              <a:chOff x="6324480" y="3048120"/>
              <a:chExt cx="1143000" cy="2057400"/>
            </a:xfrm>
          </p:grpSpPr>
          <p:sp>
            <p:nvSpPr>
              <p:cNvPr id="587" name="Oval 13"/>
              <p:cNvSpPr/>
              <p:nvPr/>
            </p:nvSpPr>
            <p:spPr>
              <a:xfrm>
                <a:off x="6324480" y="3048120"/>
                <a:ext cx="1143000" cy="113364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C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AutoShape 14"/>
              <p:cNvSpPr/>
              <p:nvPr/>
            </p:nvSpPr>
            <p:spPr>
              <a:xfrm>
                <a:off x="6705360" y="3810240"/>
                <a:ext cx="380880" cy="1295280"/>
              </a:xfrm>
              <a:prstGeom prst="can">
                <a:avLst>
                  <a:gd name="adj" fmla="val 31874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5"/>
          <p:cNvGrpSpPr/>
          <p:nvPr/>
        </p:nvGrpSpPr>
        <p:grpSpPr>
          <a:xfrm>
            <a:off x="5895360" y="2553120"/>
            <a:ext cx="1696680" cy="2704320"/>
            <a:chOff x="5895360" y="2553120"/>
            <a:chExt cx="1696680" cy="2704320"/>
          </a:xfrm>
        </p:grpSpPr>
        <p:sp>
          <p:nvSpPr>
            <p:cNvPr id="590" name="AutoShape 16"/>
            <p:cNvSpPr/>
            <p:nvPr/>
          </p:nvSpPr>
          <p:spPr>
            <a:xfrm>
              <a:off x="6463440" y="4064760"/>
              <a:ext cx="324720" cy="11926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AutoShape 17"/>
            <p:cNvSpPr/>
            <p:nvPr/>
          </p:nvSpPr>
          <p:spPr>
            <a:xfrm rot="16033800">
              <a:off x="5725800" y="2807640"/>
              <a:ext cx="2035080" cy="160020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8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2" name="Picture 18" descr="ComplRBC"/>
          <p:cNvPicPr/>
          <p:nvPr/>
        </p:nvPicPr>
        <p:blipFill>
          <a:blip r:embed="rId1"/>
          <a:stretch/>
        </p:blipFill>
        <p:spPr>
          <a:xfrm>
            <a:off x="762120" y="1676520"/>
            <a:ext cx="3533760" cy="37335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9"/>
          <p:cNvGrpSpPr/>
          <p:nvPr/>
        </p:nvGrpSpPr>
        <p:grpSpPr>
          <a:xfrm>
            <a:off x="4495680" y="4419720"/>
            <a:ext cx="1676520" cy="1218960"/>
            <a:chOff x="4495680" y="4419720"/>
            <a:chExt cx="1676520" cy="1218960"/>
          </a:xfrm>
        </p:grpSpPr>
        <p:sp>
          <p:nvSpPr>
            <p:cNvPr id="594" name="AutoShape 20"/>
            <p:cNvSpPr/>
            <p:nvPr/>
          </p:nvSpPr>
          <p:spPr>
            <a:xfrm>
              <a:off x="5791320" y="4495680"/>
              <a:ext cx="380880" cy="1143000"/>
            </a:xfrm>
            <a:prstGeom prst="irregularSeal1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AutoShape 21"/>
            <p:cNvSpPr/>
            <p:nvPr/>
          </p:nvSpPr>
          <p:spPr>
            <a:xfrm>
              <a:off x="4495680" y="4419720"/>
              <a:ext cx="457200" cy="1143000"/>
            </a:xfrm>
            <a:prstGeom prst="irregularSeal1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AutoShape 22"/>
          <p:cNvSpPr/>
          <p:nvPr/>
        </p:nvSpPr>
        <p:spPr>
          <a:xfrm>
            <a:off x="4968720" y="36576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AutoShape 23"/>
          <p:cNvSpPr/>
          <p:nvPr/>
        </p:nvSpPr>
        <p:spPr>
          <a:xfrm>
            <a:off x="4740120" y="3733920"/>
            <a:ext cx="320760" cy="99036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AutoShape 24"/>
          <p:cNvSpPr/>
          <p:nvPr/>
        </p:nvSpPr>
        <p:spPr>
          <a:xfrm>
            <a:off x="5257800" y="36576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25"/>
          <p:cNvSpPr/>
          <p:nvPr/>
        </p:nvSpPr>
        <p:spPr>
          <a:xfrm>
            <a:off x="5578560" y="3733920"/>
            <a:ext cx="304560" cy="99036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26"/>
          <p:cNvSpPr/>
          <p:nvPr/>
        </p:nvSpPr>
        <p:spPr>
          <a:xfrm>
            <a:off x="5730840" y="40384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AutoShape 27"/>
          <p:cNvSpPr/>
          <p:nvPr/>
        </p:nvSpPr>
        <p:spPr>
          <a:xfrm>
            <a:off x="4572000" y="40384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816440" y="42670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5153040" y="43434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5486400" y="42670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Bent Arrow 32"/>
          <p:cNvSpPr/>
          <p:nvPr/>
        </p:nvSpPr>
        <p:spPr>
          <a:xfrm flipH="1">
            <a:off x="4419000" y="2057400"/>
            <a:ext cx="685800" cy="1523880"/>
          </a:xfrm>
          <a:custGeom>
            <a:avLst/>
            <a:gdLst/>
            <a:ahLst/>
            <a:rect l="l" t="t" r="r" b="b"/>
            <a:pathLst>
              <a:path w="685800" h="1524000">
                <a:moveTo>
                  <a:pt x="0" y="1524000"/>
                </a:moveTo>
                <a:lnTo>
                  <a:pt x="0" y="385763"/>
                </a:lnTo>
                <a:lnTo>
                  <a:pt x="0" y="385763"/>
                </a:lnTo>
                <a:arcTo wR="300038" hR="300038" stAng="10800000" swAng="5400011"/>
                <a:lnTo>
                  <a:pt x="514350" y="85725"/>
                </a:lnTo>
                <a:lnTo>
                  <a:pt x="514350" y="0"/>
                </a:lnTo>
                <a:lnTo>
                  <a:pt x="685800" y="171450"/>
                </a:lnTo>
                <a:lnTo>
                  <a:pt x="514350" y="342900"/>
                </a:lnTo>
                <a:lnTo>
                  <a:pt x="514350" y="257175"/>
                </a:lnTo>
                <a:lnTo>
                  <a:pt x="300038" y="257175"/>
                </a:lnTo>
                <a:lnTo>
                  <a:pt x="300038" y="257175"/>
                </a:lnTo>
                <a:arcTo wR="128588" hR="128588" stAng="-5400000" swAng="-5400000"/>
                <a:lnTo>
                  <a:pt x="171450" y="1524000"/>
                </a:lnTo>
                <a:close/>
              </a:path>
            </a:pathLst>
          </a:custGeom>
          <a:solidFill>
            <a:srgbClr val="a7d2df"/>
          </a:solidFill>
          <a:ln w="25560">
            <a:solidFill>
              <a:srgbClr val="7a9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iological effects of complement activation</a:t>
            </a:r>
            <a:endParaRPr b="0" lang="en-US" sz="32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4400" y="17935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Anaphylatoxin  (C3a, C5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duce histamine release from mast cel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chemotactic ag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Opsonization: (opsonin, C3b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ting of  bacteria enhances phagocy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Cause direct cell 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estruction of bacte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F6F4-6F19-48AF-9CB3-0BDCC729076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rocess of chemotaxi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lling on vessel wall.         Adhesion (attach)    Pass through.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75c6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75c6d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sp>
        <p:nvSpPr>
          <p:cNvPr id="6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2FBE-25DB-4F44-B777-9695768AA95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2" name="Picture 2" descr="http://www.chronicprostatitis.com/images/f3.jpg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257800"/>
          </a:xfrm>
          <a:prstGeom prst="rect">
            <a:avLst/>
          </a:prstGeom>
          <a:ln w="0">
            <a:noFill/>
          </a:ln>
        </p:spPr>
      </p:pic>
      <p:cxnSp>
        <p:nvCxnSpPr>
          <p:cNvPr id="613" name="Straight Arrow Connector 8"/>
          <p:cNvCxnSpPr/>
          <p:nvPr/>
        </p:nvCxnSpPr>
        <p:spPr>
          <a:xfrm flipH="1">
            <a:off x="6017400" y="1220760"/>
            <a:ext cx="3960" cy="129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4" name="Down Arrow 8"/>
          <p:cNvSpPr/>
          <p:nvPr/>
        </p:nvSpPr>
        <p:spPr>
          <a:xfrm>
            <a:off x="1371600" y="1295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Down Arrow 9"/>
          <p:cNvSpPr/>
          <p:nvPr/>
        </p:nvSpPr>
        <p:spPr>
          <a:xfrm>
            <a:off x="5791320" y="129528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Down Arrow 10"/>
          <p:cNvSpPr/>
          <p:nvPr/>
        </p:nvSpPr>
        <p:spPr>
          <a:xfrm>
            <a:off x="7315200" y="1295280"/>
            <a:ext cx="380880" cy="113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33"/>
          </a:solidFill>
          <a:ln w="9360">
            <a:solidFill>
              <a:srgbClr val="a7d2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First (non-specific immunity) and second (adaptive immunity) lines of def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activation provides protection by killing patho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inflammatory cells important for clearance of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tokines as mediators regulate inflamm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8888-CA69-42FD-8BF9-A9073E72E97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ypes of Cells attracted to site of infec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that mediate inflammation : </a:t>
            </a:r>
            <a:endParaRPr b="0" lang="en-US" sz="36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ocy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ome Macrophages when they leave the blood and  enter the tiss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utrophi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Phagocytic ce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osinophi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Allergy and Parasitic infec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tural Killer (NK) cel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Kill tumor cells and virus infected ce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6762-ADAF-41D8-BD18-2CA590A95FA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agocytic cells (neutrophils &amp; macrophages) at site of infection start the process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agocytosi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process by which a cell ingests and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destroy foreign material</a:t>
            </a:r>
            <a:endParaRPr b="0" lang="en-US" sz="3600" spc="-1" strike="noStrike">
              <a:solidFill>
                <a:srgbClr val="275c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56840" y="1828800"/>
            <a:ext cx="3352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rcRect l="4865" t="7887" r="17372" b="12055"/>
          <a:stretch/>
        </p:blipFill>
        <p:spPr>
          <a:xfrm>
            <a:off x="4572000" y="0"/>
            <a:ext cx="4572000" cy="6705720"/>
          </a:xfrm>
          <a:prstGeom prst="rect">
            <a:avLst/>
          </a:prstGeom>
          <a:ln w="0">
            <a:noFill/>
          </a:ln>
        </p:spPr>
      </p:pic>
      <p:sp>
        <p:nvSpPr>
          <p:cNvPr id="623" name="Content Placeholder 2"/>
          <p:cNvSpPr/>
          <p:nvPr/>
        </p:nvSpPr>
        <p:spPr>
          <a:xfrm>
            <a:off x="304920" y="1752480"/>
            <a:ext cx="3352680" cy="43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4" name="Picture 2" descr="http://www.chronicprostatitis.com/images/neutrophil.jpg"/>
          <p:cNvPicPr/>
          <p:nvPr/>
        </p:nvPicPr>
        <p:blipFill>
          <a:blip r:embed="rId2"/>
          <a:stretch/>
        </p:blipFill>
        <p:spPr>
          <a:xfrm>
            <a:off x="0" y="0"/>
            <a:ext cx="4605480" cy="66992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10"/>
          <p:cNvSpPr/>
          <p:nvPr/>
        </p:nvSpPr>
        <p:spPr>
          <a:xfrm>
            <a:off x="457200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phage attacking E. coli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16B1-8FA4-4235-AA72-011B72EE368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2" descr="http://www.metapathogen.com/IMG/phagocytosis-diagr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"/>
          <p:cNvSpPr/>
          <p:nvPr/>
        </p:nvSpPr>
        <p:spPr>
          <a:xfrm>
            <a:off x="685800" y="0"/>
            <a:ext cx="7772400" cy="764280"/>
          </a:xfrm>
          <a:prstGeom prst="rect">
            <a:avLst/>
          </a:prstGeom>
          <a:solidFill>
            <a:srgbClr val="a7d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Phagocyt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ytokines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uble molecules, produced by different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cells, that control cell functions e.g. activation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or inhibition.</a:t>
            </a:r>
            <a:endParaRPr b="0" lang="en-US" sz="32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leuk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primarily by macrophages and lymphocytes in response to a pathog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-1, IL-2, IL-3…....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c8d9"/>
                </a:solidFill>
                <a:latin typeface="Times New Roman"/>
              </a:rPr>
              <a:t>Cytokin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fer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s against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and released by virally infected cells in response to viral inf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c8d9"/>
                </a:solidFill>
                <a:latin typeface="Times New Roman"/>
              </a:rPr>
              <a:t>Cytokin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umor necrosis factor (TN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ed by macroph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uces fever by acting as a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dogenous pyro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 substance released from inside the body that produces fe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s synthesis of inflammatory serum 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specific (innate immunity) acts as a first line of defense against invading patho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ate immunity is an important initial step for generation adaptive immun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ammation is vital for controlling infection and limiting tissue damag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DE42-F3EF-4E6B-8DC9-60F03C51D7F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10"/>
          <p:cNvSpPr/>
          <p:nvPr/>
        </p:nvSpPr>
        <p:spPr>
          <a:xfrm>
            <a:off x="1144440" y="4432320"/>
            <a:ext cx="1016280" cy="533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6835320" y="5410080"/>
            <a:ext cx="2084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bercule bacil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phylococ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33520" y="5410080"/>
            <a:ext cx="174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i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228600" y="914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e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791320" y="1295280"/>
            <a:ext cx="24462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sites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w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Group 15"/>
          <p:cNvGrpSpPr/>
          <p:nvPr/>
        </p:nvGrpSpPr>
        <p:grpSpPr>
          <a:xfrm>
            <a:off x="770400" y="2033640"/>
            <a:ext cx="1392120" cy="1269720"/>
            <a:chOff x="770400" y="2033640"/>
            <a:chExt cx="1392120" cy="1269720"/>
          </a:xfrm>
        </p:grpSpPr>
        <p:sp>
          <p:nvSpPr>
            <p:cNvPr id="482" name="AutoShape 16"/>
            <p:cNvSpPr/>
            <p:nvPr/>
          </p:nvSpPr>
          <p:spPr>
            <a:xfrm rot="1849800">
              <a:off x="1262160" y="2653920"/>
              <a:ext cx="542160" cy="54936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AutoShape 17"/>
            <p:cNvSpPr/>
            <p:nvPr/>
          </p:nvSpPr>
          <p:spPr>
            <a:xfrm rot="1849800">
              <a:off x="1517760" y="2133720"/>
              <a:ext cx="542160" cy="54936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AutoShape 18"/>
            <p:cNvSpPr/>
            <p:nvPr/>
          </p:nvSpPr>
          <p:spPr>
            <a:xfrm rot="1849800">
              <a:off x="872640" y="2188080"/>
              <a:ext cx="542160" cy="54900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AutoShape 19"/>
          <p:cNvSpPr/>
          <p:nvPr/>
        </p:nvSpPr>
        <p:spPr>
          <a:xfrm>
            <a:off x="1460520" y="4957920"/>
            <a:ext cx="1015920" cy="533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20"/>
          <p:cNvGrpSpPr/>
          <p:nvPr/>
        </p:nvGrpSpPr>
        <p:grpSpPr>
          <a:xfrm>
            <a:off x="5938920" y="4316400"/>
            <a:ext cx="1610640" cy="1150560"/>
            <a:chOff x="5938920" y="4316400"/>
            <a:chExt cx="1610640" cy="1150560"/>
          </a:xfrm>
        </p:grpSpPr>
        <p:grpSp>
          <p:nvGrpSpPr>
            <p:cNvPr id="487" name="Group 21"/>
            <p:cNvGrpSpPr/>
            <p:nvPr/>
          </p:nvGrpSpPr>
          <p:grpSpPr>
            <a:xfrm>
              <a:off x="6658560" y="4316400"/>
              <a:ext cx="825480" cy="262080"/>
              <a:chOff x="6658560" y="4316400"/>
              <a:chExt cx="825480" cy="262080"/>
            </a:xfrm>
          </p:grpSpPr>
          <p:sp>
            <p:nvSpPr>
              <p:cNvPr id="488" name="AutoShape 22"/>
              <p:cNvSpPr/>
              <p:nvPr/>
            </p:nvSpPr>
            <p:spPr>
              <a:xfrm>
                <a:off x="7071120" y="4316400"/>
                <a:ext cx="41292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AutoShape 23"/>
              <p:cNvSpPr/>
              <p:nvPr/>
            </p:nvSpPr>
            <p:spPr>
              <a:xfrm flipH="1">
                <a:off x="6658560" y="431640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24"/>
            <p:cNvGrpSpPr/>
            <p:nvPr/>
          </p:nvGrpSpPr>
          <p:grpSpPr>
            <a:xfrm>
              <a:off x="5938920" y="4637160"/>
              <a:ext cx="825480" cy="262080"/>
              <a:chOff x="5938920" y="4637160"/>
              <a:chExt cx="825480" cy="262080"/>
            </a:xfrm>
          </p:grpSpPr>
          <p:sp>
            <p:nvSpPr>
              <p:cNvPr id="491" name="AutoShape 25"/>
              <p:cNvSpPr/>
              <p:nvPr/>
            </p:nvSpPr>
            <p:spPr>
              <a:xfrm>
                <a:off x="6351480" y="4637160"/>
                <a:ext cx="41292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AutoShape 26"/>
              <p:cNvSpPr/>
              <p:nvPr/>
            </p:nvSpPr>
            <p:spPr>
              <a:xfrm flipH="1">
                <a:off x="5938920" y="463716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27"/>
            <p:cNvGrpSpPr/>
            <p:nvPr/>
          </p:nvGrpSpPr>
          <p:grpSpPr>
            <a:xfrm>
              <a:off x="6724440" y="4869360"/>
              <a:ext cx="825120" cy="262080"/>
              <a:chOff x="6724440" y="4869360"/>
              <a:chExt cx="825120" cy="262080"/>
            </a:xfrm>
          </p:grpSpPr>
          <p:sp>
            <p:nvSpPr>
              <p:cNvPr id="494" name="AutoShape 28"/>
              <p:cNvSpPr/>
              <p:nvPr/>
            </p:nvSpPr>
            <p:spPr>
              <a:xfrm>
                <a:off x="7137000" y="486936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AutoShape 29"/>
              <p:cNvSpPr/>
              <p:nvPr/>
            </p:nvSpPr>
            <p:spPr>
              <a:xfrm flipH="1">
                <a:off x="6724080" y="4869360"/>
                <a:ext cx="41220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30"/>
            <p:cNvGrpSpPr/>
            <p:nvPr/>
          </p:nvGrpSpPr>
          <p:grpSpPr>
            <a:xfrm>
              <a:off x="6095880" y="5205240"/>
              <a:ext cx="825120" cy="261720"/>
              <a:chOff x="6095880" y="5205240"/>
              <a:chExt cx="825120" cy="261720"/>
            </a:xfrm>
          </p:grpSpPr>
          <p:sp>
            <p:nvSpPr>
              <p:cNvPr id="497" name="AutoShape 31"/>
              <p:cNvSpPr/>
              <p:nvPr/>
            </p:nvSpPr>
            <p:spPr>
              <a:xfrm>
                <a:off x="6508440" y="5205240"/>
                <a:ext cx="412560" cy="26172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AutoShape 32"/>
              <p:cNvSpPr/>
              <p:nvPr/>
            </p:nvSpPr>
            <p:spPr>
              <a:xfrm flipH="1">
                <a:off x="6095520" y="5205240"/>
                <a:ext cx="412200" cy="26172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9" name="Line 33"/>
          <p:cNvSpPr/>
          <p:nvPr/>
        </p:nvSpPr>
        <p:spPr>
          <a:xfrm>
            <a:off x="4921200" y="4309920"/>
            <a:ext cx="692280" cy="439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34"/>
          <p:cNvSpPr/>
          <p:nvPr/>
        </p:nvSpPr>
        <p:spPr>
          <a:xfrm flipH="1">
            <a:off x="4955400" y="2686680"/>
            <a:ext cx="683640" cy="538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5"/>
          <p:cNvSpPr/>
          <p:nvPr/>
        </p:nvSpPr>
        <p:spPr>
          <a:xfrm flipH="1">
            <a:off x="2387160" y="4281480"/>
            <a:ext cx="692280" cy="439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6"/>
          <p:cNvSpPr/>
          <p:nvPr/>
        </p:nvSpPr>
        <p:spPr>
          <a:xfrm>
            <a:off x="2421360" y="2657880"/>
            <a:ext cx="683640" cy="53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function of the immune system is to protect from infectio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4" name="Object 2"/>
          <p:cNvGraphicFramePr/>
          <p:nvPr/>
        </p:nvGraphicFramePr>
        <p:xfrm>
          <a:off x="3436920" y="2454120"/>
          <a:ext cx="1116000" cy="24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6920" y="2454120"/>
                    <a:ext cx="1116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6" name="Group 2"/>
          <p:cNvGrpSpPr/>
          <p:nvPr/>
        </p:nvGrpSpPr>
        <p:grpSpPr>
          <a:xfrm>
            <a:off x="5750280" y="2556000"/>
            <a:ext cx="2193120" cy="631440"/>
            <a:chOff x="5750280" y="2556000"/>
            <a:chExt cx="2193120" cy="631440"/>
          </a:xfrm>
        </p:grpSpPr>
        <p:sp>
          <p:nvSpPr>
            <p:cNvPr id="507" name="AutoShape 3"/>
            <p:cNvSpPr/>
            <p:nvPr/>
          </p:nvSpPr>
          <p:spPr>
            <a:xfrm rot="21489000">
              <a:off x="5758560" y="2652120"/>
              <a:ext cx="394920" cy="5288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528840"/>
                <a:gd name="textAreaBottom" fmla="*/ 18864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AutoShape 4"/>
            <p:cNvSpPr/>
            <p:nvPr/>
          </p:nvSpPr>
          <p:spPr>
            <a:xfrm flipV="1" rot="21489000">
              <a:off x="6055920" y="2642400"/>
              <a:ext cx="396720" cy="5288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-360 h 528840"/>
                <a:gd name="textAreaBottom" fmla="*/ 18828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AutoShape 5"/>
            <p:cNvSpPr/>
            <p:nvPr/>
          </p:nvSpPr>
          <p:spPr>
            <a:xfrm rot="21489000">
              <a:off x="6352200" y="2633040"/>
              <a:ext cx="396720" cy="5288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8840"/>
                <a:gd name="textAreaBottom" fmla="*/ 18864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AutoShape 6"/>
            <p:cNvSpPr/>
            <p:nvPr/>
          </p:nvSpPr>
          <p:spPr>
            <a:xfrm rot="21489000">
              <a:off x="7540560" y="2561760"/>
              <a:ext cx="394200" cy="52884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528840"/>
                <a:gd name="textAreaBottom" fmla="*/ 18864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 rot="21489000">
              <a:off x="6911280" y="2611440"/>
              <a:ext cx="398160" cy="5288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528840"/>
                <a:gd name="textAreaBottom" fmla="*/ 18864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AutoShape 8"/>
            <p:cNvSpPr/>
            <p:nvPr/>
          </p:nvSpPr>
          <p:spPr>
            <a:xfrm flipV="1" rot="21489000">
              <a:off x="7239600" y="2576160"/>
              <a:ext cx="397080" cy="5288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-360 h 528840"/>
                <a:gd name="textAreaBottom" fmla="*/ 18828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AutoShape 9"/>
            <p:cNvSpPr/>
            <p:nvPr/>
          </p:nvSpPr>
          <p:spPr>
            <a:xfrm flipV="1" rot="21489000">
              <a:off x="6649920" y="2623320"/>
              <a:ext cx="396720" cy="5288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-360 h 528840"/>
                <a:gd name="textAreaBottom" fmla="*/ 18828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Oval 39"/>
          <p:cNvSpPr/>
          <p:nvPr/>
        </p:nvSpPr>
        <p:spPr>
          <a:xfrm>
            <a:off x="5824440" y="2743200"/>
            <a:ext cx="684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E:\MEDIA\1421\142122.JPG"/>
          <p:cNvPicPr/>
          <p:nvPr/>
        </p:nvPicPr>
        <p:blipFill>
          <a:blip r:embed="rId1"/>
          <a:srcRect l="1612" t="0" r="1612" b="0"/>
          <a:stretch/>
        </p:blipFill>
        <p:spPr>
          <a:xfrm>
            <a:off x="0" y="1905120"/>
            <a:ext cx="9194760" cy="49528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2"/>
          <p:cNvSpPr/>
          <p:nvPr/>
        </p:nvSpPr>
        <p:spPr>
          <a:xfrm>
            <a:off x="304920" y="3049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and the second lines of defens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7" name="Straight Arrow Connector 4"/>
          <p:cNvCxnSpPr/>
          <p:nvPr/>
        </p:nvCxnSpPr>
        <p:spPr>
          <a:xfrm>
            <a:off x="990720" y="990720"/>
            <a:ext cx="1829520" cy="838800"/>
          </a:xfrm>
          <a:prstGeom prst="straightConnector1">
            <a:avLst/>
          </a:prstGeom>
          <a:ln w="28440">
            <a:solidFill>
              <a:srgbClr val="fede54"/>
            </a:solidFill>
            <a:miter/>
            <a:tailEnd len="med" type="arrow" w="med"/>
          </a:ln>
        </p:spPr>
      </p:cxnSp>
      <p:cxnSp>
        <p:nvCxnSpPr>
          <p:cNvPr id="518" name="Straight Arrow Connector 6"/>
          <p:cNvCxnSpPr/>
          <p:nvPr/>
        </p:nvCxnSpPr>
        <p:spPr>
          <a:xfrm>
            <a:off x="4267080" y="914400"/>
            <a:ext cx="2439000" cy="915120"/>
          </a:xfrm>
          <a:prstGeom prst="straightConnector1">
            <a:avLst/>
          </a:prstGeom>
          <a:ln w="31680">
            <a:solidFill>
              <a:srgbClr val="fede54"/>
            </a:solidFill>
            <a:miter/>
            <a:tailEnd len="med" type="triangle" w="med"/>
          </a:ln>
        </p:spPr>
      </p:cxnSp>
      <p:sp>
        <p:nvSpPr>
          <p:cNvPr id="519" name="TextBox 6"/>
          <p:cNvSpPr/>
          <p:nvPr/>
        </p:nvSpPr>
        <p:spPr>
          <a:xfrm>
            <a:off x="76320" y="3254400"/>
            <a:ext cx="5790960" cy="703800"/>
          </a:xfrm>
          <a:prstGeom prst="rect">
            <a:avLst/>
          </a:prstGeom>
          <a:solidFill>
            <a:srgbClr val="ddb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 Narrow"/>
                <a:ea typeface="Arial"/>
              </a:rPr>
              <a:t>First Line of Def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Box 7"/>
          <p:cNvSpPr/>
          <p:nvPr/>
        </p:nvSpPr>
        <p:spPr>
          <a:xfrm>
            <a:off x="5867280" y="3254400"/>
            <a:ext cx="3276720" cy="703800"/>
          </a:xfrm>
          <a:prstGeom prst="rect">
            <a:avLst/>
          </a:prstGeom>
          <a:solidFill>
            <a:srgbClr val="d4f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 Narrow"/>
              </a:rPr>
              <a:t>Second Line of Def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irst line of defense :</a:t>
            </a:r>
            <a:endParaRPr b="0" lang="en-US" sz="40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11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atural (Innate) Immu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ys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skin/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ucous membrane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echan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ughing, sneezing, vomiting, action of cilia in trache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iochemical barrier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antimicrobial peptides, lung secretions, mucus, saliva, t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and mechanical barrier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n, impermeable to microb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ous membranes lining the gastrointestinal, genitourinary and respiratory tra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rotective mechanis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dding of outer skin lay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ing and sneez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shing of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mi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us and cilia in respiratory tr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ochemical barrier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0880" y="1295280"/>
            <a:ext cx="83059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dy  secretions contain anti-bacterial substances   e.g. saliva, tears and sw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microbial peptides (e.g., defensins, hepcidi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acterial fl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ompete with pathogenic bacteria for nutri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11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lammation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ammation is the first response of the immune system to infection or irri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consist of a series of vascular &amp; cellular changes that occur in response to  var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mul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.g. infections, injury, radiation 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EB7F-6085-4043-896F-97B7C074300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acteria possess an array of pro-inflammatory    molec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  Lipopolysaccharides (LP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C99B-AD74-42EE-B835-104B17C27C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3352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bial infections initiate inflam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5:02:25Z</dcterms:created>
  <dc:creator>kchugg</dc:creator>
  <dc:description/>
  <dc:language>en-US</dc:language>
  <cp:lastModifiedBy>Dr.Zahid</cp:lastModifiedBy>
  <dcterms:modified xsi:type="dcterms:W3CDTF">2013-09-25T07:15:02Z</dcterms:modified>
  <cp:revision>210</cp:revision>
  <dc:subject/>
  <dc:title>Cellular Biology</dc:title>
</cp:coreProperties>
</file>