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90E2-FE27-44A3-BC0D-4CDD4CD19EF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AEE2-47F3-48B9-947E-CDAC0B1D359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4F9C-DD03-4D1F-9D1E-0231D830FF0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8F5A-297F-432D-A07B-5FD1D1CF073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B55A-B56E-4266-8707-0B67D529267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28E2-0712-452C-9032-77BA716DE05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C705-E922-4CB4-AD50-03E10C293DE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9D05-5558-4EE1-BEA2-547D4EDB174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6115-4FFA-4682-821D-43231AE1171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BDB4-0829-4017-82D0-F7A9B9C21ED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6869-BEB8-4D35-9AAE-839659BCED0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0913-D308-4E88-A8FC-0F13E06CBDA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851D-C169-44C7-B45B-C2031152BDF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132D-A050-4D51-9E00-FE6173412D5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1A96-B39C-4080-8169-C3A470043EB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7586-6307-4968-9ACF-13C7A31B74A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0E69-5249-40DA-8B76-0039472FDF3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571-F5DA-4B8C-8628-6A251C5C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257-29B9-445C-B1DE-D9E5DD22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977-B52E-452E-B954-78DAB6BE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8A3-8E4B-4C8F-B335-E944BBD7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C31-6DB9-4938-8A6D-6833907D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8A2-00AB-4BCE-97D4-BE41E11D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B80-65E9-429C-B163-9D038230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028-AEAF-46D6-B0D7-137109CE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70A-CB8D-42B0-A050-52A9EFAC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B13-17F5-4729-9C9F-F41E35D4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A86-277E-44F0-9A45-2281056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315-BB4A-487A-9999-78260DB0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71B1-E6B4-496C-B9EC-A28E7C9A0DB0}" type="slidenum">
              <a:rPr b="1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Immune </a:t>
            </a: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deficiency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 disorde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Immunology Uni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Department of Patholo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447560"/>
            <a:ext cx="8229600" cy="4144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hildren  may present with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Arial Unicode MS"/>
              </a:rPr>
              <a:t>tetan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treme susceptibility to viral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tozoal, and  fungal 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found  depression of T-cell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umber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bsence of T-cell respon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85800" y="304920"/>
            <a:ext cx="7620120" cy="7617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DiGeorge  syndrome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etal thymus tissue graft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14 weeks ol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80880" y="914400"/>
            <a:ext cx="7543800" cy="91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of DiGeorge   syndrome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600200" y="2514600"/>
            <a:ext cx="5410080" cy="1066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cell defect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19320" y="4114800"/>
            <a:ext cx="6324480" cy="14479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ammaglobulinaemia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http://t3.gstatic.com/images?q=tbn:ANd9GcT6R0crhi6KxnXaWpjOyHLjMGSPmPgXCMQ23w28VquN1BTkHYYVFw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atients with B-cell defects  are subject to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120" y="1294920"/>
            <a:ext cx="8001000" cy="5257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urrent bacterial inf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normal immunity to most viral and fungal 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??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verse spectrum  ranging from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absence of B-cel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 absence of plasma cel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or absent immunoglobuli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ve absence of certain immunoglobul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X-linked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males : carriers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e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if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04920" y="2209680"/>
            <a:ext cx="8686800" cy="42674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common type, 80 to 90 perc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ct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uton Tyrosine Kinas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TK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fect involve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lock in maturation of  pre- B- cell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tu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B-cells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ne marr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28600" y="838080"/>
            <a:ext cx="8763120" cy="8384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-linked agammaglobulinaemia (XLA) o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uton’s hypogammaglobulinaem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Reduced B-cell counts to 0.1 percent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rmally 5-15 percent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Absence of Immunoglobulin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ffected children suffer from recurren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yogenic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acterial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304920"/>
            <a:ext cx="8229600" cy="12952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X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gA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   (1:700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 are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symptomat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but may have increased  incidence 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pirat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ct infections (R.T.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have recurrent R.T.I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astrointesti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ct symptom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lective immunoglobulin deficiency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ngenital disease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80880" y="1905120"/>
            <a:ext cx="8229600" cy="38862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zed by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Markedly elevated Ig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Low IgG, IgA &amp; Ig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80880" y="533520"/>
            <a:ext cx="7239240" cy="76176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- linked  hyper-IgM  Syndrom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http://t1.gstatic.com/images?q=tbn:ANd9GcTbrUSFfTP1aydJ6sC_kYhfhiBwSZNTKItqGUJo0aXElfM7ap_P-Q"/>
          <p:cNvPicPr/>
          <p:nvPr/>
        </p:nvPicPr>
        <p:blipFill>
          <a:blip r:embed="rId1"/>
          <a:stretch/>
        </p:blipFill>
        <p:spPr>
          <a:xfrm>
            <a:off x="6858000" y="1371600"/>
            <a:ext cx="1371600" cy="130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208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agement of immunoglobulin   deficiencie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3657240"/>
            <a:ext cx="8229600" cy="2057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eriodic intravenous immunoglobulin      (IVIG)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duces infectious complications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ecture Objective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176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that Immunodeficiency is due to a defect in the immune func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 the classification of Immunodeficienc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ain the presentations of different types of Immuno-deficiencies (e.g. recurrent infections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 the varieties of immune system deficiencies involving defects in 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cells, B cells, phagocytes and complemen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laboratory investigations for immunodeficiency disorders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vere Combined Immunodeficiency (SCI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85800" y="1828800"/>
            <a:ext cx="80773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uses of  SCI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e deficiencies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denosine deaminase ) deficie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N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ine phosphorylase) deficie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oxic metaboli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umulate in T and B ce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2280" y="22860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SCI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usceptibility to :viral, fungal, bacterial protozoal infections  (starting a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3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hs of ag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http://www.pc.maricopa.edu/Biology/rcotter/BIO%20205/LessonBuilders/Chapter%2016LB/cow95289_16_18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agement of SCI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742840"/>
            <a:ext cx="7696080" cy="21337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Infusion of purified enzym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Gene therapy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828800" y="2590920"/>
            <a:ext cx="541008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ukocyte defects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09480" y="4648320"/>
            <a:ext cx="3505320" cy="685800"/>
          </a:xfrm>
          <a:prstGeom prst="rect">
            <a:avLst/>
          </a:prstGeom>
          <a:solidFill>
            <a:srgbClr val="17375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572000" y="4648320"/>
            <a:ext cx="3886200" cy="685800"/>
          </a:xfrm>
          <a:prstGeom prst="rect">
            <a:avLst/>
          </a:prstGeom>
          <a:solidFill>
            <a:srgbClr val="17375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ativ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 rot="961200">
            <a:off x="2435400" y="3929040"/>
            <a:ext cx="145800" cy="571680"/>
          </a:xfrm>
          <a:prstGeom prst="downArrow">
            <a:avLst>
              <a:gd name="adj1" fmla="val 50000"/>
              <a:gd name="adj2" fmla="val 143751"/>
            </a:avLst>
          </a:prstGeom>
          <a:solidFill>
            <a:srgbClr val="ffff00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 rot="20596800">
            <a:off x="5949720" y="3927240"/>
            <a:ext cx="153720" cy="600120"/>
          </a:xfrm>
          <a:prstGeom prst="downArrow">
            <a:avLst>
              <a:gd name="adj1" fmla="val 50000"/>
              <a:gd name="adj2" fmla="val 156141"/>
            </a:avLst>
          </a:prstGeom>
          <a:solidFill>
            <a:srgbClr val="ffff00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9" descr="Go to fullsize image"/>
          <p:cNvPicPr/>
          <p:nvPr/>
        </p:nvPicPr>
        <p:blipFill>
          <a:blip r:embed="rId1"/>
          <a:stretch/>
        </p:blipFill>
        <p:spPr>
          <a:xfrm>
            <a:off x="2819520" y="228600"/>
            <a:ext cx="3543120" cy="21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enital agranulocytosis: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ct in the gene induc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-CS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ranulocyte colony stimulating factor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, otit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d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bsces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5800" y="380880"/>
            <a:ext cx="5105520" cy="68580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 Defec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28600" y="1219320"/>
            <a:ext cx="8610480" cy="4906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  in  chemotax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ukocyte adhesion deficiency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A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 in intracellular Kill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anulomato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in the oxidative complex responsible     for produc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uperoxide radica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57200" y="304920"/>
            <a:ext cx="5334120" cy="685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ative Defec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hronic granulomatous disease (CGD)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ngenital disease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28600" y="251460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trophil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ck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"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bur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 upon phagocytosi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zed by recurrent life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tening bacterial and fung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ions and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anuloma 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http://www.humpath.com/IMG/jpg/granuloma_fgsd-2.jpg"/>
          <p:cNvPicPr/>
          <p:nvPr/>
        </p:nvPicPr>
        <p:blipFill>
          <a:blip r:embed="rId1"/>
          <a:stretch/>
        </p:blipFill>
        <p:spPr>
          <a:xfrm>
            <a:off x="6248520" y="914400"/>
            <a:ext cx="2590560" cy="167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838080" y="2895480"/>
            <a:ext cx="7620120" cy="99072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  Deficiency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533520" y="1522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 of all complement components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been described C1-C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Figure 11.14. Defects in complement components are associated with susceptibility to certain infections and accumulation of immune complexes."/>
          <p:cNvPicPr/>
          <p:nvPr/>
        </p:nvPicPr>
        <p:blipFill>
          <a:blip r:embed="rId1"/>
          <a:stretch/>
        </p:blipFill>
        <p:spPr>
          <a:xfrm>
            <a:off x="0" y="1143000"/>
            <a:ext cx="899172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boratory diagnosis of I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 cou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otal &amp; different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body leve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response to antig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and B cell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u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Flowcytometr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 protein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unct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(CH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0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men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gocytosis and respiratory bur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xygen radical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te in which  the ability of the immune system to fight infectious disease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romised or entirely abs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on who has an immunodeficiency is said to b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muno-compromised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unodeficiency may be congenital or acqui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can involve any component of the immune system such as cells, antibodies, complement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common presentation of immunodeficiency is recurrent infections that may be fatal due to delay in diagnosis and lack of appropriate therap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bio116.pbworks.com/f/bubbleboy1_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886200" y="152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Times New Roman"/>
                <a:ea typeface="Times New Roman"/>
              </a:rPr>
              <a:t>A boy with congenital ID lived in a bubble for 12 years before he d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iagram 4" descr=""/>
          <p:cNvPicPr/>
          <p:nvPr/>
        </p:nvPicPr>
        <p:blipFill>
          <a:blip r:embed="rId1"/>
          <a:stretch/>
        </p:blipFill>
        <p:spPr>
          <a:xfrm>
            <a:off x="-23760" y="-6480"/>
            <a:ext cx="9191520" cy="687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agram 1" descr=""/>
          <p:cNvPicPr/>
          <p:nvPr/>
        </p:nvPicPr>
        <p:blipFill>
          <a:blip r:embed="rId1"/>
          <a:stretch/>
        </p:blipFill>
        <p:spPr>
          <a:xfrm>
            <a:off x="-30240" y="-6480"/>
            <a:ext cx="9210600" cy="687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1" descr=""/>
          <p:cNvPicPr/>
          <p:nvPr/>
        </p:nvPicPr>
        <p:blipFill>
          <a:blip r:embed="rId1"/>
          <a:stretch/>
        </p:blipFill>
        <p:spPr>
          <a:xfrm>
            <a:off x="-23760" y="-6480"/>
            <a:ext cx="9228240" cy="687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838080" y="304920"/>
            <a:ext cx="7086600" cy="9903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5400" spc="-1" strike="noStrike">
                <a:solidFill>
                  <a:srgbClr val="ffff00"/>
                </a:solidFill>
                <a:latin typeface="Calibri"/>
                <a:ea typeface="Times New Roman"/>
              </a:rPr>
              <a:t>T-cell defect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http://t3.gstatic.com/images?q=tbn:ANd9GcSVGBMI6vkB0i2_XMEeLMNaPzI6IIowIqLhyf6xFgjSa_vOtMRO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t0.gstatic.com/images?q=tbn:ANd9GcSZ0FRBvkw-acEe0IEvCG4NWB4lRYk-r_c5E0IUffiGTROVss2Y8g"/>
          <p:cNvPicPr/>
          <p:nvPr/>
        </p:nvPicPr>
        <p:blipFill>
          <a:blip r:embed="rId2"/>
          <a:stretch/>
        </p:blipFill>
        <p:spPr>
          <a:xfrm>
            <a:off x="4419720" y="1523880"/>
            <a:ext cx="4181400" cy="396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3520" y="2438280"/>
            <a:ext cx="8229600" cy="41911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ence or underdevelopment  of  the Thymus  gland (hypoplasia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oparathyroidis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ardiovascular  abnormalities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1676520"/>
            <a:ext cx="8382240" cy="1066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ngenital defect that is  marked by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http://t3.gstatic.com/images?q=tbn:ANd9GcRSayqznbuAtyhQleFDFaI7hZRw85WdRq0d-1bRPCrQfs-t_243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676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04920" y="228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George    Syndrom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 Thymic  Aplasia )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6:05:20Z</dcterms:created>
  <dc:creator>Ahmed</dc:creator>
  <dc:description/>
  <dc:language>en-US</dc:language>
  <cp:lastModifiedBy>ma100914</cp:lastModifiedBy>
  <dcterms:modified xsi:type="dcterms:W3CDTF">2014-11-03T08:36:53Z</dcterms:modified>
  <cp:revision>1109</cp:revision>
  <dc:subject/>
  <dc:title>GENERAL FETURES OF IMMUNODEFICIENCY.</dc:title>
</cp:coreProperties>
</file>