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3EEB-4CDD-4A2F-BB27-E17FAF265F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A97C-10B6-468F-97FA-8F82F6578A5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2816-CCE4-41A4-B003-8D72B9C1C0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569A-E96D-40F2-BE68-7F39ABE43D2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C068-B16B-42B3-B7B7-A2AD772AFC5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AB64-3A91-4DDF-960C-7791C093FE7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63D2-6413-40B2-976D-ABCF8F0DEDF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77F2-783D-4896-B330-3C23F256F52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D8D9-D636-4F17-8B54-7A33CA955C2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4A43-EE7C-4561-9723-E3CD6AD1F47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3C08-3D40-4F84-8115-76E27819BDA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7140-A066-47BC-97AC-A8DB298A06E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C248-363D-4DAC-82A0-F1894B30898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171D-9E8E-4311-8DB2-F247C449882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C2AB-6A3D-4418-A34E-C8E5C46B46B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2866-B257-4049-9BA6-6E90766140F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C8F8-813A-4B05-A039-B4531E8ACEF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79D4-8267-42DB-AB59-B0391EC3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BA5-876A-488E-97E1-CADA24B5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48D-8570-4F20-BADF-5A64EC75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4692-CC00-4778-97A0-52300450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D28D-9EC0-4B55-8F09-F12869CD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746-F09F-427C-89C2-BF1A6E8D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7E65-7A9F-4638-833A-CF17117C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B42D-807B-42F7-885B-2B253EC7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204-D60D-405F-97C2-BA05DC5C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D08-29AE-4993-B607-4D9EF7AF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735-1AF9-47C7-B538-A0049756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14A-BD91-4DA3-878C-2B549EC3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8DB9-8BC7-4035-9563-2C0B5261D468}" type="slidenum">
              <a:rPr b="1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Immune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deficiency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 disorde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Immunology Uni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d9d9"/>
                </a:solidFill>
                <a:latin typeface="Times New Roman"/>
                <a:ea typeface="Times New Roman"/>
              </a:rPr>
              <a:t>Department of Patholo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447560"/>
            <a:ext cx="8229600" cy="4144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ildren  may present with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Arial Unicode MS"/>
              </a:rPr>
              <a:t>tetan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treme susceptibility to vira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tozoal, and  fungal 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found  depression of T-cel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umber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bsence of T-cell respon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85800" y="304920"/>
            <a:ext cx="7620120" cy="7617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DiGeorge  syndrom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etal thymus tissue graft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14 weeks ol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80880" y="914400"/>
            <a:ext cx="7543800" cy="91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iGeorge   syndrome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600200" y="2514600"/>
            <a:ext cx="5410080" cy="1066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cell defect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19320" y="4114800"/>
            <a:ext cx="6324480" cy="14479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ammaglobulinaemia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2" descr="http://t3.gstatic.com/images?q=tbn:ANd9GcT6R0crhi6KxnXaWpjOyHLjMGSPmPgXCMQ23w28VquN1BTkHYYVFw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atients with B-cell defects  are subject to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120" y="1294920"/>
            <a:ext cx="8001000" cy="5257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urrent bacterial inf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normal immunity to most viral and fungal 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??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verse spectrum  ranging from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absence of B-cel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 absence of plasma cel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or absent immunoglobuli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e absence of certain immunoglobul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X-linked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males : carriers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if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04920" y="2209680"/>
            <a:ext cx="8686800" cy="42674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common type, 80 to 90 perc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ct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ruton Tyrosine Kinas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BTK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fect involve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ock in maturation of  pre- B- cell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tu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B-cells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one marr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28600" y="838080"/>
            <a:ext cx="8763120" cy="8384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linked agammaglobulinaemia (XLA) o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uton’s hypogammaglobulinaem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Reduced B-cell counts to 0.1 percent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rmally 5-15 percent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Absence of Immunoglobulin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ffected children suffer from recurrent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yogenic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cterial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X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gA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  (1:700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 are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symptomat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but may have increased  incidence 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pirat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ct infections (R.T.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have recurrent R.T.I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astrointesti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ct sympto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lective immunoglobulin deficiency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genital diseas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80880" y="1905120"/>
            <a:ext cx="8229600" cy="38862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by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Markedly elevated Ig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Low IgG, IgA &amp; Ig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80880" y="533520"/>
            <a:ext cx="7239240" cy="76176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 linked  hyper-IgM  Syndrom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http://t1.gstatic.com/images?q=tbn:ANd9GcTbrUSFfTP1aydJ6sC_kYhfhiBwSZNTKItqGUJo0aXElfM7ap_P-Q"/>
          <p:cNvPicPr/>
          <p:nvPr/>
        </p:nvPicPr>
        <p:blipFill>
          <a:blip r:embed="rId1"/>
          <a:stretch/>
        </p:blipFill>
        <p:spPr>
          <a:xfrm>
            <a:off x="6858000" y="1371600"/>
            <a:ext cx="1371600" cy="130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208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of immunoglobulin   deficienci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3657240"/>
            <a:ext cx="8229600" cy="2057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eriodic intravenous immunoglobulin      (IVIG) 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duces infectious complications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ecture Objective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that Immunodeficiency is due to a defect in the immune func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the classification of Immunodeficienc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 the presentations of different types of Immuno-deficiencies (e.g. recurrent infections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 the varieties of immune system deficiencies involving defects in 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cells, B cells, phagocytes and complemen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laboratory investigations for immunodeficiency disorder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vere Combined Immunodeficiency (SCI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85800" y="1828800"/>
            <a:ext cx="80773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uses of  SCI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 deficiencies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D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adenosine deaminase )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N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 phosphorylase)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oxic metaboli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umulate in T and B ce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2280" y="2286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SCI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usceptibility to :viral, fungal, bacterial protozoal infections  (starting at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3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ths of ag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http://www.pc.maricopa.edu/Biology/rcotter/BIO%20205/LessonBuilders/Chapter%2016LB/cow95289_16_18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of SCI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742840"/>
            <a:ext cx="7696080" cy="21337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nfusion of purified enzym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Gene therapy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828800" y="2590920"/>
            <a:ext cx="54100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cyte defects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09480" y="4648320"/>
            <a:ext cx="3505320" cy="685800"/>
          </a:xfrm>
          <a:prstGeom prst="rect">
            <a:avLst/>
          </a:prstGeom>
          <a:solidFill>
            <a:srgbClr val="17375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572000" y="4648320"/>
            <a:ext cx="3886200" cy="685800"/>
          </a:xfrm>
          <a:prstGeom prst="rect">
            <a:avLst/>
          </a:prstGeom>
          <a:solidFill>
            <a:srgbClr val="17375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 rot="961200">
            <a:off x="2435400" y="3929040"/>
            <a:ext cx="145800" cy="571680"/>
          </a:xfrm>
          <a:prstGeom prst="downArrow">
            <a:avLst>
              <a:gd name="adj1" fmla="val 50000"/>
              <a:gd name="adj2" fmla="val 143751"/>
            </a:avLst>
          </a:prstGeom>
          <a:solidFill>
            <a:srgbClr val="ffff00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 rot="20596800">
            <a:off x="5949720" y="3927240"/>
            <a:ext cx="153720" cy="600120"/>
          </a:xfrm>
          <a:prstGeom prst="downArrow">
            <a:avLst>
              <a:gd name="adj1" fmla="val 50000"/>
              <a:gd name="adj2" fmla="val 156141"/>
            </a:avLst>
          </a:prstGeom>
          <a:solidFill>
            <a:srgbClr val="ffff00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9" descr="Go to fullsize image"/>
          <p:cNvPicPr/>
          <p:nvPr/>
        </p:nvPicPr>
        <p:blipFill>
          <a:blip r:embed="rId1"/>
          <a:stretch/>
        </p:blipFill>
        <p:spPr>
          <a:xfrm>
            <a:off x="2819520" y="228600"/>
            <a:ext cx="3543120" cy="21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enital agranulocytosis: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ct in the gene induc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-CS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granulocyte colony stimulating factor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, otit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d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bsces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5800" y="380880"/>
            <a:ext cx="5105520" cy="68580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 Defec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8600" y="1219320"/>
            <a:ext cx="8610480" cy="4906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  in  chemotax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cyte adhesion deficiency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A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 in intracellular Kill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nulomato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in the oxidative complex responsible     for producing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uperoxide radica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57200" y="304920"/>
            <a:ext cx="5334120" cy="685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ative Defec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ronic granulomatous disease (CGD)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genital disease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28600" y="251460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trophil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ck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"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bur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 upon phagocytosi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by recurrent life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tening bacterial and fung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s and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granuloma 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http://www.humpath.com/IMG/jpg/granuloma_fgsd-2.jpg"/>
          <p:cNvPicPr/>
          <p:nvPr/>
        </p:nvPicPr>
        <p:blipFill>
          <a:blip r:embed="rId1"/>
          <a:stretch/>
        </p:blipFill>
        <p:spPr>
          <a:xfrm>
            <a:off x="6248520" y="914400"/>
            <a:ext cx="259056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838080" y="2895480"/>
            <a:ext cx="7620120" cy="99072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  Deficiency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533520" y="1522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of all complement components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been described C1-C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" descr="Figure 11.14. Defects in complement components are associated with susceptibility to certain infections and accumulation of immune complexes."/>
          <p:cNvPicPr/>
          <p:nvPr/>
        </p:nvPicPr>
        <p:blipFill>
          <a:blip r:embed="rId1"/>
          <a:stretch/>
        </p:blipFill>
        <p:spPr>
          <a:xfrm>
            <a:off x="0" y="1143000"/>
            <a:ext cx="89917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boratory diagnosis of I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cou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otal &amp; different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ody leve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response to antig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and B cell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Flowcytometr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 protei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uncti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(CH</a:t>
            </a:r>
            <a:r>
              <a:rPr b="0" lang="en-US" sz="3200" spc="-1" strike="noStrike" u="sng" baseline="-25000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0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gocytosis and respiratory bur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xygen radical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te in which  the ability of the immune system to fight infectious disease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romised or entirely abs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on who has an immunodeficiency is said to b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muno-compromised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unodeficiency may be congenital or acqui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can involve any component of the immune system such as cells, antibodies, complement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common presentation of immunodeficiency is recurrent infections that may be fatal due to delay in diagnosis and lack of appropriate therap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bio116.pbworks.com/f/bubbleboy1_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3886200" y="152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A boy with congenital ID lived in a bubble for 12 years before he d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iagram 4" descr=""/>
          <p:cNvPicPr/>
          <p:nvPr/>
        </p:nvPicPr>
        <p:blipFill>
          <a:blip r:embed="rId1"/>
          <a:stretch/>
        </p:blipFill>
        <p:spPr>
          <a:xfrm>
            <a:off x="-23760" y="-6480"/>
            <a:ext cx="9191520" cy="687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 1" descr=""/>
          <p:cNvPicPr/>
          <p:nvPr/>
        </p:nvPicPr>
        <p:blipFill>
          <a:blip r:embed="rId1"/>
          <a:stretch/>
        </p:blipFill>
        <p:spPr>
          <a:xfrm>
            <a:off x="-30240" y="-6480"/>
            <a:ext cx="9210600" cy="687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1" descr=""/>
          <p:cNvPicPr/>
          <p:nvPr/>
        </p:nvPicPr>
        <p:blipFill>
          <a:blip r:embed="rId1"/>
          <a:stretch/>
        </p:blipFill>
        <p:spPr>
          <a:xfrm>
            <a:off x="-23760" y="-6480"/>
            <a:ext cx="9228240" cy="687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838080" y="304920"/>
            <a:ext cx="7086600" cy="9903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  <a:ea typeface="Times New Roman"/>
              </a:rPr>
              <a:t>T-cell defect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http://t3.gstatic.com/images?q=tbn:ANd9GcSVGBMI6vkB0i2_XMEeLMNaPzI6IIowIqLhyf6xFgjSa_vOtMRO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t0.gstatic.com/images?q=tbn:ANd9GcSZ0FRBvkw-acEe0IEvCG4NWB4lRYk-r_c5E0IUffiGTROVss2Y8g"/>
          <p:cNvPicPr/>
          <p:nvPr/>
        </p:nvPicPr>
        <p:blipFill>
          <a:blip r:embed="rId2"/>
          <a:stretch/>
        </p:blipFill>
        <p:spPr>
          <a:xfrm>
            <a:off x="4419720" y="1523880"/>
            <a:ext cx="418140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3520" y="2438280"/>
            <a:ext cx="8229600" cy="41911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ence or underdevelopment  of  the Thymus  gland (hypoplasia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parathyroidis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ardiovascular  abnormalities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genital defect that is  marked by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http://t3.gstatic.com/images?q=tbn:ANd9GcRSayqznbuAtyhQleFDFaI7hZRw85WdRq0d-1bRPCrQfs-t_243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228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orge    Syndrom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 Thymic  Aplasia )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6:05:20Z</dcterms:created>
  <dc:creator>Ahmed</dc:creator>
  <dc:description/>
  <dc:language>en-US</dc:language>
  <cp:lastModifiedBy>ma100914</cp:lastModifiedBy>
  <dcterms:modified xsi:type="dcterms:W3CDTF">2014-11-03T08:36:53Z</dcterms:modified>
  <cp:revision>1109</cp:revision>
  <dc:subject/>
  <dc:title>GENERAL FETURES OF IMMUNODEFICIENCY.</dc:title>
</cp:coreProperties>
</file>