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8C14-7F3B-4B03-87E6-7234278F9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cs typeface="Arial"/>
              </a:rPr>
              <a:t>للأمانة العلمية: جهزت هذه الشرائح من قبل أعضاء هيئة التدريس من الكلية و خارجهاو ليس عمل شخص واحد. هذه سلسلة من المحاضرات على مدار السنة بمعدل محاضرة واحدة أسبوعيا للفائدة. تعرض هذه المحاضرات باللغة الإنجليزية و لكن سيوضح عضو هيئة التدريس أي نقطة يستفسر الطالب عنها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skill; learning how to learn. Other names are given as “Meta-cognition” , Academic skills &amp; Learning skills. If we have these skills we can learn faster, we will not have difficulty in learning &amp; learning becomes enjoyable &amp; f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3470-16E2-4368-A728-9E897CC9A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974C-51CA-409C-87CF-38621AE467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D8AD-4E83-4D7D-A93D-0C9859A45E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57A9-893C-4711-8A03-668E0F336B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7B62-2828-4D85-AAEE-FDDB4E46EB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0C1B-CE9C-412B-B542-58A7D7F5CE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7296-5260-409D-9B52-088BC3DF5D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396C-1676-4B00-A6DE-3D71259840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D1A0-452D-468C-890C-7359E3E529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959D-BF75-4895-AB42-F792AFD85B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5F80-3612-417B-8442-31C5752C49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DE1B-03F0-4973-93B4-E85FFF004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st objective is kept here that we are ready to apply it in our daily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E899-2F9B-4293-BFF2-FADE490B4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BF6A-F4E8-4DF9-B7EA-6732F1844F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FC9D-DAB9-432F-90A1-115983A9F6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98E5-A5EE-49E2-9987-EEDA2B0553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6C60-6F20-4689-9D81-B62FBA3614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47B2-3194-4A2E-9DB6-1DAE54467B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st objective is kept here that we are ready to apply it in our daily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35F5-9F66-4E65-AB65-96C613977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6180-9679-4223-81C9-9CABA734AA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FDF5-0EB3-4166-BE1B-FDEAD274C9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3C23-8813-44CE-97AE-EF262303AE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or male students is “Car driving” &amp; for female students is “Cooking a special dish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6F2F-FC67-4BF8-9EA6-42215A797D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037E-232C-4BB7-AF56-8EF3D981C8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81B7-1793-46FF-81EA-B08FC06AE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7D1B-A165-4CF0-BE29-985C75F0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83F7-D683-451B-95C6-714DACBF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1A0-102F-426D-AE08-9B5AE81D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6E4-16C3-49E5-BA0D-277C7683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1D30-D4C6-4EC3-85F3-14E669D7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1F34-EDDC-47B0-BE83-AEDEF159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5854-B734-4C39-B2B0-41E51FAC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A082-BF8D-4D88-96FC-47022BF3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D83C-5915-469C-8CC2-C44207C9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252A-9D6B-4C39-B2D0-66BC43F5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C902-C333-4F10-97DF-EF49F6B3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553-CA6A-4C0F-ABF3-694F4A4A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A835-3531-44E4-811D-79E21E14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86E8-6A7D-45EA-97C4-800E41F8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0A32-BD78-4FF4-977B-641DC76F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6BF5-699D-4E25-AF7E-81EA84D6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C97B-8508-4774-8BCA-BF270498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9C7C0-3004-4EE1-8B82-8BE1A24B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33B10-EF9A-4FA6-8274-6F411B22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87673-25A5-4D53-9CEE-C44AF01C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9F88E-A84E-4553-9CFA-BE0877F2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622089-CDC2-4408-9F4F-E795CB1B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6F5D-61EE-4A0C-8296-6269E34E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4C98C-2C48-4584-BBBA-D5EF10EB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0A736-6E42-43C7-8FF7-474C056D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7E1BE-B76C-46ED-8F34-373C7872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6AD7D-D6A8-4A0F-A4BA-9481B8F7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DE3B0-E590-48D2-B94D-E7EAC036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104B8-190E-42E0-B5CE-4EF03F28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487C5-6F59-4985-9109-63FC83C0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E5455-3422-4844-B4BE-9DCCC7C4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D5BD5-CB4C-4C7F-BB97-D32699FA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022F3-E7A9-476F-99CF-096EE69C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026-E64C-48B1-8A8E-12154E76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63999-1714-438F-92F7-BB6D59FB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30A92-1E29-48EC-9611-A5237726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251F4-1500-4E8F-ABC6-894A1449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97765-6AD2-4029-81E4-10164AC2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9AFD8-F0F5-4DCC-B370-1AF77845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69E9F-4590-43AF-A9BD-97459651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2CD01-ABDC-4C9E-B4E5-47771CBC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41B15-3513-414D-B02E-532F98E0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A4A89-BBCC-41BB-AEE9-0B80F5D9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71F-87AE-402C-B424-5DCE2C2B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0FE6-3E6D-4771-A254-389980EB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FB31-B847-40FC-93F3-605D1F9F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668D-B24B-4F23-AB1D-CEFAA453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824C-B022-401B-88E3-FFC0DB16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941C-1425-4FAF-8D9E-A8CC1E228AC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90D1-47C5-465E-B2E4-3E0DB50C4BE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6FDB-A538-4D25-A788-0906A7F7A9A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37D0-D009-4A4E-8268-70DBA956C8F5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28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rebuchet MS"/>
              </a:rPr>
              <a:t>Study Skills: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Trebuchet MS"/>
              </a:rPr>
              <a:t>Learning How to Learn 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123720" y="4419360"/>
            <a:ext cx="5334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Study Skill Cour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Dept of Medical Educ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College of Medici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428760" y="2142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are these differences in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1285920" y="8571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e consider you as adult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357120" y="142884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need to kn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adult learners need to know why they need to learn something before undertaking to learn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arner self-concep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need to be responsible for their own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le of learners' experi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have a variety of experiences of life - the richest resource fo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diness to lear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are ready to learn those things they need to know in order to cope effectively with life sit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ientation to lear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are motivated to learn to the extent that they perceive that it will help them perform tasks they confront in their life situ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714240" y="42876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f adult learning is to be achieved…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428760" y="121428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has to b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earning as opposed to superficial and pass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571680" y="2857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Why is deep/active learning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285840" y="357192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ficial learning is easily and very quickly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forgo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285840" y="45720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superficial learning you will not be able to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pp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use it in practica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357120" y="564372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ep learning accommodates varying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"/>
          <p:cNvSpPr/>
          <p:nvPr/>
        </p:nvSpPr>
        <p:spPr>
          <a:xfrm>
            <a:off x="571680" y="257184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be a passive receiver of information. Tr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a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information and tr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t and tr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do different thing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at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785880" y="8571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How can deep /active learning be achie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1857240" y="6429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What do we reme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1571760" y="164304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% of what we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1571760" y="228600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% of what we 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571760" y="29289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% of what we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1571760" y="35719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 of what we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1571760" y="421488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% of what we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1571760" y="492912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424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90% of what we read, hear, see,            say and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1500120" y="6429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earn actively and de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1000080" y="164304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on’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just read and close th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928800" y="22860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y to do different things with what you have read immediately afte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1643040" y="33577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 flow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1643040" y="39290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 diagrams using co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1643040" y="45007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a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1643040" y="507204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mpt answering pass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642960" y="571500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hort, interact with what you have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1357200" y="64296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How to shift information from short term to long tern mem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"/>
          <p:cNvSpPr/>
          <p:nvPr/>
        </p:nvSpPr>
        <p:spPr>
          <a:xfrm>
            <a:off x="1643040" y="185724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Learn actively &amp; dee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1643040" y="242892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Revisit, repeat &amp; rev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357120" y="571500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55680" indent="-355680"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Do not wait until you finish studying to rev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285840" y="342900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mportant points about revisiting &amp;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285840" y="407196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There is no special place of time to rev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285840" y="4714920"/>
            <a:ext cx="857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Try to revisit and repeat at every given opport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http://www.adm.uwaterloo.ca/infocs/Images/curve.gif"/>
          <p:cNvPicPr/>
          <p:nvPr/>
        </p:nvPicPr>
        <p:blipFill>
          <a:blip r:embed="rId1"/>
          <a:stretch/>
        </p:blipFill>
        <p:spPr>
          <a:xfrm>
            <a:off x="428760" y="1571760"/>
            <a:ext cx="8215200" cy="464328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1857240" y="6429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Forgett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360360" y="-615960"/>
            <a:ext cx="8229600" cy="52070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2"/>
          <p:cNvSpPr/>
          <p:nvPr/>
        </p:nvSpPr>
        <p:spPr>
          <a:xfrm>
            <a:off x="2000160" y="1428840"/>
            <a:ext cx="478656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1928880" y="378612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/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928880" y="257184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ory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1928880" y="500076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inaesthetic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"/>
          <p:cNvSpPr/>
          <p:nvPr/>
        </p:nvSpPr>
        <p:spPr>
          <a:xfrm>
            <a:off x="1643040" y="35712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earning style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2"/>
          <p:cNvSpPr/>
          <p:nvPr/>
        </p:nvSpPr>
        <p:spPr>
          <a:xfrm>
            <a:off x="1643040" y="2428920"/>
            <a:ext cx="236232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l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5148360" y="42577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gmat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5148360" y="24289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o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1490760" y="42577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7"/>
          <p:cNvSpPr/>
          <p:nvPr/>
        </p:nvSpPr>
        <p:spPr>
          <a:xfrm>
            <a:off x="880920" y="3648240"/>
            <a:ext cx="73915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ight Arrow 8"/>
          <p:cNvSpPr/>
          <p:nvPr/>
        </p:nvSpPr>
        <p:spPr>
          <a:xfrm rot="16200000">
            <a:off x="-26640" y="1964880"/>
            <a:ext cx="2197080" cy="6858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9"/>
          <p:cNvSpPr/>
          <p:nvPr/>
        </p:nvSpPr>
        <p:spPr>
          <a:xfrm rot="16200000">
            <a:off x="493560" y="2358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ight Arrow 10"/>
          <p:cNvSpPr/>
          <p:nvPr/>
        </p:nvSpPr>
        <p:spPr>
          <a:xfrm rot="5400000">
            <a:off x="-27360" y="4556160"/>
            <a:ext cx="2197080" cy="6858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1"/>
          <p:cNvSpPr/>
          <p:nvPr/>
        </p:nvSpPr>
        <p:spPr>
          <a:xfrm rot="16200000">
            <a:off x="198360" y="455904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-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13"/>
          <p:cNvCxnSpPr/>
          <p:nvPr/>
        </p:nvCxnSpPr>
        <p:spPr>
          <a:xfrm>
            <a:off x="4005000" y="3114360"/>
            <a:ext cx="1143720" cy="1067400"/>
          </a:xfrm>
          <a:prstGeom prst="straightConnector1">
            <a:avLst/>
          </a:prstGeom>
          <a:ln w="31680">
            <a:solidFill>
              <a:srgbClr val="43808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98" name="Straight Arrow Connector 15"/>
          <p:cNvCxnSpPr/>
          <p:nvPr/>
        </p:nvCxnSpPr>
        <p:spPr>
          <a:xfrm flipV="1">
            <a:off x="4081320" y="3114000"/>
            <a:ext cx="991440" cy="1067400"/>
          </a:xfrm>
          <a:prstGeom prst="straightConnector1">
            <a:avLst/>
          </a:prstGeom>
          <a:ln w="31680">
            <a:solidFill>
              <a:srgbClr val="438086"/>
            </a:solidFill>
            <a:miter/>
            <a:headEnd len="med" type="arrow" w="med"/>
            <a:tailEnd len="med" type="arrow" w="med"/>
          </a:ln>
        </p:spPr>
      </p:cxnSp>
      <p:sp>
        <p:nvSpPr>
          <p:cNvPr id="299" name="TextBox 1"/>
          <p:cNvSpPr/>
          <p:nvPr/>
        </p:nvSpPr>
        <p:spPr>
          <a:xfrm>
            <a:off x="1643040" y="35712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earning style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2071800" y="571680"/>
            <a:ext cx="521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Bernard MT Condensed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571680" y="17859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is undergraduate learning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642960" y="278604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to learn deeply and act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685800" y="3733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What is your learning sty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642960" y="47149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to promote reflective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rnard MT Condensed"/>
              </a:rPr>
              <a:t>How to get high  scores/grades in exa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r learning style  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ow you 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perceive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ow you 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process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c00000"/>
                </a:solidFill>
                <a:latin typeface="Arial Unicode MS"/>
              </a:rPr>
              <a:t>WHAT IS LEARING STYLES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way in which each individual learner begins to concentrate on, process, absorb, and retain new and difficult informa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rning styles are the most important tool for us when we construct knowledg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right way of studying does not exis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erybody learns in his individual way, but without knowing this way, you can’t learn efficiently – sometimes you can’t learn at all.           </a:t>
            </a:r>
            <a:r>
              <a:rPr b="0" lang="en-US" sz="4000" spc="-1" strike="noStrike">
                <a:solidFill>
                  <a:srgbClr val="ff0000"/>
                </a:solidFill>
                <a:latin typeface="Arial Unicode MS"/>
              </a:rPr>
              <a:t>SO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rning styles are strategies or regular mental behaviors that are habitually applied by an individual to learning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Classical classification of Learning styl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 (prefer to learn by see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uditory (prefer to learn by soun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Kinesthetic (prefer to learn by do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erbal (linguistic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gical (mathematical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cial (interpersonal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Visual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fer to see the informa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like reading tex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morizes by writing repeated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n inactive, doodles, looks around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ization-imagi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 promp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cept ma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visual representation of information-posters et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Auditory sty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ke to listen to teach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alks fluently and logical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morizes by repeating words alou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activity leads to talking to self or oth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tive liste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hyme and rhythm-mnemon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agine you can hear 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85800" y="914400"/>
            <a:ext cx="62485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Kinesth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94be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and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lks about actions, speaks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activity leads to fidg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stracted by physical disturb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* </a:t>
            </a:r>
            <a:r>
              <a:rPr b="0" lang="en-US" sz="2800" spc="-1" strike="noStrike">
                <a:solidFill>
                  <a:srgbClr val="a6a6a6"/>
                </a:solidFill>
                <a:latin typeface="Trebuchet MS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se objects that can be manip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ting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ody language and physical m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verbal (linguistic)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Involves both the written and spoken wor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Express both in writing and verbally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 love reading and writin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 Know the meaning of many wo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The temporal and frontal lobes drive this styl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088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logical (mathematical)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ing brain for logical and mathematical reasoning. classify and group information to learn or understand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 well with numbers and perform complex calculatio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 through problems and issues in a systematic w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The parietal lobes, especially the left side, drive our logical thinkin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088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social (interpersonal)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Communication well with people, both verbally and non-verbally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listen well and understand other’s view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Prefer learning in grou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prefer to stay around and talk with othe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-  The frontal and temporal lobes handle much of our social activit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4"/>
          <p:cNvSpPr/>
          <p:nvPr/>
        </p:nvSpPr>
        <p:spPr>
          <a:xfrm>
            <a:off x="406440" y="2590920"/>
            <a:ext cx="1576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LISTEN</a:t>
            </a: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da-DK" sz="1800" spc="-1" strike="noStrike">
                <a:solidFill>
                  <a:srgbClr val="373737"/>
                </a:solidFill>
                <a:latin typeface="Arial"/>
              </a:rPr>
              <a:t>to a lecture, a presentation, or an </a:t>
            </a:r>
            <a:br>
              <a:rPr sz="1800"/>
            </a:br>
            <a:r>
              <a:rPr b="0" lang="da-DK" sz="1800" spc="-1" strike="noStrike">
                <a:solidFill>
                  <a:srgbClr val="373737"/>
                </a:solidFill>
                <a:latin typeface="Arial"/>
              </a:rPr>
              <a:t>audiotape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35"/>
          <p:cNvSpPr/>
          <p:nvPr/>
        </p:nvSpPr>
        <p:spPr>
          <a:xfrm>
            <a:off x="396720" y="1447920"/>
            <a:ext cx="1595520" cy="4647960"/>
          </a:xfrm>
          <a:prstGeom prst="rect">
            <a:avLst/>
          </a:prstGeom>
          <a:noFill/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036"/>
          <p:cNvGrpSpPr/>
          <p:nvPr/>
        </p:nvGrpSpPr>
        <p:grpSpPr>
          <a:xfrm>
            <a:off x="554040" y="1523880"/>
            <a:ext cx="1163160" cy="733320"/>
            <a:chOff x="554040" y="1523880"/>
            <a:chExt cx="1163160" cy="733320"/>
          </a:xfrm>
        </p:grpSpPr>
        <p:sp>
          <p:nvSpPr>
            <p:cNvPr id="313" name="Line 1037"/>
            <p:cNvSpPr/>
            <p:nvPr/>
          </p:nvSpPr>
          <p:spPr>
            <a:xfrm>
              <a:off x="1135440" y="152388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038"/>
            <p:cNvSpPr/>
            <p:nvPr/>
          </p:nvSpPr>
          <p:spPr>
            <a:xfrm>
              <a:off x="554040" y="1523880"/>
              <a:ext cx="1163160" cy="7333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039"/>
            <p:cNvSpPr/>
            <p:nvPr/>
          </p:nvSpPr>
          <p:spPr>
            <a:xfrm>
              <a:off x="699120" y="1627560"/>
              <a:ext cx="872280" cy="275040"/>
            </a:xfrm>
            <a:prstGeom prst="rect">
              <a:avLst/>
            </a:prstGeom>
            <a:solidFill>
              <a:srgbClr val="ef7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Rectangle 1040"/>
          <p:cNvSpPr/>
          <p:nvPr/>
        </p:nvSpPr>
        <p:spPr>
          <a:xfrm>
            <a:off x="609480" y="1631880"/>
            <a:ext cx="1067040" cy="52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41"/>
          <p:cNvSpPr/>
          <p:nvPr/>
        </p:nvSpPr>
        <p:spPr>
          <a:xfrm>
            <a:off x="7151760" y="2590920"/>
            <a:ext cx="1576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DISCU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with others the new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and complex information they are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042"/>
          <p:cNvSpPr/>
          <p:nvPr/>
        </p:nvSpPr>
        <p:spPr>
          <a:xfrm>
            <a:off x="7151760" y="1447920"/>
            <a:ext cx="1595520" cy="46479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043"/>
          <p:cNvGrpSpPr/>
          <p:nvPr/>
        </p:nvGrpSpPr>
        <p:grpSpPr>
          <a:xfrm>
            <a:off x="7423200" y="1523880"/>
            <a:ext cx="1164960" cy="733320"/>
            <a:chOff x="7423200" y="1523880"/>
            <a:chExt cx="1164960" cy="733320"/>
          </a:xfrm>
        </p:grpSpPr>
        <p:sp>
          <p:nvSpPr>
            <p:cNvPr id="320" name="Line 1044"/>
            <p:cNvSpPr/>
            <p:nvPr/>
          </p:nvSpPr>
          <p:spPr>
            <a:xfrm>
              <a:off x="8005680" y="152388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1045"/>
            <p:cNvSpPr/>
            <p:nvPr/>
          </p:nvSpPr>
          <p:spPr>
            <a:xfrm>
              <a:off x="7423200" y="1523880"/>
              <a:ext cx="1164960" cy="7333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046"/>
            <p:cNvSpPr/>
            <p:nvPr/>
          </p:nvSpPr>
          <p:spPr>
            <a:xfrm>
              <a:off x="7568280" y="1627560"/>
              <a:ext cx="873720" cy="275040"/>
            </a:xfrm>
            <a:prstGeom prst="rect">
              <a:avLst/>
            </a:prstGeom>
            <a:solidFill>
              <a:srgbClr val="ef7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1047"/>
          <p:cNvSpPr/>
          <p:nvPr/>
        </p:nvSpPr>
        <p:spPr>
          <a:xfrm>
            <a:off x="7467480" y="1631880"/>
            <a:ext cx="1081080" cy="52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b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084"/>
          <p:cNvGrpSpPr/>
          <p:nvPr/>
        </p:nvGrpSpPr>
        <p:grpSpPr>
          <a:xfrm>
            <a:off x="3776760" y="1447920"/>
            <a:ext cx="1595520" cy="4647960"/>
            <a:chOff x="3776760" y="1447920"/>
            <a:chExt cx="1595520" cy="4647960"/>
          </a:xfrm>
        </p:grpSpPr>
        <p:sp>
          <p:nvSpPr>
            <p:cNvPr id="325" name="Rectangle 1048"/>
            <p:cNvSpPr/>
            <p:nvPr/>
          </p:nvSpPr>
          <p:spPr>
            <a:xfrm>
              <a:off x="3776760" y="2590920"/>
              <a:ext cx="1576800" cy="35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lnSpc>
                  <a:spcPct val="115000"/>
                </a:lnSpc>
                <a:spcBef>
                  <a:spcPts val="1687"/>
                </a:spcBef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member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est when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ey 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READ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73737"/>
                  </a:solidFill>
                  <a:latin typeface="Arial"/>
                </a:rPr>
                <a:t>the written word (textbooks, memos, </a:t>
              </a:r>
              <a:br>
                <a:rPr sz="1800"/>
              </a:br>
              <a:r>
                <a:rPr b="0" lang="en-US" sz="1800" spc="-1" strike="noStrike">
                  <a:solidFill>
                    <a:srgbClr val="373737"/>
                  </a:solidFill>
                  <a:latin typeface="Arial"/>
                </a:rPr>
                <a:t> and e-mail message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49"/>
            <p:cNvSpPr/>
            <p:nvPr/>
          </p:nvSpPr>
          <p:spPr>
            <a:xfrm>
              <a:off x="3776760" y="1447920"/>
              <a:ext cx="1595520" cy="464796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1074"/>
            <p:cNvGrpSpPr/>
            <p:nvPr/>
          </p:nvGrpSpPr>
          <p:grpSpPr>
            <a:xfrm>
              <a:off x="3898440" y="1523880"/>
              <a:ext cx="1351440" cy="735120"/>
              <a:chOff x="3898440" y="1523880"/>
              <a:chExt cx="1351440" cy="735120"/>
            </a:xfrm>
          </p:grpSpPr>
          <p:grpSp>
            <p:nvGrpSpPr>
              <p:cNvPr id="328" name="Group 1050"/>
              <p:cNvGrpSpPr/>
              <p:nvPr/>
            </p:nvGrpSpPr>
            <p:grpSpPr>
              <a:xfrm>
                <a:off x="3935880" y="1523880"/>
                <a:ext cx="1275840" cy="733320"/>
                <a:chOff x="3935880" y="1523880"/>
                <a:chExt cx="1275840" cy="733320"/>
              </a:xfrm>
            </p:grpSpPr>
            <p:sp>
              <p:nvSpPr>
                <p:cNvPr id="329" name="Line 1051"/>
                <p:cNvSpPr/>
                <p:nvPr/>
              </p:nvSpPr>
              <p:spPr>
                <a:xfrm>
                  <a:off x="4573800" y="1523880"/>
                  <a:ext cx="0" cy="733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AutoShape 1052"/>
                <p:cNvSpPr/>
                <p:nvPr/>
              </p:nvSpPr>
              <p:spPr>
                <a:xfrm>
                  <a:off x="3935880" y="1523880"/>
                  <a:ext cx="1275840" cy="733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Rectangle 1053"/>
                <p:cNvSpPr/>
                <p:nvPr/>
              </p:nvSpPr>
              <p:spPr>
                <a:xfrm>
                  <a:off x="4095000" y="1627560"/>
                  <a:ext cx="956880" cy="2750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Rectangle 1054"/>
              <p:cNvSpPr/>
              <p:nvPr/>
            </p:nvSpPr>
            <p:spPr>
              <a:xfrm>
                <a:off x="3898440" y="1525680"/>
                <a:ext cx="13514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Visual 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earn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Rectangle 1055"/>
          <p:cNvSpPr/>
          <p:nvPr/>
        </p:nvSpPr>
        <p:spPr>
          <a:xfrm>
            <a:off x="5462640" y="2590920"/>
            <a:ext cx="15778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b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DO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rather than sitting and listening, reading,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r thinking about the inform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56"/>
          <p:cNvSpPr/>
          <p:nvPr/>
        </p:nvSpPr>
        <p:spPr>
          <a:xfrm>
            <a:off x="5462640" y="1447920"/>
            <a:ext cx="1596960" cy="46479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058"/>
          <p:cNvSpPr/>
          <p:nvPr/>
        </p:nvSpPr>
        <p:spPr>
          <a:xfrm>
            <a:off x="6238800" y="152244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059"/>
          <p:cNvSpPr/>
          <p:nvPr/>
        </p:nvSpPr>
        <p:spPr>
          <a:xfrm>
            <a:off x="5600880" y="1522440"/>
            <a:ext cx="1276200" cy="7333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Tactile and/or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Kinesthe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62"/>
          <p:cNvSpPr/>
          <p:nvPr/>
        </p:nvSpPr>
        <p:spPr>
          <a:xfrm>
            <a:off x="2082960" y="2590920"/>
            <a:ext cx="15778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SE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(create) mental images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f what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they hear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r 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63"/>
          <p:cNvSpPr/>
          <p:nvPr/>
        </p:nvSpPr>
        <p:spPr>
          <a:xfrm>
            <a:off x="2087640" y="1447920"/>
            <a:ext cx="1596960" cy="4647960"/>
          </a:xfrm>
          <a:prstGeom prst="rect">
            <a:avLst/>
          </a:prstGeom>
          <a:noFill/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065"/>
          <p:cNvSpPr/>
          <p:nvPr/>
        </p:nvSpPr>
        <p:spPr>
          <a:xfrm>
            <a:off x="2881440" y="1523880"/>
            <a:ext cx="0" cy="73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066"/>
          <p:cNvSpPr/>
          <p:nvPr/>
        </p:nvSpPr>
        <p:spPr>
          <a:xfrm>
            <a:off x="2243160" y="1523880"/>
            <a:ext cx="1276200" cy="7336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Visual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087"/>
          <p:cNvSpPr/>
          <p:nvPr/>
        </p:nvSpPr>
        <p:spPr>
          <a:xfrm>
            <a:off x="1130400" y="457200"/>
            <a:ext cx="68832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ceptual Elements of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089"/>
          <p:cNvSpPr/>
          <p:nvPr/>
        </p:nvSpPr>
        <p:spPr>
          <a:xfrm>
            <a:off x="304920" y="1066680"/>
            <a:ext cx="8534160" cy="0"/>
          </a:xfrm>
          <a:prstGeom prst="line">
            <a:avLst/>
          </a:prstGeom>
          <a:ln w="63360">
            <a:solidFill>
              <a:srgbClr val="ff66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24456"/>
                </a:solidFill>
                <a:latin typeface="Bernard MT Condensed"/>
              </a:rPr>
              <a:t>OBJECTIVES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define “Learning” &amp; learning principl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recognize that undergraduate learning different from secondary schoo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identify different types of lear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apply these learning principles to our daily learning activiti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1"/>
          <p:cNvSpPr/>
          <p:nvPr/>
        </p:nvSpPr>
        <p:spPr>
          <a:xfrm>
            <a:off x="214200" y="285840"/>
            <a:ext cx="87868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Georgia"/>
              </a:rPr>
              <a:t>How can you learn from learning experiences (both academic &amp; non-academic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380880" y="220968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active ref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785880" y="3143160"/>
            <a:ext cx="80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lection is purposeful and systematic revisiting of a learning experience with a view to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785880" y="528624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incident that you either participate in or see/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357120" y="264312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f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7"/>
          <p:cNvSpPr/>
          <p:nvPr/>
        </p:nvSpPr>
        <p:spPr>
          <a:xfrm>
            <a:off x="357120" y="471492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arning experie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4"/>
          <p:cNvSpPr/>
          <p:nvPr/>
        </p:nvSpPr>
        <p:spPr>
          <a:xfrm>
            <a:off x="1357200" y="15717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8086"/>
                </a:solidFill>
                <a:latin typeface="Calibri"/>
              </a:rPr>
              <a:t>Kolb’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9"/>
          <p:cNvGrpSpPr/>
          <p:nvPr/>
        </p:nvGrpSpPr>
        <p:grpSpPr>
          <a:xfrm>
            <a:off x="1285920" y="2286000"/>
            <a:ext cx="6705360" cy="4102200"/>
            <a:chOff x="1285920" y="2286000"/>
            <a:chExt cx="6705360" cy="4102200"/>
          </a:xfrm>
        </p:grpSpPr>
        <p:grpSp>
          <p:nvGrpSpPr>
            <p:cNvPr id="351" name="Group 18"/>
            <p:cNvGrpSpPr/>
            <p:nvPr/>
          </p:nvGrpSpPr>
          <p:grpSpPr>
            <a:xfrm>
              <a:off x="2124000" y="2590920"/>
              <a:ext cx="4876920" cy="3429000"/>
              <a:chOff x="2124000" y="2590920"/>
              <a:chExt cx="4876920" cy="3429000"/>
            </a:xfrm>
          </p:grpSpPr>
          <p:sp>
            <p:nvSpPr>
              <p:cNvPr id="352" name="Oval 5"/>
              <p:cNvSpPr/>
              <p:nvPr/>
            </p:nvSpPr>
            <p:spPr>
              <a:xfrm>
                <a:off x="2124000" y="2590920"/>
                <a:ext cx="4876920" cy="3429000"/>
              </a:xfrm>
              <a:prstGeom prst="ellipse">
                <a:avLst/>
              </a:prstGeom>
              <a:solidFill>
                <a:srgbClr val="53548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13"/>
              <p:cNvSpPr/>
              <p:nvPr/>
            </p:nvSpPr>
            <p:spPr>
              <a:xfrm>
                <a:off x="6238800" y="3048120"/>
                <a:ext cx="15228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14"/>
              <p:cNvSpPr/>
              <p:nvPr/>
            </p:nvSpPr>
            <p:spPr>
              <a:xfrm flipH="1">
                <a:off x="6543360" y="5029200"/>
                <a:ext cx="228600" cy="304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15"/>
              <p:cNvSpPr/>
              <p:nvPr/>
            </p:nvSpPr>
            <p:spPr>
              <a:xfrm flipH="1" flipV="1">
                <a:off x="2428560" y="5105160"/>
                <a:ext cx="15228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16"/>
              <p:cNvSpPr/>
              <p:nvPr/>
            </p:nvSpPr>
            <p:spPr>
              <a:xfrm flipV="1">
                <a:off x="2428920" y="3276360"/>
                <a:ext cx="15228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6"/>
            <p:cNvSpPr/>
            <p:nvPr/>
          </p:nvSpPr>
          <p:spPr>
            <a:xfrm>
              <a:off x="3267000" y="2362320"/>
              <a:ext cx="2514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7"/>
            <p:cNvSpPr/>
            <p:nvPr/>
          </p:nvSpPr>
          <p:spPr>
            <a:xfrm>
              <a:off x="3571920" y="228600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Concrete experi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8"/>
            <p:cNvSpPr/>
            <p:nvPr/>
          </p:nvSpPr>
          <p:spPr>
            <a:xfrm>
              <a:off x="6010200" y="380988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Reflective 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9"/>
            <p:cNvSpPr/>
            <p:nvPr/>
          </p:nvSpPr>
          <p:spPr>
            <a:xfrm>
              <a:off x="3429000" y="5562720"/>
              <a:ext cx="242892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Abstract conceptualis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0"/>
            <p:cNvSpPr/>
            <p:nvPr/>
          </p:nvSpPr>
          <p:spPr>
            <a:xfrm>
              <a:off x="1285920" y="403848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Future plan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20"/>
          <p:cNvSpPr/>
          <p:nvPr/>
        </p:nvSpPr>
        <p:spPr>
          <a:xfrm>
            <a:off x="685800" y="380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flection - cyclic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1"/>
          <p:cNvSpPr/>
          <p:nvPr/>
        </p:nvSpPr>
        <p:spPr>
          <a:xfrm>
            <a:off x="2214720" y="8571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y way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4"/>
          <p:cNvSpPr/>
          <p:nvPr/>
        </p:nvSpPr>
        <p:spPr>
          <a:xfrm>
            <a:off x="609480" y="7621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Reflective cycle: a simplified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523880" y="1752480"/>
            <a:ext cx="67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What is the learning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523880" y="2514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What did I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1523880" y="3276720"/>
            <a:ext cx="66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What more do I have to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1523880" y="41148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How can I learn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1523880" y="4876920"/>
            <a:ext cx="690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Evidence for further learning / change of prac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4"/>
          <p:cNvGrpSpPr/>
          <p:nvPr/>
        </p:nvGrpSpPr>
        <p:grpSpPr>
          <a:xfrm>
            <a:off x="1447920" y="1828800"/>
            <a:ext cx="6705360" cy="3919320"/>
            <a:chOff x="1447920" y="1828800"/>
            <a:chExt cx="6705360" cy="3919320"/>
          </a:xfrm>
        </p:grpSpPr>
        <p:sp>
          <p:nvSpPr>
            <p:cNvPr id="371" name="Oval 5"/>
            <p:cNvSpPr/>
            <p:nvPr/>
          </p:nvSpPr>
          <p:spPr>
            <a:xfrm>
              <a:off x="2286000" y="2133720"/>
              <a:ext cx="4876920" cy="3429000"/>
            </a:xfrm>
            <a:prstGeom prst="ellipse">
              <a:avLst/>
            </a:prstGeom>
            <a:solidFill>
              <a:srgbClr val="53548a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733920" y="1828800"/>
              <a:ext cx="198108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oncrete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7"/>
            <p:cNvSpPr/>
            <p:nvPr/>
          </p:nvSpPr>
          <p:spPr>
            <a:xfrm>
              <a:off x="6172200" y="3352680"/>
              <a:ext cx="198108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eflective observ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8"/>
            <p:cNvSpPr/>
            <p:nvPr/>
          </p:nvSpPr>
          <p:spPr>
            <a:xfrm>
              <a:off x="3809880" y="5105520"/>
              <a:ext cx="221004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bstract conceptualis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9"/>
            <p:cNvSpPr/>
            <p:nvPr/>
          </p:nvSpPr>
          <p:spPr>
            <a:xfrm>
              <a:off x="1447920" y="3581280"/>
              <a:ext cx="1981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uture 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"/>
            <p:cNvSpPr/>
            <p:nvPr/>
          </p:nvSpPr>
          <p:spPr>
            <a:xfrm>
              <a:off x="6400800" y="2590920"/>
              <a:ext cx="15228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1"/>
            <p:cNvSpPr/>
            <p:nvPr/>
          </p:nvSpPr>
          <p:spPr>
            <a:xfrm flipH="1">
              <a:off x="6705360" y="4572000"/>
              <a:ext cx="22860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2"/>
            <p:cNvSpPr/>
            <p:nvPr/>
          </p:nvSpPr>
          <p:spPr>
            <a:xfrm flipH="1" flipV="1">
              <a:off x="2590560" y="4647960"/>
              <a:ext cx="1522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3"/>
            <p:cNvSpPr/>
            <p:nvPr/>
          </p:nvSpPr>
          <p:spPr>
            <a:xfrm flipV="1">
              <a:off x="2590920" y="2819160"/>
              <a:ext cx="1522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2"/>
          <p:cNvSpPr/>
          <p:nvPr/>
        </p:nvSpPr>
        <p:spPr>
          <a:xfrm>
            <a:off x="2514600" y="304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429000" y="19051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3657600" y="251460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the ev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60958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6172200" y="419112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did I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1371600" y="4038480"/>
            <a:ext cx="2057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can I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3352680" y="1066680"/>
            <a:ext cx="2667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idence for learning / change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6172200" y="495288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more do I have to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1"/>
          <p:cNvSpPr/>
          <p:nvPr/>
        </p:nvSpPr>
        <p:spPr>
          <a:xfrm>
            <a:off x="285840" y="3571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Why should you participate in other non-academic activ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357120" y="178596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provide a rich source of learning experiences for you to develop a lot of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1000080" y="2786040"/>
            <a:ext cx="764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/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work and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al and management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"/>
          <p:cNvSpPr/>
          <p:nvPr/>
        </p:nvSpPr>
        <p:spPr>
          <a:xfrm>
            <a:off x="357120" y="564372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listic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00b050"/>
                </a:solidFill>
                <a:latin typeface="Bernard MT Condensed"/>
              </a:rPr>
              <a:t>How to get high grades/scores?</a:t>
            </a:r>
            <a:br>
              <a:rPr sz="4800"/>
            </a:b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93" name="Content Placeholder 1" descr=""/>
          <p:cNvPicPr/>
          <p:nvPr/>
        </p:nvPicPr>
        <p:blipFill>
          <a:blip r:embed="rId1"/>
          <a:stretch/>
        </p:blipFill>
        <p:spPr>
          <a:xfrm>
            <a:off x="0" y="2249640"/>
            <a:ext cx="899172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Bernard MT Condensed"/>
              </a:rPr>
              <a:t>Factors influencing high academic achievement include</a:t>
            </a: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: 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752120"/>
            <a:ext cx="403848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ectures attend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Early revision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Prioritization of learning needs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Deep learning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earning in small groups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Mind mapping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earning from mistakes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time management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48320" y="1752120"/>
            <a:ext cx="403848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earning in skills lab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earning with patient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family suppor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Internal motiv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expected exam result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Sleep deprivation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Home sickn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anguage barriers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1"/>
          <p:cNvSpPr/>
          <p:nvPr/>
        </p:nvSpPr>
        <p:spPr>
          <a:xfrm>
            <a:off x="2500200" y="35712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"/>
          <p:cNvSpPr/>
          <p:nvPr/>
        </p:nvSpPr>
        <p:spPr>
          <a:xfrm>
            <a:off x="357120" y="11430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in university is fundamentally different from learning in secondary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3"/>
          <p:cNvSpPr/>
          <p:nvPr/>
        </p:nvSpPr>
        <p:spPr>
          <a:xfrm>
            <a:off x="428760" y="228600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and deep learning is the key to success in the university (and in later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428760" y="507204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y to learning from all experiences (both academic and non-academic) in th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5"/>
          <p:cNvSpPr/>
          <p:nvPr/>
        </p:nvSpPr>
        <p:spPr>
          <a:xfrm>
            <a:off x="428760" y="350028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the learning style that suits you best to achieve deep learning and use it to the maxim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"/>
          <p:cNvSpPr/>
          <p:nvPr/>
        </p:nvSpPr>
        <p:spPr>
          <a:xfrm>
            <a:off x="1143000" y="1571760"/>
            <a:ext cx="657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arlow Solid Italic"/>
              </a:rPr>
              <a:t>I wish you a very successful and enjoyable time in your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"/>
          <p:cNvSpPr/>
          <p:nvPr/>
        </p:nvSpPr>
        <p:spPr>
          <a:xfrm>
            <a:off x="1785960" y="3857760"/>
            <a:ext cx="500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Harlow Solid Italic"/>
              </a:rPr>
              <a:t>All the be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2071800" y="571680"/>
            <a:ext cx="521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Bernard MT Condensed"/>
              </a:rPr>
              <a:t>Some Opening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642960" y="25718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uccessful people have made a decision to be successfu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642960" y="3500280"/>
            <a:ext cx="8001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714240" y="4429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uccessful is a journey not a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714240" y="5286240"/>
            <a:ext cx="8001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62080" y="1974960"/>
            <a:ext cx="8369280" cy="14014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2571840" y="642960"/>
            <a:ext cx="42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Bernard MT Condensed"/>
              </a:rPr>
              <a:t>Learn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642960" y="178596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nard MT Condensed"/>
              </a:rPr>
              <a:t>The process of acquisition of new </a:t>
            </a: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knowledge, skills, attitudes, values, behaviours,  preferences, &amp; understanding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685800" y="4343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You should be able to demonstrate such new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533520" y="3429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It is </a:t>
            </a:r>
            <a:r>
              <a:rPr b="1" lang="en-US" sz="2800" spc="-1" strike="noStrike">
                <a:solidFill>
                  <a:srgbClr val="c00000"/>
                </a:solidFill>
                <a:latin typeface="Bernard MT Condensed"/>
              </a:rPr>
              <a:t>not</a:t>
            </a: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 only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3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“ </a:t>
            </a: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Reading with a purpose i.e to obtain specific answers to specific questions”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84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                                                                     </a:t>
            </a:r>
            <a:r>
              <a:rPr b="0" i="1" lang="en-US" sz="3200" spc="-1" strike="noStrike">
                <a:solidFill>
                  <a:srgbClr val="424456"/>
                </a:solidFill>
                <a:latin typeface="Georgia"/>
              </a:rPr>
              <a:t>Ailan Mora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1071720" y="1357200"/>
            <a:ext cx="714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&amp; studying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undergradu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different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&amp; studying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econdary school stud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214200" y="42876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University vs. secondary schoo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85840" y="1214280"/>
          <a:ext cx="8501040" cy="5954760"/>
        </p:xfrm>
        <a:graphic>
          <a:graphicData uri="http://schemas.openxmlformats.org/drawingml/2006/table">
            <a:tbl>
              <a:tblPr/>
              <a:tblGrid>
                <a:gridCol w="1309680"/>
                <a:gridCol w="2833560"/>
                <a:gridCol w="435780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econdary 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Undergraduate 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inly from teachers &amp; 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from teachers. Books, internet, peers are also very impor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ri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ore knowledge orie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knowledge. In a professional course there are skills and behavi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o pass an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to pass an exam, but mainly to train for a profession (especially in a professional  cour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ype of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assive and superficial mostly (unfortunatel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ctive and deep learning. Learning needs to be with you for a life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inly  books &amp; teacher’s n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ectures, small group discussions, computer assisted learning, library, internet, clinical skills sessions, labora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ritten ex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ritten exams, practicals (OSPE), vivas (oral exams), clinical exams (e.g. &amp; OS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0:05:42Z</dcterms:created>
  <dc:creator>NURULHUDA</dc:creator>
  <dc:description/>
  <dc:language>en-US</dc:language>
  <cp:lastModifiedBy>Dr. Sami</cp:lastModifiedBy>
  <dcterms:modified xsi:type="dcterms:W3CDTF">2014-09-14T05:20:34Z</dcterms:modified>
  <cp:revision>109</cp:revision>
  <dc:subject/>
  <dc:title>PROFESSIONALISM        IN MEDICAL EDUCATION </dc:title>
</cp:coreProperties>
</file>