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2143-E16E-4BDB-BE22-2D0E03B97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F44C-7416-49A8-BA77-88F86534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6EDD-0F20-4AB1-ABE9-C4E444C83F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5F40-7CF2-4966-ADDF-0BD06AACD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E382-1270-4E25-9D33-D3BB5E414B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F52B-7CC4-4503-BDB5-D23A0BF56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E62B-01BF-4DAB-BCD8-4DB6E8057F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B792-7A79-4E73-8DB9-BC78BD044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9B43-0B00-497B-8A2E-C9D2FBEA66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6163-245E-4DDC-85CC-BD94488366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5D7-EFB3-47C6-90B8-3C49DA106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958-C3C3-4605-A286-051112C10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C007-DB41-496E-9237-4F06EF0B5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269-0153-42B2-849C-FB6D4113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5158-4E7E-4C6A-AB0D-3F792A948A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3E93-3433-4C0B-9A13-CF15BA3C7F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9DB0-2278-40F5-829E-E22DC3507B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1296-FD65-410B-ADCB-65D47610BA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58FE-9716-499D-A7CE-6539ADAE4C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654B-FBD2-4A67-83BF-7C430BE5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64E-A598-47BA-855F-3E7192DB26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9156-B881-410C-8367-DB0BC2C839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A81-F2C2-4912-92CB-ECE2E28CC7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A89D-A81F-4E7D-8CC6-D1000A14E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424E-CAEE-4020-8920-3A1889925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B5BD-5EA4-4C92-BD03-16F14EF2D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B75-229C-476A-9DDB-9BDAA69A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F50B-283C-483A-9355-5E11C787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85E-7205-46FA-A5F0-570DCD75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018-FAB1-4633-A47D-81385071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068E-B308-49DA-B60C-C62B363E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DCDF-F4B4-4123-8245-8CB298AB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6D9-4538-455B-A91C-12A1F703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3FA1-D383-4B4F-B864-971A5ABF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36F4-005C-4385-8265-17A983B0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24B7-2B79-4DB9-ADD7-AF143ED6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322-EEBB-483F-B53B-96C7AA1F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6C6-541F-4C81-97B0-D1B048CD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19D8-24CD-4483-9FCB-CC30EA53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A37D-7772-4A3E-A8F2-E5501FA2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F7BE-AA6C-40DE-BA4F-3A53EFDC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CCEE-9865-44D2-AC24-161B62DB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4360-18C3-4F64-BD08-CD7CD7F6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61EF1-46AB-45C1-A053-DD86C93A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891E5-F7CF-4E71-9E1A-7BC1EB73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73CE0-0CB5-4E74-830F-8DBEE88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58DA3-F770-4121-8E20-1AE4C0E4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78BF7-C506-41E5-96ED-27BB24E3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86F-3AB5-4568-A7B3-6366A2DA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23393-A852-4663-A1BF-BFD341E7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D8A0A-8134-4CC5-91DA-51B42DF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F9F0C-1C97-4A27-89BE-3464706B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9C1DF-0C0D-4CBE-938E-85DC12F9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D5F19-39A6-4026-98F1-1341CCF2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DEF3F-412B-4E6B-BEC3-FFCAE98C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5E9A0-3EF0-49D8-91DE-5AA188B6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4520-A0E7-4DA1-B92E-55379971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75C5-5181-4F75-A53A-72F061A9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B7C3-E63F-4BCD-9E8C-D1611AA6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B71-25B8-4F88-BA90-93E8B0FA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A687-3438-44BE-9751-40ABD6E3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38805-79D5-49F5-A4ED-A6CEFA25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2E8E-811E-406A-9444-CF12DA5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AE6D-6CC3-4E20-AD31-3BBB6A8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CCB6-DBD4-4C56-8559-BE903BF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DC0F7-1E3F-4E8E-9E24-C9E8BF8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CFAA-4E18-4834-8577-DDCA4BB6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F6DD-2442-4FEE-AFED-603DE9DA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ABF5-0D6F-49F4-A4FA-CB0EE403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E9C6-E07B-4F7E-B126-712822DF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DBE-F1F4-4E56-8FEB-2F44A0AF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8C8-C521-4CE5-B14C-AF8BE5B9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692-3B9E-49E6-9491-62F92F1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14E-9242-47A5-B5B3-1AF7E10C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15E-BCA9-4B67-90EC-5D786F62748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DDBA-F896-4C72-9A7C-6F39CB44BA5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0960-C693-45BA-B6BD-7B2AC5ECE82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8F8-7301-41BD-ABDB-6B5A932D4E1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2296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nard MT Condensed"/>
              </a:rPr>
              <a:t>How to get high  scores/grades in ex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b050"/>
                </a:solidFill>
                <a:latin typeface="Bernard MT Condensed"/>
              </a:rPr>
              <a:t>How to get high grades/scores?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3" name="Content Placeholder 1" descr=""/>
          <p:cNvPicPr/>
          <p:nvPr/>
        </p:nvPicPr>
        <p:blipFill>
          <a:blip r:embed="rId1"/>
          <a:stretch/>
        </p:blipFill>
        <p:spPr>
          <a:xfrm>
            <a:off x="0" y="2249640"/>
            <a:ext cx="89917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ernard MT Condensed"/>
              </a:rPr>
              <a:t>Factors influencing high academic achievement include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ctures 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arly revision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Prioritization of learning need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ep learn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mall group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Mind mapp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from mistake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time management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832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kills la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with pati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family suppor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xpected exam resul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leep deprivatio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Home sic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anguage barrier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. Sami</cp:lastModifiedBy>
  <dcterms:modified xsi:type="dcterms:W3CDTF">2014-09-14T05:20:34Z</dcterms:modified>
  <cp:revision>109</cp:revision>
  <dc:subject/>
  <dc:title>PROFESSIONALISM        IN MEDICAL EDUCATION </dc:title>
</cp:coreProperties>
</file>