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7.jpeg" ContentType="image/jpeg"/>
  <Override PartName="/ppt/media/image12.wmf" ContentType="image/x-wmf"/>
  <Override PartName="/ppt/media/image4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8AFE-F757-411A-A68A-0C93C38E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A85-B06B-44D0-95FF-C4C859CB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A917C-0CFE-4E95-9FC3-89487C5A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8068B-02A3-4C12-A511-02F6325F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548BD-AF69-4A9F-A18D-F7E7D2C8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0F1BF-8CCB-460A-939E-A82080BD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FD9B2-26B1-4C4B-9B71-ED641102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CA2B1-B365-4371-8363-74F21B5F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3F24B-7EDC-4CB8-9332-BA5A479A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FD87B-6C0C-4CDB-A2CD-6842B58AE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CDC00-A125-4988-B6DD-728C874D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C7A54-77D7-44F0-91D3-7EE881CA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C096-7DD8-4785-A8BF-241587BA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F098B-0C61-48BE-8F53-6E1DDC74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A8F94-B0A5-433D-AEAD-77AA313D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8F65A-D18E-49A1-B394-151BB60A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B6A21-C222-487E-B941-7CFC833A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1C8A1-016A-4C49-893C-2DDB940F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E8849-9189-4079-A1EC-CF3C9069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4A037-6F76-4A9B-81F7-1F838272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327A7-D81F-4DA3-A765-55BBB660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2516F-ECAC-4B5A-965A-28D2360C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2690C-FBE4-4F3A-9893-22261B52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1536-B9DB-4978-AB37-2526E0FB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51C85-9C6A-4775-8F4F-07632E53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48F5F-6A70-4C74-B2E3-E18209F3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04DFF-8B3A-487C-8C79-FF97439C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81E2D-8188-4C5A-A478-B31AE814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3D64A-9DEA-4BA9-8AE7-20FD1211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ABF34-2DD1-4276-B611-BF359E4C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05463-9EBC-4045-85D5-B06DFC13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B5931-3EBC-47CF-AC96-79F76079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AA0A4-C07E-4888-A324-3F8289F9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F6AD8-8E9A-4B92-96DD-30938DDD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D828-655B-4FBC-B8E1-09864004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D34D9-E439-4AE3-A8A8-710BBCEF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4CC64-D078-4A7B-A12C-A4E38732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E1100-56A7-495F-9358-6933CB9A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F12E4-E3E6-4216-B422-9D8EB3CE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A729D-327F-424A-8B55-5C8AD1ED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955F9-9122-4E40-9D4C-0E166BC3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4755C-0AEE-4C02-B6D6-EF84028C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DDB29-1189-4196-A819-0E35BAC2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415DB-283F-4932-9E6E-8B7B9637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AB1C1-5E10-4CA3-AD4E-BBF90BB6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B961-792E-4FC3-9C4D-880A435A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FD1EB-F3B6-4FFA-9262-B8D6CF02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092C9-96B3-4123-A206-E1B8DCF1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417CD-BDCA-4F68-90FB-2432E69B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913D2-BDE2-4BEA-8056-A8D47FB2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19567-B76E-4D34-A235-FCBAEA30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658146-CA71-4556-80C0-CCD5282A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C55BD2-FD18-4436-A336-7D341BD9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572FBE-2339-476C-86DC-BD11B3D9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DDE7DF-1147-48D5-BB06-1D17DBFF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48FCCA-3970-4FF0-B43E-1C198125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F86F-0911-4756-B141-12224DC0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90989C-89DE-424F-BAC2-D545B36B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5A32EE-BC5B-418D-979B-BFBDDC7B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C77CBB-4A84-4BCF-86CC-74A57F50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7EC098-A655-4E98-BDCF-1632D819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43744E-EA0B-4917-852D-63D5C1F5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FEA082-AE29-4C99-B5D3-AEA63604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6A25CC-26E8-498D-8985-377E1DAD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BF025A-DACE-4F26-A291-9EDE3391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0E30AE-B21E-4282-B595-3390D796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44F0C4-D9F1-4E0A-8392-F7967087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6082-F42F-4196-81B2-13B7B471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EBCD07-8125-4508-B674-5B3AC5E8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2600DD-8FA4-49F7-A44C-3262F8BC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4255CE-DC82-4D82-9E14-AED57374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E115B-95B3-4EF5-9315-1BE9A0A2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66A5DF-CB6E-44F4-BF5B-A1CE2532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7539AF-2CDF-46B3-AFF0-8E01847E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975027-5C4D-4F3C-BAE2-DFD60F94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2363C6-6759-495E-A425-C54579EE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1C0F86-5F1E-46ED-B3C0-28AD7EF8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B2C1D9-FB7C-4425-A03E-52D7E8F5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5754-B40D-4770-83A9-804D6CD9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7CB3D5-6513-4332-B43A-FE199B88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4D9AD2-3780-47DA-9E29-7918A9FF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359A61-01BE-4F15-A435-9ECD428B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9B9E52-1366-4A42-B40F-31227078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1A3972-0EAE-466A-92CF-396900FF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E49AEF-0C32-43FF-85D8-0523392F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FB8D31-D1CE-49FE-B015-39F831E6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0DA95A-B743-4063-BE5E-BD010097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CF5F0A-30C0-41DB-B1DA-9B725CDD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55E03F-16EF-41EE-92B5-80222444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C76C-DD9B-46A6-AE4E-386891AD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998A2D-8C30-4CCA-801F-668D81A2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3F7DBD-2C74-4FF3-A10F-4E610B67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F71832-7589-4CF7-A48E-FCBCE8FC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557337-67D4-46FE-A078-C8522002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BA628D-5ADC-41F6-9DEE-E28473BE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DB7A8A-0BFD-4CC1-8A54-86DB38D4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04027F-550C-4A6C-ACBB-15B5393F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C10307-E31E-4DC0-962A-148A6E3E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1E4162-8434-4831-9E2D-27A49F93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05E1E2-BB16-4F8A-A856-8FE4248A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5AC4-9815-463E-A057-571ADE89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E80614-3F8A-4C3F-A9F4-DCD9D877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3FB69E-1ACD-4BE4-BE2D-FD47C937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87403A-7FB9-4BFF-9D58-BB17BB25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EE90-E598-413D-8083-0891FD2E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56CA-1311-4A4B-8662-4619E131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168A-D61E-4318-9F7A-4756694F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0174-E1EB-4DBC-B91D-A281A28B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834F-685A-431B-83A6-855E6029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5646-62BD-4461-86CE-F7B68565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2B3D5-B8C9-401B-AD6C-A67B49F8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EC0F1-E366-4A28-9104-49E0B3E1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C5EBE-4B4E-403A-9EC3-08183DE9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11993-C277-407D-9D03-9C70D81F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79EC7-4F19-4014-A647-2DF5594C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5308-3E91-4608-99CF-B673239B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4688B-9C89-4C92-84D0-E0CBCE11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2D51A-3577-43D8-B3B6-A82C0AC1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ACD1F-2687-4BE6-BCB0-F130145C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2D5D4-3695-4619-A81E-35F763C2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596EE-B513-4603-8F81-6CD36675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6B40D-6A60-4AE3-AFD2-935DD239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048AA-42B2-4371-AB6F-A553ED26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0F5D3-B7FA-4642-BD3B-F6EBF061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3D646-11EE-4313-B7BD-75D537D1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AAC64-C0F1-4DFE-9E57-4CB52919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A824-26AF-446C-9A78-8C3C7F31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A5080-1953-46CA-A2F5-68E522DD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81AE4-2267-4972-84DB-0AFC25FB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F5421-56A4-4101-BD94-FE559706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EA39A-13A9-48D9-A8D1-C077522A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2D0D1-DF4B-4DE2-8EC3-7F84AD88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49726-D711-487F-8443-A688381A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051C5-BFC5-412E-855E-D13AEDA9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24018-0822-4281-9425-04FA9989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0A797-0563-482A-9E25-C93C665F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6B8DA-A692-4772-9931-929564DB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6591-7801-436E-83D2-29DE1407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E821A-0ADA-4D88-8B34-B4E62C17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F0BAC-82F5-4E08-A948-5564745E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42605-BF5F-45C6-ADC3-4B126C8E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E2B22-7637-4030-81FE-52CC212B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370CD-7357-4EC4-8FD4-8DB77B0F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A7B73-3BC9-4205-A6C5-B8BC4BC0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5AD8A-1026-4383-8E10-55696348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00B25-165F-40CA-813C-F42B7C4B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BDCD0-6768-4E32-923E-33A659E3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D77CF-CAEA-4E61-BBA6-C5424F9E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5F03-8F00-4BC7-B1E4-ED63DA5C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89456-4700-42C9-A877-28DC8BC5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E2225-77AA-44A4-8DB4-330547BF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4997D-C254-49A6-921B-7021BF08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AAD03-E587-4521-8D9B-D1D4DC3E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BCA77-23B7-46BC-BA3D-7E790C8F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30296-BA1E-41F1-B9D0-DDFC1B10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36603-4F67-439B-8373-96E636BA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136FB-48C5-4BB0-82D2-29556185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ACD62-4D75-45F6-9571-EDE3D94A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9EA25-4CFE-4979-909B-09683BFF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5EE0-338D-4D90-8827-B975C27F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073CC-3CDA-436A-9481-CF6D1F5E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4F51E-7768-46A7-9529-29850FAD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54DC1-688B-4FC3-9C3B-DE3C51A3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D6759-A82A-42BB-AA98-D92CD741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83FB7-E59D-43CF-943D-F06E2A40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37E2F-0464-441E-965E-5005A54E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BE618-50CA-4DBC-9263-33F00C0F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A812B-7BCE-481B-B562-52E6B18D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7AD83-9748-4C2C-AB5A-03A69793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A9ED9-96FF-46EE-B45C-98749E51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B533-0155-46C0-B4D5-402FD121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88762-3A0F-455C-8EFF-312CE89E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0E478-B63E-4F29-968A-49E7630E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9647A-4658-4857-BBBF-8AF8CEB2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D4EA2-41D9-4CB6-A68C-FA285640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E14F3-1386-4933-B560-89953D70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F0FE1-BF25-45EF-9FC4-65962E36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22516-FA7E-48F1-9A4A-13ABBA7B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08CBA-DED0-4731-960F-6EBE853A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FFE5B-B471-428C-B9CB-A48269F9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5EB6B-98B6-4A3E-ACFB-493D7A17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56B4-B910-498C-9E20-AC09635B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F2270-E5D7-4CF0-93BD-0111EFF2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C593F-8004-4E6C-83DE-A7E2A7F7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624A8-AA38-4C66-8893-96A80627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20AA5-FA53-4F8E-BEEB-5A5272A4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66737-AA2A-4994-AC0D-606D1882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5494C-AAEE-4C40-86A9-BC10BD8D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73071-AFFB-4526-B76B-4441FA9A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2E9A1-A89C-405B-B6AB-89DC3132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E7470-BCED-47C5-B2CA-0C8B4097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7B55C-EB51-444A-8D31-C64219B7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3796-2D94-402D-90E7-706ECD2B30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14FD-0CD7-4E2E-9686-5DF106A345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DA75-FC24-4FAB-8A70-2DF950E50D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5ED4-D511-4795-BF46-200F470ED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6CEE-9023-4BA2-B816-71535341EF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544F-DDFF-419B-BBA7-7E4661CF8B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43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4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4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4867-9430-4950-A0B6-2465146B7D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D8B1-FE50-4461-8D57-AA7994C0045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4514-D54E-4532-AA18-5C47FEECFE43}" type="slidenum">
              <a:rPr b="0" lang="en-US" sz="1400" spc="-1" strike="noStrike">
                <a:solidFill>
                  <a:srgbClr val="1c1c1c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2ABD-FE4C-44C9-9F67-E456EBF422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6923-557C-45AA-A8C8-A7C966DCDA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7E79-F278-48CA-B97F-D73D5D19B1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5C80-7079-4150-9628-9398137318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044F-2C72-459C-B464-5314C9D54F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6634-9F1A-4448-B24F-DCD228B21A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C2E8-173E-4826-9A0B-DDFF7E7E9F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Box 1"/>
          <p:cNvSpPr/>
          <p:nvPr/>
        </p:nvSpPr>
        <p:spPr>
          <a:xfrm>
            <a:off x="2057400" y="1600200"/>
            <a:ext cx="533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rasitic Helminth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rthropod  Agents and Vectors of Disease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-360" y="52574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Taenia saginata Example of a tapeworm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94" name="Picture 3" descr="Taenia_saginataL"/>
          <p:cNvPicPr/>
          <p:nvPr/>
        </p:nvPicPr>
        <p:blipFill>
          <a:blip r:embed="rId1"/>
          <a:stretch/>
        </p:blipFill>
        <p:spPr>
          <a:xfrm>
            <a:off x="4572000" y="533520"/>
            <a:ext cx="3949560" cy="26413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" descr="Taenia_saginataK"/>
          <p:cNvPicPr/>
          <p:nvPr/>
        </p:nvPicPr>
        <p:blipFill>
          <a:blip r:embed="rId2"/>
          <a:stretch/>
        </p:blipFill>
        <p:spPr>
          <a:xfrm>
            <a:off x="762120" y="533520"/>
            <a:ext cx="3759120" cy="270504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5" descr="Taenia_saginataH_v2"/>
          <p:cNvPicPr/>
          <p:nvPr/>
        </p:nvPicPr>
        <p:blipFill>
          <a:blip r:embed="rId3"/>
          <a:stretch/>
        </p:blipFill>
        <p:spPr>
          <a:xfrm>
            <a:off x="2743200" y="3352680"/>
            <a:ext cx="1854360" cy="185436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6" descr="tae3"/>
          <p:cNvPicPr/>
          <p:nvPr/>
        </p:nvPicPr>
        <p:blipFill>
          <a:blip r:embed="rId4"/>
          <a:stretch/>
        </p:blipFill>
        <p:spPr>
          <a:xfrm>
            <a:off x="6553080" y="3276720"/>
            <a:ext cx="20163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DICAL IMPORTANCE OF ARTHROP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)As aetiologic agents (causes) of dise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ssue dam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uction of hypersensitivity reaction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jection of poi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omophobia (acarophobi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) As vectors of disease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: Mechanical transmission - simple carriage of pathoge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: Biological transmiss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yclica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ropagat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yclopropagat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: Transovarian transmis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2" descr="scabies1"/>
          <p:cNvPicPr/>
          <p:nvPr/>
        </p:nvPicPr>
        <p:blipFill>
          <a:blip r:embed="rId1"/>
          <a:stretch/>
        </p:blipFill>
        <p:spPr>
          <a:xfrm>
            <a:off x="838080" y="1066680"/>
            <a:ext cx="4673880" cy="3505320"/>
          </a:xfrm>
          <a:prstGeom prst="rect">
            <a:avLst/>
          </a:prstGeom>
          <a:ln w="0">
            <a:noFill/>
          </a:ln>
        </p:spPr>
      </p:pic>
      <p:sp>
        <p:nvSpPr>
          <p:cNvPr id="701" name="Rectangle 4"/>
          <p:cNvSpPr/>
          <p:nvPr/>
        </p:nvSpPr>
        <p:spPr>
          <a:xfrm>
            <a:off x="457920" y="38088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b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2" name="Picture 2" descr="biopara-scabies"/>
          <p:cNvPicPr/>
          <p:nvPr/>
        </p:nvPicPr>
        <p:blipFill>
          <a:blip r:embed="rId2"/>
          <a:stretch/>
        </p:blipFill>
        <p:spPr>
          <a:xfrm>
            <a:off x="5562720" y="1905120"/>
            <a:ext cx="335268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2" descr="biopara-scabies"/>
          <p:cNvPicPr/>
          <p:nvPr/>
        </p:nvPicPr>
        <p:blipFill>
          <a:blip r:embed="rId1"/>
          <a:stretch/>
        </p:blipFill>
        <p:spPr>
          <a:xfrm>
            <a:off x="5410080" y="2743200"/>
            <a:ext cx="3353040" cy="234648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3"/>
          <p:cNvSpPr/>
          <p:nvPr/>
        </p:nvSpPr>
        <p:spPr>
          <a:xfrm>
            <a:off x="720" y="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b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5" name="Object 2"/>
          <p:cNvGraphicFramePr/>
          <p:nvPr/>
        </p:nvGraphicFramePr>
        <p:xfrm>
          <a:off x="428760" y="214200"/>
          <a:ext cx="8215200" cy="648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4200"/>
                    <a:ext cx="8215200" cy="64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mportant arthropod vectors for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uman diseas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685800" y="1981080"/>
          <a:ext cx="7772400" cy="4448160"/>
        </p:xfrm>
        <a:graphic>
          <a:graphicData uri="http://schemas.openxmlformats.org/drawingml/2006/table">
            <a:tbl>
              <a:tblPr/>
              <a:tblGrid>
                <a:gridCol w="2957400"/>
                <a:gridCol w="4815000"/>
              </a:tblGrid>
              <a:tr h="42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se fly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Musca domest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chanical transmission of  many viruses, bacteria and parasit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squitoes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بعو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pheles :malaria filariasis Culex: filariasis, viruses                Aedes: yellow fever, dengue fever, Rift Valley Fe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ce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قمل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dy louse: vector for: Relapsing fever, typhus and trench feve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eas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براغيث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t flea is vector for plague due to Yersinia pesti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cks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قراد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ft ticks , some are vestors for : Borrela duttoni         Hard ticks Include vectors for Babesiosis (protozoa), Q fever, and Rocky mountain spotted fever 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se tse fly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Glossina)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ذبابة التس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ctor for African Trynanosomiasis (African sleeping sicknes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ack fly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imulium)</a:t>
                      </a:r>
                      <a:r>
                        <a:rPr b="1" i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لذبابة السوداء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ctor for Onchocerca (river blindnes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d fly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hlebotomus)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ذبابة الرمل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ctors for leishmania and sandfly fever vir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yclo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ctor for Dracunculus medinen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1" descr="louse384.jpg"/>
          <p:cNvPicPr/>
          <p:nvPr/>
        </p:nvPicPr>
        <p:blipFill>
          <a:blip r:embed="rId1"/>
          <a:stretch/>
        </p:blipFill>
        <p:spPr>
          <a:xfrm>
            <a:off x="1714680" y="2786040"/>
            <a:ext cx="5286240" cy="3386160"/>
          </a:xfrm>
          <a:prstGeom prst="rect">
            <a:avLst/>
          </a:prstGeom>
          <a:ln w="0">
            <a:noFill/>
          </a:ln>
        </p:spPr>
      </p:pic>
      <p:sp>
        <p:nvSpPr>
          <p:cNvPr id="710" name="Rectangle 2"/>
          <p:cNvSpPr/>
          <p:nvPr/>
        </p:nvSpPr>
        <p:spPr>
          <a:xfrm>
            <a:off x="3568680" y="42876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2012400" y="92880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use(singular) , Lice (pleur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Rectangle 3"/>
          <p:cNvSpPr/>
          <p:nvPr/>
        </p:nvSpPr>
        <p:spPr>
          <a:xfrm>
            <a:off x="0" y="1357200"/>
            <a:ext cx="84582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Pediculus humanu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" descr="Ae_albo_30Ap01_P4300281"/>
          <p:cNvPicPr/>
          <p:nvPr/>
        </p:nvPicPr>
        <p:blipFill>
          <a:blip r:embed="rId1"/>
          <a:stretch/>
        </p:blipFill>
        <p:spPr>
          <a:xfrm>
            <a:off x="5943600" y="457200"/>
            <a:ext cx="2338560" cy="182412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3" descr="Ae_albo_Pb230730"/>
          <p:cNvPicPr/>
          <p:nvPr/>
        </p:nvPicPr>
        <p:blipFill>
          <a:blip r:embed="rId2"/>
          <a:stretch/>
        </p:blipFill>
        <p:spPr>
          <a:xfrm>
            <a:off x="3886200" y="533520"/>
            <a:ext cx="1560600" cy="1228680"/>
          </a:xfrm>
          <a:prstGeom prst="rect">
            <a:avLst/>
          </a:prstGeom>
          <a:ln w="0">
            <a:noFill/>
          </a:ln>
        </p:spPr>
      </p:pic>
      <p:sp>
        <p:nvSpPr>
          <p:cNvPr id="715" name="Text Box 4"/>
          <p:cNvSpPr/>
          <p:nvPr/>
        </p:nvSpPr>
        <p:spPr>
          <a:xfrm>
            <a:off x="457200" y="4572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Mosquitoes 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533520" y="1371600"/>
            <a:ext cx="327636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mopolitan , more than 3000 spec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val and pupal stages always aqua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uth parts in female adapted to piercing and sucking blo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us and species distinguished by morphology of adult and deveopmetal stag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7" name="Picture 6" descr="mosquito2"/>
          <p:cNvPicPr/>
          <p:nvPr/>
        </p:nvPicPr>
        <p:blipFill>
          <a:blip r:embed="rId3"/>
          <a:stretch/>
        </p:blipFill>
        <p:spPr>
          <a:xfrm>
            <a:off x="5029200" y="2514600"/>
            <a:ext cx="30700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sandfly2"/>
          <p:cNvPicPr/>
          <p:nvPr/>
        </p:nvPicPr>
        <p:blipFill>
          <a:blip r:embed="rId1"/>
          <a:stretch/>
        </p:blipFill>
        <p:spPr>
          <a:xfrm>
            <a:off x="1447920" y="914400"/>
            <a:ext cx="3039840" cy="261792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sandfly3"/>
          <p:cNvPicPr/>
          <p:nvPr/>
        </p:nvPicPr>
        <p:blipFill>
          <a:blip r:embed="rId2"/>
          <a:stretch/>
        </p:blipFill>
        <p:spPr>
          <a:xfrm>
            <a:off x="4876920" y="1295280"/>
            <a:ext cx="3200400" cy="270684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4" descr="Sandfly4"/>
          <p:cNvPicPr/>
          <p:nvPr/>
        </p:nvPicPr>
        <p:blipFill>
          <a:blip r:embed="rId3"/>
          <a:stretch/>
        </p:blipFill>
        <p:spPr>
          <a:xfrm>
            <a:off x="4876920" y="4114800"/>
            <a:ext cx="3352680" cy="249696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5" descr="sandflyreserve1"/>
          <p:cNvPicPr/>
          <p:nvPr/>
        </p:nvPicPr>
        <p:blipFill>
          <a:blip r:embed="rId4"/>
          <a:stretch/>
        </p:blipFill>
        <p:spPr>
          <a:xfrm>
            <a:off x="838080" y="38862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6"/>
          <p:cNvSpPr/>
          <p:nvPr/>
        </p:nvSpPr>
        <p:spPr>
          <a:xfrm>
            <a:off x="1066680" y="3808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hlebotomu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( sand fly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1"/>
          <p:cNvSpPr/>
          <p:nvPr/>
        </p:nvSpPr>
        <p:spPr>
          <a:xfrm>
            <a:off x="457200" y="304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sitic Helminth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ropod  Agents and Vectors of Diseas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Rectangle 2"/>
          <p:cNvSpPr/>
          <p:nvPr/>
        </p:nvSpPr>
        <p:spPr>
          <a:xfrm>
            <a:off x="914400" y="2074680"/>
            <a:ext cx="7391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y the end of this lecture the student should be able to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ame the three main groups of parasitic helminths and their characteristic  morphological features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cribe the life cycle of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scaris lumbricoid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s an example of parasitic heminths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cuss the role of arthropods as agents and as vectors of diseases  in huma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ive examples of the main arthropod vectors of disea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0" y="1066680"/>
          <a:ext cx="9144000" cy="5410440"/>
        </p:xfrm>
        <a:graphic>
          <a:graphicData uri="http://schemas.openxmlformats.org/drawingml/2006/table">
            <a:tbl>
              <a:tblPr/>
              <a:tblGrid>
                <a:gridCol w="4514760"/>
                <a:gridCol w="462924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ozo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lmi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cell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gle cell for all  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icell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ecialized ce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3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Amoeba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ve by psudobod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Flagellat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ve by flagell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Ciliates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ve by cil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Apicomplex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sporozoa) Tissue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si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Round worm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ematodes) cylindrical,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segmen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Flat w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-Trematod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f-like, unsegmen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-Cestod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pe-like, segmen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8" name="Text Box 38"/>
          <p:cNvSpPr/>
          <p:nvPr/>
        </p:nvSpPr>
        <p:spPr>
          <a:xfrm>
            <a:off x="609480" y="4572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assification of Parasi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Location of helminths in the body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cc"/>
                </a:solidFill>
                <a:uFillTx/>
                <a:latin typeface="Tahoma"/>
              </a:rPr>
              <a:t>Intestinal helminth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cc"/>
                </a:solidFill>
                <a:uFillTx/>
                <a:latin typeface="Tahoma"/>
              </a:rPr>
              <a:t>Tissue helminth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457200" y="7315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cc0066"/>
                </a:solidFill>
                <a:latin typeface="Tahoma"/>
              </a:rPr>
              <a:t>Nematod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General features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ongated worm, cylindrical, unsegmented and tapering at both e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riable in size, measure &lt;1 cm to  about 100cm</a:t>
            </a:r>
            <a:r>
              <a:rPr b="1" lang="en-US" sz="2400" spc="-1" strike="noStrike">
                <a:solidFill>
                  <a:srgbClr val="cc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x separate and male is smaller than fem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1" name="Picture 5" descr="untitled"/>
          <p:cNvPicPr/>
          <p:nvPr/>
        </p:nvPicPr>
        <p:blipFill>
          <a:blip r:embed="rId1"/>
          <a:stretch/>
        </p:blipFill>
        <p:spPr>
          <a:xfrm>
            <a:off x="2895480" y="4419720"/>
            <a:ext cx="297180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4" descr="Ascarisalumbmf"/>
          <p:cNvPicPr/>
          <p:nvPr/>
        </p:nvPicPr>
        <p:blipFill>
          <a:blip r:embed="rId1"/>
          <a:stretch/>
        </p:blipFill>
        <p:spPr>
          <a:xfrm>
            <a:off x="1371600" y="1219320"/>
            <a:ext cx="6426360" cy="4647960"/>
          </a:xfrm>
          <a:prstGeom prst="rect">
            <a:avLst/>
          </a:prstGeom>
          <a:ln w="0">
            <a:noFill/>
          </a:ln>
        </p:spPr>
      </p:pic>
      <p:sp>
        <p:nvSpPr>
          <p:cNvPr id="683" name="Text Box 7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66"/>
                </a:solidFill>
                <a:latin typeface="Tahoma"/>
              </a:rPr>
              <a:t>Ascaris lumbricoides</a:t>
            </a: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                        (roundworm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7315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monest human helminthes inf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nd in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jejunum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upper part of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ileu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male (</a:t>
            </a:r>
            <a:r>
              <a:rPr b="1" lang="en-US" sz="2400" spc="-1" strike="noStrike">
                <a:solidFill>
                  <a:srgbClr val="cc0066"/>
                </a:solidFill>
                <a:latin typeface="Tahoma"/>
              </a:rPr>
              <a:t>± 2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m ).longer than male ( </a:t>
            </a:r>
            <a:r>
              <a:rPr b="1" lang="en-US" sz="2400" spc="-1" strike="noStrike">
                <a:solidFill>
                  <a:srgbClr val="cc0066"/>
                </a:solidFill>
                <a:latin typeface="Tahoma"/>
              </a:rPr>
              <a:t>± 10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 on semi digested fo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Text Box 1028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66"/>
                </a:solidFill>
                <a:latin typeface="Tahoma"/>
              </a:rPr>
              <a:t>Ascaris lumbricoides</a:t>
            </a: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                        (roundworm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6" name="Picture 1029" descr="1Ascaris_adultK"/>
          <p:cNvPicPr/>
          <p:nvPr/>
        </p:nvPicPr>
        <p:blipFill>
          <a:blip r:embed="rId1"/>
          <a:stretch/>
        </p:blipFill>
        <p:spPr>
          <a:xfrm>
            <a:off x="4419720" y="3124080"/>
            <a:ext cx="419076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8" name="Rectangle 3"/>
          <p:cNvSpPr/>
          <p:nvPr/>
        </p:nvSpPr>
        <p:spPr>
          <a:xfrm>
            <a:off x="1066680" y="0"/>
            <a:ext cx="6510600" cy="6629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2514600" y="5943600"/>
            <a:ext cx="373392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caris lumbricoi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2" descr="Fisiolahepatica-cow"/>
          <p:cNvPicPr/>
          <p:nvPr/>
        </p:nvPicPr>
        <p:blipFill>
          <a:blip r:embed="rId1"/>
          <a:stretch/>
        </p:blipFill>
        <p:spPr>
          <a:xfrm>
            <a:off x="0" y="428760"/>
            <a:ext cx="8763120" cy="584172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2" descr="Fisiolahepatica-cow"/>
          <p:cNvPicPr/>
          <p:nvPr/>
        </p:nvPicPr>
        <p:blipFill>
          <a:blip r:embed="rId2"/>
          <a:stretch/>
        </p:blipFill>
        <p:spPr>
          <a:xfrm>
            <a:off x="214200" y="500040"/>
            <a:ext cx="8763120" cy="584208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4"/>
          <p:cNvSpPr/>
          <p:nvPr/>
        </p:nvSpPr>
        <p:spPr>
          <a:xfrm>
            <a:off x="1000080" y="4143240"/>
            <a:ext cx="774396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</a:rPr>
              <a:t>The Trematode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14:58:24Z</dcterms:created>
  <dc:creator>Prof.Adeel</dc:creator>
  <dc:description/>
  <dc:language>en-US</dc:language>
  <cp:lastModifiedBy>Ahmed</cp:lastModifiedBy>
  <dcterms:modified xsi:type="dcterms:W3CDTF">2014-10-29T09:11:21Z</dcterms:modified>
  <cp:revision>68</cp:revision>
  <dc:subject/>
  <dc:title>Photo Album</dc:title>
</cp:coreProperties>
</file>