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A5D-90B0-405F-9F25-0D114A87C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E358-FD63-45B4-829E-7FA1A1C8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814D4-0F7A-42AC-97AC-2D096B55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125F9-00C8-4CE7-A216-3452C31A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EEA4A2-B53C-4E67-8D46-443B285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8DEF4-D214-4A49-8689-9A12BD26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DEC45-D846-4842-BF58-F179A96E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E9E71-D103-4F5A-8387-796B6131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B1629-A71C-4AAF-ADF4-C290770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8B875-C8D1-47CF-8CCD-628A4D61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7C078-163B-4A66-8B77-29D58274E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55AD3-2A0F-4164-88A1-652CF973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ECB-4EF0-476A-8BB0-EE8FC7AD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D1CB9D-F2FA-45A9-B933-58037343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D86DA-E12F-4A14-99D1-2A300A17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68674-D8E9-4D64-90FD-F39E569A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69A36A-3299-4158-BD96-3A097F04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D62AA-D14E-4C93-A7E9-8AEE910D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4BD99-D0AC-47D6-9623-8B1D8D7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CDDE6-35D2-4378-973F-D2A63EE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C81CD-6976-457C-9826-A5C527B9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937BC-2911-4186-92E9-96DAB3F0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F0E0F0-8F4B-4422-9CDA-F94544E4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067-7B93-46A8-A049-5676662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B9640-632F-41DA-9C7E-248302EA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1D95E-0FB7-4F90-8314-999D38C3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31191-21C1-4154-8E02-DD0CA8AC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BC6CE-0C3A-4FD8-A3BC-4396BAD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621B2-844B-41E7-BDD7-0652F6D9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E72CB-4479-403A-B3B1-527F666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95C93-C9F2-429A-8407-61A731BD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D66FC-6AC7-442A-996C-2536F34C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2AE7A-DB43-422D-B8DF-EF3F153C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C6C6B-B680-446A-B0C0-F7EDFA8D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314A-4EE9-4330-A057-0B27366B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89058-6D53-4B6B-8033-2589A78E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4E9B3-9F90-48F2-8A32-E16B9C7C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5390-A39B-434E-9856-68E24D25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64248-6376-4A79-819B-D9E08B5EA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260F7-314A-487C-A930-3096486F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525D7-4408-4884-B212-D6549AA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AED89-598E-44EE-A626-E1392727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205AE-9B47-4383-8DB6-F2AFA3E8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5F274-8BC7-4E77-8A7E-F59AB20A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CC690-E525-4F51-9F4A-994AA014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599B-4789-46E0-A8E6-E5443CF8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9A397-6E2E-4CB5-BA1D-87A95CBD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7C773-E427-4003-B7A0-E1F2D22A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04769-CF62-48B0-AEFD-5BC5825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08CD7-991D-4447-A817-7CC0C97E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71DC1-83CA-4E0D-B991-98D5D20A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D721D-6628-4FD3-A6E4-23A9589E1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8D3C6-6F53-4E07-BAB8-EDE2E701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075A6-DC96-48EB-8B84-E3123AB8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A5B2C-A65B-4D57-93A5-B21695AE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378CF-22B9-477E-AAC0-2CDD792F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2289-1270-492D-BF49-6F2E5F10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0C1F0-9662-4EF0-ACDE-C7E98F7CB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73E23-F9DE-44BA-B48A-B953E92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936F4-5FC2-44CF-BAB3-69C5DBBE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764DF-5E7C-4BD3-A613-72BFF8E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0C42E-501F-407B-B516-996350BC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DBC88F-7975-406E-A35C-C52FCFB3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5B187F-C155-48B4-9F4F-BAEFC079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542F89-DBBE-48AA-AE0C-C14A099F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61276-5B0A-4078-ACB0-994BF05D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419A9D-7181-4994-94A5-443661D2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EFB6-66D3-4356-A5E6-6F57562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D550E-92A4-4455-8FC1-408A9E00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797E0-77B0-4811-8B95-646F9CE0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8D9FA-B2A1-41A1-9851-162C789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47390-A7F2-4B59-A136-B7141126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67201-04E0-4996-A22D-503C090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570753-D3C1-4400-98D5-8632E3C1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13526-48E3-4789-B986-193B0B9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9B1C3B-BAB1-44D4-9262-BE581861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C0847B-639F-4971-ACB9-E77D0B29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24744-F821-4262-87B1-2743E30E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760C-6C33-4997-BBF7-463860CE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3BDFF4-145D-4210-8E0B-07972A43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A1480-6392-443A-82A0-39976EC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D46019-E249-48FE-A3A7-12B33C0E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D84236-B14A-49DE-9E76-E2BFB8F4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956BE-8892-44E7-A313-04364F79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867A67-C346-43C6-BE38-03F314D2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9F280-E87B-4163-BDE2-4CC73F28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C9EF79-183F-4DEF-8318-FD9A25BC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93669-2DB4-4334-8738-B68E540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45684-2578-4FCB-A06E-72373AA8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AF9-BA2D-4A31-A35E-A159F73C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EAC2A-8FB4-400D-B26C-8BB4A5C3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323BBC-03CD-4A73-9A21-35971F57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E574A-D387-4A94-862E-CB93A0EB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18C2F-67DF-45D7-982C-47493444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D81DC-8274-4F5B-965E-7997CB6E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EB7DF2-1143-4172-893E-D63BACC5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5D10C-268A-4100-A017-BB659C3C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9E203-3A7F-4E27-BF55-9782A33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7ADA5D-9EE4-4133-AFF9-E0DA5488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14F77D-9432-4FBE-BEF7-CFF60C33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CDF9-3624-4F3C-BAFE-16D7F81E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6C3310-6369-4D01-9724-DEA41C20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CFB0CF-3CFC-4D4F-A7C9-48EB3B28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4C2B7-CD16-4681-9FF7-03357ADB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53E-E834-4CCF-A2BA-55675977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11F4-56B7-43C3-A1EB-1B91C30F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2470-496D-447D-8DF0-3D987975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7349-8F8C-4E90-AA82-35E8F844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BE90-E0DB-44DF-9E11-0C72AAC3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1C8B-F2A5-486D-80E9-5F2DC4EB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2757D-AE8F-45D7-ACDD-0DA1A087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AF0A3-3366-43FD-BDD6-2179ED5A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59A7D-EF27-4BC7-89C5-4F022E8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AA2E2-7382-4EC3-BB49-F611F189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807D-859B-4F37-A9A6-0986A43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8B04-B1EE-499B-9C15-698CFD0D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3E4E2-3660-4DD3-A4EA-ED14F383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534E-5A2B-4F77-A29E-511BD59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0D896-8996-4C51-848F-7A301B45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38293-2937-4271-B199-41D90639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8F36-3ECC-4B61-8D38-28C10586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744E-8185-483B-B648-E29166E8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1680-C055-452B-9838-5F666B0F9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206F9-4B2D-4A95-BEF0-5D2EA488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F30FC-A87E-4FB3-BA78-7225B007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CF573-118C-40B3-8D7A-75B684E4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DA4-B20B-410E-8FFB-1DF55E49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B6E76-9DE9-4394-9E54-9C6F4FC4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84179-4A73-4F1F-BEDB-CB112E1A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A4B18-6ECF-49E1-9590-B6330F5C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12DBD-F7FF-442A-B92B-ED05D975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136B-6458-4928-9AF4-B1A3AB71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1CF37-3DEF-49E3-A54E-CA13E69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DD9EB-343F-4413-BC80-3B47DDDA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DED28-8264-474B-BDF8-E03D0145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DA29-5A91-492D-8CA7-1E5CF64E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5A45-200F-46F5-9B9C-EFC16D7A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F201-8FDC-4A1F-9F86-B3F8A03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7C04F-063B-4ECF-B8EA-F71DCD7B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1C1F2-842F-4469-9B89-1E45A210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66EE8-0E5B-487A-A1AA-3D87C534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C408-D2D4-4F25-9986-B79418C6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A730E-7A0C-41AC-8F31-EBC2CE8A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25393-7659-4F5A-9781-2DAD107C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49C68-C130-48B1-A054-10E6D456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6F09F-D03F-4EE1-A510-AE6006FE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5230-B0C3-4E9B-BC47-B88D452C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9A872-07FC-4916-B1F7-04C601CD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457-5D77-4C17-9BE2-1F15759E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1DF91-78C0-4910-9E47-0BCA9CEA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ECEA1-0E47-40F3-9358-3B2F17E2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E7360-C46C-44DD-832E-4AC774D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5512-191F-44DF-8FD8-CB7845D7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EADFAD-579A-4EF3-9DC9-98B701AA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1F9DF-1CF7-4FA2-82EE-4C57253E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27778-19A1-4FE1-93B3-6BD648D0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3FF87-C216-4907-978C-45DFD8F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9DEAD-80DB-4EB9-9174-098B492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AFDD4-B803-468B-BAF6-8ECE07C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A37-BDB2-41C6-991F-0721ED42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73457-6E45-4C82-9E84-7E78D9CD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85B7F-9466-4DCE-8F09-6829D05A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2C51E-9F8B-4B35-8A25-A0EC42C2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D73C7-1E5A-4562-8100-A3B5CA33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B6AFD-E8F5-4CF7-B2BD-3BFF8806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18EF5-02A2-4602-8C60-0E51251F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E33B-4024-49BE-9838-C80CF69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E299FE-C0FB-4D2D-8839-003AE6F6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C3266-7F30-4AF3-9F69-A743721F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AF25E-71C5-4DA1-B8F0-A03CCF3F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E7C-9A73-4922-9E62-02894CB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2B929-D4AE-4A7E-ACB1-9685D9A5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A2A7E-06E4-4B07-8B15-689179A0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BA44D-72EB-4CE9-9993-9280880C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5154-9F89-4799-890E-18DA07D9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E7D17-3468-4DDE-B3F9-87A9C87C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F711A-A7BA-4CD0-9A69-E1877F07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43F44-69D4-4BBC-80EA-70A51BF0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5F789-7FAC-401F-A80F-7EA92B8A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4401A-5910-4266-9FA3-E021BDBA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2D041-E501-499A-B88B-627A401B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D9D-9DE5-4A93-BDE5-1CB921DF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7FFCE-974E-4058-B1A5-61670FD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BAE92-902D-4632-90C2-27D71803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A74EC-60DC-47B2-BCFB-C26E3A15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E6E51-23E5-41C3-A05A-BCD87B8D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09670-EC13-4529-80B9-215D6D46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0E31-65F3-434F-9697-9490253B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A56BC-D7BB-48D9-842F-AEAC4F95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9C563-89B0-4224-AFB4-87B83E43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7CF42-6A83-448A-81A6-93B0DEF8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70F0D-D5C7-4BF0-AF66-8B3E2C6A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40DA-7F09-4587-A9B8-533CA03D2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5EC6-CCD7-4942-8C7B-447BEE412A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052D-29E8-4B8D-88D2-1A635529A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F97E-3689-4ED8-B259-1CA81E38FA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730-50A9-4795-B71F-3A43E7E4F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388-36DB-4E0B-AD62-5BD4804957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B096-7B65-42D1-9D22-05294A84F5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0C46-DBD4-4C77-81AF-39DC58345C8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E1E-83EF-4081-97B3-E3C942FB498E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C99F-1A9A-4F1E-B925-59EAFE510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EB4B-DF9E-48C2-9F2D-91E86740B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B064-E853-4645-BE73-0225926FE1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B431-5BA8-481F-9ECF-7C06ADD1B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AED4-7F63-4367-8B5F-F2AD3EDB9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E74B-BBF2-4D6A-ABBF-530C6915B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2BA-0944-4287-84E9-C3CF46023D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1"/>
          <p:cNvSpPr/>
          <p:nvPr/>
        </p:nvSpPr>
        <p:spPr>
          <a:xfrm>
            <a:off x="20574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52574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aenia saginata Example of a tapeworm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4" name="Picture 3" descr="Taenia_saginataL"/>
          <p:cNvPicPr/>
          <p:nvPr/>
        </p:nvPicPr>
        <p:blipFill>
          <a:blip r:embed="rId1"/>
          <a:stretch/>
        </p:blipFill>
        <p:spPr>
          <a:xfrm>
            <a:off x="4572000" y="533520"/>
            <a:ext cx="3949560" cy="26413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Taenia_saginataK"/>
          <p:cNvPicPr/>
          <p:nvPr/>
        </p:nvPicPr>
        <p:blipFill>
          <a:blip r:embed="rId2"/>
          <a:stretch/>
        </p:blipFill>
        <p:spPr>
          <a:xfrm>
            <a:off x="762120" y="533520"/>
            <a:ext cx="3759120" cy="27050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Taenia_saginataH_v2"/>
          <p:cNvPicPr/>
          <p:nvPr/>
        </p:nvPicPr>
        <p:blipFill>
          <a:blip r:embed="rId3"/>
          <a:stretch/>
        </p:blipFill>
        <p:spPr>
          <a:xfrm>
            <a:off x="2743200" y="335268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tae3"/>
          <p:cNvPicPr/>
          <p:nvPr/>
        </p:nvPicPr>
        <p:blipFill>
          <a:blip r:embed="rId4"/>
          <a:stretch/>
        </p:blipFill>
        <p:spPr>
          <a:xfrm>
            <a:off x="6553080" y="3276720"/>
            <a:ext cx="201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CAL IMPORTANCE OF ARTHROP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)As aetiologic agents (causes) of dis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ssue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ion of hypersensitivity reac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jection of poi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omophobia (acarophob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) As vectors of diseas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: Mechanical transmission - simple carriage of pathog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: Biological transmi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o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: Transovarian trans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scabies1"/>
          <p:cNvPicPr/>
          <p:nvPr/>
        </p:nvPicPr>
        <p:blipFill>
          <a:blip r:embed="rId1"/>
          <a:stretch/>
        </p:blipFill>
        <p:spPr>
          <a:xfrm>
            <a:off x="838080" y="1066680"/>
            <a:ext cx="4673880" cy="35053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4"/>
          <p:cNvSpPr/>
          <p:nvPr/>
        </p:nvSpPr>
        <p:spPr>
          <a:xfrm>
            <a:off x="457920" y="38088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2" name="Picture 2" descr="biopara-scabies"/>
          <p:cNvPicPr/>
          <p:nvPr/>
        </p:nvPicPr>
        <p:blipFill>
          <a:blip r:embed="rId2"/>
          <a:stretch/>
        </p:blipFill>
        <p:spPr>
          <a:xfrm>
            <a:off x="5562720" y="1905120"/>
            <a:ext cx="33526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biopara-scabies"/>
          <p:cNvPicPr/>
          <p:nvPr/>
        </p:nvPicPr>
        <p:blipFill>
          <a:blip r:embed="rId1"/>
          <a:stretch/>
        </p:blipFill>
        <p:spPr>
          <a:xfrm>
            <a:off x="5410080" y="2743200"/>
            <a:ext cx="3353040" cy="23464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3"/>
          <p:cNvSpPr/>
          <p:nvPr/>
        </p:nvSpPr>
        <p:spPr>
          <a:xfrm>
            <a:off x="720" y="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Object 2"/>
          <p:cNvGraphicFramePr/>
          <p:nvPr/>
        </p:nvGraphicFramePr>
        <p:xfrm>
          <a:off x="428760" y="214200"/>
          <a:ext cx="821520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4200"/>
                    <a:ext cx="82152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t arthropod vectors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disea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85800" y="1981080"/>
          <a:ext cx="7772400" cy="4448160"/>
        </p:xfrm>
        <a:graphic>
          <a:graphicData uri="http://schemas.openxmlformats.org/drawingml/2006/table">
            <a:tbl>
              <a:tblPr/>
              <a:tblGrid>
                <a:gridCol w="2957400"/>
                <a:gridCol w="4815000"/>
              </a:tblGrid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Musca domest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hanical transmission of  many viruses, bacteria and parasi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quitoe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عو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pheles :malaria filariasis Culex: filariasis, viruses                Aedes: yellow fever, dengue fever, Rift Valley Fe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ce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مل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 louse: vector for: Relapsing fever, typhus and trench fev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a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راغيث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 flea is vector for plague due to Yersinia pest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ks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راد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 ticks , some are vestors for : Borrela duttoni         Hard ticks Include vectors for Babesiosis (protozoa), Q fever, and Rocky mountain spotted fever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e t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Glossina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ت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African Trynanosomiasis (African sleeping sick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imulium)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ذبابة السوداء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Onchocerca (river blind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hlebotomus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رم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s for leishmania and sandfly fever vir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cl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Dracunculus medinen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" descr="louse384.jpg"/>
          <p:cNvPicPr/>
          <p:nvPr/>
        </p:nvPicPr>
        <p:blipFill>
          <a:blip r:embed="rId1"/>
          <a:stretch/>
        </p:blipFill>
        <p:spPr>
          <a:xfrm>
            <a:off x="1714680" y="2786040"/>
            <a:ext cx="5286240" cy="338616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2"/>
          <p:cNvSpPr/>
          <p:nvPr/>
        </p:nvSpPr>
        <p:spPr>
          <a:xfrm>
            <a:off x="3568680" y="4287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201240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se(singular) , Lice (pleu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0" y="1357200"/>
            <a:ext cx="84582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Pediculus human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Ae_albo_30Ap01_P4300281"/>
          <p:cNvPicPr/>
          <p:nvPr/>
        </p:nvPicPr>
        <p:blipFill>
          <a:blip r:embed="rId1"/>
          <a:stretch/>
        </p:blipFill>
        <p:spPr>
          <a:xfrm>
            <a:off x="5943600" y="457200"/>
            <a:ext cx="2338560" cy="1824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Ae_albo_Pb230730"/>
          <p:cNvPicPr/>
          <p:nvPr/>
        </p:nvPicPr>
        <p:blipFill>
          <a:blip r:embed="rId2"/>
          <a:stretch/>
        </p:blipFill>
        <p:spPr>
          <a:xfrm>
            <a:off x="3886200" y="533520"/>
            <a:ext cx="1560600" cy="122868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4"/>
          <p:cNvSpPr/>
          <p:nvPr/>
        </p:nvSpPr>
        <p:spPr>
          <a:xfrm>
            <a:off x="457200" y="457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osquitoes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533520" y="1371600"/>
            <a:ext cx="3276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 , more than 3000 spe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val and pupal stages always aqu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th parts in female adapted to piercing and suck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us and species distinguished by morphology of adult and deveopmetal sta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7" name="Picture 6" descr="mosquito2"/>
          <p:cNvPicPr/>
          <p:nvPr/>
        </p:nvPicPr>
        <p:blipFill>
          <a:blip r:embed="rId3"/>
          <a:stretch/>
        </p:blipFill>
        <p:spPr>
          <a:xfrm>
            <a:off x="5029200" y="2514600"/>
            <a:ext cx="307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sandfly2"/>
          <p:cNvPicPr/>
          <p:nvPr/>
        </p:nvPicPr>
        <p:blipFill>
          <a:blip r:embed="rId1"/>
          <a:stretch/>
        </p:blipFill>
        <p:spPr>
          <a:xfrm>
            <a:off x="1447920" y="914400"/>
            <a:ext cx="3039840" cy="26179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sandfly3"/>
          <p:cNvPicPr/>
          <p:nvPr/>
        </p:nvPicPr>
        <p:blipFill>
          <a:blip r:embed="rId2"/>
          <a:stretch/>
        </p:blipFill>
        <p:spPr>
          <a:xfrm>
            <a:off x="4876920" y="1295280"/>
            <a:ext cx="3200400" cy="27068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Sandfly4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sandflyreserve1"/>
          <p:cNvPicPr/>
          <p:nvPr/>
        </p:nvPicPr>
        <p:blipFill>
          <a:blip r:embed="rId4"/>
          <a:stretch/>
        </p:blipFill>
        <p:spPr>
          <a:xfrm>
            <a:off x="83808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106668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hlebotom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 sand fl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207468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end of this lecture the student should be able to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 the three main groups of parasitic helminths and their characteristic  morphological featur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life cycle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caris lumbricoid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s an example of parasitic heminth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 the role of arthropods as agents and as vectors of diseases  in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examples of the main arthropod vectors of dis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0" y="1066680"/>
          <a:ext cx="9144000" cy="5410440"/>
        </p:xfrm>
        <a:graphic>
          <a:graphicData uri="http://schemas.openxmlformats.org/drawingml/2006/table">
            <a:tbl>
              <a:tblPr/>
              <a:tblGrid>
                <a:gridCol w="4514760"/>
                <a:gridCol w="46292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z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cell for all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moeba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psudob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gell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iliat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cil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picomplex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porozoa) Tissu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ound worm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ematodes) cylindrical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t w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-Trema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f-like, 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-Ces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pe-like, 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38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tion of Para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Location of helminths in the body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Intestinal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Tissue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731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Nemato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General feature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ongated worm, cylindrical, unsegmented and tapering at both e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 in size, measure &lt;1 cm to  about 100cm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x separate and male is smaller than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Picture 5" descr="untitled"/>
          <p:cNvPicPr/>
          <p:nvPr/>
        </p:nvPicPr>
        <p:blipFill>
          <a:blip r:embed="rId1"/>
          <a:stretch/>
        </p:blipFill>
        <p:spPr>
          <a:xfrm>
            <a:off x="2895480" y="4419720"/>
            <a:ext cx="29718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Ascarisalumbmf"/>
          <p:cNvPicPr/>
          <p:nvPr/>
        </p:nvPicPr>
        <p:blipFill>
          <a:blip r:embed="rId1"/>
          <a:stretch/>
        </p:blipFill>
        <p:spPr>
          <a:xfrm>
            <a:off x="1371600" y="1219320"/>
            <a:ext cx="6426360" cy="46479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7315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onest human helminthes inf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in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jejunum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pper part of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le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(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m ).longer than male ( 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1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 on semi digested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028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1029" descr="1Ascaris_adultK"/>
          <p:cNvPicPr/>
          <p:nvPr/>
        </p:nvPicPr>
        <p:blipFill>
          <a:blip r:embed="rId1"/>
          <a:stretch/>
        </p:blipFill>
        <p:spPr>
          <a:xfrm>
            <a:off x="4419720" y="3124080"/>
            <a:ext cx="41907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066680" y="0"/>
            <a:ext cx="6510600" cy="662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2514600" y="594360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caris lumbric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Fisiolahepatica-cow"/>
          <p:cNvPicPr/>
          <p:nvPr/>
        </p:nvPicPr>
        <p:blipFill>
          <a:blip r:embed="rId1"/>
          <a:stretch/>
        </p:blipFill>
        <p:spPr>
          <a:xfrm>
            <a:off x="0" y="428760"/>
            <a:ext cx="8763120" cy="58417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Fisiolahepatica-cow"/>
          <p:cNvPicPr/>
          <p:nvPr/>
        </p:nvPicPr>
        <p:blipFill>
          <a:blip r:embed="rId2"/>
          <a:stretch/>
        </p:blipFill>
        <p:spPr>
          <a:xfrm>
            <a:off x="214200" y="500040"/>
            <a:ext cx="8763120" cy="58420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1000080" y="4143240"/>
            <a:ext cx="77439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The Trematod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14:58:24Z</dcterms:created>
  <dc:creator>Prof.Adeel</dc:creator>
  <dc:description/>
  <dc:language>en-US</dc:language>
  <cp:lastModifiedBy>Ahmed</cp:lastModifiedBy>
  <dcterms:modified xsi:type="dcterms:W3CDTF">2014-10-29T09:11:21Z</dcterms:modified>
  <cp:revision>68</cp:revision>
  <dc:subject/>
  <dc:title>Photo Album</dc:title>
</cp:coreProperties>
</file>