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F3536-072A-4855-A485-51C959D9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eftobiprole" TargetMode="External"/><Relationship Id="rId2" Type="http://schemas.openxmlformats.org/officeDocument/2006/relationships/hyperlink" Target="http://en.wikipedia.org/wiki/Ceftobiprole" TargetMode="External"/><Relationship Id="rId3" Type="http://schemas.openxmlformats.org/officeDocument/2006/relationships/slide" Target="../slides/slide12.xml"/><Relationship Id="rId4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Footlight MT Light"/>
                <a:hlinkClick r:id="rId1"/>
              </a:rPr>
              <a:t>     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Footlight MT Light"/>
                <a:hlinkClick r:id="rId2"/>
              </a:rPr>
              <a:t> Ceftobip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22024-DF14-4AC0-875A-7842560879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DBA-1A37-42AB-B186-D2BCAD2A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8DB-4857-482A-8779-A3DDF097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0ACEB-2BA0-4276-99D3-1E07765F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B8F5F-EB73-4335-8E02-FEB62DD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D2CBC-92EF-40C4-AA84-8477C38E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1E762-2540-438C-9500-91CA770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98782-9CB2-4C1F-88F0-FC343A6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31B05-374C-4BC6-9C84-2FE9C9EE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7B40-719D-437C-9AB4-02227955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1315-74B5-4AB3-984C-ED69D26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FCB46-17D3-4447-B033-519561D6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CB0A-BFFC-41D8-A5CE-0C0F435F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9F1-2562-4F86-A3BF-F436A52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A387D-1189-4DC9-83BB-C7F7986C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A729D-54D9-40BE-A0A8-52CB16D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3AE50-F240-434C-9AD5-F5A1ED6F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2199E-23DB-4914-8242-A7CE68E8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FB71E-E2B8-4E01-9B8C-34C03CAF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83E21-3112-42E6-9BAE-66383E98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ED288-9CB2-4DEC-A794-BC050061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E272-2FF8-45C4-AE76-638F55C3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1045A-25A1-4914-9933-8517AD81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3B854-8EBF-426B-B491-1102E82A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96A-B3F3-47FE-A792-019F7A5B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1C8D4-9CB6-49A7-9AD6-3EF6ABF2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F028A-30E6-43DA-ACB9-F4192ED5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9A64-45E5-4EB5-B52A-C214EE5A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61804-BFA8-47E5-A219-51211F7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5E3BF-F4E6-4336-AFDC-08636E57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5F811-2BDD-4318-82B7-82F80BC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0D23-AB5D-47CF-95C9-2E329C6B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DF40B-787E-4F23-AB3F-B01BC9A8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B8B9E-5C2A-47D9-8AF4-9AE8091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50A7B-6B9A-4297-ADA3-937DC89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776-6A9D-407B-90E6-0C8D77AA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1C331-8561-4101-A4E2-ECDD7BE0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2E2C9-5C9D-4DCA-920A-6167FAD1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54711-8756-47D2-ACB3-0F9CDB0B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0816D-94E0-48C9-A17B-205CF4D3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C02A6-1B0D-4126-A1FB-67A98C46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C75A5-1EFD-4DB0-9776-8A7E14F7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CB4EB-BFAE-4919-B726-0B15E1C0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3245E-DC89-4BFD-83DB-BE4123B4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5AD86-A764-47BF-A2B8-5D03BEAF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4A4C1-8582-4C8E-B4D3-4225D7C1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16752-37BA-4057-BDCC-5757917D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39BE3-8590-4F07-BA58-F83173EF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E904B-32C2-4B44-B25A-42FB0EDA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4692F-D096-4E04-BD79-1461013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7E870-5483-48D8-B72C-8654030C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C5016-2C92-4E0E-BF64-E605E5B6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E336A-A65A-4FCA-9A6D-91B1ABBF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59218-1A8B-4639-B192-5F611475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09AE1B-4696-4AC8-804A-D25EB8B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B6050-9F9E-49BE-9A3D-A7D3E00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8952B-8411-47E7-B9F3-736C4F0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35E4-071F-4B96-9E3B-90469E2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D27DC-87E4-48BB-BCA1-0F7A31D6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F36B3-33D8-48FF-A23F-E16FD704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72A67-CEC4-4E30-BC07-3A03CEA7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E9696-2EB3-45FF-A94B-F3CF5D3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A406E7-19ED-48DF-9E8E-B38E9DE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41FF8-29A6-4444-8568-9DEA3448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FD3733-4AEA-4744-8829-BB80C20C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66FF-11CB-4B7C-AE0C-B24F73D6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2E4-99AA-487F-A244-565DF4E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639-F196-4D0D-B6B7-A2D6F2BD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CB35-4510-4CD5-877F-2786DCC5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FF3-A4CE-4A74-A960-356D9AED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CFD2-A54A-4390-9B61-86BC99D5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9334-F20D-4664-8FB7-628E70FE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A6C0-E7DF-4F07-935D-D22EBB1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A30B-542F-4421-A54D-15A0F50A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3F54-4B4A-4C45-9D84-C1D0903C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C2E7-9EFB-4FFB-85E6-FAB865F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07A2-B5F7-475E-825F-09AED56E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926E-3723-49C5-8370-95552B3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755FE-3A48-48E8-BABE-B9A42DFD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49EB-662B-4FC9-AAD1-D3CA08BB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2CBC-F74B-4280-88F2-457044E5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05EF-130C-478A-8CA4-F498327B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7B47-CBB8-4BE2-8929-D422D1A0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16AC-6F84-44E1-8A04-C739F31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7491C-5265-4ED2-9D35-3C8F708E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5380-CEAD-4C92-B48E-240C21C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2C6F6-992D-40F1-A9C7-89425585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F767-25B4-4FD0-9DC4-42C523E2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C5A71-AC61-461F-AFE7-A3F033BC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2CC2F-D66D-4133-AB0E-B654422F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16AE0-0420-4F49-87C9-E2A435FE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39A6-1755-440D-B1F3-BDD8A6EB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A9D87-977C-4C47-949B-24489792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3AC72-8E31-4341-81DD-A0ED20F5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BBE7-8F04-4817-AF44-AD0A6F60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ED450-AE46-4DA7-B494-275C8FE8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0B530-7200-4F0D-A814-19FB29C8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5427-276D-4358-B44E-5510C3EA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90CF-0E84-4959-9A97-A6BC8AB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E2520-40D2-4785-803D-C751F790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8EDC4-872D-4196-B72B-0C133B3D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091A1-C92D-4C0D-8FA7-283BDDEE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12E-72E5-4048-8555-C149187D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3EBE3-C019-4A15-87EE-7D5105BB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E07D-2CAC-4532-BD46-1CE189E6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7FE7-3DC9-4EF3-A0C0-8F7EFB09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2F1BD-9221-4F7F-8310-165D913D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672E-2349-457A-9FF8-47F215C6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BC267-3EC4-4EF1-BFD5-85D4418C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E741-8F9C-4448-A644-4FEEB7DF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AECE8-1BE4-49C9-9525-C68D9A85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5F028-0C69-40F5-93AE-D345E8DB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79456-A304-43AE-AF2A-B6E1021C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C72-A58A-4400-B2CB-5920F35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56D13-DBA4-4F90-92D4-3894E1A4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66EE3-7530-4DA7-B18B-560A18E5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46F6B-A831-4F43-B5E0-EF2115D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7702D-C8A6-457B-AA7C-34F5A409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EFBE-399A-46BF-9D54-FAE2B3D9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4724-72C3-419B-9942-BA95EED2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4EF10-0327-4A43-ADB2-FB3C4CE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DF94D-1E14-474C-BCDE-552ACEEE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23971-8EEC-4119-A781-AE244FB5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AFDDC-65B3-4515-842A-6E8C0330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45E7-5372-42EC-809D-E4ADF5C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2331F-6550-423E-931C-F053269F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0F18-66E7-43FA-8102-9802374A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3B5AD-AB85-4C96-9B61-1ABC336E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3E1EB-B0F7-4AD8-BC70-9E56EA29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73637-C073-4BFB-B46C-A1417D0E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E0A64-46EA-4B3C-B399-977774B3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FA3DC-E988-443D-A3B1-9942E545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2DB22-DF4E-4109-9FC6-5AF12B71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B518F-22FC-4DED-A03C-23DF401B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3C437-E521-4D90-83E3-9F225AEF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FAA-36AD-45B0-9AA1-4598167F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A7A8B-0B01-4A0E-8D88-82AC88E9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1C28-729E-44E8-A4A4-0DF4449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0D4A4-3935-4793-99CC-21E1BFE5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9D2F3-5524-4019-A16E-2B220B23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EC72E-B30B-48D5-9100-9D8A1ABE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47A21-846C-4FB5-B9A1-68E818AB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C97A-F37B-4387-A9F6-9FF425C5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B1360-F88B-4F54-B2E7-AEE4DE3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9E4A5-BA56-484F-9D96-6146E1D6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F6BA-C546-4DEC-8222-69C392C6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2E8-422B-490E-8FA7-6D9427F7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39762-938B-45BE-AD4C-FF1AA7CF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8396-0CDA-41B1-9801-7573ACB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BA08C-6518-4600-8519-1441B06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3920-B649-494F-A669-EDA21541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BB81B-6C0D-45CC-9988-FE75E29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7B0C6-76E6-453B-A666-8E5D0979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CB2EB-F87E-46AD-8245-828C0682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C05BA-EE70-453B-A520-242B01FB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EF35C-A27D-4A92-B3CD-C9D8F997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54B99-B161-455A-B621-3820F012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73E8D-5529-40C4-9059-68DFB4B8D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5D07C-3340-4DED-BE55-9C649DC7996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0FE8F-40DB-4367-A0B3-8CAE5AFEC9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D1D68-93A6-4D2F-B2B0-16800BE15C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8E33B3-0F06-48B3-A1B9-6C596BD0FE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42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8F35-3B44-47A6-8537-8BD9E1CA630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9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1BCF0-0DA7-4199-A587-E45E899357D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9687BE-D9A4-48C8-BC7A-319DF1F6078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D586C-F589-4EFF-A1EF-290F245619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A5CCBA-147D-4812-AB61-5DDD096D18EC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14AC54-172D-4BBD-9600-FA054A2280E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13BCF9-D5E4-487A-B1C4-C82296EBD2B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E1B21-B30D-4D80-8ADB-08F42FE70E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File:THFsynthesispathway.pn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yridoxine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Dr. Ali So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deada"/>
                </a:solidFill>
                <a:uFillTx/>
                <a:latin typeface="Footlight MT Light"/>
                <a:ea typeface="SimSun"/>
              </a:rPr>
              <a:t>ANTIBIOTICS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 </a:t>
            </a: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- 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ntain : Beta- Lactam ring &amp; organ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ind to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PBP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, interfere with trans-peptidation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Toxicity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hypersensi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  <a:ea typeface="Arial"/>
              </a:rPr>
              <a:t>Diarrhea, ..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5334120" y="4267080"/>
            <a:ext cx="2819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Penicill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304920" y="16002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Benzyl penicillin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    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nicillin 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Procaine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  <a:ea typeface="Arial"/>
              </a:rPr>
              <a:t>Benzathine penicil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Footlight MT Light"/>
              </a:rPr>
              <a:t>Isoxazolyl penicillins</a:t>
            </a:r>
            <a:r>
              <a:rPr b="1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loxacillin –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Staph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1" i="1" lang="en-US" sz="3200" spc="-1" strike="noStrike">
                <a:solidFill>
                  <a:srgbClr val="ffff99"/>
                </a:solidFill>
                <a:latin typeface="Footlight MT Light"/>
              </a:rPr>
              <a:t>Amino-penicilli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-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mpicillin –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Enterobacteria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	</a:t>
            </a:r>
            <a:r>
              <a:rPr b="0" i="1" lang="en-US" sz="3200" spc="-1" strike="noStrike">
                <a:solidFill>
                  <a:srgbClr val="fdeada"/>
                </a:solidFill>
                <a:latin typeface="Footlight MT Light"/>
              </a:rPr>
              <a:t>Acylaminopenicillins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iperacillin,mezlocillin-         </a:t>
            </a:r>
            <a:r>
              <a:rPr b="0" i="1" lang="en-US" sz="3200" spc="-1" strike="noStrike">
                <a:solidFill>
                  <a:srgbClr val="ffffff"/>
                </a:solidFill>
                <a:latin typeface="Footlight MT Light"/>
              </a:rPr>
              <a:t>Psudom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CEPHALOSPORI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80880" y="1676520"/>
            <a:ext cx="4114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irst 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phra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ohalex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econd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urox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otlight MT Light"/>
              </a:rPr>
              <a:t>Cephamycin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(Cefoxit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4648320" y="16765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hird generation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expand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eg.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riax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tazid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Fourth gen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      </a:t>
            </a: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Cefep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4400" spc="-1" strike="noStrike">
                <a:solidFill>
                  <a:srgbClr val="fdeada"/>
                </a:solidFill>
                <a:latin typeface="Calibri"/>
                <a:ea typeface="Arial"/>
              </a:rPr>
              <a:t>β</a:t>
            </a: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-Lactamase inhibi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572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s with no antibacteria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Irreversibly bind to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Clavulanic acid, Sulbactam, Tazobac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ffective on staph. Penicillinases and broad spectrum </a:t>
            </a:r>
            <a:r>
              <a:rPr b="0" lang="el-GR" sz="32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lactam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g. amoxicillin/clavulanic acid, ticarcillin /clavulanic acid and piperacillin /tazobact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45720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lyco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ctericidal .Acts on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ram positive bacteria only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hibit cell wall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iven by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d for  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MRSA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,</a:t>
            </a:r>
            <a:r>
              <a:rPr b="0" i="1" lang="en-US" sz="2400" spc="-1" strike="noStrike">
                <a:solidFill>
                  <a:srgbClr val="fdeada"/>
                </a:solidFill>
                <a:latin typeface="Footlight MT Light"/>
              </a:rPr>
              <a:t>S.epidermidi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, pseudomembranous colit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d man syndrome ,phlebitis, nephrotoxic &amp; ototox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3"/>
          <p:cNvSpPr/>
          <p:nvPr/>
        </p:nvSpPr>
        <p:spPr>
          <a:xfrm>
            <a:off x="533520" y="15238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Polymyxin B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Only used 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LOCALLY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due to serious nephr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Colistin used for the treatment of multi-resistant organisms (MRO) such as :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and </a:t>
            </a:r>
            <a:r>
              <a:rPr b="1" i="1" lang="en-US" sz="2400" spc="-1" strike="noStrike">
                <a:solidFill>
                  <a:srgbClr val="ffffff"/>
                </a:solidFill>
                <a:latin typeface="Footlight MT Light"/>
              </a:rPr>
              <a:t>Acinetobacter 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MINOGLYCOSIDES 30 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ETRACYCLINE          30 S ribosomal sub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HLORAMPHENICOL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CROLIDES            50 Sub Unit of 23 r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MINOGLYCOSIDE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533520" y="1523880"/>
            <a:ext cx="83055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Gram negative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xamples: Gentamicin ,Amikacin , Neomycin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- dose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Calibri"/>
              </a:rPr>
              <a:t>TETRACYCLIN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Broad spectrum , bacterio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lso for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Footlight MT Light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hort acting: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Long acting:   Minocycline , 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Doxycycline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( CSF penetr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New tetracycline :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Footlight MT Light"/>
              </a:rPr>
              <a:t>Tigycycline</a:t>
            </a:r>
            <a:r>
              <a:rPr b="0" i="1" lang="en-US" sz="2800" spc="-1" strike="noStrike">
                <a:solidFill>
                  <a:srgbClr val="ffffff"/>
                </a:solidFill>
                <a:latin typeface="Footlight MT Light"/>
              </a:rPr>
              <a:t> (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eeth discoloration , GIT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road spectrum ,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ffects bone marrow cells and cause a plastic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d for severe infections not responding to treatment , also for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iseases.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By the end of this lecture 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antibiotic ,chemotherapy and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scribe the difference between bactericidal  and bacteriostatic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narrow and broad spectrum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Define the therapeutic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MACROLI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685800" y="175248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deada"/>
                </a:solidFill>
                <a:latin typeface="Footlight MT Light"/>
              </a:rPr>
              <a:t>Erythromycin &amp; Clindamyc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Bacteriost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Footlight MT Light"/>
              </a:rPr>
              <a:t>Legionella, Camylobacter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, Gram negative and positive infections for patients allergic to Penicillins and Cephalospor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lindamycin acts on </a:t>
            </a:r>
            <a:r>
              <a:rPr b="0" lang="en-US" sz="2000" spc="-1" strike="noStrike">
                <a:solidFill>
                  <a:srgbClr val="0000ff"/>
                </a:solidFill>
                <a:latin typeface="Footlight MT Light"/>
              </a:rPr>
              <a:t>anaerobes</a:t>
            </a: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Cause GIT disturbance, </a:t>
            </a:r>
            <a:r>
              <a:rPr b="0" lang="en-US" sz="2000" spc="-1" strike="noStrike">
                <a:solidFill>
                  <a:srgbClr val="fdeada"/>
                </a:solidFill>
                <a:latin typeface="Footlight MT Light"/>
              </a:rPr>
              <a:t>Pseudomembraneous colit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Footlight MT Light"/>
              </a:rPr>
              <a:t>New Macrolid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ootlight MT Light"/>
              </a:rPr>
              <a:t>     </a:t>
            </a:r>
            <a:r>
              <a:rPr b="0" lang="en-US" sz="2000" spc="-1" strike="noStrike">
                <a:solidFill>
                  <a:srgbClr val="fdeada"/>
                </a:solidFill>
                <a:latin typeface="Footlight MT Light"/>
              </a:rPr>
              <a:t>Azithromycin &amp; Clarithromycin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68580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RIFAMPIC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Causes discoloration of body fluids &amp; hepato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QUINOLONES</a:t>
            </a:r>
            <a:r>
              <a:rPr b="1" lang="en-US" sz="4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6858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Synthetic, bactericidal, inhibit DNA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Gyras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Generation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irst generation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–locally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eg. 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Side effects:</a:t>
            </a:r>
            <a:r>
              <a:rPr b="0" lang="en-US" sz="3600" spc="-1" strike="noStrike">
                <a:solidFill>
                  <a:srgbClr val="000000"/>
                </a:solidFill>
                <a:latin typeface="Footlight MT Light"/>
              </a:rPr>
              <a:t> 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rtilage &amp;  he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deada"/>
                </a:solidFill>
                <a:latin typeface="Footlight MT Light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anaerobic bacteria, and para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used DNA brea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Used for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B.fragilis , Trichomonas vaginali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, amoebiasis and giardi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ANTIMETABOLITES ( folate inhibitor s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3"/>
          <p:cNvSpPr/>
          <p:nvPr/>
        </p:nvSpPr>
        <p:spPr>
          <a:xfrm>
            <a:off x="533520" y="1676520"/>
            <a:ext cx="83055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Trimethoprim-Sulfamethoxazole ( TMP-SM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Combination of TMP-SMX called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Bactrim / Sept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Block sequential steps in folic acid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ootlight MT Light"/>
              </a:rPr>
              <a:t>Used to treat</a:t>
            </a:r>
            <a:r>
              <a:rPr b="0" i="1" lang="en-US" sz="2400" spc="-1" strike="noStrike">
                <a:solidFill>
                  <a:srgbClr val="ff3399"/>
                </a:solidFill>
                <a:latin typeface="Footlight MT Light"/>
              </a:rPr>
              <a:t> :Nocardia, Chlamydia, Protozoa &amp; P.cra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UTI,  LRTI, OM., Sinusitis, infectious 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Side effects:   GIT, hepatitis , bone marrow depression,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3" descr="http://upload.wikimedia.org/wikipedia/en/e/e9/THFsynthesispathway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2000160"/>
            <a:ext cx="7572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TUBERCULOUS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457200" y="1676520"/>
            <a:ext cx="3505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</a:rPr>
              <a:t>First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 I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RIFAMPI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ETHAMBU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PYRAZIN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4495680" y="1676520"/>
            <a:ext cx="4191120" cy="36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Footlight MT Light"/>
                <a:ea typeface="Arial"/>
              </a:rPr>
              <a:t>Second line</a:t>
            </a:r>
            <a:r>
              <a:rPr b="0" lang="en-US" sz="3200" spc="-1" strike="noStrike">
                <a:solidFill>
                  <a:srgbClr val="ff3399"/>
                </a:solidFill>
                <a:latin typeface="Footlight MT Light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STREPTOMYC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PA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CYCLOSERI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  <a:ea typeface="Arial"/>
              </a:rPr>
              <a:t>CAPREOMYC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3962520" y="175248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deada"/>
                </a:solidFill>
                <a:uFillTx/>
                <a:latin typeface="Footlight MT Light"/>
              </a:rPr>
              <a:t>ISONIAZIDE  (IN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685800" y="1752480"/>
            <a:ext cx="80773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fects mycobacteria at different sites of lung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Used for the treatment &amp; prophylaxis of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ause peripheral neuritis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ootlight MT Light"/>
                <a:hlinkClick r:id="rId1"/>
              </a:rPr>
              <a:t> pyridoxin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amin B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3"/>
          <p:cNvSpPr/>
          <p:nvPr/>
        </p:nvSpPr>
        <p:spPr>
          <a:xfrm>
            <a:off x="685800" y="1981080"/>
            <a:ext cx="3809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Footlight MT Light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CONCENTRATED IN PHAGOLYSOSOME OF 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OPTIC NEURI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51055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  <a:ea typeface="Arial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ACID ENVIRONMENT OF MACROPH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HEPATITIS &amp; ARTHRAL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deada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deada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Know the mechanism of action of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Recognize the various classes of antimicrobial agents(action, spectrum and 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Explain the criteria for an ideal antimicrob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ANTIBIOTIC RESISTANCE IN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Rectangle 3"/>
          <p:cNvSpPr/>
          <p:nvPr/>
        </p:nvSpPr>
        <p:spPr>
          <a:xfrm>
            <a:off x="533520" y="175248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INDISCRIMINATE USE OF ANTIMICROB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ELECTIVE ADVANTAGE OF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TYPES OF RESIS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PRIMARY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Footlight MT Light"/>
              </a:rPr>
              <a:t>Innate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 eg. </a:t>
            </a:r>
            <a:r>
              <a:rPr b="0" i="1" lang="en-US" sz="2800" spc="-1" strike="noStrike">
                <a:solidFill>
                  <a:srgbClr val="000000"/>
                </a:solidFill>
                <a:latin typeface="Footlight MT Light"/>
              </a:rPr>
              <a:t>Streptococcu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&amp; anaerobes are resistant to gentam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NTIBIOTIC RESISTANCE IN BACTERIA (Continue</a:t>
            </a: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3"/>
          <p:cNvSpPr/>
          <p:nvPr/>
        </p:nvSpPr>
        <p:spPr>
          <a:xfrm>
            <a:off x="380880" y="1371600"/>
            <a:ext cx="8077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Acquired resistan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Footlight MT Light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Footlight MT Light"/>
              </a:rPr>
              <a:t>:   MTB RESISTANT  TO SRTEPTO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Footlight MT Light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:   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Cross resistance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eg.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erythromy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Dissociate resistance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gent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does not confer resistance to </a:t>
            </a:r>
            <a:r>
              <a:rPr b="0" lang="en-US" sz="2400" spc="-1" strike="noStrike">
                <a:solidFill>
                  <a:srgbClr val="ff3399"/>
                </a:solidFill>
                <a:latin typeface="Footlight MT Light"/>
              </a:rPr>
              <a:t>tobramicin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09480" y="13716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- Permeability chan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- modification of site of action, eg.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M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- inactivation by enzymes . eg. 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- passing blocked metabolic reaction eg. </a:t>
            </a:r>
            <a:r>
              <a:rPr b="0" i="1" lang="en-US" sz="2800" spc="-1" strike="noStrike">
                <a:solidFill>
                  <a:srgbClr val="fdeada"/>
                </a:solidFill>
                <a:latin typeface="Footlight MT Light"/>
              </a:rPr>
              <a:t>PABA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	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---------folic acid , plasmid medi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96920" y="506880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deada"/>
                </a:solidFill>
                <a:uFillTx/>
                <a:latin typeface="Footlight MT Light"/>
              </a:rPr>
              <a:t>PRINCIPLES OF ANTIMICROBIAL THERAP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2286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IN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HOICE OF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O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OX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Footlight MT Light"/>
              </a:rPr>
              <a:t>PROPHYLAXIS</a:t>
            </a: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4191120" y="1981080"/>
            <a:ext cx="4267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SHORT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3399"/>
                </a:solidFill>
                <a:uFillTx/>
                <a:latin typeface="Footlight MT Light"/>
              </a:rPr>
              <a:t>LONG TERM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TB, UTI , RHEUMATIC 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 u="sng">
                <a:solidFill>
                  <a:srgbClr val="fdeada"/>
                </a:solidFill>
                <a:uFillTx/>
                <a:latin typeface="Footlight MT Light"/>
              </a:rPr>
              <a:t>CRITERIA FOR IDEAL ANTIMICROBI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685800" y="1447920"/>
            <a:ext cx="8077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IV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HYPER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ENETERATE TISSUES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RESISTANCE NOT DEVELOP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NO EFFECT ON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BRO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dead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Sherries Medical Microbiology, an introduction to Infectious Diseases. </a:t>
            </a:r>
            <a:r>
              <a:rPr b="0" lang="en-US" sz="3200" spc="-1" strike="noStrike">
                <a:solidFill>
                  <a:srgbClr val="fdeada"/>
                </a:solidFill>
                <a:latin typeface="Footlight MT Light"/>
              </a:rPr>
              <a:t>Latest edition, Kenneth Ryan and George Ray. Publisher: Mc Gra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Dr. Ali Som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deada"/>
                </a:solidFill>
                <a:latin typeface="Footlight MT Light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2286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ANTIBIOTICS:</a:t>
            </a:r>
            <a:r>
              <a:rPr b="1" lang="en-US" sz="2800" spc="-1" strike="noStrike">
                <a:solidFill>
                  <a:srgbClr val="ffff99"/>
                </a:solidFill>
                <a:latin typeface="Footlight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produced by microorganism  which inhibit the growth of other micro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Footlight MT Light"/>
              </a:rPr>
              <a:t>CHEMOTHERAP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Footlight MT Light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3"/>
          <p:cNvSpPr/>
          <p:nvPr/>
        </p:nvSpPr>
        <p:spPr>
          <a:xfrm>
            <a:off x="304920" y="83808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CIDAL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:   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3399"/>
                </a:solidFill>
                <a:uFillTx/>
                <a:latin typeface="Footlight MT Light"/>
              </a:rPr>
              <a:t>BACTERIOSTATIC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Footlight MT Light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prevents multiplication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 u="sng">
                <a:solidFill>
                  <a:srgbClr val="ffff99"/>
                </a:solidFill>
                <a:uFillTx/>
                <a:latin typeface="Footlight MT Light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Footlight MT Light"/>
              </a:rPr>
              <a:t>Narrow spectrum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: 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selected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tivity of Antibio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TOXICITY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IVE TOXIC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kill or inhibit the growth of a microorganism without harming the host ce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RAPEUTIC INDEX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TIO of the dose toxic to the host to the effective therapeutic do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nicillin: 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inoglycosides :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just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ymyxin B :   the lowe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228600" y="1981080"/>
            <a:ext cx="8915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1)  Inhibition of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 cell wall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synthe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2)  altera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3)  Inhibi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protein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4)  Inhibition of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nucleic acid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5) </a:t>
            </a:r>
            <a:r>
              <a:rPr b="1" lang="en-US" sz="2800" spc="-1" strike="noStrike">
                <a:solidFill>
                  <a:srgbClr val="fdeada"/>
                </a:solidFill>
                <a:latin typeface="Footlight MT Light"/>
              </a:rPr>
              <a:t> Anti-metabolite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</a:rPr>
              <a:t>OR competitive antago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deada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ANTIBIOTICS"/>
          <p:cNvPicPr/>
          <p:nvPr/>
        </p:nvPicPr>
        <p:blipFill>
          <a:blip r:embed="rId1"/>
          <a:stretch/>
        </p:blipFill>
        <p:spPr>
          <a:xfrm>
            <a:off x="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6"/>
          <p:cNvSpPr/>
          <p:nvPr/>
        </p:nvSpPr>
        <p:spPr>
          <a:xfrm>
            <a:off x="5133960" y="1557360"/>
            <a:ext cx="41623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chanism of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hibition of Cell Wal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isruption of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hibition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terference with Metabolic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7"/>
          <p:cNvSpPr/>
          <p:nvPr/>
        </p:nvSpPr>
        <p:spPr>
          <a:xfrm>
            <a:off x="6257880" y="5486400"/>
            <a:ext cx="155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cterici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Bacterio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deada"/>
                </a:solidFill>
                <a:latin typeface="Footlight MT Light"/>
              </a:rPr>
              <a:t>ANTIMICROBIALS THAT  INHIBIT CELL WALL SYNTHESI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1- Beta –Lactam antimicrobial agents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ephamy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   </a:t>
            </a:r>
            <a:r>
              <a:rPr b="0" lang="en-US" sz="2800" spc="-1" strike="noStrike">
                <a:solidFill>
                  <a:srgbClr val="fdeada"/>
                </a:solidFill>
                <a:latin typeface="Footlight MT Light"/>
                <a:ea typeface="Arial"/>
              </a:rPr>
              <a:t>Beta-lactamas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   </a:t>
            </a:r>
            <a:r>
              <a:rPr b="1" lang="en-US" sz="2400" spc="-1" strike="noStrike">
                <a:solidFill>
                  <a:srgbClr val="fdeada"/>
                </a:solidFill>
                <a:latin typeface="Footlight MT Light"/>
              </a:rPr>
              <a:t>2-  Vancomycin</a:t>
            </a:r>
            <a:r>
              <a:rPr b="0" lang="en-US" sz="2400" spc="-1" strike="noStrike">
                <a:solidFill>
                  <a:srgbClr val="fdeada"/>
                </a:solidFill>
                <a:latin typeface="Footlight MT Light"/>
              </a:rPr>
              <a:t> ( Teicoplani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SUMAILI</cp:lastModifiedBy>
  <dcterms:modified xsi:type="dcterms:W3CDTF">2014-11-10T05:47:41Z</dcterms:modified>
  <cp:revision>23</cp:revision>
  <dc:subject/>
  <dc:title>Slide 1</dc:title>
</cp:coreProperties>
</file>