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834FBE-B5F2-4E71-BC84-299E25C33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eftobiprole" TargetMode="External"/><Relationship Id="rId2" Type="http://schemas.openxmlformats.org/officeDocument/2006/relationships/hyperlink" Target="http://en.wikipedia.org/wiki/Ceftobiprole" TargetMode="External"/><Relationship Id="rId3" Type="http://schemas.openxmlformats.org/officeDocument/2006/relationships/slide" Target="../slides/slide12.xml"/><Relationship Id="rId4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ffff99"/>
                </a:solidFill>
                <a:uFillTx/>
                <a:latin typeface="Footlight MT Light"/>
              </a:rPr>
              <a:t>Fourth gener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Footlight MT Light"/>
                <a:hlinkClick r:id="rId1"/>
              </a:rPr>
              <a:t>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Footlight MT Light"/>
                <a:hlinkClick r:id="rId2"/>
              </a:rPr>
              <a:t> Ceftobipro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8DEB21-7A4E-4DD8-AD97-EDAE6EC250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6240-7902-429E-A9D2-D3DB7B926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04E8-1F8E-4E11-9F0E-870C75DD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5E2183-F590-490A-9906-209FA62B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50313C-1D8C-411B-B3AB-C07BBAF2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A8BF4A-D267-492A-AAA5-3A16FEAD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F73842-A750-4D8B-AABF-A83B060B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B09E8D-20A0-44D8-BC14-37B433AA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E178D-9BFD-4739-9570-D6F62FF1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A637DE-7414-4807-9AC2-963AB47E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1BF559-58DB-4850-BD6A-75547BB79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06BD57-7AC3-41CF-A6CD-A4FB8AA0D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4368A4-1F39-475B-BCEB-92D9F9C03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009F-B077-400C-85F3-C8272888E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21098F-FCD3-430B-9FB6-7F155704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B941A0-8F05-4962-A1E6-D1A2F147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F8B110-0479-4D18-B348-E1EA2775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CC74AC-5156-4E10-A11D-22E580A4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FF9199-3022-4021-890F-7B3F3DDD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B2A4D9-E700-457A-BA63-86444DD1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B0464B-B08E-4AE3-B0F2-D4B4C8FE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026DC7-66F8-488E-97F3-82768681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FB97BA-CC22-4F44-88F6-272ADFB0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3B1328-4A62-403D-A579-56CFFBE1B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6228-2662-4C5E-9527-431D57D80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C3F823-18EC-4DD4-A86C-A6B10B328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358B3-0954-4588-8999-8A726047E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2108A9-0C8D-4FED-877A-CC92A147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BFE58E-849E-4EF8-B49B-838B510E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4FE461-9D9A-4E38-8398-0D47624F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A0F88F-25FD-40BD-8E69-47D37367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6E276-CAA2-45F2-AAC2-B1B36A99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635BF-70D0-48E6-9536-94C603C3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8DA56E-9759-4707-92FB-AAC1781F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8E256-621E-4B7B-8A8A-7DCF18BE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BE0A-4B33-4A3A-9BC4-D007B5299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DE2B9-51D5-457E-A133-DB570D9B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4860F-13D4-417A-A04E-D783D869E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BC8438-198B-4231-A060-F3D0E7FC8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7F2C58-D515-48DF-99DD-036680696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BF8ACA-16D5-42EC-8A73-D1E77FD9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F48F08-FA2D-4D73-AEF4-5716AB6E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51F3BC-F08E-47AB-9165-194EE2FA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6BC3C8-9930-4E6E-A323-C7FC5049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33B20C-41D1-456C-A690-534C205A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70F9AA-80E7-4D4E-8858-45CCCED0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A38A-8591-4121-A6E7-70FBE13D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4E4A41-66CA-4874-9D61-E5949665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8C447D-9BE6-4495-8B30-9ECE505B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C46EA0-72EC-45E0-B645-80BE0942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3B322E-D3F0-4F6B-B51F-3F07D5316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4CEE8E-3012-463D-80C7-2DE8B9B95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AE613F-73A8-4040-AC1E-EEBB10213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07ED69-FA59-4D99-99F5-ECD77B8B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1772DE-EA0D-42DF-932A-C4D9AE84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AA29E5-C3A5-4376-A2D9-78C0304D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96FC42-61C3-488D-ACB3-BFC5187C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D5D33-CC56-4889-808C-AF1E6E38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0C242F-0363-4416-B7A6-CEC1EED2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7D8592-7400-4C2A-979B-FE701DBC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A6DFA3-1838-4DCB-9C5B-1C99D6C8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57459D-6C77-481F-BB08-34D9A61A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E02F42-6CF3-47A2-800C-1B25A764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FE6F72-DD0D-4110-868E-112F224D8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047F16-785A-443D-B80F-79DB04F42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122D-AFB3-477A-A102-7DFEC543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0218-06E3-4BB2-B93D-FE2F0C5D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3BB8-F0B4-47DF-9147-5AEC303B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3023-484D-446D-9EFD-64434BFA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A2BD-1CA2-493B-BF09-E5A9A6A3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771C-237E-44FB-B468-0782D02E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42EE-8E3C-416A-8885-EB311BF2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D974-9406-4CA9-AD15-88470404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D0B5-F840-457C-B653-182E0EFBA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21B7-82B0-44AC-BD88-13DFCC680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94A58-DEA6-4BA2-AE14-A5587F497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B63C6-BAD8-4990-8115-537E93EF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09466-4CAB-4F05-B0AA-FCE9D1CF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BB0E9-D1A8-4747-85C2-8E0AA20B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CCABC-6A6B-4E68-A404-990FD4C0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AD42-68D0-47AD-AB62-96C83A6D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8799F-77FB-40CB-A17F-9797F9EE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A8E84-2510-4FE9-AC73-788AB95F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2381A-1845-4C5B-B814-6568196E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B5267-0DF5-4B7B-BADD-ADEAD439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B28A2-779A-4241-B149-355445A7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6230F-2038-40A9-8033-6BD990755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FB3FA-581C-47E4-91BC-B58D545EA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C8512-E4D2-46A4-A025-2CE94BEC8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7D367-AAB0-4A59-9CB9-DA210878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40F52-ACCE-4A4B-B458-7F2395B0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0721-4E43-489D-A483-6571ECEA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3F627-4B14-4328-8E1E-62EC4E37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6D66E-D153-47DD-8B57-33672A3B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E79FF-CCFE-4BFC-BE9D-9D7DAF94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C844D-06BE-41F9-AE06-E123D702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8AE40-04EC-4917-A17E-2A68D8FB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D2476-AA43-4564-98DE-14A30E22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2C64A-FEFD-4F82-858A-4178B613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48D8C-44F4-4A63-A336-F910BC999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6DBA7-9F8C-4656-B3FA-674A12256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E1DF5-0CCB-4189-8367-5593919DE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623F-9070-46BF-8042-26F7526B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87869-C82A-4FD5-A405-58CA7529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B5F1F-2412-40F1-8F16-1BD49D29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376BD-C28D-48A6-8ABC-5E1FF49C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FCF7D-8152-45A4-81B1-EE3A6CD8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4CBE7-6735-41E0-AF9D-F04CD354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314B0-281D-452E-99D0-29A1F3EB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A3FA9-B5C7-4052-BE25-CB4C663C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B1CEC-AD74-48BC-91C0-5A7F9ECE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1B2D0-447F-4B15-90D8-00578FF6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437F0-FFB7-4713-849A-5169BFB23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4568-4E0E-4D35-BFF3-E573BCF9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3BE07-981F-4E14-BA6F-0907FDCA6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09A67-E38E-4F4B-89D7-7D54CEF59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FB14B-145E-498F-9771-053AFB6D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105ED-C737-45E0-9A0A-CD5D0272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EF7C1-28A8-4123-A642-520B03DD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084F3-129B-47E6-BE0F-13CF8A4BB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12A15-2048-4451-8D19-174B4C49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3ABE6-CC32-4C95-BB8A-C62FB005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F2870-C70D-435A-B234-8095D5A5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14F3D-CA27-4E02-AC30-74A4FD04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41FD-156F-473E-B36D-31E96B30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9C158-4D17-4261-A828-D0E08024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C6D24-2A02-4939-9EA5-2B48A066A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C0005-C82C-4B42-98B7-E4F37A8F6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ED8E5-51DF-421C-A43C-6B990F3BE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31823-5B13-4617-8769-DE343819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438F9-2AB8-4BBA-AFAA-87ECC720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48C62-2424-4C0A-B4B5-83E516FC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A9E20-6A49-42F8-B1F8-A83016DA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BBFFB-0789-400E-9ECB-AB17D493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6B139-B539-4F12-A8F4-0DD4BFEC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351C-F3C4-479C-832C-99620CEE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21C94-5EAA-4520-81E4-2243FE7C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0BD31-168B-4C1D-97FB-192144A8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FF978-FCC2-4DB0-B44A-46E49B25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489C5-ED53-4D6F-8C9C-1A67EFE5D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7A518-0CBA-4FF0-B744-1110B43F3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52BA9-F7DF-47CE-B8DF-D76A00BE6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88CDE-97A0-419A-A1DE-CE37B07D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34B1B-5858-4F5E-9E97-5FFFD5E5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E6A91-9736-4C36-811F-12F0E4BA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1CFEC-DFF0-460D-8E56-5295D046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E2D9-FCDA-481D-B7AA-3BCD30BD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3C848-F907-44EF-B3EC-BD656382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E58E4-C48B-43F5-971E-5A8BD702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FE43E-9AC2-45FE-852B-2A90E223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3957E-7B1B-4A6B-AB07-9E8FE649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D0931-9BB2-48BF-A8E1-916346D3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ED499-B982-402F-B5CE-D5E773E79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8C907-A448-4CF4-9D6A-56873AC96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BCB3B-66A4-4C5E-BFAB-0C27926CD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5F1B17-7F4C-48DA-9BC3-540A502E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F895EB-F221-4497-94F8-619151B4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B95774-47A3-4C40-A33C-4041BFADC7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9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D4D578-6881-4B54-9DCF-BB7FD5E71B4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44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AB6AD1-6ED3-4A2E-8CE8-D5A78292A6A1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48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FF03A1-B63B-4528-A3E2-4567A16B535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52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565584-8AE2-4802-8135-FFECFD99ABF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42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4522-4BDF-430A-BBB7-C4368CD5AA14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86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89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B284EF-63F5-4768-B91B-FCAB861AF4A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3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AFF7C0-7A68-4956-80EC-A76716B0B83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7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2B4066-F417-4496-BDAB-3E085F597338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22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8C5898-BEC4-4E7D-B27D-37D7A66EBBD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26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A53523-74A9-4637-90B3-A90633FF940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0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15C9E5-972A-4249-8AD7-7F63A3C2C99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5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CA1B6B-2FE1-4125-BA8E-7EB599C2300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en.wikipedia.org/wiki/File:THFsynthesispathway.png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yridoxine" TargetMode="Externa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106668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bfbfbf"/>
                </a:solidFill>
                <a:latin typeface="Footlight MT Light"/>
              </a:rPr>
              <a:t>Lecturer name: </a:t>
            </a:r>
            <a:r>
              <a:rPr b="0" i="1" lang="en-US" sz="3200" spc="-1" strike="noStrike">
                <a:solidFill>
                  <a:srgbClr val="e46c0a"/>
                </a:solidFill>
                <a:latin typeface="Footlight MT Light"/>
              </a:rPr>
              <a:t>Prof Hanan Habib &amp; Dr. Ali Somi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Footlight MT Light"/>
              </a:rPr>
              <a:t>Department of  Pathology, Microbiology Un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itle 1"/>
          <p:cNvSpPr/>
          <p:nvPr/>
        </p:nvSpPr>
        <p:spPr>
          <a:xfrm>
            <a:off x="304920" y="838080"/>
            <a:ext cx="9296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dce6f2"/>
                </a:solidFill>
                <a:latin typeface="Footlight MT Light"/>
                <a:ea typeface="Century Gothic"/>
              </a:rPr>
              <a:t>Lecture Title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 u="sng">
                <a:solidFill>
                  <a:srgbClr val="fdeada"/>
                </a:solidFill>
                <a:uFillTx/>
                <a:latin typeface="Footlight MT Light"/>
                <a:ea typeface="SimSun"/>
              </a:rPr>
              <a:t>ANTIBIOTICS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4"/>
          <p:cNvSpPr/>
          <p:nvPr/>
        </p:nvSpPr>
        <p:spPr>
          <a:xfrm>
            <a:off x="4114800" y="27432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Footlight MT Light"/>
                <a:ea typeface="Century Gothic"/>
              </a:rPr>
              <a:t>(Foundation Block, Microbiolog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deada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2800" spc="-1" strike="noStrike" u="sng">
                <a:solidFill>
                  <a:srgbClr val="fdeada"/>
                </a:solidFill>
                <a:uFillTx/>
                <a:latin typeface="Footlight MT Light"/>
              </a:rPr>
              <a:t> </a:t>
            </a:r>
            <a:r>
              <a:rPr b="1" lang="en-US" sz="2800" spc="-1" strike="noStrike" u="sng">
                <a:solidFill>
                  <a:srgbClr val="fdeada"/>
                </a:solidFill>
                <a:uFillTx/>
                <a:latin typeface="Footlight MT Light"/>
              </a:rPr>
              <a:t>- LACTAM ANTIBIOTIC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457200" y="1981080"/>
            <a:ext cx="8305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Contain : Beta- Lactam ring &amp; organic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Natural &amp; Semi-synth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Bactericid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Bind to </a:t>
            </a:r>
            <a:r>
              <a:rPr b="0" i="1" lang="en-US" sz="2400" spc="-1" strike="noStrike">
                <a:solidFill>
                  <a:srgbClr val="ffffff"/>
                </a:solidFill>
                <a:latin typeface="Footlight MT Light"/>
              </a:rPr>
              <a:t>PBP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, interfere with trans-peptidation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ff3399"/>
                </a:solidFill>
                <a:uFillTx/>
                <a:latin typeface="Footlight MT Light"/>
              </a:rPr>
              <a:t>Toxicity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Footlight MT Light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mainly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  <a:ea typeface="Arial"/>
              </a:rPr>
              <a:t>hypersensi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  <a:ea typeface="Arial"/>
              </a:rPr>
              <a:t>Anaphylaxis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  <a:ea typeface="Arial"/>
              </a:rPr>
              <a:t>Diarrhea, ..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5334120" y="4267080"/>
            <a:ext cx="28191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fdeada"/>
                </a:solidFill>
                <a:uFillTx/>
                <a:latin typeface="Footlight MT Light"/>
              </a:rPr>
              <a:t>Penicilli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304920" y="16002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ff3399"/>
                </a:solidFill>
                <a:latin typeface="Footlight MT Light"/>
              </a:rPr>
              <a:t>Benzyl penicillin</a:t>
            </a:r>
            <a:r>
              <a:rPr b="1" i="1" lang="en-US" sz="3200" spc="-1" strike="noStrike">
                <a:solidFill>
                  <a:srgbClr val="ffff99"/>
                </a:solidFill>
                <a:latin typeface="Footlight MT Light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ffff99"/>
                </a:solidFill>
                <a:latin typeface="Footlight MT Light"/>
              </a:rPr>
              <a:t>    </a:t>
            </a:r>
            <a:r>
              <a:rPr b="1" i="1" lang="en-US" sz="3200" spc="-1" strike="noStrike">
                <a:solidFill>
                  <a:srgbClr val="ffff99"/>
                </a:solidFill>
                <a:latin typeface="Footlight MT Light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Penicillin 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Footlight MT Light"/>
                <a:ea typeface="Arial"/>
              </a:rPr>
              <a:t>Procaine penicill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  <a:ea typeface="Arial"/>
              </a:rPr>
              <a:t>Benzathine penicil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ff3399"/>
                </a:solidFill>
                <a:latin typeface="Footlight MT Light"/>
              </a:rPr>
              <a:t>Isoxazolyl penicillins</a:t>
            </a:r>
            <a:r>
              <a:rPr b="1" lang="en-US" sz="3200" spc="-1" strike="noStrike">
                <a:solidFill>
                  <a:srgbClr val="000000"/>
                </a:solidFill>
                <a:latin typeface="Footlight MT Light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Footlight MT Light"/>
              </a:rPr>
              <a:t>: 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cloxacillin – </a:t>
            </a:r>
            <a:r>
              <a:rPr b="0" i="1" lang="en-US" sz="3200" spc="-1" strike="noStrike">
                <a:solidFill>
                  <a:srgbClr val="ffffff"/>
                </a:solidFill>
                <a:latin typeface="Footlight MT Light"/>
              </a:rPr>
              <a:t>Staph</a:t>
            </a:r>
            <a:r>
              <a:rPr b="0" i="1" lang="en-US" sz="3200" spc="-1" strike="noStrike">
                <a:solidFill>
                  <a:srgbClr val="000000"/>
                </a:solidFill>
                <a:latin typeface="Footlight MT Ligh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	</a:t>
            </a:r>
            <a:r>
              <a:rPr b="1" i="1" lang="en-US" sz="3200" spc="-1" strike="noStrike">
                <a:solidFill>
                  <a:srgbClr val="ffff99"/>
                </a:solidFill>
                <a:latin typeface="Footlight MT Light"/>
              </a:rPr>
              <a:t>Amino-penicillins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-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ampicillin –</a:t>
            </a:r>
            <a:r>
              <a:rPr b="0" i="1" lang="en-US" sz="3200" spc="-1" strike="noStrike">
                <a:solidFill>
                  <a:srgbClr val="ffffff"/>
                </a:solidFill>
                <a:latin typeface="Footlight MT Light"/>
              </a:rPr>
              <a:t>Enterobacteria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	</a:t>
            </a:r>
            <a:r>
              <a:rPr b="0" i="1" lang="en-US" sz="3200" spc="-1" strike="noStrike">
                <a:solidFill>
                  <a:srgbClr val="fdeada"/>
                </a:solidFill>
                <a:latin typeface="Footlight MT Light"/>
              </a:rPr>
              <a:t>Acylaminopenicillins</a:t>
            </a:r>
            <a:r>
              <a:rPr b="0" lang="en-US" sz="3200" spc="-1" strike="noStrike">
                <a:solidFill>
                  <a:srgbClr val="fdeada"/>
                </a:solidFill>
                <a:latin typeface="Footlight MT Light"/>
              </a:rPr>
              <a:t>: 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piperacillin,mezlocillin-         </a:t>
            </a:r>
            <a:r>
              <a:rPr b="0" i="1" lang="en-US" sz="3200" spc="-1" strike="noStrike">
                <a:solidFill>
                  <a:srgbClr val="ffffff"/>
                </a:solidFill>
                <a:latin typeface="Footlight MT Light"/>
              </a:rPr>
              <a:t>Psudomo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deada"/>
                </a:solidFill>
                <a:uFillTx/>
                <a:latin typeface="Footlight MT Light"/>
              </a:rPr>
              <a:t>CEPHALOSPORI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80880" y="1676520"/>
            <a:ext cx="41148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Footlight MT Light"/>
              </a:rPr>
              <a:t>First  Gene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Footlight MT Light"/>
              </a:rPr>
              <a:t>Cephrad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Footlight MT Light"/>
              </a:rPr>
              <a:t>Ceohalex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Footlight MT Light"/>
              </a:rPr>
              <a:t>Second gene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Footlight MT Light"/>
              </a:rPr>
              <a:t>Cefuroxi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Cephamycin </a:t>
            </a:r>
            <a:r>
              <a:rPr b="1" lang="en-US" sz="2800" spc="-1" strike="noStrike">
                <a:solidFill>
                  <a:srgbClr val="ff3399"/>
                </a:solidFill>
                <a:latin typeface="Footlight MT Light"/>
              </a:rPr>
              <a:t>(Cefoxit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4648320" y="1676520"/>
            <a:ext cx="3809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Footlight MT Light"/>
              </a:rPr>
              <a:t>Third generation</a:t>
            </a:r>
            <a:r>
              <a:rPr b="1" lang="en-US" sz="2800" spc="-1" strike="noStrike" u="sng">
                <a:solidFill>
                  <a:srgbClr val="ffff99"/>
                </a:solidFill>
                <a:uFillTx/>
                <a:latin typeface="Footlight MT Light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Footlight MT Light"/>
              </a:rPr>
              <a:t>expanded spect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Footlight MT Light"/>
              </a:rPr>
              <a:t>eg.  </a:t>
            </a:r>
            <a:r>
              <a:rPr b="1" lang="en-US" sz="2800" spc="-1" strike="noStrike">
                <a:solidFill>
                  <a:srgbClr val="ff3399"/>
                </a:solidFill>
                <a:latin typeface="Footlight MT Light"/>
              </a:rPr>
              <a:t>Ceftriax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Footlight MT Light"/>
              </a:rPr>
              <a:t>       </a:t>
            </a:r>
            <a:r>
              <a:rPr b="1" lang="en-US" sz="2800" spc="-1" strike="noStrike">
                <a:solidFill>
                  <a:srgbClr val="ff3399"/>
                </a:solidFill>
                <a:latin typeface="Footlight MT Light"/>
              </a:rPr>
              <a:t>Ceftazid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Footlight MT Light"/>
              </a:rPr>
              <a:t>Fourth gene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Footlight MT Light"/>
              </a:rPr>
              <a:t>      </a:t>
            </a:r>
            <a:r>
              <a:rPr b="1" lang="en-US" sz="2800" spc="-1" strike="noStrike">
                <a:solidFill>
                  <a:srgbClr val="ff3399"/>
                </a:solidFill>
                <a:latin typeface="Footlight MT Light"/>
              </a:rPr>
              <a:t>Cefep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4400" spc="-1" strike="noStrike">
                <a:solidFill>
                  <a:srgbClr val="fdeada"/>
                </a:solidFill>
                <a:latin typeface="Calibri"/>
                <a:ea typeface="Arial"/>
              </a:rPr>
              <a:t>β</a:t>
            </a:r>
            <a:r>
              <a:rPr b="0" lang="en-US" sz="4400" spc="-1" strike="noStrike">
                <a:solidFill>
                  <a:srgbClr val="fdeada"/>
                </a:solidFill>
                <a:latin typeface="Footlight MT Light"/>
              </a:rPr>
              <a:t>-Lactamase inhibi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Rectangle 3"/>
          <p:cNvSpPr/>
          <p:nvPr/>
        </p:nvSpPr>
        <p:spPr>
          <a:xfrm>
            <a:off x="4572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Calibri"/>
              </a:rPr>
              <a:t>β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-Lactams with no antibacterial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Irreversibly bind to </a:t>
            </a:r>
            <a:r>
              <a:rPr b="0" lang="el-GR" sz="3200" spc="-1" strike="noStrike">
                <a:solidFill>
                  <a:srgbClr val="ffffff"/>
                </a:solidFill>
                <a:latin typeface="Calibri"/>
              </a:rPr>
              <a:t>β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-lactamase enzy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dead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deada"/>
                </a:solidFill>
                <a:latin typeface="Footlight MT Light"/>
              </a:rPr>
              <a:t>Clavulanic acid, Sulbactam, Tazobac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Effective on staph. Penicillinases and broad spectrum </a:t>
            </a:r>
            <a:r>
              <a:rPr b="0" lang="el-GR" sz="3200" spc="-1" strike="noStrike">
                <a:solidFill>
                  <a:srgbClr val="ffffff"/>
                </a:solidFill>
                <a:latin typeface="Calibri"/>
              </a:rPr>
              <a:t>β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-lactam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eg. amoxicillin/clavulanic acid, ticarcillin /clavulanic acid and piperacillin /tazobact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deada"/>
                </a:solidFill>
                <a:latin typeface="Footlight MT Light"/>
              </a:rPr>
              <a:t>VANCOMYC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457200" y="1295280"/>
            <a:ext cx="8381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Glycopept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Bactericidal .Acts on </a:t>
            </a:r>
            <a:r>
              <a:rPr b="0" lang="en-US" sz="2400" spc="-1" strike="noStrike">
                <a:solidFill>
                  <a:srgbClr val="ff3399"/>
                </a:solidFill>
                <a:latin typeface="Footlight MT Light"/>
              </a:rPr>
              <a:t>Gram positive bacteria only</a:t>
            </a: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Inhibit cell wall synthe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Given by </a:t>
            </a:r>
            <a:r>
              <a:rPr b="0" lang="en-US" sz="2400" spc="-1" strike="noStrike">
                <a:solidFill>
                  <a:srgbClr val="ff3399"/>
                </a:solidFill>
                <a:latin typeface="Footlight MT Light"/>
              </a:rPr>
              <a:t>injection</a:t>
            </a: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on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Used for  </a:t>
            </a:r>
            <a:r>
              <a:rPr b="0" i="1" lang="en-US" sz="2400" spc="-1" strike="noStrike">
                <a:solidFill>
                  <a:srgbClr val="fdeada"/>
                </a:solidFill>
                <a:latin typeface="Footlight MT Light"/>
              </a:rPr>
              <a:t>MRSA</a:t>
            </a: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 ,</a:t>
            </a:r>
            <a:r>
              <a:rPr b="0" i="1" lang="en-US" sz="2400" spc="-1" strike="noStrike">
                <a:solidFill>
                  <a:srgbClr val="fdeada"/>
                </a:solidFill>
                <a:latin typeface="Footlight MT Light"/>
              </a:rPr>
              <a:t>S.epidermidis</a:t>
            </a: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, pseudomembranous colit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Red man syndrome ,phlebitis, nephrotoxic &amp; ototox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deada"/>
                </a:solidFill>
                <a:latin typeface="Footlight MT Light"/>
              </a:rPr>
              <a:t>ANTIBIOTICS THAT ALTER CELL MEMBRA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Rectangle 3"/>
          <p:cNvSpPr/>
          <p:nvPr/>
        </p:nvSpPr>
        <p:spPr>
          <a:xfrm>
            <a:off x="533520" y="152388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deada"/>
                </a:solidFill>
                <a:latin typeface="Footlight MT Light"/>
              </a:rPr>
              <a:t>Polymyxin B and Colis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deada"/>
                </a:solidFill>
                <a:latin typeface="Footlight MT Light"/>
              </a:rPr>
              <a:t>Polymyxin B </a:t>
            </a:r>
            <a:r>
              <a:rPr b="1" lang="en-US" sz="2400" spc="-1" strike="noStrike">
                <a:solidFill>
                  <a:srgbClr val="000000"/>
                </a:solidFill>
                <a:latin typeface="Footlight MT Light"/>
              </a:rPr>
              <a:t>:</a:t>
            </a: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A Peptide active against Gram </a:t>
            </a:r>
            <a:r>
              <a:rPr b="1" lang="en-US" sz="2400" spc="-1" strike="noStrike">
                <a:solidFill>
                  <a:srgbClr val="ff3399"/>
                </a:solidFill>
                <a:latin typeface="Footlight MT Light"/>
              </a:rPr>
              <a:t>negative bacteria only</a:t>
            </a:r>
            <a:r>
              <a:rPr b="1" lang="en-US" sz="2400" spc="-1" strike="noStrike">
                <a:solidFill>
                  <a:srgbClr val="000000"/>
                </a:solidFill>
                <a:latin typeface="Footlight MT Light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Bactericid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Only used </a:t>
            </a:r>
            <a:r>
              <a:rPr b="1" i="1" lang="en-US" sz="2400" spc="-1" strike="noStrike">
                <a:solidFill>
                  <a:srgbClr val="ffffff"/>
                </a:solidFill>
                <a:latin typeface="Footlight MT Light"/>
              </a:rPr>
              <a:t>LOCALLY</a:t>
            </a: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 due to serious nephrotox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Colistin used for the treatment of multi-resistant organisms (MRO) such as :</a:t>
            </a:r>
            <a:r>
              <a:rPr b="1" i="1" lang="en-US" sz="2400" spc="-1" strike="noStrike">
                <a:solidFill>
                  <a:srgbClr val="ffffff"/>
                </a:solidFill>
                <a:latin typeface="Footlight MT Light"/>
              </a:rPr>
              <a:t>Pseudomonas</a:t>
            </a: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 and </a:t>
            </a:r>
            <a:r>
              <a:rPr b="1" i="1" lang="en-US" sz="2400" spc="-1" strike="noStrike">
                <a:solidFill>
                  <a:srgbClr val="ffffff"/>
                </a:solidFill>
                <a:latin typeface="Footlight MT Light"/>
              </a:rPr>
              <a:t>Acinetobacter </a:t>
            </a: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infe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deada"/>
                </a:solidFill>
                <a:latin typeface="Footlight MT Light"/>
              </a:rPr>
              <a:t>ANTIBIOTICS  THAT INHIBIT PROTIEN SYNTHE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Rectangle 3"/>
          <p:cNvSpPr/>
          <p:nvPr/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AMINOGLYCOSIDES 30 S ribosomal sub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TETRACYCLINE          30 S ribosomal sub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CHLORAMPHENICOL  50 Sub Unit of 23 r 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MACROLIDES            50 Sub Unit of 23 r 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deada"/>
                </a:solidFill>
                <a:uFillTx/>
                <a:latin typeface="Footlight MT Light"/>
              </a:rPr>
              <a:t>AMINOGLYCOSIDES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3"/>
          <p:cNvSpPr/>
          <p:nvPr/>
        </p:nvSpPr>
        <p:spPr>
          <a:xfrm>
            <a:off x="533520" y="1523880"/>
            <a:ext cx="83055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Bacterici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Acts only on </a:t>
            </a:r>
            <a:r>
              <a:rPr b="0" lang="en-US" sz="3200" spc="-1" strike="noStrike">
                <a:solidFill>
                  <a:srgbClr val="ff3399"/>
                </a:solidFill>
                <a:latin typeface="Footlight MT Light"/>
              </a:rPr>
              <a:t>Gram negative 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deada"/>
                </a:solidFill>
                <a:latin typeface="Footlight MT Light"/>
              </a:rPr>
              <a:t>Streptococci &amp; anaerobes are naturally resi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Examples: Gentamicin ,Amikacin , Neomycin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Given by </a:t>
            </a:r>
            <a:r>
              <a:rPr b="0" lang="en-US" sz="3200" spc="-1" strike="noStrike">
                <a:solidFill>
                  <a:srgbClr val="ff3399"/>
                </a:solidFill>
                <a:latin typeface="Footlight MT Light"/>
              </a:rPr>
              <a:t>injection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Footlight MT Light"/>
              </a:rPr>
              <a:t>Nephrotoxic &amp; Ototoxic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- dose rel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deada"/>
                </a:solidFill>
                <a:uFillTx/>
                <a:latin typeface="Calibri"/>
              </a:rPr>
              <a:t>TETRACYCLIN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3"/>
          <p:cNvSpPr/>
          <p:nvPr/>
        </p:nvSpPr>
        <p:spPr>
          <a:xfrm>
            <a:off x="3049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Broad spectrum , bacteriosta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Oral absor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Intracellular organisms eg. </a:t>
            </a:r>
            <a:r>
              <a:rPr b="0" i="1" lang="en-US" sz="2800" spc="-1" strike="noStrike">
                <a:solidFill>
                  <a:srgbClr val="ff3399"/>
                </a:solidFill>
                <a:latin typeface="Footlight MT Light"/>
              </a:rPr>
              <a:t>Mycoplasma, Chlamydia ,Brucella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also for </a:t>
            </a:r>
            <a:r>
              <a:rPr b="0" i="1" lang="en-US" sz="2800" spc="-1" strike="noStrike">
                <a:solidFill>
                  <a:srgbClr val="ff3399"/>
                </a:solidFill>
                <a:latin typeface="Footlight MT Light"/>
              </a:rPr>
              <a:t>V</a:t>
            </a:r>
            <a:r>
              <a:rPr b="0" lang="en-US" sz="2800" spc="-1" strike="noStrike">
                <a:solidFill>
                  <a:srgbClr val="ff3399"/>
                </a:solidFill>
                <a:latin typeface="Footlight MT Light"/>
              </a:rPr>
              <a:t>. </a:t>
            </a:r>
            <a:r>
              <a:rPr b="0" i="1" lang="en-US" sz="2800" spc="-1" strike="noStrike">
                <a:solidFill>
                  <a:srgbClr val="ff3399"/>
                </a:solidFill>
                <a:latin typeface="Footlight MT Light"/>
              </a:rPr>
              <a:t>cholera  &amp; Nocar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Footlight MT Light"/>
              </a:rPr>
              <a:t>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Short acting: 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  </a:t>
            </a: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Tetracyc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Long acting:   Minocycline , </a:t>
            </a:r>
            <a:r>
              <a:rPr b="0" i="1" lang="en-US" sz="2800" spc="-1" strike="noStrike">
                <a:solidFill>
                  <a:srgbClr val="ffffff"/>
                </a:solidFill>
                <a:latin typeface="Footlight MT Light"/>
              </a:rPr>
              <a:t>Doxycycline</a:t>
            </a: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 ( CSF penetratio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New tetracycline :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Footlight MT Light"/>
              </a:rPr>
              <a:t>Tigycycline</a:t>
            </a:r>
            <a:r>
              <a:rPr b="0" i="1" lang="en-US" sz="2800" spc="-1" strike="noStrike">
                <a:solidFill>
                  <a:srgbClr val="ffffff"/>
                </a:solidFill>
                <a:latin typeface="Footlight MT Light"/>
              </a:rPr>
              <a:t> ( MRSA,MSSA, some Gram negative bacteria  and anaerob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Footlight MT Light"/>
              </a:rPr>
              <a:t>Side effect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Teeth discoloration , GIT disturb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deada"/>
                </a:solidFill>
                <a:latin typeface="Footlight MT Light"/>
              </a:rPr>
              <a:t>CHLORAMPHENIC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Rectangle 3"/>
          <p:cNvSpPr/>
          <p:nvPr/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Broad spectrum ,bacterici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Affects bone marrow cells and cause a plastic ane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Used for severe infections not responding to treatment , also for </a:t>
            </a:r>
            <a:r>
              <a:rPr b="0" lang="en-US" sz="3200" spc="-1" strike="noStrike">
                <a:solidFill>
                  <a:srgbClr val="ff3399"/>
                </a:solidFill>
                <a:latin typeface="Footlight MT Light"/>
              </a:rPr>
              <a:t>Rickettsial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diseases.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itle 1"/>
          <p:cNvSpPr/>
          <p:nvPr/>
        </p:nvSpPr>
        <p:spPr>
          <a:xfrm>
            <a:off x="38088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deada"/>
                </a:solidFill>
                <a:latin typeface="Footlight MT Light"/>
                <a:ea typeface="Century Gothic"/>
              </a:rPr>
              <a:t>Lecture Objectives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dead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deada"/>
                </a:solidFill>
                <a:latin typeface="Footlight MT Light"/>
              </a:rPr>
              <a:t>By the end of this lecture the student should be abl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dead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deada"/>
                </a:solidFill>
                <a:latin typeface="Footlight MT Light"/>
              </a:rPr>
              <a:t>Define antibiotic ,chemotherapy and selective tox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dead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deada"/>
                </a:solidFill>
                <a:latin typeface="Footlight MT Light"/>
              </a:rPr>
              <a:t>Describe the difference between bactericidal  and bacteriostatic antibio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dead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deada"/>
                </a:solidFill>
                <a:latin typeface="Footlight MT Light"/>
              </a:rPr>
              <a:t>Recognize the narrow and broad spectrum antibio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dead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deada"/>
                </a:solidFill>
                <a:latin typeface="Footlight MT Light"/>
              </a:rPr>
              <a:t>Define the therapeutic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deada"/>
                </a:solidFill>
                <a:uFillTx/>
                <a:latin typeface="Footlight MT Light"/>
              </a:rPr>
              <a:t>MACROLID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3"/>
          <p:cNvSpPr/>
          <p:nvPr/>
        </p:nvSpPr>
        <p:spPr>
          <a:xfrm>
            <a:off x="685800" y="1752480"/>
            <a:ext cx="80773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deada"/>
                </a:solidFill>
                <a:latin typeface="Footlight MT Light"/>
              </a:rPr>
              <a:t>Erythromycin &amp; Clindamyc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Bacteriost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Footlight MT Light"/>
              </a:rPr>
              <a:t>Legionella, Camylobacter</a:t>
            </a: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, Gram negative and positive infections for patients allergic to Penicillins and Cephalospori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Clindamycin acts on </a:t>
            </a:r>
            <a:r>
              <a:rPr b="0" lang="en-US" sz="2000" spc="-1" strike="noStrike">
                <a:solidFill>
                  <a:srgbClr val="0000ff"/>
                </a:solidFill>
                <a:latin typeface="Footlight MT Light"/>
              </a:rPr>
              <a:t>anaerobes</a:t>
            </a: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 as 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Cause GIT disturbance, </a:t>
            </a:r>
            <a:r>
              <a:rPr b="0" lang="en-US" sz="2000" spc="-1" strike="noStrike">
                <a:solidFill>
                  <a:srgbClr val="fdeada"/>
                </a:solidFill>
                <a:latin typeface="Footlight MT Light"/>
              </a:rPr>
              <a:t>Pseudomembraneous colit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Footlight MT Light"/>
              </a:rPr>
              <a:t>New Macrolid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     </a:t>
            </a:r>
            <a:r>
              <a:rPr b="0" lang="en-US" sz="2000" spc="-1" strike="noStrike">
                <a:solidFill>
                  <a:srgbClr val="fdeada"/>
                </a:solidFill>
                <a:latin typeface="Footlight MT Light"/>
              </a:rPr>
              <a:t>Azithromycin &amp; Clarithromycin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fdeada"/>
                </a:solidFill>
                <a:uFillTx/>
                <a:latin typeface="Footlight MT Light"/>
              </a:rPr>
              <a:t>ANTIMICROBIALS THAT ACT ON  NUCLEIC ACID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68580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Rifampic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Quinol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Metronidaz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deada"/>
                </a:solidFill>
                <a:uFillTx/>
                <a:latin typeface="Footlight MT Light"/>
              </a:rPr>
              <a:t>RIFAMPICI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Rectangle 3"/>
          <p:cNvSpPr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Semi-synthetic, bactericidal , acts on Gram positive bacteria and selected Gram negative bac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Reserved for Tubercul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Resistance develops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Used in comb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Causes discoloration of body fluids &amp; hepatotox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deada"/>
                </a:solidFill>
                <a:uFillTx/>
                <a:latin typeface="Footlight MT Light"/>
              </a:rPr>
              <a:t>QUINOLONES</a:t>
            </a:r>
            <a:r>
              <a:rPr b="1" lang="en-US" sz="4400" spc="-1" strike="noStrike">
                <a:solidFill>
                  <a:srgbClr val="fdeada"/>
                </a:solidFill>
                <a:latin typeface="Footlight MT Light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3"/>
          <p:cNvSpPr/>
          <p:nvPr/>
        </p:nvSpPr>
        <p:spPr>
          <a:xfrm>
            <a:off x="685800" y="1600200"/>
            <a:ext cx="80773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Synthetic, bactericidal, inhibit DNA </a:t>
            </a:r>
            <a:r>
              <a:rPr b="0" i="1" lang="en-US" sz="2800" spc="-1" strike="noStrike">
                <a:solidFill>
                  <a:srgbClr val="000000"/>
                </a:solidFill>
                <a:latin typeface="Footlight MT Light"/>
              </a:rPr>
              <a:t>Gyrase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 and /or topoisomer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Footlight MT Light"/>
              </a:rPr>
              <a:t>Generation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Footlight MT Ligh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fdeada"/>
                </a:solidFill>
                <a:latin typeface="Footlight MT Light"/>
              </a:rPr>
              <a:t>first generation</a:t>
            </a: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: </a:t>
            </a:r>
            <a:r>
              <a:rPr b="0" lang="en-US" sz="2800" spc="-1" strike="noStrike">
                <a:solidFill>
                  <a:srgbClr val="ff3399"/>
                </a:solidFill>
                <a:latin typeface="Footlight MT Light"/>
              </a:rPr>
              <a:t>nalidexic acid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 –locally ac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fdeada"/>
                </a:solidFill>
                <a:latin typeface="Footlight MT Light"/>
              </a:rPr>
              <a:t>Second generation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: </a:t>
            </a:r>
            <a:r>
              <a:rPr b="0" lang="en-US" sz="2800" spc="-1" strike="noStrike">
                <a:solidFill>
                  <a:srgbClr val="ff3399"/>
                </a:solidFill>
                <a:latin typeface="Footlight MT Light"/>
              </a:rPr>
              <a:t>fluoroquinolones 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eg. ciprofloxacin, norfloxacin, ofloxacin,levofloxac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fdeada"/>
                </a:solidFill>
                <a:latin typeface="Footlight MT Light"/>
              </a:rPr>
              <a:t>Third generation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: </a:t>
            </a:r>
            <a:r>
              <a:rPr b="0" lang="en-US" sz="2800" spc="-1" strike="noStrike">
                <a:solidFill>
                  <a:srgbClr val="ff3399"/>
                </a:solidFill>
                <a:latin typeface="Footlight MT Light"/>
              </a:rPr>
              <a:t>sparfloxacin, gatifloxac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fdeada"/>
                </a:solidFill>
                <a:latin typeface="Footlight MT Light"/>
              </a:rPr>
              <a:t>Fourth generation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: </a:t>
            </a:r>
            <a:r>
              <a:rPr b="0" lang="en-US" sz="2800" spc="-1" strike="noStrike">
                <a:solidFill>
                  <a:srgbClr val="ff3399"/>
                </a:solidFill>
                <a:latin typeface="Footlight MT Light"/>
              </a:rPr>
              <a:t>moxifloxacin, trovafloxac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ootlight MT Light"/>
              </a:rPr>
              <a:t>Side effects:</a:t>
            </a:r>
            <a:r>
              <a:rPr b="0" lang="en-US" sz="3600" spc="-1" strike="noStrike">
                <a:solidFill>
                  <a:srgbClr val="000000"/>
                </a:solidFill>
                <a:latin typeface="Footlight MT Light"/>
              </a:rPr>
              <a:t> on 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cartilage &amp;  hea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deada"/>
                </a:solidFill>
                <a:latin typeface="Footlight MT Light"/>
              </a:rPr>
              <a:t>Metronidazo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Rectangle 3"/>
          <p:cNvSpPr/>
          <p:nvPr/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Nitroimidazole active on </a:t>
            </a:r>
            <a:r>
              <a:rPr b="0" lang="en-US" sz="3200" spc="-1" strike="noStrike">
                <a:solidFill>
                  <a:srgbClr val="ff3399"/>
                </a:solidFill>
                <a:latin typeface="Footlight MT Light"/>
              </a:rPr>
              <a:t>anaerobic bacteria, and para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Caused DNA brea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Used for </a:t>
            </a:r>
            <a:r>
              <a:rPr b="0" i="1" lang="en-US" sz="3200" spc="-1" strike="noStrike">
                <a:solidFill>
                  <a:srgbClr val="000000"/>
                </a:solidFill>
                <a:latin typeface="Footlight MT Light"/>
              </a:rPr>
              <a:t>B.fragilis , Trichomonas vaginalis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, amoebiasis and giardia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fdeada"/>
                </a:solidFill>
                <a:uFillTx/>
                <a:latin typeface="Footlight MT Light"/>
              </a:rPr>
              <a:t>ANTIMETABOLITES ( folate inhibitor s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Rectangle 3"/>
          <p:cNvSpPr/>
          <p:nvPr/>
        </p:nvSpPr>
        <p:spPr>
          <a:xfrm>
            <a:off x="533520" y="1676520"/>
            <a:ext cx="83055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Trimethoprim-Sulfamethoxazole ( TMP-SM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Footlight MT Light"/>
              </a:rPr>
              <a:t>Combination of TMP-SMX called </a:t>
            </a: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:  Bactrim / Sept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Block sequential steps in folic acid 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Footlight MT Light"/>
              </a:rPr>
              <a:t>Used to treat</a:t>
            </a:r>
            <a:r>
              <a:rPr b="0" i="1" lang="en-US" sz="2400" spc="-1" strike="noStrike">
                <a:solidFill>
                  <a:srgbClr val="ff3399"/>
                </a:solidFill>
                <a:latin typeface="Footlight MT Light"/>
              </a:rPr>
              <a:t> :Nocardia, Chlamydia, Protozoa &amp; P.cran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UTI,  LRTI, OM., Sinusitis, infectious diarrh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Side effects:   GIT, hepatitis , bone marrow depression, hyper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3" descr="http://upload.wikimedia.org/wikipedia/en/e/e9/THFsynthesispathway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5880" y="2000160"/>
            <a:ext cx="75722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deada"/>
                </a:solidFill>
                <a:uFillTx/>
                <a:latin typeface="Footlight MT Light"/>
              </a:rPr>
              <a:t>ANTITUBERCULOUS AG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Rectangle 3"/>
          <p:cNvSpPr/>
          <p:nvPr/>
        </p:nvSpPr>
        <p:spPr>
          <a:xfrm>
            <a:off x="457200" y="1676520"/>
            <a:ext cx="35053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Footlight MT Light"/>
              </a:rPr>
              <a:t>First line</a:t>
            </a:r>
            <a:r>
              <a:rPr b="0" lang="en-US" sz="3200" spc="-1" strike="noStrike">
                <a:solidFill>
                  <a:srgbClr val="ff3399"/>
                </a:solidFill>
                <a:latin typeface="Footlight MT Ligh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-  I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RIFAMPIC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ETHAMBUT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PYRAZINAM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5"/>
          <p:cNvSpPr/>
          <p:nvPr/>
        </p:nvSpPr>
        <p:spPr>
          <a:xfrm>
            <a:off x="4495680" y="1676520"/>
            <a:ext cx="4191120" cy="36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Footlight MT Light"/>
                <a:ea typeface="Arial"/>
              </a:rPr>
              <a:t>Second line</a:t>
            </a:r>
            <a:r>
              <a:rPr b="0" lang="en-US" sz="3200" spc="-1" strike="noStrike">
                <a:solidFill>
                  <a:srgbClr val="ff3399"/>
                </a:solidFill>
                <a:latin typeface="Footlight MT Light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  <a:ea typeface="Arial"/>
              </a:rPr>
              <a:t>STREPTOMYC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  <a:ea typeface="Arial"/>
              </a:rPr>
              <a:t>PA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  <a:ea typeface="Arial"/>
              </a:rPr>
              <a:t>CYCLOSER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  <a:ea typeface="Arial"/>
              </a:rPr>
              <a:t>CAPREOMYC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6"/>
          <p:cNvSpPr/>
          <p:nvPr/>
        </p:nvSpPr>
        <p:spPr>
          <a:xfrm>
            <a:off x="3962520" y="175248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fdeada"/>
                </a:solidFill>
                <a:uFillTx/>
                <a:latin typeface="Footlight MT Light"/>
              </a:rPr>
              <a:t>ISONIAZIDE  (IN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3"/>
          <p:cNvSpPr/>
          <p:nvPr/>
        </p:nvSpPr>
        <p:spPr>
          <a:xfrm>
            <a:off x="685800" y="1752480"/>
            <a:ext cx="80773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Bacterici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Affects mycobacteria at different sites of lung t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Used for the treatment &amp; prophylaxis of tubercul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Cause peripheral neuritis(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Footlight MT Light"/>
                <a:hlinkClick r:id="rId1"/>
              </a:rPr>
              <a:t> pyridoxine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(vitamin B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3"/>
          <p:cNvSpPr/>
          <p:nvPr/>
        </p:nvSpPr>
        <p:spPr>
          <a:xfrm>
            <a:off x="685800" y="1981080"/>
            <a:ext cx="3809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Footlight MT Light"/>
              </a:rPr>
              <a:t>Ethambut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BACTERICID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CONCENTRATED IN PHAGOLYSOSOME OF ALVE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OPTIC NEUR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4"/>
          <p:cNvSpPr/>
          <p:nvPr/>
        </p:nvSpPr>
        <p:spPr>
          <a:xfrm>
            <a:off x="510552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Footlight MT Light"/>
                <a:ea typeface="Arial"/>
              </a:rPr>
              <a:t>Pyrazinam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deada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  <a:ea typeface="Arial"/>
              </a:rPr>
              <a:t>ACID ENVIRONMENT OF MACROPH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deada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  <a:ea typeface="Arial"/>
              </a:rPr>
              <a:t>HEPATITIS &amp; ARTHRALG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deada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itle 1"/>
          <p:cNvSpPr/>
          <p:nvPr/>
        </p:nvSpPr>
        <p:spPr>
          <a:xfrm>
            <a:off x="38088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deada"/>
                </a:solidFill>
                <a:latin typeface="Footlight MT Light"/>
                <a:ea typeface="Century Gothic"/>
              </a:rPr>
              <a:t>Lecture Objectives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dead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deada"/>
                </a:solidFill>
                <a:latin typeface="Footlight MT Light"/>
              </a:rPr>
              <a:t>Know the mechanism of action of antimicrobial ag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dead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deada"/>
                </a:solidFill>
                <a:latin typeface="Footlight MT Light"/>
              </a:rPr>
              <a:t>Recognize the various classes of antimicrobial agents(action, spectrum and side effec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dead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deada"/>
                </a:solidFill>
                <a:latin typeface="Footlight MT Light"/>
              </a:rPr>
              <a:t>Explain the criteria for an ideal antimicrob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deada"/>
                </a:solidFill>
                <a:uFillTx/>
                <a:latin typeface="Footlight MT Light"/>
              </a:rPr>
              <a:t>ANTIBIOTIC RESISTANCE IN BACTE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Rectangle 3"/>
          <p:cNvSpPr/>
          <p:nvPr/>
        </p:nvSpPr>
        <p:spPr>
          <a:xfrm>
            <a:off x="533520" y="175248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INDISCRIMINATE USE OF ANTIMICROB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Footlight MT Light"/>
              </a:rPr>
              <a:t>SELECTIVE ADVANTAGE OF ANTIBIO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Footlight MT Light"/>
              </a:rPr>
              <a:t>TYPES OF RESISTA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ootlight MT Light"/>
              </a:rPr>
              <a:t>PRIMARY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Footlight MT Light"/>
              </a:rPr>
              <a:t>Innate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  eg. </a:t>
            </a:r>
            <a:r>
              <a:rPr b="0" i="1" lang="en-US" sz="2800" spc="-1" strike="noStrike">
                <a:solidFill>
                  <a:srgbClr val="000000"/>
                </a:solidFill>
                <a:latin typeface="Footlight MT Light"/>
              </a:rPr>
              <a:t>Streptococcus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 &amp; anaerobes are resistant to gentamic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deada"/>
                </a:solidFill>
                <a:latin typeface="Footlight MT Light"/>
              </a:rPr>
              <a:t>ANTIBIOTIC RESISTANCE IN BACTERIA (Continue</a:t>
            </a:r>
            <a:r>
              <a:rPr b="1" lang="en-US" sz="2400" spc="-1" strike="noStrike" u="sng">
                <a:solidFill>
                  <a:srgbClr val="fdeada"/>
                </a:solidFill>
                <a:uFillTx/>
                <a:latin typeface="Footlight MT Ligh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3"/>
          <p:cNvSpPr/>
          <p:nvPr/>
        </p:nvSpPr>
        <p:spPr>
          <a:xfrm>
            <a:off x="380880" y="1371600"/>
            <a:ext cx="80773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deada"/>
                </a:solidFill>
                <a:latin typeface="Footlight MT Light"/>
              </a:rPr>
              <a:t>Acquired resistanc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ootlight MT Light"/>
              </a:rPr>
              <a:t>1-  </a:t>
            </a:r>
            <a:r>
              <a:rPr b="1" lang="en-US" sz="1800" spc="-1" strike="noStrike">
                <a:solidFill>
                  <a:srgbClr val="ff3399"/>
                </a:solidFill>
                <a:latin typeface="Footlight MT Light"/>
              </a:rPr>
              <a:t>MUTATION</a:t>
            </a:r>
            <a:r>
              <a:rPr b="0" lang="en-US" sz="1800" spc="-1" strike="noStrike">
                <a:solidFill>
                  <a:srgbClr val="000000"/>
                </a:solidFill>
                <a:latin typeface="Footlight MT Light"/>
              </a:rPr>
              <a:t>:   MTB RESISTANT  TO SRTEPTOMYC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2- </a:t>
            </a:r>
            <a:r>
              <a:rPr b="1" lang="en-US" sz="2000" spc="-1" strike="noStrike">
                <a:solidFill>
                  <a:srgbClr val="ff3399"/>
                </a:solidFill>
                <a:latin typeface="Footlight MT Light"/>
              </a:rPr>
              <a:t>GENE TRANSFER</a:t>
            </a: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:   plasmid mediated or through transpo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deada"/>
                </a:solidFill>
                <a:latin typeface="Footlight MT Light"/>
              </a:rPr>
              <a:t>Cross resistance </a:t>
            </a: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Resistance to one group confer resistance to  other drug of the same group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eg. Resistance to </a:t>
            </a:r>
            <a:r>
              <a:rPr b="0" lang="en-US" sz="2400" spc="-1" strike="noStrike">
                <a:solidFill>
                  <a:srgbClr val="ff3399"/>
                </a:solidFill>
                <a:latin typeface="Footlight MT Light"/>
              </a:rPr>
              <a:t>erythromycin</a:t>
            </a: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 and </a:t>
            </a:r>
            <a:r>
              <a:rPr b="0" lang="en-US" sz="2400" spc="-1" strike="noStrike">
                <a:solidFill>
                  <a:srgbClr val="ff3399"/>
                </a:solidFill>
                <a:latin typeface="Footlight MT Light"/>
              </a:rPr>
              <a:t>clindamyc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deada"/>
                </a:solidFill>
                <a:latin typeface="Footlight MT Light"/>
              </a:rPr>
              <a:t>Dissociate resistance</a:t>
            </a: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resistance to </a:t>
            </a:r>
            <a:r>
              <a:rPr b="0" lang="en-US" sz="2400" spc="-1" strike="noStrike">
                <a:solidFill>
                  <a:srgbClr val="ff3399"/>
                </a:solidFill>
                <a:latin typeface="Footlight MT Light"/>
              </a:rPr>
              <a:t>gentamicin</a:t>
            </a: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 does not confer resistance to </a:t>
            </a:r>
            <a:r>
              <a:rPr b="0" lang="en-US" sz="2400" spc="-1" strike="noStrike">
                <a:solidFill>
                  <a:srgbClr val="ff3399"/>
                </a:solidFill>
                <a:latin typeface="Footlight MT Light"/>
              </a:rPr>
              <a:t>tobramicin</a:t>
            </a: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fdeada"/>
                </a:solidFill>
                <a:uFillTx/>
                <a:latin typeface="Footlight MT Light"/>
              </a:rPr>
              <a:t>MECHANISMS OR RESIST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Rectangle 3"/>
          <p:cNvSpPr/>
          <p:nvPr/>
        </p:nvSpPr>
        <p:spPr>
          <a:xfrm>
            <a:off x="609480" y="1371600"/>
            <a:ext cx="8001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1- Permeability 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2- modification of site of action, eg. </a:t>
            </a:r>
            <a:r>
              <a:rPr b="1" lang="en-US" sz="2800" spc="-1" strike="noStrike">
                <a:solidFill>
                  <a:srgbClr val="fdeada"/>
                </a:solidFill>
                <a:latin typeface="Footlight MT Light"/>
              </a:rPr>
              <a:t>M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3- inactivation by enzymes . eg. Beta- Lactamase &amp;  aminoglycoside inactivating enzy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4- passing blocked metabolic reaction eg. </a:t>
            </a:r>
            <a:r>
              <a:rPr b="0" i="1" lang="en-US" sz="2800" spc="-1" strike="noStrike">
                <a:solidFill>
                  <a:srgbClr val="fdeada"/>
                </a:solidFill>
                <a:latin typeface="Footlight MT Light"/>
              </a:rPr>
              <a:t>PABA</a:t>
            </a: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	</a:t>
            </a: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---------folic acid , plasmid medi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ad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4"/>
          <p:cNvSpPr/>
          <p:nvPr/>
        </p:nvSpPr>
        <p:spPr>
          <a:xfrm>
            <a:off x="196920" y="5068800"/>
            <a:ext cx="761760" cy="228600"/>
          </a:xfrm>
          <a:prstGeom prst="rightArrow">
            <a:avLst>
              <a:gd name="adj1" fmla="val 50000"/>
              <a:gd name="adj2" fmla="val 8330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deada"/>
                </a:solidFill>
                <a:uFillTx/>
                <a:latin typeface="Footlight MT Light"/>
              </a:rPr>
              <a:t>PRINCIPLES OF ANTIMICROBIAL THERAP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Rectangle 3"/>
          <p:cNvSpPr/>
          <p:nvPr/>
        </p:nvSpPr>
        <p:spPr>
          <a:xfrm>
            <a:off x="2286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IN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CHOICE OF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RO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DO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D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EXCRE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TOX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COMB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Footlight MT Light"/>
              </a:rPr>
              <a:t>PROPHYLAXIS</a:t>
            </a:r>
            <a:r>
              <a:rPr b="0" lang="en-US" sz="2800" spc="-1" strike="noStrike">
                <a:solidFill>
                  <a:srgbClr val="ff3399"/>
                </a:solidFill>
                <a:latin typeface="Footlight MT Ligh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4"/>
          <p:cNvSpPr/>
          <p:nvPr/>
        </p:nvSpPr>
        <p:spPr>
          <a:xfrm>
            <a:off x="4191120" y="1981080"/>
            <a:ext cx="42670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3399"/>
                </a:solidFill>
                <a:uFillTx/>
                <a:latin typeface="Footlight MT Light"/>
              </a:rPr>
              <a:t>SHORT TERM</a:t>
            </a:r>
            <a:r>
              <a:rPr b="0" lang="en-US" sz="2800" spc="-1" strike="noStrike" u="sng">
                <a:solidFill>
                  <a:srgbClr val="ffff99"/>
                </a:solidFill>
                <a:uFillTx/>
                <a:latin typeface="Footlight MT Ligh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MENING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3399"/>
                </a:solidFill>
                <a:uFillTx/>
                <a:latin typeface="Footlight MT Light"/>
              </a:rPr>
              <a:t>LONG TERM</a:t>
            </a:r>
            <a:r>
              <a:rPr b="0" lang="en-US" sz="2800" spc="-1" strike="noStrike" u="sng">
                <a:solidFill>
                  <a:srgbClr val="ffff99"/>
                </a:solidFill>
                <a:uFillTx/>
                <a:latin typeface="Footlight MT Light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TB, UTI , RHEUMATIC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fdeada"/>
                </a:solidFill>
                <a:uFillTx/>
                <a:latin typeface="Footlight MT Light"/>
              </a:rPr>
              <a:t>CRITERIA FOR IDEAL ANTIMICROBI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Rectangle 3"/>
          <p:cNvSpPr/>
          <p:nvPr/>
        </p:nvSpPr>
        <p:spPr>
          <a:xfrm>
            <a:off x="685800" y="1447920"/>
            <a:ext cx="80773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SELECTIVE TOX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NO HYPER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PENETERATE TISSUES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RESISTANCE NOT DEVELOP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NO EFFECT ON NORMAL FL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BROAD 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ad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ad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eeece1"/>
                </a:solidFill>
                <a:latin typeface="Footlight MT Light"/>
                <a:ea typeface="Century Gothic"/>
              </a:rPr>
              <a:t>Reference book and the relevant page numbers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228240" y="202716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dead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deada"/>
                </a:solidFill>
                <a:latin typeface="Footlight MT Light"/>
              </a:rPr>
              <a:t>Sherries Medical Microbiology, an introduction to Infectious Diseases. </a:t>
            </a:r>
            <a:r>
              <a:rPr b="0" lang="en-US" sz="3200" spc="-1" strike="noStrike">
                <a:solidFill>
                  <a:srgbClr val="fdeada"/>
                </a:solidFill>
                <a:latin typeface="Footlight MT Light"/>
              </a:rPr>
              <a:t>Latest edition, Kenneth Ryan and George Ray. Publisher: Mc Graw Hi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35053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e46c0a"/>
                </a:solidFill>
                <a:latin typeface="Footlight MT Light"/>
              </a:rPr>
              <a:t>Prof Hanan Habib &amp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e46c0a"/>
                </a:solidFill>
                <a:latin typeface="Footlight MT Light"/>
              </a:rPr>
              <a:t>Dr. Ali Somi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TextBox 4"/>
          <p:cNvSpPr/>
          <p:nvPr/>
        </p:nvSpPr>
        <p:spPr>
          <a:xfrm>
            <a:off x="4114800" y="27432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eeece1"/>
                </a:solidFill>
                <a:latin typeface="Century Gothic"/>
                <a:ea typeface="Century Gothic"/>
              </a:rPr>
              <a:t>(Foundation Block, Microbiolog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title"/>
          </p:nvPr>
        </p:nvSpPr>
        <p:spPr>
          <a:xfrm>
            <a:off x="-990720" y="761760"/>
            <a:ext cx="92966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500" spc="-1" strike="noStrike" u="sng">
                <a:solidFill>
                  <a:srgbClr val="eeece1"/>
                </a:solidFill>
                <a:uFillTx/>
                <a:latin typeface="Century Gothic"/>
                <a:ea typeface="Century Gothic"/>
              </a:rPr>
              <a:t>T</a:t>
            </a:r>
            <a:r>
              <a:rPr b="1" lang="en-US" sz="6600" spc="-1" strike="noStrike">
                <a:solidFill>
                  <a:srgbClr val="eeece1"/>
                </a:solidFill>
                <a:latin typeface="Century Gothic"/>
                <a:ea typeface="Century Gothic"/>
              </a:rPr>
              <a:t>hank You </a:t>
            </a:r>
            <a:r>
              <a:rPr b="1" lang="en-US" sz="6600" spc="-1" strike="noStrike">
                <a:solidFill>
                  <a:srgbClr val="eeece1"/>
                </a:solidFill>
                <a:latin typeface="Wingdings"/>
                <a:ea typeface="Wingdings"/>
              </a:rPr>
              <a:t>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deada"/>
                </a:solidFill>
                <a:latin typeface="Footlight MT Light"/>
              </a:rPr>
              <a:t>ANTIMICROBIAL AG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228600" y="175248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Footlight MT Light"/>
              </a:rPr>
              <a:t>ANTIBIOTICS:</a:t>
            </a:r>
            <a:r>
              <a:rPr b="1" lang="en-US" sz="2800" spc="-1" strike="noStrike">
                <a:solidFill>
                  <a:srgbClr val="ffff99"/>
                </a:solidFill>
                <a:latin typeface="Footlight MT Ligh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Footlight MT Light"/>
              </a:rPr>
              <a:t>Natural compounds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 </a:t>
            </a: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produced by microorganism  which inhibit the growth of other microorgan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Footlight MT Light"/>
              </a:rPr>
              <a:t>CHEMOTHERAP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Footlight MT Light"/>
              </a:rPr>
              <a:t>Synthetic compounds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Footlight MT Light"/>
              </a:rPr>
              <a:t>Antimicrobial agents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3"/>
          <p:cNvSpPr/>
          <p:nvPr/>
        </p:nvSpPr>
        <p:spPr>
          <a:xfrm>
            <a:off x="304920" y="83808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Footlight MT Light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 u="sng">
                <a:solidFill>
                  <a:srgbClr val="ff3399"/>
                </a:solidFill>
                <a:uFillTx/>
                <a:latin typeface="Footlight MT Light"/>
              </a:rPr>
              <a:t>BACTERICIDAL</a:t>
            </a:r>
            <a:r>
              <a:rPr b="1" lang="en-US" sz="2400" spc="-1" strike="noStrike">
                <a:solidFill>
                  <a:srgbClr val="fdeada"/>
                </a:solidFill>
                <a:latin typeface="Footlight MT Light"/>
              </a:rPr>
              <a:t>:    </a:t>
            </a: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kills 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 u="sng">
                <a:solidFill>
                  <a:srgbClr val="ff3399"/>
                </a:solidFill>
                <a:uFillTx/>
                <a:latin typeface="Footlight MT Light"/>
              </a:rPr>
              <a:t>BACTERIOSTATIC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Footlight MT Light"/>
              </a:rPr>
              <a:t>:</a:t>
            </a: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Footlight MT Light"/>
              </a:rPr>
              <a:t> </a:t>
            </a: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prevents multiplication</a:t>
            </a:r>
            <a:r>
              <a:rPr b="1" lang="en-US" sz="2400" spc="-1" strike="noStrike">
                <a:solidFill>
                  <a:srgbClr val="fdeada"/>
                </a:solidFill>
                <a:latin typeface="Footlight MT Ligh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Footlight MT Light"/>
              </a:rPr>
              <a:t>Spectrum of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Footlight MT Light"/>
              </a:rPr>
              <a:t>Broad spectrum</a:t>
            </a: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: </a:t>
            </a: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Gram positive &amp; Gram negative  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Footlight MT Light"/>
              </a:rPr>
              <a:t>Narrow spectrum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 : </a:t>
            </a: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selected org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Activity of Antibio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TOXICITY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LECTIVE TOXICIT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just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bility to kill or inhibit the growth of a microorganism without harming the host cel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just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RAPEUTIC INDEX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just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RATIO of the dose toxic to the host to the effective therapeutic do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just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just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nicillin:  Hi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just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inoglycosides : 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just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lymyxin B :   the lowes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deada"/>
                </a:solidFill>
                <a:latin typeface="Footlight MT Light"/>
              </a:rPr>
              <a:t>MECHANISMS OF ACTION OF ANTIMICROB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228600" y="1981080"/>
            <a:ext cx="8915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1)  Inhibition of</a:t>
            </a:r>
            <a:r>
              <a:rPr b="1" lang="en-US" sz="2800" spc="-1" strike="noStrike">
                <a:solidFill>
                  <a:srgbClr val="fdeada"/>
                </a:solidFill>
                <a:latin typeface="Footlight MT Light"/>
              </a:rPr>
              <a:t> cell wall </a:t>
            </a: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synthe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2)  alteration of </a:t>
            </a:r>
            <a:r>
              <a:rPr b="1" lang="en-US" sz="2800" spc="-1" strike="noStrike">
                <a:solidFill>
                  <a:srgbClr val="fdeada"/>
                </a:solidFill>
                <a:latin typeface="Footlight MT Light"/>
              </a:rPr>
              <a:t>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3)  Inhibition of </a:t>
            </a:r>
            <a:r>
              <a:rPr b="1" lang="en-US" sz="2800" spc="-1" strike="noStrike">
                <a:solidFill>
                  <a:srgbClr val="fdeada"/>
                </a:solidFill>
                <a:latin typeface="Footlight MT Light"/>
              </a:rPr>
              <a:t>protein 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4)  Inhibition of </a:t>
            </a:r>
            <a:r>
              <a:rPr b="1" lang="en-US" sz="2800" spc="-1" strike="noStrike">
                <a:solidFill>
                  <a:srgbClr val="fdeada"/>
                </a:solidFill>
                <a:latin typeface="Footlight MT Light"/>
              </a:rPr>
              <a:t>nucleic acid 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5) </a:t>
            </a:r>
            <a:r>
              <a:rPr b="1" lang="en-US" sz="2800" spc="-1" strike="noStrike">
                <a:solidFill>
                  <a:srgbClr val="fdeada"/>
                </a:solidFill>
                <a:latin typeface="Footlight MT Light"/>
              </a:rPr>
              <a:t> Anti-metabolite </a:t>
            </a: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OR competitive antagon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deada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5" descr="ANTIBIOTICS"/>
          <p:cNvPicPr/>
          <p:nvPr/>
        </p:nvPicPr>
        <p:blipFill>
          <a:blip r:embed="rId1"/>
          <a:stretch/>
        </p:blipFill>
        <p:spPr>
          <a:xfrm>
            <a:off x="0" y="0"/>
            <a:ext cx="5133960" cy="685800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6"/>
          <p:cNvSpPr/>
          <p:nvPr/>
        </p:nvSpPr>
        <p:spPr>
          <a:xfrm>
            <a:off x="5133960" y="1557360"/>
            <a:ext cx="416232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Mechanism of A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4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nhibition of Cell Wall Syn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4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Disruption of Cell Memb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4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nhibition of Protein Syn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4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nterference with Metabolic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7"/>
          <p:cNvSpPr/>
          <p:nvPr/>
        </p:nvSpPr>
        <p:spPr>
          <a:xfrm>
            <a:off x="6257880" y="5486400"/>
            <a:ext cx="155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N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Bactericid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Bacteriost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deada"/>
                </a:solidFill>
                <a:latin typeface="Footlight MT Light"/>
              </a:rPr>
              <a:t>ANTIMICROBIALS THAT  INHIBIT CELL WALL SYNTHESI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 </a:t>
            </a:r>
            <a:r>
              <a:rPr b="1" lang="en-US" sz="2400" spc="-1" strike="noStrike">
                <a:solidFill>
                  <a:srgbClr val="fdeada"/>
                </a:solidFill>
                <a:latin typeface="Footlight MT Light"/>
              </a:rPr>
              <a:t>1- Beta –Lactam antimicrobial agents</a:t>
            </a: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  <a:ea typeface="Arial"/>
              </a:rPr>
              <a:t>    </a:t>
            </a:r>
            <a:r>
              <a:rPr b="0" lang="en-US" sz="2800" spc="-1" strike="noStrike">
                <a:solidFill>
                  <a:srgbClr val="fdeada"/>
                </a:solidFill>
                <a:latin typeface="Footlight MT Light"/>
                <a:ea typeface="Arial"/>
              </a:rPr>
              <a:t>Penicill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  <a:ea typeface="Arial"/>
              </a:rPr>
              <a:t>   </a:t>
            </a:r>
            <a:r>
              <a:rPr b="0" lang="en-US" sz="2800" spc="-1" strike="noStrike">
                <a:solidFill>
                  <a:srgbClr val="fdeada"/>
                </a:solidFill>
                <a:latin typeface="Footlight MT Light"/>
                <a:ea typeface="Arial"/>
              </a:rPr>
              <a:t>Cephalospor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  <a:ea typeface="Arial"/>
              </a:rPr>
              <a:t>   </a:t>
            </a:r>
            <a:r>
              <a:rPr b="0" lang="en-US" sz="2800" spc="-1" strike="noStrike">
                <a:solidFill>
                  <a:srgbClr val="fdeada"/>
                </a:solidFill>
                <a:latin typeface="Footlight MT Light"/>
                <a:ea typeface="Arial"/>
              </a:rPr>
              <a:t>Cephamyc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  <a:ea typeface="Arial"/>
              </a:rPr>
              <a:t>   </a:t>
            </a:r>
            <a:r>
              <a:rPr b="0" lang="en-US" sz="2800" spc="-1" strike="noStrike">
                <a:solidFill>
                  <a:srgbClr val="fdeada"/>
                </a:solidFill>
                <a:latin typeface="Footlight MT Light"/>
                <a:ea typeface="Arial"/>
              </a:rPr>
              <a:t>Carbapenems ( imipenem &amp; meropen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  <a:ea typeface="Arial"/>
              </a:rPr>
              <a:t>   </a:t>
            </a:r>
            <a:r>
              <a:rPr b="0" lang="en-US" sz="2800" spc="-1" strike="noStrike">
                <a:solidFill>
                  <a:srgbClr val="fdeada"/>
                </a:solidFill>
                <a:latin typeface="Footlight MT Light"/>
                <a:ea typeface="Arial"/>
              </a:rPr>
              <a:t>Monobactam (aztreon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  <a:ea typeface="Arial"/>
              </a:rPr>
              <a:t>   </a:t>
            </a:r>
            <a:r>
              <a:rPr b="0" lang="en-US" sz="2800" spc="-1" strike="noStrike">
                <a:solidFill>
                  <a:srgbClr val="fdeada"/>
                </a:solidFill>
                <a:latin typeface="Footlight MT Light"/>
                <a:ea typeface="Arial"/>
              </a:rPr>
              <a:t>Beta-lactamase inhib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    </a:t>
            </a:r>
            <a:r>
              <a:rPr b="1" lang="en-US" sz="2400" spc="-1" strike="noStrike">
                <a:solidFill>
                  <a:srgbClr val="fdeada"/>
                </a:solidFill>
                <a:latin typeface="Footlight MT Light"/>
              </a:rPr>
              <a:t>2-  Vancomycin</a:t>
            </a: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 ( Teicoplanin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4T17:07:28Z</dcterms:created>
  <dc:creator/>
  <dc:description/>
  <dc:language>en-US</dc:language>
  <cp:lastModifiedBy>DRSUMAILI</cp:lastModifiedBy>
  <dcterms:modified xsi:type="dcterms:W3CDTF">2014-11-10T05:47:41Z</dcterms:modified>
  <cp:revision>23</cp:revision>
  <dc:subject/>
  <dc:title>Slide 1</dc:title>
</cp:coreProperties>
</file>