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64E9-8EE0-456B-88D6-9590CF37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51A5-F1D1-404B-B542-2C76569B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B6B0-C461-497B-8DA4-4EC1639C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AF56-0E12-40EB-B7DA-25E2F7C3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F37-CFC4-4DCC-8676-19C6967F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1396-1E86-4C54-BB84-E1FF6953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41C-7224-4308-B06D-5CF9F223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0941-FA64-4754-8649-C7450965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7F63-15D8-4BE3-A1A0-CF1397D5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A51-1D1E-4B85-BAC4-C0CFF71F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3EAB-2B39-4B4A-8B5C-43384547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11A6-5705-4267-8BE0-EF6B855B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A14A6-9234-42E1-96F3-C2AEAE0F1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666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bfbfbf"/>
                </a:solidFill>
                <a:latin typeface="Footlight MT Light"/>
              </a:rPr>
              <a:t>Lecturer name: </a:t>
            </a:r>
            <a:r>
              <a:rPr b="0" i="1" lang="en-US" sz="3200" spc="-1" strike="noStrike">
                <a:solidFill>
                  <a:srgbClr val="e46c0a"/>
                </a:solidFill>
                <a:latin typeface="Footlight MT Light"/>
              </a:rPr>
              <a:t>Prof Hanan Habib &amp; </a:t>
            </a:r>
            <a:r>
              <a:rPr b="1" i="1" lang="en-US" sz="3200" spc="-1" strike="noStrike">
                <a:solidFill>
                  <a:srgbClr val="e46c0a"/>
                </a:solidFill>
                <a:latin typeface="Footlight MT Light"/>
              </a:rPr>
              <a:t>Prof. A.M. Kam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Footlight MT Light"/>
              </a:rPr>
              <a:t>Department of  Pathology, Microbiology 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304920" y="838080"/>
            <a:ext cx="9296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dce6f2"/>
                </a:solidFill>
                <a:latin typeface="Footlight MT Light"/>
                <a:ea typeface="Century Gothic"/>
              </a:rPr>
              <a:t>Lecture Title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ootlight MT Light"/>
              </a:rPr>
              <a:t>NORMAL  FLO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4114800" y="2743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Footlight MT Light"/>
                <a:ea typeface="Century Gothic"/>
              </a:rPr>
              <a:t>(Foundation Block, Microbiolog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Areas of the body with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182880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Footlight MT Light"/>
              </a:rPr>
              <a:t>GIT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:  mouth &amp; large co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Footlight MT Light"/>
              </a:rPr>
              <a:t>Urogenital tract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: vagina &amp; distal 1/3 of the ureth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Footlight MT Light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981080" y="228600"/>
            <a:ext cx="5327640" cy="638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S17"/>
          <p:cNvPicPr/>
          <p:nvPr/>
        </p:nvPicPr>
        <p:blipFill>
          <a:blip r:embed="rId2"/>
          <a:stretch/>
        </p:blipFill>
        <p:spPr>
          <a:xfrm>
            <a:off x="685800" y="762120"/>
            <a:ext cx="7201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Normal flora of the respiratory tr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0492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Upper resp.tract colonizes by flora as in mouth &amp; nasophary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Lower respiratory tract  is ster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NOSE:   - </a:t>
            </a: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Staph. epidermid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              </a:t>
            </a: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- Staph. aur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              </a:t>
            </a: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-Coryne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Oropharynx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30492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Viridance streptococ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Commensal neisser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Coryne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Bactero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Fusobacteria , Veillonella, actinomyces, spirochae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Heamophilus inflenzea &amp; Pneumcoccus are potential patho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Less common: </a:t>
            </a:r>
            <a:r>
              <a:rPr b="0" i="1" lang="en-US" sz="2400" spc="-1" strike="noStrike">
                <a:solidFill>
                  <a:srgbClr val="f2f2f2"/>
                </a:solidFill>
                <a:latin typeface="Footlight MT Light"/>
              </a:rPr>
              <a:t>S.pyogenes ,N.meningiti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Gastrointestinal tract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0492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Saliva contains 10</a:t>
            </a:r>
            <a:r>
              <a:rPr b="0" lang="en-US" sz="3200" spc="-1" strike="noStrike" baseline="30000">
                <a:solidFill>
                  <a:srgbClr val="f2f2f2"/>
                </a:solidFill>
                <a:latin typeface="Footlight MT Light"/>
              </a:rPr>
              <a:t>8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 bact/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Gingival margin debris &amp;dent. Plaque contiually  colonized by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Oesophagus flora as pharyngeal fl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Empty stomach sterile due to gastric ac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Duodenum, jejunum&amp;upper ielum have scanty fl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Large intestine heavily colonized by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Fae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1/3 of faeces wt. is bacteria , mainly de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Living bacteria ~ 10</a:t>
            </a:r>
            <a:r>
              <a:rPr b="0" lang="en-US" sz="3200" spc="-1" strike="noStrike" baseline="30000">
                <a:solidFill>
                  <a:srgbClr val="f2f2f2"/>
                </a:solidFill>
                <a:latin typeface="Footlight MT Light"/>
              </a:rPr>
              <a:t>10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/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99% an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Anaerobic environment maintained by aerobic bacteria utilizing free O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Bacteroides fragilis group the dominant anaerobes, bifidobact. Lactobacilli…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Less common: E.coli ,Proteus,….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Genital tract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" y="1790640"/>
            <a:ext cx="8305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Female genital tract heavily colonized , wh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10</a:t>
            </a:r>
            <a:r>
              <a:rPr b="0" lang="en-US" sz="3200" spc="-1" strike="noStrike" baseline="30000">
                <a:solidFill>
                  <a:srgbClr val="f2f2f2"/>
                </a:solidFill>
                <a:latin typeface="Footlight MT Light"/>
              </a:rPr>
              <a:t>8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/ml  in normal vaginal se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In both sexes Mycob. Smegmatis (AFB) in secretions which contaminate urine-leads to confusion /misdiagn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M &amp; F distal urethra: - S.epidermidis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                                      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- coryne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                                      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-Mycoplas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Female Vul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0492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S. epidermidis , corynebacteria, E.coli and othe coliforms  &amp; St. faecal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Vagin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lactobacilli (Doderlein’s bacil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 Bacteroides melaninogeni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S.faec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 coryne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Myco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 Ye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Normal Skin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2860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Skin has rich resident bacterial flora(10</a:t>
            </a:r>
            <a:r>
              <a:rPr b="0" lang="en-US" sz="3200" spc="-1" strike="noStrike" baseline="30000">
                <a:solidFill>
                  <a:srgbClr val="f2f2f2"/>
                </a:solidFill>
                <a:latin typeface="Footlight MT Light"/>
              </a:rPr>
              <a:t>4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/cm</a:t>
            </a:r>
            <a:r>
              <a:rPr b="0" lang="en-US" sz="3200" spc="-1" strike="noStrike" baseline="30000">
                <a:solidFill>
                  <a:srgbClr val="f2f2f2"/>
                </a:solidFill>
                <a:latin typeface="Footlight MT Light"/>
              </a:rPr>
              <a:t>2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Exist as microcolon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Ano2 organisms predomonate in aeras with sebaceous g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Moist skin ,often colonized by colifo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3808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bfbfbf"/>
                </a:solidFill>
                <a:latin typeface="Footlight MT Light"/>
                <a:ea typeface="Century Gothic"/>
              </a:rPr>
              <a:t>Lecture Objectives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380880" y="3505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Footlight MT Light"/>
              </a:rPr>
              <a:t>By the end of this lecture the student is expected to be a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Define the terms: </a:t>
            </a:r>
            <a:r>
              <a:rPr b="0" i="1" lang="en-US" sz="2000" spc="-1" strike="noStrike">
                <a:solidFill>
                  <a:srgbClr val="f2f2f2"/>
                </a:solidFill>
                <a:latin typeface="Footlight MT Light"/>
              </a:rPr>
              <a:t>Normal Flora, Resident flora, Transient flora</a:t>
            </a: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 and carrier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Know the origin of normal fl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Know the importance of normal flora with examples, including importance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Source of opportunistic inf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Immunostim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Nutrition: Vitamins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Production of Carcinog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Protection against external inva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 startAt="4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Know areas of the body with normal flora (GIT, Urogenital tract, and skin) and most common types of organism in these areas and relation to pathogenicity of thes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 startAt="4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Know sites of the body with no normal flora e.g. sterile body sites and the importance of this fact in relation to interpretation of culture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Main Skin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0492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Propionibacterium ac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Anaerobic coc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S. epidermi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Coryne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S. aureus  (less common, potential patho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Coli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External auditory meat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22860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. epidermi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Coryne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AFB occasionally in wa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Footlight MT Light"/>
              </a:rPr>
              <a:t>CONJUNCTIVAL SAC FL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-Corynebacterium xe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- S.epidrmi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eece1"/>
                </a:solidFill>
                <a:latin typeface="Footlight MT Light"/>
                <a:ea typeface="Century Gothic"/>
              </a:rPr>
              <a:t>Reference book and the relevant page numbers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1760" y="18288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SHERRIS MEDICAL MICROBIOLOGY, AN INTRODUCTION TO INFECTIOUS DISEASES. KENNETH RYAN /GEORGE RAY. LATEST EDITION. PUBLISHER MC GRW HI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CHAPTER 9,PAGE 141-1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5053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e46c0a"/>
                </a:solidFill>
                <a:latin typeface="Footlight MT Light"/>
              </a:rPr>
              <a:t>Prof Hanan Habib &amp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e46c0a"/>
                </a:solidFill>
                <a:latin typeface="Footlight MT Light"/>
              </a:rPr>
              <a:t>Prof. A.M. Kam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4114800" y="2743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Century Gothic"/>
                <a:ea typeface="Century Gothic"/>
              </a:rPr>
              <a:t>(Foundation Block, Microbiolog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-990720" y="761760"/>
            <a:ext cx="92966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500" spc="-1" strike="noStrike" u="sng">
                <a:solidFill>
                  <a:srgbClr val="eeece1"/>
                </a:solidFill>
                <a:uFillTx/>
                <a:latin typeface="Century Gothic"/>
                <a:ea typeface="Century Gothic"/>
              </a:rPr>
              <a:t>T</a:t>
            </a:r>
            <a:r>
              <a:rPr b="1" lang="en-US" sz="6600" spc="-1" strike="noStrike">
                <a:solidFill>
                  <a:srgbClr val="eeece1"/>
                </a:solidFill>
                <a:latin typeface="Century Gothic"/>
                <a:ea typeface="Century Gothic"/>
              </a:rPr>
              <a:t>hank You </a:t>
            </a:r>
            <a:r>
              <a:rPr b="1" lang="en-US" sz="6600" spc="-1" strike="noStrike">
                <a:solidFill>
                  <a:srgbClr val="eeece1"/>
                </a:solidFill>
                <a:latin typeface="Wingdings"/>
                <a:ea typeface="Wingdings"/>
              </a:rPr>
              <a:t>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8088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Normal flora  are microorganisms that are frequently found in a particular site in normal healthy individ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ome are found in association with humans / animals only. </a:t>
            </a:r>
            <a:r>
              <a:rPr b="0" lang="en-US" sz="3200" spc="-1" strike="noStrike">
                <a:solidFill>
                  <a:srgbClr val="ff00ff"/>
                </a:solidFill>
                <a:latin typeface="Footlight MT Light"/>
              </a:rPr>
              <a:t>The Majority are bacteria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Symbolic relationship with the 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ubject to constant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Altered by antimicrobial ag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Types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cc0099"/>
                </a:solidFill>
                <a:latin typeface="Footlight MT Light"/>
              </a:rPr>
              <a:t>Commensal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:   natural relationship with 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cc0099"/>
                </a:solidFill>
                <a:latin typeface="Footlight MT Light"/>
              </a:rPr>
              <a:t>Residen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Footlight MT Light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 present for invariable perio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cc0099"/>
                </a:solidFill>
                <a:latin typeface="Footlight MT Light"/>
              </a:rPr>
              <a:t>Transients</a:t>
            </a:r>
            <a:r>
              <a:rPr b="0" lang="en-US" sz="3200" spc="-1" strike="noStrike">
                <a:solidFill>
                  <a:srgbClr val="cc0099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: establish itself briefly , excluded by host defence or competition from resi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cc0099"/>
                </a:solidFill>
                <a:latin typeface="Footlight MT Light"/>
              </a:rPr>
              <a:t>Carrier state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: potentially pathogenic , eg. S.pneumoniae,  N. meningetidis in throat of healthy individ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00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Origin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8736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Newborn sterile in ut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After birth ,exposed to flora of mother’s genital tract,skin, respiratory tract flora of those handling him ,and organisms in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pe01682_"/>
          <p:cNvPicPr/>
          <p:nvPr/>
        </p:nvPicPr>
        <p:blipFill>
          <a:blip r:embed="rId2"/>
          <a:stretch/>
        </p:blipFill>
        <p:spPr>
          <a:xfrm>
            <a:off x="5410080" y="3809880"/>
            <a:ext cx="3159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Beneficial effects 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1- </a:t>
            </a: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Immunostimulation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(antibody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2- </a:t>
            </a: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Exclusionary effect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(vacuum effect ) and protection from external invader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3-Production of essential nutrient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(vit. </a:t>
            </a:r>
            <a:r>
              <a:rPr b="0" lang="en-US" sz="3200" spc="-1" strike="noStrike">
                <a:solidFill>
                  <a:srgbClr val="ff00ff"/>
                </a:solidFill>
                <a:latin typeface="Footlight MT Light"/>
              </a:rPr>
              <a:t>K &amp; B</a:t>
            </a:r>
            <a:r>
              <a:rPr b="0" lang="en-US" sz="3200" spc="-1" strike="noStrike">
                <a:solidFill>
                  <a:srgbClr val="eeece1"/>
                </a:solidFill>
                <a:latin typeface="Footlight MT Light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by some normal intestinal flora eg. </a:t>
            </a:r>
            <a:r>
              <a:rPr b="0" i="1" lang="en-US" sz="3200" spc="-1" strike="noStrike">
                <a:solidFill>
                  <a:srgbClr val="000000"/>
                </a:solidFill>
                <a:latin typeface="Footlight MT Light"/>
              </a:rPr>
              <a:t>E.coli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Other facts regarding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May be a source of opportunistic infection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. eg . In patients with impaired defense mechanisms. eg </a:t>
            </a:r>
            <a:r>
              <a:rPr b="0" i="1" lang="en-US" sz="3200" spc="-1" strike="noStrike">
                <a:solidFill>
                  <a:srgbClr val="000000"/>
                </a:solidFill>
                <a:latin typeface="Footlight MT Light"/>
              </a:rPr>
              <a:t>S.epidermidis, E.coli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Some may cross react with normal tissue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component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,eg, antibodies to various ABO group arise because of cross reaction between intestinal flora and the antigens of A &amp;B blood sub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Continu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53352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Production of carcinogen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ome normal flora may modify through their enzymes chemicals in our diets into carcinogens. eg. artificial sweeteners may be enzymatically modified into bladder carcinog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Distribution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8088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Footlight MT Light"/>
              </a:rPr>
              <a:t>Internal organ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(except alimentary tract) are sterile at heal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ootlight MT Light"/>
              </a:rPr>
              <a:t>Sterility maintained by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- local defenc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- chemical substances in serum &amp; tissues eg. Complement , antibo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-phagocytic activity of P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17:07:28Z</dcterms:created>
  <dc:creator>JERICA</dc:creator>
  <dc:description/>
  <dc:language>en-US</dc:language>
  <cp:lastModifiedBy>JERICA</cp:lastModifiedBy>
  <dcterms:modified xsi:type="dcterms:W3CDTF">2014-08-04T08:04:24Z</dcterms:modified>
  <cp:revision>13</cp:revision>
  <dc:subject/>
  <dc:title>Slide 1</dc:title>
</cp:coreProperties>
</file>