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FCB-9727-4840-B5B2-7A47E283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802C-D266-41C3-887E-890CF31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663-601A-4EBE-B619-97853F98F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AC2-1FFD-496E-8BA0-C5E9D2476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9CA-C36B-4BC0-8C4E-5B0042CB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EBA-09E4-4410-BDE4-4604907F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8381-0EF4-43CA-A41C-CCB11824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2CE6-AC0D-469E-B4B8-DBD2D49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3B0-FB48-4F35-9751-AB52D8BE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687-D55D-433D-9D37-D5CFF649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76F9-C28F-4096-B2C0-BBA3EC56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2D2-FCB0-4D40-AB19-B5AC4DD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D4AA4-5509-4819-80DF-5FD47F4A9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GI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.tract colonizes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NOSE: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.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bact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dent. Plaque contiually 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Duodenum, jejunum&amp;upper iel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t. is bacteria , mainly d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Bacteroides fragilis group the dominant anaerobes, bifidobact.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ml  in normal vagina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Mycob. Smegmatis (AFB) in secretions which contaminate urine-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 &amp; F distal urethra: - 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Myco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Vul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S. epidermidis , corynebacteria, E.coli and othe coliforms  &amp; St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i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S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o2 organisms predomonate in aer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bfbfbf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aureus  (less common, potential patho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B occasionally in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S.epid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cc0099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establish itself briefly , excluded by host defenc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 potentially pathogenic , eg. S.pneumoniae,  N. meningetidis 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ewborn sterile in u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ter birth ,exposed to flora of mother’s genital tract,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01682_"/>
          <p:cNvPicPr/>
          <p:nvPr/>
        </p:nvPicPr>
        <p:blipFill>
          <a:blip r:embed="rId2"/>
          <a:stretch/>
        </p:blipFill>
        <p:spPr>
          <a:xfrm>
            <a:off x="5410080" y="3809880"/>
            <a:ext cx="315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1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Immunostimulati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Exclusionary effe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3-Production of essential nutri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K &amp; B</a:t>
            </a: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by some normal intestinal flora eg.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S.epidermidis, 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ome may cross react with normal tissu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eg, antibodies to various ABO group arise because of cross reaction between intestinal flora and the antigens of A &amp;B 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Internal orga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except alimentary tract) are sterile at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Sterility maintained by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local def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phagocytic activity of P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>JERICA</dc:creator>
  <dc:description/>
  <dc:language>en-US</dc:language>
  <cp:lastModifiedBy>JERICA</cp:lastModifiedBy>
  <dcterms:modified xsi:type="dcterms:W3CDTF">2014-08-04T08:04:24Z</dcterms:modified>
  <cp:revision>13</cp:revision>
  <dc:subject/>
  <dc:title>Slide 1</dc:title>
</cp:coreProperties>
</file>