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9C7B-35D1-44F8-AAE0-91C28C51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6C6F-6A21-438A-8349-6176673569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B890-D2EA-4456-9520-CD73B55A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9F27-FB0B-4F59-BD5F-563C7C2874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328-8FC3-409A-81EC-EC7DE93D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5E0-DE03-4C87-99A6-CC5C2AD2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16C-42FB-465F-82B3-1D89E315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B8D-D4DE-44AD-B7D2-F666CACB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D6B3-1D12-449C-A830-C76DF184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97CA-0310-4FBB-A78B-61F517E5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4857-F263-4DEC-BC57-9CC872E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DD32-2CAD-452E-96A6-0857854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317E-0D34-4E6F-AE74-A7679D7E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C56-2811-4245-860E-F50CB23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E69E-7D4F-4AE9-B80A-027D0AC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971-67C2-4834-8FAC-DBF9BB38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04C-61E7-483A-938C-96F252D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D72C-9935-471E-98A9-557BEE3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02A-6C6F-4DED-B391-A255E48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DFCB-D8D0-4C19-B125-73D80BE6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338F-3FA6-4783-A723-2D20A05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E10B-9B16-4618-9A97-F72CCF5C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9880-2D2A-4EBA-BF11-9C127A5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5191-B8B5-461D-B001-7639F85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9301-527A-4A11-B4BC-2FF22972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0DA9-5FEE-4713-9247-4DC3918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BCC-6672-4821-B95E-D03B38DA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FFF3-E1F6-43DA-A5C4-08C5184E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0FB7-3C93-4543-A2A0-BD9053D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9B38-C102-40CC-B8F8-B9406EA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7BEC-0C3B-4D26-8E3D-0E1D9FF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35B2-CB67-41D0-BC04-37B515B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5BEE-0046-44FE-8139-A9204DA8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7BE0-4DBC-48EA-A2FD-952C5401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946-36C8-4598-B053-DE6B6999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65E-DB9B-4BF1-8881-39C66AC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2AC-077E-4B71-94B5-B667853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533-2801-4DAC-B808-B77776B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689-CEB6-41A2-A4CA-FABEF8A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056-E4BD-4026-A6F5-B9A0EA5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68C-85D0-4668-BF8B-54797FC1C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5D2-33DF-4D75-B495-EA8276BB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549-C46A-4D04-8BFB-8F8FB35CF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2120" y="27860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819F-23DF-4DEC-8667-949EE0B30D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552760" y="5486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Diagram 1" descr=""/>
          <p:cNvPicPr/>
          <p:nvPr/>
        </p:nvPicPr>
        <p:blipFill>
          <a:blip r:embed="rId1"/>
          <a:stretch/>
        </p:blipFill>
        <p:spPr>
          <a:xfrm>
            <a:off x="895320" y="981000"/>
            <a:ext cx="7261200" cy="43038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70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E04-CAAD-4116-BAA5-6C87B28BE9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entagon 9"/>
          <p:cNvGrpSpPr/>
          <p:nvPr/>
        </p:nvGrpSpPr>
        <p:grpSpPr>
          <a:xfrm>
            <a:off x="554040" y="4316400"/>
            <a:ext cx="3998880" cy="871560"/>
            <a:chOff x="554040" y="4316400"/>
            <a:chExt cx="3998880" cy="871560"/>
          </a:xfrm>
        </p:grpSpPr>
        <p:pic>
          <p:nvPicPr>
            <p:cNvPr id="176" name="Pentagon 9" descr=""/>
            <p:cNvPicPr/>
            <p:nvPr/>
          </p:nvPicPr>
          <p:blipFill>
            <a:blip r:embed="rId1"/>
            <a:stretch/>
          </p:blipFill>
          <p:spPr>
            <a:xfrm>
              <a:off x="554040" y="431640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0A7-2EBE-4348-A975-AA1DF9D7C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2E9-C5FD-479E-847D-2F8573B523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438280"/>
            <a:ext cx="232236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6858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2689200" cy="33606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927-1147-4A75-BED8-7F2DB52DA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438280" y="5904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84F-329B-4850-9B74-6337877A11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DA5-817B-406D-9C69-FDB8863391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3589-EA4E-4E8C-9931-602A67F900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13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14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29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37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41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55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57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61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71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72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75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77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281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9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290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292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293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05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07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09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16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18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29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30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34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43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54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58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60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61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74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6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77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2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383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399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01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06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47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117-0BF6-447B-A71D-E9049E9CB1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E41-9179-4C7E-8675-EB33E4FBC3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959360" cy="403848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22096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thogenesis of malaria is mainly due to invasion of the red 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Pentagon 9"/>
          <p:cNvGrpSpPr/>
          <p:nvPr/>
        </p:nvGrpSpPr>
        <p:grpSpPr>
          <a:xfrm>
            <a:off x="480960" y="2865600"/>
            <a:ext cx="3994200" cy="871200"/>
            <a:chOff x="480960" y="2865600"/>
            <a:chExt cx="3994200" cy="871200"/>
          </a:xfrm>
        </p:grpSpPr>
        <p:pic>
          <p:nvPicPr>
            <p:cNvPr id="458" name="Pentagon 9" descr=""/>
            <p:cNvPicPr/>
            <p:nvPr/>
          </p:nvPicPr>
          <p:blipFill>
            <a:blip r:embed="rId1"/>
            <a:stretch/>
          </p:blipFill>
          <p:spPr>
            <a:xfrm>
              <a:off x="480960" y="2865600"/>
              <a:ext cx="399420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88D-634A-449F-818A-01F89D80D9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BC3C-CE14-4855-B4C3-BB2EBA77C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0880" y="107172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. Define common terms describing host-parasit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124080" y="6245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C70E-8EDF-47DF-A0E2-4B299883D0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81DB-0E2B-429B-91F7-AE59380CC2B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6370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92BE-00FB-4529-A65B-E46D7D8C8A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8FD-8921-4916-91FC-E88F6578B3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fection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infectious agent in the body of  humans or animals. The result may b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manifest (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A049-0520-448E-B847-B33C9ABC23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ost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person or other living animal which harbou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Definitive host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 primary host) a host in which the parasite passes its sexual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g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termediate ho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secondary host) a host in which the parasite passes its larval or asexual stag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C19-AF6E-4F21-9818-4090B740F3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arrier: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urs a specific infectious agent  in the absence of  clinical disease and serves as a 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esis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icity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susceptible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D61-0E61-44CD-833F-CCDDD71F23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429000" y="6229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arasit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 relationship in which an organism (the parasite) benefits from the  association with another organism (the host) whereas the host is harmed in some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commensal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Kind of relationship  in which one organism , the commensal , is benefited whereas the other organism , the host , is neither harmed or helped by the associat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7456-A9EE-47CD-9CF4-B152D18D5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ct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nd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zoonosis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070-657D-4ADF-88F1-2359FD87BD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10440" cy="5765760"/>
          </a:xfrm>
          <a:prstGeom prst="rect">
            <a:avLst/>
          </a:prstGeom>
          <a:ln w="0">
            <a:noFill/>
          </a:ln>
        </p:spPr>
      </p:pic>
      <p:sp>
        <p:nvSpPr>
          <p:cNvPr id="159" name="Donut 3"/>
          <p:cNvSpPr/>
          <p:nvPr/>
        </p:nvSpPr>
        <p:spPr>
          <a:xfrm>
            <a:off x="3657600" y="4800600"/>
            <a:ext cx="1600200" cy="762120"/>
          </a:xfrm>
          <a:custGeom>
            <a:avLst/>
            <a:gdLst/>
            <a:ahLst/>
            <a:rect l="l" t="t" r="r" b="b"/>
            <a:pathLst>
              <a:path w="1600200" h="762000">
                <a:moveTo>
                  <a:pt x="0" y="381000"/>
                </a:moveTo>
                <a:cubicBezTo>
                  <a:pt x="0" y="170580"/>
                  <a:pt x="358217" y="0"/>
                  <a:pt x="800100" y="0"/>
                </a:cubicBezTo>
                <a:cubicBezTo>
                  <a:pt x="1241983" y="0"/>
                  <a:pt x="1600200" y="170580"/>
                  <a:pt x="1600200" y="381000"/>
                </a:cubicBezTo>
                <a:cubicBezTo>
                  <a:pt x="1600200" y="591420"/>
                  <a:pt x="1241983" y="762000"/>
                  <a:pt x="800100" y="762000"/>
                </a:cubicBezTo>
                <a:cubicBezTo>
                  <a:pt x="358217" y="762000"/>
                  <a:pt x="0" y="591420"/>
                  <a:pt x="0" y="381000"/>
                </a:cubicBezTo>
                <a:close/>
                <a:moveTo>
                  <a:pt x="190500" y="381000"/>
                </a:moveTo>
                <a:cubicBezTo>
                  <a:pt x="190500" y="486210"/>
                  <a:pt x="463427" y="571500"/>
                  <a:pt x="800100" y="571500"/>
                </a:cubicBezTo>
                <a:cubicBezTo>
                  <a:pt x="1136773" y="571500"/>
                  <a:pt x="1409700" y="486210"/>
                  <a:pt x="1409700" y="381000"/>
                </a:cubicBezTo>
                <a:cubicBezTo>
                  <a:pt x="1409700" y="275790"/>
                  <a:pt x="1136773" y="190500"/>
                  <a:pt x="800100" y="190500"/>
                </a:cubicBezTo>
                <a:cubicBezTo>
                  <a:pt x="463427" y="190500"/>
                  <a:pt x="190500" y="275790"/>
                  <a:pt x="190500" y="3810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nut 4"/>
          <p:cNvSpPr/>
          <p:nvPr/>
        </p:nvSpPr>
        <p:spPr>
          <a:xfrm>
            <a:off x="3276720" y="5410080"/>
            <a:ext cx="2209680" cy="914400"/>
          </a:xfrm>
          <a:custGeom>
            <a:avLst/>
            <a:gdLst/>
            <a:ahLst/>
            <a:rect l="l" t="t" r="r" b="b"/>
            <a:pathLst>
              <a:path w="2209800" h="914400">
                <a:moveTo>
                  <a:pt x="0" y="457200"/>
                </a:moveTo>
                <a:cubicBezTo>
                  <a:pt x="0" y="204695"/>
                  <a:pt x="494681" y="0"/>
                  <a:pt x="1104900" y="0"/>
                </a:cubicBezTo>
                <a:cubicBezTo>
                  <a:pt x="1715119" y="0"/>
                  <a:pt x="2209800" y="204695"/>
                  <a:pt x="2209800" y="457200"/>
                </a:cubicBezTo>
                <a:cubicBezTo>
                  <a:pt x="2209800" y="709705"/>
                  <a:pt x="1715119" y="914400"/>
                  <a:pt x="1104900" y="914400"/>
                </a:cubicBezTo>
                <a:cubicBezTo>
                  <a:pt x="494681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620933" y="685800"/>
                  <a:pt x="1104900" y="685800"/>
                </a:cubicBezTo>
                <a:cubicBezTo>
                  <a:pt x="1588867" y="685800"/>
                  <a:pt x="1981200" y="583452"/>
                  <a:pt x="1981200" y="457200"/>
                </a:cubicBezTo>
                <a:cubicBezTo>
                  <a:pt x="1981200" y="330948"/>
                  <a:pt x="1588867" y="228600"/>
                  <a:pt x="1104900" y="228600"/>
                </a:cubicBezTo>
                <a:cubicBezTo>
                  <a:pt x="620933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64E-E96D-433A-A7DA-8D9E1DB27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819520" y="644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395A-61FC-4536-8F2E-D911251083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4191120" y="6351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Ahmed Adeel</cp:lastModifiedBy>
  <dcterms:modified xsi:type="dcterms:W3CDTF">2014-09-23T15:49:53Z</dcterms:modified>
  <cp:revision>320</cp:revision>
  <dc:subject/>
  <dc:title>DEFINITIONS</dc:title>
</cp:coreProperties>
</file>