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Custom Show 2" id="0">
      <p:sldLst>
        <p:sld r:id="rId4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553-F466-44C0-A93E-F5701A6E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3DA-FB07-4ED8-B81E-7E3DF9C8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CFC-A751-4251-B5A0-382FF1D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5C5-6D2D-4DB8-9892-7BED9587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BF63-D8C8-443A-A5F1-06FF9B83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38C4-96AB-42DB-8D26-8C0871A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F4DB-C37B-42BE-864B-A925BFB3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3BC1-50BD-42A5-B5DC-CAD78E5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24F3-C237-4528-82B2-ADDAF85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59EE-BB1D-4BB2-8943-E4DDE71D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7D3-1051-4C5A-91F3-86F9559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FF0-BA4F-4211-8E1E-C955DC58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932-695D-4440-979C-87C32C0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B3DB-AD56-4128-9D88-9762BFC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5BC-525C-441A-9843-7AB6483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BC1-71EE-44EF-867F-A6A0D4C0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48B7-CA0C-4EC5-BF03-5128AF9B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CDC-3BB5-4351-B2F8-D95B35C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5F1-AB93-4DEC-9533-D7E8413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261-B5F4-4E39-9542-9B43FFD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D0D-641A-4C58-AE79-5A02FFF5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274-7BE5-40E4-9CF2-71EC9388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F6A-DA1B-402F-8F5F-A30065A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3B0-80D2-494B-8D35-C5F3734D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3A6-13E1-4C21-8F56-2EFAA90A1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94F4-BF8F-4D99-9591-ED3C7078EF8B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5325-687B-404A-8F56-20CE31CB22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22228b"/>
                </a:solidFill>
                <a:latin typeface="Footlight MT Light"/>
              </a:rPr>
              <a:t>Prof . AM Kambal &amp; Dr. Fawzia Alotaib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352680" y="3352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097-4CB2-45A0-8DD8-1E2F03716A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1547-9A02-498A-BEBA-682B194776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8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9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2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4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5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6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8CC-2DD7-41E3-9E33-956419AC1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2971800" cy="2021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685800" y="358128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62D0-93EC-491B-A424-094E7DF4F6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2EE-0F1C-4880-BADB-9636E18BF9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-Spore form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-Non spore form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e forming are divided into: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erobic spore forming most important i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acillus anthracis,that causes anthrac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F20B-130C-4351-9C1C-F65DD43C2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er, pharyngitis, cervical L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A453-0EF3-41A0-8247-234C4041E2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"/>
          <p:cNvPicPr/>
          <p:nvPr/>
        </p:nvPicPr>
        <p:blipFill>
          <a:blip r:embed="rId2"/>
          <a:stretch/>
        </p:blipFill>
        <p:spPr>
          <a:xfrm>
            <a:off x="5486400" y="1981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1935-3E54-4586-91C7-2F17502B3C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156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0477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s: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able t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general basic characteristics of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iate between gram positive and gram negative bacteria characteristic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posi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characteristic of these grou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E5C-8D32-47F6-8D04-51B2CFC4D3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368-F1B7-4EC1-AA0A-8CD69136FD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C0BF-EC63-4FC7-834D-0E0D3BB480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nfections and diseases caused by these organisms and the antibiotics used for their treatment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nega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methods for These org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est infectious and diseases caused by the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bac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the        antibiotics used for their treatment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6FD4-8B07-4445-9858-0476060124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149-0280-48AB-B918-DC49D664DE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C471-17B2-4D40-AA30-CCE59AD26B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98C-AF85-40A2-9BC2-A93CD17D8A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4AF8-1986-4935-98DA-5134B4FE2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1A6-613F-469D-B9BB-53F6B76BCD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15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30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5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45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60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5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8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0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91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94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E5A6-0862-460B-96F0-CAC2F9F130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JERICA</cp:lastModifiedBy>
  <cp:lastPrinted>2002-01-26T13:51:29Z</cp:lastPrinted>
  <dcterms:modified xsi:type="dcterms:W3CDTF">2013-10-08T05:58:24Z</dcterms:modified>
  <cp:revision>292</cp:revision>
  <dc:subject/>
  <dc:title>Streptococci</dc:title>
</cp:coreProperties>
</file>