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0B6-148E-4B16-96AF-AB40FC2B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A22-3C48-43A1-8820-1C02D9AD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7EB1-8E45-47A5-9DD5-30ECEB82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D664-419F-4984-AB44-6DB8C282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67FF-750D-402B-B14E-A88276488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7A2A-4052-42B4-B7EB-C967FF99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30AD-5AA1-4ECA-A7C4-DA0F85C0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DD11-A385-4B7A-BA23-BA7FF96D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B109-82DA-4C04-BF41-5FF4FBDA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46CE-7F6F-4C57-AE50-0DBEFB0D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4ABE-B285-4CA1-91B3-5F266237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B63B-E182-4E50-B9A9-54246C2F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F69D5-E189-4245-BFD7-6CC14398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BA48-0E15-499A-9731-351168DA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5330-3F0D-4A89-BCBB-CC9D4472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C9A8-3D98-4E8E-808E-627D49205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C074-71B0-460A-9917-3E9A0FA8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88C-F43F-423E-A7E9-7B031AE2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AC23-6DCA-48E1-9521-9A740182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010-95AD-466D-A163-44E926CE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14C-B738-448A-A92D-9D14CA4B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D90-915D-47EB-923B-AFA2FDC6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AEED-7760-4D5B-B74E-C5F68C02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7C4-F6ED-4CA2-9E5B-E2990AEA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E70A-C65A-4EB0-8154-76B065EAE9B1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EDDE-0920-4E92-83F2-895D1C3B4A5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home.netvigator.com/~pdsuter/pic/machine003.jpg&amp;imgrefurl=http://home.netvigator.com/~pdsuter/bread_machine.html&amp;usg=__v9wMu_0Z2pmqH75VnAHeYV4MUP4=&amp;h=388&amp;w=350&amp;sz=34&amp;hl=en&amp;start=10&amp;zoom=1&amp;tbnid=Ebw2yJKQ-mhOjM:&amp;tbnh=123&amp;tbnw=111&amp;prev=/images%3Fq%3DHOT%2BAIR%2BOVEN%26hl%3Den%26safe%3Dactive%26sa%3DG%26gbv%3D2%26tbs%3Disch:1&amp;itbs=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upplierlist.com/photo_images/70930/12L_Simple_Autoclave.jpg&amp;imgrefurl=http://www.supplierlist.com/made_in_china/products/p0/Autoclave/30857_manufacturers.htm&amp;usg=__YqlPiu14UAuPwYA_m16-WaOHIVo=&amp;h=336&amp;w=336&amp;sz=24&amp;hl=en&amp;start=3&amp;zoom=1&amp;tbnid=_7dcwyvnfhz3jM:&amp;tbnh=119&amp;tbnw=119&amp;prev=/images%3Fq%3DAUTOCLAVES%26hl%3Den%26safe%3Dactive%26sa%3DG%26gbv%3D2%26tbs%3Disch:1&amp;itbs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img.directindustry.com/images_di/photo-g/laboratory-autoclave-with-hydraulic-door-305058.jpg&amp;imgrefurl=http://www.directindustry.com/prod/priorclave/laboratory-autoclave-with-hydraulic-door-23066-305058.html&amp;usg=__Uwvdy60hxYHVPFf4gSCwRaE2wTE=&amp;h=651&amp;w=831&amp;sz=211&amp;hl=en&amp;start=2&amp;zoom=1&amp;tbnid=y8mNYJ04N1XtxM:&amp;tbnh=113&amp;tbnw=144&amp;prev=/images%3Fq%3DAUTOCLAVES%26hl%3Den%26safe%3Dactive%26sa%3DG%26gbv%3D2%26tbs%3Disch:1&amp;itbs=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google.com/imgres?imgurl=http://www.lifelinemedical.net/_images/manautoclave-01b.jpg&amp;imgrefurl=http://www.lifelinemedical.net/manual_autoclaves.html&amp;usg=__8-pYakhkqCkQjbaX5N5Fs5AgwsM=&amp;h=308&amp;w=424&amp;sz=95&amp;hl=en&amp;start=4&amp;zoom=1&amp;tbnid=dNI8EWwQs12WjM:&amp;tbnh=92&amp;tbnw=126&amp;prev=/images%3Fq%3DAUTOCLAVES%26hl%3Den%26safe%3Dactive%26sa%3DG%26gbv%3D2%26tbs%3Disch:1&amp;itbs=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rds.yahoo.com/_ylt=A0WTb_o.XLlMVCwA0yWJzbkF;_ylu=X3oDMTBqY2pzbGhoBHBvcwMxMQRzZWMDc3IEdnRpZAM-/SIG=1k7ejdo7v/EXP=1287302590/**http%3A//images.search.yahoo.com/images/view%3Fback=http%253A%252F%252Fimages.search.yahoo.com%252Fsearch%252Fimages%253Fp%253Dschematic%252Bdiagram%252Bof%252Bautoclaves%2526ei%253Dutf-8%2526y%253DSearch%2526fr%253Dyfp-t-701%26w=293%26h=238%26imgurl=www.swingstargroup.com%252Fimages%252Fbattery_rectifier.jpg%26rurl=http%253A%252F%252Fwww.swingstargroup.com%252Flha_construction.htm%26size=25KB%26name=Sterilizers%252C%2BAut...%26p=schematic%2Bdiagram%2Bof%2Bautoclaves%26oid=8d9ca6ae4b539bb97990611433d12e95%26fr2=%26spell_query=schematic%2B%2Bof%2Bautoclaves%26no=11%26tt=15%26sigr=11i55tua3%26sigi=11jftar63%26sigb=13dlv8kor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tradevv.com/2009/07/24/newera1_432969_450/autoclave-tape.jpg&amp;imgrefurl=http://www.tradevv.com/chinasuppliers/newera1_p_69b49/china-Autoclave-Tape.html&amp;usg=__xaBaz_SzR_6eF8p_RD4qJ-2ZIB4=&amp;h=450&amp;w=450&amp;sz=27&amp;hl=en&amp;start=2&amp;zoom=1&amp;tbnid=-fl8eKyMIEsIRM:&amp;tbnh=127&amp;tbnw=127&amp;prev=/images%3Fq%3DAUTOCLAVE%2B%2BTAPE%26hl%3Den%26safe%3Dactive%26sa%3DG%26gbv%3D2%26tbs%3Disch:1&amp;itbs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m/imgres?imgurl=http://www.appletonwoods.co.uk/acatalog/GC471.jpg&amp;imgrefurl=http://www.appletonwoods.co.uk/acatalog/Autoclave_Indicator_Tubes.html&amp;usg=__88qBwPivzadrsB_XUNeHuOtGhK4=&amp;h=220&amp;w=260&amp;sz=14&amp;hl=en&amp;start=14&amp;zoom=1&amp;tbnid=ULCXGhvYA4_e_M:&amp;tbnh=95&amp;tbnw=112&amp;prev=/images%3Fq%3DBROWNE%2527S%2BTUBES%26hl%3Den%26safe%3Dactive%26sa%3DG%26gbv%3D2%26tbs%3Disch:1&amp;itbs=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jarimagazine.com/wp-content/uploads/2009/03/pasteurization-300x236.jpg&amp;imgrefurl=http://majarimagazine.com/2009/03/milk-pasteurization-and-sterilization/&amp;usg=__VNL8gL_pMq3187NXIGSO4RPrcC8=&amp;h=236&amp;w=300&amp;sz=17&amp;hl=en&amp;start=1&amp;zoom=1&amp;tbnid=iEuoaM0o78EDyM:&amp;tbnh=91&amp;tbnw=116&amp;prev=/images%3Fq%3DPASTEURIZATION%26hl%3Den%26safe%3Dactive%26sa%3DG%26gbv%3D2%26tbs%3Disch:1&amp;itbs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rlog.org/10383255-chemical-disinfectants.jpg&amp;imgrefurl=http://www.prlog.org/10383255-use-of-chemical-disinfectants.html&amp;usg=__LFbaZGdUee78g07KL8kRLuVFDds=&amp;h=250&amp;w=163&amp;sz=11&amp;hl=en&amp;start=3&amp;zoom=1&amp;tbnid=HzalTD8j-GR8PM:&amp;tbnh=111&amp;tbnw=72&amp;prev=/images%3Fq%3DCHEMICAL%2BDISINFECTANTS%26hl%3Den%26safe%3Dactive%26sa%3DG%26gbv%3D2%26tbs%3Disch:1&amp;itbs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m/imgres?imgurl=http://www.chemistryland.com/CHM130W/06-Nomenclature/NomenclatureHealth/Chlorates.jpg&amp;imgrefurl=http://www.chemistryland.com/CHM130W/06-Nomenclature/NomenclatureHealth/NomenHealth.htm&amp;usg=__4P8nVvpOT2a6-qgAjtsBuJ2r6ts=&amp;h=560&amp;w=512&amp;sz=66&amp;hl=en&amp;start=8&amp;zoom=1&amp;tbnid=Ef73UlvzVqfq-M:&amp;tbnh=133&amp;tbnw=122&amp;prev=/images%3Fq%3DSYMBOL%2BSTERILIZATION%2BAND%2BDISINFECTION%26hl%3Den%26safe%3Dactive%26gbv%3D2%26tbs%3Disch:1&amp;itbs=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388663/388663,1245079056,31/stock-vector-hand-washing-32072236.jpg&amp;imgrefurl=http://www.shutterstock.com/pic-32072236/stock-vector-hand-washing.html&amp;usg=__3gjTJdu9k_PX_XEjtg7zBOPU-r4=&amp;h=470&amp;w=447&amp;sz=74&amp;hl=en&amp;start=17&amp;zoom=1&amp;tbnid=fd2MPtPi-CXbJM:&amp;tbnh=129&amp;tbnw=123&amp;prev=/images%3Fq%3Dsymbol%2Bhand%2Bwashing%26hl%3Den%26safe%3Dactive%26sa%3DG%26gbv%3D2%26tbs%3Disch:1&amp;itbs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viente.com/images/ionizing_radiation.png&amp;imgrefurl=http://www.viviente.com/2007/11/&amp;usg=__B0vav05IzaGHZINjr0M42oIU4eA=&amp;h=489&amp;w=589&amp;sz=62&amp;hl=en&amp;start=4&amp;zoom=1&amp;tbnid=MKoKR8K9RL-97M:&amp;tbnh=112&amp;tbnw=135&amp;prev=/images%3Fq%3DIONIZING%2BRADIATION%26hl%3Den%26safe%3Dactive%26sa%3DG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uckol.com/uploadFiles/upimg26/Microfiltration-Membrane-Filters.jpg&amp;imgrefurl=http://www.duckol.com/Wholesale_m/Membrane-Switch-56036.htm&amp;usg=__P9oH-z4D-qmRCGcHk5qq7IUjNPo=&amp;h=360&amp;w=360&amp;sz=25&amp;hl=en&amp;start=4&amp;zoom=1&amp;tbnid=Fo27iUeAdcieTM:&amp;tbnh=121&amp;tbnw=121&amp;prev=/images%3Fq%3DMEMBRANE%2BFILTERS%26hl%3Den%26safe%3Dactive%26gbv%3D2%26tbs%3Disch:1&amp;itb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images2.opticsplanet.com/640-640/opplanet-whatman-filter-holders-for-nuclepore-membrane-filters-whatman-420200.jpg&amp;imgrefurl=http://www.opticsplanet.net/printable-whatman-filter-holders-for-nuclepore-membrane-filters-whatman-420200.html&amp;usg=__-6h4s7ngtXvhow07wJ4VzDwj0eI=&amp;h=246&amp;w=246&amp;sz=24&amp;hl=en&amp;start=12&amp;zoom=1&amp;tbnid=35FVmUfK3cURBM:&amp;tbnh=110&amp;tbnw=110&amp;prev=/images%3Fq%3DMEMBRANE%2BFILTERS%26hl%3Den%26safe%3Dactive%26gbv%3D2%26tbs%3Disch:1&amp;itbs=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www.trinityfiltration.in/images/membrane-filters.jpg&amp;imgrefurl=http://www.trinityfiltration.in/membrane-filters-for-critical-pharmaceutical-application.html&amp;usg=__ju5fCM1xbUqgnl_IIEG9Ms-2xRU=&amp;h=231&amp;w=230&amp;sz=10&amp;hl=en&amp;start=9&amp;zoom=0&amp;tbnid=4ZGd9vK2iMgHGM:&amp;tbnh=108&amp;tbnw=108&amp;prev=/images%3Fq%3DMEMBRANE%2BFILTERS%26hl%3Den%26safe%3Dactive%26gbv%3D2%26tbs%3Disch:1&amp;itbs=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google.com/imgres?imgurl=http://imghost1.indiamart.com/data2/YY/NJ/MY-1857873/membrane_pic-500x500-250x250.jpg&amp;imgrefurl=http://www.indiamart.com/nishotechsystems/seperation-technologies.html&amp;usg=__wLfYWbndq_7fMhxtAoepepofDXs=&amp;h=250&amp;w=250&amp;sz=9&amp;hl=en&amp;start=15&amp;zoom=1&amp;tbnid=wionk_8EKOMzXM:&amp;tbnh=111&amp;tbnw=111&amp;prev=/images%3Fq%3DMEMBRANE%2BFILTERS%26hl%3Den%26safe%3Dactive%26gbv%3D2%26tbs%3Disch:1&amp;itbs=1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&amp; Disinfe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Prof. Hanan Habi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Dr. Abdulaziz Al-Khatta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OT AIR OV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Picture 2" descr="http://t2.gstatic.com/images?q=tbn:Ebw2yJKQ-mhOjM:http://home.netvigator.com/~pdsuter/pic/machine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924280"/>
            <a:ext cx="32400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  <a:ea typeface="SimSun"/>
              </a:rPr>
              <a:t>Moist He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Uses hot wate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Moist heat kills microorganisms by denaturating prote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in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s the standard sterilization method in hospi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equipment is calle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it works under the same principle as the pressure cooker wher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water boil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at increased atmosphere pressure i.e. because of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increase pressur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boiling point of water is 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&gt;100 °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autoclave is a tough double walled chamber in which air is replaced by pure saturated steam under press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t0.gstatic.com/images?q=tbn:_7dcwyvnfhz3jM:http://www.supplierlist.com/photo_images/70930/12L_Simple_Autocla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93372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t1.gstatic.com/images?q=tbn:y8mNYJ04N1XtxM:http://img.directindustry.com/images_di/photo-g/laboratory-autoclave-with-hydraulic-door-30505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374832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t0.gstatic.com/images?q=tbn:dNI8EWwQs12WjM:http://www.lifelinemedical.net/_images/manautoclave-01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93080" y="3933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620640"/>
            <a:ext cx="3097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  <a:ea typeface="SimSun"/>
              </a:rPr>
              <a:t>Advantages of Autoclav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. &gt; 100 C therefore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  <a:ea typeface="SimSun"/>
              </a:rPr>
              <a:t>spores kill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ndensation of steam generate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extra he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condensation also allows the steam to </a:t>
            </a:r>
            <a:r>
              <a:rPr b="0" lang="en-US" sz="2800" spc="-1" strike="noStrike">
                <a:solidFill>
                  <a:srgbClr val="00b050"/>
                </a:solidFill>
                <a:latin typeface="Tahoma"/>
                <a:ea typeface="SimSun"/>
              </a:rPr>
              <a:t>penetr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rapidly into porous materi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Note: that autoclavable items must be steam permeable. Can not be used for items that are lacking wa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n the chamber is evacuated and filled with saturated steam. The chamber is closed tightly the steam keeps on filling into it and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pressure gradually incre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The items to be sterilized get completely surrounded by saturated steam (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moist he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) which on contact with the surface of material to be sterilized condenses to release it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latent hea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of condensation which adds to already raised temperature of steam so that eventually all the microorganisms in what ever form are kil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The usual temperature achieved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21 °C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at a pressure of 15 pps. at exposure time of onl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5 mins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Monitoring of Autoclav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Physical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 of thermocouple to measure accurately the temper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Chem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 it consists of heat sensitive chemical that changes color at the right temperature and exposure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.    a)-  Autoclave t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b)- Browne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  <a:ea typeface="SimSun"/>
              </a:rPr>
              <a:t>’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 tub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Biolog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where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spo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bearing organism is added during the sterilization process and then cultured later to ensure that it has been kille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t0.gstatic.com/images?q=tbn:-fl8eKyMIEsIRM:http://image.tradevv.com/2009/07/24/newera1_432969_450/autoclave-tap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700280"/>
            <a:ext cx="3382920" cy="3313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t3.gstatic.com/images?q=tbn:ULCXGhvYA4_e_M:http://www.appletonwoods.co.uk/acatalog/GC47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1989000"/>
            <a:ext cx="2879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oist heat: Other Ap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Pasteur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d heat at temperatures sufficient to inactivate harmful  organism in </a:t>
            </a:r>
            <a:r>
              <a:rPr b="1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mil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  The temperatures  sterilization a not  achiev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erature may be 74°C,  for 3-5 sec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Flash  metho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or 62°C for 30 min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Conventional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Boil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quite common  especially in domestic circumsta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ethods of pasteur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= 63-66 C for 30 minutes (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conventional method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mp=72-73 C for 3-5 seco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flash method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STEUR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2" descr="http://t0.gstatic.com/images?q=tbn:iEuoaM0o78EDyM:http://majarimagazine.com/wp-content/uploads/2009/03/pasteurization-300x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249228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emt-india.net/process/dairy/img/Pasteurization.gif"/>
          <p:cNvPicPr/>
          <p:nvPr/>
        </p:nvPicPr>
        <p:blipFill>
          <a:blip r:embed="rId3"/>
          <a:stretch/>
        </p:blipFill>
        <p:spPr>
          <a:xfrm>
            <a:off x="1476360" y="2421000"/>
            <a:ext cx="3600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fini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Sterilization: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mplete killing of all forms of microorganisms, including bacterial sp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ion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killing or removing of harmful vegetative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an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hemical substance used to achieve disinfe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Antiseptic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isinfectant that can be safely used on living tiss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Pasteurization of mil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event diseases lik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yphoid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rucel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Q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II .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by Chemical Methods &amp; Ap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Useful for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heat sensitive materials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.g. plastics and lenses instruments endoscope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1.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Ethylene Oxide Chamb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 oxide alkylates DNA molecules and thereb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nactivates microorganis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s oxide may caus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explos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if used pure so it is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mixed with an inert g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Requires high humidity&amp; tmperature : </a:t>
            </a:r>
            <a:r>
              <a:rPr b="0" lang="en-US" sz="1800" spc="-1" strike="noStrike">
                <a:solidFill>
                  <a:srgbClr val="00b0f0"/>
                </a:solidFill>
                <a:latin typeface="Tahoma"/>
                <a:ea typeface="SimSun"/>
              </a:rPr>
              <a:t>55-60°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and exposure period </a:t>
            </a:r>
            <a:r>
              <a:rPr b="0" lang="en-US" sz="1800" spc="-1" strike="noStrike">
                <a:solidFill>
                  <a:srgbClr val="92d050"/>
                </a:solidFill>
                <a:latin typeface="Tahoma"/>
                <a:ea typeface="SimSun"/>
              </a:rPr>
              <a:t>4-6 hou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2.  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Activated alkaline Gluteraldehyde 2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mmerse item in solution for about 20 mins.  If the organism is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mycobacteria ( the cause of tuberculosis)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But if spores  present then immersion period is 2-3 hou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1. Activity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up to a poi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optimum concentration.  After this level no advantage in further increases in concen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http://t1.gstatic.com/images?q=tbn:HzalTD8j-GR8PM:http://www.prlog.org/10383255-chemical-disinfectan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1152360" cy="1295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t3.gstatic.com/images?q=tbn:Ef73UlvzVqfq-M:http://www.chemistryland.com/CHM130W/06-Nomenclature/NomenclatureHealth/Chlorat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515772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May be inactivated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b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Di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Organic matter : Proteins, Pus, Blood, Mucus and F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Non organic: Cork,and Some plast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4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Tim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: Disinfectants need time to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5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Range of Action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Disinfectants not equally effective against the whole spectrum of microbes.  e.g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Chlorhexidin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ess active against Gram negative bacteria than Gram positive coc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ypochlorit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re more active against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epatitis viruses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an most other disinfecta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600200"/>
          <a:ext cx="7859880" cy="4619520"/>
        </p:xfrm>
        <a:graphic>
          <a:graphicData uri="http://schemas.openxmlformats.org/drawingml/2006/table">
            <a:tbl>
              <a:tblPr/>
              <a:tblGrid>
                <a:gridCol w="1549440"/>
                <a:gridCol w="790560"/>
                <a:gridCol w="1020600"/>
                <a:gridCol w="801720"/>
                <a:gridCol w="603360"/>
                <a:gridCol w="831960"/>
                <a:gridCol w="701640"/>
                <a:gridCol w="15606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Disinfecta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G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ctivity again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nactivated 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orros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GN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po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o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henol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ud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z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olub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Phenolic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e.g. clears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hlor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comp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r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+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buffered Solutio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Lodoph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Chorhexid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Hibitan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70°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alcoh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Form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Glutar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Cide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Summary of Hospital disinfection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rtic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sinfec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ors, walls                 Phenolics fluids 1-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faces tables            Hypochlorite, Alcoho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k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ge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nds            Chlorhexidine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ient skin                  70% Alcohol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ahoma"/>
              </a:rPr>
              <a:t>Endoscop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Gluteraldehyde 2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Cid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ahoma"/>
              </a:rPr>
              <a:t>Thermometer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70% Alcohol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://t0.gstatic.com/images?q=tbn:fd2MPtPi-CXbJM:http://image.shutterstock.com/display_pic_with_logo/388663/388663,1245079056,31/stock-vector-hand-washing-32072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573360"/>
            <a:ext cx="5256360" cy="2735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ttp://t0.gstatic.com/images?q=tbn:8O4k7tUPUvJS_M:http://www.justbathroomsigns.com/img/lg/S/Hand-Wash-Hygiene-Sign-S-4871.gif"/>
          <p:cNvPicPr/>
          <p:nvPr/>
        </p:nvPicPr>
        <p:blipFill>
          <a:blip r:embed="rId3"/>
          <a:stretch/>
        </p:blipFill>
        <p:spPr>
          <a:xfrm>
            <a:off x="5940360" y="62064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t2.gstatic.com/images?q=tbn:Mw9mdRi1ZDUo-M:http://www.defendingfoodsafety.com/uploads/image/Hand%2520Washing.jpg"/>
          <p:cNvPicPr/>
          <p:nvPr/>
        </p:nvPicPr>
        <p:blipFill>
          <a:blip r:embed="rId4"/>
          <a:stretch/>
        </p:blipFill>
        <p:spPr>
          <a:xfrm>
            <a:off x="1908000" y="692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ethods of steril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Physical Metho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Chemical Method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PHYS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1451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HEAT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Most important should be used whenever possi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ould be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Dry heat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temperature of 160˚C for one h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 Moist hea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in the autocla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451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121 for 15 minutes or 134 C for 10 minut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U.V. ligh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limited sterilizing power because of poor penetration into most materials. Generally used in irradiation of air in certain areas .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Used in operating rooms and tubercul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la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.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Gamma rad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Source of Cobalt 60 has greater energy than U.V. light, therefore more effective. Used mainly in industrial facilities .</a:t>
            </a:r>
            <a:r>
              <a:rPr b="1" lang="en-US" sz="2400" spc="-1" strike="noStrike">
                <a:solidFill>
                  <a:srgbClr val="00b050"/>
                </a:solidFill>
                <a:latin typeface="Tahoma"/>
                <a:ea typeface="SimSun"/>
              </a:rPr>
              <a:t>Used for sterilization of disposable plastic syringes, gloves, specimens containers and Petri dish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http://t2.gstatic.com/images?q=tbn:MKoKR8K9RL-97M:http://www.viviente.com/images/ionizing_radiatio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549360"/>
            <a:ext cx="1285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iltr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y be done under either negative or positive pressure. Best known example is the </a:t>
            </a:r>
            <a:r>
              <a:rPr b="0" i="1" lang="en-US" sz="2800" spc="-1" strike="noStrike">
                <a:solidFill>
                  <a:srgbClr val="00b0f0"/>
                </a:solidFill>
                <a:latin typeface="Tahoma"/>
                <a:ea typeface="SimSun"/>
              </a:rPr>
              <a:t>membrane fil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de from cellulose acetate. Generally removes most bacteria but viruses and some small bacteria e.g.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Chlamydi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&amp;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Mycoplasm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may pass through. Thus filtration does not technically sterilize items but is adequate for circumstances under which is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Main use: for heat labile substances e.g. sera &amp; antibio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t3.gstatic.com/images?q=tbn:Fo27iUeAdcieTM:http://www.duckol.com/uploadFiles/upimg26/Microfiltration-Membrane-Filt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62064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t1.gstatic.com/images?q=tbn:35FVmUfK3cURBM:http://images2.opticsplanet.com/640-640/opplanet-whatman-filter-holders-for-nuclepore-membrane-filters-whatman-420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620640"/>
            <a:ext cx="2447640" cy="3024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t1.gstatic.com/images?q=tbn:4ZGd9vK2iMgHGM:http://www.trinityfiltration.in/images/membrane-filter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14972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t3.gstatic.com/images?q=tbn:wionk_8EKOMzXM:http://imghost1.indiamart.com/data2/YY/NJ/MY-1857873/membrane_pic-500x500-250x25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422100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Tahoma"/>
                <a:ea typeface="SimSun"/>
              </a:rPr>
              <a:t>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ome strong chemical substances may be used to achieve sterilization in hospital use e.g.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1" lang="en-US" sz="3200" spc="-1" strike="noStrike">
                <a:solidFill>
                  <a:srgbClr val="00b050"/>
                </a:solidFill>
                <a:latin typeface="Tahoma"/>
                <a:ea typeface="SimSun"/>
              </a:rPr>
              <a:t>Ethylene oxid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by Heat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Most common method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SimSu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Dry He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Dry Heat- kills microorganisms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Simplest method is exposing item to be sterilized to the naked flame .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Application </a:t>
            </a:r>
            <a:r>
              <a:rPr b="0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:- Bunsen burner used for sterilizing bacteriological loops, knives, blad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Hot air oven 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expose items to 160 °C for 1 ho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electric element in chamber as source of heat plus a fan to circulate air for even distribution of heat in chamber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d to sterilize items that are lacking water such 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Me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Glass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Ointment / Oils/ Waxes /Pow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43Z</dcterms:created>
  <dc:creator>Prof.Kambal</dc:creator>
  <dc:description/>
  <dc:language>en-US</dc:language>
  <cp:lastModifiedBy>abdulaziz alkhattaf</cp:lastModifiedBy>
  <dcterms:modified xsi:type="dcterms:W3CDTF">2014-10-12T09:34:11Z</dcterms:modified>
  <cp:revision>59</cp:revision>
  <dc:subject/>
  <dc:title>Sterilization &amp; Disinfection</dc:title>
</cp:coreProperties>
</file>