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gif" ContentType="image/gi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9C3DF-6995-4068-9F66-013E13882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FC04E-64FF-4DA0-9BA4-D8F4C6FDE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19630-2D53-4467-86F8-A1E7B40FC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7AB9A-CEAC-4A8C-BA95-E59881FD4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67EC5-F6C9-4C7A-8A01-52D71F382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5F50D-452C-4001-BF04-9E42AE952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79592-1D8C-4936-9F46-08BB12269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805B7-B6D9-4C42-8E5C-D4A8FA8A4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69DDE-39EF-4809-B017-DC455DFAC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803A0-6F8A-4E9E-89D8-161E646F9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F3773-FE92-4164-82E9-BFB80AC72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21A29-1A30-4F7E-B870-035938072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E848F-C47A-46AD-8B5D-DCE283BF5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73F06-3306-40A0-9D90-709FFF8FD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4B658-3B22-449E-BC90-D83C9F812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07020-4AFA-4E5D-A9EE-C74B476C1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19EA5-0838-4FDD-85B0-6D1EBB2CE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3EC57-0BE7-4DD3-9C02-BAA587F37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A3EAA-2776-4EFB-B49F-36D0C7D47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66A19-DEF0-47DB-B1BA-448305295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F216A-87EA-4041-9B02-9897BCAE5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68C8A-153E-4648-BA8E-2313A558E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16BA3-2B8F-473D-8ADC-6890A257F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ED8A6-14E5-4FBD-80C5-8C5354EBB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33C20-169F-4209-8D4B-119B77C7EE1D}" type="slidenum">
              <a:rPr b="0" lang="ar-SA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4FF9C-0495-4E36-8884-B72A7A36CD17}" type="slidenum">
              <a:rPr b="0" lang="ar-SA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home.netvigator.com/~pdsuter/pic/machine003.jpg&amp;imgrefurl=http://home.netvigator.com/~pdsuter/bread_machine.html&amp;usg=__v9wMu_0Z2pmqH75VnAHeYV4MUP4=&amp;h=388&amp;w=350&amp;sz=34&amp;hl=en&amp;start=10&amp;zoom=1&amp;tbnid=Ebw2yJKQ-mhOjM:&amp;tbnh=123&amp;tbnw=111&amp;prev=/images%3Fq%3DHOT%2BAIR%2BOVEN%26hl%3Den%26safe%3Dactive%26sa%3DG%26gbv%3D2%26tbs%3Disch:1&amp;itbs=1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www.supplierlist.com/photo_images/70930/12L_Simple_Autoclave.jpg&amp;imgrefurl=http://www.supplierlist.com/made_in_china/products/p0/Autoclave/30857_manufacturers.htm&amp;usg=__YqlPiu14UAuPwYA_m16-WaOHIVo=&amp;h=336&amp;w=336&amp;sz=24&amp;hl=en&amp;start=3&amp;zoom=1&amp;tbnid=_7dcwyvnfhz3jM:&amp;tbnh=119&amp;tbnw=119&amp;prev=/images%3Fq%3DAUTOCLAVES%26hl%3Den%26safe%3Dactive%26sa%3DG%26gbv%3D2%26tbs%3Disch:1&amp;itbs=1" TargetMode="External"/><Relationship Id="rId2" Type="http://schemas.openxmlformats.org/officeDocument/2006/relationships/image" Target="../media/image7.jpeg"/><Relationship Id="rId3" Type="http://schemas.openxmlformats.org/officeDocument/2006/relationships/hyperlink" Target="http://www.google.com/imgres?imgurl=http://img.directindustry.com/images_di/photo-g/laboratory-autoclave-with-hydraulic-door-305058.jpg&amp;imgrefurl=http://www.directindustry.com/prod/priorclave/laboratory-autoclave-with-hydraulic-door-23066-305058.html&amp;usg=__Uwvdy60hxYHVPFf4gSCwRaE2wTE=&amp;h=651&amp;w=831&amp;sz=211&amp;hl=en&amp;start=2&amp;zoom=1&amp;tbnid=y8mNYJ04N1XtxM:&amp;tbnh=113&amp;tbnw=144&amp;prev=/images%3Fq%3DAUTOCLAVES%26hl%3Den%26safe%3Dactive%26sa%3DG%26gbv%3D2%26tbs%3Disch:1&amp;itbs=1" TargetMode="External"/><Relationship Id="rId4" Type="http://schemas.openxmlformats.org/officeDocument/2006/relationships/image" Target="../media/image8.jpeg"/><Relationship Id="rId5" Type="http://schemas.openxmlformats.org/officeDocument/2006/relationships/hyperlink" Target="http://www.google.com/imgres?imgurl=http://www.lifelinemedical.net/_images/manautoclave-01b.jpg&amp;imgrefurl=http://www.lifelinemedical.net/manual_autoclaves.html&amp;usg=__8-pYakhkqCkQjbaX5N5Fs5AgwsM=&amp;h=308&amp;w=424&amp;sz=95&amp;hl=en&amp;start=4&amp;zoom=1&amp;tbnid=dNI8EWwQs12WjM:&amp;tbnh=92&amp;tbnw=126&amp;prev=/images%3Fq%3DAUTOCLAVES%26hl%3Den%26safe%3Dactive%26sa%3DG%26gbv%3D2%26tbs%3Disch:1&amp;itbs=1" TargetMode="External"/><Relationship Id="rId6" Type="http://schemas.openxmlformats.org/officeDocument/2006/relationships/image" Target="../media/image9.jpeg"/><Relationship Id="rId7" Type="http://schemas.openxmlformats.org/officeDocument/2006/relationships/hyperlink" Target="http://rds.yahoo.com/_ylt=A0WTb_o.XLlMVCwA0yWJzbkF;_ylu=X3oDMTBqY2pzbGhoBHBvcwMxMQRzZWMDc3IEdnRpZAM-/SIG=1k7ejdo7v/EXP=1287302590/**http%3A//images.search.yahoo.com/images/view%3Fback=http%253A%252F%252Fimages.search.yahoo.com%252Fsearch%252Fimages%253Fp%253Dschematic%252Bdiagram%252Bof%252Bautoclaves%2526ei%253Dutf-8%2526y%253DSearch%2526fr%253Dyfp-t-701%26w=293%26h=238%26imgurl=www.swingstargroup.com%252Fimages%252Fbattery_rectifier.jpg%26rurl=http%253A%252F%252Fwww.swingstargroup.com%252Flha_construction.htm%26size=25KB%26name=Sterilizers%252C%2BAut...%26p=schematic%2Bdiagram%2Bof%2Bautoclaves%26oid=8d9ca6ae4b539bb97990611433d12e95%26fr2=%26spell_query=schematic%2B%2Bof%2Bautoclaves%26no=11%26tt=15%26sigr=11i55tua3%26sigi=11jftar63%26sigb=13dlv8kor" TargetMode="External"/><Relationship Id="rId8" Type="http://schemas.openxmlformats.org/officeDocument/2006/relationships/image" Target="../media/image10.jpe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image.tradevv.com/2009/07/24/newera1_432969_450/autoclave-tape.jpg&amp;imgrefurl=http://www.tradevv.com/chinasuppliers/newera1_p_69b49/china-Autoclave-Tape.html&amp;usg=__xaBaz_SzR_6eF8p_RD4qJ-2ZIB4=&amp;h=450&amp;w=450&amp;sz=27&amp;hl=en&amp;start=2&amp;zoom=1&amp;tbnid=-fl8eKyMIEsIRM:&amp;tbnh=127&amp;tbnw=127&amp;prev=/images%3Fq%3DAUTOCLAVE%2B%2BTAPE%26hl%3Den%26safe%3Dactive%26sa%3DG%26gbv%3D2%26tbs%3Disch:1&amp;itbs=1" TargetMode="External"/><Relationship Id="rId2" Type="http://schemas.openxmlformats.org/officeDocument/2006/relationships/image" Target="../media/image11.jpeg"/><Relationship Id="rId3" Type="http://schemas.openxmlformats.org/officeDocument/2006/relationships/hyperlink" Target="http://www.google.com/imgres?imgurl=http://www.appletonwoods.co.uk/acatalog/GC471.jpg&amp;imgrefurl=http://www.appletonwoods.co.uk/acatalog/Autoclave_Indicator_Tubes.html&amp;usg=__88qBwPivzadrsB_XUNeHuOtGhK4=&amp;h=220&amp;w=260&amp;sz=14&amp;hl=en&amp;start=14&amp;zoom=1&amp;tbnid=ULCXGhvYA4_e_M:&amp;tbnh=95&amp;tbnw=112&amp;prev=/images%3Fq%3DBROWNE%2527S%2BTUBES%26hl%3Den%26safe%3Dactive%26sa%3DG%26gbv%3D2%26tbs%3Disch:1&amp;itbs=1" TargetMode="External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majarimagazine.com/wp-content/uploads/2009/03/pasteurization-300x236.jpg&amp;imgrefurl=http://majarimagazine.com/2009/03/milk-pasteurization-and-sterilization/&amp;usg=__VNL8gL_pMq3187NXIGSO4RPrcC8=&amp;h=236&amp;w=300&amp;sz=17&amp;hl=en&amp;start=1&amp;zoom=1&amp;tbnid=iEuoaM0o78EDyM:&amp;tbnh=91&amp;tbnw=116&amp;prev=/images%3Fq%3DPASTEURIZATION%26hl%3Den%26safe%3Dactive%26sa%3DG%26gbv%3D2%26tbs%3Disch:1&amp;itbs=1" TargetMode="External"/><Relationship Id="rId2" Type="http://schemas.openxmlformats.org/officeDocument/2006/relationships/image" Target="../media/image13.jpeg"/><Relationship Id="rId3" Type="http://schemas.openxmlformats.org/officeDocument/2006/relationships/image" Target="../media/image14.gi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www.prlog.org/10383255-chemical-disinfectants.jpg&amp;imgrefurl=http://www.prlog.org/10383255-use-of-chemical-disinfectants.html&amp;usg=__LFbaZGdUee78g07KL8kRLuVFDds=&amp;h=250&amp;w=163&amp;sz=11&amp;hl=en&amp;start=3&amp;zoom=1&amp;tbnid=HzalTD8j-GR8PM:&amp;tbnh=111&amp;tbnw=72&amp;prev=/images%3Fq%3DCHEMICAL%2BDISINFECTANTS%26hl%3Den%26safe%3Dactive%26sa%3DG%26gbv%3D2%26tbs%3Disch:1&amp;itbs=1" TargetMode="External"/><Relationship Id="rId2" Type="http://schemas.openxmlformats.org/officeDocument/2006/relationships/image" Target="../media/image15.jpeg"/><Relationship Id="rId3" Type="http://schemas.openxmlformats.org/officeDocument/2006/relationships/hyperlink" Target="http://www.google.com/imgres?imgurl=http://www.chemistryland.com/CHM130W/06-Nomenclature/NomenclatureHealth/Chlorates.jpg&amp;imgrefurl=http://www.chemistryland.com/CHM130W/06-Nomenclature/NomenclatureHealth/NomenHealth.htm&amp;usg=__4P8nVvpOT2a6-qgAjtsBuJ2r6ts=&amp;h=560&amp;w=512&amp;sz=66&amp;hl=en&amp;start=8&amp;zoom=1&amp;tbnid=Ef73UlvzVqfq-M:&amp;tbnh=133&amp;tbnw=122&amp;prev=/images%3Fq%3DSYMBOL%2BSTERILIZATION%2BAND%2BDISINFECTION%26hl%3Den%26safe%3Dactive%26gbv%3D2%26tbs%3Disch:1&amp;itbs=1" TargetMode="External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image.shutterstock.com/display_pic_with_logo/388663/388663,1245079056,31/stock-vector-hand-washing-32072236.jpg&amp;imgrefurl=http://www.shutterstock.com/pic-32072236/stock-vector-hand-washing.html&amp;usg=__3gjTJdu9k_PX_XEjtg7zBOPU-r4=&amp;h=470&amp;w=447&amp;sz=74&amp;hl=en&amp;start=17&amp;zoom=1&amp;tbnid=fd2MPtPi-CXbJM:&amp;tbnh=129&amp;tbnw=123&amp;prev=/images%3Fq%3Dsymbol%2Bhand%2Bwashing%26hl%3Den%26safe%3Dactive%26sa%3DG%26gbv%3D2%26tbs%3Disch:1&amp;itbs=1" TargetMode="External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www.viviente.com/images/ionizing_radiation.png&amp;imgrefurl=http://www.viviente.com/2007/11/&amp;usg=__B0vav05IzaGHZINjr0M42oIU4eA=&amp;h=489&amp;w=589&amp;sz=62&amp;hl=en&amp;start=4&amp;zoom=1&amp;tbnid=MKoKR8K9RL-97M:&amp;tbnh=112&amp;tbnw=135&amp;prev=/images%3Fq%3DIONIZING%2BRADIATION%26hl%3Den%26safe%3Dactive%26sa%3DG%26gbv%3D2%26tbs%3Disch:1&amp;itbs=1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www.duckol.com/uploadFiles/upimg26/Microfiltration-Membrane-Filters.jpg&amp;imgrefurl=http://www.duckol.com/Wholesale_m/Membrane-Switch-56036.htm&amp;usg=__P9oH-z4D-qmRCGcHk5qq7IUjNPo=&amp;h=360&amp;w=360&amp;sz=25&amp;hl=en&amp;start=4&amp;zoom=1&amp;tbnid=Fo27iUeAdcieTM:&amp;tbnh=121&amp;tbnw=121&amp;prev=/images%3Fq%3DMEMBRANE%2BFILTERS%26hl%3Den%26safe%3Dactive%26gbv%3D2%26tbs%3Disch:1&amp;itbs=1" TargetMode="External"/><Relationship Id="rId2" Type="http://schemas.openxmlformats.org/officeDocument/2006/relationships/image" Target="../media/image2.jpeg"/><Relationship Id="rId3" Type="http://schemas.openxmlformats.org/officeDocument/2006/relationships/hyperlink" Target="http://www.google.com/imgres?imgurl=http://images2.opticsplanet.com/640-640/opplanet-whatman-filter-holders-for-nuclepore-membrane-filters-whatman-420200.jpg&amp;imgrefurl=http://www.opticsplanet.net/printable-whatman-filter-holders-for-nuclepore-membrane-filters-whatman-420200.html&amp;usg=__-6h4s7ngtXvhow07wJ4VzDwj0eI=&amp;h=246&amp;w=246&amp;sz=24&amp;hl=en&amp;start=12&amp;zoom=1&amp;tbnid=35FVmUfK3cURBM:&amp;tbnh=110&amp;tbnw=110&amp;prev=/images%3Fq%3DMEMBRANE%2BFILTERS%26hl%3Den%26safe%3Dactive%26gbv%3D2%26tbs%3Disch:1&amp;itbs=1" TargetMode="External"/><Relationship Id="rId4" Type="http://schemas.openxmlformats.org/officeDocument/2006/relationships/image" Target="../media/image3.jpeg"/><Relationship Id="rId5" Type="http://schemas.openxmlformats.org/officeDocument/2006/relationships/hyperlink" Target="http://www.google.com/imgres?imgurl=http://www.trinityfiltration.in/images/membrane-filters.jpg&amp;imgrefurl=http://www.trinityfiltration.in/membrane-filters-for-critical-pharmaceutical-application.html&amp;usg=__ju5fCM1xbUqgnl_IIEG9Ms-2xRU=&amp;h=231&amp;w=230&amp;sz=10&amp;hl=en&amp;start=9&amp;zoom=0&amp;tbnid=4ZGd9vK2iMgHGM:&amp;tbnh=108&amp;tbnw=108&amp;prev=/images%3Fq%3DMEMBRANE%2BFILTERS%26hl%3Den%26safe%3Dactive%26gbv%3D2%26tbs%3Disch:1&amp;itbs=1" TargetMode="External"/><Relationship Id="rId6" Type="http://schemas.openxmlformats.org/officeDocument/2006/relationships/image" Target="../media/image4.jpeg"/><Relationship Id="rId7" Type="http://schemas.openxmlformats.org/officeDocument/2006/relationships/hyperlink" Target="http://www.google.com/imgres?imgurl=http://imghost1.indiamart.com/data2/YY/NJ/MY-1857873/membrane_pic-500x500-250x250.jpg&amp;imgrefurl=http://www.indiamart.com/nishotechsystems/seperation-technologies.html&amp;usg=__wLfYWbndq_7fMhxtAoepepofDXs=&amp;h=250&amp;w=250&amp;sz=9&amp;hl=en&amp;start=15&amp;zoom=1&amp;tbnid=wionk_8EKOMzXM:&amp;tbnh=111&amp;tbnw=111&amp;prev=/images%3Fq%3DMEMBRANE%2BFILTERS%26hl%3Den%26safe%3Dactive%26gbv%3D2%26tbs%3Disch:1&amp;itbs=1" TargetMode="External"/><Relationship Id="rId8" Type="http://schemas.openxmlformats.org/officeDocument/2006/relationships/image" Target="../media/image5.jpe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  <a:ea typeface="SimSun"/>
              </a:rPr>
              <a:t>Sterilization &amp; Disinfection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Prof. Hanan Habib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Dr. Abdulaziz Al-Khattaf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HOT AIR OVEN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31" name="Picture 2" descr="http://t2.gstatic.com/images?q=tbn:Ebw2yJKQ-mhOjM:http://home.netvigator.com/~pdsuter/pic/machine003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987640" y="2924280"/>
            <a:ext cx="324000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ahoma"/>
                <a:ea typeface="SimSun"/>
              </a:rPr>
              <a:t>Moist He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2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72760" indent="-57276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000"/>
                </a:solidFill>
                <a:latin typeface="Tahoma"/>
                <a:ea typeface="SimSun"/>
              </a:rPr>
              <a:t>Uses hot water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SimSun"/>
              </a:rPr>
              <a:t>. Moist heat kills microorganisms by denaturating protein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72760" indent="-57276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SimSun"/>
              </a:rPr>
              <a:t>Autoclaving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SimSu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SimSun"/>
              </a:rPr>
              <a:t>–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SimSun"/>
              </a:rPr>
              <a:t> is the standard sterilization method in hospital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72760" indent="-57276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SimSun"/>
              </a:rPr>
              <a:t>The equipment is called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SimSun"/>
              </a:rPr>
              <a:t>Autoclave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SimSun"/>
              </a:rPr>
              <a:t> and it works under the same principle as the pressure cooker where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SimSun"/>
              </a:rPr>
              <a:t>water boils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SimSun"/>
              </a:rPr>
              <a:t>at increased atmosphere pressure i.e. because of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SimSun"/>
              </a:rPr>
              <a:t>increase pressure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SimSun"/>
              </a:rPr>
              <a:t>the boiling point of water is </a:t>
            </a:r>
            <a:r>
              <a:rPr b="1" lang="en-US" sz="2400" spc="-1" strike="noStrike">
                <a:solidFill>
                  <a:srgbClr val="ffc000"/>
                </a:solidFill>
                <a:latin typeface="Tahoma"/>
                <a:ea typeface="SimSun"/>
              </a:rPr>
              <a:t>&gt;100 °C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72760" indent="-57276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SimSun"/>
              </a:rPr>
              <a:t>The autoclave is a tough double walled chamber in which air is replaced by pure saturated steam under pressur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http://t0.gstatic.com/images?q=tbn:_7dcwyvnfhz3jM:http://www.supplierlist.com/photo_images/70930/12L_Simple_Autoclave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859280" y="3933720"/>
            <a:ext cx="2160720" cy="20163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4" descr="http://t1.gstatic.com/images?q=tbn:y8mNYJ04N1XtxM:http://img.directindustry.com/images_di/photo-g/laboratory-autoclave-with-hydraulic-door-305058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042920" y="549360"/>
            <a:ext cx="3748320" cy="46800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6" descr="http://t0.gstatic.com/images?q=tbn:dNI8EWwQs12WjM:http://www.lifelinemedical.net/_images/manautoclave-01b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093080" y="3933720"/>
            <a:ext cx="1942920" cy="19432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6" descr="Go to fullsize image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5651640" y="620640"/>
            <a:ext cx="309708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000"/>
                </a:solidFill>
                <a:latin typeface="Tahoma"/>
                <a:ea typeface="SimSun"/>
              </a:rPr>
              <a:t>Advantages of Autoclav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SimSun"/>
              </a:rPr>
              <a:t>Temp. &gt; 100 C therefore </a:t>
            </a:r>
            <a:r>
              <a:rPr b="1" lang="en-US" sz="2800" spc="-1" strike="noStrike">
                <a:solidFill>
                  <a:srgbClr val="c00000"/>
                </a:solidFill>
                <a:latin typeface="Tahoma"/>
                <a:ea typeface="SimSun"/>
              </a:rPr>
              <a:t>spores killed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SimSu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SimSun"/>
              </a:rPr>
              <a:t>Condensation of steam generates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  <a:ea typeface="SimSun"/>
              </a:rPr>
              <a:t>extra hea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SimSu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SimSun"/>
              </a:rPr>
              <a:t>The condensation also allows the steam to </a:t>
            </a:r>
            <a:r>
              <a:rPr b="0" lang="en-US" sz="2800" spc="-1" strike="noStrike">
                <a:solidFill>
                  <a:srgbClr val="00b050"/>
                </a:solidFill>
                <a:latin typeface="Tahoma"/>
                <a:ea typeface="SimSun"/>
              </a:rPr>
              <a:t>penetrat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SimSun"/>
              </a:rPr>
              <a:t> rapidly into porous material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Tahoma"/>
                <a:ea typeface="SimSun"/>
              </a:rPr>
              <a:t>Note: that autoclavable items must be steam permeable. Can not be used for items that are lacking water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SimSu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SimSun"/>
              </a:rPr>
              <a:t>The 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  <a:ea typeface="SimSun"/>
              </a:rPr>
              <a:t>air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SimSun"/>
              </a:rPr>
              <a:t> in the chamber is evacuated and filled with saturated steam. The chamber is closed tightly the steam keeps on filling into it and the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SimSun"/>
              </a:rPr>
              <a:t>pressure gradually increase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SimSun"/>
              </a:rPr>
              <a:t>. The items to be sterilized get completely surrounded by saturated steam (</a:t>
            </a:r>
            <a:r>
              <a:rPr b="0" lang="en-US" sz="2400" spc="-1" strike="noStrike">
                <a:solidFill>
                  <a:srgbClr val="00b0f0"/>
                </a:solidFill>
                <a:latin typeface="Tahoma"/>
                <a:ea typeface="SimSun"/>
              </a:rPr>
              <a:t>moist heat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SimSun"/>
              </a:rPr>
              <a:t>) which on contact with the surface of material to be sterilized condenses to release its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SimSun"/>
              </a:rPr>
              <a:t>latent heat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SimSun"/>
              </a:rPr>
              <a:t>of condensation which adds to already raised temperature of steam so that eventually all the microorganisms in what ever form are killed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  <a:ea typeface="SimSun"/>
              </a:rPr>
              <a:t>The usual temperature achieved is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SimSun"/>
              </a:rPr>
              <a:t>121 °C</a:t>
            </a:r>
            <a:r>
              <a:rPr b="0" lang="en-US" sz="2000" spc="-1" strike="noStrike">
                <a:solidFill>
                  <a:srgbClr val="ffff00"/>
                </a:solidFill>
                <a:latin typeface="Tahoma"/>
                <a:ea typeface="SimSun"/>
              </a:rPr>
              <a:t> at a pressure of 15 pps. at exposure time of only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SimSun"/>
              </a:rPr>
              <a:t>15 mins </a:t>
            </a:r>
            <a:r>
              <a:rPr b="0" lang="en-US" sz="2000" spc="-1" strike="noStrike">
                <a:solidFill>
                  <a:srgbClr val="ffff00"/>
                </a:solidFill>
                <a:latin typeface="Tahoma"/>
                <a:ea typeface="SimSu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  <a:ea typeface="SimSun"/>
              </a:rPr>
              <a:t>Monitoring of Autoclaves</a:t>
            </a:r>
            <a:br>
              <a:rPr sz="4400"/>
            </a:b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  <a:ea typeface="SimSun"/>
              </a:rPr>
              <a:t>1</a:t>
            </a:r>
            <a:r>
              <a:rPr b="1" lang="en-US" sz="2400" spc="-1" strike="noStrike">
                <a:solidFill>
                  <a:srgbClr val="ffff00"/>
                </a:solidFill>
                <a:latin typeface="Tahoma"/>
                <a:ea typeface="SimSun"/>
              </a:rPr>
              <a:t>.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SimSun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Tahoma"/>
                <a:ea typeface="SimSun"/>
              </a:rPr>
              <a:t>Physical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SimSun"/>
              </a:rPr>
              <a:t>-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SimSun"/>
              </a:rPr>
              <a:t>use of thermocouple to measure accurately the temperatur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  <a:ea typeface="SimSun"/>
              </a:rPr>
              <a:t>2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SimSun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Tahoma"/>
                <a:ea typeface="SimSun"/>
              </a:rPr>
              <a:t>Chemical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SimSun"/>
              </a:rPr>
              <a:t>- it consists of heat sensitive chemical that changes color at the right temperature and exposure time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SimSu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SimSun"/>
              </a:rPr>
              <a:t>e.g</a:t>
            </a:r>
            <a:r>
              <a:rPr b="0" lang="en-US" sz="2400" spc="-1" strike="noStrike">
                <a:solidFill>
                  <a:srgbClr val="92d050"/>
                </a:solidFill>
                <a:latin typeface="Tahoma"/>
                <a:ea typeface="SimSun"/>
              </a:rPr>
              <a:t>.    a)-  Autoclave tap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2d050"/>
                </a:solidFill>
                <a:latin typeface="Tahoma"/>
                <a:ea typeface="SimSun"/>
              </a:rPr>
              <a:t>	</a:t>
            </a:r>
            <a:r>
              <a:rPr b="0" lang="en-US" sz="2400" spc="-1" strike="noStrike">
                <a:solidFill>
                  <a:srgbClr val="92d050"/>
                </a:solidFill>
                <a:latin typeface="Tahoma"/>
                <a:ea typeface="SimSun"/>
              </a:rPr>
              <a:t>	</a:t>
            </a:r>
            <a:r>
              <a:rPr b="0" lang="en-US" sz="2400" spc="-1" strike="noStrike">
                <a:solidFill>
                  <a:srgbClr val="92d050"/>
                </a:solidFill>
                <a:latin typeface="Tahoma"/>
                <a:ea typeface="SimSun"/>
              </a:rPr>
              <a:t>b)- Browne</a:t>
            </a:r>
            <a:r>
              <a:rPr b="0" lang="en-US" sz="2400" spc="-1" strike="noStrike">
                <a:solidFill>
                  <a:srgbClr val="92d050"/>
                </a:solidFill>
                <a:latin typeface="Arial"/>
                <a:ea typeface="SimSun"/>
              </a:rPr>
              <a:t>’</a:t>
            </a:r>
            <a:r>
              <a:rPr b="0" lang="en-US" sz="2400" spc="-1" strike="noStrike">
                <a:solidFill>
                  <a:srgbClr val="92d050"/>
                </a:solidFill>
                <a:latin typeface="Tahoma"/>
                <a:ea typeface="SimSun"/>
              </a:rPr>
              <a:t>s tub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  <a:ea typeface="SimSun"/>
              </a:rPr>
              <a:t>3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SimSun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Tahoma"/>
                <a:ea typeface="SimSun"/>
              </a:rPr>
              <a:t>Biological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SimSu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SimSun"/>
              </a:rPr>
              <a:t>–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SimSun"/>
              </a:rPr>
              <a:t> where a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SimSun"/>
              </a:rPr>
              <a:t>spore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SimSun"/>
              </a:rPr>
              <a:t>-bearing organism is added during the sterilization process and then cultured later to ensure that it has been killed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SimSu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2" descr="http://t0.gstatic.com/images?q=tbn:-fl8eKyMIEsIRM:http://image.tradevv.com/2009/07/24/newera1_432969_450/autoclave-tape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476360" y="1700280"/>
            <a:ext cx="3382920" cy="33130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4" descr="http://t3.gstatic.com/images?q=tbn:ULCXGhvYA4_e_M:http://www.appletonwoods.co.uk/acatalog/GC471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580000" y="1989000"/>
            <a:ext cx="287964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ahoma"/>
                <a:ea typeface="SimSun"/>
              </a:rPr>
              <a:t>Moist heat: Other Application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ahoma"/>
                <a:ea typeface="SimSun"/>
              </a:rPr>
              <a:t>Pasteurizatio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SimSun"/>
              </a:rPr>
              <a:t>Used heat at temperatures sufficient to inactivate harmful  organism in </a:t>
            </a:r>
            <a:r>
              <a:rPr b="1" lang="en-US" sz="2400" spc="-1" strike="noStrike">
                <a:solidFill>
                  <a:srgbClr val="00b0f0"/>
                </a:solidFill>
                <a:latin typeface="Tahoma"/>
                <a:ea typeface="SimSun"/>
              </a:rPr>
              <a:t>milk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SimSun"/>
              </a:rPr>
              <a:t>.   The temperatures  sterilization a not  achieved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SimSun"/>
              </a:rPr>
              <a:t>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SimSun"/>
              </a:rPr>
              <a:t>Temperature may be 74°C,  for 3-5 secs. (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  <a:ea typeface="SimSun"/>
              </a:rPr>
              <a:t>Flash  method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SimSun"/>
              </a:rPr>
              <a:t>  or 62°C for 30 mins. (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  <a:ea typeface="SimSun"/>
              </a:rPr>
              <a:t>Conventional method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SimSun"/>
              </a:rPr>
              <a:t>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SimSun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Tahoma"/>
                <a:ea typeface="SimSun"/>
              </a:rPr>
              <a:t>Boiling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SimSun"/>
              </a:rPr>
              <a:t>–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SimSun"/>
              </a:rPr>
              <a:t> quite common  especially in domestic circumstanc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ahoma"/>
              </a:rPr>
              <a:t>Methods of pasteurization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emp= 63-66 C for 30 minutes (</a:t>
            </a:r>
            <a:r>
              <a:rPr b="0" i="1" lang="en-US" sz="3200" spc="-1" strike="noStrike">
                <a:solidFill>
                  <a:srgbClr val="ffff00"/>
                </a:solidFill>
                <a:latin typeface="Tahoma"/>
              </a:rPr>
              <a:t>conventional method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emp=72-73 C for 3-5 secon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 </a:t>
            </a:r>
            <a:r>
              <a:rPr b="0" i="1" lang="en-US" sz="3200" spc="-1" strike="noStrike">
                <a:solidFill>
                  <a:srgbClr val="ffff00"/>
                </a:solidFill>
                <a:latin typeface="Tahoma"/>
              </a:rPr>
              <a:t>flash method 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PASTEURIZATION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50" name="Picture 2" descr="http://t0.gstatic.com/images?q=tbn:iEuoaM0o78EDyM:http://majarimagazine.com/wp-content/uploads/2009/03/pasteurization-300x236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796000" y="2492280"/>
            <a:ext cx="3024000" cy="302436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4" descr="http://www.emt-india.net/process/dairy/img/Pasteurization.gif"/>
          <p:cNvPicPr/>
          <p:nvPr/>
        </p:nvPicPr>
        <p:blipFill>
          <a:blip r:embed="rId3"/>
          <a:stretch/>
        </p:blipFill>
        <p:spPr>
          <a:xfrm>
            <a:off x="1476360" y="2421000"/>
            <a:ext cx="360036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Definition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ahoma"/>
                <a:ea typeface="SimSun"/>
              </a:rPr>
              <a:t>Sterilization: 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SimSun"/>
              </a:rPr>
              <a:t>complete killing of all forms of microorganisms, including bacterial spor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ahoma"/>
                <a:ea typeface="SimSun"/>
              </a:rPr>
              <a:t>Disinfection: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SimSun"/>
              </a:rPr>
              <a:t>  killing or removing of harmful vegetative microorganism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ahoma"/>
                <a:ea typeface="SimSun"/>
              </a:rPr>
              <a:t>Disinfectant: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SimSun"/>
              </a:rPr>
              <a:t> chemical substance used to achieve disinfectio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SimSun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Tahoma"/>
                <a:ea typeface="SimSun"/>
              </a:rPr>
              <a:t>Antiseptic: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SimSun"/>
              </a:rPr>
              <a:t> disinfectant that can be safely used on living tissu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ahoma"/>
              </a:rPr>
              <a:t>Pasteurization of milk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 prevent diseases like 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Typhoid fev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rucellosi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Tuberculosi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Q fev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ahoma"/>
                <a:ea typeface="SimSun"/>
              </a:rPr>
              <a:t>II . </a:t>
            </a:r>
            <a:r>
              <a:rPr b="0" lang="en-US" sz="4400" spc="-1" strike="noStrike">
                <a:solidFill>
                  <a:srgbClr val="ffff00"/>
                </a:solidFill>
                <a:latin typeface="Tahoma"/>
                <a:ea typeface="SimSun"/>
              </a:rPr>
              <a:t>Sterilization by Chemical Methods &amp; Application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  <a:ea typeface="SimSun"/>
              </a:rPr>
              <a:t>Useful for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SimSun"/>
              </a:rPr>
              <a:t>heat sensitive materials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  <a:ea typeface="SimSun"/>
              </a:rPr>
              <a:t>e.g. plastics and lenses instruments endoscopes)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SimSun"/>
              </a:rPr>
              <a:t>1. </a:t>
            </a:r>
            <a:r>
              <a:rPr b="1" lang="en-US" sz="1800" spc="-1" strike="noStrike">
                <a:solidFill>
                  <a:srgbClr val="ffc000"/>
                </a:solidFill>
                <a:latin typeface="Tahoma"/>
                <a:ea typeface="SimSun"/>
              </a:rPr>
              <a:t>Ethylene Oxide Chamber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  <a:ea typeface="SimSun"/>
              </a:rPr>
              <a:t>          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SimSun"/>
              </a:rPr>
              <a:t>Ethylene oxide alkylates DNA molecules and thereby 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SimSun"/>
              </a:rPr>
              <a:t>          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SimSun"/>
              </a:rPr>
              <a:t>inactivates microorganism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SimSun"/>
              </a:rPr>
              <a:t>      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SimSun"/>
              </a:rPr>
              <a:t>        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SimSun"/>
              </a:rPr>
              <a:t>Ethylenes oxide may cause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  <a:ea typeface="SimSun"/>
              </a:rPr>
              <a:t>explosion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SimSun"/>
              </a:rPr>
              <a:t> if used pure so it is 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SimSun"/>
              </a:rPr>
              <a:t>        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SimSun"/>
              </a:rPr>
              <a:t>mixed with an inert ga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SimSun"/>
              </a:rPr>
              <a:t>        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SimSun"/>
              </a:rPr>
              <a:t>Requires high humidity&amp; tmperature : </a:t>
            </a:r>
            <a:r>
              <a:rPr b="0" lang="en-US" sz="1800" spc="-1" strike="noStrike">
                <a:solidFill>
                  <a:srgbClr val="00b0f0"/>
                </a:solidFill>
                <a:latin typeface="Tahoma"/>
                <a:ea typeface="SimSun"/>
              </a:rPr>
              <a:t>55-60°C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SimSun"/>
              </a:rPr>
              <a:t> and exposure period </a:t>
            </a:r>
            <a:r>
              <a:rPr b="0" lang="en-US" sz="1800" spc="-1" strike="noStrike">
                <a:solidFill>
                  <a:srgbClr val="92d050"/>
                </a:solidFill>
                <a:latin typeface="Tahoma"/>
                <a:ea typeface="SimSun"/>
              </a:rPr>
              <a:t>4-6 hours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SimSun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  <a:ea typeface="SimSun"/>
              </a:rPr>
              <a:t>2.   </a:t>
            </a:r>
            <a:r>
              <a:rPr b="1" lang="en-US" sz="1800" spc="-1" strike="noStrike">
                <a:solidFill>
                  <a:srgbClr val="ffc000"/>
                </a:solidFill>
                <a:latin typeface="Tahoma"/>
                <a:ea typeface="SimSun"/>
              </a:rPr>
              <a:t>Activated alkaline Gluteraldehyde 2%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  <a:ea typeface="SimSun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SimSun"/>
              </a:rPr>
              <a:t>Immerse item in solution for about 20 mins.  If the organism is </a:t>
            </a:r>
            <a:r>
              <a:rPr b="0" lang="en-US" sz="1800" spc="-1" strike="noStrike">
                <a:solidFill>
                  <a:srgbClr val="ffff00"/>
                </a:solidFill>
                <a:latin typeface="Tahoma"/>
                <a:ea typeface="SimSun"/>
              </a:rPr>
              <a:t>mycobacteria ( the cause of tuberculosis).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SimSun"/>
              </a:rPr>
              <a:t> But if spores  present then immersion period is 2-3 hou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  <a:ea typeface="SimSun"/>
              </a:rPr>
              <a:t>r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  <a:ea typeface="SimSun"/>
              </a:rPr>
              <a:t>Factors influencing activity of disinfectant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SimSun"/>
              </a:rPr>
              <a:t>1. Activity directly proportional to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  <a:ea typeface="SimSun"/>
              </a:rPr>
              <a:t>temperatur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SimSun"/>
              </a:rPr>
              <a:t>2. Directly proportional to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  <a:ea typeface="SimSun"/>
              </a:rPr>
              <a:t>concentration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SimSun"/>
              </a:rPr>
              <a:t> up to a point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SimSun"/>
              </a:rPr>
              <a:t>–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SimSun"/>
              </a:rPr>
              <a:t> optimum concentration.  After this level no advantage in further increases in concentratio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Picture 5" descr="http://t1.gstatic.com/images?q=tbn:HzalTD8j-GR8PM:http://www.prlog.org/10383255-chemical-disinfectants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12000" y="5229360"/>
            <a:ext cx="1152360" cy="129528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6" descr="http://t3.gstatic.com/images?q=tbn:Ef73UlvzVqfq-M:http://www.chemistryland.com/CHM130W/06-Nomenclature/NomenclatureHealth/Chlorates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380360" y="5157720"/>
            <a:ext cx="136836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  <a:ea typeface="SimSun"/>
              </a:rPr>
              <a:t>Factors influencing activity of disinfectant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SimSun"/>
              </a:rPr>
              <a:t>3. </a:t>
            </a:r>
            <a:r>
              <a:rPr b="1" lang="en-US" sz="2400" spc="-1" strike="noStrike">
                <a:solidFill>
                  <a:srgbClr val="ffff00"/>
                </a:solidFill>
                <a:latin typeface="Tahoma"/>
                <a:ea typeface="SimSun"/>
              </a:rPr>
              <a:t>May be inactivated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SimSun"/>
              </a:rPr>
              <a:t>by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  <a:ea typeface="SimSun"/>
              </a:rPr>
              <a:t>Dir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  <a:ea typeface="SimSun"/>
              </a:rPr>
              <a:t>Organic matter : Proteins, Pus, Blood, Mucus and Fec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  <a:ea typeface="SimSun"/>
              </a:rPr>
              <a:t>Non organic: Cork,and Some plastic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SimSun"/>
              </a:rPr>
              <a:t>4. </a:t>
            </a:r>
            <a:r>
              <a:rPr b="1" lang="en-US" sz="2400" spc="-1" strike="noStrike">
                <a:solidFill>
                  <a:srgbClr val="ffff00"/>
                </a:solidFill>
                <a:latin typeface="Tahoma"/>
                <a:ea typeface="SimSun"/>
              </a:rPr>
              <a:t>Time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SimSun"/>
              </a:rPr>
              <a:t> : Disinfectants need time to work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SimSun"/>
              </a:rPr>
              <a:t>5. </a:t>
            </a:r>
            <a:r>
              <a:rPr b="1" lang="en-US" sz="2400" spc="-1" strike="noStrike">
                <a:solidFill>
                  <a:srgbClr val="ffff00"/>
                </a:solidFill>
                <a:latin typeface="Tahoma"/>
                <a:ea typeface="SimSun"/>
              </a:rPr>
              <a:t>Range of Action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SimSun"/>
              </a:rPr>
              <a:t>: Disinfectants not equally effective against the whole spectrum of microbes.  e.g.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SimSun"/>
              </a:rPr>
              <a:t>Chlorhexidine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SimSun"/>
              </a:rPr>
              <a:t> less active against Gram negative bacteria than Gram positive cocci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SimSun"/>
              </a:rPr>
              <a:t> 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SimSun"/>
              </a:rPr>
              <a:t>Hypochlorites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SimSun"/>
              </a:rPr>
              <a:t> and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SimSun"/>
              </a:rPr>
              <a:t>Gluteraldehyde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SimSun"/>
              </a:rPr>
              <a:t> are more active against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SimSun"/>
              </a:rPr>
              <a:t>hepatitis viruses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SimSun"/>
              </a:rPr>
              <a:t>than most other disinfectant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457200" y="1600200"/>
          <a:ext cx="7859880" cy="4619520"/>
        </p:xfrm>
        <a:graphic>
          <a:graphicData uri="http://schemas.openxmlformats.org/drawingml/2006/table">
            <a:tbl>
              <a:tblPr/>
              <a:tblGrid>
                <a:gridCol w="1549440"/>
                <a:gridCol w="790560"/>
                <a:gridCol w="1020600"/>
                <a:gridCol w="801720"/>
                <a:gridCol w="603360"/>
                <a:gridCol w="831960"/>
                <a:gridCol w="701640"/>
                <a:gridCol w="1560600"/>
              </a:tblGrid>
              <a:tr h="274320">
                <a:tc rowSpan="2">
                  <a:txBody>
                    <a:bodyPr lIns="90000" rIns="90000" anchor="ctr">
                      <a:noAutofit/>
                    </a:bodyPr>
                    <a:p>
                      <a:pPr marL="343080" indent="-343080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00"/>
                          </a:solidFill>
                          <a:latin typeface="Times New Roman"/>
                          <a:ea typeface="SimSun"/>
                        </a:rPr>
                        <a:t>Disinfectant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GPC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Activity against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TB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Inactivated by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Corrosiv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A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456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GNB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Spor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Protei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Soa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6840">
                <a:tc>
                  <a:txBody>
                    <a:bodyPr lIns="90000" rIns="90000" anchor="t">
                      <a:noAutofit/>
                    </a:bodyPr>
                    <a:p>
                      <a:pPr marL="343080" indent="-343080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Phenolic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Sudol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++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++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SimSun"/>
                        </a:rPr>
                        <a:t>_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+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SimSun"/>
                        </a:rPr>
                        <a:t>+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SimSun"/>
                        </a:rPr>
                        <a:t>_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+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 marL="343080" indent="-343080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Izal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++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++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SimSun"/>
                        </a:rPr>
                        <a:t>_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SimSun"/>
                        </a:rPr>
                        <a:t>_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SimSun"/>
                        </a:rPr>
                        <a:t>+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SimSun"/>
                        </a:rPr>
                        <a:t>_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SimSun"/>
                        </a:rPr>
                        <a:t>_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360">
                <a:tc>
                  <a:txBody>
                    <a:bodyPr lIns="90000" rIns="90000" anchor="t">
                      <a:noAutofit/>
                    </a:bodyPr>
                    <a:p>
                      <a:pPr marL="343080" indent="-343080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Solubl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Phenolic*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e.g. clearsol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++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++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SimSun"/>
                        </a:rPr>
                        <a:t>_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+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SimSun"/>
                        </a:rPr>
                        <a:t>+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SimSun"/>
                        </a:rPr>
                        <a:t>_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SimSun"/>
                        </a:rPr>
                        <a:t>+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to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 +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>
                  <a:txBody>
                    <a:bodyPr lIns="90000" rIns="90000" anchor="t">
                      <a:noAutofit/>
                    </a:bodyPr>
                    <a:p>
                      <a:pPr marL="343080" indent="-343080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Chlorin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compound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++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++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++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+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++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SimSun"/>
                        </a:rPr>
                        <a:t>_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++ 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or</a:t>
                      </a:r>
                      <a:r>
                        <a:rPr b="1" lang="en-US" sz="1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SimSun"/>
                        </a:rPr>
                        <a:t> +</a:t>
                      </a:r>
                      <a:r>
                        <a:rPr b="1" lang="ar-SA" sz="12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</a:t>
                      </a:r>
                      <a:r>
                        <a:rPr b="1" lang="en-US" sz="1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SimSun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(buffered Solution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>
                  <a:txBody>
                    <a:bodyPr lIns="90000" rIns="90000" anchor="t">
                      <a:noAutofit/>
                    </a:bodyPr>
                    <a:p>
                      <a:pPr marL="343080" indent="-343080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Lodopho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++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++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+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(Slow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+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+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SimSun"/>
                        </a:rPr>
                        <a:t>_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SimSun"/>
                        </a:rPr>
                        <a:t>_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>
                  <a:txBody>
                    <a:bodyPr lIns="90000" rIns="90000" anchor="t">
                      <a:noAutofit/>
                    </a:bodyPr>
                    <a:p>
                      <a:pPr marL="343080" indent="-343080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SimSun"/>
                        </a:rPr>
                        <a:t>Chorhexidin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SimSun"/>
                        </a:rPr>
                        <a:t>(Hibitane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++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+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SimSun"/>
                        </a:rPr>
                        <a:t>_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SimSun"/>
                        </a:rPr>
                        <a:t>_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SimSun"/>
                        </a:rPr>
                        <a:t>_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SimSun"/>
                        </a:rPr>
                        <a:t>_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SimSun"/>
                        </a:rPr>
                        <a:t>_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 marL="343080" indent="-343080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70°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alcohol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++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++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SimSun"/>
                        </a:rPr>
                        <a:t>_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ctr" pos="190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SimSun"/>
                        </a:rPr>
                        <a:t>+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++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SimSun"/>
                        </a:rPr>
                        <a:t>_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SimSun"/>
                        </a:rPr>
                        <a:t>_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>
                  <a:txBody>
                    <a:bodyPr lIns="90000" rIns="90000" anchor="t">
                      <a:noAutofit/>
                    </a:bodyPr>
                    <a:p>
                      <a:pPr marL="343080" indent="-343080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Formaldehy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++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++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++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SimSun"/>
                        </a:rPr>
                        <a:t>(slow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ctr" pos="190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++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+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SimSun"/>
                        </a:rPr>
                        <a:t>_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++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>
                  <a:txBody>
                    <a:bodyPr lIns="90000" rIns="90000" anchor="t">
                      <a:noAutofit/>
                    </a:bodyPr>
                    <a:p>
                      <a:pPr marL="343080" indent="-343080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SimSun"/>
                        </a:rPr>
                        <a:t>Glutaraldehy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SimSun"/>
                        </a:rPr>
                        <a:t>(Cidex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++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++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++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++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SimSun"/>
                        </a:rPr>
                        <a:t>+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SimSun"/>
                        </a:rPr>
                        <a:t>_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+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ahoma"/>
              </a:rPr>
              <a:t>Summary of Hospital disinfection method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Article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           </a:t>
            </a: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Disinfectan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loors, walls                 Phenolics fluids 1-2%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urfaces tables            Hypochlorite, Alcohol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Skin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urgeon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hands            Chlorhexidine, Iodin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       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lcoho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atient skin                  70% Alcohol, Iodin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2d050"/>
                </a:solidFill>
                <a:latin typeface="Tahoma"/>
              </a:rPr>
              <a:t>Endoscopes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             Gluteraldehyde 2%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       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(Cid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b0f0"/>
                </a:solidFill>
                <a:latin typeface="Tahoma"/>
              </a:rPr>
              <a:t>Thermometers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          70% Alcohol            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2" descr="http://t0.gstatic.com/images?q=tbn:fd2MPtPi-CXbJM:http://image.shutterstock.com/display_pic_with_logo/388663/388663,1245079056,31/stock-vector-hand-washing-32072236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411280" y="3573360"/>
            <a:ext cx="5256360" cy="273528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4" descr="http://t0.gstatic.com/images?q=tbn:8O4k7tUPUvJS_M:http://www.justbathroomsigns.com/img/lg/S/Hand-Wash-Hygiene-Sign-S-4871.gif"/>
          <p:cNvPicPr/>
          <p:nvPr/>
        </p:nvPicPr>
        <p:blipFill>
          <a:blip r:embed="rId3"/>
          <a:stretch/>
        </p:blipFill>
        <p:spPr>
          <a:xfrm>
            <a:off x="5940360" y="620640"/>
            <a:ext cx="2376720" cy="259236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6" descr="http://t2.gstatic.com/images?q=tbn:Mw9mdRi1ZDUo-M:http://www.defendingfoodsafety.com/uploads/image/Hand%2520Washing.jpg"/>
          <p:cNvPicPr/>
          <p:nvPr/>
        </p:nvPicPr>
        <p:blipFill>
          <a:blip r:embed="rId4"/>
          <a:stretch/>
        </p:blipFill>
        <p:spPr>
          <a:xfrm>
            <a:off x="1908000" y="692280"/>
            <a:ext cx="3456000" cy="24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ahoma"/>
                <a:ea typeface="SimSun"/>
              </a:rPr>
              <a:t>Methods of sterilization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SzPct val="70000"/>
              <a:buFont typeface="Tahom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SimSun"/>
              </a:rPr>
              <a:t>Physical Method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SzPct val="70000"/>
              <a:buFont typeface="Tahom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SimSun"/>
              </a:rPr>
              <a:t>Chemical Methods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  <a:ea typeface="SimSun"/>
              </a:rPr>
              <a:t>PHYSICAL METHOD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lvl="1" marL="114516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SimSu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  <a:ea typeface="SimSun"/>
              </a:rPr>
              <a:t>HEAT 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SimSun"/>
              </a:rPr>
              <a:t>: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SimSun"/>
              </a:rPr>
              <a:t>Most important should be used whenever possibl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SimSun"/>
              </a:rPr>
              <a:t> could be 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114516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SimSun"/>
              </a:rPr>
              <a:t>A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  <a:ea typeface="SimSun"/>
              </a:rPr>
              <a:t>-Dry heat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SimSun"/>
              </a:rPr>
              <a:t>at temperature of 160˚C for one hou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114516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SimSun"/>
              </a:rPr>
              <a:t>B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  <a:ea typeface="SimSun"/>
              </a:rPr>
              <a:t>- Moist heat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SimSun"/>
              </a:rPr>
              <a:t>eg. in the autoclav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114516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SimSun"/>
              </a:rPr>
              <a:t>At 121 for 15 minutes or 134 C for 10 minute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ahoma"/>
                <a:ea typeface="SimSun"/>
              </a:rPr>
              <a:t>Radiation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ahoma"/>
                <a:ea typeface="SimSun"/>
              </a:rPr>
              <a:t>U.V. light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SimSun"/>
              </a:rPr>
              <a:t>Has limited sterilizing power because of poor penetration into most materials. Generally used in irradiation of air in certain areas .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SimSun"/>
              </a:rPr>
              <a:t>Used in operating rooms and tuberculosi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SimSu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SimSun"/>
              </a:rPr>
              <a:t>lab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ahoma"/>
                <a:ea typeface="SimSun"/>
              </a:rPr>
              <a:t>Ionizing radiation-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SimSun"/>
              </a:rPr>
              <a:t>e.g. </a:t>
            </a:r>
            <a:r>
              <a:rPr b="0" lang="en-US" sz="2400" spc="-1" strike="noStrike">
                <a:solidFill>
                  <a:srgbClr val="ffc000"/>
                </a:solidFill>
                <a:latin typeface="Tahoma"/>
                <a:ea typeface="SimSun"/>
              </a:rPr>
              <a:t>Gamma radiation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SimSun"/>
              </a:rPr>
              <a:t>: Source of Cobalt 60 has greater energy than U.V. light, therefore more effective. Used mainly in industrial facilities .</a:t>
            </a:r>
            <a:r>
              <a:rPr b="1" lang="en-US" sz="2400" spc="-1" strike="noStrike">
                <a:solidFill>
                  <a:srgbClr val="00b050"/>
                </a:solidFill>
                <a:latin typeface="Tahoma"/>
                <a:ea typeface="SimSun"/>
              </a:rPr>
              <a:t>Used for sterilization of disposable plastic syringes, gloves, specimens containers and Petri dish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9" name="Picture 5" descr="http://t2.gstatic.com/images?q=tbn:MKoKR8K9RL-97M:http://www.viviente.com/images/ionizing_radiation.p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04000" y="549360"/>
            <a:ext cx="128592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ahoma"/>
                <a:ea typeface="SimSun"/>
              </a:rPr>
              <a:t>Filtration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SimSun"/>
              </a:rPr>
              <a:t>May be done under either negative or positive pressure. Best known example is the </a:t>
            </a:r>
            <a:r>
              <a:rPr b="0" i="1" lang="en-US" sz="2800" spc="-1" strike="noStrike">
                <a:solidFill>
                  <a:srgbClr val="00b0f0"/>
                </a:solidFill>
                <a:latin typeface="Tahoma"/>
                <a:ea typeface="SimSun"/>
              </a:rPr>
              <a:t>membrane filter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SimSun"/>
              </a:rPr>
              <a:t>made from cellulose acetate. Generally removes most bacteria but viruses and some small bacteria e.g. </a:t>
            </a:r>
            <a:r>
              <a:rPr b="0" i="1" lang="en-US" sz="2800" spc="-1" strike="noStrike">
                <a:solidFill>
                  <a:srgbClr val="ffc000"/>
                </a:solidFill>
                <a:latin typeface="Tahoma"/>
                <a:ea typeface="SimSun"/>
              </a:rPr>
              <a:t>Chlamydia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SimSun"/>
              </a:rPr>
              <a:t> &amp; </a:t>
            </a:r>
            <a:r>
              <a:rPr b="0" i="1" lang="en-US" sz="2800" spc="-1" strike="noStrike">
                <a:solidFill>
                  <a:srgbClr val="ffc000"/>
                </a:solidFill>
                <a:latin typeface="Tahoma"/>
                <a:ea typeface="SimSun"/>
              </a:rPr>
              <a:t>Mycoplasma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SimSun"/>
              </a:rPr>
              <a:t> may pass through. Thus filtration does not technically sterilize items but is adequate for circumstances under which is use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ahoma"/>
                <a:ea typeface="SimSun"/>
              </a:rPr>
              <a:t>Main use: for heat labile substances e.g. sera &amp; antibiotic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http://t3.gstatic.com/images?q=tbn:Fo27iUeAdcieTM:http://www.duckol.com/uploadFiles/upimg26/Microfiltration-Membrane-Filters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908000" y="620640"/>
            <a:ext cx="2735280" cy="31687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4" descr="http://t1.gstatic.com/images?q=tbn:35FVmUfK3cURBM:http://images2.opticsplanet.com/640-640/opplanet-whatman-filter-holders-for-nuclepore-membrane-filters-whatman-420200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012000" y="620640"/>
            <a:ext cx="2447640" cy="30243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http://t1.gstatic.com/images?q=tbn:4ZGd9vK2iMgHGM:http://www.trinityfiltration.in/images/membrane-filters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867280" y="4149720"/>
            <a:ext cx="2737080" cy="22320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8" descr="http://t3.gstatic.com/images?q=tbn:wionk_8EKOMzXM:http://imghost1.indiamart.com/data2/YY/NJ/MY-1857873/membrane_pic-500x500-250x250.jpg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1763640" y="4221000"/>
            <a:ext cx="266400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000"/>
                </a:solidFill>
                <a:latin typeface="Tahoma"/>
                <a:ea typeface="SimSun"/>
              </a:rPr>
              <a:t>Chemical Method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SimSun"/>
              </a:rPr>
              <a:t>Some strong chemical substances may be used to achieve sterilization in hospital use e.g. 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  <a:ea typeface="SimSun"/>
              </a:rPr>
              <a:t>Gluteraldehyde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SimSun"/>
              </a:rPr>
              <a:t> and </a:t>
            </a:r>
            <a:r>
              <a:rPr b="1" lang="en-US" sz="3200" spc="-1" strike="noStrike">
                <a:solidFill>
                  <a:srgbClr val="00b050"/>
                </a:solidFill>
                <a:latin typeface="Tahoma"/>
                <a:ea typeface="SimSun"/>
              </a:rPr>
              <a:t>Ethylene oxide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SimSu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  <a:ea typeface="SimSun"/>
              </a:rPr>
              <a:t>Sterilization by Heat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Tahoma"/>
                <a:ea typeface="SimSun"/>
              </a:rPr>
              <a:t>Most common method</a:t>
            </a:r>
            <a:br>
              <a:rPr sz="3200"/>
            </a:br>
            <a:r>
              <a:rPr b="0" lang="en-US" sz="3200" spc="-1" strike="noStrike">
                <a:solidFill>
                  <a:srgbClr val="eaeaea"/>
                </a:solidFill>
                <a:latin typeface="Tahoma"/>
                <a:ea typeface="SimSun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  <a:ea typeface="SimSun"/>
              </a:rPr>
              <a:t>Dry Heat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SimSun"/>
              </a:rPr>
              <a:t>Dry Heat- kills microorganisms 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000"/>
                </a:solidFill>
                <a:latin typeface="Tahoma"/>
                <a:ea typeface="SimSun"/>
              </a:rPr>
              <a:t>Simplest method is exposing item to be sterilized to the naked flame .</a:t>
            </a:r>
            <a:r>
              <a:rPr b="1" lang="en-US" sz="2000" spc="-1" strike="noStrike">
                <a:solidFill>
                  <a:srgbClr val="ffc000"/>
                </a:solidFill>
                <a:latin typeface="Tahoma"/>
                <a:ea typeface="SimSun"/>
              </a:rPr>
              <a:t>Application </a:t>
            </a:r>
            <a:r>
              <a:rPr b="0" lang="en-US" sz="2000" spc="-1" strike="noStrike">
                <a:solidFill>
                  <a:srgbClr val="ffc000"/>
                </a:solidFill>
                <a:latin typeface="Tahoma"/>
                <a:ea typeface="SimSun"/>
              </a:rPr>
              <a:t>:- Bunsen burner used for sterilizing bacteriological loops, knives, blad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SimSun"/>
              </a:rPr>
              <a:t>Hot air oven </a:t>
            </a:r>
            <a:r>
              <a:rPr b="1" lang="en-US" sz="2000" spc="-1" strike="noStrike">
                <a:solidFill>
                  <a:srgbClr val="ffc000"/>
                </a:solidFill>
                <a:latin typeface="Tahoma"/>
                <a:ea typeface="SimSun"/>
              </a:rPr>
              <a:t>expose items to 160 °C for 1 hour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SimSun"/>
              </a:rPr>
              <a:t>Has electric element in chamber as source of heat plus a fan to circulate air for even distribution of heat in chamber.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SimSun"/>
              </a:rPr>
              <a:t>Used to sterilize items that are lacking water such as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2d050"/>
                </a:solidFill>
                <a:latin typeface="Tahoma"/>
                <a:ea typeface="SimSun"/>
              </a:rPr>
              <a:t>    </a:t>
            </a:r>
            <a:r>
              <a:rPr b="0" lang="en-US" sz="2400" spc="-1" strike="noStrike">
                <a:solidFill>
                  <a:srgbClr val="92d050"/>
                </a:solidFill>
                <a:latin typeface="Tahoma"/>
                <a:ea typeface="SimSun"/>
              </a:rPr>
              <a:t>-Metal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2d050"/>
                </a:solidFill>
                <a:latin typeface="Tahoma"/>
                <a:ea typeface="SimSun"/>
              </a:rPr>
              <a:t>    </a:t>
            </a:r>
            <a:r>
              <a:rPr b="0" lang="en-US" sz="2400" spc="-1" strike="noStrike">
                <a:solidFill>
                  <a:srgbClr val="92d050"/>
                </a:solidFill>
                <a:latin typeface="Tahoma"/>
                <a:ea typeface="SimSun"/>
              </a:rPr>
              <a:t>-Glasswar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2d050"/>
                </a:solidFill>
                <a:latin typeface="Tahoma"/>
                <a:ea typeface="SimSun"/>
              </a:rPr>
              <a:t>    </a:t>
            </a:r>
            <a:r>
              <a:rPr b="0" lang="en-US" sz="2400" spc="-1" strike="noStrike">
                <a:solidFill>
                  <a:srgbClr val="92d050"/>
                </a:solidFill>
                <a:latin typeface="Tahoma"/>
                <a:ea typeface="SimSun"/>
              </a:rPr>
              <a:t>-Ointment / Oils/ Waxes /Powd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SimSu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9T07:27:43Z</dcterms:created>
  <dc:creator>Prof.Kambal</dc:creator>
  <dc:description/>
  <dc:language>en-US</dc:language>
  <cp:lastModifiedBy>abdulaziz alkhattaf</cp:lastModifiedBy>
  <dcterms:modified xsi:type="dcterms:W3CDTF">2014-10-12T09:34:11Z</dcterms:modified>
  <cp:revision>59</cp:revision>
  <dc:subject/>
  <dc:title>Sterilization &amp; Disinfection</dc:title>
</cp:coreProperties>
</file>