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F5F-123D-4E7F-ACF6-CEEB3C00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BFB-1257-4AF5-9676-5A58A735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175-58BE-4048-80F8-BC6F1A7C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A4B-38CA-4400-A70E-5B96B842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09A-974D-4A48-98AD-5AE9FEC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895-232E-40A8-9C38-68BA31F7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65B-67CF-45DE-A6F4-884C5FCD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563-25AC-4239-AD2B-F9A85E7D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DAB-AD7B-4BAB-A260-6B3DAB3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DD3-4E6A-46FB-9D08-82D0F79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A44-1265-4F26-9D2E-0E6372A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150-E1A9-4C12-A81F-BD5A28C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878-C7D6-4C31-A8F1-971A3779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638-0E58-4AFD-8EA4-B8CD1CF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4F0-685A-4A00-B602-6F60CBB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B99-C3AC-4979-BD8C-9049E516F8F7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226-6D59-41D7-8AD3-05996C61EC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FD1-5615-4863-8D38-C5F7725DEF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20"/>
          <p:cNvCxnSpPr/>
          <p:nvPr/>
        </p:nvCxnSpPr>
        <p:spPr>
          <a:xfrm>
            <a:off x="2133360" y="3962160"/>
            <a:ext cx="23626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182880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152280" y="4343400"/>
            <a:ext cx="4191120" cy="21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labeled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80880" y="457200"/>
            <a:ext cx="320040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Midbr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P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Medulla oblong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. Cerebel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 Cereb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. Di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Free User\My Documents\My Pictures\Brain parts1.bmp"/>
          <p:cNvPicPr/>
          <p:nvPr/>
        </p:nvPicPr>
        <p:blipFill>
          <a:blip r:embed="rId1"/>
          <a:stretch/>
        </p:blipFill>
        <p:spPr>
          <a:xfrm>
            <a:off x="3733920" y="457200"/>
            <a:ext cx="510516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6172200" y="3657600"/>
            <a:ext cx="4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61722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77120" y="50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70866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156360" y="1752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019920" y="29718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86000" y="2743200"/>
            <a:ext cx="6094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9B6-E17F-4B33-AAD9-FD15B919DA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rsiflex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erflex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C20-9384-443C-AA4C-4C0DA525D4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124080" y="2514600"/>
            <a:ext cx="83844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362320" y="3657600"/>
            <a:ext cx="1143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TER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NE IN THE FIUR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B54-4476-471C-BE7E-971C438B9E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69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ex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-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98A-A7BB-4620-8C1B-67C3A7EE89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E:\dad\Student Gray\7. Upper limb\F66122-007-f093a.jpg"/>
          <p:cNvPicPr/>
          <p:nvPr/>
        </p:nvPicPr>
        <p:blipFill>
          <a:blip r:embed="rId1"/>
          <a:srcRect l="15913" t="8809" r="15913" b="14303"/>
          <a:stretch/>
        </p:blipFill>
        <p:spPr>
          <a:xfrm>
            <a:off x="457200" y="1522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600200" y="5486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3737520" y="57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638680" y="53352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809880" y="838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E:\dad\Student Gray\7. Upper limb\F66122-007-f093a.jpg"/>
          <p:cNvPicPr/>
          <p:nvPr/>
        </p:nvPicPr>
        <p:blipFill>
          <a:blip r:embed="rId1"/>
          <a:srcRect l="15913" t="8809" r="15913" b="14303"/>
          <a:stretch/>
        </p:blipFill>
        <p:spPr>
          <a:xfrm>
            <a:off x="457200" y="1522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15238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737520" y="57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638680" y="533520"/>
            <a:ext cx="3276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carpal b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9880" y="914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IS TYP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SKELETAL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DFA-6946-4B9B-BF2D-5751CC6AA3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876920" y="838080"/>
            <a:ext cx="38862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pen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EA9-5D9B-4450-BE6B-0675FD590F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876920" y="838080"/>
            <a:ext cx="38862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AA2-FA7C-42B3-8FE1-E902B8B292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20"/>
          <p:cNvCxnSpPr/>
          <p:nvPr/>
        </p:nvCxnSpPr>
        <p:spPr>
          <a:xfrm>
            <a:off x="2133360" y="3962160"/>
            <a:ext cx="23626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182880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152280" y="4343400"/>
            <a:ext cx="4191120" cy="183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labeled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u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e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b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Free User\My Documents\My Pictures\image.gif"/>
          <p:cNvPicPr/>
          <p:nvPr/>
        </p:nvPicPr>
        <p:blipFill>
          <a:blip r:embed="rId1"/>
          <a:stretch/>
        </p:blipFill>
        <p:spPr>
          <a:xfrm>
            <a:off x="3505320" y="990720"/>
            <a:ext cx="2209680" cy="482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1" name="Left Arrow 2"/>
          <p:cNvSpPr/>
          <p:nvPr/>
        </p:nvSpPr>
        <p:spPr>
          <a:xfrm>
            <a:off x="5257800" y="1523880"/>
            <a:ext cx="838080" cy="7632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3"/>
          <p:cNvSpPr/>
          <p:nvPr/>
        </p:nvSpPr>
        <p:spPr>
          <a:xfrm>
            <a:off x="3276720" y="2133720"/>
            <a:ext cx="1218960" cy="7596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4"/>
          <p:cNvSpPr/>
          <p:nvPr/>
        </p:nvSpPr>
        <p:spPr>
          <a:xfrm>
            <a:off x="3048120" y="3962520"/>
            <a:ext cx="1066680" cy="759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1992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971800" y="1752480"/>
            <a:ext cx="3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8954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 Arrow 10"/>
          <p:cNvSpPr/>
          <p:nvPr/>
        </p:nvSpPr>
        <p:spPr>
          <a:xfrm>
            <a:off x="4343400" y="3581280"/>
            <a:ext cx="685800" cy="46080"/>
          </a:xfrm>
          <a:prstGeom prst="lef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0292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28600" y="380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Free User\My Documents\My Pictures\image010.jpg"/>
          <p:cNvPicPr/>
          <p:nvPr/>
        </p:nvPicPr>
        <p:blipFill>
          <a:blip r:embed="rId1"/>
          <a:srcRect l="45226" t="0" r="0" b="0"/>
          <a:stretch/>
        </p:blipFill>
        <p:spPr>
          <a:xfrm>
            <a:off x="3581280" y="838080"/>
            <a:ext cx="1710000" cy="4876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1" name="Left Arrow 2"/>
          <p:cNvSpPr/>
          <p:nvPr/>
        </p:nvSpPr>
        <p:spPr>
          <a:xfrm>
            <a:off x="4876920" y="2286000"/>
            <a:ext cx="990360" cy="7632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3"/>
          <p:cNvSpPr/>
          <p:nvPr/>
        </p:nvSpPr>
        <p:spPr>
          <a:xfrm>
            <a:off x="3352680" y="4038480"/>
            <a:ext cx="1295640" cy="4608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eft Arrow 4"/>
          <p:cNvSpPr/>
          <p:nvPr/>
        </p:nvSpPr>
        <p:spPr>
          <a:xfrm>
            <a:off x="4876920" y="4267080"/>
            <a:ext cx="685800" cy="7632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Arrow 5"/>
          <p:cNvSpPr/>
          <p:nvPr/>
        </p:nvSpPr>
        <p:spPr>
          <a:xfrm>
            <a:off x="4876920" y="1143000"/>
            <a:ext cx="838080" cy="46080"/>
          </a:xfrm>
          <a:prstGeom prst="leftArrow">
            <a:avLst>
              <a:gd name="adj1" fmla="val 50000"/>
              <a:gd name="adj2" fmla="val 499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715000" y="838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7913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200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627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10"/>
          <p:cNvSpPr/>
          <p:nvPr/>
        </p:nvSpPr>
        <p:spPr>
          <a:xfrm>
            <a:off x="2857680" y="928800"/>
            <a:ext cx="1500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93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1"/>
          <p:cNvSpPr/>
          <p:nvPr/>
        </p:nvSpPr>
        <p:spPr>
          <a:xfrm>
            <a:off x="4357800" y="928800"/>
            <a:ext cx="46080" cy="285480"/>
          </a:xfrm>
          <a:prstGeom prst="downArrow">
            <a:avLst>
              <a:gd name="adj1" fmla="val 50000"/>
              <a:gd name="adj2" fmla="val 49562"/>
            </a:avLst>
          </a:prstGeom>
          <a:solidFill>
            <a:srgbClr val="4f81bd"/>
          </a:solidFill>
          <a:ln w="93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228600" y="380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17B-1870-483F-882D-18CC240636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10704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04920" y="762120"/>
            <a:ext cx="4114800" cy="4480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ype of the bone mark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6E2-7555-40BC-975A-19071EC895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610704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629400" y="3733920"/>
            <a:ext cx="2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04920" y="762120"/>
            <a:ext cx="4114800" cy="4480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ype of the bone mark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lat b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560" y="1447560"/>
            <a:ext cx="3276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LABELED STRUCTUR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CF7-3941-4ED6-BD46-65E9555452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6"/>
          <p:cNvSpPr/>
          <p:nvPr/>
        </p:nvSpPr>
        <p:spPr>
          <a:xfrm>
            <a:off x="4728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867280" y="4952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0"/>
          <p:cNvCxnSpPr>
            <a:stCxn id="106" idx="3"/>
          </p:cNvCxnSpPr>
          <p:nvPr/>
        </p:nvCxnSpPr>
        <p:spPr>
          <a:xfrm>
            <a:off x="6248160" y="5214600"/>
            <a:ext cx="114372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560" y="1447560"/>
            <a:ext cx="3276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LABELED STRUCTUR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ebr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ebell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inal co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ncephal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E318-0FA1-40E1-8213-3B7182F21F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TextBox 6"/>
          <p:cNvSpPr/>
          <p:nvPr/>
        </p:nvSpPr>
        <p:spPr>
          <a:xfrm>
            <a:off x="4728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867280" y="4952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0"/>
          <p:cNvCxnSpPr>
            <a:stCxn id="117" idx="3"/>
          </p:cNvCxnSpPr>
          <p:nvPr/>
        </p:nvCxnSpPr>
        <p:spPr>
          <a:xfrm>
            <a:off x="6248160" y="5214600"/>
            <a:ext cx="114372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Free User\My Documents\My Pictures\Brain parts1.bmp"/>
          <p:cNvPicPr/>
          <p:nvPr/>
        </p:nvPicPr>
        <p:blipFill>
          <a:blip r:embed="rId1"/>
          <a:stretch/>
        </p:blipFill>
        <p:spPr>
          <a:xfrm>
            <a:off x="2819520" y="914400"/>
            <a:ext cx="594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parts of the brain marked A, B, C, D, &amp;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6"/>
          <p:cNvCxnSpPr/>
          <p:nvPr/>
        </p:nvCxnSpPr>
        <p:spPr>
          <a:xfrm flipV="1">
            <a:off x="5486040" y="5180760"/>
            <a:ext cx="61020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9"/>
          <p:cNvSpPr/>
          <p:nvPr/>
        </p:nvSpPr>
        <p:spPr>
          <a:xfrm>
            <a:off x="403848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V="1">
            <a:off x="4648320" y="3885480"/>
            <a:ext cx="121968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11"/>
          <p:cNvCxnSpPr/>
          <p:nvPr/>
        </p:nvCxnSpPr>
        <p:spPr>
          <a:xfrm flipV="1">
            <a:off x="4572000" y="4494960"/>
            <a:ext cx="129600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2"/>
          <p:cNvCxnSpPr/>
          <p:nvPr/>
        </p:nvCxnSpPr>
        <p:spPr>
          <a:xfrm flipH="1" flipV="1">
            <a:off x="6857280" y="4266360"/>
            <a:ext cx="68652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14"/>
          <p:cNvSpPr/>
          <p:nvPr/>
        </p:nvSpPr>
        <p:spPr>
          <a:xfrm>
            <a:off x="3962520" y="5638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800600" y="5943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7315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579132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530320" y="3276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44:41Z</dcterms:created>
  <dc:creator>Aly</dc:creator>
  <dc:description/>
  <dc:language>en-US</dc:language>
  <cp:lastModifiedBy> saeed abuelmakarem</cp:lastModifiedBy>
  <dcterms:modified xsi:type="dcterms:W3CDTF">2014-11-02T09:45:56Z</dcterms:modified>
  <cp:revision>30</cp:revision>
  <dc:subject/>
  <dc:title>Slide 1</dc:title>
</cp:coreProperties>
</file>