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0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7D96-535C-4A23-B85B-A930E6503BF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1ED3-B819-487B-9C54-A763084903A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8C3A-1084-4D0D-BFEC-2A2BFCDD81B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674E-8A53-4220-B5D5-FF42CED4673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8038-8D8B-4668-B9C2-5130F0062CA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306D-545D-4714-B18B-41328E0C5BA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10EA-FE8B-4E1C-9592-802AAA81929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A04C-676F-4148-9E88-61705BAE0D1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2764-19ED-45A8-BD1F-36A52040B07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7C0A-1BEA-490C-82F2-0075C65D436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B82E-EBC1-4190-B732-A567793A14E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593F-4C0B-4FC3-923F-2A2434D3F11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F1B1-64A6-4088-8E24-7F75F7FA925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AF80-E2E7-43E0-873C-BEAC5FC19A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9822-1B4C-4ABE-910B-33C76553AF3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848-C1C8-4407-85E5-BC2F85BE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B76-B28E-4081-AFAD-AA099354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427-7FD2-4205-982A-C3DBAB8A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843-5261-4A19-A75C-B6A51402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ABB3-41DD-4F63-AAA4-5C6488BF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9378-95DB-43EC-8800-07432379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CD1E-B573-49B5-B5FA-85D191AE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BE03-F0BA-48DD-82C2-166FB96A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78FE-0932-4245-A8D1-7BCF02F9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A54E-0657-467C-BAE2-20A353E6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A308-D84F-4F27-9D0D-EA28B0F8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916-4A68-473A-81B9-E0460274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E010-F4D0-45FD-A2B1-1163453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3150-3A9A-46E0-B82E-08ABF85D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7C56-1581-4134-BA68-84D346F3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3CDD-E069-4BAA-9BF5-2CB65444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D740-68AF-4E09-8782-DD918D2B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77659-2772-4E92-8493-922FF26D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61EC1-F854-4FC6-9EAA-FF6CC1FD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282E-BC88-4258-860A-A1207B7C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63326-3601-463C-A3A4-74629BCD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59E7-1A27-40EA-90A8-8111CE04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CBE3-75BF-44D6-B6FD-5B7F9302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AF8C-3A03-4AE6-BF59-36D28EFF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3B9D-C764-4181-BDE4-F7B1DF9A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6118-7259-4092-A0BB-45F269B4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C5F1-57D3-40C8-AD0F-4AC02FFA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AB02-3C12-49EA-B4FC-3A28DAD3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A646C-CC86-4D21-97C8-E45ED344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7E95F-EE3F-43A0-B879-3C8ECC4B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BD3E5-AF19-4A90-B4DD-0B28C1C4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0055-8494-4388-B2CD-751DF75B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DE28-E347-48C8-8DE5-A7B9CFCB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714-C66A-40C3-9EDA-B0CF4FB4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8DB16-9CF9-4B97-A982-04FE741D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BB12-47E8-4DAE-8CC3-8E4FFAA8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A398B-0A1C-451D-AB95-05BF826C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E5827-BA9F-469D-8F3B-9581B8A8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351A8-24B6-49B5-9BE8-8C083FD3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27A43-FC9A-42F6-8CB4-44FCEA45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496BD-F874-47DD-B5DF-CFEF1AB4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BE96B-F6A0-4171-98AD-2EE656D7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3B8C-D1B6-4F64-9BCD-A0E10115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BD648-9AB0-4806-9B7F-AE694DD1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22F-D386-45AB-8CCA-A47CE829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51C83-E25B-4CFA-9FF4-2AC945B7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ABBAB-EA28-4F4A-80CA-195CCBA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13824-7761-43F7-AB23-D2657EA0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9E24-B932-49D5-8C97-009FB6CF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A5488-4BCD-49B0-AA33-ACD89E0E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17173-5CBE-4858-91E1-381B4065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3D0F8-7C02-45F2-9D48-7C24A95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AC918-EC51-4E4F-A252-E6F16FB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4FC3E-1144-48CB-B3A8-3C36D73B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E7148-4AEB-4C4D-8DE5-0A375B1E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6C8-CC71-404C-ADB7-108D0AF4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01056-C3E8-4092-97AF-7CC8A387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34931-29C6-4DAF-82AB-E9CCFEB9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BFD1F-5593-4F50-AD67-C404C1BA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90B3B-C5AB-4B69-8B22-42573F14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D0DA9-EAD5-4A99-8A39-1E8F3C03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0291C-8676-4537-9694-14BE93A4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26A2B-BA3D-4F6B-B1E6-081A49C6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68A8F-B1BE-4CA0-84A9-CD5D1F1D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955ED-3C47-4191-BFFF-13A4A2F5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E9802-870F-402C-BE35-1D249BF5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067-5C26-4BB4-ACC4-63F5EEBE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BB4FD-320E-4896-8993-69DA295B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E310B-CC33-4790-82F6-9E35F318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840F6-348A-4255-AC3F-E38B7CAA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E85CE-2E60-4F35-BBF8-97CCB5FF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840A4-1027-4627-A765-79AB8388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85E60-D4AC-486E-A849-DF909980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D31EE-E22C-4A10-9F20-23BE257D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BE7F8-A6B7-4655-A911-3F56E9A8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A76F8-0D1F-477F-9AD9-4FFFA06E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73FFD-F22B-465D-AAA6-AC463CD6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F892-88A7-4B29-8A5A-0B219929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64B56-D5FA-4A85-BF2E-13578DB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3F2C7-477E-486D-8AA5-83B030DF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9B4F1-087A-43E8-9408-5831B12D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3E496-3A08-435C-B0CE-84FFB3DB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53F8B-1806-4A1F-828E-B8AE6532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748E6-6C33-4B43-8566-7832099B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2AEAC-1DFE-4A99-9665-0D1AF0AD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9829D-813D-4AA0-B1A7-7C64B40C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BDF71-1033-4C2F-8D08-AA7E8510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3C4EE-196C-4BBB-9E50-A4AEC24D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941-844B-41DF-B655-B009FFDC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74A24-E108-4482-AB12-5585BB92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49C26-2481-448B-823D-30B4B37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85F64-E657-44D9-A7E8-5DCE35A9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8798C-F68F-423C-A320-6CDA47A3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5EDAB-C44A-4AF4-940E-DCEEE0E6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9B654-0C63-48B3-8FFC-E3C50990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C153C-7E7B-4A6D-AC91-B4F27CFE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B4C7-C348-496C-9DFC-3AFB78D962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B80F-6C50-4AEC-826E-664796FE48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46AE-871A-4536-89FE-EE3E5962D4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A603-9465-4462-ACC3-E86850B9AA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2EA0-7784-44ED-9140-7114DE09BA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2CA6-C1B3-40E0-99CF-3824C3CC9E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EA72-0A02-4616-83E2-C623E68B63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7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8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C461-D92F-4A20-94CF-7A438D9541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59840" cy="1841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660066"/>
                </a:solidFill>
                <a:latin typeface="Lucida Sans Unicode"/>
              </a:rPr>
              <a:t>Charac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mm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Occurs along concentration gradient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Non selectiv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Not saturab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equires no energ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No carrier is need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pends on lipid solubility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epends on pka of drug - pH of medium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WordArt 7"/>
          <p:cNvSpPr txBox="1"/>
          <p:nvPr/>
        </p:nvSpPr>
        <p:spPr>
          <a:xfrm>
            <a:off x="552600" y="260280"/>
            <a:ext cx="401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rugs exist in two forms ionized (water soluble) nonionized forms (lipid soluble) in equilibrium.</a:t>
            </a: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Drug                         ionized form + nonionized 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for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223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Only nonionized form is absorba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223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Nonionized / ionized fraction is determin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y pH and pK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general basic drugs are more ionized and less diffusible in a relatively acidic medium, on the contrary basic are more lipid soluble  and more diffusible in a relatively alkaline mediu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Text Box 1027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1028"/>
          <p:cNvSpPr txBox="1"/>
          <p:nvPr/>
        </p:nvSpPr>
        <p:spPr>
          <a:xfrm>
            <a:off x="2484360" y="18900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9" name="Line 1029"/>
          <p:cNvSpPr/>
          <p:nvPr/>
        </p:nvSpPr>
        <p:spPr>
          <a:xfrm>
            <a:off x="1692360" y="234936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030"/>
          <p:cNvSpPr/>
          <p:nvPr/>
        </p:nvSpPr>
        <p:spPr>
          <a:xfrm flipH="1">
            <a:off x="1834920" y="2637000"/>
            <a:ext cx="1655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Dissociation or ionization constant): pH at which half of the substance is ionized &amp; half is unioniz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lower the pK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alue (pK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 &lt; 6) of the acidic drug the stronger the acid e.g </a:t>
            </a:r>
            <a:r>
              <a:rPr b="0" i="1" lang="en-US" sz="2700" spc="-1" strike="noStrike">
                <a:solidFill>
                  <a:srgbClr val="ff0000"/>
                </a:solidFill>
                <a:latin typeface="Lucida Sans Unicode"/>
              </a:rPr>
              <a:t>aspirin (Pka= 3.0 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igher the pK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a value (pKa &gt;8) of a basic drug, th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onger the base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e.g propranolol ( pKa= 9.4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Dissociation or ionization constant)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H at which half of the substance is ionized &amp; half is unioniz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Times New Roman"/>
              </a:rPr>
              <a:t>pH of the mediu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ffects ionization of drugs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acid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est absorbed in stomach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eak bases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est absorbed in intestin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ich one of the following drugs will be best absorbed in stomach (pH=3)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arfarin            pka=5.0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Arrange the following drugs in ascending order from least to greatest in rate of absorption in small intestine (pH=7.8)?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Relatively unusual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Occurs against concentration gradient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Requires carrier and </a:t>
            </a:r>
            <a:r>
              <a:rPr b="1" lang="en-US" sz="3000" spc="-1" strike="noStrike">
                <a:solidFill>
                  <a:srgbClr val="ff0000"/>
                </a:solidFill>
                <a:latin typeface="Lucida Sans Unicode"/>
              </a:rPr>
              <a:t>energy</a:t>
            </a: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pecific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aturabl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eg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ugar, amino acids and Iron absorpt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Uptake of levodopa by brai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WordArt 1028"/>
          <p:cNvSpPr txBox="1"/>
          <p:nvPr/>
        </p:nvSpPr>
        <p:spPr>
          <a:xfrm>
            <a:off x="399960" y="33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ctive Transpo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passive_active_transport"/>
          <p:cNvPicPr/>
          <p:nvPr/>
        </p:nvPicPr>
        <p:blipFill>
          <a:blip r:embed="rId1"/>
          <a:srcRect l="51826" t="9213" r="3887" b="0"/>
          <a:stretch/>
        </p:blipFill>
        <p:spPr>
          <a:xfrm>
            <a:off x="4716360" y="260280"/>
            <a:ext cx="41767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417" name="Picture 6" descr="passive_active_transport"/>
          <p:cNvPicPr/>
          <p:nvPr/>
        </p:nvPicPr>
        <p:blipFill>
          <a:blip r:embed="rId2"/>
          <a:srcRect l="0" t="9213" r="55713" b="0"/>
          <a:stretch/>
        </p:blipFill>
        <p:spPr>
          <a:xfrm>
            <a:off x="250920" y="260280"/>
            <a:ext cx="43639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287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Occurs along concentration gradient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6462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Requires carrier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6462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elective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6462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aturable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90720" indent="-646200"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Lucida Sans Unicode"/>
              </a:rPr>
              <a:t>No energy </a:t>
            </a: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is required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WordArt 5"/>
          <p:cNvSpPr txBox="1"/>
          <p:nvPr/>
        </p:nvSpPr>
        <p:spPr>
          <a:xfrm>
            <a:off x="1835280" y="26028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rier-mediated Facilitated Diffus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facilitatedDiffusion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4119480"/>
                <a:gridCol w="4522680"/>
              </a:tblGrid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121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high to low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low to high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83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nerg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its site of action through cell membran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539640" y="3645000"/>
            <a:ext cx="309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4211640" y="3213000"/>
            <a:ext cx="216000" cy="259236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4861080" y="3645000"/>
            <a:ext cx="30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7"/>
          <p:cNvSpPr/>
          <p:nvPr/>
        </p:nvSpPr>
        <p:spPr>
          <a:xfrm>
            <a:off x="3708360" y="4076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"/>
          <p:cNvSpPr/>
          <p:nvPr/>
        </p:nvSpPr>
        <p:spPr>
          <a:xfrm>
            <a:off x="3708360" y="465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059280" y="2637000"/>
            <a:ext cx="2592360" cy="459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3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250920" y="189000"/>
          <a:ext cx="8713800" cy="6516720"/>
        </p:xfrm>
        <a:graphic>
          <a:graphicData uri="http://schemas.openxmlformats.org/drawingml/2006/table">
            <a:tbl>
              <a:tblPr/>
              <a:tblGrid>
                <a:gridCol w="4152960"/>
                <a:gridCol w="4560840"/>
              </a:tblGrid>
              <a:tr h="131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rrier-mediated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facilitated diffu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low to hig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high to low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482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  <a:tr h="91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energy is requir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a4bc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Sans Unicode"/>
              </a:rPr>
              <a:t>Endocytosis:</a:t>
            </a:r>
            <a:r>
              <a:rPr b="1" lang="en-US" sz="2600" spc="-1" strike="noStrike">
                <a:solidFill>
                  <a:srgbClr val="464646"/>
                </a:solidFill>
                <a:latin typeface="Lucida Sans Unicode"/>
              </a:rPr>
              <a:t> uptake of membrane-bound particles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Lucida Sans Unicode"/>
              </a:rPr>
              <a:t>Exocytosis:</a:t>
            </a:r>
            <a:r>
              <a:rPr b="1" lang="en-US" sz="2600" spc="-1" strike="noStrike">
                <a:solidFill>
                  <a:srgbClr val="464646"/>
                </a:solidFill>
                <a:latin typeface="Lucida Sans Unicode"/>
              </a:rPr>
              <a:t> expulsion of membrane-bound particles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Phagocytosis occurs for high molecular weigh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Drugs or highly lipid insoluble drug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812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WordArt 4"/>
          <p:cNvSpPr txBox="1"/>
          <p:nvPr/>
        </p:nvSpPr>
        <p:spPr>
          <a:xfrm>
            <a:off x="1042920" y="26028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gocytosis (Endocytosis &amp; 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endocytosisAnimated"/>
          <p:cNvPicPr/>
          <p:nvPr/>
        </p:nvPicPr>
        <p:blipFill>
          <a:blip r:embed="rId1"/>
          <a:stretch/>
        </p:blipFill>
        <p:spPr>
          <a:xfrm>
            <a:off x="539640" y="1716120"/>
            <a:ext cx="3881520" cy="34416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exocytosisAnimated"/>
          <p:cNvPicPr/>
          <p:nvPr/>
        </p:nvPicPr>
        <p:blipFill>
          <a:blip r:embed="rId2"/>
          <a:stretch/>
        </p:blipFill>
        <p:spPr>
          <a:xfrm>
            <a:off x="4572000" y="1700280"/>
            <a:ext cx="3816360" cy="34574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7"/>
          <p:cNvSpPr/>
          <p:nvPr/>
        </p:nvSpPr>
        <p:spPr>
          <a:xfrm>
            <a:off x="684360" y="333360"/>
            <a:ext cx="158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WordArt 8"/>
          <p:cNvSpPr txBox="1"/>
          <p:nvPr/>
        </p:nvSpPr>
        <p:spPr>
          <a:xfrm>
            <a:off x="1042920" y="83664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nd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1" name="WordArt 10"/>
          <p:cNvSpPr txBox="1"/>
          <p:nvPr/>
        </p:nvSpPr>
        <p:spPr>
          <a:xfrm>
            <a:off x="5148360" y="76500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2" name="Line 13"/>
          <p:cNvSpPr/>
          <p:nvPr/>
        </p:nvSpPr>
        <p:spPr>
          <a:xfrm>
            <a:off x="6732720" y="3933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7956720" y="37101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5724360" y="3710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6"/>
          <p:cNvSpPr/>
          <p:nvPr/>
        </p:nvSpPr>
        <p:spPr>
          <a:xfrm>
            <a:off x="755640" y="386064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108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8"/>
          <p:cNvSpPr/>
          <p:nvPr/>
        </p:nvSpPr>
        <p:spPr>
          <a:xfrm>
            <a:off x="169236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Transport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439" name="WordArt 5"/>
          <p:cNvSpPr txBox="1"/>
          <p:nvPr/>
        </p:nvSpPr>
        <p:spPr>
          <a:xfrm>
            <a:off x="1332000" y="40464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1" name="WordArt 30"/>
          <p:cNvSpPr txBox="1"/>
          <p:nvPr/>
        </p:nvSpPr>
        <p:spPr>
          <a:xfrm>
            <a:off x="755640" y="928800"/>
            <a:ext cx="705636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okinetics II: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availability and Distributio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755640" y="263700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r. Ishfaq Buk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179280" y="404640"/>
            <a:ext cx="85075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e lectures, students should be able to  define the following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body fluid compart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 of compartmen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ent volume of distribution (vd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 bind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-9360">
              <a:lnSpc>
                <a:spcPct val="11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s the fraction of </a:t>
            </a:r>
            <a:r>
              <a:rPr b="1" lang="en-US" sz="3400" spc="-1" strike="noStrike" u="sng">
                <a:solidFill>
                  <a:srgbClr val="3366ff"/>
                </a:solidFill>
                <a:uFillTx/>
                <a:latin typeface="Times New Roman"/>
              </a:rPr>
              <a:t>unchanged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drug that enters systemic circulation after administration and becomes available to produce an action (therapeutic effect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ioavailability (F) = 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UC  (oral)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X  100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UC  (I.V.)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50920" y="642600"/>
            <a:ext cx="8642160" cy="5954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V. provides 100% bioavailability i.e. F= 1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, intramuscular, oral, rectal, and other extra vascular routes of administration require that the drug be absorbed first, which can reduce bioavailability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700" spc="-1" strike="noStrike">
              <a:solidFill>
                <a:srgbClr val="ffff00"/>
              </a:solidFill>
              <a:latin typeface="Times New Roman"/>
              <a:ea typeface="Arial"/>
            </a:endParaRPr>
          </a:p>
        </p:txBody>
      </p:sp>
      <p:pic>
        <p:nvPicPr>
          <p:cNvPr id="449" name="Picture 3" descr=""/>
          <p:cNvPicPr/>
          <p:nvPr/>
        </p:nvPicPr>
        <p:blipFill>
          <a:blip r:embed="rId1"/>
          <a:srcRect l="0" t="11363" r="0" b="568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le 1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8160" cy="963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499680" y="1285920"/>
            <a:ext cx="81867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oavailability of a drug after administration by any route is compared to its intravenous standard formul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8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195120" y="146160"/>
            <a:ext cx="8498160" cy="8604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214200" y="1142640"/>
            <a:ext cx="8715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s determined when two products are compared to each other, not to an intravenous standard.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commonly calculated in the drug industry to determine that the generic formulation is bioequivalent to another formul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Tyle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 compared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anad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Title 1" descr=""/>
          <p:cNvPicPr/>
          <p:nvPr/>
        </p:nvPicPr>
        <p:blipFill>
          <a:blip r:embed="rId1"/>
          <a:stretch/>
        </p:blipFill>
        <p:spPr>
          <a:xfrm>
            <a:off x="237960" y="60480"/>
            <a:ext cx="8498160" cy="131112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285840" y="12859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mportant to get  an idea of how different formulations or routes of administration differ in their bioavailability.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adjustment is required when changing formulations or routes of administration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195120" y="225360"/>
            <a:ext cx="8498160" cy="9208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285480" y="107136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drug products are considered to be 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ioequivalent 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rates and extents of bioavailability of the two products are not significantly different under suitable test conditions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te and extent mean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mount of drugs and the time required reaching the systemic circulation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bioavailability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same factors controlling drug absorp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Content Placeholder 2"/>
          <p:cNvSpPr/>
          <p:nvPr/>
        </p:nvSpPr>
        <p:spPr>
          <a:xfrm>
            <a:off x="468360" y="1773360"/>
            <a:ext cx="8291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ER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   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eous sol better than oily,susp,s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ng on particle size and disinteg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of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at site of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of absorbing surface (small intestine has large surface 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WordArt 3"/>
          <p:cNvSpPr txBox="1"/>
          <p:nvPr/>
        </p:nvSpPr>
        <p:spPr>
          <a:xfrm>
            <a:off x="1908000" y="2781360"/>
            <a:ext cx="575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by which drugs leave blood circulation and enters the interstitium and/or the cells of the tissu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WordArt 3"/>
          <p:cNvSpPr txBox="1"/>
          <p:nvPr/>
        </p:nvSpPr>
        <p:spPr>
          <a:xfrm>
            <a:off x="2894040" y="333360"/>
            <a:ext cx="3355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000000"/>
              </a:solidFill>
              <a:latin typeface="Lucida Sans Unicode"/>
              <a:ea typeface="Arial"/>
            </a:endParaRPr>
          </a:p>
        </p:txBody>
      </p:sp>
      <p:pic>
        <p:nvPicPr>
          <p:cNvPr id="464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65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214200" y="260280"/>
            <a:ext cx="8701200" cy="6292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otal body fluid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70% of body weight in 70-kg individua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(4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titial fluids (10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volume ( 28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Line 3"/>
          <p:cNvSpPr/>
          <p:nvPr/>
        </p:nvSpPr>
        <p:spPr>
          <a:xfrm>
            <a:off x="2666880" y="23623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2643120" y="42861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8"/>
          <p:cNvSpPr/>
          <p:nvPr/>
        </p:nvSpPr>
        <p:spPr>
          <a:xfrm>
            <a:off x="2643120" y="3357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428760" y="1905120"/>
            <a:ext cx="2162160" cy="32004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bo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560520" y="281160"/>
            <a:ext cx="7924680" cy="7855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14200" y="1052640"/>
            <a:ext cx="8678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ratio of drug amount in the body to the concentration of drug in blood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d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se  of the drug </a:t>
            </a: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mg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on in blood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g/L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 = mean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 duration of action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739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DISTRIBU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Cardiac output and blood flow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hysiochemical properties of the dru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pillary Permeability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lasma protein bindi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issue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transport of drugs across membranes occurs through  one or more of the following processe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0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3316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Simple diffusion = passive diffus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3316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Active transport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3316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Facilitated diffus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77840" indent="-53316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Lucida Sans Unicode"/>
              </a:rPr>
              <a:t>Pinocytosis (Endocytosis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WordArt 3"/>
          <p:cNvSpPr txBox="1"/>
          <p:nvPr/>
        </p:nvSpPr>
        <p:spPr>
          <a:xfrm>
            <a:off x="1258920" y="333360"/>
            <a:ext cx="6049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er the blood flow to tissues, the more distribution that occurs from plasma to interstitial fluid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distribute more rapidly to brain, liver and kidney &gt; more than skeletal muscles &amp; fat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Rectangle 2" descr=""/>
          <p:cNvPicPr/>
          <p:nvPr/>
        </p:nvPicPr>
        <p:blipFill>
          <a:blip r:embed="rId1"/>
          <a:stretch/>
        </p:blipFill>
        <p:spPr>
          <a:xfrm>
            <a:off x="255600" y="268200"/>
            <a:ext cx="8437680" cy="115884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213840" y="14810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lipid soluble drugs cross biological membran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do not readily cross membranes but go through slit junc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388360" cy="78588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17400" indent="0"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Drugs with high Vd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ave higher concentrations in tissues than i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asma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Relatively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lipid soluble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tributed intracellul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Not efficiently removed by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aemodialysi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.g. phenytion, morphine, digox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Rectangle 2" descr=""/>
          <p:cNvPicPr/>
          <p:nvPr/>
        </p:nvPicPr>
        <p:blipFill>
          <a:blip r:embed="rId1"/>
          <a:stretch/>
        </p:blipFill>
        <p:spPr>
          <a:xfrm>
            <a:off x="231840" y="122400"/>
            <a:ext cx="8448480" cy="76176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85480" y="1071360"/>
            <a:ext cx="8575560" cy="545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1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rugs with low   Vd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nfined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Lucida Sans Unicode"/>
              </a:rPr>
              <a:t>plasma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&amp; interstitial fluid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istributed  in   extracellular compartment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Polar comp or lipid </a:t>
            </a: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insoluble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 drugs. e.g. Carbenicillin,  vecuronium, gentamycin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High MW  e.g. heparin – insulin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High plasma protein binding e.g. warfarin.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o not cross  BBB or   placental  barrier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Rectangle 2" descr=""/>
          <p:cNvPicPr/>
          <p:nvPr/>
        </p:nvPicPr>
        <p:blipFill>
          <a:blip r:embed="rId1"/>
          <a:stretch/>
        </p:blipFill>
        <p:spPr>
          <a:xfrm>
            <a:off x="225360" y="66600"/>
            <a:ext cx="8467920" cy="13604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13840" y="1142640"/>
            <a:ext cx="8472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thelial cells of capillaries in tissues other than brain have wide slit junctions allowing easy movement &amp; distribution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has tight junction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od Brain Barrier (BBB)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Blood brain barrier (BBB)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lipid soluble drugs or actively transported drugs can cross BBB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(ionized or polar drugs) can not cross BBB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ion  as in meningitis increase permeability to hydrophilic drug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.g. penicillin &amp; gentamyci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Placental barrie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can cross placental barrier and enter the fetal blood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9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036000" cy="666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44360" y="100080"/>
            <a:ext cx="9036000" cy="67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Lucida Sans Unicode"/>
              </a:rPr>
              <a:t>Binding of Drug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roteins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CellMembrane"/>
          <p:cNvPicPr/>
          <p:nvPr/>
        </p:nvPicPr>
        <p:blipFill>
          <a:blip r:embed="rId1"/>
          <a:stretch/>
        </p:blipFill>
        <p:spPr>
          <a:xfrm>
            <a:off x="684360" y="1557360"/>
            <a:ext cx="8208720" cy="482436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394" name="WordArt 4"/>
          <p:cNvSpPr txBox="1"/>
          <p:nvPr/>
        </p:nvSpPr>
        <p:spPr>
          <a:xfrm>
            <a:off x="2195640" y="189000"/>
            <a:ext cx="4019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ll membra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bumi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ffinity for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cid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arfarin, phenytoin, aspir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ycoprote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inity for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as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tionic) as diazepam, quinid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 bind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can bind to plasma proteins (acidic drug bind to albumin while basic drugs bind to glycoprotei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ist in two forms bound and unbound forms in equilib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dru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Line 3"/>
          <p:cNvSpPr/>
          <p:nvPr/>
        </p:nvSpPr>
        <p:spPr>
          <a:xfrm flipH="1">
            <a:off x="4284720" y="5084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 flipH="1">
            <a:off x="4211640" y="486900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792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750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s can bind to specific tissu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 bind 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one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dides accumulate i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livary &amp; thyroid gland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2920" y="404640"/>
            <a:ext cx="428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form of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diffusible for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t combine with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 for metabolism &amp; excret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 duration of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(t ½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Rectangle 2"/>
          <p:cNvSpPr/>
          <p:nvPr/>
        </p:nvSpPr>
        <p:spPr>
          <a:xfrm>
            <a:off x="4214880" y="357120"/>
            <a:ext cx="47862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form of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usibl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with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metabolism &amp; ex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ding of drugs and its effect on drug actio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reversib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volume of distribution (vd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s drug metabolism &amp; excre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s duration of drug action (t1/2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in clinically important drug interaction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Cell membrane in detail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11344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ff81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water soluble drug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ionized or polar</a:t>
            </a:r>
            <a:r>
              <a:rPr b="1" i="1" lang="en-US" sz="3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is readily absorbed via diffusion through aqueous channels or pores in cell membrane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ff811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Lipid soluble drug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(nonionized or non polar)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 is readily absorbed via diffusion through lipid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</a:rPr>
              <a:t>cell membrane itself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WordArt 3"/>
          <p:cNvSpPr txBox="1"/>
          <p:nvPr/>
        </p:nvSpPr>
        <p:spPr>
          <a:xfrm>
            <a:off x="1835280" y="333360"/>
            <a:ext cx="511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or passiv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31680">
            <a:solidFill>
              <a:srgbClr val="def5fa"/>
            </a:solidFill>
            <a:miter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diffusion2"/>
          <p:cNvPicPr/>
          <p:nvPr/>
        </p:nvPicPr>
        <p:blipFill>
          <a:blip r:embed="rId1">
            <a:lum contrast="-2000"/>
          </a:blip>
          <a:srcRect l="0" t="0" r="0" b="29921"/>
          <a:stretch/>
        </p:blipFill>
        <p:spPr>
          <a:xfrm>
            <a:off x="468360" y="2060640"/>
            <a:ext cx="8280360" cy="4105080"/>
          </a:xfrm>
          <a:prstGeom prst="rect">
            <a:avLst/>
          </a:prstGeom>
          <a:ln w="0">
            <a:noFill/>
          </a:ln>
        </p:spPr>
      </p:pic>
      <p:sp>
        <p:nvSpPr>
          <p:cNvPr id="400" name="WordArt 6"/>
          <p:cNvSpPr txBox="1"/>
          <p:nvPr/>
        </p:nvSpPr>
        <p:spPr>
          <a:xfrm>
            <a:off x="2627280" y="11736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1" name="WordArt 7"/>
          <p:cNvSpPr txBox="1"/>
          <p:nvPr/>
        </p:nvSpPr>
        <p:spPr>
          <a:xfrm>
            <a:off x="826920" y="112536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2" name="WordArt 8"/>
          <p:cNvSpPr txBox="1"/>
          <p:nvPr/>
        </p:nvSpPr>
        <p:spPr>
          <a:xfrm>
            <a:off x="5076720" y="105264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w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ma100914</cp:lastModifiedBy>
  <dcterms:modified xsi:type="dcterms:W3CDTF">2014-09-25T06:56:41Z</dcterms:modified>
  <cp:revision>233</cp:revision>
  <dc:subject/>
  <dc:title>GENERAL PHARMACOLOGY</dc:title>
</cp:coreProperties>
</file>