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0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C45C-12FD-4B11-A2B6-EE68B5DBD38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BCB3-AB08-453F-BA43-34E0CD5F067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504A-A9E3-4784-8145-45D13903CD8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CA69-2D85-4F5B-B88C-BE8F9EBA8FF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809C-68AB-46EC-865E-925E3A273B0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F07B-B72E-404E-91DA-3B185D7EED0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F6D0-B09C-49E9-B113-9B7F032A760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A2B5-4FDD-4A77-8814-0018D3B78B4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D96D-CC41-4FA0-8196-CDF51194867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5CF7-2E27-414A-8C3D-CB4D6F5110A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37B8-ABAF-40F3-B53C-68F5936AE30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C906-AF0C-42F9-A64E-8A1CCBF7A99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DA0B-C894-413C-86F5-BE770525F8C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81B3-2204-4D6F-A152-9754002C52B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8D52-8402-41F8-B494-F90348BD64B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FCA-5CB1-42CD-AEC3-499DC752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0D24-D873-4178-B6B2-E894D6C3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8ECA-D95E-4EC0-8678-8156ECC5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448C-0B47-49E2-9F31-01FD1535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49D6-BCAE-478F-9413-B68370A9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C693-427A-4567-9523-4AD3C0F0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2EC7-8359-4DBB-9D55-892AF19E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86D3-ECF7-4746-8E6D-EC3A0B04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1CA0-AF59-4982-A3C2-A7574E7B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98B9-5351-4E68-9F95-DAC22AD3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A4B5-25AC-4767-A209-734645E8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ACB3-9BD3-4EDE-A764-A6766065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9F4A-87EC-4E62-A41F-0A8DF91C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2DFC-54B8-4DD4-AE40-705F866B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D6B2-C223-4129-B5D3-4C146924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4B22-A1CF-4587-8E66-579CCBE2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F3C7-C94D-4AAE-817C-E1AAB9EC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523FB-6B24-4C60-B990-0E7A1560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E17A5-2998-4B7D-834B-9E92C34B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DAC4E-2367-4B30-9F32-8B1ED6CF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0A879-02AE-4D68-96AF-576AA361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527A8-DF51-4766-AB01-55B109C8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A9A-7A46-4BEA-B695-43BEBA73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4F937-79FA-4668-899C-A16461E7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52D74-7157-4926-BFE1-5D53CDF6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2A6DA-7190-489B-AB0E-E1F4991D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40E61-A8E5-44BA-ACF3-9F11A62C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0A897-0852-47A3-8EF6-360D071C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D54E6-78D0-48F7-97BE-3B7B565F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51E09-F7A5-43DD-B616-243178E2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72DAB-A68A-48CF-801E-1FEB80AE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CF278-D9B4-45A0-975C-403C4327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0C27F-91B0-46A8-85B1-0B470FFB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900-A364-4E6A-9748-ADEABF32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FAC89-8998-4E17-850D-6B4FA4FA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4F649-32AB-429E-B9A8-ADCDDC71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654A9-DD11-4257-AB4F-D59416CF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DA98E-E8BF-47A3-A8AE-0CA90E40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99EB3-C593-4334-95AB-D628DDD0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2BE5C-699E-4F08-91AE-288EB116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55D1F-A48B-498D-A62A-05ED608F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84F69-82F6-402A-9AF7-3419FF4A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3920F-AC0C-4090-9BE5-1AF76149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E5BD7-E0DE-410F-8D13-91A0195F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0DD-BBDA-44CD-8F3E-5478328D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754A9-A23A-447E-A94F-F8B516B8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BB5F9-8974-4C95-873F-53A88B32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05338-D2E8-44CD-AE14-AD4456EC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6AA1C-E271-47B2-BB98-C5490DEC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A42B6-E345-4517-BC78-00DC4BAA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DD432-F92F-4063-A483-CAE14F26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21CA2-E2B0-4887-A590-E6E54416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DE305-F74E-404F-9E08-E5CD1FF4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F315D-24BB-4D47-A03F-8C765D07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BEF77-483E-4C15-9CC6-9EF5D67D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CC41-223C-478E-A865-4C4EC890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09B5E-BB60-49BB-8D32-E6124243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09D2E-308D-4F71-961A-782926A2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6EEBF-8FBF-4038-8E2C-B0639F0A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24E03-2604-4B48-B96B-9A862DBD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58A68-BD6F-4FBC-BD3C-DBC2ABED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400CB-F76C-43E7-99EA-6CBFD0BB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8A518-14ED-4792-B702-B7E5BD0B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DAE6A-ED12-4768-A6A7-E63D0AAA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9C9CC-E5D3-4BE6-A350-A2E26CCA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67C76-3414-4ED0-AB94-788D4158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F7B-551B-4DCA-B87A-331B6F18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69CB9-F0D7-437D-A85B-A3E3CBDE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9B5C7-6E2C-4B7B-9950-1DF1EC3F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674C7-FBEB-43B0-BC62-1D4512F3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B122D-7795-4322-BD18-1463E0E4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FBD3B-9F16-42CE-9627-1B388038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A308E-86A8-4821-B7BD-660C7CB7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C7690-6D82-4F09-8EF6-0DCBAC31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F99AA-BE74-44FB-B5D6-6563B199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78B06-C4E0-4ACC-BB5F-662B353E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7BE7E-4826-45F9-A71A-FE82CC25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DC7-C20F-4AD2-B22D-AA281935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60637-E3AD-4522-9457-29765168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02E69-200E-4D80-A958-00F07441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7196A-54CE-4C98-96BD-D76D8EC4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7F62F-15AA-4150-8BAC-66CBB60C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60519-38C9-47ED-BAD4-4A4CEA36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12334-55FA-492F-852F-E990029C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EAD08-47D0-4813-A178-8BD91605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D8E4C-84EC-414D-AB11-8731B49F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2B692-0DE1-4A28-AC80-EBD00E4C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1F943-A916-4AD7-B8A9-33D62957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9B8-7061-4687-8554-47AAA36F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9C03E-2C5A-44A7-A45A-2BCD1A09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2369A-3182-4383-967F-1A388C7E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59098-1350-41F2-8359-4D80FE7D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082FC-096C-444F-AFE4-C336F9E3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1D795-B0F1-464A-A6A4-F0D67709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78CD2-D43B-4D4A-B8D4-CD412419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942EC-A1EE-4C47-9624-426F1D1D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819D-6FAA-42D9-BDC5-944EA58F9F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B4D4-5A71-45FC-A5DF-D320E76472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8653-BB6E-4E20-9238-005A21E9A8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11F2-520B-47A9-98BE-6D43A76DDE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4BF5-D790-4F92-BC22-50BEE3A38F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5CCE-2B90-4EC5-B7BC-88298C15E8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300D-1D47-4232-B2A1-23C4E8FE0A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08A8-6A98-4670-9EF4-AF891270C4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0066"/>
                </a:solidFill>
                <a:latin typeface="Lucida Sans Unicode"/>
              </a:rPr>
              <a:t>Charact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comm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Occurs along concentration gradient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Non selectiv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Not saturab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quires no energ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No carrier is need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epends on lipid solubilit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epends on pka of drug - pH of mediu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97164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WordArt 7"/>
          <p:cNvSpPr txBox="1"/>
          <p:nvPr/>
        </p:nvSpPr>
        <p:spPr>
          <a:xfrm>
            <a:off x="552600" y="260280"/>
            <a:ext cx="4019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rugs exist in two forms ionized (water soluble) nonionized forms (lipid soluble) in equilibrium.</a:t>
            </a:r>
            <a:r>
              <a:rPr b="1" lang="en-US" sz="27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Drug                         ionized form + nonionized </a:t>
            </a: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fo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223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Only nonionized form is absorbab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223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onionized / ionized fraction is determin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y pH and pK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general basic drugs are more ionized and less diffusible in a relatively acidic medium, on the contrary basic are more lipid soluble  and more diffusible in a relatively alkaline mediu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Text Box 1027"/>
          <p:cNvSpPr/>
          <p:nvPr/>
        </p:nvSpPr>
        <p:spPr>
          <a:xfrm>
            <a:off x="97164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WordArt 1028"/>
          <p:cNvSpPr txBox="1"/>
          <p:nvPr/>
        </p:nvSpPr>
        <p:spPr>
          <a:xfrm>
            <a:off x="2484360" y="189000"/>
            <a:ext cx="401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9" name="Line 1029"/>
          <p:cNvSpPr/>
          <p:nvPr/>
        </p:nvSpPr>
        <p:spPr>
          <a:xfrm>
            <a:off x="1692360" y="234936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030"/>
          <p:cNvSpPr/>
          <p:nvPr/>
        </p:nvSpPr>
        <p:spPr>
          <a:xfrm flipH="1">
            <a:off x="1834920" y="2637000"/>
            <a:ext cx="1655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PKa of the dru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(Dissociation or ionization constant): pH at which half of the substance is ionized &amp; half is unioniz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lower the pK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lue (pK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a &lt; 6) of the acidic drug the stronger the acid e.g </a:t>
            </a:r>
            <a:r>
              <a:rPr b="0" i="1" lang="en-US" sz="2700" spc="-1" strike="noStrike">
                <a:solidFill>
                  <a:srgbClr val="ff0000"/>
                </a:solidFill>
                <a:latin typeface="Lucida Sans Unicode"/>
              </a:rPr>
              <a:t>aspirin (Pka= 3.0 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igher the pK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a value (pKa &gt;8) of a basic drug, th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ronger the bas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e.g propranolol ( pKa= 9.4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PKa of the dru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(Dissociation or ionization constant)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H at which half of the substance is ionized &amp; half is unioniz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pH of the medium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ffects ionization of drugs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eak acids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best absorbed in stomach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eak bases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best absorbed in intestine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hich one of the following drugs will be best absorbed in stomach (pH=3)?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spirin              pka=3.0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arfarin            pka=5.0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Arrange the following drugs in ascending order from least to greatest in rate of absorption in small intestine (pH=7.8)?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ranolol     pka= 9.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spirin              pka=3.0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Relatively unusual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Occurs against concentration gradient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Requires carrier and </a:t>
            </a:r>
            <a:r>
              <a:rPr b="1" lang="en-US" sz="3000" spc="-1" strike="noStrike">
                <a:solidFill>
                  <a:srgbClr val="ff0000"/>
                </a:solidFill>
                <a:latin typeface="Lucida Sans Unicode"/>
              </a:rPr>
              <a:t>energy</a:t>
            </a: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Specific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Saturable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eg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Sugar, amino acids and Iron absorption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Uptake of levodopa by brain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WordArt 1028"/>
          <p:cNvSpPr txBox="1"/>
          <p:nvPr/>
        </p:nvSpPr>
        <p:spPr>
          <a:xfrm>
            <a:off x="399960" y="333360"/>
            <a:ext cx="417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ctive Transpor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5" descr="passive_active_transport"/>
          <p:cNvPicPr/>
          <p:nvPr/>
        </p:nvPicPr>
        <p:blipFill>
          <a:blip r:embed="rId1"/>
          <a:srcRect l="51826" t="9213" r="3887" b="0"/>
          <a:stretch/>
        </p:blipFill>
        <p:spPr>
          <a:xfrm>
            <a:off x="4716360" y="260280"/>
            <a:ext cx="4176720" cy="626436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pic>
        <p:nvPicPr>
          <p:cNvPr id="417" name="Picture 6" descr="passive_active_transport"/>
          <p:cNvPicPr/>
          <p:nvPr/>
        </p:nvPicPr>
        <p:blipFill>
          <a:blip r:embed="rId2"/>
          <a:srcRect l="0" t="9213" r="55713" b="0"/>
          <a:stretch/>
        </p:blipFill>
        <p:spPr>
          <a:xfrm>
            <a:off x="250920" y="260280"/>
            <a:ext cx="4363920" cy="626436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287280" y="1341360"/>
            <a:ext cx="8569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6462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Occurs along concentration gradient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6462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Requires carrie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6462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Selective.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6462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Saturable.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6462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Lucida Sans Unicode"/>
              </a:rPr>
              <a:t>No energy </a:t>
            </a: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is required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WordArt 5"/>
          <p:cNvSpPr txBox="1"/>
          <p:nvPr/>
        </p:nvSpPr>
        <p:spPr>
          <a:xfrm>
            <a:off x="1835280" y="26028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rrier-mediated Facilitated Diffus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facilitatedDiffusion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31680">
            <a:solidFill>
              <a:srgbClr val="3366ff"/>
            </a:solidFill>
            <a:miter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89000"/>
          <a:ext cx="8642160" cy="6480000"/>
        </p:xfrm>
        <a:graphic>
          <a:graphicData uri="http://schemas.openxmlformats.org/drawingml/2006/table">
            <a:tbl>
              <a:tblPr/>
              <a:tblGrid>
                <a:gridCol w="4119480"/>
                <a:gridCol w="4522680"/>
              </a:tblGrid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s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21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ong concentration gradi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From high to low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ainst concentration gradi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From low to high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saturabl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turabl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selectiv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nerg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ergy is require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assage of drug from its site of administration to its site of action through cell membran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WordArt 3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539640" y="3645000"/>
            <a:ext cx="3095640" cy="12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4211640" y="3213000"/>
            <a:ext cx="216000" cy="259236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4861080" y="3645000"/>
            <a:ext cx="30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7"/>
          <p:cNvSpPr/>
          <p:nvPr/>
        </p:nvSpPr>
        <p:spPr>
          <a:xfrm>
            <a:off x="3708360" y="407664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"/>
          <p:cNvSpPr/>
          <p:nvPr/>
        </p:nvSpPr>
        <p:spPr>
          <a:xfrm>
            <a:off x="3708360" y="465300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3059280" y="2637000"/>
            <a:ext cx="2592360" cy="4597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membr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3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250920" y="189000"/>
          <a:ext cx="8713800" cy="6516720"/>
        </p:xfrm>
        <a:graphic>
          <a:graphicData uri="http://schemas.openxmlformats.org/drawingml/2006/table">
            <a:tbl>
              <a:tblPr/>
              <a:tblGrid>
                <a:gridCol w="4152960"/>
                <a:gridCol w="4560840"/>
              </a:tblGrid>
              <a:tr h="131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ct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arrier-mediated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cilitated diffus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ainst concentration grad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From low to high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ong concentration grad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From high to low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turab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turab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9482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91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y is require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energy is requir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Lucida Sans Unicode"/>
              </a:rPr>
              <a:t>Endocytosis:</a:t>
            </a:r>
            <a:r>
              <a:rPr b="1" lang="en-US" sz="2600" spc="-1" strike="noStrike">
                <a:solidFill>
                  <a:srgbClr val="464646"/>
                </a:solidFill>
                <a:latin typeface="Lucida Sans Unicode"/>
              </a:rPr>
              <a:t> uptake of membrane-bound particles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81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Lucida Sans Unicode"/>
              </a:rPr>
              <a:t>Exocytosis:</a:t>
            </a:r>
            <a:r>
              <a:rPr b="1" lang="en-US" sz="2600" spc="-1" strike="noStrike">
                <a:solidFill>
                  <a:srgbClr val="464646"/>
                </a:solidFill>
                <a:latin typeface="Lucida Sans Unicode"/>
              </a:rPr>
              <a:t> expulsion of membrane-bound particles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81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81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Phagocytosis occurs for high molecular weigh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81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Drugs or highly lipid insoluble drug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81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WordArt 4"/>
          <p:cNvSpPr txBox="1"/>
          <p:nvPr/>
        </p:nvSpPr>
        <p:spPr>
          <a:xfrm>
            <a:off x="1042920" y="26028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agocytosis (Endocytosis &amp; Ex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endocytosisAnimated"/>
          <p:cNvPicPr/>
          <p:nvPr/>
        </p:nvPicPr>
        <p:blipFill>
          <a:blip r:embed="rId1"/>
          <a:stretch/>
        </p:blipFill>
        <p:spPr>
          <a:xfrm>
            <a:off x="539640" y="1716120"/>
            <a:ext cx="3881520" cy="3441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exocytosisAnimated"/>
          <p:cNvPicPr/>
          <p:nvPr/>
        </p:nvPicPr>
        <p:blipFill>
          <a:blip r:embed="rId2"/>
          <a:stretch/>
        </p:blipFill>
        <p:spPr>
          <a:xfrm>
            <a:off x="4572000" y="1700280"/>
            <a:ext cx="3816360" cy="34574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7"/>
          <p:cNvSpPr/>
          <p:nvPr/>
        </p:nvSpPr>
        <p:spPr>
          <a:xfrm>
            <a:off x="684360" y="333360"/>
            <a:ext cx="158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WordArt 8"/>
          <p:cNvSpPr txBox="1"/>
          <p:nvPr/>
        </p:nvSpPr>
        <p:spPr>
          <a:xfrm>
            <a:off x="1042920" y="836640"/>
            <a:ext cx="27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End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1" name="WordArt 10"/>
          <p:cNvSpPr txBox="1"/>
          <p:nvPr/>
        </p:nvSpPr>
        <p:spPr>
          <a:xfrm>
            <a:off x="5148360" y="765000"/>
            <a:ext cx="2736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Ex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2" name="Line 13"/>
          <p:cNvSpPr/>
          <p:nvPr/>
        </p:nvSpPr>
        <p:spPr>
          <a:xfrm>
            <a:off x="6732720" y="393372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7956720" y="37101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5724360" y="3710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6"/>
          <p:cNvSpPr/>
          <p:nvPr/>
        </p:nvSpPr>
        <p:spPr>
          <a:xfrm>
            <a:off x="755640" y="386064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7"/>
          <p:cNvSpPr/>
          <p:nvPr/>
        </p:nvSpPr>
        <p:spPr>
          <a:xfrm>
            <a:off x="10800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8"/>
          <p:cNvSpPr/>
          <p:nvPr/>
        </p:nvSpPr>
        <p:spPr>
          <a:xfrm>
            <a:off x="169236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4" descr="Transport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5183280"/>
          </a:xfrm>
          <a:prstGeom prst="rect">
            <a:avLst/>
          </a:prstGeom>
          <a:ln w="0">
            <a:noFill/>
          </a:ln>
        </p:spPr>
      </p:pic>
      <p:sp>
        <p:nvSpPr>
          <p:cNvPr id="439" name="WordArt 5"/>
          <p:cNvSpPr txBox="1"/>
          <p:nvPr/>
        </p:nvSpPr>
        <p:spPr>
          <a:xfrm>
            <a:off x="1332000" y="404640"/>
            <a:ext cx="669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sms of drug absorp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5" descr="logo"/>
          <p:cNvPicPr/>
          <p:nvPr/>
        </p:nvPicPr>
        <p:blipFill>
          <a:blip r:embed="rId1"/>
          <a:stretch/>
        </p:blipFill>
        <p:spPr>
          <a:xfrm>
            <a:off x="7924680" y="228600"/>
            <a:ext cx="9082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41" name="WordArt 30"/>
          <p:cNvSpPr txBox="1"/>
          <p:nvPr/>
        </p:nvSpPr>
        <p:spPr>
          <a:xfrm>
            <a:off x="755640" y="928800"/>
            <a:ext cx="7056360" cy="14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harmacokinetics II: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ioavailability and Distribution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755640" y="2637000"/>
            <a:ext cx="742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rof. Hanan Ha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Dr. Ishfaq Bukh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harmacology De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179280" y="404640"/>
            <a:ext cx="850752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e lectures, students should be able to  define the following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body fluid compartm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 of compartmen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arent volume of distribution (vd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protein binding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binding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98280" indent="-9360">
              <a:lnSpc>
                <a:spcPct val="11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s the fraction of </a:t>
            </a:r>
            <a:r>
              <a:rPr b="1" lang="en-US" sz="3400" spc="-1" strike="noStrike" u="sng">
                <a:solidFill>
                  <a:srgbClr val="3366ff"/>
                </a:solidFill>
                <a:uFillTx/>
                <a:latin typeface="Times New Roman"/>
              </a:rPr>
              <a:t>unchanged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drug that enters systemic circulation after administration and becomes available to produce an action (therapeutic effect)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-93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Bioavailability (F) =  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AUC  (oral)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X  100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UC  (I.V.)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WordArt 3"/>
          <p:cNvSpPr txBox="1"/>
          <p:nvPr/>
        </p:nvSpPr>
        <p:spPr>
          <a:xfrm>
            <a:off x="2519280" y="260280"/>
            <a:ext cx="410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ioavailabil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250920" y="642600"/>
            <a:ext cx="8642160" cy="5954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-936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V. provides 100% bioavailability i.e. F= 1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-936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utaneous, intramuscular, oral, rectal, and other extra vascular routes of administration require that the drug be absorbed first, which can reduce bioavailability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WordArt 3"/>
          <p:cNvSpPr txBox="1"/>
          <p:nvPr/>
        </p:nvSpPr>
        <p:spPr>
          <a:xfrm>
            <a:off x="2519280" y="260280"/>
            <a:ext cx="410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ioavailabil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2700" spc="-1" strike="noStrike">
              <a:solidFill>
                <a:srgbClr val="ffff00"/>
              </a:solidFill>
              <a:latin typeface="Times New Roman"/>
              <a:ea typeface="Arial"/>
            </a:endParaRPr>
          </a:p>
        </p:txBody>
      </p:sp>
      <p:pic>
        <p:nvPicPr>
          <p:cNvPr id="449" name="Picture 3" descr=""/>
          <p:cNvPicPr/>
          <p:nvPr/>
        </p:nvPicPr>
        <p:blipFill>
          <a:blip r:embed="rId1"/>
          <a:srcRect l="0" t="11363" r="0" b="5682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le 1" descr=""/>
          <p:cNvPicPr/>
          <p:nvPr/>
        </p:nvPicPr>
        <p:blipFill>
          <a:blip r:embed="rId1"/>
          <a:stretch/>
        </p:blipFill>
        <p:spPr>
          <a:xfrm>
            <a:off x="195120" y="255600"/>
            <a:ext cx="8498160" cy="9637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499680" y="1285920"/>
            <a:ext cx="81867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ioavailability of a drug after administration by any route is compared to its intravenous standard formula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8" name="Rectangle 4"/>
          <p:cNvSpPr/>
          <p:nvPr/>
        </p:nvSpPr>
        <p:spPr>
          <a:xfrm>
            <a:off x="179280" y="189000"/>
            <a:ext cx="1871640" cy="718920"/>
          </a:xfrm>
          <a:prstGeom prst="rect">
            <a:avLst/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2698920" y="117360"/>
            <a:ext cx="3960720" cy="719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rption &amp;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7093080" y="117360"/>
            <a:ext cx="1871640" cy="719280"/>
          </a:xfrm>
          <a:prstGeom prst="rect">
            <a:avLst/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1" descr=""/>
          <p:cNvPicPr/>
          <p:nvPr/>
        </p:nvPicPr>
        <p:blipFill>
          <a:blip r:embed="rId1"/>
          <a:stretch/>
        </p:blipFill>
        <p:spPr>
          <a:xfrm>
            <a:off x="195120" y="146160"/>
            <a:ext cx="8498160" cy="8604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214200" y="1142640"/>
            <a:ext cx="8715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s determined when two products are compared to each other, not to an intravenous standard.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commonly calculated in the drug industry to determine that the generic formulation is bioequivalent to another formula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Tyleno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acetamol 500 mg) compared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anado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acetamol 500 mg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Title 1" descr=""/>
          <p:cNvPicPr/>
          <p:nvPr/>
        </p:nvPicPr>
        <p:blipFill>
          <a:blip r:embed="rId1"/>
          <a:stretch/>
        </p:blipFill>
        <p:spPr>
          <a:xfrm>
            <a:off x="237960" y="60480"/>
            <a:ext cx="8498160" cy="131112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285840" y="128592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mportant to get  an idea of how different formulations or routes of administration differ in their bioavailability.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age adjustment is required when changing formulations or routes of administration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195120" y="225360"/>
            <a:ext cx="8498160" cy="9208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285480" y="107136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drug products are considered to be </a:t>
            </a:r>
            <a:r>
              <a:rPr b="0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ioequivalent 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rates and extents of bioavailability of the two products are not significantly different under suitable test conditions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te and extent means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drugs and the time required reaching the systemic circulation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142560" y="260280"/>
            <a:ext cx="88930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actors affecting bioavailability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same factors controlling drug absorp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Content Placeholder 2"/>
          <p:cNvSpPr/>
          <p:nvPr/>
        </p:nvSpPr>
        <p:spPr>
          <a:xfrm>
            <a:off x="468360" y="1773360"/>
            <a:ext cx="82915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ER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of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solubility    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eous sol better than oily,susp,s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age forms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ng on particle size and disinteg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ion of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tion at site of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 of absorbing surface (small intestine has large surface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of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WordArt 3"/>
          <p:cNvSpPr txBox="1"/>
          <p:nvPr/>
        </p:nvSpPr>
        <p:spPr>
          <a:xfrm>
            <a:off x="1908000" y="2781360"/>
            <a:ext cx="575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stributio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rocess by which drugs leave blood circulation and enters the interstitium and/or the cells of the tissu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WordArt 3"/>
          <p:cNvSpPr txBox="1"/>
          <p:nvPr/>
        </p:nvSpPr>
        <p:spPr>
          <a:xfrm>
            <a:off x="2894040" y="333360"/>
            <a:ext cx="3355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stributio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000000"/>
              </a:solidFill>
              <a:latin typeface="Lucida Sans Unicode"/>
              <a:ea typeface="Arial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3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65" name="Rectangle 4"/>
          <p:cNvSpPr/>
          <p:nvPr/>
        </p:nvSpPr>
        <p:spPr>
          <a:xfrm>
            <a:off x="179280" y="189000"/>
            <a:ext cx="1871640" cy="718920"/>
          </a:xfrm>
          <a:prstGeom prst="rect">
            <a:avLst/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698920" y="117360"/>
            <a:ext cx="3960720" cy="719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rption &amp;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7093080" y="117360"/>
            <a:ext cx="1871640" cy="719280"/>
          </a:xfrm>
          <a:prstGeom prst="rect">
            <a:avLst/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14200" y="260280"/>
            <a:ext cx="8701200" cy="6292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otal body fluid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70% of body weight in 70-kg individua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(4 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stitial fluids (10 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ellular volume ( 28 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Line 3"/>
          <p:cNvSpPr/>
          <p:nvPr/>
        </p:nvSpPr>
        <p:spPr>
          <a:xfrm>
            <a:off x="2666880" y="23623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6"/>
          <p:cNvSpPr/>
          <p:nvPr/>
        </p:nvSpPr>
        <p:spPr>
          <a:xfrm>
            <a:off x="2643120" y="42861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8"/>
          <p:cNvSpPr/>
          <p:nvPr/>
        </p:nvSpPr>
        <p:spPr>
          <a:xfrm>
            <a:off x="2643120" y="3357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428760" y="1905120"/>
            <a:ext cx="2162160" cy="320040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bo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Rectangle 2" descr=""/>
          <p:cNvPicPr/>
          <p:nvPr/>
        </p:nvPicPr>
        <p:blipFill>
          <a:blip r:embed="rId1"/>
          <a:stretch/>
        </p:blipFill>
        <p:spPr>
          <a:xfrm>
            <a:off x="560520" y="281160"/>
            <a:ext cx="7924680" cy="7855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214200" y="1052640"/>
            <a:ext cx="8678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ratio of drug amount in the body to the concentration of drug in blood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d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L)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se  of the drug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mg)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ion in blood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g/L)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Vd = mean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ng duration of action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3739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DISTRIBU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Cardiac output and blood flow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Physiochemical properties of the dru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weigh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a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apillary Permeability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Plasma protein bindin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Tissue bind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e transport of drugs across membranes occurs through  one or more of the following processes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0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53316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Simple diffusion = passive diffusion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53316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Active transport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53316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Facilitated diffusion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53316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Pinocytosis (Endocytosis)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WordArt 3"/>
          <p:cNvSpPr txBox="1"/>
          <p:nvPr/>
        </p:nvSpPr>
        <p:spPr>
          <a:xfrm>
            <a:off x="1258920" y="333360"/>
            <a:ext cx="6049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sms of 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Rectang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eater the blood flow to tissues, the more distribution that occurs from plasma to interstitial fluids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distribute more rapidly to brain, liver and kidney &gt; more than skeletal muscles &amp; fat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Rectangle 2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37680" cy="115884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213840" y="148104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lipid soluble drugs cross biological membran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philic drugs do not readily cross membranes but go through slit junction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291960" y="268200"/>
            <a:ext cx="8388360" cy="78588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228600" y="1052640"/>
            <a:ext cx="8686800" cy="54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17400" indent="0"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Drugs with high Vd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ave higher concentrations in tissues than i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lasma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latively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lipid soluble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istributed intracellul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Not efficiently removed by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aemodialysi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.g. phenytion, morphine, digox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Rectangle 2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48480" cy="76176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285480" y="1071360"/>
            <a:ext cx="8575560" cy="545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1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Drugs with low   Vd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confined 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plasma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&amp; interstitial fluid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istributed  in   extracellular compartment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olar comp or lipid </a:t>
            </a: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insoluble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drugs. e.g. Carbenicillin,  vecuronium, gentamycin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High MW  e.g. heparin – insulin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High plasma protein binding e.g. warfarin.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o not cross  BBB or   placental  barrier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225360" y="66600"/>
            <a:ext cx="8467920" cy="13604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13840" y="1142640"/>
            <a:ext cx="8472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thelial cells of capillaries in tissues other than brain have wide slit junctions allowing easy movement &amp; distribution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in has tight junctio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ood Brain Barrier (BBB)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214200" y="285840"/>
            <a:ext cx="87156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Blood brain barrier (BBB)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lipid soluble drugs or actively transported drugs can cross BBB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philic drugs (ionized or polar drugs) can not cross BBB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tion  as in meningitis increase permeability to hydrophilic drug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.g. penicillin &amp; gentamyci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Placental barrie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le drugs can cross placental barrier and enter the fetal blood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9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9036000" cy="666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44360" y="100080"/>
            <a:ext cx="9036000" cy="671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Lucida Sans Unicode"/>
              </a:rPr>
              <a:t>Binding of Drug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proteins bind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proteins bind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3" descr="CellMembrane"/>
          <p:cNvPicPr/>
          <p:nvPr/>
        </p:nvPicPr>
        <p:blipFill>
          <a:blip r:embed="rId1"/>
          <a:stretch/>
        </p:blipFill>
        <p:spPr>
          <a:xfrm>
            <a:off x="684360" y="1557360"/>
            <a:ext cx="8208720" cy="482436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sp>
        <p:nvSpPr>
          <p:cNvPr id="394" name="WordArt 4"/>
          <p:cNvSpPr txBox="1"/>
          <p:nvPr/>
        </p:nvSpPr>
        <p:spPr>
          <a:xfrm>
            <a:off x="2195640" y="189000"/>
            <a:ext cx="4019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ll membra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sma Protein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bumi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ffinity for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cidic drug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arfarin, phenytoin, aspir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ycoprote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inity for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asic drug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tionic) as diazepam, quinidin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sma protein bind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can bind to plasma proteins (acidic drug bind to albumin while basic drugs bind to glycoprotein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exist in two forms bound and unbound forms in equilibriu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bound dru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ree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und dru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Line 3"/>
          <p:cNvSpPr/>
          <p:nvPr/>
        </p:nvSpPr>
        <p:spPr>
          <a:xfrm flipH="1">
            <a:off x="4284720" y="5084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"/>
          <p:cNvSpPr/>
          <p:nvPr/>
        </p:nvSpPr>
        <p:spPr>
          <a:xfrm flipH="1">
            <a:off x="4211640" y="486900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Rectangle 2" descr=""/>
          <p:cNvPicPr/>
          <p:nvPr/>
        </p:nvPicPr>
        <p:blipFill>
          <a:blip r:embed="rId1"/>
          <a:stretch/>
        </p:blipFill>
        <p:spPr>
          <a:xfrm>
            <a:off x="225360" y="79200"/>
            <a:ext cx="8467920" cy="792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750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s can bind to specific tissu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tracycline bind t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bone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dides accumulate 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livary &amp; thyroid gland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42920" y="404640"/>
            <a:ext cx="4286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und form of dru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diffusible for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not combine with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vailable for metabolism &amp; excretion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long duration of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(t ½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4214880" y="357120"/>
            <a:ext cx="4786200" cy="65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7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bound form of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usibl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with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for metabolism &amp; excre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short duration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(t 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nding of drugs and its effect on drug actio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reversibl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s volume of distribution (vd)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s drug metabolism &amp; excre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ongs duration of drug action (t1/2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in clinically important drug interaction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7" descr="Cell membrane in detail"/>
          <p:cNvPicPr/>
          <p:nvPr/>
        </p:nvPicPr>
        <p:blipFill>
          <a:blip r:embed="rId1"/>
          <a:stretch/>
        </p:blipFill>
        <p:spPr>
          <a:xfrm>
            <a:off x="395280" y="836640"/>
            <a:ext cx="8280360" cy="511344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ff81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water soluble drug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ionized or polar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is readily absorbed via diffusion through aqueous channels or pores in cell membrane.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ff81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Lipid soluble drug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(nonionized or non polar)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is readily absorbed via diffusion through lipid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cell membrane itself.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WordArt 3"/>
          <p:cNvSpPr txBox="1"/>
          <p:nvPr/>
        </p:nvSpPr>
        <p:spPr>
          <a:xfrm>
            <a:off x="1835280" y="333360"/>
            <a:ext cx="511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or passiv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31680">
            <a:solidFill>
              <a:srgbClr val="def5fa"/>
            </a:solidFill>
            <a:miter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diffusion2"/>
          <p:cNvPicPr/>
          <p:nvPr/>
        </p:nvPicPr>
        <p:blipFill>
          <a:blip r:embed="rId1">
            <a:lum contrast="-2000"/>
          </a:blip>
          <a:srcRect l="0" t="0" r="0" b="29921"/>
          <a:stretch/>
        </p:blipFill>
        <p:spPr>
          <a:xfrm>
            <a:off x="468360" y="2060640"/>
            <a:ext cx="8280360" cy="4105080"/>
          </a:xfrm>
          <a:prstGeom prst="rect">
            <a:avLst/>
          </a:prstGeom>
          <a:ln w="0">
            <a:noFill/>
          </a:ln>
        </p:spPr>
      </p:pic>
      <p:sp>
        <p:nvSpPr>
          <p:cNvPr id="400" name="WordArt 6"/>
          <p:cNvSpPr txBox="1"/>
          <p:nvPr/>
        </p:nvSpPr>
        <p:spPr>
          <a:xfrm>
            <a:off x="2627280" y="117360"/>
            <a:ext cx="401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1" name="WordArt 7"/>
          <p:cNvSpPr txBox="1"/>
          <p:nvPr/>
        </p:nvSpPr>
        <p:spPr>
          <a:xfrm>
            <a:off x="826920" y="1125360"/>
            <a:ext cx="324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igh con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2" name="WordArt 8"/>
          <p:cNvSpPr txBox="1"/>
          <p:nvPr/>
        </p:nvSpPr>
        <p:spPr>
          <a:xfrm>
            <a:off x="5076720" y="1052640"/>
            <a:ext cx="324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w con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ma100914</cp:lastModifiedBy>
  <dcterms:modified xsi:type="dcterms:W3CDTF">2014-09-25T06:56:41Z</dcterms:modified>
  <cp:revision>233</cp:revision>
  <dc:subject/>
  <dc:title>GENERAL PHARMACOLOGY</dc:title>
</cp:coreProperties>
</file>