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22.png" ContentType="image/png"/>
  <Override PartName="/ppt/media/image12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A6C1-68C5-4939-AE0D-C92A6DF6DEE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AB92-8E11-418F-846B-ADCE78AA068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3ECC-22AA-4715-8BE3-AC0637BB586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C54A-260D-4E36-A79F-7A7829CB4B1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974F-ECCE-4495-8F63-3D39472B61E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9CEB-526B-462C-9FC1-F1D769BA3C9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3AAE-F5E1-4C10-98A7-55E196FFB5B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154F-2546-4F65-866E-0327CB02A60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36C3-A90E-44A9-86CE-7BFBEFE1858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DD2E-5D15-4096-A118-E532B8ABA89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F2AA-196F-4FDA-88BE-F65B56A0EFA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9A09-06E5-48A5-935C-9715261FBBD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EC46-3862-4B19-89C8-8F04F484697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E4FF-D7C6-473F-B6DC-8928E98AB23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D52E-9A9F-4ECA-94AD-7C132D457BE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8E65-E166-4D23-B839-3FDC4D0521A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8EA7-5B27-4780-91C5-B4F83B25B74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54CD-9494-44E5-8443-275C1855ED9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3F7A-8742-4A05-B89B-8F3CB3F8812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E71F-F8B5-4AAF-B441-4BA06BA1811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9EFC-A6FF-41C9-8EFF-25EBA0C5A59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00D3-7847-4B50-814F-09DDD6644CC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4D76-46B7-49E7-8DB6-38F0952C2B7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9B51-425A-43B1-8848-487B2932AE3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1983-5DEB-4962-90C0-32B6EFBE1FB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FBB9-D077-43F6-A150-F7745B97DCE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F10B-88E0-4AF6-8A8E-598C1940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F9D-01EC-40CF-8F2D-FF355896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550-E193-4F20-A09F-C8602FB0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8C3-30A1-47CF-9C4F-B7809160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DDFC6-A623-4DBC-A7E6-C1DA3C37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919D-E1DB-47B0-A787-4255ADE7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BDAA-39BA-4141-AA39-044ECFEE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E368-2966-47FE-BF65-9186D137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B6C8-EB5E-4827-927B-0370C0D6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0140-8609-42F0-885E-1C56DBBF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A40D-C558-458E-A798-AFDD9533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97D5-8327-4152-A521-027EE57B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7635-1A50-433A-BF29-5A2A9139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4F16-64BE-48B6-9B0A-4E56C0AF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4E0E-7A90-43B5-BA64-07779B6C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95F0-0D0F-451D-848A-1E3F87AF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7C72-9C9E-4F81-B0CB-8D042B83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8ADF9-7C21-47AE-94C3-4C38785F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31BEF-9D4D-4E90-A2CF-33D0ECDF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FD82F-62E6-4742-AB54-2B3F7A00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DE2E7-93DB-4392-8068-EF34012E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C37B3-D395-4316-B193-19ECF207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90CA-24FB-4346-82C5-7A655931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01253-E731-4C87-BC11-75423E69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D4591-C01C-4DC7-9D4E-0253DB66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E77F0-EF63-4305-98AE-498DAE53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BA61F-3018-4FF5-9772-3D732944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2897D-FB92-4100-9566-D4047745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0D73E-A5C9-45BF-9DD3-CF810CC2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C2BAB-E194-4DE3-A3A5-519F5BDB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09437-3F2F-4371-834C-696FE781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A5E3C-E55D-484C-9DE6-2981CD76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16302-7984-4DBA-88D9-5C024FF8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353C-3D91-4223-9314-84436781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50920-0BCC-476C-BC30-032CF793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82DE3-DDC3-4310-8345-F3DD6F02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257A9-B4B4-433E-975C-921A7681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59211-CF12-4277-9C28-8A8643BF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7743B-D9E6-4FEF-9BEB-1945E6D4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8160E-6326-4AA8-A54C-70F07AE2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3B654-A228-444C-8A9E-65EF1562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D6BB9-EF64-40A7-9893-B989D93B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E7C08-2BEC-477A-AE42-499BEDE5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683E9-20BB-41E2-AFF1-D7F3DD20E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46C-C466-4620-A1CB-A2A07E67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CC295-EC56-4735-9201-187C03A1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BF9AB-3E03-4F14-BE40-1D7FD3A4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D08D6-6367-4555-8174-3CA3D3E5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D3DD8-D1B5-4141-B13F-763A674B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A8FD5-2BE0-4C3B-A62B-95452BD7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0506C-8056-44CE-9BCB-5BE801A1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D22ED-4BF6-437A-90EC-43C6993B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EC737-46C6-4F80-ABDD-0AC987FF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DDE19-92E9-42D3-9940-1C6A5FB1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ABA44-816B-4729-B69E-CA29B5B7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806F-E32C-4ED7-9211-654958B1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14078-7D3C-4C29-AA58-BD639A2A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BB2A0-B800-429B-8BB0-E069BB5F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51747-C847-4B33-A0D7-D55A756E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EB7AA-2FAE-4B18-A42A-1B065C97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1B914-2AD9-4103-A8D3-B1084A4C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2A834-9309-4ACA-B0CC-F2961A59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A0BB9-63BF-499B-A6B2-E0F5246A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C94F6-7065-4933-9468-332D5681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E44F7-321E-4058-B7F4-0F41DAAB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B8E8A-FE74-4C1E-882F-75B8213E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D187-0B38-472F-B455-FF319A64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12049-DB46-4425-AE32-E6C82B7D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F0EBA-2396-47B0-A0FD-18F22CF9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F4029-433C-41D9-8D46-2E4A7E7C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C09F8-2CF2-408E-8780-22001086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F8E88-E854-4334-A996-50451CAB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58750-DFD1-484A-BEE1-C7BFF3A1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A2AB6-FB41-4946-A0C9-19F6D19C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37DAB-F8A1-4CE6-9F31-9B61FA9C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E9403-602C-47B2-8D5F-7C42FD96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130BF-9CCE-45F0-87B3-695439B2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F3CA-78D7-47C4-AAF6-9BF7FF9E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CDFF8-37FB-44EF-B0A5-8902C2EA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1DCE3-0596-4139-87F9-6D00F2B0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29AFF-1B76-46BF-956D-39997A89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7F208-68FA-48D6-A39F-32FCD572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36E27-3719-493D-81C9-E910BB0DD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BA6C7-B764-4BF8-89A6-164B6066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D716C-A55F-4D51-980B-CDB56C6E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27DA2-855A-4BBA-A419-02EE861F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9D00D-19C6-4E0B-9424-364A16FD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B1353-C074-472C-9735-47FC347B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81E-A060-464F-A7F4-31B0FEC3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5465E-03C5-459A-BA6A-5E94BF68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DF97F-EDFC-42A5-A072-940E9F1B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0D491-0208-4CA3-ADE0-678D2756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CD086-0407-4788-A67F-0D585E4D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CD99B-BECC-45A7-B186-904EEF6D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3D1B0-A645-41B4-A53F-5AF6508E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D2D5E-2332-4C0C-9FEE-80287CC2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EB11-98C5-4864-8D4C-825F9CC5DB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3FF6-75EA-42F5-8522-EAA7DD5CB9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9AC1-A8C6-4CFC-A575-85992098F7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5F52-0139-4DA7-8EB2-50507269A9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B26B-52C4-4D9F-A807-9514302D23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6AC8-8655-4998-B5C9-33A6C9EDAC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34F8-FF39-40FD-9CBD-212F1B1FE0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69EC-BB03-4878-81C4-0A9A0EA51C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5" descr="logo"/>
          <p:cNvPicPr/>
          <p:nvPr/>
        </p:nvPicPr>
        <p:blipFill>
          <a:blip r:embed="rId1"/>
          <a:stretch/>
        </p:blipFill>
        <p:spPr>
          <a:xfrm>
            <a:off x="7924680" y="228600"/>
            <a:ext cx="9082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78" name="WordArt 30"/>
          <p:cNvSpPr txBox="1"/>
          <p:nvPr/>
        </p:nvSpPr>
        <p:spPr>
          <a:xfrm>
            <a:off x="1571760" y="171468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tabolism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857160" y="3071880"/>
            <a:ext cx="74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ndalus"/>
              </a:rPr>
              <a:t>Prof. Hanan Ha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ndalus"/>
              </a:rPr>
              <a:t>Dr. Ishfaq Bukh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ndalus"/>
              </a:rPr>
              <a:t>Pharmacology De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71280" y="260280"/>
            <a:ext cx="9144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tochondr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Acetylation by N-acetyl transferas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35000" indent="-577800"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acetyl group (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1" lang="en-US" sz="3200" spc="-1" strike="noStrike" baseline="62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Monoamine oxidase enzyme (MAO)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35000" indent="-577800"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on of catecholamines as adrenal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e.g. Alcohol dehydrogenase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alcoho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anol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aldehyde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ic acid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2OH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42560" y="142920"/>
            <a:ext cx="9001080" cy="61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cr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al enzyme system = Cytochrome P-450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more than 20 famili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huma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3 isoenzyme families are important CYP1, CYP2 and CYP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42920" y="214200"/>
            <a:ext cx="878688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hepatic metabolic reaction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hases of hepatic metabolic reaction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 reactions includ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lysi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I reactions includ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gation reac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4643280" y="1071720"/>
            <a:ext cx="4286520" cy="56433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2"/>
          <p:cNvSpPr/>
          <p:nvPr/>
        </p:nvSpPr>
        <p:spPr>
          <a:xfrm>
            <a:off x="301680" y="214200"/>
            <a:ext cx="71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hepatic metabolic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178920" y="907560"/>
            <a:ext cx="8750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ddition of oxygen or removal of hydrogen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microso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AutoShape 2" descr=""/>
          <p:cNvPicPr/>
          <p:nvPr/>
        </p:nvPicPr>
        <p:blipFill>
          <a:blip r:embed="rId1"/>
          <a:stretch/>
        </p:blipFill>
        <p:spPr>
          <a:xfrm>
            <a:off x="1109520" y="66600"/>
            <a:ext cx="7369200" cy="84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178920" y="907560"/>
            <a:ext cx="8750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58840" indent="-18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icrosomal 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n microsom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ytochrome P450 enzymes, NADPH and oxyge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n microsomal 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n cytosol  or mitochondri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oxidases and dehydrogenas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9840" indent="-1620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– Dehydrogen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9840" indent="-1620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ine – MA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9840" indent="-1620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– Xanthine oxid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AutoShape 2" descr=""/>
          <p:cNvPicPr/>
          <p:nvPr/>
        </p:nvPicPr>
        <p:blipFill>
          <a:blip r:embed="rId1"/>
          <a:stretch/>
        </p:blipFill>
        <p:spPr>
          <a:xfrm>
            <a:off x="1109520" y="66600"/>
            <a:ext cx="7369200" cy="84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492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ehydrogenases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dehydrogen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ehyde dehydrogen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xidases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noamine oxidase (MAO)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catecholamines as adrenaline and seroton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anthine oxidas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xanth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7948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xanthin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anthin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ric acid uric acid accumula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OUT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AutoShape 2" descr=""/>
          <p:cNvPicPr/>
          <p:nvPr/>
        </p:nvPicPr>
        <p:blipFill>
          <a:blip r:embed="rId1"/>
          <a:stretch/>
        </p:blipFill>
        <p:spPr>
          <a:xfrm>
            <a:off x="1536840" y="-73080"/>
            <a:ext cx="5930640" cy="77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420840" y="-12600"/>
            <a:ext cx="8242200" cy="877680"/>
          </a:xfrm>
          <a:prstGeom prst="rect">
            <a:avLst/>
          </a:prstGeom>
          <a:ln w="0">
            <a:noFill/>
          </a:ln>
        </p:spPr>
      </p:pic>
      <p:pic>
        <p:nvPicPr>
          <p:cNvPr id="408" name="Content Placeholder 3" descr=""/>
          <p:cNvPicPr/>
          <p:nvPr/>
        </p:nvPicPr>
        <p:blipFill>
          <a:blip r:embed="rId2"/>
          <a:srcRect l="2803" t="0" r="0" b="0"/>
          <a:stretch/>
        </p:blipFill>
        <p:spPr>
          <a:xfrm>
            <a:off x="182520" y="928800"/>
            <a:ext cx="8890200" cy="5857920"/>
          </a:xfrm>
          <a:prstGeom prst="rect">
            <a:avLst/>
          </a:prstGeom>
          <a:ln w="0">
            <a:noFill/>
          </a:ln>
        </p:spPr>
      </p:pic>
      <p:sp>
        <p:nvSpPr>
          <p:cNvPr id="409" name="Frame 11"/>
          <p:cNvSpPr/>
          <p:nvPr/>
        </p:nvSpPr>
        <p:spPr>
          <a:xfrm>
            <a:off x="6588000" y="1052640"/>
            <a:ext cx="1266840" cy="785520"/>
          </a:xfrm>
          <a:custGeom>
            <a:avLst/>
            <a:gdLst>
              <a:gd name="textAreaLeft" fmla="*/ 97920 w 1266840"/>
              <a:gd name="textAreaRight" fmla="*/ 1168920 w 1266840"/>
              <a:gd name="textAreaTop" fmla="*/ 97920 h 785520"/>
              <a:gd name="textAreaBottom" fmla="*/ 687600 h 785520"/>
            </a:gdLst>
            <a:ahLst/>
            <a:rect l="textAreaLeft" t="textAreaTop" r="textAreaRight" b="textAreaBottom"/>
            <a:pathLst>
              <a:path w="1266825" h="785812">
                <a:moveTo>
                  <a:pt x="0" y="0"/>
                </a:moveTo>
                <a:lnTo>
                  <a:pt x="1266825" y="0"/>
                </a:lnTo>
                <a:lnTo>
                  <a:pt x="1266825" y="785812"/>
                </a:lnTo>
                <a:lnTo>
                  <a:pt x="0" y="785812"/>
                </a:lnTo>
                <a:close/>
                <a:moveTo>
                  <a:pt x="98227" y="98227"/>
                </a:moveTo>
                <a:lnTo>
                  <a:pt x="98227" y="687586"/>
                </a:lnTo>
                <a:lnTo>
                  <a:pt x="1168599" y="687586"/>
                </a:lnTo>
                <a:lnTo>
                  <a:pt x="1168599" y="98227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ame 5"/>
          <p:cNvSpPr/>
          <p:nvPr/>
        </p:nvSpPr>
        <p:spPr>
          <a:xfrm>
            <a:off x="2268360" y="981000"/>
            <a:ext cx="1656000" cy="863640"/>
          </a:xfrm>
          <a:custGeom>
            <a:avLst/>
            <a:gdLst>
              <a:gd name="textAreaLeft" fmla="*/ 107640 w 1656000"/>
              <a:gd name="textAreaRight" fmla="*/ 1548360 w 1656000"/>
              <a:gd name="textAreaTop" fmla="*/ 108000 h 863640"/>
              <a:gd name="textAreaBottom" fmla="*/ 756000 h 863640"/>
            </a:gdLst>
            <a:ahLst/>
            <a:rect l="textAreaLeft" t="textAreaTop" r="textAreaRight" b="textAreaBottom"/>
            <a:pathLst>
              <a:path w="1655762" h="863600">
                <a:moveTo>
                  <a:pt x="0" y="0"/>
                </a:moveTo>
                <a:lnTo>
                  <a:pt x="1655762" y="0"/>
                </a:lnTo>
                <a:lnTo>
                  <a:pt x="1655762" y="863600"/>
                </a:lnTo>
                <a:lnTo>
                  <a:pt x="0" y="863600"/>
                </a:lnTo>
                <a:close/>
                <a:moveTo>
                  <a:pt x="107950" y="107950"/>
                </a:moveTo>
                <a:lnTo>
                  <a:pt x="107950" y="755650"/>
                </a:lnTo>
                <a:lnTo>
                  <a:pt x="1547812" y="755650"/>
                </a:lnTo>
                <a:lnTo>
                  <a:pt x="1547812" y="10795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ame 6"/>
          <p:cNvSpPr/>
          <p:nvPr/>
        </p:nvSpPr>
        <p:spPr>
          <a:xfrm>
            <a:off x="6286680" y="4143240"/>
            <a:ext cx="1655640" cy="863640"/>
          </a:xfrm>
          <a:custGeom>
            <a:avLst/>
            <a:gdLst>
              <a:gd name="textAreaLeft" fmla="*/ 107640 w 1655640"/>
              <a:gd name="textAreaRight" fmla="*/ 1548000 w 1655640"/>
              <a:gd name="textAreaTop" fmla="*/ 108000 h 863640"/>
              <a:gd name="textAreaBottom" fmla="*/ 756000 h 863640"/>
            </a:gdLst>
            <a:ahLst/>
            <a:rect l="textAreaLeft" t="textAreaTop" r="textAreaRight" b="textAreaBottom"/>
            <a:pathLst>
              <a:path w="1655763" h="863600">
                <a:moveTo>
                  <a:pt x="0" y="0"/>
                </a:moveTo>
                <a:lnTo>
                  <a:pt x="1655763" y="0"/>
                </a:lnTo>
                <a:lnTo>
                  <a:pt x="1655763" y="863600"/>
                </a:lnTo>
                <a:lnTo>
                  <a:pt x="0" y="863600"/>
                </a:lnTo>
                <a:close/>
                <a:moveTo>
                  <a:pt x="107950" y="107950"/>
                </a:moveTo>
                <a:lnTo>
                  <a:pt x="107950" y="755650"/>
                </a:lnTo>
                <a:lnTo>
                  <a:pt x="1547813" y="755650"/>
                </a:lnTo>
                <a:lnTo>
                  <a:pt x="1547813" y="10795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142920" y="214200"/>
            <a:ext cx="8858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uction reaction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al of oxygen or addition of hydroge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microsomal or non microsomal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odop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642960" y="464328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Arial Narrow"/>
              </a:rPr>
              <a:t>Levodopa (DOPA)                                             Dop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12" descr=""/>
          <p:cNvPicPr/>
          <p:nvPr/>
        </p:nvPicPr>
        <p:blipFill>
          <a:blip r:embed="rId1"/>
          <a:stretch/>
        </p:blipFill>
        <p:spPr>
          <a:xfrm>
            <a:off x="642960" y="3143160"/>
            <a:ext cx="3000240" cy="976320"/>
          </a:xfrm>
          <a:prstGeom prst="rect">
            <a:avLst/>
          </a:prstGeom>
          <a:ln w="0">
            <a:noFill/>
          </a:ln>
        </p:spPr>
      </p:pic>
      <p:sp>
        <p:nvSpPr>
          <p:cNvPr id="415" name="Line 6"/>
          <p:cNvSpPr/>
          <p:nvPr/>
        </p:nvSpPr>
        <p:spPr>
          <a:xfrm>
            <a:off x="3429000" y="47149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4" descr=""/>
          <p:cNvPicPr/>
          <p:nvPr/>
        </p:nvPicPr>
        <p:blipFill>
          <a:blip r:embed="rId2"/>
          <a:stretch/>
        </p:blipFill>
        <p:spPr>
          <a:xfrm>
            <a:off x="6154560" y="3213000"/>
            <a:ext cx="2989440" cy="97632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5"/>
          <p:cNvSpPr/>
          <p:nvPr/>
        </p:nvSpPr>
        <p:spPr>
          <a:xfrm>
            <a:off x="3429000" y="41432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 Narrow"/>
              </a:rPr>
              <a:t>DOPA- decarboxy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71280" y="214200"/>
            <a:ext cx="9001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drolysi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</a:t>
            </a:r>
            <a:r>
              <a:rPr b="1" i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non microsoma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by addition of water molecules in presence of enzymes a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esterases amidases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as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lyze drugs that are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st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das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lyze drugs that are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mid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214200" y="1341360"/>
            <a:ext cx="8715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end of this lecture, students shoul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the importance of biotransform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sites for drug metabolis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the major phase I and phase II metabolic reaction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modulation of liver microsomal enzymes by inducers and inhibito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two drugs that are known as enzyme inducers and inhibitor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impact of first pass metabolism on drug bioavailabilit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WordArt 3"/>
          <p:cNvSpPr txBox="1"/>
          <p:nvPr/>
        </p:nvSpPr>
        <p:spPr>
          <a:xfrm>
            <a:off x="2357280" y="404640"/>
            <a:ext cx="441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TABOLISM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71280" y="214200"/>
            <a:ext cx="9001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drolysi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s a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etylcholi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eurotransmitter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ster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ylcholin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ate + cholin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des a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idocain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sed as local anesthetic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500040" y="1609560"/>
            <a:ext cx="8001000" cy="510120"/>
          </a:xfrm>
          <a:prstGeom prst="rect">
            <a:avLst/>
          </a:prstGeom>
          <a:solidFill>
            <a:srgbClr val="78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ster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Acid +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714240" y="4786200"/>
            <a:ext cx="6986880" cy="510120"/>
          </a:xfrm>
          <a:prstGeom prst="rect">
            <a:avLst/>
          </a:prstGeom>
          <a:solidFill>
            <a:srgbClr val="78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mide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    Acid + 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70920" y="928800"/>
            <a:ext cx="8929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ion of pro-dru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levodopa to dopam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ation of drug (termination of action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of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ive dru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ive metaboli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of </a:t>
            </a:r>
            <a:r>
              <a:rPr b="1" lang="en-US" sz="3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ontoxic drug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en-US" sz="3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oxic metabolite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cetamo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patotoxic metabolite (hepatic necrosi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might undergo phase I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3" name="AutoShape 2" descr=""/>
          <p:cNvPicPr/>
          <p:nvPr/>
        </p:nvPicPr>
        <p:blipFill>
          <a:blip r:embed="rId1"/>
          <a:stretch/>
        </p:blipFill>
        <p:spPr>
          <a:xfrm>
            <a:off x="-12600" y="60480"/>
            <a:ext cx="8450280" cy="76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71280" y="1483920"/>
            <a:ext cx="90727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gation of metabolite coming from (phase I) with endogenous substance as methyl group, acetyl group, sulphate, amino acid or glucouronic acid to produce conjugate that i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water solu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asily excreted in urine or bi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755640" y="404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I Conjugation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5"/>
          <p:cNvSpPr/>
          <p:nvPr/>
        </p:nvSpPr>
        <p:spPr>
          <a:xfrm>
            <a:off x="285840" y="71280"/>
            <a:ext cx="79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conjugation reaction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42920" y="857160"/>
          <a:ext cx="8929800" cy="5715000"/>
        </p:xfrm>
        <a:graphic>
          <a:graphicData uri="http://schemas.openxmlformats.org/drawingml/2006/table">
            <a:tbl>
              <a:tblPr/>
              <a:tblGrid>
                <a:gridCol w="4857840"/>
                <a:gridCol w="4071960"/>
              </a:tblGrid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Conjugation 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zyme requi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ucouronide conjuga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Glucouron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2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tylation (CH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 </a:t>
                      </a:r>
                      <a:r>
                        <a:rPr b="1" lang="en-US" sz="3200" spc="-1" strike="noStrike" baseline="6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N-acet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lphation  (SO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 baseline="64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 _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Sulfo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ylation ( CH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meth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98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ino acids conjuga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lycine conjug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71280" y="1143000"/>
            <a:ext cx="9001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non microsom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cep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uronid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uronide conjugation is a microsomal process (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 most comm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y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ucouronyl transfera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 neonates may result into toxicity with chloramphenicol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Gray baby syndrome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AutoShape 2" descr=""/>
          <p:cNvPicPr/>
          <p:nvPr/>
        </p:nvPicPr>
        <p:blipFill>
          <a:blip r:embed="rId1"/>
          <a:stretch/>
        </p:blipFill>
        <p:spPr>
          <a:xfrm>
            <a:off x="30240" y="115920"/>
            <a:ext cx="6059520" cy="841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pharmacologically inactiv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ater solubl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ly excreted in urine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AutoShape 2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7888320" cy="890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71280" y="1285920"/>
            <a:ext cx="900144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: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 rate of metabolism in neonates &amp; elderl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eases: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 rate of metabolism in liver diseases</a:t>
            </a:r>
            <a:r>
              <a:rPr b="1" lang="en-US" sz="2800" spc="-1" strike="noStrike">
                <a:solidFill>
                  <a:srgbClr val="ffff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gree of Protein Binding: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 rate of metabo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rent use of drugs: 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Induction &amp; inhibi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nutrition </a:t>
            </a:r>
            <a:r>
              <a:rPr b="0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 rate 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of metabo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enetic polymorph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(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Title 2" descr=""/>
          <p:cNvPicPr/>
          <p:nvPr/>
        </p:nvPicPr>
        <p:blipFill>
          <a:blip r:embed="rId1"/>
          <a:stretch/>
        </p:blipFill>
        <p:spPr>
          <a:xfrm>
            <a:off x="281160" y="255600"/>
            <a:ext cx="8412120" cy="96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71280" y="1285920"/>
            <a:ext cx="900144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th-TH" sz="2800" spc="-1" strike="noStrike">
                <a:solidFill>
                  <a:srgbClr val="000000"/>
                </a:solidFill>
                <a:latin typeface="Lucida Sans Unicode"/>
                <a:ea typeface="Cordia New"/>
              </a:rPr>
              <a:t>enetic polymorphis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soniazid (Anti-TB), etc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 Unicode"/>
              </a:rPr>
              <a:t>Slow acetylator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henotyp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peripheral neuropath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 Unicode"/>
              </a:rPr>
              <a:t>Rapid acetylator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henotyp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hepatiti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2" descr=""/>
          <p:cNvPicPr/>
          <p:nvPr/>
        </p:nvPicPr>
        <p:blipFill>
          <a:blip r:embed="rId1"/>
          <a:stretch/>
        </p:blipFill>
        <p:spPr>
          <a:xfrm>
            <a:off x="281160" y="255600"/>
            <a:ext cx="8412120" cy="96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142560" y="142920"/>
            <a:ext cx="8929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Enzyme Induction &amp; inhibi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Liver microsomal enzymes inducer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rugs that increase activities of liver microsomal enzymes &amp; increase the metabolism of itself and other drug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Liver microsomal enzymes inhibitor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rugs that decrease activities of liver microsomal enzymes &amp; decrease the metabolism of itself and other drug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3"/>
          <p:cNvSpPr/>
          <p:nvPr/>
        </p:nvSpPr>
        <p:spPr>
          <a:xfrm>
            <a:off x="71280" y="214200"/>
            <a:ext cx="4357800" cy="64296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nzyme indu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garette sm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obarbiton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ypn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yto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epilep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fampic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 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4429080" y="214200"/>
            <a:ext cx="4653000" cy="64296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nzyme inhib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e fr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meti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ythromyc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bio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toconazol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fung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250920" y="1125360"/>
            <a:ext cx="84470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Defin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hemical reactions which occur in the body to change drugs from </a:t>
            </a:r>
            <a:r>
              <a:rPr b="1" lang="en-US" sz="2700" spc="-1" strike="noStrike" u="sng">
                <a:solidFill>
                  <a:srgbClr val="ff0000"/>
                </a:solidFill>
                <a:uFillTx/>
                <a:latin typeface="Lucida Sans Unicode"/>
              </a:rPr>
              <a:t>lipid soluble form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to </a:t>
            </a:r>
            <a:r>
              <a:rPr b="1" lang="en-US" sz="2700" spc="-1" strike="noStrike" u="sng">
                <a:solidFill>
                  <a:srgbClr val="ff0000"/>
                </a:solidFill>
                <a:uFillTx/>
                <a:latin typeface="Lucida Sans Unicode"/>
              </a:rPr>
              <a:t>water soluble form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at  are easily excreted by the kidne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AutoShape 2" descr=""/>
          <p:cNvPicPr/>
          <p:nvPr/>
        </p:nvPicPr>
        <p:blipFill>
          <a:blip r:embed="rId1"/>
          <a:stretch/>
        </p:blipFill>
        <p:spPr>
          <a:xfrm>
            <a:off x="689040" y="139680"/>
            <a:ext cx="8345520" cy="787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70920" y="1214280"/>
            <a:ext cx="8929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tabolism  and excretion of  the inducer drug itself and 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tion of the inducer drug itself &amp;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 may occu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crease in the pharmacological action of the drug by repeated administration 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214200" y="21420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duction may result 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70920" y="1214280"/>
            <a:ext cx="8929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interactions may occur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in action of one drug by administration of another dru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oral contraceptives &amp; phenytoi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ducer).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of oral contraceptive may lead to pregnancy if combined with phenyto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214200" y="21420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duction may result 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214200" y="214200"/>
            <a:ext cx="8715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hibition may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the metabolism  and excretion of  the inhibitor drug and 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ong the action of the inhibitor  drug &amp;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warfarin &amp; erythromyci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hibitor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warfarin metabolism may lead to increase 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coagulant effect (bleeding)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250920" y="128268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nactivation or termination of drug a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toxific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ctivation of prodrug </a:t>
            </a:r>
            <a:r>
              <a:rPr b="1" lang="en-US" sz="2700" spc="-1" strike="noStrike">
                <a:solidFill>
                  <a:srgbClr val="0000cc"/>
                </a:solidFill>
                <a:latin typeface="Lucida Sans Unicode"/>
              </a:rPr>
              <a:t>(convert inactive form of drug to active form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450720" y="176040"/>
            <a:ext cx="8242560" cy="884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gan sites of drug metabolism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Liver </a:t>
            </a:r>
            <a:r>
              <a:rPr b="1" lang="en-US" sz="3200" spc="-1" strike="noStrike">
                <a:solidFill>
                  <a:srgbClr val="0000cc"/>
                </a:solidFill>
                <a:latin typeface="Lucida Sans Unicode"/>
              </a:rPr>
              <a:t>(the major site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Intestinal Mucosa and Lume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Lun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79280" y="260280"/>
            <a:ext cx="8507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Lucida Sans Unicode"/>
              </a:rPr>
              <a:t>Intestinal Mucosa and Lume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Gut Mucos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no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ine 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xidase (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MAO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Gut lumen (bacterial flora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Glucouronidas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179280" y="260280"/>
            <a:ext cx="8507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Plasma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54160" indent="-22860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1280" y="1071720"/>
          <a:ext cx="9001440" cy="5179680"/>
        </p:xfrm>
        <a:graphic>
          <a:graphicData uri="http://schemas.openxmlformats.org/drawingml/2006/table">
            <a:tbl>
              <a:tblPr/>
              <a:tblGrid>
                <a:gridCol w="5869080"/>
                <a:gridCol w="3132360"/>
              </a:tblGrid>
              <a:tr h="896400"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zymes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ubstr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71080">
                <a:tc>
                  <a:txBody>
                    <a:bodyPr tIns="46800" bIns="46800"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C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atechol 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o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-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m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ethyl 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t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ransferase  </a:t>
                      </a: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Lucida Sans Unicode"/>
                          <a:ea typeface="Arial"/>
                        </a:rPr>
                        <a:t>(COMT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techolamines (adrenal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556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era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e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Local anesthetic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556280">
                <a:tc>
                  <a:txBody>
                    <a:bodyPr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ida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ides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Local anesthetic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611280" y="1979640"/>
            <a:ext cx="1008000" cy="3697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27" descr=""/>
          <p:cNvPicPr/>
          <p:nvPr/>
        </p:nvPicPr>
        <p:blipFill>
          <a:blip r:embed="rId2"/>
          <a:srcRect l="7920" t="3701" r="2972" b="3637"/>
          <a:stretch/>
        </p:blipFill>
        <p:spPr>
          <a:xfrm>
            <a:off x="222120" y="1844640"/>
            <a:ext cx="8742600" cy="2941560"/>
          </a:xfrm>
          <a:prstGeom prst="rect">
            <a:avLst/>
          </a:prstGeom>
          <a:ln w="0">
            <a:noFill/>
          </a:ln>
        </p:spPr>
      </p:pic>
      <p:sp>
        <p:nvSpPr>
          <p:cNvPr id="393" name="Flowchart: Process 5"/>
          <p:cNvSpPr/>
          <p:nvPr/>
        </p:nvSpPr>
        <p:spPr>
          <a:xfrm>
            <a:off x="324000" y="1844640"/>
            <a:ext cx="1439640" cy="576360"/>
          </a:xfrm>
          <a:prstGeom prst="flowChartProcess">
            <a:avLst/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lowchart: Process 6"/>
          <p:cNvSpPr/>
          <p:nvPr/>
        </p:nvSpPr>
        <p:spPr>
          <a:xfrm>
            <a:off x="5435640" y="1844640"/>
            <a:ext cx="1440000" cy="576360"/>
          </a:xfrm>
          <a:prstGeom prst="flowChartProcess">
            <a:avLst/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70920" y="259920"/>
            <a:ext cx="8929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llular sites of drug metabolis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toplas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s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2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Ishfaq</cp:lastModifiedBy>
  <dcterms:modified xsi:type="dcterms:W3CDTF">2014-10-14T09:54:26Z</dcterms:modified>
  <cp:revision>263</cp:revision>
  <dc:subject/>
  <dc:title>GENERAL PHARMACOLOGY</dc:title>
</cp:coreProperties>
</file>