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22.png" ContentType="image/png"/>
  <Override PartName="/ppt/media/image12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0F74-324B-4BB5-ADAF-28B26FF3B08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784B-BF00-458E-99FA-A58D284C7D7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652E-0798-41D9-BFC0-32532A8CD62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F128-2546-4791-9DAB-41FF49DE692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C6DB-E58B-4A68-A6C3-1B36FC805BA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AF1B-1640-4B5D-9F0C-483BE91F7B5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8EE0-F4C1-4C6C-B53F-F166FF35D53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6CAB-5A23-4305-BF37-A6EE9E26AF8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0AC9-29C8-4318-9E12-9C6BBD42FB8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CB37-33AE-4D64-98F6-E6243CD0548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0EF4-F6B4-4A91-A8A4-5EC3F82846C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2DF1-DC72-4253-96D4-E78CCDC9889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61E4-F5F6-4F50-A9B0-9BCA142BEC2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9976-0167-4E91-A02E-3D6ADB55896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13A3-554A-4CD2-ABE3-BBD8A262293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4F59-422B-434E-A842-FEBCBB3FA87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033F-2A9A-4E2A-9A0E-E70B6994387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E27D-B909-4D6C-A9D8-2B4E118B08A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7878-9952-4129-BD69-C4E6513DCF7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2904-CED3-45EC-BB81-FA574A3775D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F8B2-D916-49C3-8DA7-81F94DA2BBC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BE62-8DCA-4782-B806-3680D637442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FCE3-E688-4F54-8E34-D38101F5091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1B01-155C-42F2-BE59-C49C7D221DA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5820-15D7-4DD0-8AC2-DC9E01C3AD6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F7AF-65A9-48B6-A5ED-91D896EF911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BCFD-F1CE-4433-B0AF-87F9649C9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1651-9589-404F-856D-B92C9C9D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24B2-279C-4B1D-B0BA-BB7385E46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DA57-8D60-47A4-B346-C23D39700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566A-9D6B-41D6-8BCD-15DB06A33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3912-96B0-4376-B6F5-6DBF1670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4C40-CD2C-4877-9187-6ABB4419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6554-0788-43B6-893B-DA8F4BDC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286A-3A5E-4420-950B-9A698AD4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7B6D-DCC9-4370-A075-B68471AC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7D7D-529B-4615-AA76-9C3D2C60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3F79-C854-4DCE-888D-4BF93E9B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68F4-B8B6-4550-95DE-4DA74590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DDC4-B845-4516-8524-4214E527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C3AD-10B1-4D46-8D6E-16CE50E2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8960-14C1-4387-AA28-196D13F14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D991-73CF-4B53-87DD-BF9737A91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4A8AA-89C6-48B5-AAC9-34DAA4390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2694F-B43A-4368-B66A-7A4B43F0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76FDE-98EC-4002-9FB1-AE95C2C0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DA203-BEBE-416D-9A5B-530C6024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A239D-A675-4834-AE92-7ED5DD96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E756-1EAD-4EA9-B3BD-B91D769C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0E026-612D-4008-8885-2CB226AF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4112B-0970-43D7-85CA-FE2A6F6C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14E57-D691-4518-80D9-B537E7D2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4293A-D5F8-413C-B5A6-0B2F965D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B4B1B-5A5C-4953-A07E-F4D1FFE3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E2B42-99FE-4782-875F-EA78C0B20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ADE00-93FC-4AED-A6C7-A1114658D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57047-CCB3-470F-8BBC-811EF1CED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ABB42-81F0-46DC-BEE9-91AB2B27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2AA3D-6860-48B6-B2BF-A3998560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737E-2016-4916-9501-C8135342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126C5-7070-43D8-B131-8741C075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EDD75-3BFD-4FA9-A19F-D0D0D35E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D3E6F-32D1-4BA3-8969-8AC0A079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7F412-912C-4097-A7CC-2656A58E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996D1-8B05-4B2B-A72D-AF8999B1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D5FEB-BA4B-405D-9F63-39A978F0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B7F45-4907-4D9C-851B-5A1186A7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B6C67-3D2A-4342-BC2F-96BA6E10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5FA2F-4897-405B-8B0C-C803F3201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CDE69-CEB5-4EEE-8DB1-6585A7E56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17A1-6CBA-4C15-AD49-AA740B71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46755-20B0-4780-9CDE-104A1E93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4A5F2-5A60-4685-950E-89721BF5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BF82D-1638-461A-9A83-521EF79A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8E6EA-91E6-4446-9C93-80D704AE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8AC06-DB33-4BB0-881D-C9FEC1BE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D22F8-98B6-4A3C-9BE0-78464E06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FC41A-4266-46EB-B207-030F7A9D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3C6A7-4DB9-44AF-B188-622414E1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1BA32-49BC-45FB-A9C6-E255238C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6FA4B-FA88-480E-AE8E-960EEF22E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3C8A-112D-4060-AAFC-12DB97BD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1ADF2-57D1-46C9-8C17-0C49F2EB4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18451-5B4F-4812-A16C-A9BAE797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23155-D537-4717-9760-1306B5E2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71C4B-AF48-4EA4-B60C-71A57FA2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1E8C5-6885-4696-A36B-63A8D61A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7C3E2-82CA-44ED-B759-69FB5F46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7A1DB-2413-4D9A-97EF-B8D6C533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B40A5-B0F2-46F2-9D1C-3CBC0F21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58FAE-1B67-4C7D-A518-5B8417D9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2A07D-9FD9-4986-9EA0-E9944AD9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C11F-9CCF-4CBC-8A26-FB85E8B8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8FF84-84AC-4A0C-A381-502E609C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19D46-A14D-46FB-AD77-E9B5A4CC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CD550-6AD7-46CC-A9BF-CEDAD9EF0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2F1AD-0750-4CAC-9ABA-88574E192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92D6B-1353-468E-91DC-058A73AB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46300-499A-4B72-9874-E77897AD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9FEA4-6CB2-4273-82AB-EE001048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5706B-8119-42F6-ADEE-BA5CCEAC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376A8-C244-4C71-A7E6-3741C862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C507B-B818-47B8-81F8-39E33D39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0B05-1223-47F9-912D-C6659016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F5B31-4993-435C-AA1B-BE771C64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2904C-5E4A-4227-995C-A5005EF2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E6A18-4C48-4010-9703-18FBD14B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5DAAF-7AA5-4DAD-B5E3-A330D50D3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73B91-D711-4819-B360-739BFBFED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6A473-9D6F-423F-A54D-8974451F5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00FBD-E12E-4936-A636-5BDE644D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82B2F-2DDC-4547-8047-160EA3FE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E2A23-A30A-4E8C-8F3F-A9614FEE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194A1-33B6-47F0-8E1F-AE5D2856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C5FD-D3CB-42EC-B243-F3972A7F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B60D5-7CE8-409B-BAE9-E4878CE8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2D35E-D844-4897-AAB5-B3B62871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27B4F-81DF-41C2-AE1E-80DF2DBB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C52DA-038E-4A1B-9222-3EF49897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6F91A-79DF-48DC-A26F-75ED7D00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7C35B-7D93-4E62-B908-093BE49E9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FC705-3F16-48CC-A307-195C8358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1178-83AC-408D-B2A8-E8D3AD20A9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5695-2327-449A-9E1A-246A7C3E22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D9CC-3C4A-4991-90CD-10325540C8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D3CE-7A38-401E-9C5C-D8872E2FE4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53B3-5352-42A9-96CB-E221DDA241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A236-BC48-415C-AB1A-DDDA969255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58FD-EC97-4732-A1E6-B9812ED936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46C4-1492-41F3-87B4-24F75EB52F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5" descr="logo"/>
          <p:cNvPicPr/>
          <p:nvPr/>
        </p:nvPicPr>
        <p:blipFill>
          <a:blip r:embed="rId1"/>
          <a:stretch/>
        </p:blipFill>
        <p:spPr>
          <a:xfrm>
            <a:off x="7924680" y="228600"/>
            <a:ext cx="90828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78" name="WordArt 30"/>
          <p:cNvSpPr txBox="1"/>
          <p:nvPr/>
        </p:nvSpPr>
        <p:spPr>
          <a:xfrm>
            <a:off x="1571760" y="1714680"/>
            <a:ext cx="5486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etabolism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857160" y="3071880"/>
            <a:ext cx="742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  <a:ea typeface="Andalus"/>
              </a:rPr>
              <a:t>Prof. Hanan Hag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  <a:ea typeface="Andalus"/>
              </a:rPr>
              <a:t>Dr. Ishfaq Bukha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  <a:ea typeface="Andalus"/>
              </a:rPr>
              <a:t>Pharmacology Depar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71280" y="260280"/>
            <a:ext cx="914400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tochondri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Acetylation by N-acetyl transferase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035000" indent="-577800">
              <a:lnSpc>
                <a:spcPct val="12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of acetyl group (C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</a:t>
            </a:r>
            <a:r>
              <a:rPr b="1" lang="en-US" sz="3200" spc="-1" strike="noStrike" baseline="62000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Monoamine oxidase enzyme (MAO)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035000" indent="-577800">
              <a:lnSpc>
                <a:spcPct val="12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idation of catecholamines as adrenalin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ytoplas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e.g. Alcohol dehydrogenase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: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 of alcoho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anol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etaldehyde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etic acid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2OH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142560" y="142920"/>
            <a:ext cx="9001080" cy="61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crosom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mal enzyme system = Cytochrome P-450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more than 20 familie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huma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3 isoenzyme families are important CYP1, CYP2 and CYP3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142920" y="214200"/>
            <a:ext cx="878688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hepatic metabolic reaction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hases of hepatic metabolic reactions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se I reactions include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idatio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lysi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se II reactions includ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jugation reaction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4" descr=""/>
          <p:cNvPicPr/>
          <p:nvPr/>
        </p:nvPicPr>
        <p:blipFill>
          <a:blip r:embed="rId1"/>
          <a:stretch/>
        </p:blipFill>
        <p:spPr>
          <a:xfrm>
            <a:off x="4643280" y="1071720"/>
            <a:ext cx="4286520" cy="564336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2"/>
          <p:cNvSpPr/>
          <p:nvPr/>
        </p:nvSpPr>
        <p:spPr>
          <a:xfrm>
            <a:off x="301680" y="214200"/>
            <a:ext cx="711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hepatic metabolic re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178920" y="907560"/>
            <a:ext cx="8750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xidatio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ddition of oxygen or removal of hydrogen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m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microsom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AutoShape 2" descr=""/>
          <p:cNvPicPr/>
          <p:nvPr/>
        </p:nvPicPr>
        <p:blipFill>
          <a:blip r:embed="rId1"/>
          <a:stretch/>
        </p:blipFill>
        <p:spPr>
          <a:xfrm>
            <a:off x="1109520" y="66600"/>
            <a:ext cx="7369200" cy="841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178920" y="907560"/>
            <a:ext cx="8750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58840" indent="-18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icrosomal oxidatio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in microsom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cytochrome P450 enzymes, NADPH and oxygen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on microsomal oxidatio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in cytosol  or mitochondria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oxidases and dehydrogenase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09840" indent="-1620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 – Dehydrogena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09840" indent="-1620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naline – MA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09840" indent="-1620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anthine – Xanthine oxida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AutoShape 2" descr=""/>
          <p:cNvPicPr/>
          <p:nvPr/>
        </p:nvPicPr>
        <p:blipFill>
          <a:blip r:embed="rId1"/>
          <a:stretch/>
        </p:blipFill>
        <p:spPr>
          <a:xfrm>
            <a:off x="1109520" y="66600"/>
            <a:ext cx="7369200" cy="841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4920" y="836280"/>
            <a:ext cx="896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ehydrogenases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 dehydrogena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dehyde dehydrogena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Oxidases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onoamine oxidase (MAO)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sm of catecholamines as adrenaline and serotoni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anthine oxidase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sm of xanthin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xanthin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anthin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ric acid uric acid accumulatio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OUT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AutoShape 2" descr=""/>
          <p:cNvPicPr/>
          <p:nvPr/>
        </p:nvPicPr>
        <p:blipFill>
          <a:blip r:embed="rId1"/>
          <a:stretch/>
        </p:blipFill>
        <p:spPr>
          <a:xfrm>
            <a:off x="1536840" y="-73080"/>
            <a:ext cx="5930640" cy="77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420840" y="-12600"/>
            <a:ext cx="8242200" cy="877680"/>
          </a:xfrm>
          <a:prstGeom prst="rect">
            <a:avLst/>
          </a:prstGeom>
          <a:ln w="0">
            <a:noFill/>
          </a:ln>
        </p:spPr>
      </p:pic>
      <p:pic>
        <p:nvPicPr>
          <p:cNvPr id="408" name="Content Placeholder 3" descr=""/>
          <p:cNvPicPr/>
          <p:nvPr/>
        </p:nvPicPr>
        <p:blipFill>
          <a:blip r:embed="rId2"/>
          <a:srcRect l="2803" t="0" r="0" b="0"/>
          <a:stretch/>
        </p:blipFill>
        <p:spPr>
          <a:xfrm>
            <a:off x="182520" y="928800"/>
            <a:ext cx="8890200" cy="5857920"/>
          </a:xfrm>
          <a:prstGeom prst="rect">
            <a:avLst/>
          </a:prstGeom>
          <a:ln w="0">
            <a:noFill/>
          </a:ln>
        </p:spPr>
      </p:pic>
      <p:sp>
        <p:nvSpPr>
          <p:cNvPr id="409" name="Frame 11"/>
          <p:cNvSpPr/>
          <p:nvPr/>
        </p:nvSpPr>
        <p:spPr>
          <a:xfrm>
            <a:off x="6588000" y="1052640"/>
            <a:ext cx="1266840" cy="785520"/>
          </a:xfrm>
          <a:custGeom>
            <a:avLst/>
            <a:gdLst>
              <a:gd name="textAreaLeft" fmla="*/ 97920 w 1266840"/>
              <a:gd name="textAreaRight" fmla="*/ 1168920 w 1266840"/>
              <a:gd name="textAreaTop" fmla="*/ 97920 h 785520"/>
              <a:gd name="textAreaBottom" fmla="*/ 687600 h 785520"/>
            </a:gdLst>
            <a:ahLst/>
            <a:rect l="textAreaLeft" t="textAreaTop" r="textAreaRight" b="textAreaBottom"/>
            <a:pathLst>
              <a:path w="1266825" h="785812">
                <a:moveTo>
                  <a:pt x="0" y="0"/>
                </a:moveTo>
                <a:lnTo>
                  <a:pt x="1266825" y="0"/>
                </a:lnTo>
                <a:lnTo>
                  <a:pt x="1266825" y="785812"/>
                </a:lnTo>
                <a:lnTo>
                  <a:pt x="0" y="785812"/>
                </a:lnTo>
                <a:close/>
                <a:moveTo>
                  <a:pt x="98227" y="98227"/>
                </a:moveTo>
                <a:lnTo>
                  <a:pt x="98227" y="687586"/>
                </a:lnTo>
                <a:lnTo>
                  <a:pt x="1168599" y="687586"/>
                </a:lnTo>
                <a:lnTo>
                  <a:pt x="1168599" y="98227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ame 5"/>
          <p:cNvSpPr/>
          <p:nvPr/>
        </p:nvSpPr>
        <p:spPr>
          <a:xfrm>
            <a:off x="2268360" y="981000"/>
            <a:ext cx="1656000" cy="863640"/>
          </a:xfrm>
          <a:custGeom>
            <a:avLst/>
            <a:gdLst>
              <a:gd name="textAreaLeft" fmla="*/ 107640 w 1656000"/>
              <a:gd name="textAreaRight" fmla="*/ 1548360 w 1656000"/>
              <a:gd name="textAreaTop" fmla="*/ 108000 h 863640"/>
              <a:gd name="textAreaBottom" fmla="*/ 756000 h 863640"/>
            </a:gdLst>
            <a:ahLst/>
            <a:rect l="textAreaLeft" t="textAreaTop" r="textAreaRight" b="textAreaBottom"/>
            <a:pathLst>
              <a:path w="1655762" h="863600">
                <a:moveTo>
                  <a:pt x="0" y="0"/>
                </a:moveTo>
                <a:lnTo>
                  <a:pt x="1655762" y="0"/>
                </a:lnTo>
                <a:lnTo>
                  <a:pt x="1655762" y="863600"/>
                </a:lnTo>
                <a:lnTo>
                  <a:pt x="0" y="863600"/>
                </a:lnTo>
                <a:close/>
                <a:moveTo>
                  <a:pt x="107950" y="107950"/>
                </a:moveTo>
                <a:lnTo>
                  <a:pt x="107950" y="755650"/>
                </a:lnTo>
                <a:lnTo>
                  <a:pt x="1547812" y="755650"/>
                </a:lnTo>
                <a:lnTo>
                  <a:pt x="1547812" y="10795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ame 6"/>
          <p:cNvSpPr/>
          <p:nvPr/>
        </p:nvSpPr>
        <p:spPr>
          <a:xfrm>
            <a:off x="6286680" y="4143240"/>
            <a:ext cx="1655640" cy="863640"/>
          </a:xfrm>
          <a:custGeom>
            <a:avLst/>
            <a:gdLst>
              <a:gd name="textAreaLeft" fmla="*/ 107640 w 1655640"/>
              <a:gd name="textAreaRight" fmla="*/ 1548000 w 1655640"/>
              <a:gd name="textAreaTop" fmla="*/ 108000 h 863640"/>
              <a:gd name="textAreaBottom" fmla="*/ 756000 h 863640"/>
            </a:gdLst>
            <a:ahLst/>
            <a:rect l="textAreaLeft" t="textAreaTop" r="textAreaRight" b="textAreaBottom"/>
            <a:pathLst>
              <a:path w="1655763" h="863600">
                <a:moveTo>
                  <a:pt x="0" y="0"/>
                </a:moveTo>
                <a:lnTo>
                  <a:pt x="1655763" y="0"/>
                </a:lnTo>
                <a:lnTo>
                  <a:pt x="1655763" y="863600"/>
                </a:lnTo>
                <a:lnTo>
                  <a:pt x="0" y="863600"/>
                </a:lnTo>
                <a:close/>
                <a:moveTo>
                  <a:pt x="107950" y="107950"/>
                </a:moveTo>
                <a:lnTo>
                  <a:pt x="107950" y="755650"/>
                </a:lnTo>
                <a:lnTo>
                  <a:pt x="1547813" y="755650"/>
                </a:lnTo>
                <a:lnTo>
                  <a:pt x="1547813" y="10795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142920" y="214200"/>
            <a:ext cx="88581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duction reactions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al of oxygen or addition of hydroge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microsomal or non microsomal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odop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642960" y="464328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119"/>
                </a:solidFill>
                <a:latin typeface="Arial Narrow"/>
              </a:rPr>
              <a:t>Levodopa (DOPA)                                             Dopa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12" descr=""/>
          <p:cNvPicPr/>
          <p:nvPr/>
        </p:nvPicPr>
        <p:blipFill>
          <a:blip r:embed="rId1"/>
          <a:stretch/>
        </p:blipFill>
        <p:spPr>
          <a:xfrm>
            <a:off x="642960" y="3143160"/>
            <a:ext cx="3000240" cy="976320"/>
          </a:xfrm>
          <a:prstGeom prst="rect">
            <a:avLst/>
          </a:prstGeom>
          <a:ln w="0">
            <a:noFill/>
          </a:ln>
        </p:spPr>
      </p:pic>
      <p:sp>
        <p:nvSpPr>
          <p:cNvPr id="415" name="Line 6"/>
          <p:cNvSpPr/>
          <p:nvPr/>
        </p:nvSpPr>
        <p:spPr>
          <a:xfrm>
            <a:off x="3429000" y="47149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14" descr=""/>
          <p:cNvPicPr/>
          <p:nvPr/>
        </p:nvPicPr>
        <p:blipFill>
          <a:blip r:embed="rId2"/>
          <a:stretch/>
        </p:blipFill>
        <p:spPr>
          <a:xfrm>
            <a:off x="6154560" y="3213000"/>
            <a:ext cx="2989440" cy="97632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5"/>
          <p:cNvSpPr/>
          <p:nvPr/>
        </p:nvSpPr>
        <p:spPr>
          <a:xfrm>
            <a:off x="3429000" y="41432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 Narrow"/>
              </a:rPr>
              <a:t>DOPA- decarboxy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71280" y="214200"/>
            <a:ext cx="900144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drolysis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are </a:t>
            </a:r>
            <a:r>
              <a:rPr b="1" i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non microsoma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by addition of water molecules in presence of enzymes a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esterases amidases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rase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lyze drugs that are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ster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dase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lyze drugs that are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mid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214200" y="1341360"/>
            <a:ext cx="8715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the end of this lecture, students should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e the importance of biotransform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different sites for drug metabolis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the major phase I and phase II metabolic reaction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the modulation of liver microsomal enzymes by inducers and inhibito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tion two drugs that are known as enzyme inducers and inhibitors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impact of first pass metabolism on drug bioavailability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WordArt 3"/>
          <p:cNvSpPr txBox="1"/>
          <p:nvPr/>
        </p:nvSpPr>
        <p:spPr>
          <a:xfrm>
            <a:off x="2357280" y="404640"/>
            <a:ext cx="4418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ETABOLISM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71280" y="214200"/>
            <a:ext cx="900144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drolysis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rs as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etylcholi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eurotransmitter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stera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tylcholin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etate + choline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des as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lidocain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sed as local anesthetic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500040" y="1609560"/>
            <a:ext cx="8001000" cy="510120"/>
          </a:xfrm>
          <a:prstGeom prst="rect">
            <a:avLst/>
          </a:prstGeom>
          <a:solidFill>
            <a:srgbClr val="78d6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ster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0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      Acid + 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714240" y="4786200"/>
            <a:ext cx="6986880" cy="510120"/>
          </a:xfrm>
          <a:prstGeom prst="rect">
            <a:avLst/>
          </a:prstGeom>
          <a:solidFill>
            <a:srgbClr val="78d6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mide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0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          Acid + 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70920" y="928800"/>
            <a:ext cx="8929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ation of pro-drug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.g. levodopa to dopamin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ctivation of drug (termination of action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ion of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tive dru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tive metaboli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ion of </a:t>
            </a:r>
            <a:r>
              <a:rPr b="1" lang="en-US" sz="3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nontoxic drug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lang="en-US" sz="3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oxic metabolite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cetamol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patotoxic metabolite (hepatic necrosis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 might undergo phase II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AutoShape 2" descr=""/>
          <p:cNvPicPr/>
          <p:nvPr/>
        </p:nvPicPr>
        <p:blipFill>
          <a:blip r:embed="rId1"/>
          <a:stretch/>
        </p:blipFill>
        <p:spPr>
          <a:xfrm>
            <a:off x="-12600" y="60480"/>
            <a:ext cx="8450280" cy="768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71280" y="1483920"/>
            <a:ext cx="907272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jugation of metabolite coming from (phase I) with endogenous substance as methyl group, acetyl group, sulphate, amino acid or glucouronic acid to produce conjugate that is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water solub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asily excreted in urine or bi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755640" y="40464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se II Conjugation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5"/>
          <p:cNvSpPr/>
          <p:nvPr/>
        </p:nvSpPr>
        <p:spPr>
          <a:xfrm>
            <a:off x="285840" y="71280"/>
            <a:ext cx="792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conjugation reaction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142920" y="857160"/>
          <a:ext cx="8929800" cy="5715000"/>
        </p:xfrm>
        <a:graphic>
          <a:graphicData uri="http://schemas.openxmlformats.org/drawingml/2006/table">
            <a:tbl>
              <a:tblPr/>
              <a:tblGrid>
                <a:gridCol w="4857840"/>
                <a:gridCol w="4071960"/>
              </a:tblGrid>
              <a:tr h="87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Conjugation re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Enzyme requi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ucouronide conjugatio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imes New Roman"/>
                          <a:ea typeface="Times New Roman"/>
                        </a:rPr>
                        <a:t>Glucouronyl  transfer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2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etylation (CH</a:t>
                      </a:r>
                      <a:r>
                        <a:rPr b="1" lang="en-US" sz="3200" spc="-1" strike="noStrike" baseline="-32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O </a:t>
                      </a:r>
                      <a:r>
                        <a:rPr b="1" lang="en-US" sz="3200" spc="-1" strike="noStrike" baseline="62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imes New Roman"/>
                          <a:ea typeface="Times New Roman"/>
                        </a:rPr>
                        <a:t>N-acetyl  transfer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lphation  (SO</a:t>
                      </a:r>
                      <a:r>
                        <a:rPr b="1" lang="en-US" sz="3200" spc="-1" strike="noStrike" baseline="-32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 baseline="64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 _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imes New Roman"/>
                          <a:ea typeface="Times New Roman"/>
                        </a:rPr>
                        <a:t>Sulfo transfer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87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hylation ( CH</a:t>
                      </a:r>
                      <a:r>
                        <a:rPr b="1" lang="en-US" sz="3200" spc="-1" strike="noStrike" baseline="-32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imes New Roman"/>
                          <a:ea typeface="Times New Roman"/>
                        </a:rPr>
                        <a:t>methyl  transfer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98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ino acids conjugatio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Glycine conjug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71280" y="1143000"/>
            <a:ext cx="9001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are non microsoma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cep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uronidatio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uronide conjugation is a microsomal process (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he most comm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cieny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lucouronyl transferas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zyme in neonates may result into toxicity with chloramphenicol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Gray baby syndrome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9" name="AutoShape 2" descr=""/>
          <p:cNvPicPr/>
          <p:nvPr/>
        </p:nvPicPr>
        <p:blipFill>
          <a:blip r:embed="rId1"/>
          <a:stretch/>
        </p:blipFill>
        <p:spPr>
          <a:xfrm>
            <a:off x="30240" y="115920"/>
            <a:ext cx="6059520" cy="841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pharmacologically inactive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ar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ater soluble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ily excreted in urine.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AutoShape 2" descr=""/>
          <p:cNvPicPr/>
          <p:nvPr/>
        </p:nvPicPr>
        <p:blipFill>
          <a:blip r:embed="rId1"/>
          <a:stretch/>
        </p:blipFill>
        <p:spPr>
          <a:xfrm>
            <a:off x="450720" y="255600"/>
            <a:ext cx="7888320" cy="890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71280" y="1285920"/>
            <a:ext cx="900144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: </a:t>
            </a:r>
            <a:r>
              <a:rPr b="1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0000cc"/>
                </a:solidFill>
                <a:latin typeface="Lucida Sans Unicode"/>
              </a:rPr>
              <a:t> rate of metabolism in neonates &amp; elderl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eases:</a:t>
            </a:r>
            <a:r>
              <a:rPr b="1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0000cc"/>
                </a:solidFill>
                <a:latin typeface="Lucida Sans Unicode"/>
              </a:rPr>
              <a:t> rate of metabolism in liver diseases</a:t>
            </a:r>
            <a:r>
              <a:rPr b="1" lang="en-US" sz="2800" spc="-1" strike="noStrike">
                <a:solidFill>
                  <a:srgbClr val="ffff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gree of Protein Binding: </a:t>
            </a:r>
            <a:r>
              <a:rPr b="1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0000cc"/>
                </a:solidFill>
                <a:latin typeface="Lucida Sans Unicode"/>
              </a:rPr>
              <a:t> rate of metabolis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rent use of drugs: </a:t>
            </a:r>
            <a:r>
              <a:rPr b="1" lang="en-US" sz="2800" spc="-1" strike="noStrike">
                <a:solidFill>
                  <a:srgbClr val="0000cc"/>
                </a:solidFill>
                <a:latin typeface="Lucida Sans Unicode"/>
              </a:rPr>
              <a:t>Induction &amp; inhibi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tri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nutrition </a:t>
            </a:r>
            <a:r>
              <a:rPr b="0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0000cc"/>
                </a:solidFill>
                <a:latin typeface="Lucida Sans Unicode"/>
              </a:rPr>
              <a:t> rate </a:t>
            </a:r>
            <a:r>
              <a:rPr b="1" lang="en-US" sz="2800" spc="-1" strike="noStrike">
                <a:solidFill>
                  <a:srgbClr val="0000cc"/>
                </a:solidFill>
                <a:latin typeface="Lucida Sans Unicode"/>
              </a:rPr>
              <a:t>of metabolis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enetic polymorphis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(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3" name="Title 2" descr=""/>
          <p:cNvPicPr/>
          <p:nvPr/>
        </p:nvPicPr>
        <p:blipFill>
          <a:blip r:embed="rId1"/>
          <a:stretch/>
        </p:blipFill>
        <p:spPr>
          <a:xfrm>
            <a:off x="281160" y="255600"/>
            <a:ext cx="8412120" cy="96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71280" y="1285920"/>
            <a:ext cx="900144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G</a:t>
            </a:r>
            <a:r>
              <a:rPr b="0" lang="th-TH" sz="2800" spc="-1" strike="noStrike">
                <a:solidFill>
                  <a:srgbClr val="000000"/>
                </a:solidFill>
                <a:latin typeface="Lucida Sans Unicode"/>
                <a:ea typeface="Cordia New"/>
              </a:rPr>
              <a:t>enetic polymorphis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soniazid (Anti-TB), etc.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Lucida Sans Unicode"/>
              </a:rPr>
              <a:t>Slow acetylator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henotyp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peripheral neuropathy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Lucida Sans Unicode"/>
              </a:rPr>
              <a:t>Rapid acetylator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henotyp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hepatiti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Title 2" descr=""/>
          <p:cNvPicPr/>
          <p:nvPr/>
        </p:nvPicPr>
        <p:blipFill>
          <a:blip r:embed="rId1"/>
          <a:stretch/>
        </p:blipFill>
        <p:spPr>
          <a:xfrm>
            <a:off x="281160" y="255600"/>
            <a:ext cx="8412120" cy="96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142560" y="142920"/>
            <a:ext cx="89298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Enzyme Induction &amp; inhibitio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ahoma"/>
              </a:rPr>
              <a:t>Liver microsomal enzymes inducers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drugs that increase activities of liver microsomal enzymes &amp; increase the metabolism of itself and other drug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ahoma"/>
              </a:rPr>
              <a:t>Liver microsomal enzymes inhibitor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drugs that decrease activities of liver microsomal enzymes &amp; decrease the metabolism of itself and other drug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3"/>
          <p:cNvSpPr/>
          <p:nvPr/>
        </p:nvSpPr>
        <p:spPr>
          <a:xfrm>
            <a:off x="71280" y="214200"/>
            <a:ext cx="4357800" cy="6429600"/>
          </a:xfrm>
          <a:prstGeom prst="rect">
            <a:avLst/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nzyme induc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garette smo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nobarbitone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ypn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nytoin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antiepilept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fampicin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Anti 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4429080" y="214200"/>
            <a:ext cx="4653000" cy="6429600"/>
          </a:xfrm>
          <a:prstGeom prst="rect">
            <a:avLst/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ctr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nzyme inhib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5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pe fr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metid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ythromycin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antibiot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toconazole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antifung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250920" y="1125360"/>
            <a:ext cx="84470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Defini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hemical reactions which occur in the body to change drugs from </a:t>
            </a:r>
            <a:r>
              <a:rPr b="1" lang="en-US" sz="2700" spc="-1" strike="noStrike" u="sng">
                <a:solidFill>
                  <a:srgbClr val="ff0000"/>
                </a:solidFill>
                <a:uFillTx/>
                <a:latin typeface="Lucida Sans Unicode"/>
              </a:rPr>
              <a:t>lipid soluble forms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to </a:t>
            </a:r>
            <a:r>
              <a:rPr b="1" lang="en-US" sz="2700" spc="-1" strike="noStrike" u="sng">
                <a:solidFill>
                  <a:srgbClr val="ff0000"/>
                </a:solidFill>
                <a:uFillTx/>
                <a:latin typeface="Lucida Sans Unicode"/>
              </a:rPr>
              <a:t>water soluble form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hat  are easily excreted by the kidney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AutoShape 2" descr=""/>
          <p:cNvPicPr/>
          <p:nvPr/>
        </p:nvPicPr>
        <p:blipFill>
          <a:blip r:embed="rId1"/>
          <a:stretch/>
        </p:blipFill>
        <p:spPr>
          <a:xfrm>
            <a:off x="689040" y="139680"/>
            <a:ext cx="8345520" cy="787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70920" y="1214280"/>
            <a:ext cx="89298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tabolism  and excretion of  the inducer drug itself and  co-administered drug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ction of the inducer drug itself &amp;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-administered drug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lerance may occu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ecrease in the pharmacological action of the drug by repeated administration 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214200" y="21420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zyme induction may result i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70920" y="1214280"/>
            <a:ext cx="89298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 interactions may occur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 in action of one drug by administration of another drug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.g. oral contraceptives &amp; phenytoin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inducer).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lure of oral contraceptive may lead to pregnancy if combined with phenytoi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Text Box 5"/>
          <p:cNvSpPr/>
          <p:nvPr/>
        </p:nvSpPr>
        <p:spPr>
          <a:xfrm>
            <a:off x="214200" y="21420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zyme induction may result i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214200" y="214200"/>
            <a:ext cx="8715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zyme inhibition may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 the metabolism  and excretion of  the inhibitor drug and  co-administered drug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long the action of the inhibitor  drug &amp; co-administered drug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.g. warfarin &amp; erythromycin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inhibitor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ion of warfarin metabolism may lead to increase it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icoagulant effect (bleeding)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250920" y="1282680"/>
            <a:ext cx="86868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nactivation or termination of drug a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etoxificatio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ctivation of prodrug </a:t>
            </a:r>
            <a:r>
              <a:rPr b="1" lang="en-US" sz="2700" spc="-1" strike="noStrike">
                <a:solidFill>
                  <a:srgbClr val="0000cc"/>
                </a:solidFill>
                <a:latin typeface="Lucida Sans Unicode"/>
              </a:rPr>
              <a:t>(convert inactive form of drug to active form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168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450720" y="176040"/>
            <a:ext cx="8242560" cy="884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250920" y="25992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rgan sites of drug metabolism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Liver </a:t>
            </a:r>
            <a:r>
              <a:rPr b="1" lang="en-US" sz="3200" spc="-1" strike="noStrike">
                <a:solidFill>
                  <a:srgbClr val="0000cc"/>
                </a:solidFill>
                <a:latin typeface="Lucida Sans Unicode"/>
              </a:rPr>
              <a:t>(the major site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Intestinal Mucosa and Lume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Plasm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Kidne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Ski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Lung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79280" y="260280"/>
            <a:ext cx="85075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-62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Lucida Sans Unicode"/>
              </a:rPr>
              <a:t>Intestinal Mucosa and Lume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7120" indent="-62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Sans Unicode"/>
              </a:rPr>
              <a:t>Gut Mucos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7120" indent="-62712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Lucida Sans Unicode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ono</a:t>
            </a:r>
            <a:r>
              <a:rPr b="0" lang="en-US" sz="3200" spc="-1" strike="noStrike">
                <a:solidFill>
                  <a:srgbClr val="0000cc"/>
                </a:solidFill>
                <a:latin typeface="Lucida Sans Unicode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ine </a:t>
            </a:r>
            <a:r>
              <a:rPr b="0" lang="en-US" sz="3200" spc="-1" strike="noStrike">
                <a:solidFill>
                  <a:srgbClr val="0000cc"/>
                </a:solidFill>
                <a:latin typeface="Lucida Sans Unicode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xidase (</a:t>
            </a:r>
            <a:r>
              <a:rPr b="0" lang="en-US" sz="3200" spc="-1" strike="noStrike">
                <a:solidFill>
                  <a:srgbClr val="0000cc"/>
                </a:solidFill>
                <a:latin typeface="Lucida Sans Unicode"/>
              </a:rPr>
              <a:t>MAO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7120" indent="-62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7120" indent="-62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Sans Unicode"/>
              </a:rPr>
              <a:t>Gut lumen (bacterial flora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7120" indent="-62712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Glucouronidas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179280" y="260280"/>
            <a:ext cx="85075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-62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 Unicode"/>
              </a:rPr>
              <a:t>Plasma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27120" indent="-62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154160" indent="-228600"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1280" y="1071720"/>
          <a:ext cx="9001440" cy="5179680"/>
        </p:xfrm>
        <a:graphic>
          <a:graphicData uri="http://schemas.openxmlformats.org/drawingml/2006/table">
            <a:tbl>
              <a:tblPr/>
              <a:tblGrid>
                <a:gridCol w="5869080"/>
                <a:gridCol w="3132360"/>
              </a:tblGrid>
              <a:tr h="896400"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Enzymes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substrat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171080">
                <a:tc>
                  <a:txBody>
                    <a:bodyPr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cc"/>
                          </a:solidFill>
                          <a:latin typeface="Lucida Sans Unicode"/>
                          <a:ea typeface="Arial"/>
                        </a:rPr>
                        <a:t>C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atechol </a:t>
                      </a:r>
                      <a:r>
                        <a:rPr b="1" lang="en-US" sz="3000" spc="-1" strike="noStrike">
                          <a:solidFill>
                            <a:srgbClr val="0000cc"/>
                          </a:solidFill>
                          <a:latin typeface="Lucida Sans Unicode"/>
                          <a:ea typeface="Arial"/>
                        </a:rPr>
                        <a:t>o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-</a:t>
                      </a:r>
                      <a:r>
                        <a:rPr b="1" lang="en-US" sz="3000" spc="-1" strike="noStrike">
                          <a:solidFill>
                            <a:srgbClr val="0000cc"/>
                          </a:solidFill>
                          <a:latin typeface="Lucida Sans Unicode"/>
                          <a:ea typeface="Arial"/>
                        </a:rPr>
                        <a:t>m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ethyl </a:t>
                      </a:r>
                      <a:r>
                        <a:rPr b="1" lang="en-US" sz="3000" spc="-1" strike="noStrike">
                          <a:solidFill>
                            <a:srgbClr val="0000cc"/>
                          </a:solidFill>
                          <a:latin typeface="Lucida Sans Unicode"/>
                          <a:ea typeface="Arial"/>
                        </a:rPr>
                        <a:t>t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ransferase  </a:t>
                      </a:r>
                      <a:r>
                        <a:rPr b="1" lang="en-US" sz="3000" spc="-1" strike="noStrike">
                          <a:solidFill>
                            <a:srgbClr val="3366ff"/>
                          </a:solidFill>
                          <a:latin typeface="Lucida Sans Unicode"/>
                          <a:ea typeface="Arial"/>
                        </a:rPr>
                        <a:t>(COMT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atecholamines (adrenali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556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steras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ster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Local anesthetic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556280">
                <a:tc>
                  <a:txBody>
                    <a:bodyPr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midas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mides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Local anesthetic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3"/>
          <p:cNvSpPr/>
          <p:nvPr/>
        </p:nvSpPr>
        <p:spPr>
          <a:xfrm>
            <a:off x="611280" y="1979640"/>
            <a:ext cx="1008000" cy="3697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027" descr=""/>
          <p:cNvPicPr/>
          <p:nvPr/>
        </p:nvPicPr>
        <p:blipFill>
          <a:blip r:embed="rId2"/>
          <a:srcRect l="7920" t="3701" r="2972" b="3637"/>
          <a:stretch/>
        </p:blipFill>
        <p:spPr>
          <a:xfrm>
            <a:off x="222120" y="1844640"/>
            <a:ext cx="8742600" cy="2941560"/>
          </a:xfrm>
          <a:prstGeom prst="rect">
            <a:avLst/>
          </a:prstGeom>
          <a:ln w="0">
            <a:noFill/>
          </a:ln>
        </p:spPr>
      </p:pic>
      <p:sp>
        <p:nvSpPr>
          <p:cNvPr id="393" name="Flowchart: Process 5"/>
          <p:cNvSpPr/>
          <p:nvPr/>
        </p:nvSpPr>
        <p:spPr>
          <a:xfrm>
            <a:off x="324000" y="1844640"/>
            <a:ext cx="1439640" cy="576360"/>
          </a:xfrm>
          <a:prstGeom prst="flowChartProcess">
            <a:avLst/>
          </a:prstGeom>
          <a:noFill/>
          <a:ln w="55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lowchart: Process 6"/>
          <p:cNvSpPr/>
          <p:nvPr/>
        </p:nvSpPr>
        <p:spPr>
          <a:xfrm>
            <a:off x="5435640" y="1844640"/>
            <a:ext cx="1440000" cy="576360"/>
          </a:xfrm>
          <a:prstGeom prst="flowChartProcess">
            <a:avLst/>
          </a:prstGeom>
          <a:noFill/>
          <a:ln w="55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70920" y="259920"/>
            <a:ext cx="8929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ellular sites of drug metabolism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toplasm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tochondri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sosom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m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2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711360" indent="-71136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08:21:56Z</dcterms:created>
  <dc:creator>administrator</dc:creator>
  <dc:description/>
  <dc:language>en-US</dc:language>
  <cp:lastModifiedBy>Ishfaq</cp:lastModifiedBy>
  <dcterms:modified xsi:type="dcterms:W3CDTF">2014-10-14T09:54:26Z</dcterms:modified>
  <cp:revision>263</cp:revision>
  <dc:subject/>
  <dc:title>GENERAL PHARMACOLOGY</dc:title>
</cp:coreProperties>
</file>