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8.jpeg" ContentType="image/jpeg"/>
  <Override PartName="/ppt/media/image15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0229-46E4-4946-8721-3C33A590F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69C3-B3BB-48C1-A526-03A505F4307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916C-F738-4A4F-BC4C-E9329DCD04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E7CC-57A1-4FF5-B436-0BC137FCBE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A27E-753E-4063-834B-0548FA38FD0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7DC5-1BC4-424B-91ED-D3B8FADFE4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0C0-41EC-47D5-BB73-7768C566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DE27-8351-4F8B-8B90-AF55D696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6CDC-04F4-47C2-98D2-C097D588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B459-5030-4567-A92E-DBB437A3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FB08-FF88-4FD8-BEFB-934B0CA0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384C-FE1A-432B-8DAE-2F43E718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1A0C-D7FB-45B0-BCDC-37FAC683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D123-C784-4807-894E-989FC9C3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0622-1559-41CF-A783-867EA11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6F87-7CBF-4096-A48D-D8EB3794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C04B-57E2-4D5B-AD0F-66CC0876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FBA-21FB-4CC8-9387-A3CC8532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2F49-9937-4E69-A2DC-064B1FC0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FF02-4999-41DA-917D-EE8C517E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DA40-BC88-4BE0-96F0-062A70D6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3D89-C67F-4028-9059-966A3B20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F601-F2A1-4145-895F-CD3B16F2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4BA04-0DA0-4D72-A975-E3814A2D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C3866-F5C9-42CC-AA54-DF4FD065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9ECA3-0AA4-43EB-9C65-BA4A7184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3E9F2-94D3-4546-A9DE-D030A186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746F1-495B-46E4-81C0-758704FB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B46-3787-4FFF-B979-F916523C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7E6D76-7DCC-4F7C-ADB7-E8529189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7332D-EDB6-4228-A02F-0A218CAF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EDB84E-EFAA-4CB9-8EF4-4CFBF44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5AF5A-F001-487C-9E21-FCECD4F4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1E658A-19C7-4333-A9A1-94744CAB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10917-E6B2-4CA2-A77A-BF19FAF3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DD371-75E3-4B1C-8A23-FA6AF53C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E5B34-B643-47A2-BBD5-8290E6F6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214C3-24E6-494D-8AC3-DFF29406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5341D-E607-4BE6-9D7B-3E2CCA15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370B-F236-423C-804D-67D67100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45544-4F3C-4962-A92A-94A7FC0D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36F2F-F6B0-4C75-8580-DFDFE255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FDE8A-2E6E-4416-9717-8AA9AD8E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9DFD7-5980-4593-A7BF-3D7C5CDB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D8B5F-FEF7-4064-9488-E4AA9155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5D7143-A78B-4A70-BE6D-4E2E4EE4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4CA52-99EB-4273-BC90-F4414C96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DEA28-6A44-4D6E-BFE8-B8B9F365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8842C-8918-4388-B3A1-07D09622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47C6E-4D16-465B-A5F0-86C5A39B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E96-4CAF-4C78-8078-FE2B7AB0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B9286-C8B4-427A-9D77-DB55100F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E12BDA-3318-4A26-8A53-462A3F87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291C9-F3C1-434F-AFD1-299B8CDC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BA781-F622-4F25-BFF4-534818A7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4C82E-8117-4B57-84D1-28C1B9D9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84DCD-234E-4D1E-B200-7379ABB4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01EFE-2D2D-412B-B935-CE081169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164C23-9A25-4375-B639-9173D310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BE636-5399-4030-9EB4-7865A83B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A79270-3095-4F05-8C1D-9053F060A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FD6-739D-4860-83C4-450E9394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B3D8A-C92D-43EC-9D37-055A37EF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C4AE8-FFF7-4530-8545-5F75FC45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A78D-4639-4F1F-A59B-D486EB1C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5129F-21DF-4F40-81F4-843329D0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13256-BA3F-44CE-AE64-C4BFD587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C23F0-0F79-4163-86A6-1A6829B7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14A7A-A116-4425-84C1-1547BCC1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92493-8444-4623-8D62-AC4EA27F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38FD2-87BA-4A3A-B74A-A968ECF8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7E66F-704C-44E4-ABA2-49C29558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355-C6C3-438C-9D63-83A3B22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56D20-D1BD-43C3-8785-2594F99E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EF613-8A19-445C-B169-25989D01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B8CDC-3E64-44C8-BBAB-0D3A068E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228A05-C062-49E4-9AD8-8B0FC6A0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1E1532-FC89-4239-846B-86D09EE3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689DEF-2218-4C8B-BED9-03BDE314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EDFDA0-772A-4DCB-BC22-60549332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4C7E98-A0E5-4C48-8F41-9E186FC5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745921-C693-4C45-BD9D-786D9A39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A261E5-28E3-4BC0-AD13-9FD911FD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B659-47CD-4970-819C-228FA7CD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2EA93-5B68-4B64-B8F8-8799ABFF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1EEC3D-F403-4E93-BB11-02490A01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8F3D1-0E84-44C7-9AF9-C9673E06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C0CA8-9625-4650-A781-D62578F8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F8661-FB32-4EA6-ACC6-194E9D94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582A0-A4FA-4FB9-9B51-E0C35042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1DD99-E1F8-4120-B94A-682CAD0D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C3B45-E4FA-49D4-9B67-35E4692B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5EDE9-6096-4EA2-BECC-25F94D85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E65A5-1D14-4A2C-8833-F8B172F1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C8E-4B9C-4ED3-B6D5-B5DC8C32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1CEDA-9431-4C84-B3B7-B97CE9D7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F0631-5201-4B8B-B6EC-D597B005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EC542-8854-4C0A-9B36-17CF0A43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F9F3B-5C3B-44AC-B7BE-80C50C3D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414D4-A94D-4785-A4DD-3E7F6B13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3D3C5-2FCE-4CA6-B52A-7238BB0D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EA22A-D231-4A7E-9A25-067787C8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5420-43AD-4F1C-8A80-CE51F819D32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52BA-7751-4597-88A7-BA1D5A32E15A}" type="slidenum">
              <a:rPr b="1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34BD-30B6-4A99-8F39-AA0538A40F18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542B-0E5B-4344-91EE-87BD73456B5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DFE2-1086-441F-A828-9C025EF3DC6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4B61-DA44-4C44-959A-A01B72AD2C7E}" type="slidenum">
              <a:rPr b="1" lang="en-US" sz="1400" spc="-1" strike="noStrike">
                <a:solidFill>
                  <a:srgbClr val="775f5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4326-057D-4996-95E3-305287CCDA9B}" type="slidenum">
              <a:rPr b="1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2FD6-2424-42C9-AC01-4F8FAB1ED30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oogle.com/imgres?imgurl=http://img.dailymail.co.uk/i/pix/2007/09_02/waspDM0909_468x397.jpg&amp;imgrefurl=http://www.dailymail.co.uk/news/article-480887/Summers-sting-bizarre-weather-brought-wasps-vast-numbers.html&amp;usg=__qKw9xSaTjrciaiKHlTQ_f39W-Aw=&amp;h=397&amp;w=468&amp;sz=31&amp;hl=en&amp;start=36&amp;zoom=1&amp;itbs=1&amp;tbnid=Zv4eDWb3dbZqsM:&amp;tbnh=109&amp;tbnw=128&amp;prev=/images?q=wasps&amp;start=20&amp;hl=en&amp;safe=active&amp;sa=N&amp;gbv=2&amp;ndsp=20&amp;tbs=isch:1&amp;ei=4shYTengF4OUOvXi4YIF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Autocrine &amp;     Paracrine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Pharmacology   (Part II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09120" y="26665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Prof. Alhaider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Department of Pharmacolog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  <a:ea typeface="Arial"/>
              </a:rPr>
              <a:t>College of Medicin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w Cen MT"/>
                <a:ea typeface="Arial"/>
              </a:rPr>
              <a:t>      </a:t>
            </a:r>
            <a:r>
              <a:rPr b="1" lang="en-US" sz="5400" spc="-1" strike="noStrike">
                <a:solidFill>
                  <a:srgbClr val="ff0000"/>
                </a:solidFill>
                <a:latin typeface="Tw Cen MT"/>
                <a:ea typeface="Arial"/>
              </a:rPr>
              <a:t>Continue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nzymes as trypsin or drugs as morphine or other chemicals can liberate histamine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Tissue injury by trauma or bur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" name=""/>
          <p:cNvGraphicFramePr/>
          <p:nvPr/>
        </p:nvGraphicFramePr>
        <p:xfrm>
          <a:off x="214200" y="1887480"/>
          <a:ext cx="7215480" cy="3854520"/>
        </p:xfrm>
        <a:graphic>
          <a:graphicData uri="http://schemas.openxmlformats.org/drawingml/2006/table">
            <a:tbl>
              <a:tblPr/>
              <a:tblGrid>
                <a:gridCol w="1357560"/>
                <a:gridCol w="2143080"/>
                <a:gridCol w="3714840"/>
              </a:tblGrid>
              <a:tr h="7052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Recept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Major Tissue Loc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Major Biologic Eff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Bernard MT Condensed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mooth muscle, endothelial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acute allergic respon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astric parietal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secretion of gastric ac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</a:tr>
              <a:tr h="679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entral nervou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w Cen MT"/>
                        </a:rPr>
                        <a:t>neurotrans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b9ff"/>
                    </a:solidFill>
                  </a:tcPr>
                </a:tc>
              </a:tr>
              <a:tr h="111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Bernard MT Condensed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Bernard MT Condensed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st cells, eosinophils, T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 rtl="1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egulating immune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7ff"/>
                    </a:solidFill>
                  </a:tcPr>
                </a:tc>
              </a:tr>
            </a:tbl>
          </a:graphicData>
        </a:graphic>
      </p:graphicFrame>
      <p:sp>
        <p:nvSpPr>
          <p:cNvPr id="415" name="Down Arrow Callout 16"/>
          <p:cNvSpPr/>
          <p:nvPr/>
        </p:nvSpPr>
        <p:spPr>
          <a:xfrm>
            <a:off x="214200" y="500040"/>
            <a:ext cx="2909880" cy="1357200"/>
          </a:xfrm>
          <a:prstGeom prst="downArrowCallout">
            <a:avLst>
              <a:gd name="adj1" fmla="val 24996"/>
              <a:gd name="adj2" fmla="val 25004"/>
              <a:gd name="adj3" fmla="val 25000"/>
              <a:gd name="adj4" fmla="val 64977"/>
            </a:avLst>
          </a:prstGeom>
          <a:solidFill>
            <a:srgbClr val="000000"/>
          </a:solidFill>
          <a:ln w="38160">
            <a:solidFill>
              <a:srgbClr val="ffccff"/>
            </a:solidFill>
            <a:round/>
          </a:ln>
          <a:effectLst>
            <a:outerShdw dist="8892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Histamine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Effects Of Histami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ain, itching, hives </a:t>
            </a:r>
            <a:r>
              <a:rPr b="1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الطفح الجلد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Hypotension, tachycardia, flushing and bronchoconstriction  </a:t>
            </a:r>
            <a:r>
              <a:rPr b="1" lang="ar-SA" sz="2800" spc="-1" strike="noStrike">
                <a:solidFill>
                  <a:srgbClr val="000000"/>
                </a:solidFill>
                <a:latin typeface="Tw Cen MT"/>
                <a:cs typeface="Arial"/>
              </a:rPr>
              <a:t>تحصل في حالات فرط الحساسية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Headache, visual disturbances, increas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skin tempera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xcessive secretion of gastric acids and diarrhea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Bronchoconstriction, dyspnea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51424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Histamine receptors antagonis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42280" indent="-24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 </a:t>
            </a:r>
            <a:r>
              <a:rPr b="1" i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Physiologic antagonists: </a:t>
            </a:r>
            <a:r>
              <a:rPr b="1" i="1" lang="en-US" sz="2900" spc="-1" strike="noStrike">
                <a:solidFill>
                  <a:srgbClr val="003300"/>
                </a:solidFill>
                <a:latin typeface="Tw Cen MT"/>
                <a:ea typeface="Arial"/>
              </a:rPr>
              <a:t>Histamine</a:t>
            </a:r>
            <a:r>
              <a:rPr b="1" i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ffects can be reduced by physiologic antagonism such as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pinephrin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which acts on different receptors but produces effects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opposite to histamine especially in anaphylaxis. Therefoe, Epinephrine is the drug of choice for Anaphylaxis 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(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فرط الحساسية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2280" indent="-24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Specific receptor blockag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2280" indent="-24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Of Blocking of histamine recepto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2280" indent="-242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But in most of the cases these blockers specific in their binding and blocking activity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2280" indent="-2422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42280" indent="-2422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775f55"/>
              </a:solidFill>
              <a:latin typeface="Tw Cen MT"/>
              <a:ea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First generation H1 receptor Blockers (CNS)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Diphenhydramin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yclizine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romathaz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Second generation H1 receptor blockers (Per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Loratid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itriz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Group 2" descr=""/>
          <p:cNvPicPr/>
          <p:nvPr/>
        </p:nvPicPr>
        <p:blipFill>
          <a:blip r:embed="rId1"/>
          <a:stretch/>
        </p:blipFill>
        <p:spPr>
          <a:xfrm>
            <a:off x="231840" y="231840"/>
            <a:ext cx="4389480" cy="622440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5"/>
          <p:cNvSpPr/>
          <p:nvPr/>
        </p:nvSpPr>
        <p:spPr>
          <a:xfrm>
            <a:off x="314280" y="433440"/>
            <a:ext cx="3043440" cy="18003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phenhydra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First gene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0"/>
          <p:cNvSpPr/>
          <p:nvPr/>
        </p:nvSpPr>
        <p:spPr>
          <a:xfrm>
            <a:off x="642960" y="1473120"/>
            <a:ext cx="814392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Has a  Sedating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Arial"/>
              </a:rPr>
              <a:t>Clinical us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Insomnia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Motion sick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Cold medi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Allerg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20"/>
          <p:cNvSpPr/>
          <p:nvPr/>
        </p:nvSpPr>
        <p:spPr>
          <a:xfrm>
            <a:off x="6629400" y="685800"/>
            <a:ext cx="2038320" cy="87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 ( Blocker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Group 2" descr=""/>
          <p:cNvPicPr/>
          <p:nvPr/>
        </p:nvPicPr>
        <p:blipFill>
          <a:blip r:embed="rId1"/>
          <a:stretch/>
        </p:blipFill>
        <p:spPr>
          <a:xfrm>
            <a:off x="176040" y="219240"/>
            <a:ext cx="4395960" cy="623088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5"/>
          <p:cNvSpPr/>
          <p:nvPr/>
        </p:nvSpPr>
        <p:spPr>
          <a:xfrm>
            <a:off x="314280" y="433440"/>
            <a:ext cx="3043440" cy="13737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atadine  (Second gene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Rectangle 10" descr=""/>
          <p:cNvPicPr/>
          <p:nvPr/>
        </p:nvPicPr>
        <p:blipFill>
          <a:blip r:embed="rId2"/>
          <a:stretch/>
        </p:blipFill>
        <p:spPr>
          <a:xfrm>
            <a:off x="487440" y="1474920"/>
            <a:ext cx="8296200" cy="510840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Group 2" descr=""/>
          <p:cNvPicPr/>
          <p:nvPr/>
        </p:nvPicPr>
        <p:blipFill>
          <a:blip r:embed="rId1"/>
          <a:stretch/>
        </p:blipFill>
        <p:spPr>
          <a:xfrm>
            <a:off x="176040" y="219240"/>
            <a:ext cx="4395960" cy="62308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5"/>
          <p:cNvSpPr/>
          <p:nvPr/>
        </p:nvSpPr>
        <p:spPr>
          <a:xfrm>
            <a:off x="314280" y="433440"/>
            <a:ext cx="3043440" cy="5205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metid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642960" y="1473120"/>
            <a:ext cx="814392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hibitor of gastric acid secre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   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  <a:ea typeface="Arial"/>
              </a:rPr>
              <a:t>Used in the treatment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       </a:t>
            </a:r>
            <a:r>
              <a:rPr b="1" lang="en-US" sz="4000" spc="-1" strike="noStrike">
                <a:solidFill>
                  <a:srgbClr val="0070c0"/>
                </a:solidFill>
                <a:latin typeface="Arial Narrow"/>
                <a:ea typeface="Arial"/>
              </a:rPr>
              <a:t>peptic ulc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Group 2" descr=""/>
          <p:cNvPicPr/>
          <p:nvPr/>
        </p:nvPicPr>
        <p:blipFill>
          <a:blip r:embed="rId1"/>
          <a:stretch/>
        </p:blipFill>
        <p:spPr>
          <a:xfrm>
            <a:off x="176040" y="219240"/>
            <a:ext cx="4395960" cy="62308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5"/>
          <p:cNvSpPr/>
          <p:nvPr/>
        </p:nvSpPr>
        <p:spPr>
          <a:xfrm>
            <a:off x="314280" y="433440"/>
            <a:ext cx="3043440" cy="520560"/>
          </a:xfrm>
          <a:prstGeom prst="rect">
            <a:avLst/>
          </a:prstGeom>
          <a:solidFill>
            <a:srgbClr val="575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AHI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642960" y="1473120"/>
            <a:ext cx="814392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  <a:ea typeface="Arial"/>
              </a:rPr>
              <a:t>    </a:t>
            </a:r>
            <a:r>
              <a:rPr b="1" lang="en-US" sz="2600" spc="-1" strike="noStrike">
                <a:solidFill>
                  <a:srgbClr val="ff0000"/>
                </a:solidFill>
                <a:latin typeface="Arial Narrow"/>
                <a:ea typeface="Arial"/>
              </a:rPr>
              <a:t>Used in treatment o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           </a:t>
            </a:r>
            <a:r>
              <a:rPr b="1" lang="en-US" sz="2600" spc="-1" strike="noStrike">
                <a:solidFill>
                  <a:srgbClr val="0070c0"/>
                </a:solidFill>
                <a:latin typeface="Arial Narrow"/>
                <a:ea typeface="Arial"/>
              </a:rPr>
              <a:t>vertigo in middle e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20"/>
          <p:cNvSpPr/>
          <p:nvPr/>
        </p:nvSpPr>
        <p:spPr>
          <a:xfrm>
            <a:off x="6686640" y="857160"/>
            <a:ext cx="2038320" cy="51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9f0f8"/>
              </a:gs>
            </a:gsLst>
            <a:lin ang="8100000"/>
          </a:gra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2e31b8"/>
                </a:solidFill>
                <a:latin typeface="Arial Narrow"/>
              </a:rPr>
              <a:t>3</a:t>
            </a:r>
            <a:r>
              <a:rPr b="1" lang="en-US" sz="2400" spc="-1" strike="noStrike">
                <a:solidFill>
                  <a:srgbClr val="2e31b8"/>
                </a:solidFill>
                <a:latin typeface="Arial Narrow"/>
              </a:rPr>
              <a:t> antagon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At the end of lecture the Students should be able to</a:t>
            </a:r>
            <a:r>
              <a:rPr b="1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Specify storage sites of </a:t>
            </a:r>
            <a:r>
              <a:rPr b="1" i="1" lang="en-US" sz="2600" spc="-1" strike="noStrike">
                <a:solidFill>
                  <a:srgbClr val="ff0000"/>
                </a:solidFill>
                <a:latin typeface="Tw Cen MT"/>
                <a:ea typeface="Arial"/>
              </a:rPr>
              <a:t>histami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- 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Explain the synthesis, release &amp; inactivation of histamin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3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List histamine receptors regarding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Type, major location, major biologic effe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4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Explain the clinical uses of histamine receptors antagonists</a:t>
            </a:r>
            <a:r>
              <a:rPr b="0" i="1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14240" y="99072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w Cen MT"/>
              </a:rPr>
              <a:t>EICOSANOIDS</a:t>
            </a:r>
            <a:br>
              <a:rPr sz="5400"/>
            </a:b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7" descr=""/>
          <p:cNvPicPr/>
          <p:nvPr/>
        </p:nvPicPr>
        <p:blipFill>
          <a:blip r:embed="rId1"/>
          <a:stretch/>
        </p:blipFill>
        <p:spPr>
          <a:xfrm>
            <a:off x="979560" y="4267080"/>
            <a:ext cx="692316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1976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312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w Cen MT"/>
              </a:rPr>
              <a:t>INHIBITORS OF EICOSANOI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ffffff"/>
              </a:solidFill>
              <a:latin typeface="Tw Cen MT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4"/>
          <p:cNvGrpSpPr/>
          <p:nvPr/>
        </p:nvGrpSpPr>
        <p:grpSpPr>
          <a:xfrm>
            <a:off x="655560" y="457200"/>
            <a:ext cx="7693200" cy="6129000"/>
            <a:chOff x="655560" y="457200"/>
            <a:chExt cx="7693200" cy="6129000"/>
          </a:xfrm>
        </p:grpSpPr>
        <p:sp>
          <p:nvSpPr>
            <p:cNvPr id="445" name="Text Box 2"/>
            <p:cNvSpPr/>
            <p:nvPr/>
          </p:nvSpPr>
          <p:spPr>
            <a:xfrm>
              <a:off x="3124080" y="457200"/>
              <a:ext cx="28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  <a:ea typeface="Arial"/>
                </a:rPr>
                <a:t>Phospholipi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3"/>
            <p:cNvSpPr/>
            <p:nvPr/>
          </p:nvSpPr>
          <p:spPr>
            <a:xfrm>
              <a:off x="4122000" y="990360"/>
              <a:ext cx="2778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  <a:ea typeface="Arial"/>
                </a:rPr>
                <a:t>Phospholipase</a:t>
              </a:r>
              <a:r>
                <a:rPr b="1" lang="en-US" sz="2400" spc="-1" strike="noStrike">
                  <a:solidFill>
                    <a:srgbClr val="ff0000"/>
                  </a:solidFill>
                  <a:latin typeface="Berlin Sans FB Demi"/>
                  <a:ea typeface="Arial"/>
                </a:rPr>
                <a:t> A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Berlin Sans FB Demi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4"/>
            <p:cNvSpPr/>
            <p:nvPr/>
          </p:nvSpPr>
          <p:spPr>
            <a:xfrm>
              <a:off x="3098880" y="1665360"/>
              <a:ext cx="314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  <a:ea typeface="Arial"/>
                </a:rPr>
                <a:t>Arachidonic Ac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5"/>
            <p:cNvSpPr/>
            <p:nvPr/>
          </p:nvSpPr>
          <p:spPr>
            <a:xfrm>
              <a:off x="3932280" y="8380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6"/>
            <p:cNvSpPr/>
            <p:nvPr/>
          </p:nvSpPr>
          <p:spPr>
            <a:xfrm>
              <a:off x="4465800" y="3810240"/>
              <a:ext cx="3809880" cy="947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  <a:ea typeface="Arial"/>
                </a:rPr>
                <a:t>Prostaglandin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7"/>
            <p:cNvSpPr/>
            <p:nvPr/>
          </p:nvSpPr>
          <p:spPr>
            <a:xfrm>
              <a:off x="4618080" y="5639040"/>
              <a:ext cx="3346560" cy="947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  <a:ea typeface="Arial"/>
                </a:rPr>
                <a:t>Thromboxane (TXA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8"/>
            <p:cNvSpPr/>
            <p:nvPr/>
          </p:nvSpPr>
          <p:spPr>
            <a:xfrm>
              <a:off x="4574520" y="4953240"/>
              <a:ext cx="2440800" cy="520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030a0"/>
                  </a:solidFill>
                  <a:latin typeface="Berlin Sans FB Demi"/>
                  <a:ea typeface="Arial"/>
                </a:rPr>
                <a:t>Prostacycli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9"/>
            <p:cNvSpPr/>
            <p:nvPr/>
          </p:nvSpPr>
          <p:spPr>
            <a:xfrm flipH="1">
              <a:off x="2331360" y="2209680"/>
              <a:ext cx="152388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5654880" y="3048120"/>
              <a:ext cx="26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  <a:ea typeface="Arial"/>
                </a:rPr>
                <a:t>Cyclooxygenas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3"/>
            <p:cNvSpPr/>
            <p:nvPr/>
          </p:nvSpPr>
          <p:spPr>
            <a:xfrm>
              <a:off x="655560" y="388620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erlin Sans FB Demi"/>
                  <a:ea typeface="Arial"/>
                </a:rPr>
                <a:t>Leukotrie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14"/>
            <p:cNvSpPr/>
            <p:nvPr/>
          </p:nvSpPr>
          <p:spPr>
            <a:xfrm>
              <a:off x="4618080" y="2133720"/>
              <a:ext cx="12952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5"/>
            <p:cNvSpPr/>
            <p:nvPr/>
          </p:nvSpPr>
          <p:spPr>
            <a:xfrm>
              <a:off x="700560" y="2590920"/>
              <a:ext cx="22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Berlin Sans FB Demi"/>
                  <a:ea typeface="Arial"/>
                </a:rPr>
                <a:t>Lipoxygen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TextBox 16"/>
          <p:cNvSpPr/>
          <p:nvPr/>
        </p:nvSpPr>
        <p:spPr>
          <a:xfrm>
            <a:off x="228600" y="228600"/>
            <a:ext cx="1752480" cy="7034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Berlin Sans FB Demi"/>
                <a:ea typeface="Arial"/>
              </a:rPr>
              <a:t>Drug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7"/>
          <p:cNvSpPr/>
          <p:nvPr/>
        </p:nvSpPr>
        <p:spPr>
          <a:xfrm>
            <a:off x="5791320" y="2438280"/>
            <a:ext cx="19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  <a:ea typeface="Arial"/>
              </a:rPr>
              <a:t>NS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8"/>
          <p:cNvSpPr/>
          <p:nvPr/>
        </p:nvSpPr>
        <p:spPr>
          <a:xfrm>
            <a:off x="395280" y="99072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  <a:ea typeface="Arial"/>
              </a:rPr>
              <a:t>Corticostero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9"/>
          <p:cNvSpPr/>
          <p:nvPr/>
        </p:nvSpPr>
        <p:spPr>
          <a:xfrm>
            <a:off x="513000" y="198108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Berlin Sans FB Demi"/>
                <a:ea typeface="Arial"/>
              </a:rPr>
              <a:t>Zileut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21"/>
          <p:cNvSpPr/>
          <p:nvPr/>
        </p:nvSpPr>
        <p:spPr>
          <a:xfrm>
            <a:off x="3505320" y="1219320"/>
            <a:ext cx="855720" cy="187200"/>
          </a:xfrm>
          <a:custGeom>
            <a:avLst/>
            <a:gdLst/>
            <a:ahLst/>
            <a:rect l="l" t="t" r="r" b="b"/>
            <a:pathLst>
              <a:path w="854869" h="188118">
                <a:moveTo>
                  <a:pt x="0" y="23812"/>
                </a:moveTo>
                <a:cubicBezTo>
                  <a:pt x="266700" y="11906"/>
                  <a:pt x="533400" y="0"/>
                  <a:pt x="671512" y="23812"/>
                </a:cubicBezTo>
                <a:cubicBezTo>
                  <a:pt x="809624" y="47624"/>
                  <a:pt x="802481" y="145256"/>
                  <a:pt x="828675" y="166687"/>
                </a:cubicBezTo>
                <a:cubicBezTo>
                  <a:pt x="854869" y="188118"/>
                  <a:pt x="841772" y="170258"/>
                  <a:pt x="828675" y="152399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27"/>
          <p:cNvSpPr/>
          <p:nvPr/>
        </p:nvSpPr>
        <p:spPr>
          <a:xfrm>
            <a:off x="1943280" y="2319480"/>
            <a:ext cx="941040" cy="395280"/>
          </a:xfrm>
          <a:custGeom>
            <a:avLst/>
            <a:gdLst/>
            <a:ahLst/>
            <a:rect l="l" t="t" r="r" b="b"/>
            <a:pathLst>
              <a:path w="940594" h="395287">
                <a:moveTo>
                  <a:pt x="314325" y="9525"/>
                </a:moveTo>
                <a:cubicBezTo>
                  <a:pt x="392906" y="4762"/>
                  <a:pt x="471488" y="0"/>
                  <a:pt x="557213" y="9525"/>
                </a:cubicBezTo>
                <a:cubicBezTo>
                  <a:pt x="642938" y="19050"/>
                  <a:pt x="783431" y="14288"/>
                  <a:pt x="828675" y="66675"/>
                </a:cubicBezTo>
                <a:cubicBezTo>
                  <a:pt x="873919" y="119063"/>
                  <a:pt x="940594" y="288131"/>
                  <a:pt x="828675" y="323850"/>
                </a:cubicBezTo>
                <a:cubicBezTo>
                  <a:pt x="716756" y="359569"/>
                  <a:pt x="295276" y="269081"/>
                  <a:pt x="157163" y="280987"/>
                </a:cubicBezTo>
                <a:cubicBezTo>
                  <a:pt x="19051" y="292893"/>
                  <a:pt x="9525" y="344090"/>
                  <a:pt x="0" y="395287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1"/>
          <p:cNvSpPr/>
          <p:nvPr/>
        </p:nvSpPr>
        <p:spPr>
          <a:xfrm>
            <a:off x="838080" y="4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ctions of prostaglandins  (Very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"/>
          <p:cNvSpPr/>
          <p:nvPr/>
        </p:nvSpPr>
        <p:spPr>
          <a:xfrm>
            <a:off x="838080" y="1066680"/>
            <a:ext cx="7467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uses  vasodilatation of vascular smooth muscle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uses inhibition of platelets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ze neurons to cause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uce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rease intraocular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s on thermoregulatory center of hypo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s on kidney to increase glomerular 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s on parital cells of stomach to prevent gastric m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Comparison in actions  between</a:t>
            </a: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Prostaglandin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Thromboxane A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Vascular smooth muscles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952880" y="3962520"/>
            <a:ext cx="37339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Potent vasoconstrictor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88620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w Cen MT"/>
                <a:ea typeface="Arial"/>
              </a:rPr>
              <a:t>Prostaglandi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 fontScale="99000"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2060"/>
                </a:solidFill>
                <a:latin typeface="Tw Cen MT"/>
                <a:ea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Tw Cen MT"/>
              </a:rPr>
              <a:t>Thromboxane A</a:t>
            </a:r>
            <a:r>
              <a:rPr b="1" lang="en-US" sz="3200" spc="-1" strike="noStrike" baseline="-25000">
                <a:solidFill>
                  <a:srgbClr val="7030a0"/>
                </a:solidFill>
                <a:latin typeface="Tw Cen MT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3200400" cy="1454040"/>
          </a:xfrm>
          <a:prstGeom prst="rect">
            <a:avLst/>
          </a:prstGeom>
          <a:ln w="0">
            <a:noFill/>
          </a:ln>
        </p:spPr>
      </p:pic>
      <p:sp>
        <p:nvSpPr>
          <p:cNvPr id="472" name="Content Placeholder 3"/>
          <p:cNvSpPr/>
          <p:nvPr/>
        </p:nvSpPr>
        <p:spPr>
          <a:xfrm>
            <a:off x="533520" y="4114800"/>
            <a:ext cx="3733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otent vasodilators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 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2710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Blood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1752480" y="495288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Berlin Sans FB Demi"/>
              </a:rPr>
              <a:t> </a:t>
            </a:r>
            <a:r>
              <a:rPr b="0" lang="en-US" sz="2900" spc="-1" strike="noStrike">
                <a:solidFill>
                  <a:srgbClr val="ff0000"/>
                </a:solidFill>
                <a:latin typeface="Berlin Sans FB Demi"/>
              </a:rPr>
              <a:t>Prostaglandins</a:t>
            </a:r>
            <a:r>
              <a:rPr b="0" lang="en-US" sz="2900" spc="-1" strike="noStrike">
                <a:solidFill>
                  <a:srgbClr val="00b0f0"/>
                </a:solidFill>
                <a:latin typeface="Berlin Sans FB Dem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erlin Sans FB Demi"/>
              </a:rPr>
              <a:t>inhibit platelet aggregation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1"/>
          <a:stretch/>
        </p:blipFill>
        <p:spPr>
          <a:xfrm>
            <a:off x="2905200" y="244440"/>
            <a:ext cx="5705280" cy="4498920"/>
          </a:xfrm>
          <a:prstGeom prst="rect">
            <a:avLst/>
          </a:prstGeom>
          <a:ln w="0">
            <a:noFill/>
          </a:ln>
        </p:spPr>
      </p:pic>
      <p:sp>
        <p:nvSpPr>
          <p:cNvPr id="477" name="TextBox 4"/>
          <p:cNvSpPr/>
          <p:nvPr/>
        </p:nvSpPr>
        <p:spPr>
          <a:xfrm>
            <a:off x="228600" y="1600200"/>
            <a:ext cx="2743200" cy="28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Tw Cen MT"/>
              </a:rPr>
              <a:t>TXA2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a potent inducer of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platelet aggregation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762120" y="2971800"/>
            <a:ext cx="7122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Both play important role  in inflammatory reactions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w Cen MT"/>
              </a:rPr>
              <a:t>Inflammation</a:t>
            </a:r>
            <a:r>
              <a:rPr b="1" lang="en-US" sz="4000" spc="-1" strike="noStrike">
                <a:solidFill>
                  <a:srgbClr val="002060"/>
                </a:solidFill>
                <a:latin typeface="Tw Cen MT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533160" y="4571640"/>
            <a:ext cx="73911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hromboxan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         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                             (</a:t>
            </a:r>
            <a:r>
              <a:rPr b="1" lang="en-US" sz="2800" spc="-1" strike="noStrike">
                <a:solidFill>
                  <a:srgbClr val="b95b22"/>
                </a:solidFill>
                <a:latin typeface="Tw Cen MT"/>
              </a:rPr>
              <a:t>bronchoconstriction</a:t>
            </a:r>
            <a:r>
              <a:rPr b="1" lang="en-US" sz="2800" spc="-1" strike="noStrike">
                <a:solidFill>
                  <a:srgbClr val="b95b22"/>
                </a:solidFill>
                <a:latin typeface="Tw Cen MT"/>
              </a:rPr>
              <a:t>)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Bronchial smooth muscle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5715000" y="4038480"/>
            <a:ext cx="914400" cy="1203480"/>
          </a:xfrm>
          <a:prstGeom prst="rect">
            <a:avLst/>
          </a:prstGeom>
          <a:ln w="0">
            <a:noFill/>
          </a:ln>
        </p:spPr>
      </p:pic>
      <p:sp>
        <p:nvSpPr>
          <p:cNvPr id="483" name="TextBox 4"/>
          <p:cNvSpPr/>
          <p:nvPr/>
        </p:nvSpPr>
        <p:spPr>
          <a:xfrm>
            <a:off x="533520" y="26668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glandins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b95b22"/>
                </a:solidFill>
                <a:latin typeface="Arial"/>
              </a:rPr>
              <a:t>bronchorelaxation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2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676520" cy="22352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4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Continu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5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-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Describe the synthesis of </a:t>
            </a:r>
            <a:r>
              <a:rPr b="1" i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6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-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lassify drugs that inhibit synthesis of 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7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-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numerate the pharmacological actions of eicosanoi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8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-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Enumerate the clinical uses of PGs analogs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Uterine smooth muscl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7" name="Rectangle 2"/>
          <p:cNvSpPr/>
          <p:nvPr/>
        </p:nvSpPr>
        <p:spPr>
          <a:xfrm>
            <a:off x="533520" y="3651480"/>
            <a:ext cx="8229600" cy="28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Prostaglandins</a:t>
            </a:r>
            <a:r>
              <a:rPr b="1" lang="en-US" sz="2900" spc="-1" strike="noStrike">
                <a:solidFill>
                  <a:srgbClr val="0070c0"/>
                </a:solidFill>
                <a:latin typeface="Tw Cen MT"/>
              </a:rPr>
              <a:t> increase uterine contractions </a:t>
            </a:r>
            <a:r>
              <a:rPr b="1" lang="en-US" sz="2900" spc="-1" strike="noStrike" baseline="-25000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0070c0"/>
                </a:solidFill>
                <a:latin typeface="Tw Cen MT"/>
              </a:rPr>
              <a:t>→ Menstruation/ Dysmenorrhea </a:t>
            </a:r>
            <a:r>
              <a:rPr b="1" lang="ar-SA" sz="2900" spc="-1" strike="noStrike">
                <a:solidFill>
                  <a:srgbClr val="0070c0"/>
                </a:solidFill>
                <a:latin typeface="Tw Cen MT"/>
              </a:rPr>
              <a:t>آلام الطمث</a:t>
            </a:r>
            <a:r>
              <a:rPr b="1" lang="en-US" sz="2900" spc="-1" strike="noStrike">
                <a:solidFill>
                  <a:srgbClr val="0070c0"/>
                </a:solidFill>
                <a:latin typeface="Tw Cen MT"/>
              </a:rPr>
              <a:t>/ Labor contra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5029200" y="1219320"/>
            <a:ext cx="3657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609120" y="2895480"/>
            <a:ext cx="712332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-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  <a:ea typeface="Arial"/>
              </a:rPr>
              <a:t>Prostaglandins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1523520" y="16761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GIT smooth muscle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1" name="Picture 3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790800" cy="2952720"/>
          </a:xfrm>
          <a:prstGeom prst="rect">
            <a:avLst/>
          </a:prstGeom>
          <a:ln w="0">
            <a:noFill/>
          </a:ln>
        </p:spPr>
      </p:pic>
      <p:sp>
        <p:nvSpPr>
          <p:cNvPr id="492" name="TextBox 5"/>
          <p:cNvSpPr/>
          <p:nvPr/>
        </p:nvSpPr>
        <p:spPr>
          <a:xfrm>
            <a:off x="1004400" y="4648320"/>
            <a:ext cx="261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SzPct val="60000"/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G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Arial"/>
                <a:ea typeface="Arial"/>
              </a:rPr>
              <a:t>moti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3810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GIT secretions</a:t>
            </a: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  <a:ea typeface="Arial"/>
              </a:rPr>
              <a:t>Prostaglandins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  <a:ea typeface="Arial"/>
              </a:rPr>
              <a:t>↓</a:t>
            </a:r>
            <a:r>
              <a:rPr b="1" lang="en-US" sz="2900" spc="-1" strike="noStrike" u="sng">
                <a:solidFill>
                  <a:srgbClr val="0070c0"/>
                </a:solidFill>
                <a:uFillTx/>
                <a:latin typeface="Tw Cen MT"/>
                <a:ea typeface="Arial"/>
              </a:rPr>
              <a:t>acid  secretio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900" spc="-1" strike="noStrike" u="sng">
                <a:solidFill>
                  <a:srgbClr val="0070c0"/>
                </a:solidFill>
                <a:uFillTx/>
                <a:latin typeface="Tw Cen MT"/>
                <a:ea typeface="Arial"/>
              </a:rPr>
              <a:t>Mucin secre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1813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1000"/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1000"/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160" y="2743200"/>
            <a:ext cx="464796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  <a:ea typeface="Arial"/>
              </a:rPr>
              <a:t>Prostaglandins 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increase  renal bl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703800" indent="0" rtl="1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flow and diuresis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Tw Cen MT"/>
                <a:ea typeface="Arial"/>
              </a:rPr>
              <a:t>Kideny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657680" y="1752480"/>
            <a:ext cx="4276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Central and peripheral nervous syste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612720" y="15998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Fever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2971800" y="2971800"/>
            <a:ext cx="3009960" cy="34671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473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w Cen MT"/>
                <a:ea typeface="Arial"/>
              </a:rPr>
              <a:t>Clinical uses of prostaglandins analo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  (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Synthetic prostaglandins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5181480" y="228600"/>
            <a:ext cx="3657600" cy="284796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030a0"/>
                </a:solidFill>
                <a:latin typeface="Tw Cen MT"/>
                <a:ea typeface="Arial"/>
              </a:rPr>
              <a:t>Carboprost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7" name="TextBox 6"/>
          <p:cNvSpPr/>
          <p:nvPr/>
        </p:nvSpPr>
        <p:spPr>
          <a:xfrm>
            <a:off x="0" y="1752480"/>
            <a:ext cx="84582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b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Induce  abortion in  first trimest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Box 6"/>
          <p:cNvSpPr/>
          <p:nvPr/>
        </p:nvSpPr>
        <p:spPr>
          <a:xfrm>
            <a:off x="228600" y="3657600"/>
            <a:ext cx="8458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0c0"/>
                </a:solidFill>
                <a:latin typeface="Tw Cen MT"/>
                <a:ea typeface="Arial"/>
              </a:rPr>
              <a:t>2) Treatment of postpartum haemorrhage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     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  <a:ea typeface="Arial"/>
              </a:rPr>
              <a:t>(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vasoconstriction + </a:t>
            </a:r>
            <a:r>
              <a:rPr b="1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uterine muscle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contraction)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90800" cy="300996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00" y="22860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Tw Cen MT"/>
                <a:ea typeface="Arial"/>
              </a:rPr>
              <a:t>Carboprost cont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7030a0"/>
                </a:solidFill>
                <a:latin typeface="Tw Cen MT"/>
                <a:ea typeface="Arial"/>
              </a:rPr>
              <a:t>PGF </a:t>
            </a:r>
            <a:r>
              <a:rPr b="1" lang="en-US" sz="3600" spc="-1" strike="noStrike">
                <a:solidFill>
                  <a:srgbClr val="7030a0"/>
                </a:solidFill>
                <a:latin typeface="Tw Cen MT"/>
                <a:ea typeface="Arial"/>
              </a:rPr>
              <a:t>“less used nowadays</a:t>
            </a:r>
            <a:r>
              <a:rPr b="1" lang="en-US" sz="3600" spc="-1" strike="noStrike">
                <a:solidFill>
                  <a:srgbClr val="7030a0"/>
                </a:solidFill>
                <a:latin typeface="Tw Cen MT"/>
                <a:ea typeface="Arial"/>
              </a:rPr>
              <a:t> “ </a:t>
            </a:r>
            <a:br>
              <a:rPr sz="3600"/>
            </a:b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3504960"/>
            <a:ext cx="7656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eye drops /in treatment of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  <a:ea typeface="Arial"/>
              </a:rPr>
              <a:t>open angle glaucoma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Gill Sans Ultra Bold"/>
                <a:ea typeface="Arial"/>
              </a:rPr>
              <a:t>(↓</a:t>
            </a:r>
            <a:r>
              <a:rPr b="1" lang="en-US" sz="2800" spc="-1" strike="noStrike">
                <a:solidFill>
                  <a:srgbClr val="002060"/>
                </a:solidFill>
                <a:latin typeface="JansonText-Roman"/>
                <a:ea typeface="Arial"/>
              </a:rPr>
              <a:t> IOP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 by enhancing outflow of the aqueous 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humar</a:t>
            </a:r>
            <a:r>
              <a:rPr b="0" lang="en-US" sz="2800" spc="-1" strike="noStrike">
                <a:solidFill>
                  <a:srgbClr val="002060"/>
                </a:solidFill>
                <a:latin typeface="Tw Cen MT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w Cen MT"/>
                <a:ea typeface="Arial"/>
              </a:rPr>
              <a:t>Latanopro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4267080" y="228600"/>
            <a:ext cx="4743720" cy="342900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12"/>
          <p:cNvSpPr/>
          <p:nvPr/>
        </p:nvSpPr>
        <p:spPr>
          <a:xfrm rot="20152200">
            <a:off x="5128920" y="2741400"/>
            <a:ext cx="1220760" cy="209520"/>
          </a:xfrm>
          <a:prstGeom prst="rect">
            <a:avLst/>
          </a:prstGeom>
          <a:solidFill>
            <a:srgbClr val="b0ca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Tw Cen MT"/>
                <a:ea typeface="Arial"/>
              </a:rPr>
              <a:t>Misoprostol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2438280"/>
            <a:ext cx="73915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w Cen MT"/>
                <a:ea typeface="Arial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Tw Cen MT"/>
                <a:ea typeface="Arial"/>
              </a:rPr>
              <a:t>Treatment of </a:t>
            </a:r>
            <a:r>
              <a:rPr b="1" lang="en-US" sz="3600" spc="-1" strike="noStrike">
                <a:solidFill>
                  <a:srgbClr val="ff0000"/>
                </a:solidFill>
                <a:latin typeface="Tw Cen MT"/>
                <a:ea typeface="Arial"/>
              </a:rPr>
              <a:t>Peptic ulcer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7" name="Picture 13" descr=""/>
          <p:cNvPicPr/>
          <p:nvPr/>
        </p:nvPicPr>
        <p:blipFill>
          <a:blip r:embed="rId1"/>
          <a:stretch/>
        </p:blipFill>
        <p:spPr>
          <a:xfrm>
            <a:off x="6400800" y="0"/>
            <a:ext cx="2573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5"/>
          <p:cNvSpPr/>
          <p:nvPr/>
        </p:nvSpPr>
        <p:spPr>
          <a:xfrm>
            <a:off x="428760" y="428760"/>
            <a:ext cx="1857240" cy="100620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ernard MT Condense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istam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16"/>
          <p:cNvGrpSpPr/>
          <p:nvPr/>
        </p:nvGrpSpPr>
        <p:grpSpPr>
          <a:xfrm>
            <a:off x="428760" y="1000080"/>
            <a:ext cx="2643120" cy="1447200"/>
            <a:chOff x="428760" y="1000080"/>
            <a:chExt cx="2643120" cy="1447200"/>
          </a:xfrm>
        </p:grpSpPr>
        <p:sp>
          <p:nvSpPr>
            <p:cNvPr id="365" name="TextBox 7"/>
            <p:cNvSpPr/>
            <p:nvPr/>
          </p:nvSpPr>
          <p:spPr>
            <a:xfrm>
              <a:off x="500040" y="1500120"/>
              <a:ext cx="2571840" cy="947160"/>
            </a:xfrm>
            <a:prstGeom prst="rect">
              <a:avLst/>
            </a:prstGeom>
            <a:solidFill>
              <a:srgbClr val="2e31b8"/>
            </a:solidFill>
            <a:ln w="28440">
              <a:solidFill>
                <a:srgbClr val="6600ff"/>
              </a:solidFill>
              <a:miter/>
            </a:ln>
            <a:effectLst>
              <a:outerShdw dist="50760" dir="5400000" blurRad="0" rotWithShape="0">
                <a:srgbClr val="66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ernard MT Condensed"/>
                </a:rPr>
                <a:t>Neurotransmitte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Down Arrow 15"/>
            <p:cNvSpPr/>
            <p:nvPr/>
          </p:nvSpPr>
          <p:spPr>
            <a:xfrm>
              <a:off x="428760" y="1000080"/>
              <a:ext cx="571320" cy="50040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TextBox 10"/>
          <p:cNvSpPr/>
          <p:nvPr/>
        </p:nvSpPr>
        <p:spPr>
          <a:xfrm>
            <a:off x="457200" y="2209680"/>
            <a:ext cx="2514600" cy="137376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Allergic &amp; Inflammatory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1"/>
          <p:cNvSpPr/>
          <p:nvPr/>
        </p:nvSpPr>
        <p:spPr>
          <a:xfrm>
            <a:off x="533520" y="3962520"/>
            <a:ext cx="2438280" cy="947160"/>
          </a:xfrm>
          <a:prstGeom prst="rect">
            <a:avLst/>
          </a:prstGeom>
          <a:solidFill>
            <a:srgbClr val="2e31b8"/>
          </a:solidFill>
          <a:ln w="28440">
            <a:solidFill>
              <a:srgbClr val="6600ff"/>
            </a:solidFill>
            <a:miter/>
          </a:ln>
          <a:effectLst>
            <a:outerShdw dist="50760" dir="5400000" blurRad="0" rotWithShape="0">
              <a:srgbClr val="66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ernard MT Condensed"/>
              </a:rPr>
              <a:t>Gastric acid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w Cen MT"/>
                <a:ea typeface="Arial"/>
              </a:rPr>
              <a:t>Prostaglandin Antagonists have very important clinical uses e.g: NSADS (Aspirin; Paracetamol; Brufen).  Also, Leukotriene antagonists have an important value for treating asthma </a:t>
            </a:r>
            <a:r>
              <a:rPr b="0" lang="ar-SA" sz="3600" spc="-1" strike="noStrike">
                <a:solidFill>
                  <a:srgbClr val="003300"/>
                </a:solidFill>
                <a:latin typeface="Tw Cen MT"/>
                <a:cs typeface="Arial"/>
              </a:rPr>
              <a:t>الربو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Tw Cen MT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160" y="19047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w Cen MT"/>
                <a:ea typeface="Arial"/>
              </a:rPr>
              <a:t>Thank you</a:t>
            </a:r>
            <a:br>
              <a:rPr sz="9600"/>
            </a:br>
            <a:br>
              <a:rPr sz="9600"/>
            </a:br>
            <a:r>
              <a:rPr b="1" lang="en-US" sz="9600" spc="-1" strike="noStrike">
                <a:solidFill>
                  <a:srgbClr val="ff0000"/>
                </a:solidFill>
                <a:latin typeface="Tw Cen MT"/>
                <a:ea typeface="Arial"/>
              </a:rPr>
              <a:t>0505281200</a:t>
            </a:r>
            <a:r>
              <a:rPr b="0" lang="en-US" sz="6000" spc="-1" strike="noStrike">
                <a:solidFill>
                  <a:srgbClr val="775f55"/>
                </a:solidFill>
                <a:latin typeface="Tw Cen MT"/>
                <a:ea typeface="Arial"/>
              </a:rPr>
              <a:t> 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Storage Si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Content Placeholder 3" descr=""/>
          <p:cNvPicPr/>
          <p:nvPr/>
        </p:nvPicPr>
        <p:blipFill>
          <a:blip r:embed="rId1"/>
          <a:stretch/>
        </p:blipFill>
        <p:spPr>
          <a:xfrm>
            <a:off x="615960" y="1603440"/>
            <a:ext cx="815652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Tw Cen MT"/>
                <a:ea typeface="Arial"/>
              </a:rPr>
              <a:t>Biosynthesis</a:t>
            </a:r>
            <a:r>
              <a:rPr b="1" lang="en-US" sz="4800" spc="-1" strike="noStrike">
                <a:solidFill>
                  <a:srgbClr val="775f55"/>
                </a:solidFill>
                <a:latin typeface="Tw Cen MT"/>
                <a:ea typeface="Arial"/>
              </a:rPr>
              <a:t> </a:t>
            </a:r>
            <a:endParaRPr b="0" lang="en-US" sz="4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2" name="صورة 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391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  <a:ea typeface="Arial"/>
              </a:rPr>
              <a:t>Inactiv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"/>
          <p:cNvGrpSpPr/>
          <p:nvPr/>
        </p:nvGrpSpPr>
        <p:grpSpPr>
          <a:xfrm>
            <a:off x="609480" y="1600200"/>
            <a:ext cx="6782040" cy="4191120"/>
            <a:chOff x="609480" y="1600200"/>
            <a:chExt cx="6782040" cy="4191120"/>
          </a:xfrm>
        </p:grpSpPr>
        <p:sp>
          <p:nvSpPr>
            <p:cNvPr id="376" name="Line 8"/>
            <p:cNvSpPr/>
            <p:nvPr/>
          </p:nvSpPr>
          <p:spPr>
            <a:xfrm>
              <a:off x="1534680" y="2212560"/>
              <a:ext cx="0" cy="12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7"/>
            <p:cNvSpPr/>
            <p:nvPr/>
          </p:nvSpPr>
          <p:spPr>
            <a:xfrm>
              <a:off x="1534680" y="4005720"/>
              <a:ext cx="0" cy="1252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6"/>
            <p:cNvSpPr/>
            <p:nvPr/>
          </p:nvSpPr>
          <p:spPr>
            <a:xfrm>
              <a:off x="914040" y="160020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Histam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5"/>
            <p:cNvSpPr/>
            <p:nvPr/>
          </p:nvSpPr>
          <p:spPr>
            <a:xfrm>
              <a:off x="609480" y="346500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Methyl histamine </a:t>
              </a:r>
              <a:r>
                <a:rPr b="0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(Oxidation)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"/>
            <p:cNvSpPr/>
            <p:nvPr/>
          </p:nvSpPr>
          <p:spPr>
            <a:xfrm>
              <a:off x="609480" y="5254560"/>
              <a:ext cx="647748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w Cen MT"/>
                  <a:ea typeface="Times New Roman"/>
                </a:rPr>
                <a:t>Methyl imidazole acetic ac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"/>
            <p:cNvSpPr/>
            <p:nvPr/>
          </p:nvSpPr>
          <p:spPr>
            <a:xfrm>
              <a:off x="1524600" y="2514240"/>
              <a:ext cx="462672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030a0"/>
                  </a:solidFill>
                  <a:latin typeface="Berlin Sans FB"/>
                  <a:ea typeface="Times New Roman"/>
                </a:rPr>
                <a:t>Imidazole N-methyltransfer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2"/>
            <p:cNvSpPr/>
            <p:nvPr/>
          </p:nvSpPr>
          <p:spPr>
            <a:xfrm>
              <a:off x="1572120" y="4303800"/>
              <a:ext cx="254340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7030a0"/>
                  </a:solidFill>
                  <a:latin typeface="Berlin Sans FB"/>
                  <a:ea typeface="Times New Roman"/>
                </a:rPr>
                <a:t>Diamine oxida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5" descr="C:\Users\Administrator\AppData\Local\Microsoft\Windows\Temporary Internet Files\Content.IE5\26HYVZA7\ch14f4[1].jpg"/>
          <p:cNvPicPr/>
          <p:nvPr/>
        </p:nvPicPr>
        <p:blipFill>
          <a:blip r:embed="rId1"/>
          <a:srcRect l="14694" t="2003" r="3263" b="2003"/>
          <a:stretch/>
        </p:blipFill>
        <p:spPr>
          <a:xfrm>
            <a:off x="1676520" y="1447920"/>
            <a:ext cx="7180200" cy="5143320"/>
          </a:xfrm>
          <a:prstGeom prst="rect">
            <a:avLst/>
          </a:prstGeom>
          <a:ln w="0">
            <a:noFill/>
          </a:ln>
        </p:spPr>
      </p:pic>
      <p:sp>
        <p:nvSpPr>
          <p:cNvPr id="384" name="TextBox 19"/>
          <p:cNvSpPr/>
          <p:nvPr/>
        </p:nvSpPr>
        <p:spPr>
          <a:xfrm>
            <a:off x="6286680" y="471492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0"/>
          <p:cNvSpPr/>
          <p:nvPr/>
        </p:nvSpPr>
        <p:spPr>
          <a:xfrm>
            <a:off x="6286680" y="420048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1"/>
          <p:cNvSpPr/>
          <p:nvPr/>
        </p:nvSpPr>
        <p:spPr>
          <a:xfrm>
            <a:off x="2666880" y="563868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34"/>
          <p:cNvGrpSpPr/>
          <p:nvPr/>
        </p:nvGrpSpPr>
        <p:grpSpPr>
          <a:xfrm>
            <a:off x="3809880" y="5638680"/>
            <a:ext cx="357480" cy="428760"/>
            <a:chOff x="3809880" y="5638680"/>
            <a:chExt cx="357480" cy="428760"/>
          </a:xfrm>
        </p:grpSpPr>
        <p:sp>
          <p:nvSpPr>
            <p:cNvPr id="388" name="Oval 30"/>
            <p:cNvSpPr/>
            <p:nvPr/>
          </p:nvSpPr>
          <p:spPr>
            <a:xfrm>
              <a:off x="3809880" y="5638680"/>
              <a:ext cx="357480" cy="428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traight Connector 32"/>
            <p:cNvSpPr/>
            <p:nvPr/>
          </p:nvSpPr>
          <p:spPr>
            <a:xfrm>
              <a:off x="3894840" y="5852880"/>
              <a:ext cx="214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TextBox 38"/>
          <p:cNvSpPr/>
          <p:nvPr/>
        </p:nvSpPr>
        <p:spPr>
          <a:xfrm>
            <a:off x="6286680" y="5229360"/>
            <a:ext cx="500040" cy="745560"/>
          </a:xfrm>
          <a:prstGeom prst="rect">
            <a:avLst/>
          </a:prstGeom>
          <a:solidFill>
            <a:srgbClr val="00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nard MT Condensed"/>
              </a:rPr>
              <a:t>H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ernard MT Condensed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39"/>
          <p:cNvSpPr/>
          <p:nvPr/>
        </p:nvSpPr>
        <p:spPr>
          <a:xfrm>
            <a:off x="6643800" y="5429160"/>
            <a:ext cx="357120" cy="428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40"/>
          <p:cNvSpPr/>
          <p:nvPr/>
        </p:nvSpPr>
        <p:spPr>
          <a:xfrm>
            <a:off x="6643800" y="4857840"/>
            <a:ext cx="3571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41"/>
          <p:cNvSpPr/>
          <p:nvPr/>
        </p:nvSpPr>
        <p:spPr>
          <a:xfrm>
            <a:off x="6643800" y="4357800"/>
            <a:ext cx="357120" cy="428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  <a:ea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42"/>
          <p:cNvSpPr/>
          <p:nvPr/>
        </p:nvSpPr>
        <p:spPr>
          <a:xfrm>
            <a:off x="4572000" y="4429080"/>
            <a:ext cx="785880" cy="928800"/>
          </a:xfrm>
          <a:prstGeom prst="ellipse">
            <a:avLst/>
          </a:prstGeom>
          <a:noFill/>
          <a:ln w="572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43"/>
          <p:cNvSpPr/>
          <p:nvPr/>
        </p:nvSpPr>
        <p:spPr>
          <a:xfrm>
            <a:off x="4498920" y="4357800"/>
            <a:ext cx="928800" cy="1065240"/>
          </a:xfrm>
          <a:prstGeom prst="ellipse">
            <a:avLst/>
          </a:prstGeom>
          <a:noFill/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8"/>
          <p:cNvGrpSpPr/>
          <p:nvPr/>
        </p:nvGrpSpPr>
        <p:grpSpPr>
          <a:xfrm>
            <a:off x="7786800" y="4071960"/>
            <a:ext cx="1143000" cy="1785960"/>
            <a:chOff x="7786800" y="4071960"/>
            <a:chExt cx="1143000" cy="1785960"/>
          </a:xfrm>
        </p:grpSpPr>
        <p:pic>
          <p:nvPicPr>
            <p:cNvPr id="397" name="Picture 2" descr="2009_1"/>
            <p:cNvPicPr/>
            <p:nvPr/>
          </p:nvPicPr>
          <p:blipFill>
            <a:blip r:embed="rId2"/>
            <a:srcRect l="4999" t="21227" r="65010" b="19812"/>
            <a:stretch/>
          </p:blipFill>
          <p:spPr>
            <a:xfrm>
              <a:off x="7786800" y="4071960"/>
              <a:ext cx="11430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Box 47"/>
            <p:cNvSpPr/>
            <p:nvPr/>
          </p:nvSpPr>
          <p:spPr>
            <a:xfrm>
              <a:off x="8143920" y="5029200"/>
              <a:ext cx="500040" cy="745560"/>
            </a:xfrm>
            <a:prstGeom prst="rect">
              <a:avLst/>
            </a:prstGeom>
            <a:solidFill>
              <a:srgbClr val="0033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ernard MT Condensed"/>
                </a:rPr>
                <a:t>H 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Bernard MT Condense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Picture 2" descr="2009_1"/>
          <p:cNvPicPr/>
          <p:nvPr/>
        </p:nvPicPr>
        <p:blipFill>
          <a:blip r:embed="rId3"/>
          <a:stretch/>
        </p:blipFill>
        <p:spPr>
          <a:xfrm>
            <a:off x="6931080" y="3286080"/>
            <a:ext cx="1353960" cy="1359000"/>
          </a:xfrm>
          <a:prstGeom prst="rect">
            <a:avLst/>
          </a:prstGeom>
          <a:ln w="0">
            <a:noFill/>
          </a:ln>
        </p:spPr>
      </p:pic>
      <p:cxnSp>
        <p:nvCxnSpPr>
          <p:cNvPr id="400" name="Straight Arrow Connector 51"/>
          <p:cNvCxnSpPr/>
          <p:nvPr/>
        </p:nvCxnSpPr>
        <p:spPr>
          <a:xfrm flipV="1">
            <a:off x="5300640" y="4885920"/>
            <a:ext cx="558000" cy="45360"/>
          </a:xfrm>
          <a:prstGeom prst="straightConnector1">
            <a:avLst/>
          </a:prstGeom>
          <a:ln w="57240">
            <a:solidFill>
              <a:srgbClr val="ff0066"/>
            </a:solidFill>
            <a:miter/>
            <a:tailEnd len="med" type="arrow" w="med"/>
          </a:ln>
        </p:spPr>
      </p:cxnSp>
      <p:sp>
        <p:nvSpPr>
          <p:cNvPr id="401" name="Arc 53"/>
          <p:cNvSpPr/>
          <p:nvPr/>
        </p:nvSpPr>
        <p:spPr>
          <a:xfrm flipV="1">
            <a:off x="4186080" y="4929120"/>
            <a:ext cx="857520" cy="928800"/>
          </a:xfrm>
          <a:custGeom>
            <a:avLst/>
            <a:gdLst/>
            <a:ahLst/>
            <a:rect l="l" t="t" r="r" b="b"/>
            <a:pathLst>
              <a:path stroke="0" w="857250" h="928687">
                <a:moveTo>
                  <a:pt x="408849" y="494"/>
                </a:moveTo>
                <a:cubicBezTo>
                  <a:pt x="532062" y="-5671"/>
                  <a:pt x="651754" y="45966"/>
                  <a:pt x="737325" y="142202"/>
                </a:cubicBezTo>
                <a:cubicBezTo>
                  <a:pt x="814264" y="228731"/>
                  <a:pt x="857250" y="344199"/>
                  <a:pt x="857250" y="464344"/>
                </a:cubicBezTo>
                <a:lnTo>
                  <a:pt x="428625" y="464344"/>
                </a:lnTo>
                <a:lnTo>
                  <a:pt x="408849" y="494"/>
                </a:lnTo>
                <a:close/>
              </a:path>
              <a:path fill="none" w="857250" h="928687">
                <a:moveTo>
                  <a:pt x="408849" y="494"/>
                </a:moveTo>
                <a:cubicBezTo>
                  <a:pt x="532062" y="-5671"/>
                  <a:pt x="651754" y="45966"/>
                  <a:pt x="737325" y="142202"/>
                </a:cubicBezTo>
                <a:cubicBezTo>
                  <a:pt x="814264" y="228731"/>
                  <a:pt x="857250" y="344199"/>
                  <a:pt x="857250" y="464344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Straight Arrow Connector 55"/>
          <p:cNvCxnSpPr>
            <a:stCxn id="401" idx="0"/>
          </p:cNvCxnSpPr>
          <p:nvPr/>
        </p:nvCxnSpPr>
        <p:spPr>
          <a:xfrm flipH="1">
            <a:off x="4043160" y="5856840"/>
            <a:ext cx="551520" cy="1080"/>
          </a:xfrm>
          <a:prstGeom prst="straightConnector1">
            <a:avLst/>
          </a:prstGeom>
          <a:ln w="57240">
            <a:solidFill>
              <a:srgbClr val="ff0066"/>
            </a:solidFill>
            <a:miter/>
            <a:tailEnd len="med" type="arrow" w="med"/>
          </a:ln>
        </p:spPr>
      </p:cxnSp>
      <p:sp>
        <p:nvSpPr>
          <p:cNvPr id="403" name="TextBox 60"/>
          <p:cNvSpPr/>
          <p:nvPr/>
        </p:nvSpPr>
        <p:spPr>
          <a:xfrm>
            <a:off x="1500120" y="628668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"/>
              </a:rPr>
              <a:t>-ve presynaptic auto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1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4" descr="http://www.india-shopping.net/india-ayurveda-products/image/fainting.gif"/>
          <p:cNvPicPr/>
          <p:nvPr/>
        </p:nvPicPr>
        <p:blipFill>
          <a:blip r:embed="rId1"/>
          <a:stretch/>
        </p:blipFill>
        <p:spPr>
          <a:xfrm>
            <a:off x="920880" y="3780000"/>
            <a:ext cx="5479920" cy="38764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Users\Administrator\Pictures\AnAn.gif"/>
          <p:cNvPicPr/>
          <p:nvPr/>
        </p:nvPicPr>
        <p:blipFill>
          <a:blip r:embed="rId2"/>
          <a:srcRect l="1327" t="2165" r="8610" b="2707"/>
          <a:stretch/>
        </p:blipFill>
        <p:spPr>
          <a:xfrm>
            <a:off x="4038480" y="3429000"/>
            <a:ext cx="5181840" cy="3352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http://t2.gstatic.com/images?q=tbn:ANd9GcRLpdVHcIw3sUPWD5jEtjyA22IgxrsXlY1ug_rFbN_U8fWErnZYB_XZ99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29400" y="2133720"/>
            <a:ext cx="1521000" cy="12952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5"/>
          <p:cNvSpPr/>
          <p:nvPr/>
        </p:nvSpPr>
        <p:spPr>
          <a:xfrm>
            <a:off x="533520" y="152280"/>
            <a:ext cx="45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REL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6"/>
          <p:cNvSpPr/>
          <p:nvPr/>
        </p:nvSpPr>
        <p:spPr>
          <a:xfrm>
            <a:off x="0" y="1676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mary mechanism, during allergic reactions on sensitizing [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gE anti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s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nti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 the surface of mast cell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304920" y="25146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st cells are degranulated and releas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histam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leads to allergic rea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7"/>
          <p:cNvSpPr/>
          <p:nvPr/>
        </p:nvSpPr>
        <p:spPr>
          <a:xfrm>
            <a:off x="685800" y="36576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also has some role i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ute inflamm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injury it cau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sodialtion and leakage of plasma, anti bodies and inflammatory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762120" y="5867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s release is modulated by binding to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H3 presynapt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8:55:12Z</dcterms:created>
  <dc:creator>Cheryl Tajon</dc:creator>
  <dc:description/>
  <dc:language>en-US</dc:language>
  <cp:lastModifiedBy>Faisal</cp:lastModifiedBy>
  <dcterms:modified xsi:type="dcterms:W3CDTF">2014-10-26T16:27:37Z</dcterms:modified>
  <cp:revision>236</cp:revision>
  <dc:subject/>
  <dc:title>Nonsteroidal Antiinflammatory Drugs (NSAIDs)</dc:title>
</cp:coreProperties>
</file>