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1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AD3D-8241-4B9D-8ADF-3309E3AAB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FF20-7C30-444F-9EDE-402CC9A542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D1B-0D19-47E0-80E3-B80612648F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DF09-622D-454D-93DD-8E73818D12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F63-9101-4DBE-93E5-81F15CE473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40B-F33C-4AF8-8AC9-655DF54FEF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31D-2F27-4849-8C6D-F1EA2798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D70-3619-401A-A972-B6AD2317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2A7-0984-4212-A91D-EBB81792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71F-941A-404E-B4E6-97DFAAC5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0DAF-FC39-4281-A1D3-8B7A4C40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5D8-F2B8-48BF-B6BD-CF7F4963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61FD-F45A-4447-BF95-3C0A1AF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2AA7-B01E-4370-89BA-73A0B7C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985A-0FA4-4529-8292-CCC7ECD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3F1-FED8-49B6-A97F-F513A86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94D-4BEF-4241-AD59-5D102EC1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03C-50C4-44AF-83BD-0C67260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4D8-5215-4CCA-8A21-608FBC3D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1B75-6EED-46CB-ABB4-EA3C698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02C-9ACF-451B-9DF1-EA544964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C0F3-4CDF-4759-9803-4DF01092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8FC-E8B6-440C-932D-967BCD73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23AD1-C8F4-43DF-B8AF-DA66E1E0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9AE46-1470-4A98-9EB7-0CBF2F2B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DA9A6-ECF0-430D-8388-D5F08FE2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32238-5B3F-4524-9DA6-691D9BB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8AA55-05EF-48BE-BDF0-AB33D52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CB4-FF2B-4D49-A7FE-117948E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82BB4-4458-4AA5-8725-BFA0A988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70DB3-E6EF-4F6D-BCD8-5F5373B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856AF-9677-46F9-9628-59D56A8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348B0-0AF4-4F40-8D46-5C020D0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C75F4-92F0-4D95-A1BD-16BB46E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335E1-EEA1-4578-B381-29EA1ACD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02F7D-AF2B-4C04-BD14-9E6EE89B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D6BCC-DE83-41BB-842F-091A91B9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4B256-AAF3-43E7-A195-65EDFED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32B31-8D5C-4A17-854F-7F0F5C93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338-F4CB-4ECB-B03E-4B9809D3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0A887-16A6-4B02-B254-BF7C513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216F9-336D-4508-93FC-E23C6DE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D3178-43A6-4A48-8EC1-EC9F0B8F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5E3EA-6926-4EDB-B2CC-D87CDD4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986ED-9028-4429-8362-D2F8BEA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F27A5-79A1-49D6-8BEF-FD459EA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D9803-3C0B-47CF-9F2F-0385882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D0E88-B552-49E0-BE51-83D7566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8F2D7-8FA4-4D5B-B4E8-7B0A4A72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E9448-4E6B-421C-ADB6-72EC9B8C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9C4-FC40-4A99-A05F-12E5686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98C1E-7479-411C-889D-AD009FED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BD994-2673-43C4-A655-B971B67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D5660-511E-47A5-AA5F-28AA5304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0A3A9-1AA9-4F21-82A2-13C5197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43DDE-8B61-4C6B-ADA2-89D1DAC2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D74E0-8DF3-43E9-8A23-A4EEC8D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9AF2E-AF7E-45E9-A866-CA93926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7A411-0085-4D9F-8A94-9CCF78A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85A51-475B-4EB0-BF72-A46B8547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6D06E-DAFA-4A3A-B270-9F5A3206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BD1-568A-438F-A38A-4E92B5C7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249E3-580A-4623-ADF0-E92B620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6EEC9-D0FA-4CD3-A706-F2BA2D7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6E9B-76A1-42DD-AC54-5CE91AB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C0C9-DD11-4141-A929-CDD26076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8052-DB5B-4C58-800C-EFF4BB12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BC70-6C1C-4E09-A37A-C73AC134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07BD-77F9-417D-BCC7-11F218EC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214A-9588-4242-975C-121BCCE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13DE-3687-4F0B-B29A-9511781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3BEA-C48F-447E-B49E-9B7F325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527-52C2-42E3-B6CF-6EF297D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54E2-9C6C-43E8-B42F-DCCC388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67C2-2F16-4D9E-A162-62CDF0D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AFBB5-322A-46E3-B67E-9D3BEF30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FC9B4-2719-4983-8941-277B41D1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F7B97-F028-492B-BAF6-CE3DAB8C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3038-5AEE-4079-A887-A73D0F5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0D568-5C1D-4003-A68C-3343A5C7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BC356-08BD-453F-A6BD-CF84D232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15DFC-3A39-4F2F-9272-C44944C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88815-FA13-477C-AC50-B6DB4595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6C7-726E-4FDA-BEA1-CE4676D6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215B3-BCD0-4758-A35F-B432118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BEC1A-08C1-4A91-8486-03DAFDE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20B6D-A323-47D8-B3FE-0DB095B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7FD91-A328-4859-BBE3-59A60AAB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92EFC-DBAC-47A5-BC75-57756F10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D45FA-EC5D-455E-BD53-4BD75666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9E19-7084-4154-9DD9-8090BC5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B44EB-FA31-48AD-8A5B-4214E942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D9D91-70E0-47DD-AD67-0318B88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FF890-B015-4FF5-B628-4D240192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23E-17DA-418F-AA34-B90FF6F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C0E87-A212-4472-BFB5-817D501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2E0AC-99EA-4104-8489-4C4D6A7D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51B3-9999-41AE-89D8-936CDAA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D789-F8BF-451B-A4BF-F0C62BE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8DDD-D499-4F50-A7F5-D88ADC3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40CC-E2B5-4B05-823E-0B4295E0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7819-C5CD-4957-96B7-33776D8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531-5394-4DDA-806D-5E5CB233059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E7D8-70BD-4D59-B8C2-8A4B677F3179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1A79-AFD2-4C21-90C5-CE4D505F9D24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166-A00E-42FA-BC40-E94752E7AAF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645-6793-432C-9396-D79081C9990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E64-5122-4BC9-AE86-B787609F12C2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B81E-7CED-4715-A5D4-8F7736F5CFBA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29E-ADB9-4889-B3E6-8CC3728442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com/imgres?imgurl=http://img.dailymail.co.uk/i/pix/2007/09_02/waspDM0909_468x397.jpg&amp;imgrefurl=http://www.dailymail.co.uk/news/article-480887/Summers-sting-bizarre-weather-brought-wasps-vast-numbers.html&amp;usg=__qKw9xSaTjrciaiKHlTQ_f39W-Aw=&amp;h=397&amp;w=468&amp;sz=31&amp;hl=en&amp;start=36&amp;zoom=1&amp;itbs=1&amp;tbnid=Zv4eDWb3dbZqsM:&amp;tbnh=109&amp;tbnw=128&amp;prev=/images?q=wasps&amp;start=20&amp;hl=en&amp;safe=active&amp;sa=N&amp;gbv=2&amp;ndsp=20&amp;tbs=isch:1&amp;ei=4shYTengF4OUOvXi4Y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Autocrine &amp;     Paracrin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Pharmacology   (Part II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26665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rof. Alhaid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Department of Pharmacolog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llege of Medicin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  <a:ea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Tw Cen MT"/>
                <a:ea typeface="Arial"/>
              </a:rPr>
              <a:t>Continu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zymes as trypsin or drugs as morphine or other chemicals can liberate histamin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issue injury by trauma or bur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14200" y="1887480"/>
          <a:ext cx="7215480" cy="3854520"/>
        </p:xfrm>
        <a:graphic>
          <a:graphicData uri="http://schemas.openxmlformats.org/drawingml/2006/table">
            <a:tbl>
              <a:tblPr/>
              <a:tblGrid>
                <a:gridCol w="1357560"/>
                <a:gridCol w="2143080"/>
                <a:gridCol w="3714840"/>
              </a:tblGrid>
              <a:tr h="705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Recept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Tissue Lo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Biologic Eff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Bernard MT Condense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oth muscle, endotheli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acute allergic respo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astric pariet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ecretion of gastric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al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neurotrans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</a:tr>
              <a:tr h="111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st cells, eosinophils, 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gulating immun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</a:tr>
            </a:tbl>
          </a:graphicData>
        </a:graphic>
      </p:graphicFrame>
      <p:sp>
        <p:nvSpPr>
          <p:cNvPr id="415" name="Down Arrow Callout 16"/>
          <p:cNvSpPr/>
          <p:nvPr/>
        </p:nvSpPr>
        <p:spPr>
          <a:xfrm>
            <a:off x="214200" y="500040"/>
            <a:ext cx="2909880" cy="1357200"/>
          </a:xfrm>
          <a:prstGeom prst="downArrowCallout">
            <a:avLst>
              <a:gd name="adj1" fmla="val 24996"/>
              <a:gd name="adj2" fmla="val 25004"/>
              <a:gd name="adj3" fmla="val 25000"/>
              <a:gd name="adj4" fmla="val 64977"/>
            </a:avLst>
          </a:prstGeom>
          <a:solidFill>
            <a:srgbClr val="000000"/>
          </a:solidFill>
          <a:ln w="38160">
            <a:solidFill>
              <a:srgbClr val="ffccff"/>
            </a:solidFill>
            <a:round/>
          </a:ln>
          <a:effectLst>
            <a:outerShdw dist="8892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istamin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Effects Of Histam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ain, itching, hives 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الطفح الجلد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Hypotension, tachycardia, flushing and bronchoconstriction  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تحصل في حالات فرط الحساس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Headache, visual disturbances, increas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kin tempera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xcessive secretion of gastric acids and diarrhe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Bronchoconstriction, dyspnea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5142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Histamine receptor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Physiologic antagonists: </a:t>
            </a:r>
            <a:r>
              <a:rPr b="1" i="1" lang="en-US" sz="2900" spc="-1" strike="noStrike">
                <a:solidFill>
                  <a:srgbClr val="003300"/>
                </a:solidFill>
                <a:latin typeface="Tw Cen MT"/>
                <a:ea typeface="Arial"/>
              </a:rPr>
              <a:t>Histamine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ffects can be reduced by physiologic antagonism such as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pinephr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which acts on different receptors but produces effects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pposite to histamine especially in anaphylaxis. Therefoe, Epinephrine is the drug of choice for Anaphylaxis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فرط الحساسية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Specific receptor blockag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f Blocking of histamine recep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But in most of the cases these blockers specific in their binding and blocking activit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First generation H1 receptor Blockers (CNS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iphenhydram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ycliz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romathaz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Second generation H1 receptor blockers (Per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Loratid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itriz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Group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4389480" cy="62244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314280" y="433440"/>
            <a:ext cx="3043440" cy="18003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henhydra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rst gene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642960" y="1473120"/>
            <a:ext cx="81439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Has a  Sedating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linical u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Insomni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Motion sick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Cold med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Allerg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6629400" y="685800"/>
            <a:ext cx="2038320" cy="87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 ( Block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5"/>
          <p:cNvSpPr/>
          <p:nvPr/>
        </p:nvSpPr>
        <p:spPr>
          <a:xfrm>
            <a:off x="314280" y="433440"/>
            <a:ext cx="3043440" cy="13737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atadine  (Second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10" descr=""/>
          <p:cNvPicPr/>
          <p:nvPr/>
        </p:nvPicPr>
        <p:blipFill>
          <a:blip r:embed="rId2"/>
          <a:stretch/>
        </p:blipFill>
        <p:spPr>
          <a:xfrm>
            <a:off x="487440" y="1474920"/>
            <a:ext cx="8296200" cy="5108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met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642960" y="1473120"/>
            <a:ext cx="81439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hibitor of gastric acid secre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Arial"/>
              </a:rPr>
              <a:t>Used in the treatmen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     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  <a:ea typeface="Arial"/>
              </a:rPr>
              <a:t>peptic ulc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AH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642960" y="1473120"/>
            <a:ext cx="81439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Used in treatmen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           </a:t>
            </a: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vertigo in middle 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t the end of lecture the Students should be able to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Specify storage sites of </a:t>
            </a:r>
            <a:r>
              <a:rPr b="1" i="1" lang="en-US" sz="2600" spc="-1" strike="noStrike">
                <a:solidFill>
                  <a:srgbClr val="ff0000"/>
                </a:solidFill>
                <a:latin typeface="Tw Cen MT"/>
                <a:ea typeface="Arial"/>
              </a:rPr>
              <a:t>histami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xplain the synthesis, release &amp; inactivation of histami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List histamine receptors regarding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ype, major location, major biologic effe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xplain the clinical uses of histamine receptors antagonists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424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EICOSANOIDS</a:t>
            </a:r>
            <a:br>
              <a:rPr sz="5400"/>
            </a:b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979560" y="4267080"/>
            <a:ext cx="692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INHIBITORS OF EICOSANO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4"/>
          <p:cNvGrpSpPr/>
          <p:nvPr/>
        </p:nvGrpSpPr>
        <p:grpSpPr>
          <a:xfrm>
            <a:off x="655560" y="457200"/>
            <a:ext cx="7693200" cy="6129000"/>
            <a:chOff x="655560" y="457200"/>
            <a:chExt cx="7693200" cy="6129000"/>
          </a:xfrm>
        </p:grpSpPr>
        <p:sp>
          <p:nvSpPr>
            <p:cNvPr id="445" name="Text Box 2"/>
            <p:cNvSpPr/>
            <p:nvPr/>
          </p:nvSpPr>
          <p:spPr>
            <a:xfrm>
              <a:off x="3124080" y="45720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Phospholip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3"/>
            <p:cNvSpPr/>
            <p:nvPr/>
          </p:nvSpPr>
          <p:spPr>
            <a:xfrm>
              <a:off x="4122000" y="990360"/>
              <a:ext cx="277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Phospholipase</a:t>
              </a:r>
              <a:r>
                <a:rPr b="1" lang="en-US" sz="2400" spc="-1" strike="noStrike">
                  <a:solidFill>
                    <a:srgbClr val="ff0000"/>
                  </a:solidFill>
                  <a:latin typeface="Berlin Sans FB Demi"/>
                  <a:ea typeface="Arial"/>
                </a:rPr>
                <a:t> 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Berlin Sans FB Dem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"/>
            <p:cNvSpPr/>
            <p:nvPr/>
          </p:nvSpPr>
          <p:spPr>
            <a:xfrm>
              <a:off x="3098880" y="1665360"/>
              <a:ext cx="31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Arachid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3932280" y="838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4465800" y="3810240"/>
              <a:ext cx="3809880" cy="94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Prostaglandi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7"/>
            <p:cNvSpPr/>
            <p:nvPr/>
          </p:nvSpPr>
          <p:spPr>
            <a:xfrm>
              <a:off x="4618080" y="5639040"/>
              <a:ext cx="3346560" cy="947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Thromboxane (TXA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4574520" y="4953240"/>
              <a:ext cx="2440800" cy="520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Berlin Sans FB Demi"/>
                  <a:ea typeface="Arial"/>
                </a:rPr>
                <a:t>Prostacycli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 flipH="1">
              <a:off x="2331360" y="2209680"/>
              <a:ext cx="15238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5654880" y="304812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Cyclooxygen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655560" y="388620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Leukotrie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>
              <a:off x="4618080" y="21337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700560" y="2590920"/>
              <a:ext cx="22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Lipoxygen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Box 16"/>
          <p:cNvSpPr/>
          <p:nvPr/>
        </p:nvSpPr>
        <p:spPr>
          <a:xfrm>
            <a:off x="228600" y="228600"/>
            <a:ext cx="175248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erlin Sans FB Demi"/>
                <a:ea typeface="Arial"/>
              </a:rPr>
              <a:t>Dru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7"/>
          <p:cNvSpPr/>
          <p:nvPr/>
        </p:nvSpPr>
        <p:spPr>
          <a:xfrm>
            <a:off x="5791320" y="2438280"/>
            <a:ext cx="19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NS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8"/>
          <p:cNvSpPr/>
          <p:nvPr/>
        </p:nvSpPr>
        <p:spPr>
          <a:xfrm>
            <a:off x="395280" y="99072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Cortico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9"/>
          <p:cNvSpPr/>
          <p:nvPr/>
        </p:nvSpPr>
        <p:spPr>
          <a:xfrm>
            <a:off x="513000" y="19810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Zileu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1"/>
          <p:cNvSpPr/>
          <p:nvPr/>
        </p:nvSpPr>
        <p:spPr>
          <a:xfrm>
            <a:off x="3505320" y="1219320"/>
            <a:ext cx="855720" cy="187200"/>
          </a:xfrm>
          <a:custGeom>
            <a:avLst/>
            <a:gdLst/>
            <a:ahLst/>
            <a:rect l="l" t="t" r="r" b="b"/>
            <a:pathLst>
              <a:path w="854869" h="188118">
                <a:moveTo>
                  <a:pt x="0" y="23812"/>
                </a:moveTo>
                <a:cubicBezTo>
                  <a:pt x="266700" y="11906"/>
                  <a:pt x="533400" y="0"/>
                  <a:pt x="671512" y="23812"/>
                </a:cubicBezTo>
                <a:cubicBezTo>
                  <a:pt x="809624" y="47624"/>
                  <a:pt x="802481" y="145256"/>
                  <a:pt x="828675" y="166687"/>
                </a:cubicBezTo>
                <a:cubicBezTo>
                  <a:pt x="854869" y="188118"/>
                  <a:pt x="841772" y="170258"/>
                  <a:pt x="828675" y="152399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7"/>
          <p:cNvSpPr/>
          <p:nvPr/>
        </p:nvSpPr>
        <p:spPr>
          <a:xfrm>
            <a:off x="1943280" y="2319480"/>
            <a:ext cx="941040" cy="395280"/>
          </a:xfrm>
          <a:custGeom>
            <a:avLst/>
            <a:gdLst/>
            <a:ahLst/>
            <a:rect l="l" t="t" r="r" b="b"/>
            <a:pathLst>
              <a:path w="940594" h="395287">
                <a:moveTo>
                  <a:pt x="314325" y="9525"/>
                </a:moveTo>
                <a:cubicBezTo>
                  <a:pt x="392906" y="4762"/>
                  <a:pt x="471488" y="0"/>
                  <a:pt x="557213" y="9525"/>
                </a:cubicBezTo>
                <a:cubicBezTo>
                  <a:pt x="642938" y="19050"/>
                  <a:pt x="783431" y="14288"/>
                  <a:pt x="828675" y="66675"/>
                </a:cubicBezTo>
                <a:cubicBezTo>
                  <a:pt x="873919" y="119063"/>
                  <a:pt x="940594" y="288131"/>
                  <a:pt x="828675" y="323850"/>
                </a:cubicBezTo>
                <a:cubicBezTo>
                  <a:pt x="716756" y="359569"/>
                  <a:pt x="295276" y="269081"/>
                  <a:pt x="157163" y="280987"/>
                </a:cubicBezTo>
                <a:cubicBezTo>
                  <a:pt x="19051" y="292893"/>
                  <a:pt x="9525" y="344090"/>
                  <a:pt x="0" y="39528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8380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ions of prostaglandins  (Very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838080" y="1066680"/>
            <a:ext cx="7467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 vasodilatation of vascular smooth muscl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inhibition of platelets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ze neurons to cause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ce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 intraocula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thermoregulatory center of 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kidney to increase glomerula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parital cells of stomach to prevent gastric m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Comparison in actions  between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rostaglandi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hromboxane A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Vascular smooth muscle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952880" y="39625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otent vasoconstrictor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w Cen MT"/>
                <a:ea typeface="Arial"/>
              </a:rPr>
              <a:t>Prostaglandi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Thromboxane A</a:t>
            </a:r>
            <a:r>
              <a:rPr b="1" lang="en-US" sz="3200" spc="-1" strike="noStrike" baseline="-25000">
                <a:solidFill>
                  <a:srgbClr val="7030a0"/>
                </a:solidFill>
                <a:latin typeface="Tw Cen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200400" cy="1454040"/>
          </a:xfrm>
          <a:prstGeom prst="rect">
            <a:avLst/>
          </a:prstGeom>
          <a:ln w="0">
            <a:noFill/>
          </a:ln>
        </p:spPr>
      </p:pic>
      <p:sp>
        <p:nvSpPr>
          <p:cNvPr id="472" name="Content Placeholder 3"/>
          <p:cNvSpPr/>
          <p:nvPr/>
        </p:nvSpPr>
        <p:spPr>
          <a:xfrm>
            <a:off x="533520" y="41148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dilator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271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Blood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75248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Prostaglandins</a:t>
            </a:r>
            <a:r>
              <a:rPr b="0" lang="en-US" sz="2900" spc="-1" strike="noStrike">
                <a:solidFill>
                  <a:srgbClr val="00b0f0"/>
                </a:solidFill>
                <a:latin typeface="Berlin Sans FB Dem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erlin Sans FB Demi"/>
              </a:rPr>
              <a:t>inhibit platelet aggreg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905200" y="244440"/>
            <a:ext cx="5705280" cy="44989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228600" y="1600200"/>
            <a:ext cx="27432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TXA2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 potent inducer of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telet aggregation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2120" y="2971800"/>
            <a:ext cx="7122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Both play important role  in inflammatory reactions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Inflammation</a:t>
            </a: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3160" y="4571640"/>
            <a:ext cx="7391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romboxa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              (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bronchoconstriction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)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Bronchial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914400" cy="12034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4"/>
          <p:cNvSpPr/>
          <p:nvPr/>
        </p:nvSpPr>
        <p:spPr>
          <a:xfrm>
            <a:off x="533520" y="2666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glandins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95b22"/>
                </a:solidFill>
                <a:latin typeface="Arial"/>
              </a:rPr>
              <a:t>bronchorelaxation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ontinu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escribe the synthesis of 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6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lassify drugs that inhibit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7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umerate the pharmacological action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8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umerate the clinical uses of PGs analogs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Uterine smooth muscl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533520" y="3651480"/>
            <a:ext cx="82296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Prostaglandins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 increase uterine contractions 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→ Menstruation/ Dysmenorrhea </a:t>
            </a:r>
            <a:r>
              <a:rPr b="1" lang="ar-SA" sz="2900" spc="-1" strike="noStrike">
                <a:solidFill>
                  <a:srgbClr val="0070c0"/>
                </a:solidFill>
                <a:latin typeface="Tw Cen MT"/>
              </a:rPr>
              <a:t>آلام الطمث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/ Labor con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09120" y="2895480"/>
            <a:ext cx="71233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GIT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790800" cy="2952720"/>
          </a:xfrm>
          <a:prstGeom prst="rect">
            <a:avLst/>
          </a:prstGeom>
          <a:ln w="0">
            <a:noFill/>
          </a:ln>
        </p:spPr>
      </p:pic>
      <p:sp>
        <p:nvSpPr>
          <p:cNvPr id="492" name="TextBox 5"/>
          <p:cNvSpPr/>
          <p:nvPr/>
        </p:nvSpPr>
        <p:spPr>
          <a:xfrm>
            <a:off x="1004400" y="464832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60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mo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GIT secretion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↓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acid  secre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Mucin secre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181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46479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increase  renal bl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flow and diuresi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w Cen MT"/>
                <a:ea typeface="Arial"/>
              </a:rPr>
              <a:t>Kiden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57680" y="1752480"/>
            <a:ext cx="427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Central and peripheral nervous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4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Clinical uses of prostaglandins analo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(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ynthetic prostaglandins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8479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  <a:ea typeface="Arial"/>
              </a:rPr>
              <a:t>Carboprost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0" y="1752480"/>
            <a:ext cx="8458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uce  abortion in  first trimest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6"/>
          <p:cNvSpPr/>
          <p:nvPr/>
        </p:nvSpPr>
        <p:spPr>
          <a:xfrm>
            <a:off x="228600" y="3657600"/>
            <a:ext cx="8458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Tw Cen MT"/>
                <a:ea typeface="Arial"/>
              </a:rPr>
              <a:t>2) Treatment of postpartum haemorrhage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(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vasoconstriction +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uterine muscl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ntraction)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90800" cy="30099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00" y="22860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w Cen MT"/>
                <a:ea typeface="Arial"/>
              </a:rPr>
              <a:t>Carboprost cont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w Cen MT"/>
                <a:ea typeface="Arial"/>
              </a:rPr>
              <a:t>PGF </a:t>
            </a:r>
            <a:r>
              <a:rPr b="1" lang="en-US" sz="3600" spc="-1" strike="noStrike">
                <a:solidFill>
                  <a:srgbClr val="7030a0"/>
                </a:solidFill>
                <a:latin typeface="Tw Cen MT"/>
                <a:ea typeface="Arial"/>
              </a:rPr>
              <a:t>“less used nowadays</a:t>
            </a:r>
            <a:r>
              <a:rPr b="1" lang="en-US" sz="3600" spc="-1" strike="noStrike">
                <a:solidFill>
                  <a:srgbClr val="7030a0"/>
                </a:solidFill>
                <a:latin typeface="Tw Cen MT"/>
                <a:ea typeface="Arial"/>
              </a:rPr>
              <a:t> “ 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7656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eye drops /in treatment of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Arial"/>
              </a:rPr>
              <a:t>open angle glaucoma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ill Sans Ultra Bold"/>
                <a:ea typeface="Arial"/>
              </a:rPr>
              <a:t>(↓</a:t>
            </a:r>
            <a:r>
              <a:rPr b="1" lang="en-US" sz="2800" spc="-1" strike="noStrike">
                <a:solidFill>
                  <a:srgbClr val="002060"/>
                </a:solidFill>
                <a:latin typeface="JansonText-Roman"/>
                <a:ea typeface="Arial"/>
              </a:rPr>
              <a:t> IOP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by enhancing outflow of the aqueous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humar</a:t>
            </a:r>
            <a:r>
              <a:rPr b="0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Latanopr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743720" cy="3429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2"/>
          <p:cNvSpPr/>
          <p:nvPr/>
        </p:nvSpPr>
        <p:spPr>
          <a:xfrm rot="20152200">
            <a:off x="5128920" y="2741400"/>
            <a:ext cx="1220760" cy="209520"/>
          </a:xfrm>
          <a:prstGeom prst="rect">
            <a:avLst/>
          </a:prstGeom>
          <a:solidFill>
            <a:srgbClr val="b0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w Cen MT"/>
                <a:ea typeface="Arial"/>
              </a:rPr>
              <a:t>Misoprostol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243828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w Cen MT"/>
                <a:ea typeface="Arial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  <a:ea typeface="Arial"/>
              </a:rPr>
              <a:t>Treatment of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  <a:ea typeface="Arial"/>
              </a:rPr>
              <a:t>Peptic ulce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7" name="Picture 13" descr=""/>
          <p:cNvPicPr/>
          <p:nvPr/>
        </p:nvPicPr>
        <p:blipFill>
          <a:blip r:embed="rId1"/>
          <a:stretch/>
        </p:blipFill>
        <p:spPr>
          <a:xfrm>
            <a:off x="6400800" y="0"/>
            <a:ext cx="257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5"/>
          <p:cNvSpPr/>
          <p:nvPr/>
        </p:nvSpPr>
        <p:spPr>
          <a:xfrm>
            <a:off x="428760" y="428760"/>
            <a:ext cx="1857240" cy="100620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ista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6"/>
          <p:cNvGrpSpPr/>
          <p:nvPr/>
        </p:nvGrpSpPr>
        <p:grpSpPr>
          <a:xfrm>
            <a:off x="428760" y="1000080"/>
            <a:ext cx="2643120" cy="1447200"/>
            <a:chOff x="428760" y="1000080"/>
            <a:chExt cx="2643120" cy="1447200"/>
          </a:xfrm>
        </p:grpSpPr>
        <p:sp>
          <p:nvSpPr>
            <p:cNvPr id="365" name="TextBox 7"/>
            <p:cNvSpPr/>
            <p:nvPr/>
          </p:nvSpPr>
          <p:spPr>
            <a:xfrm>
              <a:off x="500040" y="1500120"/>
              <a:ext cx="2571840" cy="947160"/>
            </a:xfrm>
            <a:prstGeom prst="rect">
              <a:avLst/>
            </a:prstGeom>
            <a:solidFill>
              <a:srgbClr val="2e31b8"/>
            </a:solidFill>
            <a:ln w="28440">
              <a:solidFill>
                <a:srgbClr val="6600ff"/>
              </a:solidFill>
              <a:miter/>
            </a:ln>
            <a:effectLst>
              <a:outerShdw dist="50760" dir="5400000" blurRad="0" rotWithShape="0">
                <a:srgbClr val="66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nard MT Condensed"/>
                </a:rPr>
                <a:t>Neurotransmi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Down Arrow 15"/>
            <p:cNvSpPr/>
            <p:nvPr/>
          </p:nvSpPr>
          <p:spPr>
            <a:xfrm>
              <a:off x="428760" y="1000080"/>
              <a:ext cx="571320" cy="5004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0"/>
          <p:cNvSpPr/>
          <p:nvPr/>
        </p:nvSpPr>
        <p:spPr>
          <a:xfrm>
            <a:off x="457200" y="2209680"/>
            <a:ext cx="2514600" cy="13737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Allergic &amp; Inflammatory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533520" y="3962520"/>
            <a:ext cx="2438280" cy="9471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Gastric acid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w Cen MT"/>
                <a:ea typeface="Arial"/>
              </a:rPr>
              <a:t>Prostaglandin Antagonists have very important clinical uses e.g: NSADS (Aspirin; Paracetamol; Brufen).  Also, Leukotriene antagonists have an important value for treating asthma </a:t>
            </a:r>
            <a:r>
              <a:rPr b="0" lang="ar-SA" sz="3600" spc="-1" strike="noStrike">
                <a:solidFill>
                  <a:srgbClr val="003300"/>
                </a:solidFill>
                <a:latin typeface="Tw Cen MT"/>
                <a:cs typeface="Arial"/>
              </a:rPr>
              <a:t>الربو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w Cen MT"/>
                <a:ea typeface="Arial"/>
              </a:rPr>
              <a:t>Thank you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0000"/>
                </a:solidFill>
                <a:latin typeface="Tw Cen MT"/>
                <a:ea typeface="Arial"/>
              </a:rPr>
              <a:t>0505281200</a:t>
            </a:r>
            <a:r>
              <a:rPr b="0" lang="en-US" sz="60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Storage Si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Content Placeholder 3" descr=""/>
          <p:cNvPicPr/>
          <p:nvPr/>
        </p:nvPicPr>
        <p:blipFill>
          <a:blip r:embed="rId1"/>
          <a:stretch/>
        </p:blipFill>
        <p:spPr>
          <a:xfrm>
            <a:off x="615960" y="1603440"/>
            <a:ext cx="8156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Tw Cen MT"/>
                <a:ea typeface="Arial"/>
              </a:rPr>
              <a:t>Biosynthesis</a:t>
            </a:r>
            <a:r>
              <a:rPr b="1" lang="en-US" sz="48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صورة 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Inac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"/>
          <p:cNvGrpSpPr/>
          <p:nvPr/>
        </p:nvGrpSpPr>
        <p:grpSpPr>
          <a:xfrm>
            <a:off x="609480" y="1600200"/>
            <a:ext cx="6782040" cy="4191120"/>
            <a:chOff x="609480" y="1600200"/>
            <a:chExt cx="6782040" cy="4191120"/>
          </a:xfrm>
        </p:grpSpPr>
        <p:sp>
          <p:nvSpPr>
            <p:cNvPr id="376" name="Line 8"/>
            <p:cNvSpPr/>
            <p:nvPr/>
          </p:nvSpPr>
          <p:spPr>
            <a:xfrm>
              <a:off x="1534680" y="221256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7"/>
            <p:cNvSpPr/>
            <p:nvPr/>
          </p:nvSpPr>
          <p:spPr>
            <a:xfrm>
              <a:off x="1534680" y="400572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914040" y="16002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Histam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609480" y="34650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histam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(Oxidation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"/>
            <p:cNvSpPr/>
            <p:nvPr/>
          </p:nvSpPr>
          <p:spPr>
            <a:xfrm>
              <a:off x="609480" y="525456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imidazole acetic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"/>
            <p:cNvSpPr/>
            <p:nvPr/>
          </p:nvSpPr>
          <p:spPr>
            <a:xfrm>
              <a:off x="1524600" y="2514240"/>
              <a:ext cx="46267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Imidazole N-methyltransf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"/>
            <p:cNvSpPr/>
            <p:nvPr/>
          </p:nvSpPr>
          <p:spPr>
            <a:xfrm>
              <a:off x="1572120" y="4303800"/>
              <a:ext cx="25434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Diamine oxid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C:\Users\Administrator\AppData\Local\Microsoft\Windows\Temporary Internet Files\Content.IE5\26HYVZA7\ch14f4[1].jpg"/>
          <p:cNvPicPr/>
          <p:nvPr/>
        </p:nvPicPr>
        <p:blipFill>
          <a:blip r:embed="rId1"/>
          <a:srcRect l="14694" t="2003" r="3263" b="2003"/>
          <a:stretch/>
        </p:blipFill>
        <p:spPr>
          <a:xfrm>
            <a:off x="1676520" y="1447920"/>
            <a:ext cx="7180200" cy="51433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9"/>
          <p:cNvSpPr/>
          <p:nvPr/>
        </p:nvSpPr>
        <p:spPr>
          <a:xfrm>
            <a:off x="6286680" y="471492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0"/>
          <p:cNvSpPr/>
          <p:nvPr/>
        </p:nvSpPr>
        <p:spPr>
          <a:xfrm>
            <a:off x="6286680" y="42004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2666880" y="56386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4"/>
          <p:cNvGrpSpPr/>
          <p:nvPr/>
        </p:nvGrpSpPr>
        <p:grpSpPr>
          <a:xfrm>
            <a:off x="3809880" y="5638680"/>
            <a:ext cx="357480" cy="428760"/>
            <a:chOff x="3809880" y="5638680"/>
            <a:chExt cx="357480" cy="428760"/>
          </a:xfrm>
        </p:grpSpPr>
        <p:sp>
          <p:nvSpPr>
            <p:cNvPr id="388" name="Oval 30"/>
            <p:cNvSpPr/>
            <p:nvPr/>
          </p:nvSpPr>
          <p:spPr>
            <a:xfrm>
              <a:off x="3809880" y="5638680"/>
              <a:ext cx="357480" cy="42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32"/>
            <p:cNvSpPr/>
            <p:nvPr/>
          </p:nvSpPr>
          <p:spPr>
            <a:xfrm>
              <a:off x="3894840" y="5852880"/>
              <a:ext cx="214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38"/>
          <p:cNvSpPr/>
          <p:nvPr/>
        </p:nvSpPr>
        <p:spPr>
          <a:xfrm>
            <a:off x="6286680" y="522936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6643800" y="5429160"/>
            <a:ext cx="3571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0"/>
          <p:cNvSpPr/>
          <p:nvPr/>
        </p:nvSpPr>
        <p:spPr>
          <a:xfrm>
            <a:off x="6643800" y="485784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1"/>
          <p:cNvSpPr/>
          <p:nvPr/>
        </p:nvSpPr>
        <p:spPr>
          <a:xfrm>
            <a:off x="6643800" y="435780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2"/>
          <p:cNvSpPr/>
          <p:nvPr/>
        </p:nvSpPr>
        <p:spPr>
          <a:xfrm>
            <a:off x="4572000" y="4429080"/>
            <a:ext cx="785880" cy="928800"/>
          </a:xfrm>
          <a:prstGeom prst="ellipse">
            <a:avLst/>
          </a:prstGeom>
          <a:noFill/>
          <a:ln w="57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3"/>
          <p:cNvSpPr/>
          <p:nvPr/>
        </p:nvSpPr>
        <p:spPr>
          <a:xfrm>
            <a:off x="4498920" y="4357800"/>
            <a:ext cx="928800" cy="106524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8"/>
          <p:cNvGrpSpPr/>
          <p:nvPr/>
        </p:nvGrpSpPr>
        <p:grpSpPr>
          <a:xfrm>
            <a:off x="7786800" y="4071960"/>
            <a:ext cx="1143000" cy="1785960"/>
            <a:chOff x="7786800" y="4071960"/>
            <a:chExt cx="1143000" cy="1785960"/>
          </a:xfrm>
        </p:grpSpPr>
        <p:pic>
          <p:nvPicPr>
            <p:cNvPr id="397" name="Picture 2" descr="2009_1"/>
            <p:cNvPicPr/>
            <p:nvPr/>
          </p:nvPicPr>
          <p:blipFill>
            <a:blip r:embed="rId2"/>
            <a:srcRect l="4999" t="21227" r="65010" b="19812"/>
            <a:stretch/>
          </p:blipFill>
          <p:spPr>
            <a:xfrm>
              <a:off x="7786800" y="4071960"/>
              <a:ext cx="1143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Box 47"/>
            <p:cNvSpPr/>
            <p:nvPr/>
          </p:nvSpPr>
          <p:spPr>
            <a:xfrm>
              <a:off x="8143920" y="5029200"/>
              <a:ext cx="500040" cy="74556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H 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2" descr="2009_1"/>
          <p:cNvPicPr/>
          <p:nvPr/>
        </p:nvPicPr>
        <p:blipFill>
          <a:blip r:embed="rId3"/>
          <a:stretch/>
        </p:blipFill>
        <p:spPr>
          <a:xfrm>
            <a:off x="6931080" y="3286080"/>
            <a:ext cx="1353960" cy="1359000"/>
          </a:xfrm>
          <a:prstGeom prst="rect">
            <a:avLst/>
          </a:prstGeom>
          <a:ln w="0">
            <a:noFill/>
          </a:ln>
        </p:spPr>
      </p:pic>
      <p:cxnSp>
        <p:nvCxnSpPr>
          <p:cNvPr id="400" name="Straight Arrow Connector 51"/>
          <p:cNvCxnSpPr/>
          <p:nvPr/>
        </p:nvCxnSpPr>
        <p:spPr>
          <a:xfrm flipV="1">
            <a:off x="5300640" y="4885920"/>
            <a:ext cx="558000" cy="4536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01" name="Arc 53"/>
          <p:cNvSpPr/>
          <p:nvPr/>
        </p:nvSpPr>
        <p:spPr>
          <a:xfrm flipV="1">
            <a:off x="4186080" y="4929120"/>
            <a:ext cx="857520" cy="928800"/>
          </a:xfrm>
          <a:custGeom>
            <a:avLst/>
            <a:gdLst/>
            <a:ahLst/>
            <a:rect l="l" t="t" r="r" b="b"/>
            <a:pathLst>
              <a:path stroke="0" w="857250" h="928687">
                <a:moveTo>
                  <a:pt x="408849" y="494"/>
                </a:moveTo>
                <a:cubicBezTo>
                  <a:pt x="532062" y="-5671"/>
                  <a:pt x="651754" y="45966"/>
                  <a:pt x="737325" y="142202"/>
                </a:cubicBezTo>
                <a:cubicBezTo>
                  <a:pt x="814264" y="228731"/>
                  <a:pt x="857250" y="344199"/>
                  <a:pt x="857250" y="464344"/>
                </a:cubicBezTo>
                <a:lnTo>
                  <a:pt x="428625" y="464344"/>
                </a:lnTo>
                <a:lnTo>
                  <a:pt x="408849" y="494"/>
                </a:lnTo>
                <a:close/>
              </a:path>
              <a:path fill="none" w="857250" h="928687">
                <a:moveTo>
                  <a:pt x="408849" y="494"/>
                </a:moveTo>
                <a:cubicBezTo>
                  <a:pt x="532062" y="-5671"/>
                  <a:pt x="651754" y="45966"/>
                  <a:pt x="737325" y="142202"/>
                </a:cubicBezTo>
                <a:cubicBezTo>
                  <a:pt x="814264" y="228731"/>
                  <a:pt x="857250" y="344199"/>
                  <a:pt x="857250" y="464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55"/>
          <p:cNvCxnSpPr>
            <a:stCxn id="401" idx="0"/>
          </p:cNvCxnSpPr>
          <p:nvPr/>
        </p:nvCxnSpPr>
        <p:spPr>
          <a:xfrm flipH="1">
            <a:off x="4043160" y="5856840"/>
            <a:ext cx="551520" cy="108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03" name="TextBox 60"/>
          <p:cNvSpPr/>
          <p:nvPr/>
        </p:nvSpPr>
        <p:spPr>
          <a:xfrm>
            <a:off x="150012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-ve presynaptic auto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http://www.india-shopping.net/india-ayurveda-products/image/fainting.gif"/>
          <p:cNvPicPr/>
          <p:nvPr/>
        </p:nvPicPr>
        <p:blipFill>
          <a:blip r:embed="rId1"/>
          <a:stretch/>
        </p:blipFill>
        <p:spPr>
          <a:xfrm>
            <a:off x="920880" y="3780000"/>
            <a:ext cx="5479920" cy="3876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Users\Administrator\Pictures\AnAn.gif"/>
          <p:cNvPicPr/>
          <p:nvPr/>
        </p:nvPicPr>
        <p:blipFill>
          <a:blip r:embed="rId2"/>
          <a:srcRect l="1327" t="2165" r="8610" b="2707"/>
          <a:stretch/>
        </p:blipFill>
        <p:spPr>
          <a:xfrm>
            <a:off x="4038480" y="3429000"/>
            <a:ext cx="5181840" cy="335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http://t2.gstatic.com/images?q=tbn:ANd9GcRLpdVHcIw3sUPWD5jEtjyA22IgxrsXlY1ug_rFbN_U8fWErnZYB_XZ99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133720"/>
            <a:ext cx="1521000" cy="12952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533520" y="15228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ary mechanism, during allergic reactions on sensitizing [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gE anti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t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surface of mast cell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304920" y="2514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t cells are degranulated and releas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ista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leads to allerg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685800" y="3657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also has some role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ute inflam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njury it cau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sodialtion and leakage of plasma, anti bodies and inflammatory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76212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s release is modulated by binding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3 presynap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5:12Z</dcterms:created>
  <dc:creator>Cheryl Tajon</dc:creator>
  <dc:description/>
  <dc:language>en-US</dc:language>
  <cp:lastModifiedBy>Faisal</cp:lastModifiedBy>
  <dcterms:modified xsi:type="dcterms:W3CDTF">2014-10-26T16:27:37Z</dcterms:modified>
  <cp:revision>236</cp:revision>
  <dc:subject/>
  <dc:title>Nonsteroidal Antiinflammatory Drugs (NSAIDs)</dc:title>
</cp:coreProperties>
</file>