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3B6B-90B9-4CA9-B4A6-FDE517EA66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F2E2-2D39-4133-BC2F-CB2063B2AE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FE0-3CE3-41E3-973C-EBEF5177B02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2CE-94EE-4D55-B835-36061DC45A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EE35-B8EE-499E-9110-C7A91EBEBC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546-F76B-4EF6-B154-C4346BC0E0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B524-9277-4390-A929-997202DC8C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4F6E-F422-4F88-B633-22E52857C9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0C78-9717-4965-B377-F650930DCB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3D33-4FF2-4749-8854-9DBFC58AD49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0ACC-9FB3-404A-A2E4-D2CD210B1A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8F0-A0BE-412A-8367-ABD874FB26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39A1-830C-4A63-A889-293B7DDD88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778-C514-4682-8659-5E51BAB2CCC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E04-94B7-48B9-96A1-D9A8C71B64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608-172E-4B8B-8286-0FC5AC0905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0472-AA59-499B-8E4B-8D497A8513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F2AD-D20A-4755-922E-DCBFB6290A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DE29-682F-4B67-A0A5-21EC408299F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1025-009E-478F-A2DA-A79C1045FA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B327-D901-404B-8868-0AD7B9F1B7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7DDE-5846-4899-88EC-4145872076C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D55-B1E9-47C8-A103-D5F68E07781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3E9E-19C1-4399-8157-8EED98FA7E2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77C7-A95D-4B85-A9ED-9C6A8D603C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47F-5265-4E4B-B4C2-4243E9F5C8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9D7-3D13-4F29-AB65-09479F46409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417-AFB2-4E24-890A-3BBDCCCC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419-B4A4-49F6-BC6C-17EDB38B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A40-E896-4B24-B1BF-8E2D477F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9A6-1E28-46CB-B80A-EA196702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CB37-9C76-4767-AC4E-B492F054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5511-16EB-4E7E-AB06-4C1ADE21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4F18-2DBA-4A86-84F8-89D1AB7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C56-D62D-4D64-99CA-004525A9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0C23-B1B2-4E14-9879-C9F7951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DC3-2985-4A10-9214-6925EC07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3669-73A6-4BEB-BE06-F7B5D5F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64C-62DC-4FA4-866B-BADFC2A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B5E-B4F9-4246-9321-CEAF7C1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7934-A401-4263-BE75-0662209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793C-3213-49C3-8ECA-7DC3708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EA7B-BC30-4B22-94CD-6B796F40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C3E-C949-4E42-93C3-871ED859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18A-C21C-4910-8690-F28C9344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3DA-DD44-466C-B062-EB3BE8A3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C93-1A58-491A-B02C-3F64373D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871-1FF5-4003-9EDA-B5AAC573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8EB-8588-4302-9392-38273FA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C8A-BC6B-46AC-98F8-874CF79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108-87E5-4F2C-8761-13FBB710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2105-02F0-458E-89BA-286683234B9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5349-C4AC-4741-ACE4-F3317B1E80F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053"/>
          <p:cNvSpPr/>
          <p:nvPr/>
        </p:nvSpPr>
        <p:spPr>
          <a:xfrm>
            <a:off x="684360" y="517680"/>
            <a:ext cx="763272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pharmac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; drug administration and absorption, distribution and biovailbility Revision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018"/>
                </a:solidFill>
                <a:latin typeface="Arial"/>
              </a:rPr>
              <a:t>Dr.Ishfaq Bukh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50920" y="-387360"/>
            <a:ext cx="8642160" cy="777708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mach p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 pH of the gastric contents (pH 1–2) may influence. e.g, the weak base diazepa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ll be high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inized  in the gastric juice, and absorption will be s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 acid drug,  acetaminoph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ll exist mainly in its union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and can more readily diffuse from the stomach into the systemic circ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mall intest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 intestine, with its large surface area and high blood perfusion rate, has a greater capacity for absorption than the stom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s that shorten intestinal transit time (e.g., diarrhea) decrease intestinal drug absorption and vice ve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(enteric coated tabl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(hard and soft gelatin caps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1052640"/>
            <a:ext cx="2376360" cy="187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1052640"/>
            <a:ext cx="2303640" cy="180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oft-gelatin-capsules_10757794_250x250"/>
          <p:cNvPicPr/>
          <p:nvPr/>
        </p:nvPicPr>
        <p:blipFill>
          <a:blip r:embed="rId7"/>
          <a:stretch/>
        </p:blipFill>
        <p:spPr>
          <a:xfrm>
            <a:off x="457200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684360" y="5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11280" y="3284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859280" y="476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500720" y="321300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4862520"/>
                <a:gridCol w="377964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effect (Emergency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metabolis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igh bioavail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GIT destr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ood drug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riable tabl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for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irritant dru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Frequent u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6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907920"/>
          <a:ext cx="8713800" cy="5589720"/>
        </p:xfrm>
        <a:graphic>
          <a:graphicData uri="http://schemas.openxmlformats.org/drawingml/2006/table">
            <a:tbl>
              <a:tblPr/>
              <a:tblGrid>
                <a:gridCol w="5257800"/>
                <a:gridCol w="345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01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or unconsciou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n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egular absorption &amp; bioavailabil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tion of rectal mucos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9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 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907920"/>
          <a:ext cx="8713800" cy="5659560"/>
        </p:xfrm>
        <a:graphic>
          <a:graphicData uri="http://schemas.openxmlformats.org/drawingml/2006/table">
            <a:tbl>
              <a:tblPr/>
              <a:tblGrid>
                <a:gridCol w="5257800"/>
                <a:gridCol w="34560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72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n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al or ampou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eds skil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oily solutions or poorly soluble substanc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WordArt 14"/>
          <p:cNvSpPr txBox="1"/>
          <p:nvPr/>
        </p:nvSpPr>
        <p:spPr>
          <a:xfrm>
            <a:off x="1042920" y="189000"/>
            <a:ext cx="7058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travenous administ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is Pharmacology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harmak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rug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ege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o speak or discu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ly defined as the study of how  chemical agents affect living proce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 Hormones, Neurotransmitters and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pecial Ut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imit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ml – 1 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some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3-5 ml Suitable for moderate volumes, oily vehicles, and some irritating substan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(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ercutaneo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e.g. allergy test, topical antibacterial and steroids prep and  local anesthe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(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hal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,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836640"/>
          <a:ext cx="8713800" cy="5710320"/>
        </p:xfrm>
        <a:graphic>
          <a:graphicData uri="http://schemas.openxmlformats.org/drawingml/2006/table">
            <a:tbl>
              <a:tblPr/>
              <a:tblGrid>
                <a:gridCol w="5905440"/>
                <a:gridCol w="28083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595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ucous membrane o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piratory system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</a:t>
                      </a: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large surface are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inor systemic effe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volatile gases (anesthetics), aerosol, nebulizer for asth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2" name="WordArt 14"/>
          <p:cNvSpPr txBox="1"/>
          <p:nvPr/>
        </p:nvSpPr>
        <p:spPr>
          <a:xfrm>
            <a:off x="2411280" y="18900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21964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5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nebulizer"/>
          <p:cNvPicPr/>
          <p:nvPr/>
        </p:nvPicPr>
        <p:blipFill>
          <a:blip r:embed="rId3"/>
          <a:stretch/>
        </p:blipFill>
        <p:spPr>
          <a:xfrm>
            <a:off x="684360" y="3500280"/>
            <a:ext cx="4176720" cy="2881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75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medicated adhesive patch applied to skin to provide systemic effect  (prolonged drug ac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the nicotine patches (quit smok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copolam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vestibular depressant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patch"/>
          <p:cNvPicPr/>
          <p:nvPr/>
        </p:nvPicPr>
        <p:blipFill>
          <a:blip r:embed="rId1"/>
          <a:stretch/>
        </p:blipFill>
        <p:spPr>
          <a:xfrm>
            <a:off x="6084720" y="357336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its site of action through various 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transported from the site of administration into the systemic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its site of action through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membranes occurs through 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258920" y="333360"/>
            <a:ext cx="604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water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ionized or polar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aqueous channels or pores in cell membra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(nonionized or non polar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1835280" y="333360"/>
            <a:ext cx="511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or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ome Pharmacology Definitions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nd Areas of Stud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Pharmacokine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the fate of drugs once ingested. It covers , How the body absorbs, distribut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bolizes, and excretes drugs 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body does to a drug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Pharmac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the mechanisms by which drugs work ,Also study endogenous agents 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drug does to the bod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2060640"/>
            <a:ext cx="8280360" cy="4105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rs along concentration gradi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n se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sat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quires n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arrier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on lipid solu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on pka of drug - pH of me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552600" y="260280"/>
            <a:ext cx="401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exist in two forms ionized (water soluble) nonionized forms (lipid soluble) in equilibrium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Drug                         ionized form + nonionized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ly nonionized form is absorb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nionized / ionized fraction is determ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y pH and p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general basic drugs are more ionized and less diffusible in a relatively acidic medium, on the contrary basic are more lipid soluble  and more diffusible in a relatively alkaline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028"/>
          <p:cNvSpPr txBox="1"/>
          <p:nvPr/>
        </p:nvSpPr>
        <p:spPr>
          <a:xfrm>
            <a:off x="2484360" y="18900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Line 1029"/>
          <p:cNvSpPr/>
          <p:nvPr/>
        </p:nvSpPr>
        <p:spPr>
          <a:xfrm>
            <a:off x="1692360" y="234936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30"/>
          <p:cNvSpPr/>
          <p:nvPr/>
        </p:nvSpPr>
        <p:spPr>
          <a:xfrm flipH="1">
            <a:off x="1834920" y="263700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ue (pK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&lt; 6) of the acidic drug the stronger the acid e.g aspirin (Pka= 3.0 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value (pKa &gt;8) of a basic drug, th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er the base e.g propranolol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H of the med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fects ionization of dru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acid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stom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base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intest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3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arfarin            pka=5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rrange the following drugs in ascending order from least to greatest in rate of absorption in small intestine (pH=7.8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tively unus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ccurs against 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carrier and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ner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pecific/selec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atur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gar, amino acids and Iron absorp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184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ccurs along 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carr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iv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turab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o energ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 requ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Garamond"/>
              </a:rPr>
              <a:t>Recommended boo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by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4119480"/>
                <a:gridCol w="452268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1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0920" y="189000"/>
          <a:ext cx="8713800" cy="651672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3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ors modifying drug absor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34136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  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sol better than oily,susp,s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ng on particle size and dis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of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at site of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 absorbing surface (small intestine has large 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s the fraction of unchanged drug that enters systemic circulation after administration and becomes available to produce an 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.V. provides 100% bioavailabil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ral usually has less than I.V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15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79280" y="404640"/>
            <a:ext cx="8507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e lectures, students should be able to  defin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ody fluid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 of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 volume of distribution (v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 bi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s the fraction of </a:t>
            </a:r>
            <a:r>
              <a:rPr b="1" lang="en-US" sz="3400" spc="-1" strike="noStrike" u="sng">
                <a:solidFill>
                  <a:srgbClr val="3366ff"/>
                </a:solidFill>
                <a:uFillTx/>
                <a:latin typeface="Times New Roman"/>
              </a:rPr>
              <a:t>unchange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drug that enters systemic circulation after administration and becomes available to produce an action (therapeutic effec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1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ioavailability (F) =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UC  (oral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X  1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UC  (I.V.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1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642600"/>
            <a:ext cx="8642160" cy="5954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provides 100% bioavailability i.e. F= 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, intramuscular, oral, rectal, and other extra vascular routes of administration require that the drug be absorbed first, which can reduce bioavailabil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0" t="11363" r="0" b="568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outes of drug administration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solute 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9680" y="1285920"/>
            <a:ext cx="81867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oavailability of a drug after administration by any route is compared to its intravenous standard for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ve 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142640"/>
            <a:ext cx="8715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s determined when two products are compared to each other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not to an intravenous standard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commonly calculated in the drug industry to determine that the generic formulation is bioequivalent to another for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yle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 compar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anad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ve bioavailability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to get  an idea of how different formulations or routes of administration differ in their bioavailabilit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adjustment is required when changing formulations or routes of administr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equivalence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85480" y="107136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drug products are considered to be 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ioequivalent 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ates and extents of bioavailability of the two products are not significantly different under suitable test condi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te and extent mean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drugs and the time required reaching the systemic circul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bioavailabilit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99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same factors controlling drug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68360" y="1773360"/>
            <a:ext cx="8291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  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sol better than oily,susp,s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ng on particle size and dis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of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at site of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 absorbing surface (small intestine has large 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1908000" y="2781360"/>
            <a:ext cx="575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drugs leave blood circulation and enters the interstitium and/or the cells of the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2894040" y="333360"/>
            <a:ext cx="33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14200" y="260280"/>
            <a:ext cx="8701200" cy="6292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tal body flu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70% of body weight in 70-kg individu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(4 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fluids (10 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volume ( 28 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2666880" y="23623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2643120" y="428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2643120" y="3357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28760" y="1905120"/>
            <a:ext cx="2162160" cy="32004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6327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arent Volume of Distribution (Vd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4200" y="1052640"/>
            <a:ext cx="8678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atio of drug amount in the body to the concentration of drug in bloo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se  of the drug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m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in bloo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/L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 = mean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tes of drug administ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561080" cy="50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Cardiac output and blood f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hysiochemical properties of the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pillary Perme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lasma protein bi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od flow to organs 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r the blood flow to tissues, the more distribution that occurs from plasma to interstitial flui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distribute more rapidly to brain, liver and kidney &gt; more than skeletal muscles &amp; f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ochemical propert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840" y="14810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pid soluble drugs cross biological membr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do not readily cross membranes but go through slit j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Volume of Distribution (Vd)</a:t>
            </a:r>
            <a:br>
              <a:rPr sz="36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686800" cy="518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 fontScale="86000"/>
          </a:bodyPr>
          <a:p>
            <a:pPr marL="530640" indent="0">
              <a:spcBef>
                <a:spcPts val="7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640" indent="0">
              <a:spcBef>
                <a:spcPts val="751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ugs with high V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ve higher concentrations in tissues than in pla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molcular weight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tivel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ipid solub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intracell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 efficiently removed by haemodialysi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.g. phenytion, morphine, 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33"/>
                </a:solidFill>
                <a:latin typeface="Garamond"/>
              </a:rPr>
              <a:t>V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olume of Distribution (Vd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575560" cy="545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rugs with low   Vd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ned to plasma &amp; interstitial flu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 in   extracellular compart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ar comp or lipid insoluble drugs. e.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Carbenicillin,  vecuronium, gentamyc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gh MW  e.g. heparin – insul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plasma protein binding e.g. warfar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cross  BBB or   placental  barri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lood brain barrier (BBB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lipid soluble drugs or actively transported drugs can cross B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(ionized or polar drugs) can not cross B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  as in meningitis increase permeability to hydrophil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 penicillin &amp; gentamy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cental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can cross placental barrier and enter the fetal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44360" y="100080"/>
            <a:ext cx="903600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roteins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bum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id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arfarin, phenytoin, 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765000"/>
          <a:ext cx="8642160" cy="583272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t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6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as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f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Destruction by pH and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low bioavailability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can bind to plasma proteins (acidic drug bind to albumin while basic drugs bind to glycoprote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ist in two forms bound and unbound forms i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H="1">
            <a:off x="4284720" y="5084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 flipH="1">
            <a:off x="4211640" y="486900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Tissues Bin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750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can bind to specific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 bind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o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des accumulate 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ivary &amp; thyroid gl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920" y="404640"/>
            <a:ext cx="428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ffusi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ombin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available for metabolism &amp; excre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 long dura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4214880" y="357120"/>
            <a:ext cx="47862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usi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ailable for metabolism &amp;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 short duration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ding of drugs and its effect on drug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rever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volume of distribution (v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s drug metabolism &amp;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s duration of drug action (t1/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in clinically important drug inte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HARMACOKINETIC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:It is the study of what the body does to the drug i.e AD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d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Pharmacodynamic is what the drug does to ou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ors affecting absorption from GI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motility changed by drug /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/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ju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of GIT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/drug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 of a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drug is absorbed with in 1-3 hours,mostly it occurs in small intestine ,rate of absorption depends on lipid solubility ,ionization and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First pass Metabolism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362800" cy="5689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tabolism of drug in the gut wall or portal circulation before reaching systemic circ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 the amount reaching system circulation is less than the amount absor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he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ut 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ut Lu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sult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w bioavail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ort duration of action of drugs (t ½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Ishfaq</cp:lastModifiedBy>
  <dcterms:modified xsi:type="dcterms:W3CDTF">2014-10-13T08:45:40Z</dcterms:modified>
  <cp:revision>453</cp:revision>
  <dc:subject/>
  <dc:title> GENERAL PHARMACOLOGY</dc:title>
</cp:coreProperties>
</file>