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D6AD-1205-4DB8-97E9-FB5330C2482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9DF6-2242-470B-939D-561D48D4951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2BF-F0B3-4F75-A7A8-BDD64556EA7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FFBC-1525-4B86-A6E7-AFE9D6AAF78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CA50-5B28-43A5-9D8A-AAD25EEE13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F47-849A-418C-A37B-2D381E763C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D2FB-9EF1-4EC0-883A-3EB172BAA98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F57-A217-4C0D-8AB4-13FBBB74EB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0929-70CE-44D1-8BE1-58668C71A61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7F82-4DB3-47F1-8696-105069C01E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6E1A-3112-4075-B37D-A5DF84D3E0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571-8423-4DB3-8372-B21F4B9FBB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AD0E-43F9-4E8D-BD9B-8D7A087D3FC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1012-0505-46F8-88D6-742C4E896E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179-9094-4C21-BBF5-22EE74A193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50E-9203-412C-A7B3-9867DEF2B6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DDA-C8C1-419A-B377-776679FE9FF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73D6-1EAB-424A-B6EF-7F4C37998F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7777-1CAD-4B4E-A658-2CE6BC884E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669-F393-4A37-A0BD-0A59758920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19E-AD07-46CD-A77A-0DB97850453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FF84-D61E-4A5B-A7FE-734C27FBC8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B186-844D-4280-A79F-1BC0D7C1A2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CD47-908C-4C5E-B1EE-E6571D03B36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90BF-DF7B-488A-B968-B90E8E31E01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91E0-9616-4E1C-8E5D-5FE61A73D02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5914-BA53-4AB3-92BE-00FEA52285F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94B-47EA-42F6-B07B-E60FDAD9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6CA-1F0D-491E-9A12-DCD72B2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417-13D6-45DB-B794-60F568AD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1ED-27D2-4B55-93D3-5D2AD1B9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C76B-242A-4879-BE13-20826688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9250-9D11-433C-A8FC-7326E642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8CEB-25F8-4F11-A4D7-41FBA9AF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DD37-7C90-4188-8317-F54CD985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779-3A64-4E8F-AC2D-EC93ECC6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A504-AAF9-42ED-8D36-86234B2E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1C39-CCE8-4865-B307-7A46183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2E2-2F1C-4394-BF6E-38A3AF0C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475E-1728-493B-9424-CB738352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5172-D19B-4FF3-8C52-059060E1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0D50-03F8-48D0-9F55-AF5A2F67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3B96-1F40-4BD3-BAC2-BA52EA1F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4E89-57F6-45E4-A047-DAFEC7DB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9D0-749E-449D-B43F-7F296037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006-7C0A-4AB5-9CE0-346ADD7D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E55-5928-433A-B1B2-DA3EB659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D4C-8E21-4168-9983-9DF14161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22E-99D0-4E37-B670-24380DA9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653-DAA4-4B0E-B109-B6067D7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AAE-3158-4139-B8C1-CE44A45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154-A529-404A-9872-949AD3E0C25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F4BA-00E4-41E8-8DC9-4667CDE4A6D4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053"/>
          <p:cNvSpPr/>
          <p:nvPr/>
        </p:nvSpPr>
        <p:spPr>
          <a:xfrm>
            <a:off x="684360" y="517680"/>
            <a:ext cx="7632720" cy="68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pharmac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; drug administration and absorption, distribution and biovailbility Revision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018"/>
                </a:solidFill>
                <a:latin typeface="Arial"/>
              </a:rPr>
              <a:t>Dr.Ishfaq Bukh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250920" y="-387360"/>
            <a:ext cx="8642160" cy="777708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mach 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 pH of the gastric contents (pH 1–2) may influence. e.g, the weak base diazepa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ll be highl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oninized  in the gastric juice, and absorption will be s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ak acid drug,  acetaminophe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ill exist mainly in its union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 and can more readily diffuse from the stomach into the systemic circ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mall intest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mall intestine, with its large surface area and high blood perfusion rate, has a greater capacity for absorption than the stom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ditions that shorten intestinal transit time (e.g., diarrhea) decrease intestinal drug absorption and vice ver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3628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(enteric coated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(hard and soft gelatin caps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ul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1052640"/>
            <a:ext cx="2376360" cy="187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59280" y="1052640"/>
            <a:ext cx="2303640" cy="1800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soft-gelatin-capsules_10757794_250x250"/>
          <p:cNvPicPr/>
          <p:nvPr/>
        </p:nvPicPr>
        <p:blipFill>
          <a:blip r:embed="rId7"/>
          <a:stretch/>
        </p:blipFill>
        <p:spPr>
          <a:xfrm>
            <a:off x="457200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684360" y="54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611280" y="3284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859280" y="476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4500720" y="321300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4862520"/>
                <a:gridCol w="377964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effect (Emergency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metabolis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High bioavailabil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GIT destr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ood drug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e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riable table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for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irritant dr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Frequent us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907920"/>
          <a:ext cx="8713800" cy="5589720"/>
        </p:xfrm>
        <a:graphic>
          <a:graphicData uri="http://schemas.openxmlformats.org/drawingml/2006/table">
            <a:tbl>
              <a:tblPr/>
              <a:tblGrid>
                <a:gridCol w="5257800"/>
                <a:gridCol w="345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01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or unconsciou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tien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%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egular absorption &amp; bioavailability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tion of rectal mucosa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29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IAGRAM 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907920"/>
          <a:ext cx="8713800" cy="5659560"/>
        </p:xfrm>
        <a:graphic>
          <a:graphicData uri="http://schemas.openxmlformats.org/drawingml/2006/table">
            <a:tbl>
              <a:tblPr/>
              <a:tblGrid>
                <a:gridCol w="5257800"/>
                <a:gridCol w="34560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72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nes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ial or ampou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eds skil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or oily solutions or poorly soluble substanc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35" name="WordArt 14"/>
          <p:cNvSpPr txBox="1"/>
          <p:nvPr/>
        </p:nvSpPr>
        <p:spPr>
          <a:xfrm>
            <a:off x="1042920" y="189000"/>
            <a:ext cx="70581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travenous administr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is Pharmacology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armak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rug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ege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o speak or discu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ly defined as the study of how  chemical agents affect living proce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 Hormones, Neurotransmitters and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pecial Ut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imitation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ml – 1 m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some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3-5 ml Suitable for moderate volumes, oily vehicles, and some irritating substanc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ercutaneou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e.g. allergy test, topical antibacterial and steroids prep and  local anesthe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nhal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 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,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836640"/>
          <a:ext cx="8713800" cy="5710320"/>
        </p:xfrm>
        <a:graphic>
          <a:graphicData uri="http://schemas.openxmlformats.org/drawingml/2006/table">
            <a:tbl>
              <a:tblPr/>
              <a:tblGrid>
                <a:gridCol w="5905440"/>
                <a:gridCol w="28083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595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ucous membrane o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piratory system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   </a:t>
                      </a: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large surface area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inor systemic effe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buClr>
                          <a:srgbClr val="ffff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volatile gases (anesthetics), aerosol, nebulizer for asth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42" name="WordArt 14"/>
          <p:cNvSpPr txBox="1"/>
          <p:nvPr/>
        </p:nvSpPr>
        <p:spPr>
          <a:xfrm>
            <a:off x="2411280" y="18900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21964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45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nebulizer"/>
          <p:cNvPicPr/>
          <p:nvPr/>
        </p:nvPicPr>
        <p:blipFill>
          <a:blip r:embed="rId3"/>
          <a:stretch/>
        </p:blipFill>
        <p:spPr>
          <a:xfrm>
            <a:off x="684360" y="350028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075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medicated adhesive patch applied to skin to provide systemic effect  (prolonged drug a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the nicotine patches (quit smok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copolam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vestibular depressant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patch"/>
          <p:cNvPicPr/>
          <p:nvPr/>
        </p:nvPicPr>
        <p:blipFill>
          <a:blip r:embed="rId1"/>
          <a:stretch/>
        </p:blipFill>
        <p:spPr>
          <a:xfrm>
            <a:off x="6084720" y="357336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various 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21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transported from the site of administration into the systemic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membranes occurs through 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51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258920" y="333360"/>
            <a:ext cx="604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aqueous channels or pores in cell membra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nonionized or non polar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ome Pharmacology Definitions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nd Areas of Stud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Pharmacokine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fate of drugs once ingested. It covers , How the body absorbs, distribute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abolizes, and excretes drugs 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Pharmacodynam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y the mechanisms by which drugs work ,Also study endogenous agents 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206064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s along concentration grad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n sel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sat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quires n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carrier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on lipid solu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on pka of drug - pH of medi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exist in two forms ionized (water soluble) nonionized forms (lipid soluble) in equilibrium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Drug                         ionized form + nonionized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Only nonionized form is absorba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2232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onionized / ionized fraction is determ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y pH and p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general basic drugs are more ionized and less diffusible in a relatively acidic medium, on the contrary basic are more lipid soluble  and more diffusible in a relatively alkalin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Line 1029"/>
          <p:cNvSpPr/>
          <p:nvPr/>
        </p:nvSpPr>
        <p:spPr>
          <a:xfrm>
            <a:off x="1692360" y="234936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30"/>
          <p:cNvSpPr/>
          <p:nvPr/>
        </p:nvSpPr>
        <p:spPr>
          <a:xfrm flipH="1">
            <a:off x="1834920" y="263700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lue (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&lt; 6) of the acidic drug the stronger the acid e.g aspirin (Pka= 3.0 )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value (pKa &gt;8) of a basic drug, th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er the base e.g propranolol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fects ionization of dru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stomac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e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intest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3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ccurs against 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carrier and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nergy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pecific/selecti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atur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gar, amino acids and Iron absorp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184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ccurs along 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quires carr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lectiv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turab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No energ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 requi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Recommended boo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Arial"/>
              </a:rPr>
              <a:t> by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4119480"/>
                <a:gridCol w="45226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193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modifying drug absor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8360" y="1341360"/>
            <a:ext cx="8291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unchanged drug that enters systemic circulation after administration and becomes available to produce an 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.V. provides 100% bioavailabil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Oral usually has less than I.V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</a:t>
            </a:r>
            <a:r>
              <a:rPr b="1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an action (therapeutic effect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15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outes of drug administratio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solute 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9680" y="1285920"/>
            <a:ext cx="81867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ve bioavailabili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not to an intravenous standar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ve bioavailability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different formulations or routes of administration differ in their bioavailability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oequivalence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85480" y="107136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rug products are considered to be 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ioequivalent 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s and extents of bioavailability of the two products are not significantly different under suitable test condi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te and extent mean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drugs and the time required reaching the systemic circula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9966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68360" y="1773360"/>
            <a:ext cx="8291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0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tal body flu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70% of body weight in 70-kg individu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(4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fluids (10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2 Li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4240" y="285840"/>
            <a:ext cx="763272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arent Volume of Distribution (Vd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4200" y="1052640"/>
            <a:ext cx="8678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to the concentration of drug in bloo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se  of the drug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in bloo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1740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tes of drug administ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7561080" cy="50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hysiochemical properties of the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flow to organs 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the blood flow to tissues, the more 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brain, liver and kidney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ochemical propertie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cross biologica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do not readily cross membranes but go through slit j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Volume of Distribution (Vd)</a:t>
            </a:r>
            <a:br>
              <a:rPr sz="36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686800" cy="5184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 fontScale="86000"/>
          </a:bodyPr>
          <a:p>
            <a:pPr marL="530640" indent="0">
              <a:spcBef>
                <a:spcPts val="7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640" indent="0">
              <a:spcBef>
                <a:spcPts val="751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rugs with high Vd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Have higher concentrations in tissues than in plas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ow molcular weight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vely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lipid solu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intracell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 efficiently removed by haemodialysi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0640" indent="-3736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.g. phenytion, morphine, 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33"/>
                </a:solidFill>
                <a:latin typeface="Garamond"/>
              </a:rPr>
              <a:t>V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olume of Distribution (Vd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Drugs with low   Vd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ned to plasma &amp; interstitial flu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 in   extracellular compart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lar comp or lipid insoluble drugs. e.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Carbenicillin,  vecuronium, gentamyci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gh MW  e.g. heparin – insul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lasma protein binding e.g. warfar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7400" indent="-434880">
              <a:lnSpc>
                <a:spcPct val="12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cross  BBB or   placental  barri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meningitis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765000"/>
          <a:ext cx="8642160" cy="583272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vantag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62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as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f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Destruction by pH and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low bioavailability)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649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can bind to plasma proteins (acidic drug bind to albumin while basic drugs bind to glyco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H="1">
            <a:off x="4284720" y="5084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H="1">
            <a:off x="4211640" y="486900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Tissues Binding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can bind to specific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des accumulate 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ivary &amp; thyroid gl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42920" y="404640"/>
            <a:ext cx="428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4214880" y="357120"/>
            <a:ext cx="47862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cc99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ding of drugs and its effect on drug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HARMACOKINETICS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:It is the study of what the body does to the drug i.e AD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dru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Pharmacodynamic is what the drug does to our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actors affecting absorption from GI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changed by drug /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/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ju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of GIT fl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/drug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 of a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drug is absorbed with in 1-3 hours,mostly it occurs in small intestine ,rate of absorption depends on lipid solubility ,ionization and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imes New Roman"/>
              </a:rPr>
              <a:t>First pass Metabolism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362800" cy="5689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tabolism of drug in the gut wall or portal circulation before reaching systemic circ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o the amount reaching system circulation is less than the amount absorb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Whe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t  w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ut Lu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Result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w bioavailabil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hort duration of action of drugs (t ½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4-10-13T08:45:40Z</dcterms:modified>
  <cp:revision>453</cp:revision>
  <dc:subject/>
  <dc:title> GENERAL PHARMACOLOGY</dc:title>
</cp:coreProperties>
</file>