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794-56B7-4A74-AD18-4DE21AB3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E63-AFD0-4F24-BB25-94263A67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112-5384-428E-A381-30E2FF59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7F5-8788-4274-B6E8-F6A202D3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147-AB77-4076-932F-F9AAB653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6F5-0BF6-47B2-8A60-1C3A3FD5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006-250E-4082-B21B-771FACD8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29E-0697-48B1-A13D-BC73C811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1AC-7431-4D94-936F-D6FE636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D94-DFFD-4850-A676-663EF0FA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AA8-D8F4-4003-AEFB-D5BE1147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1F3-EAB6-4091-873E-8C660DCF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7CCC-739D-4967-B9FF-86CF7D0A5872}" type="slidenum">
              <a:rPr b="0" lang="ar-SA" sz="18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ohammed Alzoghaibi, Ph.D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alzoghaibi@ksu.edu.sa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zzoghaibi@gmail.com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0506338400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1224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2193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Operates continuously to modulate the functions of many organ systems e.g; heart, blood vessels, gastrointestinal tract, bronchi and sweat gland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tressful stimulation activates SNS leads to a response known as “fight or flight”: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increased arterial pressure, blood flow, blood glucose, metabolic rate and mental activity 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1224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680" y="14479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ympathetic preganglionic neurons originate from thoracolumbar spinal cord (T1-L3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NS ganglia are located near the spinal cord either in the paravertebral ganglia (sympathetic chain) or in the prevertebral ganglia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eganglionic neurons are short and the post ganglionic neurons are long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03" name="Picture 3" descr="showimage.jpg"/>
          <p:cNvPicPr/>
          <p:nvPr/>
        </p:nvPicPr>
        <p:blipFill>
          <a:blip r:embed="rId1"/>
          <a:stretch/>
        </p:blipFill>
        <p:spPr>
          <a:xfrm>
            <a:off x="2286000" y="914400"/>
            <a:ext cx="45356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ysioMZ 006"/>
          <p:cNvPicPr/>
          <p:nvPr/>
        </p:nvPicPr>
        <p:blipFill>
          <a:blip r:embed="rId1"/>
          <a:srcRect l="72" t="88" r="0" b="3089"/>
          <a:stretch/>
        </p:blipFill>
        <p:spPr>
          <a:xfrm>
            <a:off x="76320" y="1141560"/>
            <a:ext cx="8991360" cy="5564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eganglionic neurons are always cholinerg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elease Ach, interacts with nicotinic receptors on the cell body of postganglionic neuro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stganglionic neurons are adrenergic except in thermoregulatory sweat glands (muscranic, cholinergic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drenergic neurons affect adrenorecepters: alph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, alph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, bet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, bet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eganglionic fibers originate from cranial nuclei in brain stem (mid brain, pons, medulla) and in sacral segments (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) (Craniosacral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arasympathetic ganglia are located on or in the affected orga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eganglionic neuron has long axon and postganglionic neuron has short ax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12" name="Picture 3" descr="showimage.jpg"/>
          <p:cNvPicPr/>
          <p:nvPr/>
        </p:nvPicPr>
        <p:blipFill>
          <a:blip r:embed="rId1"/>
          <a:stretch/>
        </p:blipFill>
        <p:spPr>
          <a:xfrm>
            <a:off x="2209680" y="609480"/>
            <a:ext cx="473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ll preganglionic neurons are cholinergic, release Ach which interacts with nicotinic receptor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stganglionic neurons are cholinergic, release Ach which interacts with muscrinic receptor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OMATIC AND 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motor efferent nervous system has two component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omatic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Autonom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omatic Nervous System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 voluntary nervous system under conscious contro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onsists of a single motoneuron and  skeletal muscle fibers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1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16" name="Picture 3" descr="showimage.jpg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81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holinorecptor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6080" y="-763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1680" y="9140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: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ound in vascular smooth muscle, GI sphincters and bladder, radial muscle of iri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ctivation of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 contraction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l-GR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: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s found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n the following tissue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.A node          heart rate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V node           conduction velocity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Ventricular muscle        contractility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alivary gland        salivary secretions, 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(but  enzymes production)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s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ound in vascular smooth muscle wall of bladder, and wall of GI. 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ctivation of </a:t>
            </a:r>
            <a:r>
              <a:rPr b="0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  relaxation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more sensitive to Epinephrine than Nor-epinephrine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3048120" y="20574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3581280" y="182844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 flipV="1">
            <a:off x="2743200" y="32767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2133720" y="34290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 flipV="1">
            <a:off x="2819520" y="28195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27"/>
          <p:cNvSpPr/>
          <p:nvPr/>
        </p:nvSpPr>
        <p:spPr>
          <a:xfrm flipV="1">
            <a:off x="3276720" y="42667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2743200" y="44197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3962520" y="37339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3048120" y="609588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 receptor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33" name="Picture 3" descr="showimage.jpg"/>
          <p:cNvPicPr/>
          <p:nvPr/>
        </p:nvPicPr>
        <p:blipFill>
          <a:blip r:embed="rId1"/>
          <a:stretch/>
        </p:blipFill>
        <p:spPr>
          <a:xfrm>
            <a:off x="838080" y="861840"/>
            <a:ext cx="751860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Garamond"/>
              </a:rPr>
              <a:t>β</a:t>
            </a:r>
            <a:r>
              <a:rPr b="1" lang="el-GR" sz="36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1" lang="el-GR" sz="4000" spc="-1" strike="noStrike">
                <a:solidFill>
                  <a:srgbClr val="ff0000"/>
                </a:solidFill>
                <a:latin typeface="Garamond"/>
              </a:rPr>
              <a:t>β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35" name="Picture 3" descr="showimage.jpg"/>
          <p:cNvPicPr/>
          <p:nvPr/>
        </p:nvPicPr>
        <p:blipFill>
          <a:blip r:embed="rId1"/>
          <a:stretch/>
        </p:blipFill>
        <p:spPr>
          <a:xfrm>
            <a:off x="838080" y="1066680"/>
            <a:ext cx="762948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holinorecepte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12189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Nicotinic receptor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an ion channel for Na+ and K+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in all postganglionic neurons, motor end plate at skeletal muscle and chromaffin cell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uscurinic Recepto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Works either like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adrenoreceptor via PKC, DAC and IP3 or via G protein which has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subunit that binds K+ channel and open i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hysioMZ 007"/>
          <p:cNvPicPr/>
          <p:nvPr/>
        </p:nvPicPr>
        <p:blipFill>
          <a:blip r:embed="rId1"/>
          <a:srcRect l="0" t="0" r="0" b="1972"/>
          <a:stretch/>
        </p:blipFill>
        <p:spPr>
          <a:xfrm>
            <a:off x="76320" y="1330200"/>
            <a:ext cx="8915400" cy="4613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holinorecepte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ceptor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(in summary)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type of receptor and its mechanism of action determine the physiologic respons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.g. </a:t>
            </a:r>
            <a:r>
              <a:rPr b="0" lang="el-GR" sz="32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receptor in SA node and in ventricular muscle: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A node: activation of SA node by the agonist (nor-epinephrine)           heart rate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ventricular muscles          contractility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5943600" y="46483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343400" y="541008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4952880" y="525744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totypes of Agonists and Antagonists to Autonomic Receptors</a:t>
            </a:r>
            <a:endParaRPr b="1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1066680"/>
          <a:ext cx="8839440" cy="56786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gonis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tagonis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drenoreceptor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r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enoxybenz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enyl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azosi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lonid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ohimb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r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pran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oproteren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Metopr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Epinephrine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pran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oproteren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tox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Albuter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holinoreceptor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icotinic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rar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Nicotin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Carbachol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xamethonium (blocks ganglionic receptor but not neuromuscular junction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scarinic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trop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sca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Carbachol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1" descr="View drug information"/>
          <p:cNvPicPr/>
          <p:nvPr/>
        </p:nvPicPr>
        <p:blipFill>
          <a:blip r:embed="rId1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View drug information"/>
          <p:cNvPicPr/>
          <p:nvPr/>
        </p:nvPicPr>
        <p:blipFill>
          <a:blip r:embed="rId2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View drug information"/>
          <p:cNvPicPr/>
          <p:nvPr/>
        </p:nvPicPr>
        <p:blipFill>
          <a:blip r:embed="rId3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View drug information"/>
          <p:cNvPicPr/>
          <p:nvPr/>
        </p:nvPicPr>
        <p:blipFill>
          <a:blip r:embed="rId4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and Parasympathetic Tone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role of them is to keep the stimulated organs in normal stag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xamples: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ympathetic always keeps the blood vessel constricted ½ of its normal diameter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emoval of vagus nerve       atony        loss of peristalsis        constipation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505320" y="55627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5029200" y="51055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6781680" y="510552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6" descr="physioMZ 005"/>
          <p:cNvPicPr/>
          <p:nvPr/>
        </p:nvPicPr>
        <p:blipFill>
          <a:blip r:embed="rId1"/>
          <a:stretch/>
        </p:blipFill>
        <p:spPr>
          <a:xfrm>
            <a:off x="152280" y="457200"/>
            <a:ext cx="8915400" cy="56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808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 of loss of sympathetic and parasympathetic tone after denervation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1680" y="2663640"/>
            <a:ext cx="8540640" cy="29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oss of sympathetic tone in blood vessel causes severe vasodilatation but after sometime, intrinsic tone increases by chemical adaptati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Function of Adrenal Gland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timulation of sympathetic nerves causes large quantities of Epinephrine and Nor-epinephrine to be secreted in blood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effect of Epinephrine &amp; Nor-epinephrine lasts 5-10 times more than the ones which secreted from sympathet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xamples of The Effects of Sympathetic and Parasympathetic 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Eyes: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ympathetic stimulation contracts the meridional fibers of the iris to </a:t>
            </a: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dilate the pupil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arasympathetic stimulation contracts the circular muscle of the iris to </a:t>
            </a: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constrict the pupil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ocusing of the lens is controlled by parasympathetic through contraction of ciliary muscle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4" name="AutoShape 1037"/>
          <p:cNvSpPr/>
          <p:nvPr/>
        </p:nvSpPr>
        <p:spPr>
          <a:xfrm>
            <a:off x="155520" y="46080"/>
            <a:ext cx="514368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5" name="Picture 6" descr="Picture1.jpg"/>
          <p:cNvPicPr/>
          <p:nvPr/>
        </p:nvPicPr>
        <p:blipFill>
          <a:blip r:embed="rId1"/>
          <a:stretch/>
        </p:blipFill>
        <p:spPr>
          <a:xfrm>
            <a:off x="3070080" y="2892600"/>
            <a:ext cx="589608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Pupil Dilation and Constriction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67" name="Picture 5" descr="Picture3.jpg"/>
          <p:cNvPicPr/>
          <p:nvPr/>
        </p:nvPicPr>
        <p:blipFill>
          <a:blip r:embed="rId1"/>
          <a:stretch/>
        </p:blipFill>
        <p:spPr>
          <a:xfrm>
            <a:off x="217440" y="2432160"/>
            <a:ext cx="870912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8284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Gland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Controlled by parasympathetic       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ir secretio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ympathetic causes vasoconstriction      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ir rate of secreti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weat glands secretion:  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increased by sympathetic stimulatio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066680" y="42663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V="1">
            <a:off x="1066680" y="30481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934320" y="3809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75" name="Picture 4" descr="fig6-1"/>
          <p:cNvPicPr/>
          <p:nvPr/>
        </p:nvPicPr>
        <p:blipFill>
          <a:blip r:embed="rId1"/>
          <a:stretch/>
        </p:blipFill>
        <p:spPr>
          <a:xfrm>
            <a:off x="2362320" y="4419720"/>
            <a:ext cx="4370400" cy="2149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spcBef>
                <a:spcPts val="6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The Gastrointestinal tract (GI)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- Enteric nervous system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- Parasympathetic nervous system     the activity of GI tract (    peristaltic contraction, sphincter relaxation)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- Sympathetic           the activity of GI.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2895480" y="38091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 flipV="1">
            <a:off x="4952880" y="28195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286000" y="396252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1371600" y="32767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1904760"/>
            <a:ext cx="8763120" cy="44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Heart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ympathetic stimulation         activity of the heart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Parasympathetic stimulation doing the opposite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stemic Blood Vessel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Constricted by stimulation of sympathetic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No effect of the parasympathetic except in certain areas, such as blushing of the face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4800600" y="2666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5334120" y="243792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2282760"/>
            <a:ext cx="9144000" cy="442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rterial Pressure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ympathetic stimulation         the cardiac out- put and   resistance to the blood flow and blood pressure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Parasympathetic         cardiac out put and has no effect on blood vessels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200400" y="464832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809880" y="44197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V="1">
            <a:off x="1143000" y="335232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5181480" y="289512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4572000" y="31240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flexe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1680" y="12193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Most of the visceral functions of the body are regulated by autonomic reflexe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ardiovascular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- baroreceptor reflex: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t is stretch reflex in the main arteries such as carotid artery to detect the blood pressure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Gastrointestine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The receptors in the nose and mouth send a signal to parasympathetic to notify the glands of mouth &amp; stomach to secrete the digestive juice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Urinary Bladder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- Initiate the micturation by parasympathetic innervation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exual reflexe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- erection by parasympathetic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- ejaculation by sympathetic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Picture1.jpg"/>
          <p:cNvPicPr/>
          <p:nvPr/>
        </p:nvPicPr>
        <p:blipFill>
          <a:blip r:embed="rId1"/>
          <a:stretch/>
        </p:blipFill>
        <p:spPr>
          <a:xfrm>
            <a:off x="676440" y="1030320"/>
            <a:ext cx="7791120" cy="567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omatic Nervous System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rinary Bladder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95" name="Picture 3" descr="showimage.jpg"/>
          <p:cNvPicPr/>
          <p:nvPr/>
        </p:nvPicPr>
        <p:blipFill>
          <a:blip r:embed="rId1"/>
          <a:stretch/>
        </p:blipFill>
        <p:spPr>
          <a:xfrm>
            <a:off x="380880" y="1585800"/>
            <a:ext cx="83822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flexe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1680" y="1142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mpathetic activation could occur in isolated portions such as: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heart regula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many sympathetic reflexes that regulate G.I. function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he parasympathetic usually causes specific localized response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The effect of parasympathetic usually specifies to certain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rgan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ut sometimes there is a common effect of parasympathetic activity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by affecting the functions of some organs together such as rectal emptying and bladder emptying, salivary secretion and gastric secretion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00"/>
                </a:solidFill>
                <a:latin typeface="Garamond"/>
              </a:rPr>
              <a:t>The End</a:t>
            </a:r>
            <a:endParaRPr b="1" lang="en-US" sz="13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 involuntary nervous system that modulates and controls the function of visceral organ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utonomic nervous system (ANS) consists of two major division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ympath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arasympathetic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S is activated by centers in spinal cord, brain stem and hypothalamu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S is operated by visceral reflex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88" name="Content Placeholder 5" descr="showimage.jpg"/>
          <p:cNvPicPr/>
          <p:nvPr/>
        </p:nvPicPr>
        <p:blipFill>
          <a:blip r:embed="rId1"/>
          <a:stretch/>
        </p:blipFill>
        <p:spPr>
          <a:xfrm>
            <a:off x="5029200" y="2112840"/>
            <a:ext cx="380988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-302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 (A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rganization of autonomic nervous system  motor pathway consists of two neuron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Preganglionic neur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Postganglionic neur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 (A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ll preganglionic neurons release Acetylcholine (Ach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st ganglionic neurons release either Ach, or norepinepherin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ympathetic and parasympathetic are anatomic terms and refer to anatomic origin of preganglionic neurons in the centeral nervous system (CNS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drenergic and Cholinergic terms are used to describe neurons of either division, according to which neurotransmitter they synthesize and releas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drenergic neurons release nor-epinephrine and the receptor is adrenoreceptor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holinergic neurons release Ach and the receptor is cholinergic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6:14:50Z</dcterms:created>
  <dc:creator>Abid Jaffery</dc:creator>
  <dc:description/>
  <dc:language>en-US</dc:language>
  <cp:lastModifiedBy>Dr.Zugaibi</cp:lastModifiedBy>
  <dcterms:modified xsi:type="dcterms:W3CDTF">2014-09-09T04:19:05Z</dcterms:modified>
  <cp:revision>55</cp:revision>
  <dc:subject/>
  <dc:title>AUTONOMIC NERVOUS SYSTEM</dc:title>
</cp:coreProperties>
</file>