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45B7-3484-4AE2-A6B7-4FF2356E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98A-53D0-4C64-8CE2-A15CC6A5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D93-BD95-4127-A24D-C36395E5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AC4-373A-4BB5-9666-643AB6F4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4966-4918-48FA-91C8-E7079CF8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93C-EB9B-4060-B4E3-3CB8305D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FEB-1877-4021-999E-F87D91DC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1DF-E9C8-4486-BEC6-772EAEF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CBC8-26B7-4463-B224-AD9EC853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CAA-C68D-48D2-90F9-8E6C3FD8E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7B7-E567-4D36-9BE2-46DF1FCA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151-2325-4F9E-A35D-9B739620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D15B-7257-4781-BE35-A0C5DE462137}" type="slidenum">
              <a:rPr b="0" lang="ar-SA" sz="18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hammed Alzoghaibi, Ph.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alzoghaibi@ksu.edu.s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zzoghaibi@gmail.co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0506338400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01680" y="12193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Operates continuously to modulate the functions of many organ systems e.g; heart, blood vessels, gastrointestinal tract, bronchi and sweat gland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tressful stimulation activates SNS leads to a response known as “fight or flight”: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increased arterial pressure, blood flow, blood glucose, metabolic rate and mental activity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168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preganglionic neurons originate from thoracolumbar spinal cord (T1-L3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NS ganglia are located near the spinal cord either in the paravertebral ganglia (sympathetic chain) or in the prevertebral gangli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s are short and the post ganglionic neurons are long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03" name="Picture 3" descr="showimage.jpg"/>
          <p:cNvPicPr/>
          <p:nvPr/>
        </p:nvPicPr>
        <p:blipFill>
          <a:blip r:embed="rId1"/>
          <a:stretch/>
        </p:blipFill>
        <p:spPr>
          <a:xfrm>
            <a:off x="2286000" y="914400"/>
            <a:ext cx="45356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hysioMZ 006"/>
          <p:cNvPicPr/>
          <p:nvPr/>
        </p:nvPicPr>
        <p:blipFill>
          <a:blip r:embed="rId1"/>
          <a:srcRect l="72" t="88" r="0" b="3089"/>
          <a:stretch/>
        </p:blipFill>
        <p:spPr>
          <a:xfrm>
            <a:off x="76320" y="1141560"/>
            <a:ext cx="8991360" cy="5564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s are always cholinerg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lease Ach, interacts with nicotinic receptors on the cell body of postganglionic neur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ganglionic neurons are adrenergic except in thermoregulatory sweat glands (muscranic, cholinergic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neurons affect adrenorecepters: alph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alph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fibers originate from cranial nuclei in brain stem (mid brain, pons, medulla) and in sacral segments (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Garamond"/>
              </a:rPr>
              <a:t>4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) (Craniosacral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arasympathetic ganglia are located on or in the affected orga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reganglionic neuron has long axon and postganglionic neuron has short ax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2" name="Picture 3" descr="showimage.jpg"/>
          <p:cNvPicPr/>
          <p:nvPr/>
        </p:nvPicPr>
        <p:blipFill>
          <a:blip r:embed="rId1"/>
          <a:stretch/>
        </p:blipFill>
        <p:spPr>
          <a:xfrm>
            <a:off x="2209680" y="609480"/>
            <a:ext cx="473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ll preganglionic neurons are cholinergic, release Ach which interacts with nicot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ganglionic neurons are cholinergic, release Ach which interacts with muscr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AND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motor efferent nervous system has two component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omatic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utonom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omatic Nervous Syste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voluntary nervous system under conscious contro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nsists of a single motoneuron and  skeletal muscle fibers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6" name="Picture 3" descr="showimage.jpg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81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6080" y="-763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1680" y="914040"/>
            <a:ext cx="85406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und in vascular smooth muscle, GI sphincters and bladder, radial muscle of iri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contraction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s found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in the following tissue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.A node          heart rate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V node           conduction veloc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Ventricular muscle        contractil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alivary gland        salivary secretions, 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(but  enzymes production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s: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found in vascular smooth muscle wall of bladder, and wall of GI.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0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      relaxa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more sensitive to Epinephrine than Nor-epinephrine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3048120" y="20574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3581280" y="1828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Line 22"/>
          <p:cNvSpPr/>
          <p:nvPr/>
        </p:nvSpPr>
        <p:spPr>
          <a:xfrm flipV="1">
            <a:off x="2743200" y="32767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2133720" y="34290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2209680" y="29718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 flipV="1">
            <a:off x="2819520" y="28195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 flipV="1">
            <a:off x="3276720" y="42667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2743200" y="44197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 flipV="1">
            <a:off x="3962520" y="37339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3048120" y="60958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receptor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3" name="Picture 3" descr="showimage.jpg"/>
          <p:cNvPicPr/>
          <p:nvPr/>
        </p:nvPicPr>
        <p:blipFill>
          <a:blip r:embed="rId1"/>
          <a:stretch/>
        </p:blipFill>
        <p:spPr>
          <a:xfrm>
            <a:off x="838080" y="861840"/>
            <a:ext cx="751860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β</a:t>
            </a:r>
            <a:r>
              <a:rPr b="1" lang="el-GR" sz="3600" spc="-1" strike="noStrike">
                <a:solidFill>
                  <a:srgbClr val="ff0000"/>
                </a:solidFill>
                <a:latin typeface="Garamond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1" lang="el-GR" sz="4000" spc="-1" strike="noStrike">
                <a:solidFill>
                  <a:srgbClr val="ff0000"/>
                </a:solidFill>
                <a:latin typeface="Garamond"/>
              </a:rPr>
              <a:t>β</a:t>
            </a: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5" name="Picture 3" descr="showimage.jpg"/>
          <p:cNvPicPr/>
          <p:nvPr/>
        </p:nvPicPr>
        <p:blipFill>
          <a:blip r:embed="rId1"/>
          <a:stretch/>
        </p:blipFill>
        <p:spPr>
          <a:xfrm>
            <a:off x="838080" y="1066680"/>
            <a:ext cx="762948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1680" y="12189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Nicotinic 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n ion channel for Na+ and K+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in all postganglionic neurons, motor end plate at skeletal muscle and chromaffin cell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uscurinic Recepto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Works either lik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adrenoreceptor via PKC, DAC and IP3 or via G protein which has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subunit that binds K+ channel and open i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hysioMZ 007"/>
          <p:cNvPicPr/>
          <p:nvPr/>
        </p:nvPicPr>
        <p:blipFill>
          <a:blip r:embed="rId1"/>
          <a:srcRect l="0" t="0" r="0" b="1972"/>
          <a:stretch/>
        </p:blipFill>
        <p:spPr>
          <a:xfrm>
            <a:off x="76320" y="1330200"/>
            <a:ext cx="8915400" cy="4613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(in summary)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type of receptor and its mechanism of action determine the physiologic response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.g. </a:t>
            </a:r>
            <a:r>
              <a:rPr b="0" lang="el-GR" sz="32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receptor in SA node and in ventricular muscle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A node: activation of SA node by the agonist (nor-epinephrine)           heart rate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ventricular muscles          contractility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V="1">
            <a:off x="5943600" y="46483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4952880" y="5257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1066680"/>
          <a:ext cx="8839440" cy="56786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t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drenorecept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oxybenz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yl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azos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onid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himb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Metopr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Epinephrine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tox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Albuter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holinoreceptor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icot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ra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Nicotin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xamethonium (blocks ganglionic receptor but not neuromuscular junction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trop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1" descr="View drug information"/>
          <p:cNvPicPr/>
          <p:nvPr/>
        </p:nvPicPr>
        <p:blipFill>
          <a:blip r:embed="rId1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View drug information"/>
          <p:cNvPicPr/>
          <p:nvPr/>
        </p:nvPicPr>
        <p:blipFill>
          <a:blip r:embed="rId2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View drug information"/>
          <p:cNvPicPr/>
          <p:nvPr/>
        </p:nvPicPr>
        <p:blipFill>
          <a:blip r:embed="rId3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View drug information"/>
          <p:cNvPicPr/>
          <p:nvPr/>
        </p:nvPicPr>
        <p:blipFill>
          <a:blip r:embed="rId4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role of them is to keep the stimulated organs in normal stag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always keeps the blood vessel constricted ½ of its normal diameter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removal of vagus nerve       atony        loss of peristalsis        constipation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4" name="Line 4"/>
          <p:cNvSpPr/>
          <p:nvPr/>
        </p:nvSpPr>
        <p:spPr>
          <a:xfrm>
            <a:off x="3505320" y="55627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5029200" y="5105520"/>
            <a:ext cx="38088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6781680" y="51055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026" descr="physioMZ 005"/>
          <p:cNvPicPr/>
          <p:nvPr/>
        </p:nvPicPr>
        <p:blipFill>
          <a:blip r:embed="rId1"/>
          <a:stretch/>
        </p:blipFill>
        <p:spPr>
          <a:xfrm>
            <a:off x="152280" y="457200"/>
            <a:ext cx="8915400" cy="56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808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 of loss of sympathetic and parasympathetic tone after denerva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1680" y="2663640"/>
            <a:ext cx="8540640" cy="29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Loss of sympathetic tone in blood vessel causes severe vasodilatation but after sometime, intrinsic tone increases by chemical adapta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timulation of sympathetic nerves causes large quantities of Epinephrine and Nor-epinephrine to be secreted in bloo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effect of Epinephrine &amp; Nor-epinephrine lasts 5-10 times more than the ones which secreted from sympathet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Eyes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stimulation contracts the meridional fibers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dilate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stimulation contracts the circular muscle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constrict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ocusing of the lens is controlled by parasympathetic through contraction of ciliary muscle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4" name="AutoShape 1037"/>
          <p:cNvSpPr/>
          <p:nvPr/>
        </p:nvSpPr>
        <p:spPr>
          <a:xfrm>
            <a:off x="155520" y="46080"/>
            <a:ext cx="514368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5" name="Picture 6" descr="Picture1.jpg"/>
          <p:cNvPicPr/>
          <p:nvPr/>
        </p:nvPicPr>
        <p:blipFill>
          <a:blip r:embed="rId1"/>
          <a:stretch/>
        </p:blipFill>
        <p:spPr>
          <a:xfrm>
            <a:off x="3070080" y="2892600"/>
            <a:ext cx="58960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upil Dilation and Constric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67" name="Picture 5" descr="Picture3.jpg"/>
          <p:cNvPicPr/>
          <p:nvPr/>
        </p:nvPicPr>
        <p:blipFill>
          <a:blip r:embed="rId1"/>
          <a:stretch/>
        </p:blipFill>
        <p:spPr>
          <a:xfrm>
            <a:off x="217440" y="2432160"/>
            <a:ext cx="870912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Gland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Controlled by parasympathetic 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ir secreti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causes vasoconstriction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ir rate of secre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weat glands secretion:  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increased by sympathetic stimul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Line 8"/>
          <p:cNvSpPr/>
          <p:nvPr/>
        </p:nvSpPr>
        <p:spPr>
          <a:xfrm>
            <a:off x="1066680" y="42663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Line 9"/>
          <p:cNvSpPr/>
          <p:nvPr/>
        </p:nvSpPr>
        <p:spPr>
          <a:xfrm flipV="1">
            <a:off x="1066680" y="30481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934320" y="3809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5" name="Picture 4" descr="fig6-1"/>
          <p:cNvPicPr/>
          <p:nvPr/>
        </p:nvPicPr>
        <p:blipFill>
          <a:blip r:embed="rId1"/>
          <a:stretch/>
        </p:blipFill>
        <p:spPr>
          <a:xfrm>
            <a:off x="2362320" y="4419720"/>
            <a:ext cx="4370400" cy="2149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6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The Gastrointestinal tract (GI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Enteric nervous system</a:t>
            </a:r>
            <a:br>
              <a:rPr sz="2600"/>
            </a:b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Parasympathetic nervous system     the activity of GI tract (    peristaltic contraction, sphincter relaxation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Garamond"/>
              </a:rPr>
              <a:t>- Sympathetic           the activity of GI.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2895480" y="3809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4952880" y="28195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2286000" y="39625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 flipV="1">
            <a:off x="1371600" y="32767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1904760"/>
            <a:ext cx="876312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Heart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activity of the heart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arasympathetic stimulation doing the opposit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stemic Blood Vessel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Constricted by stimulation of sympathetic.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o effect of the parasympathetic except in certain areas, such as blushing of the fac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48006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5334120" y="24379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228276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terial Pressure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the cardiac out- put and   resistance to the blood flow and blood pressure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Parasympathetic         cardiac out put and has no effect on blood vessels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200400" y="46483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809880" y="44197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V="1">
            <a:off x="1143000" y="33523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5181480" y="289512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4572000" y="3124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168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Most of the visceral functions of the body are regulated by autonomic reflex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ardiovascular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baroreceptor reflex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It is stretch reflex in the main arteries such as carotid artery to detect the blood pressure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Gastrointestine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The receptors in the nose and mouth send a signal to parasympathetic to notify the glands of mouth &amp; stomach to secrete the digestive juic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rinary Bladder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Initiate the micturation by parasympathetic innervation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xual reflexes: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erection by parasympathetic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- ejaculation by sympathetic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Picture1.jpg"/>
          <p:cNvPicPr/>
          <p:nvPr/>
        </p:nvPicPr>
        <p:blipFill>
          <a:blip r:embed="rId1"/>
          <a:stretch/>
        </p:blipFill>
        <p:spPr>
          <a:xfrm>
            <a:off x="676440" y="1030320"/>
            <a:ext cx="7791120" cy="5675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Nervous System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rinary Bladder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95" name="Picture 3" descr="showimage.jpg"/>
          <p:cNvPicPr/>
          <p:nvPr/>
        </p:nvPicPr>
        <p:blipFill>
          <a:blip r:embed="rId1"/>
          <a:stretch/>
        </p:blipFill>
        <p:spPr>
          <a:xfrm>
            <a:off x="380880" y="1585800"/>
            <a:ext cx="83822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 activation could occur in isolated portions such a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heart regula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many sympathetic reflexes that regulate G.I. functio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parasympathetic usually causes specific localized response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The effect of parasympathetic usually specifies to certain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ut sometimes there is a common effect of parasympathetic activity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by affecting the functions of some organs together such as rectal emptying and bladder emptying, salivary secretion and gastric secre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Garamond"/>
              </a:rPr>
              <a:t>The End</a:t>
            </a:r>
            <a:endParaRPr b="1" lang="en-US" sz="13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295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 involuntary nervous system that modulates and controls the function of visceral orga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utonomic nervous system (ANS) consists of two major division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Sympathetic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Parasympathetic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S is activated by centers in spinal cord, brain stem and hypothalamu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NS is operated by visceral reflex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88" name="Content Placeholder 5" descr="showimage.jpg"/>
          <p:cNvPicPr/>
          <p:nvPr/>
        </p:nvPicPr>
        <p:blipFill>
          <a:blip r:embed="rId1"/>
          <a:stretch/>
        </p:blipFill>
        <p:spPr>
          <a:xfrm>
            <a:off x="5029200" y="2112840"/>
            <a:ext cx="38098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-302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Organization of autonomic nervous system  motor pathway consists of two neuron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reganglionic neur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Postganglionic neur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ll preganglionic neurons release Acetylcholine (Ach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Post ganglionic neurons release either Ach, or norepinepherin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ympathetic and parasympathetic are anatomic terms and refer to anatomic origin of preganglionic neurons in the centeral nervous system (CNS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and Cholinergic terms are used to describe neurons of either division, according to which neurotransmitter they synthesize and releas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drenergic neurons release nor-epinephrine and the receptor is adreno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holinergic neurons release Ach and the receptor is cholinergic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14:50Z</dcterms:created>
  <dc:creator>Abid Jaffery</dc:creator>
  <dc:description/>
  <dc:language>en-US</dc:language>
  <cp:lastModifiedBy>Dr.Zugaibi</cp:lastModifiedBy>
  <dcterms:modified xsi:type="dcterms:W3CDTF">2014-09-09T04:19:05Z</dcterms:modified>
  <cp:revision>55</cp:revision>
  <dc:subject/>
  <dc:title>AUTONOMIC NERVOUS SYSTEM</dc:title>
</cp:coreProperties>
</file>