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9E5-CE83-4C11-A35A-8D5B11C4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BD0-0D08-477E-AE9C-F9D4153B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EC4-C295-47EF-AF3A-9F1AAFE2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BCF-7A57-4F46-974E-70B365E0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3042-D24A-4A2E-AAD3-E2E930A5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5BE1-F0C8-424C-A527-553FA044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F330-B1DE-4CC1-9FBA-7D7379D2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8256-59FA-4FBF-926A-7760D13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4AB1-0EB9-408F-8A6E-672CA8C7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E1C6-5F44-400E-86ED-69B4BE57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24C1-41CE-4175-81C2-488419F3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A50-CFFF-4088-B917-E8CBFE02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9C1E-85B1-42F5-B9AA-7D3C2A6E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2B1A-DD1D-47DB-B95B-C8E51AF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67CB-EB24-4B89-8CFD-1F34E79C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2966-62CE-4C0B-817E-634C41D3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DD6F-9C53-486B-89CC-21BC6F68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15C0-50A1-45DC-99BA-C2C591AC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3922-F442-4910-9A8D-B52B9C14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647D-5326-4DDB-93A0-FCB6F1F2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FE7FC-5A07-458B-850C-136212B1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81BB-9791-473B-BDAE-A73FCB5E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40C-E4FF-4F15-BC6B-DFA25317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13F9-1D82-4C44-B142-90ED935A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7974-2169-4ED7-91FF-B0A7E3ED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2BEC-629B-4B86-8EF0-E9984F79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29EC-E796-4CBB-B9AD-2BD7E329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31249-C3F0-431D-9656-26C3920B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C373E-7A07-44C1-9615-0CAAEB63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3FEB-FFBA-402E-9CDF-74366B36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D715D-61D9-4231-99DF-C8E5ED42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00A6-C014-4D58-A3C4-8D7C87CD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2D20-95EF-44B9-AE7D-FDF63D2D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641-27CE-4388-AD60-1F5A8DBD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C557-EC08-40F1-B003-F9893AD9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DAA50-09AC-49A7-81B2-EDED4E23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0ED2B-6D3B-493A-B61A-D9608720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A3279-2CD1-4E12-B013-CB4564CB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24A4E-C06A-44DB-9C73-9C3DD67F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2515B-176F-45C0-B7A6-8242B8C0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6D206-679F-4B82-88DD-1C73A2A2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073BC-2063-4CA8-ABD7-8992F68A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9F6D-0897-4076-8B81-6A5A042A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31BAA-AB44-4D00-A8CD-681D8842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2B5-F0DC-4FE1-8F28-40442D23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8167D-85C4-4078-B610-494E06F4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7F413-FF08-4DC7-96ED-DB1B888E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40E94-9F36-4956-B079-02FEC2D6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A005B-EEA3-4AB8-87F5-C3F5F7EF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EE74E-3BB5-49EB-AC7F-8BE109A3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847E1-F737-4A22-BAD6-6826B540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20C65-CC1F-4AE1-BC74-82A8E530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25CF5-8652-47D5-B436-5D7DDBAE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256B0-9FF1-43CD-B6F2-2D862DE1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7250-49E0-4F2C-8897-335EF48C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55C-9D37-4F96-9988-CCC2FB0B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9B759-8EDA-432D-BD9E-75EDE5C7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C12-1F10-4B45-833E-1E3D5F4E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A29-C251-4CFD-9ADE-CAA7714D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53F-3CA0-4091-9E0E-792E884B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Straight Connector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Straight Connector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EF68DC-C264-4F05-8DE5-B553907935F0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Straight Connector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4e3b30"/>
                </a:solidFill>
                <a:latin typeface="Franklin Gothic Medium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Master text sty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econd leve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urth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if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77E77E-CAE4-45CD-8336-1474EFAB1923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4e3b30"/>
                </a:solidFill>
                <a:latin typeface="Franklin Gothic Medium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ick to edit Master text sty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rd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our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if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ick to edit Master text sty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rd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our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if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659014-29DF-42C1-BC38-1132432B007A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Straight Connector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4e3b30"/>
                </a:solidFill>
                <a:latin typeface="Franklin Gothic Medium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Master text sty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econd leve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urth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if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Master text sty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econd leve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urth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if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dt" idx="10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E0747F-3EA2-4730-8ADB-7BE3C60B5D19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traight Connector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Straight Connector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Straight Connector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4e3b30"/>
                </a:solidFill>
                <a:latin typeface="Franklin Gothic Medium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BFD909-65F0-411F-812B-CE3626A96B1B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lamicfinder.org/gallery/displayimage.php?album=lastup&amp;cat=51&amp;pos=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Bismillah_45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666880"/>
            <a:ext cx="56005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12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29760" indent="-32976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Franklin Gothic Book"/>
              </a:rPr>
              <a:t>(2) Antagonist 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760" indent="-32976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It opposes the action of the prime mover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760" indent="-32976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Before contraction of prime mover,  the antagonist must be relax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760" indent="-32976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Franklin Gothic Book"/>
              </a:rPr>
              <a:t>Example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Biceps Femoris 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(</a:t>
            </a:r>
            <a:r>
              <a:rPr b="1" lang="en-US" sz="2800" spc="-1" strike="noStrike">
                <a:solidFill>
                  <a:srgbClr val="0d0d0d"/>
                </a:solidFill>
                <a:latin typeface="Franklin Gothic Book"/>
              </a:rPr>
              <a:t>Flexor of knee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760" indent="-32976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66ff"/>
                </a:solidFill>
                <a:latin typeface="Franklin Gothic Book"/>
              </a:rPr>
              <a:t>It</a:t>
            </a:r>
            <a:r>
              <a:rPr b="1" lang="en-US" sz="28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opposes the action of quadriceps when the knee joint is extended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6" name="Content Placeholder 4" descr="E5652934"/>
          <p:cNvPicPr/>
          <p:nvPr/>
        </p:nvPicPr>
        <p:blipFill>
          <a:blip r:embed="rId1"/>
          <a:srcRect l="0" t="0" r="51847" b="0"/>
          <a:stretch/>
        </p:blipFill>
        <p:spPr>
          <a:xfrm>
            <a:off x="5486400" y="380880"/>
            <a:ext cx="3428640" cy="50288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267" name="Picture 6" descr="Copy of Picture A"/>
          <p:cNvPicPr/>
          <p:nvPr/>
        </p:nvPicPr>
        <p:blipFill>
          <a:blip r:embed="rId2"/>
          <a:srcRect l="45677" t="0" r="4169" b="68829"/>
          <a:stretch/>
        </p:blipFill>
        <p:spPr>
          <a:xfrm>
            <a:off x="4191120" y="5181480"/>
            <a:ext cx="1828440" cy="16761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120" cy="601956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Franklin Gothic Book"/>
              </a:rPr>
              <a:t>(3) Synergist 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Prevents unwanted movement in an intermediate joint crossed by the Prime Mover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Example</a:t>
            </a:r>
            <a:r>
              <a:rPr b="1" lang="en-US" sz="2800" spc="-1" strike="noStrike">
                <a:solidFill>
                  <a:srgbClr val="0066ff"/>
                </a:solidFill>
                <a:latin typeface="Franklin Gothic Book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Flexors and Extensors of wrist joint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d0d0d"/>
                </a:solidFill>
                <a:latin typeface="Franklin Gothic Book"/>
              </a:rPr>
              <a:t>They contract to fix wrist joint in order that flexors and extensors of fingers work efficientl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9" name="Picture 2" descr="F:\Student Gray\7. Upper limb\F66122-007-f086.jpg"/>
          <p:cNvPicPr/>
          <p:nvPr/>
        </p:nvPicPr>
        <p:blipFill>
          <a:blip r:embed="rId1"/>
          <a:srcRect l="0" t="0" r="0" b="3641"/>
          <a:stretch/>
        </p:blipFill>
        <p:spPr>
          <a:xfrm>
            <a:off x="5105520" y="990720"/>
            <a:ext cx="2666520" cy="4038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C:\Documents and Settings\me\My Documents\My Pictures\Picture23.jpg"/>
          <p:cNvPicPr/>
          <p:nvPr/>
        </p:nvPicPr>
        <p:blipFill>
          <a:blip r:embed="rId2"/>
          <a:stretch/>
        </p:blipFill>
        <p:spPr>
          <a:xfrm>
            <a:off x="5181480" y="5105520"/>
            <a:ext cx="3382560" cy="1623600"/>
          </a:xfrm>
          <a:prstGeom prst="rect">
            <a:avLst/>
          </a:prstGeom>
          <a:ln w="3810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4038120" cy="563832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77000"/>
          </a:bodyPr>
          <a:p>
            <a:pPr marL="285480" indent="-2854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6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(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Franklin Gothic Book"/>
              </a:rPr>
              <a:t>4) Fixator 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5480" indent="-285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Its contraction does not produce movement by itself but it stabilizes the origin of the prime mover so that it can act efficientl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85480" indent="-285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85480" indent="-285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Muscles attaching the shoulder girdle to the trunk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ontract to fix shoulder girdle, allowing  deltoid muscle  (taking origin from shoulder girdle) to move shoulder joint (humerus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2" name="Picture 3" descr="F:\Student Gray\7. Upper limb\F66122-007-f012.jpg"/>
          <p:cNvPicPr/>
          <p:nvPr/>
        </p:nvPicPr>
        <p:blipFill>
          <a:blip r:embed="rId1"/>
          <a:srcRect l="10804" t="0" r="13568" b="2355"/>
          <a:stretch/>
        </p:blipFill>
        <p:spPr>
          <a:xfrm>
            <a:off x="4952880" y="1447920"/>
            <a:ext cx="3276360" cy="48002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7162920" y="1828800"/>
            <a:ext cx="990360" cy="106632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Medium"/>
              </a:rPr>
              <a:t>NAMING OF MUSCLES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62520" y="1295280"/>
            <a:ext cx="5181120" cy="556236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84000"/>
          </a:bodyPr>
          <a:p>
            <a:pPr marL="311400" indent="-31140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It is according to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1400" indent="-31140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1. Size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Major or maximus (large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Minor or minimus (small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Latissimus (broad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Longus (long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Brevis (short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2. Position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Pectoralis (pectoral region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3. Depth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Superficialis (superficial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Profundus (deep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Externus (external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6" name="Picture 2" descr="C:\Documents and Settings\User\My Documents\My Pictures\Picture42.jpg"/>
          <p:cNvPicPr/>
          <p:nvPr/>
        </p:nvPicPr>
        <p:blipFill>
          <a:blip r:embed="rId1"/>
          <a:stretch/>
        </p:blipFill>
        <p:spPr>
          <a:xfrm>
            <a:off x="380880" y="1371600"/>
            <a:ext cx="3504960" cy="5257440"/>
          </a:xfrm>
          <a:prstGeom prst="rect">
            <a:avLst/>
          </a:prstGeom>
          <a:ln w="38100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4190760" cy="510516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74000"/>
          </a:bodyPr>
          <a:p>
            <a:pPr marL="298440" indent="-2984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4. Shape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Deltoid (triangular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Teres (rounded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Rectus (straight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5. Number of Head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Biceps (2 heads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Triceps (3 heads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Quadriceps (4 heads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6. Attachment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Coracobrachialis (from coracoid process to arm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7. Action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Flexor digitorum: flexion of digit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8" name="Picture 2" descr="C:\Documents and Settings\User\My Documents\My Pictures\Picture42.jpg"/>
          <p:cNvPicPr/>
          <p:nvPr/>
        </p:nvPicPr>
        <p:blipFill>
          <a:blip r:embed="rId1"/>
          <a:stretch/>
        </p:blipFill>
        <p:spPr>
          <a:xfrm>
            <a:off x="4952880" y="1371600"/>
            <a:ext cx="3885840" cy="5486040"/>
          </a:xfrm>
          <a:prstGeom prst="rect">
            <a:avLst/>
          </a:prstGeom>
          <a:ln w="3810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Medium"/>
              </a:rPr>
              <a:t>NERVE SUPPLY of Skletal Musc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48320" y="1143000"/>
            <a:ext cx="4343040" cy="518112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The nerves supplying the skeletal muscles are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Franklin Gothic Book"/>
              </a:rPr>
              <a:t>Mixed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60% are </a:t>
            </a: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Motor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40% are </a:t>
            </a:r>
            <a:r>
              <a:rPr b="1" lang="en-US" sz="2800" spc="-1" strike="noStrike">
                <a:solidFill>
                  <a:srgbClr val="0066ff"/>
                </a:solidFill>
                <a:latin typeface="Franklin Gothic Book"/>
              </a:rPr>
              <a:t>Sensor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It has some Autonomic fibers (</a:t>
            </a:r>
            <a:r>
              <a:rPr b="1" lang="en-US" sz="2800" spc="-1" strike="noStrike">
                <a:solidFill>
                  <a:srgbClr val="339966"/>
                </a:solidFill>
                <a:latin typeface="Franklin Gothic Book"/>
              </a:rPr>
              <a:t>Sympathetic</a:t>
            </a: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) for its blood vesse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The nerve enters the muscle at about the middle point of its deep surfac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81" name="Picture 2" descr="C:\Documents and Settings\User\My Documents\Student Gray\7. Upper limb\F66122-007-f068.jpg"/>
          <p:cNvPicPr/>
          <p:nvPr/>
        </p:nvPicPr>
        <p:blipFill>
          <a:blip r:embed="rId1"/>
          <a:srcRect l="0" t="0" r="0" b="4421"/>
          <a:stretch/>
        </p:blipFill>
        <p:spPr>
          <a:xfrm>
            <a:off x="685800" y="1905120"/>
            <a:ext cx="3881520" cy="4723920"/>
          </a:xfrm>
          <a:prstGeom prst="rect">
            <a:avLst/>
          </a:prstGeom>
          <a:ln w="38100">
            <a:solidFill>
              <a:srgbClr val="000000"/>
            </a:solidFill>
            <a:round/>
          </a:ln>
        </p:spPr>
      </p:pic>
      <p:sp>
        <p:nvSpPr>
          <p:cNvPr id="282" name="Rectangle 5"/>
          <p:cNvSpPr/>
          <p:nvPr/>
        </p:nvSpPr>
        <p:spPr>
          <a:xfrm>
            <a:off x="3200400" y="3657600"/>
            <a:ext cx="533160" cy="304560"/>
          </a:xfrm>
          <a:prstGeom prst="rect">
            <a:avLst/>
          </a:prstGeom>
          <a:noFill/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274680"/>
            <a:ext cx="5257440" cy="10202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Medium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5333760"/>
          </a:xfrm>
          <a:prstGeom prst="rect">
            <a:avLst/>
          </a:prstGeom>
          <a:gradFill rotWithShape="0">
            <a:gsLst>
              <a:gs pos="0">
                <a:srgbClr val="f0dad5"/>
              </a:gs>
              <a:gs pos="100000">
                <a:srgbClr val="d7907f"/>
              </a:gs>
            </a:gsLst>
            <a:lin ang="5400000"/>
          </a:gradFill>
          <a:ln w="10080">
            <a:solidFill>
              <a:srgbClr val="a5644e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82000"/>
          </a:bodyPr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Skeletal muscles are striated, voluntary muscles attached to &amp; move the skeleto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They have 2 attachments: 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origin &amp; insertio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Their fibers may be </a:t>
            </a:r>
            <a:r>
              <a:rPr b="1" lang="en-US" sz="3200" spc="-1" strike="noStrike">
                <a:solidFill>
                  <a:srgbClr val="0d0d0d"/>
                </a:solidFill>
                <a:latin typeface="Franklin Gothic Book"/>
              </a:rPr>
              <a:t>parallel 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or </a:t>
            </a:r>
            <a:r>
              <a:rPr b="1" lang="en-US" sz="3200" spc="-1" strike="noStrike">
                <a:solidFill>
                  <a:srgbClr val="0d0d0d"/>
                </a:solidFill>
                <a:latin typeface="Franklin Gothic Book"/>
              </a:rPr>
              <a:t>oblique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 (pennate) to the line of pul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According to mode of action, they are classified as: 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prime mover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, </a:t>
            </a:r>
            <a:r>
              <a:rPr b="1" lang="en-US" sz="3200" spc="-1" strike="noStrike">
                <a:solidFill>
                  <a:srgbClr val="0066ff"/>
                </a:solidFill>
                <a:latin typeface="Franklin Gothic Book"/>
              </a:rPr>
              <a:t>antagonist,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d0d0d"/>
                </a:solidFill>
                <a:latin typeface="Franklin Gothic Book"/>
              </a:rPr>
              <a:t>synergist 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or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fixator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They may be named according to: </a:t>
            </a:r>
            <a:r>
              <a:rPr b="1" lang="en-US" sz="3200" spc="-1" strike="noStrike">
                <a:solidFill>
                  <a:srgbClr val="0d0d0d"/>
                </a:solidFill>
                <a:latin typeface="Franklin Gothic Book"/>
              </a:rPr>
              <a:t>size, shape, number of heads, position, attachments, depth or actio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They are supplied by a 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mixed nerv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1523880" y="2514600"/>
            <a:ext cx="5638320" cy="91260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>
            <a:solidFill>
              <a:srgbClr val="a19574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omic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371600" y="457200"/>
            <a:ext cx="6292440" cy="700560"/>
          </a:xfrm>
          <a:prstGeom prst="rect">
            <a:avLst/>
          </a:prstGeom>
          <a:gradFill rotWithShape="0">
            <a:gsLst>
              <a:gs pos="0">
                <a:srgbClr val="f0dad5"/>
              </a:gs>
              <a:gs pos="100000">
                <a:srgbClr val="d7907f"/>
              </a:gs>
            </a:gsLst>
            <a:lin ang="5400000"/>
          </a:gradFill>
          <a:ln>
            <a:solidFill>
              <a:srgbClr val="a5644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66ff"/>
                </a:solidFill>
                <a:latin typeface="Franklin Gothic Book"/>
              </a:rPr>
              <a:t>SKELETAL MUS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C:\Documents and Settings\User\My Documents\My Pictures\Picture41.jpg"/>
          <p:cNvPicPr/>
          <p:nvPr/>
        </p:nvPicPr>
        <p:blipFill>
          <a:blip r:embed="rId1"/>
          <a:stretch/>
        </p:blipFill>
        <p:spPr>
          <a:xfrm>
            <a:off x="380880" y="1523880"/>
            <a:ext cx="2853000" cy="53337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25" name="Rectangle 5"/>
          <p:cNvSpPr/>
          <p:nvPr/>
        </p:nvSpPr>
        <p:spPr>
          <a:xfrm>
            <a:off x="3581280" y="2666880"/>
            <a:ext cx="4800240" cy="63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Franklin Gothic Book"/>
              </a:rPr>
              <a:t>Dr. Jamila EL Med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c00000"/>
                </a:solidFill>
                <a:latin typeface="Franklin Gothic Book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120" cy="5333760"/>
          </a:xfrm>
          <a:prstGeom prst="rect">
            <a:avLst/>
          </a:prstGeom>
          <a:gradFill rotWithShape="0">
            <a:gsLst>
              <a:gs pos="0">
                <a:srgbClr val="f0dad5"/>
              </a:gs>
              <a:gs pos="100000">
                <a:srgbClr val="d7907f"/>
              </a:gs>
            </a:gsLst>
            <a:lin ang="5400000"/>
          </a:gradFill>
          <a:ln w="10080">
            <a:solidFill>
              <a:srgbClr val="a5644e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83000"/>
          </a:bodyPr>
          <a:p>
            <a:pPr marL="307440" indent="0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r>
              <a:rPr b="1" lang="en-US" sz="3900" spc="-1" strike="noStrike">
                <a:solidFill>
                  <a:schemeClr val="accent3">
                    <a:lumMod val="75000"/>
                  </a:schemeClr>
                </a:solidFill>
                <a:latin typeface="Franklin Gothic Book"/>
              </a:rPr>
              <a:t>At the end of the lecture, students should be able to:</a:t>
            </a:r>
            <a:endParaRPr b="0" lang="en-US" sz="39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main criteria 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of skeletal musc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attachments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 of skeletal musc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different directions 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of skeletal muscle fiber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mode of action 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of skeletal musc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briefly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naming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 of skeletal musc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briefly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nerve supply 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of skeletal musc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 cap="all">
                <a:solidFill>
                  <a:srgbClr val="0066ff"/>
                </a:solidFill>
                <a:latin typeface="Franklin Gothic Book"/>
              </a:rPr>
              <a:t>MUSCULAR  SYSTEM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gradFill rotWithShape="0">
            <a:gsLst>
              <a:gs pos="0">
                <a:srgbClr val="fae4d5"/>
              </a:gs>
              <a:gs pos="100000">
                <a:srgbClr val="efb786"/>
              </a:gs>
            </a:gsLst>
            <a:lin ang="5400000"/>
          </a:gradFill>
          <a:ln w="10080">
            <a:solidFill>
              <a:srgbClr val="c3986d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Composed of two main types 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4c35f9"/>
                </a:solidFill>
                <a:uFillTx/>
                <a:latin typeface="Franklin Gothic Book"/>
              </a:rPr>
              <a:t>1. Involuntary muscle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(a)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Smooth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2800" spc="-1" strike="noStrike">
                <a:solidFill>
                  <a:schemeClr val="dk1"/>
                </a:solidFill>
                <a:latin typeface="Franklin Gothic Book"/>
              </a:rPr>
              <a:t>Found in the walls of viscera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2800" spc="-1" strike="noStrike">
                <a:solidFill>
                  <a:schemeClr val="dk1"/>
                </a:solidFill>
                <a:latin typeface="Franklin Gothic Book"/>
              </a:rPr>
              <a:t>(b)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Cardiac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2800" spc="-1" strike="noStrike">
                <a:solidFill>
                  <a:schemeClr val="dk1"/>
                </a:solidFill>
                <a:latin typeface="Franklin Gothic Book"/>
              </a:rPr>
              <a:t>Found only in the Hear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2800" spc="-1" strike="noStrike">
                <a:solidFill>
                  <a:srgbClr val="4c35f9"/>
                </a:solidFill>
                <a:latin typeface="Franklin Gothic Book"/>
              </a:rPr>
              <a:t>2. Voluntary (skeletal) musc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30" name="Picture 3" descr="5C1DFA84"/>
          <p:cNvPicPr/>
          <p:nvPr/>
        </p:nvPicPr>
        <p:blipFill>
          <a:blip r:embed="rId1"/>
          <a:srcRect l="76020" t="8461" r="9161" b="81347"/>
          <a:stretch/>
        </p:blipFill>
        <p:spPr>
          <a:xfrm>
            <a:off x="838080" y="1828800"/>
            <a:ext cx="1910880" cy="1586880"/>
          </a:xfrm>
          <a:prstGeom prst="rect">
            <a:avLst/>
          </a:prstGeom>
          <a:ln w="9525">
            <a:noFill/>
          </a:ln>
        </p:spPr>
      </p:pic>
      <p:pic>
        <p:nvPicPr>
          <p:cNvPr id="231" name="Picture 4" descr="5C1DFA84"/>
          <p:cNvPicPr/>
          <p:nvPr/>
        </p:nvPicPr>
        <p:blipFill>
          <a:blip r:embed="rId2"/>
          <a:srcRect l="49175" t="7457" r="37376" b="80945"/>
          <a:stretch/>
        </p:blipFill>
        <p:spPr>
          <a:xfrm>
            <a:off x="2819520" y="3809880"/>
            <a:ext cx="1585440" cy="1668240"/>
          </a:xfrm>
          <a:prstGeom prst="rect">
            <a:avLst/>
          </a:prstGeom>
          <a:ln w="9525">
            <a:noFill/>
          </a:ln>
        </p:spPr>
      </p:pic>
      <p:pic>
        <p:nvPicPr>
          <p:cNvPr id="232" name="Content Placeholder 4" descr="5C1DFA84"/>
          <p:cNvPicPr/>
          <p:nvPr/>
        </p:nvPicPr>
        <p:blipFill>
          <a:blip r:embed="rId3"/>
          <a:srcRect l="21463" t="9293" r="61708" b="80453"/>
          <a:stretch/>
        </p:blipFill>
        <p:spPr>
          <a:xfrm>
            <a:off x="324000" y="4365720"/>
            <a:ext cx="2169720" cy="15966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7"/>
          <p:cNvSpPr/>
          <p:nvPr/>
        </p:nvSpPr>
        <p:spPr>
          <a:xfrm>
            <a:off x="684360" y="2060640"/>
            <a:ext cx="11505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11"/>
          <p:cNvCxnSpPr/>
          <p:nvPr/>
        </p:nvCxnSpPr>
        <p:spPr>
          <a:xfrm flipH="1" flipV="1">
            <a:off x="1371600" y="2286000"/>
            <a:ext cx="533520" cy="533520"/>
          </a:xfrm>
          <a:prstGeom prst="straightConnector1">
            <a:avLst/>
          </a:prstGeom>
          <a:ln>
            <a:solidFill>
              <a:srgbClr val="cc3399"/>
            </a:solidFill>
            <a:round/>
            <a:tailEnd len="med" type="arrow" w="med"/>
          </a:ln>
        </p:spPr>
      </p:cxnSp>
      <p:sp>
        <p:nvSpPr>
          <p:cNvPr id="235" name="TextBox 9"/>
          <p:cNvSpPr/>
          <p:nvPr/>
        </p:nvSpPr>
        <p:spPr>
          <a:xfrm>
            <a:off x="3564000" y="4508640"/>
            <a:ext cx="1007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CARDI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4"/>
          <p:cNvCxnSpPr>
            <a:endCxn id="235" idx="2"/>
          </p:cNvCxnSpPr>
          <p:nvPr/>
        </p:nvCxnSpPr>
        <p:spPr>
          <a:xfrm flipV="1">
            <a:off x="3886200" y="4786200"/>
            <a:ext cx="181800" cy="471960"/>
          </a:xfrm>
          <a:prstGeom prst="straightConnector1">
            <a:avLst/>
          </a:prstGeom>
          <a:ln>
            <a:solidFill>
              <a:srgbClr val="000000">
                <a:lumMod val="95000"/>
                <a:lumOff val="5000"/>
              </a:srgbClr>
            </a:solidFill>
            <a:round/>
            <a:tailEnd len="med" type="arrow" w="med"/>
          </a:ln>
        </p:spPr>
      </p:cxnSp>
      <p:sp>
        <p:nvSpPr>
          <p:cNvPr id="237" name="TextBox 8"/>
          <p:cNvSpPr/>
          <p:nvPr/>
        </p:nvSpPr>
        <p:spPr>
          <a:xfrm>
            <a:off x="1187280" y="4508640"/>
            <a:ext cx="1152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KEL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20"/>
          <p:cNvCxnSpPr/>
          <p:nvPr/>
        </p:nvCxnSpPr>
        <p:spPr>
          <a:xfrm flipV="1">
            <a:off x="1066680" y="4724280"/>
            <a:ext cx="457560" cy="60984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Medium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266720" cy="495252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Striat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Attached to skeleto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Produce movement of skeleto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Volunta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Supplied by Somatic Nerv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Rectangle 5"/>
          <p:cNvSpPr/>
          <p:nvPr/>
        </p:nvSpPr>
        <p:spPr>
          <a:xfrm flipV="1" rot="10800000">
            <a:off x="762120" y="-46440"/>
            <a:ext cx="7162560" cy="1186920"/>
          </a:xfrm>
          <a:prstGeom prst="rect">
            <a:avLst/>
          </a:prstGeom>
          <a:gradFill rotWithShape="0">
            <a:gsLst>
              <a:gs pos="0">
                <a:srgbClr val="f2e0db"/>
              </a:gs>
              <a:gs pos="100000">
                <a:srgbClr val="dba79a"/>
              </a:gs>
            </a:gsLst>
            <a:lin ang="5400000"/>
          </a:gradFill>
          <a:ln>
            <a:solidFill>
              <a:srgbClr val="b58b8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MAIN CRITERIA OF SKELTAL MUS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Arrow Connector 7"/>
          <p:cNvCxnSpPr/>
          <p:nvPr/>
        </p:nvCxnSpPr>
        <p:spPr>
          <a:xfrm flipH="1">
            <a:off x="1447560" y="2971800"/>
            <a:ext cx="533880" cy="3812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243" name="Picture 4" descr="D06CE10"/>
          <p:cNvPicPr/>
          <p:nvPr/>
        </p:nvPicPr>
        <p:blipFill>
          <a:blip r:embed="rId1"/>
          <a:stretch/>
        </p:blipFill>
        <p:spPr>
          <a:xfrm>
            <a:off x="228600" y="1523880"/>
            <a:ext cx="4343040" cy="4571640"/>
          </a:xfrm>
          <a:prstGeom prst="rect">
            <a:avLst/>
          </a:prstGeom>
          <a:ln w="3810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Medium"/>
              </a:rPr>
              <a:t>DIRECTION OF MUSCLE FIBERS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gradFill rotWithShape="0">
            <a:gsLst>
              <a:gs pos="0">
                <a:srgbClr val="fdddcb"/>
              </a:gs>
              <a:gs pos="100000">
                <a:srgbClr val="f79b69"/>
              </a:gs>
            </a:gsLst>
            <a:lin ang="5400000"/>
          </a:gradFill>
          <a:ln w="10080">
            <a:solidFill>
              <a:srgbClr val="c17529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Parallel to line of pull: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More range of movement,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(less powerful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Pennate (oblique to line of pull):</a:t>
            </a:r>
            <a:r>
              <a:rPr b="0" lang="en-US" sz="2800" spc="-1" strike="noStrike">
                <a:solidFill>
                  <a:schemeClr val="dk1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More powerful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 (less range of movement.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i="1" lang="en-US" sz="2800" spc="-1" strike="noStrike">
                <a:solidFill>
                  <a:srgbClr val="0d0d0d"/>
                </a:solidFill>
                <a:latin typeface="Franklin Gothic Book"/>
              </a:rPr>
              <a:t>Unipennat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i="1" lang="en-US" sz="2800" spc="-1" strike="noStrike">
                <a:solidFill>
                  <a:srgbClr val="0d0d0d"/>
                </a:solidFill>
                <a:latin typeface="Franklin Gothic Book"/>
              </a:rPr>
              <a:t>Bipennat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i="1" lang="en-US" sz="2800" spc="-1" strike="noStrike">
                <a:solidFill>
                  <a:srgbClr val="0d0d0d"/>
                </a:solidFill>
                <a:latin typeface="Franklin Gothic Book"/>
              </a:rPr>
              <a:t>Multipennat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46" name="Picture 3" descr="C:\Documents and Settings\user1\Desktop\muscles\Copy (2) of muscles.jpg"/>
          <p:cNvPicPr/>
          <p:nvPr/>
        </p:nvPicPr>
        <p:blipFill>
          <a:blip r:embed="rId1"/>
          <a:stretch/>
        </p:blipFill>
        <p:spPr>
          <a:xfrm>
            <a:off x="6858000" y="1371600"/>
            <a:ext cx="1971360" cy="2819160"/>
          </a:xfrm>
          <a:prstGeom prst="rect">
            <a:avLst/>
          </a:prstGeom>
          <a:ln w="0">
            <a:solidFill>
              <a:srgbClr val="0066ff"/>
            </a:solidFill>
          </a:ln>
        </p:spPr>
      </p:pic>
      <p:pic>
        <p:nvPicPr>
          <p:cNvPr id="247" name="Picture 4" descr="C:\Documents and Settings\user1\Desktop\muscles\Copy of muscles.jpg"/>
          <p:cNvPicPr/>
          <p:nvPr/>
        </p:nvPicPr>
        <p:blipFill>
          <a:blip r:embed="rId2"/>
          <a:stretch/>
        </p:blipFill>
        <p:spPr>
          <a:xfrm>
            <a:off x="4876920" y="4495680"/>
            <a:ext cx="1304640" cy="2133360"/>
          </a:xfrm>
          <a:prstGeom prst="rect">
            <a:avLst/>
          </a:prstGeom>
          <a:ln w="0">
            <a:solidFill>
              <a:srgbClr val="0066ff"/>
            </a:solidFill>
          </a:ln>
        </p:spPr>
      </p:pic>
      <p:pic>
        <p:nvPicPr>
          <p:cNvPr id="248" name="Picture 5" descr="C:\Documents and Settings\user1\Desktop\muscles\muscles.jpg"/>
          <p:cNvPicPr/>
          <p:nvPr/>
        </p:nvPicPr>
        <p:blipFill>
          <a:blip r:embed="rId3"/>
          <a:stretch/>
        </p:blipFill>
        <p:spPr>
          <a:xfrm>
            <a:off x="6629400" y="4343400"/>
            <a:ext cx="2276280" cy="2285640"/>
          </a:xfrm>
          <a:prstGeom prst="rect">
            <a:avLst/>
          </a:prstGeom>
          <a:ln w="0">
            <a:solidFill>
              <a:srgbClr val="0066ff"/>
            </a:solidFill>
          </a:ln>
        </p:spPr>
      </p:pic>
      <p:pic>
        <p:nvPicPr>
          <p:cNvPr id="249" name="Picture 6" descr="C:\Documents and Settings\user1\Desktop\muscles\Copy (4) of muscles.jpg"/>
          <p:cNvPicPr/>
          <p:nvPr/>
        </p:nvPicPr>
        <p:blipFill>
          <a:blip r:embed="rId4"/>
          <a:stretch/>
        </p:blipFill>
        <p:spPr>
          <a:xfrm>
            <a:off x="4952880" y="1371600"/>
            <a:ext cx="1085400" cy="2714400"/>
          </a:xfrm>
          <a:prstGeom prst="rect">
            <a:avLst/>
          </a:prstGeom>
          <a:ln w="0">
            <a:solidFill>
              <a:srgbClr val="0066ff"/>
            </a:solidFill>
          </a:ln>
        </p:spPr>
      </p:pic>
      <p:sp>
        <p:nvSpPr>
          <p:cNvPr id="250" name="TextBox 10"/>
          <p:cNvSpPr/>
          <p:nvPr/>
        </p:nvSpPr>
        <p:spPr>
          <a:xfrm>
            <a:off x="4958640" y="4114800"/>
            <a:ext cx="104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Book"/>
              </a:rPr>
              <a:t>Types  of ATTACHMENTS OF SKLETAL MUSCLES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95680" y="1371600"/>
            <a:ext cx="4419360" cy="5257440"/>
          </a:xfrm>
          <a:prstGeom prst="rect">
            <a:avLst/>
          </a:prstGeom>
          <a:gradFill rotWithShape="0">
            <a:gsLst>
              <a:gs pos="0">
                <a:srgbClr val="f2e0db"/>
              </a:gs>
              <a:gs pos="100000">
                <a:srgbClr val="dba79a"/>
              </a:gs>
            </a:gsLst>
            <a:lin ang="5400000"/>
          </a:gradFill>
          <a:ln w="10080">
            <a:solidFill>
              <a:srgbClr val="b58b80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Muscles are attached to bones, cartilage or ligaments through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(1) Tendons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ords of fibrous tissu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339966"/>
                </a:solidFill>
                <a:latin typeface="Franklin Gothic Book"/>
              </a:rPr>
              <a:t>(</a:t>
            </a:r>
            <a:r>
              <a:rPr b="1" i="1" lang="en-US" sz="2800" spc="-1" strike="noStrike" u="sng">
                <a:solidFill>
                  <a:srgbClr val="339966"/>
                </a:solidFill>
                <a:uFillTx/>
                <a:latin typeface="Franklin Gothic Book"/>
              </a:rPr>
              <a:t>2) Aponeurosis </a:t>
            </a:r>
            <a:r>
              <a:rPr b="1" lang="en-US" sz="2800" spc="-1" strike="noStrike">
                <a:solidFill>
                  <a:srgbClr val="339966"/>
                </a:solidFill>
                <a:latin typeface="Franklin Gothic Book"/>
              </a:rPr>
              <a:t>:</a:t>
            </a:r>
            <a:r>
              <a:rPr b="0" lang="en-US" sz="2800" spc="-1" strike="noStrike">
                <a:solidFill>
                  <a:schemeClr val="dk1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A thin and strong sheet of fibrous tissu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Franklin Gothic Book"/>
              </a:rPr>
              <a:t>(3) Raphe </a:t>
            </a: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An interdigitation of the tendinous ends of the flat muscl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53" name="Picture 4" descr="3"/>
          <p:cNvPicPr/>
          <p:nvPr/>
        </p:nvPicPr>
        <p:blipFill>
          <a:blip r:embed="rId1"/>
          <a:srcRect l="7818" t="0" r="4325" b="0"/>
          <a:stretch/>
        </p:blipFill>
        <p:spPr>
          <a:xfrm>
            <a:off x="533520" y="1752480"/>
            <a:ext cx="3962160" cy="4876560"/>
          </a:xfrm>
          <a:prstGeom prst="rect">
            <a:avLst/>
          </a:prstGeom>
          <a:ln w="38100">
            <a:solidFill>
              <a:srgbClr val="000000"/>
            </a:solidFill>
            <a:round/>
          </a:ln>
        </p:spPr>
      </p:pic>
      <p:sp>
        <p:nvSpPr>
          <p:cNvPr id="254" name="Rectangle 5"/>
          <p:cNvSpPr/>
          <p:nvPr/>
        </p:nvSpPr>
        <p:spPr>
          <a:xfrm>
            <a:off x="1600200" y="4114800"/>
            <a:ext cx="228240" cy="228240"/>
          </a:xfrm>
          <a:prstGeom prst="rect">
            <a:avLst/>
          </a:prstGeom>
          <a:noFill/>
          <a:ln>
            <a:solidFill>
              <a:srgbClr val="00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55" name="Rectangle 6"/>
          <p:cNvSpPr/>
          <p:nvPr/>
        </p:nvSpPr>
        <p:spPr>
          <a:xfrm flipH="1">
            <a:off x="2361600" y="3886200"/>
            <a:ext cx="380520" cy="228240"/>
          </a:xfrm>
          <a:prstGeom prst="rect">
            <a:avLst/>
          </a:prstGeom>
          <a:noFill/>
          <a:ln>
            <a:solidFill>
              <a:srgbClr val="0099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752480" y="6172200"/>
            <a:ext cx="380520" cy="228240"/>
          </a:xfrm>
          <a:prstGeom prst="rect">
            <a:avLst/>
          </a:prstGeom>
          <a:noFill/>
          <a:ln w="38100">
            <a:solidFill>
              <a:srgbClr val="ff33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841960" cy="84096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Book"/>
              </a:rPr>
              <a:t>NUMBER OF </a:t>
            </a:r>
            <a:br>
              <a:rPr sz="3600"/>
            </a:br>
            <a:r>
              <a:rPr b="1" lang="en-US" sz="3600" spc="-1" strike="noStrike" cap="all">
                <a:solidFill>
                  <a:srgbClr val="c00000"/>
                </a:solidFill>
                <a:latin typeface="Franklin Gothic Book"/>
              </a:rPr>
              <a:t>ATTACHMENTS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58" name="Table 2"/>
          <p:cNvGraphicFramePr/>
          <p:nvPr/>
        </p:nvGraphicFramePr>
        <p:xfrm>
          <a:off x="152280" y="2057400"/>
          <a:ext cx="5486040" cy="4898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159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40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Franklin Gothic Book"/>
                        </a:rPr>
                        <a:t>ORIG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Franklin Gothic Book"/>
                        </a:rPr>
                        <a:t>INSER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96280"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The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Proximal 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Mostly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Fleshy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Least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Movable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The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Distal 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Mostly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Fibrous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Most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Movable,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</a:tbl>
          </a:graphicData>
        </a:graphic>
      </p:graphicFrame>
      <p:pic>
        <p:nvPicPr>
          <p:cNvPr id="259" name="Content Placeholder 5" descr="Picture M"/>
          <p:cNvPicPr/>
          <p:nvPr/>
        </p:nvPicPr>
        <p:blipFill>
          <a:blip r:embed="rId1"/>
          <a:srcRect l="2171" t="0" r="0" b="6453"/>
          <a:stretch/>
        </p:blipFill>
        <p:spPr>
          <a:xfrm>
            <a:off x="5791320" y="1600200"/>
            <a:ext cx="3352320" cy="48002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260" name="TextBox 5"/>
          <p:cNvSpPr/>
          <p:nvPr/>
        </p:nvSpPr>
        <p:spPr>
          <a:xfrm>
            <a:off x="838080" y="1371600"/>
            <a:ext cx="4114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Franklin Gothic Book"/>
              </a:rPr>
              <a:t>(MOSTLY TW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Medium"/>
              </a:rPr>
              <a:t>MODE OF ACTION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gradFill rotWithShape="0">
            <a:gsLst>
              <a:gs pos="0">
                <a:srgbClr val="ffe7d6"/>
              </a:gs>
              <a:gs pos="100000">
                <a:srgbClr val="ffbd83"/>
              </a:gs>
            </a:gsLst>
            <a:lin ang="5400000"/>
          </a:gradFill>
          <a:ln w="10080">
            <a:solidFill>
              <a:srgbClr val="f0a22e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6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(1) Prime mover (Agonist) 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It is the chief muscle responsible for a particular movem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Franklin Gothic Book"/>
              </a:rPr>
              <a:t>Example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Quadriceps Femoris</a:t>
            </a:r>
            <a:r>
              <a:rPr b="1" lang="en-US" sz="2800" spc="-1" strike="noStrike">
                <a:solidFill>
                  <a:srgbClr val="ff0066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is the prime mover for 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Franklin Gothic Book"/>
              </a:rPr>
              <a:t>extension of the knee join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3" name="Content Placeholder 4" descr="7A104962"/>
          <p:cNvPicPr/>
          <p:nvPr/>
        </p:nvPicPr>
        <p:blipFill>
          <a:blip r:embed="rId1"/>
          <a:srcRect l="0" t="0" r="38871" b="0"/>
          <a:stretch/>
        </p:blipFill>
        <p:spPr>
          <a:xfrm>
            <a:off x="4343400" y="609480"/>
            <a:ext cx="4343040" cy="60195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264" name="Rectangle 11"/>
          <p:cNvSpPr/>
          <p:nvPr/>
        </p:nvSpPr>
        <p:spPr>
          <a:xfrm>
            <a:off x="4343400" y="4038480"/>
            <a:ext cx="304560" cy="761760"/>
          </a:xfrm>
          <a:prstGeom prst="rect">
            <a:avLst/>
          </a:prstGeom>
          <a:noFill/>
          <a:ln>
            <a:solidFill>
              <a:srgbClr val="cc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rek">
  <a:themeElements>
    <a:clrScheme name="Trek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rek">
  <a:themeElements>
    <a:clrScheme name="Trek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rek">
  <a:themeElements>
    <a:clrScheme name="Trek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rek">
  <a:themeElements>
    <a:clrScheme name="Trek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Trek">
  <a:themeElements>
    <a:clrScheme name="Trek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501</TotalTime>
  <Application>LibreOffice/7.4.7.2$Linux_X86_64 LibreOffice_project/40$Build-2</Application>
  <AppVersion>15.0000</AppVersion>
  <Words>724</Words>
  <Paragraphs>115</Paragraphs>
  <Company>King Khalid University Hospit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08:19:53Z</dcterms:created>
  <dc:creator>User</dc:creator>
  <dc:description/>
  <dc:language>en-US</dc:language>
  <cp:lastModifiedBy>Gamilah H. Al-Madani</cp:lastModifiedBy>
  <dcterms:modified xsi:type="dcterms:W3CDTF">2014-09-02T04:53:28Z</dcterms:modified>
  <cp:revision>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7</vt:r8>
  </property>
</Properties>
</file>