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0EF4-6C1F-4B67-BAA1-798E034C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DB54-E585-46AD-BDCB-C0D1FC24F2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238A-B020-4E41-85AE-874AFB9C22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5EDB-11E4-4590-BEFF-64A17286C5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 exa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8E1D-6B35-4C59-85CD-1E2AD2E622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300-5A46-4EC5-9BBC-C0F7972F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BD93-FCFB-495E-B097-FC243FAF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9A7-90F3-4F2B-9D4A-82549FA0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F025-554B-419E-B98C-A50CDF080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0728-E344-408D-BE58-0BEED29C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2BC8-2431-442C-9714-A25A9544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324E-1098-4FF0-8E49-3905C939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A029-CE66-4AAA-AEAF-32B41051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BE6E-E81A-4EA7-8BB1-40FADF19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F401-3FD6-4295-B09E-2511E9EA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C1C5-7D92-4641-9A7A-94ACBF94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1292-01C4-49B7-9E2D-54CDE669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62F2-FDA7-4B5E-BABA-F2ED53D3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8CA6-749C-4B04-AAE8-EB55439D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CE5B-4036-4490-9A24-9870E343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E369-800C-410A-96FA-3B6B19BF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5FD9-813A-424A-A6A7-DE0A835A1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8178-6CFE-4011-BBF7-A7870D37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0F3F6-EFC1-47D6-9977-541C41E5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93A8-9DCA-435B-ACF3-C3118562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B2C57-B6C2-4B7A-AE5B-59DAFF65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5D1F-32F0-44BA-8E63-6DDA45D4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74B-2623-42BD-B09D-528232F1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873B-388A-4F2D-BA56-16A1CBC5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ABF0-9E59-4FA5-A9F1-1E51B750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EAA6-5D5A-4292-B5B3-0D3C163A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1A65-3776-442F-AF60-836A2764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86200-5A8A-4B08-B607-32735FFB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A5437-DFC5-446B-B62B-692C00A05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B5325-DD6D-4E41-A640-5C27A242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1131A-8778-4C52-B9FF-14D1D95B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97E9A-F0D0-46C3-9BD1-2E7A2B1C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156B5-9F82-4741-BBD7-437810BD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E379-A92B-4D4C-842D-0B9BC129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3B437-DE4C-4858-90DB-35E4BE1B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2887-19C4-40C8-AAE6-D54D1E73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BC94-CABF-4DE2-86D3-9903F43B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527C-4F32-43FA-B57F-904D9A82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2DC3A-3169-4002-AA7C-26914126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4CDC1-7033-4C50-A283-1C777242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3203D-D5EB-49BD-8B4C-42523D70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5BC21-8565-4D0E-A417-A120206B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27517-D1EC-4F2F-90A3-76E63CFA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659-F25B-43DD-BAE9-C0CD3B2B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443-A296-4FE1-93CB-13DC8324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F6E-8784-444A-BDE1-36B35183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058-BA54-4954-AB93-03A5FA4E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668-3459-4243-9EF7-E48811D8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7C16-B3EB-4126-854C-5705DE917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59FB-19EF-4C5E-B6F1-03A71CB23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7CA4-4396-491E-8D46-57091EB0F78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-</a:t>
            </a:r>
            <a:fld id="{4F181E97-223A-465A-B50C-D5CEA5457B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7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.sa/url?sa=i&amp;source=images&amp;cd=&amp;cad=rja&amp;docid=ROnV4G0Pxo87iM&amp;tbnid=jThjworZa_MO0M:&amp;ved=0CAgQjRwwAA&amp;url=http%3A%2F%2Fwww.pc.maricopa.edu%2FBiology%2Fpfinkenstadt%2FBIO201%2F201LessonBuilder%2FUnitFour%2FNervous_tissue%2Findex.html&amp;ei=1cEqUsGTCbOe7AaEhYHwCA&amp;psig=AFQjCNGjgpgbzZqERLd1n-7eTeiUUi0jXQ&amp;ust=1378620245300450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1511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Rounded MT Bold"/>
              </a:rPr>
              <a:t>The Nervous Syst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b11"/>
          <p:cNvPicPr/>
          <p:nvPr/>
        </p:nvPicPr>
        <p:blipFill>
          <a:blip r:embed="rId1"/>
          <a:stretch/>
        </p:blipFill>
        <p:spPr>
          <a:xfrm>
            <a:off x="3995640" y="476280"/>
            <a:ext cx="12240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B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611280" y="1989000"/>
            <a:ext cx="20160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rebru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 Cerebral hemisphe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9"/>
          <p:cNvSpPr/>
          <p:nvPr/>
        </p:nvSpPr>
        <p:spPr>
          <a:xfrm>
            <a:off x="6588000" y="3789360"/>
            <a:ext cx="2160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rebell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10"/>
          <p:cNvSpPr/>
          <p:nvPr/>
        </p:nvSpPr>
        <p:spPr>
          <a:xfrm>
            <a:off x="6300720" y="4797360"/>
            <a:ext cx="25923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rainste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b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ulla oblong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11"/>
          <p:cNvSpPr/>
          <p:nvPr/>
        </p:nvSpPr>
        <p:spPr>
          <a:xfrm>
            <a:off x="539640" y="3284640"/>
            <a:ext cx="2160720" cy="161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encephal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lamus, Hypothalamus, Subthalamus &amp; Epithala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5" descr="C:\Users\user\Pictures\111.jpg"/>
          <p:cNvPicPr/>
          <p:nvPr/>
        </p:nvPicPr>
        <p:blipFill>
          <a:blip r:embed="rId1"/>
          <a:stretch/>
        </p:blipFill>
        <p:spPr>
          <a:xfrm>
            <a:off x="2843280" y="2133720"/>
            <a:ext cx="3409920" cy="3456000"/>
          </a:xfrm>
          <a:prstGeom prst="rect">
            <a:avLst/>
          </a:prstGeom>
          <a:ln w="0">
            <a:noFill/>
          </a:ln>
        </p:spPr>
      </p:pic>
      <p:sp>
        <p:nvSpPr>
          <p:cNvPr id="382" name="Straight Connector 13"/>
          <p:cNvSpPr/>
          <p:nvPr/>
        </p:nvSpPr>
        <p:spPr>
          <a:xfrm>
            <a:off x="2627280" y="2708280"/>
            <a:ext cx="1006560" cy="7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Straight Connector 14"/>
          <p:cNvSpPr/>
          <p:nvPr/>
        </p:nvSpPr>
        <p:spPr>
          <a:xfrm flipV="1">
            <a:off x="2700360" y="3500280"/>
            <a:ext cx="1727280" cy="433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traight Connector 19"/>
          <p:cNvSpPr/>
          <p:nvPr/>
        </p:nvSpPr>
        <p:spPr>
          <a:xfrm flipH="1">
            <a:off x="5724360" y="4149720"/>
            <a:ext cx="936720" cy="231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5"/>
          <p:cNvSpPr/>
          <p:nvPr/>
        </p:nvSpPr>
        <p:spPr>
          <a:xfrm>
            <a:off x="826920" y="907920"/>
            <a:ext cx="78487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ain is a large mass of nervous tissue located in the cranial cavity. It has four major 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ight Bracket 21"/>
          <p:cNvSpPr/>
          <p:nvPr/>
        </p:nvSpPr>
        <p:spPr>
          <a:xfrm rot="20547600">
            <a:off x="4862160" y="3622680"/>
            <a:ext cx="71280" cy="1436760"/>
          </a:xfrm>
          <a:custGeom>
            <a:avLst/>
            <a:gdLst>
              <a:gd name="textAreaLeft" fmla="*/ 0 w 71280"/>
              <a:gd name="textAreaRight" fmla="*/ 50040 w 71280"/>
              <a:gd name="textAreaTop" fmla="*/ 2880 h 1436760"/>
              <a:gd name="textAreaBottom" fmla="*/ 1433880 h 14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5"/>
                  <a:pt x="21600" y="89"/>
                </a:cubicBezTo>
                <a:lnTo>
                  <a:pt x="21600" y="21511"/>
                </a:lnTo>
                <a:cubicBezTo>
                  <a:pt x="21600" y="21556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22"/>
          <p:cNvSpPr/>
          <p:nvPr/>
        </p:nvSpPr>
        <p:spPr>
          <a:xfrm>
            <a:off x="4500720" y="4005360"/>
            <a:ext cx="2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23"/>
          <p:cNvSpPr/>
          <p:nvPr/>
        </p:nvSpPr>
        <p:spPr>
          <a:xfrm>
            <a:off x="4643280" y="4581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24"/>
          <p:cNvSpPr/>
          <p:nvPr/>
        </p:nvSpPr>
        <p:spPr>
          <a:xfrm>
            <a:off x="4427640" y="3716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Straight Connector 25"/>
          <p:cNvSpPr/>
          <p:nvPr/>
        </p:nvSpPr>
        <p:spPr>
          <a:xfrm flipH="1" flipV="1">
            <a:off x="4932000" y="4365720"/>
            <a:ext cx="1368360" cy="792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8" descr="C:\Documents and Settings\user\My Documents\My Pictures\corpus c.bmp"/>
          <p:cNvPicPr/>
          <p:nvPr/>
        </p:nvPicPr>
        <p:blipFill>
          <a:blip r:embed="rId1"/>
          <a:stretch/>
        </p:blipFill>
        <p:spPr>
          <a:xfrm>
            <a:off x="5219640" y="747720"/>
            <a:ext cx="3571920" cy="45338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0"/>
          <p:cNvSpPr/>
          <p:nvPr/>
        </p:nvSpPr>
        <p:spPr>
          <a:xfrm>
            <a:off x="6159600" y="3333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rpus callo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3" name="Straight Arrow Connector 15"/>
          <p:cNvCxnSpPr/>
          <p:nvPr/>
        </p:nvCxnSpPr>
        <p:spPr>
          <a:xfrm>
            <a:off x="6991200" y="691920"/>
            <a:ext cx="15120" cy="1732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4" name="TextBox 19"/>
          <p:cNvSpPr/>
          <p:nvPr/>
        </p:nvSpPr>
        <p:spPr>
          <a:xfrm>
            <a:off x="7167600" y="2060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ght hemi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Box 20"/>
          <p:cNvSpPr/>
          <p:nvPr/>
        </p:nvSpPr>
        <p:spPr>
          <a:xfrm>
            <a:off x="5438880" y="213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ft hemi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15"/>
          <p:cNvSpPr/>
          <p:nvPr/>
        </p:nvSpPr>
        <p:spPr>
          <a:xfrm rot="19797000">
            <a:off x="7119720" y="33174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395280" y="836640"/>
            <a:ext cx="4753080" cy="26636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argest part of the brain, has two hemisphe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rebral hemispheres are connected by a thick bundle of nerve fibers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rpus callo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rface shows ridges of tissue,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yri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d by grooves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ul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8" name="Straight Arrow Connector 11"/>
          <p:cNvCxnSpPr/>
          <p:nvPr/>
        </p:nvCxnSpPr>
        <p:spPr>
          <a:xfrm flipH="1" flipV="1">
            <a:off x="8071920" y="4149360"/>
            <a:ext cx="216720" cy="720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99" name="Straight Arrow Connector 12"/>
          <p:cNvCxnSpPr/>
          <p:nvPr/>
        </p:nvCxnSpPr>
        <p:spPr>
          <a:xfrm flipH="1" flipV="1">
            <a:off x="7495920" y="4652640"/>
            <a:ext cx="792720" cy="21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0" name="Straight Arrow Connector 13"/>
          <p:cNvCxnSpPr/>
          <p:nvPr/>
        </p:nvCxnSpPr>
        <p:spPr>
          <a:xfrm flipH="1" flipV="1">
            <a:off x="8214480" y="3212640"/>
            <a:ext cx="73800" cy="165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1" name="TextBox 15"/>
          <p:cNvSpPr/>
          <p:nvPr/>
        </p:nvSpPr>
        <p:spPr>
          <a:xfrm>
            <a:off x="7999560" y="479736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lc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6"/>
          <p:cNvSpPr/>
          <p:nvPr/>
        </p:nvSpPr>
        <p:spPr>
          <a:xfrm>
            <a:off x="395280" y="3645000"/>
            <a:ext cx="3168720" cy="2232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d by deeper sulci, into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4 lob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on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i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mp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cipi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457200" y="115920"/>
            <a:ext cx="785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R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17" descr="C:\Documents and Settings\user\My Documents\My Pictures\figure5-22.jpg"/>
          <p:cNvPicPr/>
          <p:nvPr/>
        </p:nvPicPr>
        <p:blipFill>
          <a:blip r:embed="rId6"/>
          <a:srcRect l="0" t="0" r="0" b="6015"/>
          <a:stretch/>
        </p:blipFill>
        <p:spPr>
          <a:xfrm>
            <a:off x="2700360" y="4292640"/>
            <a:ext cx="2448000" cy="224460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5"/>
          <p:cNvSpPr/>
          <p:nvPr/>
        </p:nvSpPr>
        <p:spPr>
          <a:xfrm rot="19797000">
            <a:off x="6972120" y="43984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5"/>
          <p:cNvSpPr/>
          <p:nvPr/>
        </p:nvSpPr>
        <p:spPr>
          <a:xfrm rot="2286600">
            <a:off x="5824440" y="348624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SSUE OF THE CEREBRAL HEMISPHE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5280" y="3429000"/>
            <a:ext cx="8424720" cy="2952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utermost layer is calle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gray ma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er is located the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white ma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omposed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ber tra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bundles of nerve fibers), carrying impulses to and from the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deep within the white matter are masses of grey matter called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sal nucle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y help the motor cortex in the regulation of voluntary motor activ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8" descr="File0525a"/>
          <p:cNvPicPr/>
          <p:nvPr/>
        </p:nvPicPr>
        <p:blipFill>
          <a:blip r:embed="rId4"/>
          <a:srcRect l="0" t="35133" r="1253" b="16229"/>
          <a:stretch/>
        </p:blipFill>
        <p:spPr>
          <a:xfrm>
            <a:off x="1763640" y="765000"/>
            <a:ext cx="5616720" cy="2592720"/>
          </a:xfrm>
          <a:prstGeom prst="rect">
            <a:avLst/>
          </a:prstGeom>
          <a:ln w="0">
            <a:noFill/>
          </a:ln>
        </p:spPr>
      </p:pic>
      <p:cxnSp>
        <p:nvCxnSpPr>
          <p:cNvPr id="410" name="Straight Arrow Connector 5"/>
          <p:cNvCxnSpPr/>
          <p:nvPr/>
        </p:nvCxnSpPr>
        <p:spPr>
          <a:xfrm>
            <a:off x="4932000" y="980640"/>
            <a:ext cx="648360" cy="108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triangle" w="med"/>
          </a:ln>
        </p:spPr>
      </p:cxnSp>
      <p:sp>
        <p:nvSpPr>
          <p:cNvPr id="411" name="TextBox 6"/>
          <p:cNvSpPr/>
          <p:nvPr/>
        </p:nvSpPr>
        <p:spPr>
          <a:xfrm>
            <a:off x="5580000" y="836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rt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7"/>
          <p:cNvSpPr/>
          <p:nvPr/>
        </p:nvSpPr>
        <p:spPr>
          <a:xfrm>
            <a:off x="6516720" y="105264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White mat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5940360" y="1773360"/>
            <a:ext cx="792360" cy="1443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EL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Picture 5" descr="File0526"/>
          <p:cNvPicPr/>
          <p:nvPr/>
        </p:nvPicPr>
        <p:blipFill>
          <a:blip r:embed="rId1"/>
          <a:stretch/>
        </p:blipFill>
        <p:spPr>
          <a:xfrm>
            <a:off x="395280" y="692280"/>
            <a:ext cx="4975200" cy="3168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8"/>
          <p:cNvSpPr/>
          <p:nvPr/>
        </p:nvSpPr>
        <p:spPr>
          <a:xfrm>
            <a:off x="395280" y="3933720"/>
            <a:ext cx="4968720" cy="1984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lin ang="5400000"/>
          </a:gradFill>
          <a:ln w="9360">
            <a:solidFill>
              <a:srgbClr val="ffc000"/>
            </a:solidFill>
            <a:miter/>
          </a:ln>
          <a:effectLst>
            <a:outerShdw dist="40186" dir="1096358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cerebell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s 2 hemispheres and a convoluted surface. It has an outer cortex of gray matter and an inner region of white matter. It provid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 coordination for body movements and helps maintain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6" descr="C:\Documents and Settings\Zeenet\My Documents\My Pictures\neuroCerebellumSuperiorGrayBB702.gif"/>
          <p:cNvPicPr/>
          <p:nvPr/>
        </p:nvPicPr>
        <p:blipFill>
          <a:blip r:embed="rId2"/>
          <a:stretch/>
        </p:blipFill>
        <p:spPr>
          <a:xfrm>
            <a:off x="5435640" y="692280"/>
            <a:ext cx="3217680" cy="1873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7" descr="C:\Documents and Settings\Zeenet\My Documents\My Pictures\f15-22a_cerebellum_mids_c.jpg"/>
          <p:cNvPicPr/>
          <p:nvPr/>
        </p:nvPicPr>
        <p:blipFill>
          <a:blip r:embed="rId3"/>
          <a:srcRect l="0" t="11408" r="0" b="8775"/>
          <a:stretch/>
        </p:blipFill>
        <p:spPr>
          <a:xfrm>
            <a:off x="5435640" y="2708280"/>
            <a:ext cx="3268800" cy="3241800"/>
          </a:xfrm>
          <a:prstGeom prst="rect">
            <a:avLst/>
          </a:prstGeom>
          <a:ln w="0">
            <a:noFill/>
          </a:ln>
        </p:spPr>
      </p:pic>
      <p:sp>
        <p:nvSpPr>
          <p:cNvPr id="419" name="Oval 7"/>
          <p:cNvSpPr/>
          <p:nvPr/>
        </p:nvSpPr>
        <p:spPr>
          <a:xfrm>
            <a:off x="2771640" y="2276640"/>
            <a:ext cx="1152720" cy="93636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pinal C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4920" y="837720"/>
            <a:ext cx="5040360" cy="575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a two-way conduction pathway to the brain &amp; a major reflex cen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2-45 cm long, cylindrical in shape, lies within the vertebral cana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foramen magnum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L2 verteb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tinuous above with 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medulla oblong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udal tapering end is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us medullar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s 2 enlargements: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ervic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lumbosac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ives rise to 31 pairs of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pinal nerv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oup of spinal nerves at the end of the spinal cord is called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cauda equina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13" descr="see65576_1201"/>
          <p:cNvPicPr/>
          <p:nvPr/>
        </p:nvPicPr>
        <p:blipFill>
          <a:blip r:embed="rId9"/>
          <a:stretch/>
        </p:blipFill>
        <p:spPr>
          <a:xfrm>
            <a:off x="5580000" y="1125360"/>
            <a:ext cx="3353040" cy="472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3" name="AutoShape 8"/>
          <p:cNvSpPr/>
          <p:nvPr/>
        </p:nvSpPr>
        <p:spPr>
          <a:xfrm>
            <a:off x="8028000" y="378936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7956720" y="4221000"/>
            <a:ext cx="792000" cy="3700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5796000" y="191628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5651640" y="378936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oss Section of Spinal C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000" y="762120"/>
            <a:ext cx="3095640" cy="41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pinal cord is incompletely divided into two equal parts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y a short, shallow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n fissur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200" spc="-1" strike="noStrike">
                <a:solidFill>
                  <a:srgbClr val="ff00ff"/>
                </a:solidFill>
                <a:latin typeface="Arial"/>
              </a:rPr>
              <a:t>posteriorl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y a deep narrow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median septu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composed of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rey matter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the centre surrounded by </a:t>
            </a:r>
            <a:r>
              <a:rPr b="1" lang="en-US" sz="2200" spc="-1" strike="noStrike">
                <a:solidFill>
                  <a:srgbClr val="b8b8ff"/>
                </a:solidFill>
                <a:latin typeface="Arial"/>
              </a:rPr>
              <a:t>white mat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755640" y="5013360"/>
            <a:ext cx="7129440" cy="115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rangement of grey matter resembles the shape of the letter H, having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ter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ter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ter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ns/colum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12" descr="C:\Users\Zeenat\Pictures\Figure_35_03_07.jpg"/>
          <p:cNvPicPr/>
          <p:nvPr/>
        </p:nvPicPr>
        <p:blipFill>
          <a:blip r:embed="rId2"/>
          <a:stretch/>
        </p:blipFill>
        <p:spPr>
          <a:xfrm>
            <a:off x="3492360" y="1484280"/>
            <a:ext cx="5504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ripheral Ner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41440" y="3355560"/>
            <a:ext cx="39592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ani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ai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hed to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&amp; numbered from 1-1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Content Placeholder 2"/>
          <p:cNvSpPr/>
          <p:nvPr/>
        </p:nvSpPr>
        <p:spPr>
          <a:xfrm>
            <a:off x="1042920" y="1125360"/>
            <a:ext cx="726444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s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x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Content Placeholder 2"/>
          <p:cNvSpPr/>
          <p:nvPr/>
        </p:nvSpPr>
        <p:spPr>
          <a:xfrm>
            <a:off x="4572000" y="2492280"/>
            <a:ext cx="41054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pi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hed to spinal co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and numbered according to the region of the spinal 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5" name="Straight Arrow Connector 8"/>
          <p:cNvCxnSpPr/>
          <p:nvPr/>
        </p:nvCxnSpPr>
        <p:spPr>
          <a:xfrm>
            <a:off x="3492000" y="2133720"/>
            <a:ext cx="1008720" cy="7912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36" name="Straight Arrow Connector 9"/>
          <p:cNvCxnSpPr/>
          <p:nvPr/>
        </p:nvCxnSpPr>
        <p:spPr>
          <a:xfrm flipH="1">
            <a:off x="2771280" y="2133360"/>
            <a:ext cx="721440" cy="11516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NS04"/>
          <p:cNvPicPr/>
          <p:nvPr/>
        </p:nvPicPr>
        <p:blipFill>
          <a:blip r:embed="rId1"/>
          <a:stretch/>
        </p:blipFill>
        <p:spPr>
          <a:xfrm>
            <a:off x="4572000" y="620640"/>
            <a:ext cx="4300560" cy="5761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38" name="Text Box 5"/>
          <p:cNvSpPr/>
          <p:nvPr/>
        </p:nvSpPr>
        <p:spPr>
          <a:xfrm>
            <a:off x="7093080" y="134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6"/>
          <p:cNvSpPr/>
          <p:nvPr/>
        </p:nvSpPr>
        <p:spPr>
          <a:xfrm>
            <a:off x="826920" y="40464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ANIAL N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7"/>
          <p:cNvSpPr/>
          <p:nvPr/>
        </p:nvSpPr>
        <p:spPr>
          <a:xfrm>
            <a:off x="539640" y="1052640"/>
            <a:ext cx="3961080" cy="5216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pairs are mi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igeminal n. (5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acial n. (7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lossopharyngeal n. (9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agus n. (10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pairs are mo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culomotor n. (3r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ochlear n. (4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ducent n. (6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essory n. (11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ypoglossal n. (12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 pairs are senso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lfactory n. (1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ptic n. (2nd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stibulocochlear n. (8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inal Nerves and Nerve Plex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78920" y="1052280"/>
            <a:ext cx="4038840" cy="5545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inal nerve is attached by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wo roots: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(sensory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entral (mo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rsal root bears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ory ganglion (D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inal nerve exits from the intervertebral foramen and divides into a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and ventral ra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mi contain both sensory and motor fi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3" descr="C:\Documents and Settings\user\My Documents\My Pictures\800px-Spinal_nerve.svg.png"/>
          <p:cNvPicPr/>
          <p:nvPr/>
        </p:nvPicPr>
        <p:blipFill>
          <a:blip r:embed="rId7"/>
          <a:stretch/>
        </p:blipFill>
        <p:spPr>
          <a:xfrm>
            <a:off x="4284720" y="3860640"/>
            <a:ext cx="4370400" cy="27291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4"/>
          <p:cNvSpPr/>
          <p:nvPr/>
        </p:nvSpPr>
        <p:spPr>
          <a:xfrm>
            <a:off x="6156360" y="4076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Box 5"/>
          <p:cNvSpPr/>
          <p:nvPr/>
        </p:nvSpPr>
        <p:spPr>
          <a:xfrm>
            <a:off x="4572000" y="558972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Ventral ram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4500720" y="422100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orsal ram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Picture 11" descr="C:\Users\user\Pictures\Picture1hgb.jpg"/>
          <p:cNvPicPr/>
          <p:nvPr/>
        </p:nvPicPr>
        <p:blipFill>
          <a:blip r:embed="rId8"/>
          <a:stretch/>
        </p:blipFill>
        <p:spPr>
          <a:xfrm>
            <a:off x="5219640" y="907920"/>
            <a:ext cx="261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Content Placeholder 2"/>
          <p:cNvSpPr/>
          <p:nvPr/>
        </p:nvSpPr>
        <p:spPr>
          <a:xfrm>
            <a:off x="179280" y="260280"/>
            <a:ext cx="4032360" cy="3889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ram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distributed individually, supply the skin and muscles of the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entral ram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exuse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in thoracic region where the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rcostal ner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anterior part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5" descr="C:\Users\user\Pictures\asa.png"/>
          <p:cNvPicPr/>
          <p:nvPr/>
        </p:nvPicPr>
        <p:blipFill>
          <a:blip r:embed="rId4"/>
          <a:srcRect l="7408" t="1287" r="14816" b="999"/>
          <a:stretch/>
        </p:blipFill>
        <p:spPr>
          <a:xfrm>
            <a:off x="4356000" y="333360"/>
            <a:ext cx="4537080" cy="5688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1" descr="C:\Users\user\Pictures\Picture1hgb.jpg"/>
          <p:cNvPicPr/>
          <p:nvPr/>
        </p:nvPicPr>
        <p:blipFill>
          <a:blip r:embed="rId5"/>
          <a:stretch/>
        </p:blipFill>
        <p:spPr>
          <a:xfrm>
            <a:off x="971640" y="4221000"/>
            <a:ext cx="237636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03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t the end of the lecture, the students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subdivisions of the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terms: grey matter, white matter, nucleus, ganglion, tract and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parts of the br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he external and internal features of spinal c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cranial ne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parts and distribution of the spin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term ‘dermatom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structures protecting the central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ermat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663640" cy="288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gment of skin supplied by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gmental spinal ner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alled a ‘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Dermato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10" descr="see65576_1214"/>
          <p:cNvPicPr/>
          <p:nvPr/>
        </p:nvPicPr>
        <p:blipFill>
          <a:blip r:embed="rId2"/>
          <a:stretch/>
        </p:blipFill>
        <p:spPr>
          <a:xfrm>
            <a:off x="3276720" y="1052640"/>
            <a:ext cx="5560920" cy="468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THE 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4724280"/>
            <a:ext cx="4470120" cy="16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NS IS PROTECTED 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Skull and the vertebral col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ening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embranes): 3 la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erebrospinal fl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in the subarachnoid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64000" y="4724280"/>
            <a:ext cx="3456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ura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outermo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rachnoid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idd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ia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innermo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5" descr="File0529"/>
          <p:cNvPicPr/>
          <p:nvPr/>
        </p:nvPicPr>
        <p:blipFill>
          <a:blip r:embed="rId7"/>
          <a:srcRect l="0" t="6079" r="6688" b="12021"/>
          <a:stretch/>
        </p:blipFill>
        <p:spPr>
          <a:xfrm>
            <a:off x="611280" y="765000"/>
            <a:ext cx="8136000" cy="387216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11"/>
          <p:cNvSpPr/>
          <p:nvPr/>
        </p:nvSpPr>
        <p:spPr>
          <a:xfrm>
            <a:off x="8028000" y="2133720"/>
            <a:ext cx="574560" cy="43956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12"/>
          <p:cNvSpPr/>
          <p:nvPr/>
        </p:nvSpPr>
        <p:spPr>
          <a:xfrm>
            <a:off x="7093080" y="2565360"/>
            <a:ext cx="1295280" cy="2383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13"/>
          <p:cNvSpPr/>
          <p:nvPr/>
        </p:nvSpPr>
        <p:spPr>
          <a:xfrm>
            <a:off x="7020000" y="2781360"/>
            <a:ext cx="863640" cy="2080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1" name="Straight Arrow Connector 9"/>
          <p:cNvCxnSpPr/>
          <p:nvPr/>
        </p:nvCxnSpPr>
        <p:spPr>
          <a:xfrm flipV="1">
            <a:off x="4427640" y="5444640"/>
            <a:ext cx="1008720" cy="145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62" name="Straight Arrow Connector 10"/>
          <p:cNvCxnSpPr/>
          <p:nvPr/>
        </p:nvCxnSpPr>
        <p:spPr>
          <a:xfrm>
            <a:off x="4427280" y="5589360"/>
            <a:ext cx="937080" cy="216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63" name="Straight Arrow Connector 11"/>
          <p:cNvCxnSpPr/>
          <p:nvPr/>
        </p:nvCxnSpPr>
        <p:spPr>
          <a:xfrm>
            <a:off x="4427280" y="5589720"/>
            <a:ext cx="937080" cy="504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4" name="AutoShape 11"/>
          <p:cNvSpPr/>
          <p:nvPr/>
        </p:nvSpPr>
        <p:spPr>
          <a:xfrm>
            <a:off x="684360" y="3500280"/>
            <a:ext cx="1223640" cy="439920"/>
          </a:xfrm>
          <a:prstGeom prst="roundRect">
            <a:avLst>
              <a:gd name="adj" fmla="val 16667"/>
            </a:avLst>
          </a:prstGeom>
          <a:solidFill>
            <a:srgbClr val="00b050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1376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ROSPINAL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8" descr="File0532"/>
          <p:cNvPicPr/>
          <p:nvPr/>
        </p:nvPicPr>
        <p:blipFill>
          <a:blip r:embed="rId1"/>
          <a:stretch/>
        </p:blipFill>
        <p:spPr>
          <a:xfrm>
            <a:off x="755640" y="674640"/>
            <a:ext cx="7561440" cy="60674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9"/>
          <p:cNvSpPr/>
          <p:nvPr/>
        </p:nvSpPr>
        <p:spPr>
          <a:xfrm>
            <a:off x="324000" y="907920"/>
            <a:ext cx="2174760" cy="1923480"/>
          </a:xfrm>
          <a:prstGeom prst="rect">
            <a:avLst/>
          </a:prstGeom>
          <a:gradFill rotWithShape="0">
            <a:gsLst>
              <a:gs pos="0">
                <a:srgbClr val="182f76">
                  <a:alpha val="53333"/>
                </a:srgbClr>
              </a:gs>
              <a:gs pos="100000">
                <a:srgbClr val="3366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F is constantly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roduc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oroid plexu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ide the ventricles of b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11"/>
          <p:cNvSpPr/>
          <p:nvPr/>
        </p:nvSpPr>
        <p:spPr>
          <a:xfrm>
            <a:off x="5708520" y="4151160"/>
            <a:ext cx="1071720" cy="28584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39640" y="4149720"/>
            <a:ext cx="3024360" cy="2533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of the CSF drains from the ventricles in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barachoid spac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 the brain and spinal cord. A little amount flows down in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ntral can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the spinal co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15"/>
          <p:cNvSpPr/>
          <p:nvPr/>
        </p:nvSpPr>
        <p:spPr>
          <a:xfrm>
            <a:off x="5343480" y="4684680"/>
            <a:ext cx="905040" cy="39996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16"/>
          <p:cNvSpPr/>
          <p:nvPr/>
        </p:nvSpPr>
        <p:spPr>
          <a:xfrm>
            <a:off x="4686480" y="4071960"/>
            <a:ext cx="4680" cy="8240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reeform 18"/>
          <p:cNvSpPr/>
          <p:nvPr/>
        </p:nvSpPr>
        <p:spPr>
          <a:xfrm>
            <a:off x="4732200" y="3833640"/>
            <a:ext cx="768600" cy="255600"/>
          </a:xfrm>
          <a:custGeom>
            <a:avLst/>
            <a:gdLst>
              <a:gd name="textAreaLeft" fmla="*/ 0 w 768600"/>
              <a:gd name="textAreaRight" fmla="*/ 768960 w 76860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484" h="161">
                <a:moveTo>
                  <a:pt x="4" y="138"/>
                </a:moveTo>
                <a:cubicBezTo>
                  <a:pt x="2" y="149"/>
                  <a:pt x="0" y="161"/>
                  <a:pt x="43" y="156"/>
                </a:cubicBezTo>
                <a:cubicBezTo>
                  <a:pt x="86" y="151"/>
                  <a:pt x="192" y="131"/>
                  <a:pt x="265" y="105"/>
                </a:cubicBezTo>
                <a:cubicBezTo>
                  <a:pt x="338" y="79"/>
                  <a:pt x="449" y="20"/>
                  <a:pt x="484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Freeform 19"/>
          <p:cNvSpPr/>
          <p:nvPr/>
        </p:nvSpPr>
        <p:spPr>
          <a:xfrm>
            <a:off x="5700600" y="1671480"/>
            <a:ext cx="147600" cy="176400"/>
          </a:xfrm>
          <a:custGeom>
            <a:avLst/>
            <a:gdLst/>
            <a:ahLst/>
            <a:rect l="l" t="t" r="r" b="b"/>
            <a:pathLst>
              <a:path w="93" h="111">
                <a:moveTo>
                  <a:pt x="0" y="0"/>
                </a:moveTo>
                <a:cubicBezTo>
                  <a:pt x="16" y="13"/>
                  <a:pt x="33" y="27"/>
                  <a:pt x="48" y="45"/>
                </a:cubicBezTo>
                <a:cubicBezTo>
                  <a:pt x="63" y="63"/>
                  <a:pt x="86" y="105"/>
                  <a:pt x="93" y="1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Freeform 20"/>
          <p:cNvSpPr/>
          <p:nvPr/>
        </p:nvSpPr>
        <p:spPr>
          <a:xfrm>
            <a:off x="4662360" y="1138320"/>
            <a:ext cx="209520" cy="33120"/>
          </a:xfrm>
          <a:custGeom>
            <a:avLst/>
            <a:gdLst>
              <a:gd name="textAreaLeft" fmla="*/ 0 w 209520"/>
              <a:gd name="textAreaRight" fmla="*/ 209880 w 2095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32" h="21">
                <a:moveTo>
                  <a:pt x="0" y="21"/>
                </a:moveTo>
                <a:cubicBezTo>
                  <a:pt x="10" y="10"/>
                  <a:pt x="20" y="0"/>
                  <a:pt x="42" y="0"/>
                </a:cubicBezTo>
                <a:cubicBezTo>
                  <a:pt x="64" y="0"/>
                  <a:pt x="120" y="17"/>
                  <a:pt x="132" y="2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Freeform 21"/>
          <p:cNvSpPr/>
          <p:nvPr/>
        </p:nvSpPr>
        <p:spPr>
          <a:xfrm>
            <a:off x="4425840" y="2882880"/>
            <a:ext cx="209520" cy="596880"/>
          </a:xfrm>
          <a:custGeom>
            <a:avLst/>
            <a:gdLst>
              <a:gd name="textAreaLeft" fmla="*/ 0 w 209520"/>
              <a:gd name="textAreaRight" fmla="*/ 209880 w 2095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32" h="376">
                <a:moveTo>
                  <a:pt x="0" y="0"/>
                </a:moveTo>
                <a:cubicBezTo>
                  <a:pt x="21" y="60"/>
                  <a:pt x="42" y="121"/>
                  <a:pt x="64" y="184"/>
                </a:cubicBezTo>
                <a:cubicBezTo>
                  <a:pt x="86" y="247"/>
                  <a:pt x="122" y="345"/>
                  <a:pt x="132" y="376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5580000" y="5084640"/>
            <a:ext cx="2448000" cy="161856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F is constantly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drai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ural  sinu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ugh the arachnoid vill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5" descr="thumb_flower16"/>
          <p:cNvPicPr/>
          <p:nvPr/>
        </p:nvPicPr>
        <p:blipFill>
          <a:blip r:embed="rId1"/>
          <a:srcRect l="16289" t="3075" r="14286" b="8317"/>
          <a:stretch/>
        </p:blipFill>
        <p:spPr>
          <a:xfrm>
            <a:off x="2214720" y="857160"/>
            <a:ext cx="5000400" cy="4786560"/>
          </a:xfrm>
          <a:prstGeom prst="rect">
            <a:avLst/>
          </a:prstGeom>
          <a:ln w="0">
            <a:noFill/>
          </a:ln>
        </p:spPr>
      </p:pic>
      <p:sp>
        <p:nvSpPr>
          <p:cNvPr id="478" name="WordArt 6"/>
          <p:cNvSpPr txBox="1"/>
          <p:nvPr/>
        </p:nvSpPr>
        <p:spPr>
          <a:xfrm>
            <a:off x="2500200" y="2714760"/>
            <a:ext cx="44006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atisse ITC"/>
              </a:rPr>
              <a:t>Thank  U &amp; Good luck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atisse ITC"/>
              <a:ea typeface="Matiss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50560" y="189000"/>
            <a:ext cx="4608360" cy="64548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rvous system h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fun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llection of sensory inpu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dentifies changes occurring inside and outside the body by using sensory receptors. These changes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m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ocesses, analyses and interprets these changes and makes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then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ffects a respon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ctivating muscles or glands (effectors) vi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or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7" descr="File0514"/>
          <p:cNvPicPr/>
          <p:nvPr/>
        </p:nvPicPr>
        <p:blipFill>
          <a:blip r:embed="rId3"/>
          <a:stretch/>
        </p:blipFill>
        <p:spPr>
          <a:xfrm>
            <a:off x="4859280" y="1773360"/>
            <a:ext cx="3987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5" descr="File0517"/>
          <p:cNvPicPr/>
          <p:nvPr/>
        </p:nvPicPr>
        <p:blipFill>
          <a:blip r:embed="rId1"/>
          <a:stretch/>
        </p:blipFill>
        <p:spPr>
          <a:xfrm>
            <a:off x="4572000" y="692280"/>
            <a:ext cx="3816360" cy="59054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ctura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3313080" cy="3600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Arial"/>
              </a:rPr>
              <a:t>Central Nervous System (CNS)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&amp; Spinal 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ipheral Nervous System (PNS)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rves (cranial, spinal) &amp; gang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9"/>
          <p:cNvSpPr/>
          <p:nvPr/>
        </p:nvSpPr>
        <p:spPr>
          <a:xfrm>
            <a:off x="4643280" y="1341360"/>
            <a:ext cx="474840" cy="647640"/>
          </a:xfrm>
          <a:custGeom>
            <a:avLst/>
            <a:gdLst>
              <a:gd name="textAreaLeft" fmla="*/ 23040 w 474840"/>
              <a:gd name="textAreaRight" fmla="*/ 451800 w 47484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29455">
                <a:moveTo>
                  <a:pt x="3600" y="0"/>
                </a:moveTo>
                <a:arcTo wR="3600" hR="3600" stAng="16200000" swAng="-5400000"/>
                <a:lnTo>
                  <a:pt x="0" y="25855"/>
                </a:lnTo>
                <a:arcTo wR="3600" hR="3600" stAng="10800000" swAng="-5400000"/>
                <a:lnTo>
                  <a:pt x="18000" y="29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10"/>
          <p:cNvSpPr/>
          <p:nvPr/>
        </p:nvSpPr>
        <p:spPr>
          <a:xfrm>
            <a:off x="7667640" y="2349360"/>
            <a:ext cx="587520" cy="648000"/>
          </a:xfrm>
          <a:custGeom>
            <a:avLst/>
            <a:gdLst>
              <a:gd name="textAreaLeft" fmla="*/ 28440 w 587520"/>
              <a:gd name="textAreaRight" fmla="*/ 559080 w 587520"/>
              <a:gd name="textAreaTop" fmla="*/ 28440 h 648000"/>
              <a:gd name="textAreaBottom" fmla="*/ 619560 h 648000"/>
            </a:gdLst>
            <a:ahLst/>
            <a:rect l="textAreaLeft" t="textAreaTop" r="textAreaRight" b="textAreaBottom"/>
            <a:pathLst>
              <a:path w="21600" h="23822">
                <a:moveTo>
                  <a:pt x="3600" y="0"/>
                </a:moveTo>
                <a:arcTo wR="3600" hR="3600" stAng="16200000" swAng="-5400000"/>
                <a:lnTo>
                  <a:pt x="0" y="20222"/>
                </a:lnTo>
                <a:arcTo wR="3600" hR="3600" stAng="10800000" swAng="-5400000"/>
                <a:lnTo>
                  <a:pt x="18000" y="23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5219640" y="1700280"/>
            <a:ext cx="474840" cy="433440"/>
          </a:xfrm>
          <a:prstGeom prst="roundRect">
            <a:avLst>
              <a:gd name="adj" fmla="val 16667"/>
            </a:avLst>
          </a:pr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5219640" y="1197000"/>
            <a:ext cx="474840" cy="287280"/>
          </a:xfrm>
          <a:prstGeom prst="roundRect">
            <a:avLst>
              <a:gd name="adj" fmla="val 16667"/>
            </a:avLst>
          </a:pr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>
            <a:off x="7236000" y="3716280"/>
            <a:ext cx="474480" cy="433440"/>
          </a:xfrm>
          <a:prstGeom prst="roundRect">
            <a:avLst>
              <a:gd name="adj" fmla="val 16667"/>
            </a:avLst>
          </a:prstGeom>
          <a:solidFill>
            <a:srgbClr val="adb8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>
            <a:off x="7020000" y="1197000"/>
            <a:ext cx="474480" cy="431640"/>
          </a:xfrm>
          <a:prstGeom prst="roundRect">
            <a:avLst>
              <a:gd name="adj" fmla="val 16667"/>
            </a:avLst>
          </a:prstGeom>
          <a:solidFill>
            <a:srgbClr val="adb8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78920" y="765000"/>
            <a:ext cx="3529080" cy="43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sory/Motor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2"/>
          <p:cNvSpPr/>
          <p:nvPr/>
        </p:nvSpPr>
        <p:spPr>
          <a:xfrm>
            <a:off x="0" y="115920"/>
            <a:ext cx="9144000" cy="504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ctiona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6" descr="http://www.pc.maricopa.edu/Biology/pfinkenstadt/BIO201/201LessonBuilder/UnitFour/Nervous_tissue/functional%20division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341360"/>
            <a:ext cx="7417080" cy="4845240"/>
          </a:xfrm>
          <a:prstGeom prst="rect">
            <a:avLst/>
          </a:prstGeom>
          <a:ln w="0">
            <a:noFill/>
          </a:ln>
        </p:spPr>
      </p:pic>
      <p:sp>
        <p:nvSpPr>
          <p:cNvPr id="349" name="Content Placeholder 2"/>
          <p:cNvSpPr/>
          <p:nvPr/>
        </p:nvSpPr>
        <p:spPr>
          <a:xfrm>
            <a:off x="3780000" y="765000"/>
            <a:ext cx="5184720" cy="43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atic/Autonomi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Visceral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C:\Users\Zeenat\Pictures\neuron.JPG"/>
          <p:cNvPicPr/>
          <p:nvPr/>
        </p:nvPicPr>
        <p:blipFill>
          <a:blip r:embed="rId1"/>
          <a:stretch/>
        </p:blipFill>
        <p:spPr>
          <a:xfrm>
            <a:off x="971640" y="1268280"/>
            <a:ext cx="7318440" cy="4608720"/>
          </a:xfrm>
          <a:prstGeom prst="rect">
            <a:avLst/>
          </a:prstGeom>
          <a:ln w="0">
            <a:noFill/>
          </a:ln>
        </p:spPr>
      </p:pic>
      <p:sp>
        <p:nvSpPr>
          <p:cNvPr id="351" name="Content Placeholder 3"/>
          <p:cNvSpPr/>
          <p:nvPr/>
        </p:nvSpPr>
        <p:spPr>
          <a:xfrm>
            <a:off x="539640" y="260280"/>
            <a:ext cx="7921800" cy="719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rvous tissue consists of nerve cells (neurons) and supporting (neuroglia)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6227640" y="458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rve fib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3" name="Straight Arrow Connector 8"/>
          <p:cNvCxnSpPr/>
          <p:nvPr/>
        </p:nvCxnSpPr>
        <p:spPr>
          <a:xfrm>
            <a:off x="2268360" y="2133360"/>
            <a:ext cx="43272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Straight Arrow Connector 9"/>
          <p:cNvCxnSpPr/>
          <p:nvPr/>
        </p:nvCxnSpPr>
        <p:spPr>
          <a:xfrm>
            <a:off x="3924000" y="3860280"/>
            <a:ext cx="71964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Straight Arrow Connector 10"/>
          <p:cNvCxnSpPr/>
          <p:nvPr/>
        </p:nvCxnSpPr>
        <p:spPr>
          <a:xfrm flipH="1" flipV="1">
            <a:off x="3419280" y="4149360"/>
            <a:ext cx="73440" cy="57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Straight Arrow Connector 11"/>
          <p:cNvCxnSpPr/>
          <p:nvPr/>
        </p:nvCxnSpPr>
        <p:spPr>
          <a:xfrm flipV="1">
            <a:off x="1619280" y="4076280"/>
            <a:ext cx="50544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TextBox 12"/>
          <p:cNvSpPr/>
          <p:nvPr/>
        </p:nvSpPr>
        <p:spPr>
          <a:xfrm>
            <a:off x="2987640" y="5445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multipolar neur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11280" y="907920"/>
            <a:ext cx="7921440" cy="433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rvous tissue is organiz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"/>
          <a:srcRect l="0" t="1017" r="0" b="12454"/>
          <a:stretch/>
        </p:blipFill>
        <p:spPr>
          <a:xfrm>
            <a:off x="1187280" y="2997360"/>
            <a:ext cx="6696360" cy="348444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8"/>
          <p:cNvSpPr/>
          <p:nvPr/>
        </p:nvSpPr>
        <p:spPr>
          <a:xfrm>
            <a:off x="684360" y="1628640"/>
            <a:ext cx="3382920" cy="1312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Grey matter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ich contain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ll bodies &amp; the short processes of the neur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eurogl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lood vesse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9"/>
          <p:cNvSpPr/>
          <p:nvPr/>
        </p:nvSpPr>
        <p:spPr>
          <a:xfrm>
            <a:off x="4572000" y="1628640"/>
            <a:ext cx="381636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White matter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contains the long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es of the neur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no cell bodies), the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eurogl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lood vess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"/>
          <p:cNvSpPr/>
          <p:nvPr/>
        </p:nvSpPr>
        <p:spPr>
          <a:xfrm>
            <a:off x="1332000" y="5877000"/>
            <a:ext cx="647640" cy="216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Oval 2"/>
          <p:cNvSpPr/>
          <p:nvPr/>
        </p:nvSpPr>
        <p:spPr>
          <a:xfrm>
            <a:off x="7380360" y="4292640"/>
            <a:ext cx="431640" cy="28872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187280" y="1844640"/>
            <a:ext cx="2737080" cy="1312200"/>
          </a:xfrm>
          <a:prstGeom prst="rect">
            <a:avLst/>
          </a:prstGeom>
          <a:solidFill>
            <a:srgbClr val="d6e0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urons within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ucl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1763640" y="4365720"/>
            <a:ext cx="2448000" cy="1604520"/>
          </a:xfrm>
          <a:prstGeom prst="rect">
            <a:avLst/>
          </a:prstGeom>
          <a:solidFill>
            <a:srgbClr val="d6e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urons outside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ang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6" name="Picture 4" descr="http://upload.wikimedia.org/wikipedia/commons/thumb/c/c0/Medulla_spinalis_-_Substantia_grisea_-_English.svg/400px-Medulla_spinalis_-_Substantia_grisea_-_English.svg.png"/>
          <p:cNvPicPr/>
          <p:nvPr/>
        </p:nvPicPr>
        <p:blipFill>
          <a:blip r:embed="rId1"/>
          <a:stretch/>
        </p:blipFill>
        <p:spPr>
          <a:xfrm>
            <a:off x="3995640" y="620640"/>
            <a:ext cx="4176720" cy="2913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67" name="Picture 8" descr="http://www.humanneurophysiology.com/images/fig-1.gif"/>
          <p:cNvPicPr/>
          <p:nvPr/>
        </p:nvPicPr>
        <p:blipFill>
          <a:blip r:embed="rId2"/>
          <a:stretch/>
        </p:blipFill>
        <p:spPr>
          <a:xfrm>
            <a:off x="4211640" y="3645000"/>
            <a:ext cx="3330720" cy="29527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368" name="TextBox 12"/>
          <p:cNvSpPr/>
          <p:nvPr/>
        </p:nvSpPr>
        <p:spPr>
          <a:xfrm>
            <a:off x="395280" y="620640"/>
            <a:ext cx="26640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auhaus 93"/>
              </a:rPr>
              <a:t>Rememb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" name="Straight Arrow Connector 14"/>
          <p:cNvCxnSpPr/>
          <p:nvPr/>
        </p:nvCxnSpPr>
        <p:spPr>
          <a:xfrm flipH="1" flipV="1">
            <a:off x="5940000" y="5444640"/>
            <a:ext cx="28800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0" name="Straight Arrow Connector 15"/>
          <p:cNvCxnSpPr/>
          <p:nvPr/>
        </p:nvCxnSpPr>
        <p:spPr>
          <a:xfrm flipH="1" flipV="1">
            <a:off x="5940000" y="4797000"/>
            <a:ext cx="28800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2050920" y="2060640"/>
            <a:ext cx="2735280" cy="1312200"/>
          </a:xfrm>
          <a:prstGeom prst="rect">
            <a:avLst/>
          </a:prstGeom>
          <a:solidFill>
            <a:srgbClr val="d6e0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rve fibers (axons) within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1979640" y="4149720"/>
            <a:ext cx="1944720" cy="2189160"/>
          </a:xfrm>
          <a:prstGeom prst="rect">
            <a:avLst/>
          </a:prstGeom>
          <a:solidFill>
            <a:srgbClr val="d6e0ff"/>
          </a:solidFill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rve fibers (axons) outside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r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10" descr="http://www.health.com/health/static/hw/media/medical/hw/hwkb17_032_001.jpg"/>
          <p:cNvPicPr/>
          <p:nvPr/>
        </p:nvPicPr>
        <p:blipFill>
          <a:blip r:embed="rId1"/>
          <a:srcRect l="8216" t="0" r="1397" b="6765"/>
          <a:stretch/>
        </p:blipFill>
        <p:spPr>
          <a:xfrm>
            <a:off x="3995640" y="4005360"/>
            <a:ext cx="3148200" cy="2448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374" name="Picture 14" descr="http://img.tfd.com/MosbyMD/thumb/optic_nerve.jpg"/>
          <p:cNvPicPr/>
          <p:nvPr/>
        </p:nvPicPr>
        <p:blipFill>
          <a:blip r:embed="rId2"/>
          <a:stretch/>
        </p:blipFill>
        <p:spPr>
          <a:xfrm>
            <a:off x="4859280" y="907920"/>
            <a:ext cx="3049560" cy="295272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375" name="TextBox 12"/>
          <p:cNvSpPr/>
          <p:nvPr/>
        </p:nvSpPr>
        <p:spPr>
          <a:xfrm>
            <a:off x="395280" y="981000"/>
            <a:ext cx="26640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auhaus 93"/>
              </a:rPr>
              <a:t>Rememb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8:01:34Z</dcterms:created>
  <dc:creator>Dr. Zeenat Zaidi</dc:creator>
  <dc:description/>
  <dc:language>en-US</dc:language>
  <cp:lastModifiedBy>Gamilah H. Al-Madani</cp:lastModifiedBy>
  <dcterms:modified xsi:type="dcterms:W3CDTF">2014-09-07T08:50:46Z</dcterms:modified>
  <cp:revision>137</cp:revision>
  <dc:subject>General Anatomy</dc:subject>
  <dc:title>Nervous System</dc:title>
</cp:coreProperties>
</file>