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ACCF-2C3B-400C-8FB0-BC9BE98AF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4D5C-0146-4CA4-9511-EA0E174B7A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C03-0DDA-4A00-AE06-2A11D488DC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3107-1F9D-45AD-87DB-073C960293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 exa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D182-A014-4754-9297-7CAF27CF0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75C-4246-4133-8CB6-8DB5ECA7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193-32A5-4DAD-AF44-E97E105D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2D8-31AC-4DEC-803F-86D916E5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6D9-AC92-4B72-AD9C-02B2B22B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AB3C-DBBA-4D20-8A47-A247D957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9D86-73C3-409C-BA8A-BFFD8382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BFCC-9407-48D1-BE5C-DDFBD4E6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C50E-9695-4D4A-8296-83B5EE8E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1478-DDE1-4789-8F81-5FF46897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78F5-8A7C-476E-8825-3785F1EF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FC0A-740F-4DAA-80FC-E9C9B765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350-8659-4328-ADC9-2D351C04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51AA-82FF-4F19-B102-2C0F2C8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7AA0-E7EB-42F6-996B-5DC9D1ED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CDE7-FA43-41C6-999C-26D8AE16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61C2-1B16-4879-92C6-CCAB15C0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E3A6-15D5-4273-89C1-4DC64768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A3A2-E3EF-42B2-BC2A-8F0BFF2A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57FA-8C10-4088-89E4-3D805891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CFD5-898B-4B58-80C4-BAA2B5AE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3BDD-43AA-450E-9CF4-3DFF9039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A5B6-B319-4936-BB03-B83A5B6C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278-435A-4D4E-BBC1-ED784991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9AF9-CA0E-4C86-BFAD-F2244C96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4EA03-C6B9-405C-A252-ED95C1A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7AD3-8184-4137-BA99-810E40F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EB22-84F9-45EB-A0F7-A54C687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C259-B6DB-4AA4-8A84-3A340689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38E1-9F3C-42C4-BDA3-3B0F3C6D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EA10-00E7-4AEF-9290-1C0DC6CC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8386-2505-4B47-A2E4-F3589292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65F7-D9CD-4E2B-9274-9D1DAFD6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6B24-FAC5-49D8-AC73-2A0932AE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BE1-5040-4D35-80B6-D520B2B2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1A394-830A-408A-A4BA-98731807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F442-4C0E-44AB-A183-E97CF5C4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B688-4AE9-4221-A71B-33FD971A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85AC-F44D-4755-99BF-BFF5658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D6433-226A-44DF-9289-664C14C6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C04A-93B1-406B-A161-806963B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84D3-E2C6-4888-B985-CA82E78C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2C062-1894-458E-9BD1-5A284CC7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664C-C95B-4F17-908A-2845E238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577-A60A-4DD8-AB42-E136B3D6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081-EB3C-4B6D-9DD4-7ADFD997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FEC-92E9-4593-A0F9-15ED078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CEA-2ECD-4D98-A06D-E72485F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952-A2A3-49F2-833C-27A37E47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CEF3-E151-42E7-99CC-A7A85166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7520-4341-483B-87BB-DD030B9B6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76F0-47D4-4801-8D99-FC49731125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-</a:t>
            </a:r>
            <a:fld id="{D1AAFBE0-A017-4054-8C10-784C442F8B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.sa/url?sa=i&amp;source=images&amp;cd=&amp;cad=rja&amp;docid=ROnV4G0Pxo87iM&amp;tbnid=jThjworZa_MO0M:&amp;ved=0CAgQjRwwAA&amp;url=http%3A%2F%2Fwww.pc.maricopa.edu%2FBiology%2Fpfinkenstadt%2FBIO201%2F201LessonBuilder%2FUnitFour%2FNervous_tissue%2Findex.html&amp;ei=1cEqUsGTCbOe7AaEhYHwCA&amp;psig=AFQjCNGjgpgbzZqERLd1n-7eTeiUUi0jXQ&amp;ust=1378620245300450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1511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Rounded MT Bold"/>
              </a:rPr>
              <a:t>The Nervous Syst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b11"/>
          <p:cNvPicPr/>
          <p:nvPr/>
        </p:nvPicPr>
        <p:blipFill>
          <a:blip r:embed="rId1"/>
          <a:stretch/>
        </p:blipFill>
        <p:spPr>
          <a:xfrm>
            <a:off x="3995640" y="476280"/>
            <a:ext cx="1224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611280" y="1989000"/>
            <a:ext cx="20160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rebru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 Cerebral hemisphe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9"/>
          <p:cNvSpPr/>
          <p:nvPr/>
        </p:nvSpPr>
        <p:spPr>
          <a:xfrm>
            <a:off x="6588000" y="3789360"/>
            <a:ext cx="2160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rebel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6300720" y="4797360"/>
            <a:ext cx="25923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rainste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b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ulla oblong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539640" y="3284640"/>
            <a:ext cx="216072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encephal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lamus, Hypothalamus, Subthalamus &amp; Epithala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5" descr="C:\Users\user\Pictures\111.jpg"/>
          <p:cNvPicPr/>
          <p:nvPr/>
        </p:nvPicPr>
        <p:blipFill>
          <a:blip r:embed="rId1"/>
          <a:stretch/>
        </p:blipFill>
        <p:spPr>
          <a:xfrm>
            <a:off x="2843280" y="2133720"/>
            <a:ext cx="3409920" cy="3456000"/>
          </a:xfrm>
          <a:prstGeom prst="rect">
            <a:avLst/>
          </a:prstGeom>
          <a:ln w="0">
            <a:noFill/>
          </a:ln>
        </p:spPr>
      </p:pic>
      <p:sp>
        <p:nvSpPr>
          <p:cNvPr id="382" name="Straight Connector 13"/>
          <p:cNvSpPr/>
          <p:nvPr/>
        </p:nvSpPr>
        <p:spPr>
          <a:xfrm>
            <a:off x="2627280" y="2708280"/>
            <a:ext cx="1006560" cy="7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Straight Connector 14"/>
          <p:cNvSpPr/>
          <p:nvPr/>
        </p:nvSpPr>
        <p:spPr>
          <a:xfrm flipV="1">
            <a:off x="2700360" y="3500280"/>
            <a:ext cx="1727280" cy="433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traight Connector 19"/>
          <p:cNvSpPr/>
          <p:nvPr/>
        </p:nvSpPr>
        <p:spPr>
          <a:xfrm flipH="1">
            <a:off x="5724360" y="4149720"/>
            <a:ext cx="936720" cy="231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826920" y="907920"/>
            <a:ext cx="78487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ain is a large mass of nervous tissue located in the cranial cavity. It has four major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ight Bracket 21"/>
          <p:cNvSpPr/>
          <p:nvPr/>
        </p:nvSpPr>
        <p:spPr>
          <a:xfrm rot="20547600">
            <a:off x="4862160" y="3622680"/>
            <a:ext cx="71280" cy="1436760"/>
          </a:xfrm>
          <a:custGeom>
            <a:avLst/>
            <a:gdLst>
              <a:gd name="textAreaLeft" fmla="*/ 0 w 71280"/>
              <a:gd name="textAreaRight" fmla="*/ 50040 w 71280"/>
              <a:gd name="textAreaTop" fmla="*/ 2880 h 1436760"/>
              <a:gd name="textAreaBottom" fmla="*/ 1433880 h 14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"/>
                  <a:pt x="21600" y="89"/>
                </a:cubicBezTo>
                <a:lnTo>
                  <a:pt x="21600" y="21511"/>
                </a:lnTo>
                <a:cubicBezTo>
                  <a:pt x="21600" y="21556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22"/>
          <p:cNvSpPr/>
          <p:nvPr/>
        </p:nvSpPr>
        <p:spPr>
          <a:xfrm>
            <a:off x="4500720" y="400536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23"/>
          <p:cNvSpPr/>
          <p:nvPr/>
        </p:nvSpPr>
        <p:spPr>
          <a:xfrm>
            <a:off x="4643280" y="4581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24"/>
          <p:cNvSpPr/>
          <p:nvPr/>
        </p:nvSpPr>
        <p:spPr>
          <a:xfrm>
            <a:off x="4427640" y="3716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traight Connector 25"/>
          <p:cNvSpPr/>
          <p:nvPr/>
        </p:nvSpPr>
        <p:spPr>
          <a:xfrm flipH="1" flipV="1">
            <a:off x="4932000" y="4365720"/>
            <a:ext cx="1368360" cy="792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8" descr="C:\Documents and Settings\user\My Documents\My Pictures\corpus c.bmp"/>
          <p:cNvPicPr/>
          <p:nvPr/>
        </p:nvPicPr>
        <p:blipFill>
          <a:blip r:embed="rId1"/>
          <a:stretch/>
        </p:blipFill>
        <p:spPr>
          <a:xfrm>
            <a:off x="5219640" y="747720"/>
            <a:ext cx="3571920" cy="45338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0"/>
          <p:cNvSpPr/>
          <p:nvPr/>
        </p:nvSpPr>
        <p:spPr>
          <a:xfrm>
            <a:off x="6159600" y="3333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Straight Arrow Connector 15"/>
          <p:cNvCxnSpPr/>
          <p:nvPr/>
        </p:nvCxnSpPr>
        <p:spPr>
          <a:xfrm>
            <a:off x="6991200" y="691920"/>
            <a:ext cx="15120" cy="173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4" name="TextBox 19"/>
          <p:cNvSpPr/>
          <p:nvPr/>
        </p:nvSpPr>
        <p:spPr>
          <a:xfrm>
            <a:off x="7167600" y="206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20"/>
          <p:cNvSpPr/>
          <p:nvPr/>
        </p:nvSpPr>
        <p:spPr>
          <a:xfrm>
            <a:off x="543888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5"/>
          <p:cNvSpPr/>
          <p:nvPr/>
        </p:nvSpPr>
        <p:spPr>
          <a:xfrm rot="19797000">
            <a:off x="7119720" y="33174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395280" y="836640"/>
            <a:ext cx="4753080" cy="26636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argest part of the brain, has two hemisphe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rebral hemispheres are connected by a thick bundle of nerve fibers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rface shows ridges of tissue,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yri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d by grooves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ul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8" name="Straight Arrow Connector 11"/>
          <p:cNvCxnSpPr/>
          <p:nvPr/>
        </p:nvCxnSpPr>
        <p:spPr>
          <a:xfrm flipH="1" flipV="1">
            <a:off x="8071920" y="4149360"/>
            <a:ext cx="216720" cy="720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99" name="Straight Arrow Connector 12"/>
          <p:cNvCxnSpPr/>
          <p:nvPr/>
        </p:nvCxnSpPr>
        <p:spPr>
          <a:xfrm flipH="1" flipV="1">
            <a:off x="7495920" y="4652640"/>
            <a:ext cx="792720" cy="21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0" name="Straight Arrow Connector 13"/>
          <p:cNvCxnSpPr/>
          <p:nvPr/>
        </p:nvCxnSpPr>
        <p:spPr>
          <a:xfrm flipH="1" flipV="1">
            <a:off x="8214480" y="3212640"/>
            <a:ext cx="73800" cy="165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1" name="TextBox 15"/>
          <p:cNvSpPr/>
          <p:nvPr/>
        </p:nvSpPr>
        <p:spPr>
          <a:xfrm>
            <a:off x="7999560" y="479736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lc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395280" y="3645000"/>
            <a:ext cx="3168720" cy="2232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d by deeper sulci, into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4 lob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n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i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p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cipi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457200" y="115920"/>
            <a:ext cx="785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R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17" descr="C:\Documents and Settings\user\My Documents\My Pictures\figure5-22.jpg"/>
          <p:cNvPicPr/>
          <p:nvPr/>
        </p:nvPicPr>
        <p:blipFill>
          <a:blip r:embed="rId6"/>
          <a:srcRect l="0" t="0" r="0" b="6015"/>
          <a:stretch/>
        </p:blipFill>
        <p:spPr>
          <a:xfrm>
            <a:off x="2700360" y="4292640"/>
            <a:ext cx="2448000" cy="22446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5"/>
          <p:cNvSpPr/>
          <p:nvPr/>
        </p:nvSpPr>
        <p:spPr>
          <a:xfrm rot="19797000">
            <a:off x="6972120" y="43984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5"/>
          <p:cNvSpPr/>
          <p:nvPr/>
        </p:nvSpPr>
        <p:spPr>
          <a:xfrm rot="2286600">
            <a:off x="5824440" y="34862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SSUE OF THE CEREBRAL HEMISPH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5280" y="3429000"/>
            <a:ext cx="8424720" cy="2952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utermost layer is calle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ray 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er is located the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white 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omposed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ber tra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bundles of nerve fibers), carrying impulses to and from the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deep within the white matter are masses of grey matter called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sal nucle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y help the motor cortex in the regulation of voluntary motor activ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8" descr="File0525a"/>
          <p:cNvPicPr/>
          <p:nvPr/>
        </p:nvPicPr>
        <p:blipFill>
          <a:blip r:embed="rId4"/>
          <a:srcRect l="0" t="35133" r="1253" b="16229"/>
          <a:stretch/>
        </p:blipFill>
        <p:spPr>
          <a:xfrm>
            <a:off x="1763640" y="765000"/>
            <a:ext cx="5616720" cy="2592720"/>
          </a:xfrm>
          <a:prstGeom prst="rect">
            <a:avLst/>
          </a:prstGeom>
          <a:ln w="0">
            <a:noFill/>
          </a:ln>
        </p:spPr>
      </p:pic>
      <p:cxnSp>
        <p:nvCxnSpPr>
          <p:cNvPr id="410" name="Straight Arrow Connector 5"/>
          <p:cNvCxnSpPr/>
          <p:nvPr/>
        </p:nvCxnSpPr>
        <p:spPr>
          <a:xfrm>
            <a:off x="4932000" y="980640"/>
            <a:ext cx="648360" cy="108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triangle" w="med"/>
          </a:ln>
        </p:spPr>
      </p:cxnSp>
      <p:sp>
        <p:nvSpPr>
          <p:cNvPr id="411" name="TextBox 6"/>
          <p:cNvSpPr/>
          <p:nvPr/>
        </p:nvSpPr>
        <p:spPr>
          <a:xfrm>
            <a:off x="5580000" y="836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rt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7"/>
          <p:cNvSpPr/>
          <p:nvPr/>
        </p:nvSpPr>
        <p:spPr>
          <a:xfrm>
            <a:off x="6516720" y="105264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White mat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5940360" y="1773360"/>
            <a:ext cx="792360" cy="144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5" descr="File0526"/>
          <p:cNvPicPr/>
          <p:nvPr/>
        </p:nvPicPr>
        <p:blipFill>
          <a:blip r:embed="rId1"/>
          <a:stretch/>
        </p:blipFill>
        <p:spPr>
          <a:xfrm>
            <a:off x="395280" y="692280"/>
            <a:ext cx="4975200" cy="3168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8"/>
          <p:cNvSpPr/>
          <p:nvPr/>
        </p:nvSpPr>
        <p:spPr>
          <a:xfrm>
            <a:off x="395280" y="3933720"/>
            <a:ext cx="4968720" cy="1984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ffc000"/>
            </a:solidFill>
            <a:miter/>
          </a:ln>
          <a:effectLst>
            <a:outerShdw dist="40186" dir="1096358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cerebell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s 2 hemispheres and a convoluted surface. It has an outer cortex of gray matter and an inner region of white matter. It provid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 coordination for body movements and helps maintain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6" descr="C:\Documents and Settings\Zeenet\My Documents\My Pictures\neuroCerebellumSuperiorGrayBB702.gif"/>
          <p:cNvPicPr/>
          <p:nvPr/>
        </p:nvPicPr>
        <p:blipFill>
          <a:blip r:embed="rId2"/>
          <a:stretch/>
        </p:blipFill>
        <p:spPr>
          <a:xfrm>
            <a:off x="5435640" y="692280"/>
            <a:ext cx="3217680" cy="187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C:\Documents and Settings\Zeenet\My Documents\My Pictures\f15-22a_cerebellum_mids_c.jpg"/>
          <p:cNvPicPr/>
          <p:nvPr/>
        </p:nvPicPr>
        <p:blipFill>
          <a:blip r:embed="rId3"/>
          <a:srcRect l="0" t="11408" r="0" b="8775"/>
          <a:stretch/>
        </p:blipFill>
        <p:spPr>
          <a:xfrm>
            <a:off x="5435640" y="2708280"/>
            <a:ext cx="3268800" cy="3241800"/>
          </a:xfrm>
          <a:prstGeom prst="rect">
            <a:avLst/>
          </a:prstGeom>
          <a:ln w="0">
            <a:noFill/>
          </a:ln>
        </p:spPr>
      </p:pic>
      <p:sp>
        <p:nvSpPr>
          <p:cNvPr id="419" name="Oval 7"/>
          <p:cNvSpPr/>
          <p:nvPr/>
        </p:nvSpPr>
        <p:spPr>
          <a:xfrm>
            <a:off x="2771640" y="2276640"/>
            <a:ext cx="1152720" cy="93636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pinal C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4920" y="837720"/>
            <a:ext cx="5040360" cy="575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a two-way conduction pathway to the brain &amp; a major reflex cen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2-45 cm long, cylindrical in shape, lies within the vertebral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foramen magnum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L2 verteb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inuous above with 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medulla oblong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dal tapering end is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us medulla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s 2 enlargements: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ervic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umbosac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es rise to 31 pairs of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pinal ner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oup of spinal nerves at the end of the spinal cord is called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cauda equina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13" descr="see65576_1201"/>
          <p:cNvPicPr/>
          <p:nvPr/>
        </p:nvPicPr>
        <p:blipFill>
          <a:blip r:embed="rId9"/>
          <a:stretch/>
        </p:blipFill>
        <p:spPr>
          <a:xfrm>
            <a:off x="5580000" y="1125360"/>
            <a:ext cx="3353040" cy="472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3" name="AutoShape 8"/>
          <p:cNvSpPr/>
          <p:nvPr/>
        </p:nvSpPr>
        <p:spPr>
          <a:xfrm>
            <a:off x="8028000" y="378936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7956720" y="4221000"/>
            <a:ext cx="792000" cy="370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5796000" y="191628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5651640" y="378936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oss Section of Spinal C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000" y="762120"/>
            <a:ext cx="3095640" cy="41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pinal cord is incompletely divided into two equal parts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y a short, shallow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n fissur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200" spc="-1" strike="noStrike">
                <a:solidFill>
                  <a:srgbClr val="ff00ff"/>
                </a:solidFill>
                <a:latin typeface="Arial"/>
              </a:rPr>
              <a:t>posterior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y a deep narrow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median septu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composed of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rey matter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the centre surrounded by </a:t>
            </a:r>
            <a:r>
              <a:rPr b="1" lang="en-US" sz="2200" spc="-1" strike="noStrike">
                <a:solidFill>
                  <a:srgbClr val="b8b8ff"/>
                </a:solidFill>
                <a:latin typeface="Arial"/>
              </a:rPr>
              <a:t>white mat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755640" y="5013360"/>
            <a:ext cx="712944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rangement of grey matter resembles the shape of the letter H, hav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ter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r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ter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ns/colum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12" descr="C:\Users\Zeenat\Pictures\Figure_35_03_07.jpg"/>
          <p:cNvPicPr/>
          <p:nvPr/>
        </p:nvPicPr>
        <p:blipFill>
          <a:blip r:embed="rId2"/>
          <a:stretch/>
        </p:blipFill>
        <p:spPr>
          <a:xfrm>
            <a:off x="3492360" y="1484280"/>
            <a:ext cx="5504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ripheral Ner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41440" y="3355560"/>
            <a:ext cx="39592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an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ai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hed to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&amp; numbered from 1-1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Content Placeholder 2"/>
          <p:cNvSpPr/>
          <p:nvPr/>
        </p:nvSpPr>
        <p:spPr>
          <a:xfrm>
            <a:off x="1042920" y="1125360"/>
            <a:ext cx="726444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s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x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ontent Placeholder 2"/>
          <p:cNvSpPr/>
          <p:nvPr/>
        </p:nvSpPr>
        <p:spPr>
          <a:xfrm>
            <a:off x="4572000" y="2492280"/>
            <a:ext cx="41054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pi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hed to spinal co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nd numbered according to the region of the spinal 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Straight Arrow Connector 8"/>
          <p:cNvCxnSpPr/>
          <p:nvPr/>
        </p:nvCxnSpPr>
        <p:spPr>
          <a:xfrm>
            <a:off x="3492000" y="2133720"/>
            <a:ext cx="1008720" cy="7912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36" name="Straight Arrow Connector 9"/>
          <p:cNvCxnSpPr/>
          <p:nvPr/>
        </p:nvCxnSpPr>
        <p:spPr>
          <a:xfrm flipH="1">
            <a:off x="2771280" y="2133360"/>
            <a:ext cx="721440" cy="11516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NS04"/>
          <p:cNvPicPr/>
          <p:nvPr/>
        </p:nvPicPr>
        <p:blipFill>
          <a:blip r:embed="rId1"/>
          <a:stretch/>
        </p:blipFill>
        <p:spPr>
          <a:xfrm>
            <a:off x="4572000" y="620640"/>
            <a:ext cx="4300560" cy="5761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38" name="Text Box 5"/>
          <p:cNvSpPr/>
          <p:nvPr/>
        </p:nvSpPr>
        <p:spPr>
          <a:xfrm>
            <a:off x="7093080" y="134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826920" y="404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ANIAL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39640" y="1052640"/>
            <a:ext cx="3961080" cy="5216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pairs are mi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igeminal n. (5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acial n. (7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lossopharyngeal n. (9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agus n. (10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pairs are mo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culomotor n. (3r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ochlear n. (4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ducent n. (6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essory n. (11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poglossal n. (12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pairs are sens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lfactory n. (1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ptic n. (2n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stibulocochlear n. (8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inal Nerves and Nerve Plex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78920" y="1052280"/>
            <a:ext cx="4038840" cy="5545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inal nerve is attached by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wo roots: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(sensory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entral (mo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rsal root bears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ory ganglion (D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inal nerve exits from the intervertebral foramen and divides into a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and ventral r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mi contain both sensory and motor fi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3" descr="C:\Documents and Settings\user\My Documents\My Pictures\800px-Spinal_nerve.svg.png"/>
          <p:cNvPicPr/>
          <p:nvPr/>
        </p:nvPicPr>
        <p:blipFill>
          <a:blip r:embed="rId7"/>
          <a:stretch/>
        </p:blipFill>
        <p:spPr>
          <a:xfrm>
            <a:off x="4284720" y="3860640"/>
            <a:ext cx="4370400" cy="27291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6156360" y="4076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5"/>
          <p:cNvSpPr/>
          <p:nvPr/>
        </p:nvSpPr>
        <p:spPr>
          <a:xfrm>
            <a:off x="4572000" y="558972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Ventral ram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4500720" y="422100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orsal ram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11" descr="C:\Users\user\Pictures\Picture1hgb.jpg"/>
          <p:cNvPicPr/>
          <p:nvPr/>
        </p:nvPicPr>
        <p:blipFill>
          <a:blip r:embed="rId8"/>
          <a:stretch/>
        </p:blipFill>
        <p:spPr>
          <a:xfrm>
            <a:off x="5219640" y="907920"/>
            <a:ext cx="261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Content Placeholder 2"/>
          <p:cNvSpPr/>
          <p:nvPr/>
        </p:nvSpPr>
        <p:spPr>
          <a:xfrm>
            <a:off x="179280" y="260280"/>
            <a:ext cx="4032360" cy="3889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ram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istributed individually, supply the skin and muscles of the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entral ram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exus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in thoracic region where the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costal ner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anterior part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5" descr="C:\Users\user\Pictures\asa.png"/>
          <p:cNvPicPr/>
          <p:nvPr/>
        </p:nvPicPr>
        <p:blipFill>
          <a:blip r:embed="rId4"/>
          <a:srcRect l="7408" t="1287" r="14816" b="999"/>
          <a:stretch/>
        </p:blipFill>
        <p:spPr>
          <a:xfrm>
            <a:off x="4356000" y="333360"/>
            <a:ext cx="4537080" cy="568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1" descr="C:\Users\user\Pictures\Picture1hgb.jpg"/>
          <p:cNvPicPr/>
          <p:nvPr/>
        </p:nvPicPr>
        <p:blipFill>
          <a:blip r:embed="rId5"/>
          <a:stretch/>
        </p:blipFill>
        <p:spPr>
          <a:xfrm>
            <a:off x="971640" y="4221000"/>
            <a:ext cx="237636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03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t the end of the lecture, the students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subdivisions of the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terms: grey matter, white matter, nucleus, ganglion, tract and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parts of the br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external and internal features of spinal c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cranial n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parts and distribution of the spin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term ‘dermatom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structures protecting the central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ermat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663640" cy="288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gment of skin supplied by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gmental spinal ner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a ‘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Dermato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0" descr="see65576_1214"/>
          <p:cNvPicPr/>
          <p:nvPr/>
        </p:nvPicPr>
        <p:blipFill>
          <a:blip r:embed="rId2"/>
          <a:stretch/>
        </p:blipFill>
        <p:spPr>
          <a:xfrm>
            <a:off x="3276720" y="1052640"/>
            <a:ext cx="5560920" cy="468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4470120" cy="16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NS IS PROTECTED 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Skull and the vertebral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ening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embranes): 3 la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erebrospinal fl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n the subarachnoid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64000" y="4724280"/>
            <a:ext cx="3456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ura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outerm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rachnoid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idd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ia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innerm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5" descr="File0529"/>
          <p:cNvPicPr/>
          <p:nvPr/>
        </p:nvPicPr>
        <p:blipFill>
          <a:blip r:embed="rId7"/>
          <a:srcRect l="0" t="6079" r="6688" b="12021"/>
          <a:stretch/>
        </p:blipFill>
        <p:spPr>
          <a:xfrm>
            <a:off x="611280" y="765000"/>
            <a:ext cx="8136000" cy="387216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11"/>
          <p:cNvSpPr/>
          <p:nvPr/>
        </p:nvSpPr>
        <p:spPr>
          <a:xfrm>
            <a:off x="8028000" y="2133720"/>
            <a:ext cx="574560" cy="43956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2"/>
          <p:cNvSpPr/>
          <p:nvPr/>
        </p:nvSpPr>
        <p:spPr>
          <a:xfrm>
            <a:off x="7093080" y="2565360"/>
            <a:ext cx="1295280" cy="2383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3"/>
          <p:cNvSpPr/>
          <p:nvPr/>
        </p:nvSpPr>
        <p:spPr>
          <a:xfrm>
            <a:off x="7020000" y="2781360"/>
            <a:ext cx="863640" cy="208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1" name="Straight Arrow Connector 9"/>
          <p:cNvCxnSpPr/>
          <p:nvPr/>
        </p:nvCxnSpPr>
        <p:spPr>
          <a:xfrm flipV="1">
            <a:off x="4427640" y="5444640"/>
            <a:ext cx="1008720" cy="14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2" name="Straight Arrow Connector 10"/>
          <p:cNvCxnSpPr/>
          <p:nvPr/>
        </p:nvCxnSpPr>
        <p:spPr>
          <a:xfrm>
            <a:off x="4427280" y="5589360"/>
            <a:ext cx="937080" cy="216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3" name="Straight Arrow Connector 11"/>
          <p:cNvCxnSpPr/>
          <p:nvPr/>
        </p:nvCxnSpPr>
        <p:spPr>
          <a:xfrm>
            <a:off x="4427280" y="5589720"/>
            <a:ext cx="937080" cy="504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4" name="AutoShape 11"/>
          <p:cNvSpPr/>
          <p:nvPr/>
        </p:nvSpPr>
        <p:spPr>
          <a:xfrm>
            <a:off x="684360" y="3500280"/>
            <a:ext cx="1223640" cy="439920"/>
          </a:xfrm>
          <a:prstGeom prst="roundRect">
            <a:avLst>
              <a:gd name="adj" fmla="val 16667"/>
            </a:avLst>
          </a:prstGeom>
          <a:solidFill>
            <a:srgbClr val="00b050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1376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ROSPINAL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8" descr="File0532"/>
          <p:cNvPicPr/>
          <p:nvPr/>
        </p:nvPicPr>
        <p:blipFill>
          <a:blip r:embed="rId1"/>
          <a:stretch/>
        </p:blipFill>
        <p:spPr>
          <a:xfrm>
            <a:off x="755640" y="674640"/>
            <a:ext cx="7561440" cy="60674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9"/>
          <p:cNvSpPr/>
          <p:nvPr/>
        </p:nvSpPr>
        <p:spPr>
          <a:xfrm>
            <a:off x="324000" y="907920"/>
            <a:ext cx="2174760" cy="1923480"/>
          </a:xfrm>
          <a:prstGeom prst="rect">
            <a:avLst/>
          </a:prstGeom>
          <a:gradFill rotWithShape="0">
            <a:gsLst>
              <a:gs pos="0">
                <a:srgbClr val="182f76">
                  <a:alpha val="53333"/>
                </a:srgbClr>
              </a:gs>
              <a:gs pos="100000">
                <a:srgbClr val="3366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F is constantly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roduc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oroid plexu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ide the ventricles of b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1"/>
          <p:cNvSpPr/>
          <p:nvPr/>
        </p:nvSpPr>
        <p:spPr>
          <a:xfrm>
            <a:off x="5708520" y="415116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39640" y="4149720"/>
            <a:ext cx="3024360" cy="2533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of the CSF drains from the ventricles in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barachoid spa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 the brain and spinal cord. A little amount flows down in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ntral can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the spinal co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5"/>
          <p:cNvSpPr/>
          <p:nvPr/>
        </p:nvSpPr>
        <p:spPr>
          <a:xfrm>
            <a:off x="5343480" y="4684680"/>
            <a:ext cx="905040" cy="39996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686480" y="4071960"/>
            <a:ext cx="4680" cy="8240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18"/>
          <p:cNvSpPr/>
          <p:nvPr/>
        </p:nvSpPr>
        <p:spPr>
          <a:xfrm>
            <a:off x="4732200" y="3833640"/>
            <a:ext cx="768600" cy="255600"/>
          </a:xfrm>
          <a:custGeom>
            <a:avLst/>
            <a:gdLst>
              <a:gd name="textAreaLeft" fmla="*/ 0 w 768600"/>
              <a:gd name="textAreaRight" fmla="*/ 768960 w 76860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484" h="161">
                <a:moveTo>
                  <a:pt x="4" y="138"/>
                </a:moveTo>
                <a:cubicBezTo>
                  <a:pt x="2" y="149"/>
                  <a:pt x="0" y="161"/>
                  <a:pt x="43" y="156"/>
                </a:cubicBezTo>
                <a:cubicBezTo>
                  <a:pt x="86" y="151"/>
                  <a:pt x="192" y="131"/>
                  <a:pt x="265" y="105"/>
                </a:cubicBezTo>
                <a:cubicBezTo>
                  <a:pt x="338" y="79"/>
                  <a:pt x="449" y="20"/>
                  <a:pt x="484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Freeform 19"/>
          <p:cNvSpPr/>
          <p:nvPr/>
        </p:nvSpPr>
        <p:spPr>
          <a:xfrm>
            <a:off x="5700600" y="1671480"/>
            <a:ext cx="147600" cy="176400"/>
          </a:xfrm>
          <a:custGeom>
            <a:avLst/>
            <a:gdLst/>
            <a:ahLst/>
            <a:rect l="l" t="t" r="r" b="b"/>
            <a:pathLst>
              <a:path w="93" h="111">
                <a:moveTo>
                  <a:pt x="0" y="0"/>
                </a:moveTo>
                <a:cubicBezTo>
                  <a:pt x="16" y="13"/>
                  <a:pt x="33" y="27"/>
                  <a:pt x="48" y="45"/>
                </a:cubicBezTo>
                <a:cubicBezTo>
                  <a:pt x="63" y="63"/>
                  <a:pt x="86" y="105"/>
                  <a:pt x="93" y="1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20"/>
          <p:cNvSpPr/>
          <p:nvPr/>
        </p:nvSpPr>
        <p:spPr>
          <a:xfrm>
            <a:off x="4662360" y="1138320"/>
            <a:ext cx="209520" cy="33120"/>
          </a:xfrm>
          <a:custGeom>
            <a:avLst/>
            <a:gdLst>
              <a:gd name="textAreaLeft" fmla="*/ 0 w 209520"/>
              <a:gd name="textAreaRight" fmla="*/ 209880 w 2095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32" h="21">
                <a:moveTo>
                  <a:pt x="0" y="21"/>
                </a:moveTo>
                <a:cubicBezTo>
                  <a:pt x="10" y="10"/>
                  <a:pt x="20" y="0"/>
                  <a:pt x="42" y="0"/>
                </a:cubicBezTo>
                <a:cubicBezTo>
                  <a:pt x="64" y="0"/>
                  <a:pt x="120" y="17"/>
                  <a:pt x="132" y="2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Freeform 21"/>
          <p:cNvSpPr/>
          <p:nvPr/>
        </p:nvSpPr>
        <p:spPr>
          <a:xfrm>
            <a:off x="4425840" y="2882880"/>
            <a:ext cx="209520" cy="596880"/>
          </a:xfrm>
          <a:custGeom>
            <a:avLst/>
            <a:gdLst>
              <a:gd name="textAreaLeft" fmla="*/ 0 w 209520"/>
              <a:gd name="textAreaRight" fmla="*/ 209880 w 2095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32" h="376">
                <a:moveTo>
                  <a:pt x="0" y="0"/>
                </a:moveTo>
                <a:cubicBezTo>
                  <a:pt x="21" y="60"/>
                  <a:pt x="42" y="121"/>
                  <a:pt x="64" y="184"/>
                </a:cubicBezTo>
                <a:cubicBezTo>
                  <a:pt x="86" y="247"/>
                  <a:pt x="122" y="345"/>
                  <a:pt x="132" y="376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5580000" y="5084640"/>
            <a:ext cx="2448000" cy="161856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F is constantly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drai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ural  sinu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ugh the arachnoid vill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5" descr="thumb_flower16"/>
          <p:cNvPicPr/>
          <p:nvPr/>
        </p:nvPicPr>
        <p:blipFill>
          <a:blip r:embed="rId1"/>
          <a:srcRect l="16289" t="3075" r="14286" b="8317"/>
          <a:stretch/>
        </p:blipFill>
        <p:spPr>
          <a:xfrm>
            <a:off x="2214720" y="857160"/>
            <a:ext cx="5000400" cy="478656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00200" y="2714760"/>
            <a:ext cx="44006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atisse ITC"/>
              </a:rPr>
              <a:t>Thank  U &amp; Good luck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atisse ITC"/>
              <a:ea typeface="Matiss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50560" y="189000"/>
            <a:ext cx="4608360" cy="64548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rvous system h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fun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llection of sensory inpu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dentifies changes occurring inside and outside the body by using sensory receptors. These changes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ocesses, analyses and interprets these changes and makes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then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ffects a respon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ctivating muscles or glands (effectors) vi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or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7" descr="File0514"/>
          <p:cNvPicPr/>
          <p:nvPr/>
        </p:nvPicPr>
        <p:blipFill>
          <a:blip r:embed="rId3"/>
          <a:stretch/>
        </p:blipFill>
        <p:spPr>
          <a:xfrm>
            <a:off x="4859280" y="1773360"/>
            <a:ext cx="3987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File0517"/>
          <p:cNvPicPr/>
          <p:nvPr/>
        </p:nvPicPr>
        <p:blipFill>
          <a:blip r:embed="rId1"/>
          <a:stretch/>
        </p:blipFill>
        <p:spPr>
          <a:xfrm>
            <a:off x="4572000" y="692280"/>
            <a:ext cx="3816360" cy="59054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ctur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3313080" cy="3600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Central Nervous System (CNS)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&amp; Spinal 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ipheral Nervous System (PNS)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rves (cranial, spinal) &amp; gang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9"/>
          <p:cNvSpPr/>
          <p:nvPr/>
        </p:nvSpPr>
        <p:spPr>
          <a:xfrm>
            <a:off x="4643280" y="1341360"/>
            <a:ext cx="474840" cy="647640"/>
          </a:xfrm>
          <a:custGeom>
            <a:avLst/>
            <a:gdLst>
              <a:gd name="textAreaLeft" fmla="*/ 23040 w 474840"/>
              <a:gd name="textAreaRight" fmla="*/ 451800 w 47484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29455">
                <a:moveTo>
                  <a:pt x="3600" y="0"/>
                </a:moveTo>
                <a:arcTo wR="3600" hR="3600" stAng="16200000" swAng="-5400000"/>
                <a:lnTo>
                  <a:pt x="0" y="25855"/>
                </a:lnTo>
                <a:arcTo wR="3600" hR="3600" stAng="10800000" swAng="-5400000"/>
                <a:lnTo>
                  <a:pt x="18000" y="2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7667640" y="2349360"/>
            <a:ext cx="587520" cy="648000"/>
          </a:xfrm>
          <a:custGeom>
            <a:avLst/>
            <a:gdLst>
              <a:gd name="textAreaLeft" fmla="*/ 28440 w 587520"/>
              <a:gd name="textAreaRight" fmla="*/ 559080 w 587520"/>
              <a:gd name="textAreaTop" fmla="*/ 28440 h 648000"/>
              <a:gd name="textAreaBottom" fmla="*/ 619560 h 648000"/>
            </a:gdLst>
            <a:ahLst/>
            <a:rect l="textAreaLeft" t="textAreaTop" r="textAreaRight" b="textAreaBottom"/>
            <a:pathLst>
              <a:path w="21600" h="23822">
                <a:moveTo>
                  <a:pt x="3600" y="0"/>
                </a:moveTo>
                <a:arcTo wR="3600" hR="3600" stAng="16200000" swAng="-5400000"/>
                <a:lnTo>
                  <a:pt x="0" y="20222"/>
                </a:lnTo>
                <a:arcTo wR="3600" hR="3600" stAng="10800000" swAng="-5400000"/>
                <a:lnTo>
                  <a:pt x="18000" y="23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5219640" y="1700280"/>
            <a:ext cx="474840" cy="43344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5219640" y="1197000"/>
            <a:ext cx="474840" cy="28728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7236000" y="3716280"/>
            <a:ext cx="474480" cy="433440"/>
          </a:xfrm>
          <a:prstGeom prst="roundRect">
            <a:avLst>
              <a:gd name="adj" fmla="val 16667"/>
            </a:avLst>
          </a:prstGeom>
          <a:solidFill>
            <a:srgbClr val="adb8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7020000" y="1197000"/>
            <a:ext cx="474480" cy="431640"/>
          </a:xfrm>
          <a:prstGeom prst="roundRect">
            <a:avLst>
              <a:gd name="adj" fmla="val 16667"/>
            </a:avLst>
          </a:prstGeom>
          <a:solidFill>
            <a:srgbClr val="adb8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78920" y="765000"/>
            <a:ext cx="3529080" cy="43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sory/Motor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115920"/>
            <a:ext cx="9144000" cy="504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ction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6" descr="http://www.pc.maricopa.edu/Biology/pfinkenstadt/BIO201/201LessonBuilder/UnitFour/Nervous_tissue/functional%20division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341360"/>
            <a:ext cx="7417080" cy="4845240"/>
          </a:xfrm>
          <a:prstGeom prst="rect">
            <a:avLst/>
          </a:prstGeom>
          <a:ln w="0">
            <a:noFill/>
          </a:ln>
        </p:spPr>
      </p:pic>
      <p:sp>
        <p:nvSpPr>
          <p:cNvPr id="349" name="Content Placeholder 2"/>
          <p:cNvSpPr/>
          <p:nvPr/>
        </p:nvSpPr>
        <p:spPr>
          <a:xfrm>
            <a:off x="3780000" y="765000"/>
            <a:ext cx="5184720" cy="43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atic/Autonomi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Visceral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Users\Zeenat\Pictures\neuron.JPG"/>
          <p:cNvPicPr/>
          <p:nvPr/>
        </p:nvPicPr>
        <p:blipFill>
          <a:blip r:embed="rId1"/>
          <a:stretch/>
        </p:blipFill>
        <p:spPr>
          <a:xfrm>
            <a:off x="971640" y="1268280"/>
            <a:ext cx="7318440" cy="4608720"/>
          </a:xfrm>
          <a:prstGeom prst="rect">
            <a:avLst/>
          </a:prstGeom>
          <a:ln w="0">
            <a:noFill/>
          </a:ln>
        </p:spPr>
      </p:pic>
      <p:sp>
        <p:nvSpPr>
          <p:cNvPr id="351" name="Content Placeholder 3"/>
          <p:cNvSpPr/>
          <p:nvPr/>
        </p:nvSpPr>
        <p:spPr>
          <a:xfrm>
            <a:off x="539640" y="260280"/>
            <a:ext cx="7921800" cy="719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rvous tissue consists of nerve cells (neurons) and supporting (neuroglia)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6227640" y="45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rve fib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3" name="Straight Arrow Connector 8"/>
          <p:cNvCxnSpPr/>
          <p:nvPr/>
        </p:nvCxnSpPr>
        <p:spPr>
          <a:xfrm>
            <a:off x="2268360" y="2133360"/>
            <a:ext cx="43272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9"/>
          <p:cNvCxnSpPr/>
          <p:nvPr/>
        </p:nvCxnSpPr>
        <p:spPr>
          <a:xfrm>
            <a:off x="3924000" y="3860280"/>
            <a:ext cx="71964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Straight Arrow Connector 10"/>
          <p:cNvCxnSpPr/>
          <p:nvPr/>
        </p:nvCxnSpPr>
        <p:spPr>
          <a:xfrm flipH="1" flipV="1">
            <a:off x="3419280" y="4149360"/>
            <a:ext cx="73440" cy="57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Straight Arrow Connector 11"/>
          <p:cNvCxnSpPr/>
          <p:nvPr/>
        </p:nvCxnSpPr>
        <p:spPr>
          <a:xfrm flipV="1">
            <a:off x="1619280" y="4076280"/>
            <a:ext cx="505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TextBox 12"/>
          <p:cNvSpPr/>
          <p:nvPr/>
        </p:nvSpPr>
        <p:spPr>
          <a:xfrm>
            <a:off x="2987640" y="544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multipolar neu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11280" y="907920"/>
            <a:ext cx="7921440" cy="43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rvous tissue is organiz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rcRect l="0" t="1017" r="0" b="12454"/>
          <a:stretch/>
        </p:blipFill>
        <p:spPr>
          <a:xfrm>
            <a:off x="1187280" y="2997360"/>
            <a:ext cx="6696360" cy="34844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684360" y="1628640"/>
            <a:ext cx="3382920" cy="1312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Grey matter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ich contain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ll bodies &amp; the short processes of the neur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eurogl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lood vesse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572000" y="1628640"/>
            <a:ext cx="381636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White matter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ontains the lo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es of the neur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no cell bodies), the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eurogl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lood vess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1332000" y="5877000"/>
            <a:ext cx="647640" cy="216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2"/>
          <p:cNvSpPr/>
          <p:nvPr/>
        </p:nvSpPr>
        <p:spPr>
          <a:xfrm>
            <a:off x="7380360" y="4292640"/>
            <a:ext cx="431640" cy="28872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187280" y="1844640"/>
            <a:ext cx="2737080" cy="1312200"/>
          </a:xfrm>
          <a:prstGeom prst="rect">
            <a:avLst/>
          </a:prstGeom>
          <a:solidFill>
            <a:srgbClr val="d6e0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urons within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ucl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763640" y="4365720"/>
            <a:ext cx="2448000" cy="1604520"/>
          </a:xfrm>
          <a:prstGeom prst="rect">
            <a:avLst/>
          </a:prstGeom>
          <a:solidFill>
            <a:srgbClr val="d6e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urons outside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ng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4" descr="http://upload.wikimedia.org/wikipedia/commons/thumb/c/c0/Medulla_spinalis_-_Substantia_grisea_-_English.svg/400px-Medulla_spinalis_-_Substantia_grisea_-_English.svg.png"/>
          <p:cNvPicPr/>
          <p:nvPr/>
        </p:nvPicPr>
        <p:blipFill>
          <a:blip r:embed="rId1"/>
          <a:stretch/>
        </p:blipFill>
        <p:spPr>
          <a:xfrm>
            <a:off x="3995640" y="620640"/>
            <a:ext cx="4176720" cy="2913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67" name="Picture 8" descr="http://www.humanneurophysiology.com/images/fig-1.gif"/>
          <p:cNvPicPr/>
          <p:nvPr/>
        </p:nvPicPr>
        <p:blipFill>
          <a:blip r:embed="rId2"/>
          <a:stretch/>
        </p:blipFill>
        <p:spPr>
          <a:xfrm>
            <a:off x="4211640" y="3645000"/>
            <a:ext cx="3330720" cy="29527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368" name="TextBox 12"/>
          <p:cNvSpPr/>
          <p:nvPr/>
        </p:nvSpPr>
        <p:spPr>
          <a:xfrm>
            <a:off x="395280" y="620640"/>
            <a:ext cx="266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auhaus 93"/>
              </a:rPr>
              <a:t>Rememb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" name="Straight Arrow Connector 14"/>
          <p:cNvCxnSpPr/>
          <p:nvPr/>
        </p:nvCxnSpPr>
        <p:spPr>
          <a:xfrm flipH="1" flipV="1">
            <a:off x="5940000" y="5444640"/>
            <a:ext cx="28800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0" name="Straight Arrow Connector 15"/>
          <p:cNvCxnSpPr/>
          <p:nvPr/>
        </p:nvCxnSpPr>
        <p:spPr>
          <a:xfrm flipH="1" flipV="1">
            <a:off x="5940000" y="4797000"/>
            <a:ext cx="28800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050920" y="2060640"/>
            <a:ext cx="2735280" cy="1312200"/>
          </a:xfrm>
          <a:prstGeom prst="rect">
            <a:avLst/>
          </a:prstGeom>
          <a:solidFill>
            <a:srgbClr val="d6e0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rve fibers (axons) within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979640" y="4149720"/>
            <a:ext cx="1944720" cy="2189160"/>
          </a:xfrm>
          <a:prstGeom prst="rect">
            <a:avLst/>
          </a:prstGeom>
          <a:solidFill>
            <a:srgbClr val="d6e0ff"/>
          </a:solidFill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rve fibers (axons) outside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r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http://www.health.com/health/static/hw/media/medical/hw/hwkb17_032_001.jpg"/>
          <p:cNvPicPr/>
          <p:nvPr/>
        </p:nvPicPr>
        <p:blipFill>
          <a:blip r:embed="rId1"/>
          <a:srcRect l="8216" t="0" r="1397" b="6765"/>
          <a:stretch/>
        </p:blipFill>
        <p:spPr>
          <a:xfrm>
            <a:off x="3995640" y="4005360"/>
            <a:ext cx="3148200" cy="2448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374" name="Picture 14" descr="http://img.tfd.com/MosbyMD/thumb/optic_nerve.jpg"/>
          <p:cNvPicPr/>
          <p:nvPr/>
        </p:nvPicPr>
        <p:blipFill>
          <a:blip r:embed="rId2"/>
          <a:stretch/>
        </p:blipFill>
        <p:spPr>
          <a:xfrm>
            <a:off x="4859280" y="907920"/>
            <a:ext cx="3049560" cy="295272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375" name="TextBox 12"/>
          <p:cNvSpPr/>
          <p:nvPr/>
        </p:nvSpPr>
        <p:spPr>
          <a:xfrm>
            <a:off x="395280" y="981000"/>
            <a:ext cx="266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auhaus 93"/>
              </a:rPr>
              <a:t>Rememb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8:01:34Z</dcterms:created>
  <dc:creator>Dr. Zeenat Zaidi</dc:creator>
  <dc:description/>
  <dc:language>en-US</dc:language>
  <cp:lastModifiedBy>Gamilah H. Al-Madani</cp:lastModifiedBy>
  <dcterms:modified xsi:type="dcterms:W3CDTF">2014-09-07T08:50:46Z</dcterms:modified>
  <cp:revision>137</cp:revision>
  <dc:subject>General Anatomy</dc:subject>
  <dc:title>Nervous System</dc:title>
</cp:coreProperties>
</file>