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8A0-F42A-4000-AF8C-92D7389B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0C9-C24C-4527-96B3-DBA59596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B22-8356-41BE-9545-BFA58BEC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76B-5495-4CD1-9CFB-75A6B1B8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F8E0-3899-45A7-B48D-39A806A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A5FD-68E8-4A16-B970-DD9E19E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1C3D-A4A5-4294-8A5A-0C9C659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EE45-6CA7-469D-A124-909508C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A49-40D7-43F9-9645-C6BC8DF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950-CE4C-4D23-B11B-214E459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0F3-E5C8-46F4-9092-9BD1B58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C10-B70E-4B77-BA47-8CCB102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D79-2896-46FE-93A4-22A99B9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A37F-3CE1-4472-9FFA-B2400C5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E77-AED6-4A84-8FEC-FCD770A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7B3-2910-48D3-94C5-6D8C76AC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529D-8C23-48C7-ADBA-D88F549E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8C6-0623-4E2D-B0C6-F9E2467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3BB-130C-40ED-8981-C842EB9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C7D-CCF0-4D53-8E77-CAC91EC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F16-2B7B-4079-B513-251CA35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BE3-8792-4B48-AD1A-F29D002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CCA-3389-4A65-A0E9-C403F6C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257-DCF2-4362-9D01-7CE9EB2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378C-35A7-4214-A3C1-4B3100575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F13-C74D-495D-A585-93D4F2876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445240" cy="1828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ic Nervous Syste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user\My Documents\My Pictures\BISMILLAH\Bismillah_blue.jpg"/>
          <p:cNvPicPr/>
          <p:nvPr/>
        </p:nvPicPr>
        <p:blipFill>
          <a:blip r:embed="rId1"/>
          <a:stretch/>
        </p:blipFill>
        <p:spPr>
          <a:xfrm>
            <a:off x="4211640" y="189000"/>
            <a:ext cx="10810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68360" y="1557360"/>
            <a:ext cx="388764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in the ventral roots of the sp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inal nerv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join the sympathetic chain via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ite rami communica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Content Placeholder 3" descr="autonomic 003.jpg"/>
          <p:cNvPicPr/>
          <p:nvPr/>
        </p:nvPicPr>
        <p:blipFill>
          <a:blip r:embed="rId3"/>
          <a:srcRect l="9790" t="6366" r="7716" b="0"/>
          <a:stretch/>
        </p:blipFill>
        <p:spPr>
          <a:xfrm>
            <a:off x="4427640" y="981000"/>
            <a:ext cx="4476600" cy="4464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9" name="Rectangle 3"/>
          <p:cNvSpPr/>
          <p:nvPr/>
        </p:nvSpPr>
        <p:spPr>
          <a:xfrm>
            <a:off x="73800" y="404640"/>
            <a:ext cx="42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e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4"/>
          <p:cNvSpPr/>
          <p:nvPr/>
        </p:nvSpPr>
        <p:spPr>
          <a:xfrm>
            <a:off x="5319720" y="2732040"/>
            <a:ext cx="2398680" cy="1239840"/>
          </a:xfrm>
          <a:custGeom>
            <a:avLst/>
            <a:gdLst/>
            <a:ahLst/>
            <a:rect l="l" t="t" r="r" b="b"/>
            <a:pathLst>
              <a:path w="2397457" h="1239672">
                <a:moveTo>
                  <a:pt x="2275" y="147851"/>
                </a:moveTo>
                <a:cubicBezTo>
                  <a:pt x="1137" y="230875"/>
                  <a:pt x="0" y="313899"/>
                  <a:pt x="2275" y="379863"/>
                </a:cubicBezTo>
                <a:cubicBezTo>
                  <a:pt x="4550" y="445827"/>
                  <a:pt x="1" y="495869"/>
                  <a:pt x="15923" y="543636"/>
                </a:cubicBezTo>
                <a:cubicBezTo>
                  <a:pt x="31845" y="591403"/>
                  <a:pt x="20472" y="691487"/>
                  <a:pt x="97809" y="666466"/>
                </a:cubicBezTo>
                <a:cubicBezTo>
                  <a:pt x="175146" y="641445"/>
                  <a:pt x="327547" y="491319"/>
                  <a:pt x="479947" y="393510"/>
                </a:cubicBezTo>
                <a:cubicBezTo>
                  <a:pt x="632347" y="295701"/>
                  <a:pt x="846161" y="143301"/>
                  <a:pt x="1012209" y="79612"/>
                </a:cubicBezTo>
                <a:cubicBezTo>
                  <a:pt x="1178257" y="15923"/>
                  <a:pt x="1323833" y="0"/>
                  <a:pt x="1476233" y="11373"/>
                </a:cubicBezTo>
                <a:cubicBezTo>
                  <a:pt x="1628633" y="22746"/>
                  <a:pt x="1783308" y="90985"/>
                  <a:pt x="1926609" y="147851"/>
                </a:cubicBezTo>
                <a:cubicBezTo>
                  <a:pt x="2069910" y="204717"/>
                  <a:pt x="2274627" y="252484"/>
                  <a:pt x="2336042" y="352567"/>
                </a:cubicBezTo>
                <a:cubicBezTo>
                  <a:pt x="2397457" y="452650"/>
                  <a:pt x="2342866" y="636895"/>
                  <a:pt x="2295099" y="748352"/>
                </a:cubicBezTo>
                <a:cubicBezTo>
                  <a:pt x="2247332" y="859809"/>
                  <a:pt x="2126776" y="948519"/>
                  <a:pt x="2049439" y="1021307"/>
                </a:cubicBezTo>
                <a:cubicBezTo>
                  <a:pt x="1972102" y="1094095"/>
                  <a:pt x="1906137" y="1148686"/>
                  <a:pt x="1831075" y="1185080"/>
                </a:cubicBezTo>
                <a:cubicBezTo>
                  <a:pt x="1756013" y="1221474"/>
                  <a:pt x="1677538" y="1230573"/>
                  <a:pt x="1599063" y="1239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24000" y="189000"/>
            <a:ext cx="4464000" cy="64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the sympathetic chain, these fiber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end, descend or remain at the same level to synapse with neurons (postganglionic)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vertebral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sympathetic ch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the sympathetic chain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synaps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ac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liac &amp; mesenteric gang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ound branches of abdominal aorta) to synapse with their neurons (postganglion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Content Placeholder 3" descr="autonomic 003.jpg"/>
          <p:cNvPicPr/>
          <p:nvPr/>
        </p:nvPicPr>
        <p:blipFill>
          <a:blip r:embed="rId2"/>
          <a:srcRect l="9790" t="6366" r="7716" b="0"/>
          <a:stretch/>
        </p:blipFill>
        <p:spPr>
          <a:xfrm>
            <a:off x="4861080" y="1197000"/>
            <a:ext cx="4114800" cy="41036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3" name="Freeform 4"/>
          <p:cNvSpPr/>
          <p:nvPr/>
        </p:nvSpPr>
        <p:spPr>
          <a:xfrm>
            <a:off x="6826320" y="1882800"/>
            <a:ext cx="393480" cy="2047680"/>
          </a:xfrm>
          <a:custGeom>
            <a:avLst/>
            <a:gdLst/>
            <a:ahLst/>
            <a:rect l="l" t="t" r="r" b="b"/>
            <a:pathLst>
              <a:path w="393511" h="2047165">
                <a:moveTo>
                  <a:pt x="393511" y="2047164"/>
                </a:moveTo>
                <a:cubicBezTo>
                  <a:pt x="275230" y="2047164"/>
                  <a:pt x="156950" y="2047165"/>
                  <a:pt x="93260" y="2019869"/>
                </a:cubicBezTo>
                <a:cubicBezTo>
                  <a:pt x="29570" y="1992574"/>
                  <a:pt x="0" y="1978925"/>
                  <a:pt x="11373" y="1883391"/>
                </a:cubicBezTo>
                <a:cubicBezTo>
                  <a:pt x="22746" y="1787857"/>
                  <a:pt x="125105" y="1567218"/>
                  <a:pt x="161499" y="1446663"/>
                </a:cubicBezTo>
                <a:cubicBezTo>
                  <a:pt x="197893" y="1326108"/>
                  <a:pt x="220640" y="1401171"/>
                  <a:pt x="229738" y="1160060"/>
                </a:cubicBezTo>
                <a:cubicBezTo>
                  <a:pt x="238837" y="918950"/>
                  <a:pt x="227463" y="459475"/>
                  <a:pt x="2160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7000920" y="3944880"/>
            <a:ext cx="231840" cy="1146240"/>
          </a:xfrm>
          <a:custGeom>
            <a:avLst/>
            <a:gdLst/>
            <a:ahLst/>
            <a:rect l="l" t="t" r="r" b="b"/>
            <a:pathLst>
              <a:path w="232012" h="1146412">
                <a:moveTo>
                  <a:pt x="232012" y="0"/>
                </a:moveTo>
                <a:cubicBezTo>
                  <a:pt x="159224" y="48904"/>
                  <a:pt x="86437" y="97809"/>
                  <a:pt x="54592" y="163773"/>
                </a:cubicBezTo>
                <a:cubicBezTo>
                  <a:pt x="22747" y="229737"/>
                  <a:pt x="47768" y="250209"/>
                  <a:pt x="40944" y="395785"/>
                </a:cubicBezTo>
                <a:cubicBezTo>
                  <a:pt x="34120" y="541361"/>
                  <a:pt x="20472" y="928048"/>
                  <a:pt x="13648" y="1037230"/>
                </a:cubicBezTo>
                <a:cubicBezTo>
                  <a:pt x="6824" y="1146412"/>
                  <a:pt x="0" y="1050878"/>
                  <a:pt x="0" y="10508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7056360" y="3780000"/>
            <a:ext cx="122400" cy="164880"/>
          </a:xfrm>
          <a:custGeom>
            <a:avLst/>
            <a:gdLst/>
            <a:ahLst/>
            <a:rect l="l" t="t" r="r" b="b"/>
            <a:pathLst>
              <a:path w="122829" h="163773">
                <a:moveTo>
                  <a:pt x="122829" y="1637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6195960" y="3930480"/>
            <a:ext cx="792360" cy="436680"/>
          </a:xfrm>
          <a:custGeom>
            <a:avLst/>
            <a:gdLst/>
            <a:ahLst/>
            <a:rect l="l" t="t" r="r" b="b"/>
            <a:pathLst>
              <a:path w="791570" h="436729">
                <a:moveTo>
                  <a:pt x="791570" y="0"/>
                </a:moveTo>
                <a:cubicBezTo>
                  <a:pt x="727880" y="13648"/>
                  <a:pt x="664191" y="27296"/>
                  <a:pt x="559558" y="81887"/>
                </a:cubicBezTo>
                <a:cubicBezTo>
                  <a:pt x="454925" y="136478"/>
                  <a:pt x="257033" y="268406"/>
                  <a:pt x="163773" y="327546"/>
                </a:cubicBezTo>
                <a:cubicBezTo>
                  <a:pt x="70513" y="386686"/>
                  <a:pt x="0" y="436729"/>
                  <a:pt x="0" y="43672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250920" y="1341360"/>
            <a:ext cx="40338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sympathetic chain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again into the spinal nerve throug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ey rami communicantes (GR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s in head &amp; thorax + blood vessels &amp; sweat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cells of coeliac &amp; mesenteric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 &amp; pelvic visc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Content Placeholder 3" descr="autonomic 003.jpg"/>
          <p:cNvPicPr/>
          <p:nvPr/>
        </p:nvPicPr>
        <p:blipFill>
          <a:blip r:embed="rId4"/>
          <a:srcRect l="9790" t="6366" r="7716" b="0"/>
          <a:stretch/>
        </p:blipFill>
        <p:spPr>
          <a:xfrm>
            <a:off x="4356000" y="1352520"/>
            <a:ext cx="4537080" cy="45244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9" name="Freeform 3"/>
          <p:cNvSpPr/>
          <p:nvPr/>
        </p:nvSpPr>
        <p:spPr>
          <a:xfrm>
            <a:off x="6769080" y="3416400"/>
            <a:ext cx="1528920" cy="782640"/>
          </a:xfrm>
          <a:custGeom>
            <a:avLst/>
            <a:gdLst/>
            <a:ahLst/>
            <a:rect l="l" t="t" r="r" b="b"/>
            <a:pathLst>
              <a:path w="1528549" h="782472">
                <a:moveTo>
                  <a:pt x="0" y="659642"/>
                </a:moveTo>
                <a:lnTo>
                  <a:pt x="218364" y="632346"/>
                </a:lnTo>
                <a:cubicBezTo>
                  <a:pt x="304800" y="589128"/>
                  <a:pt x="443551" y="495868"/>
                  <a:pt x="518614" y="400334"/>
                </a:cubicBezTo>
                <a:cubicBezTo>
                  <a:pt x="593677" y="304800"/>
                  <a:pt x="605050" y="118280"/>
                  <a:pt x="668740" y="59140"/>
                </a:cubicBezTo>
                <a:cubicBezTo>
                  <a:pt x="732430" y="0"/>
                  <a:pt x="812042" y="9098"/>
                  <a:pt x="900752" y="45492"/>
                </a:cubicBezTo>
                <a:cubicBezTo>
                  <a:pt x="989462" y="81886"/>
                  <a:pt x="1096370" y="154674"/>
                  <a:pt x="1201003" y="277504"/>
                </a:cubicBezTo>
                <a:cubicBezTo>
                  <a:pt x="1305636" y="400334"/>
                  <a:pt x="1473958" y="702860"/>
                  <a:pt x="1528549" y="782472"/>
                </a:cubicBezTo>
              </a:path>
            </a:pathLst>
          </a:custGeom>
          <a:noFill/>
          <a:ln w="38160">
            <a:solidFill>
              <a:srgbClr val="001d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-69120" y="47628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4360" y="1267920"/>
            <a:ext cx="424800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i of the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ranial nerv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rain stem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ani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 gray h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cr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83808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4" name="Oval 7"/>
          <p:cNvSpPr/>
          <p:nvPr/>
        </p:nvSpPr>
        <p:spPr>
          <a:xfrm>
            <a:off x="5580000" y="90972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5842080" y="4387680"/>
            <a:ext cx="530280" cy="482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1268280"/>
            <a:ext cx="4464000" cy="432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cranial outflow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ranial nerv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erminate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liary, pterygopalatine, submandibular, otic &amp; peripheral gang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head, neck, thorax, and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3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8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68360" y="1413000"/>
            <a:ext cx="4464000" cy="37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sacral outfl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vic splanchnic nerv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eripheral ganglia in pelvis where they synap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pelvis and low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C:\Documents and Settings\user1\Desktop\terminology\terminlology 005.jpg"/>
          <p:cNvPicPr/>
          <p:nvPr/>
        </p:nvPicPr>
        <p:blipFill>
          <a:blip r:embed="rId1"/>
          <a:stretch/>
        </p:blipFill>
        <p:spPr>
          <a:xfrm>
            <a:off x="1981080" y="174600"/>
            <a:ext cx="6019920" cy="647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f2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33559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2"/>
          <p:cNvSpPr txBox="1"/>
          <p:nvPr/>
        </p:nvSpPr>
        <p:spPr>
          <a:xfrm>
            <a:off x="1187280" y="2637000"/>
            <a:ext cx="6515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onsole"/>
              </a:rPr>
              <a:t>Thank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onsole"/>
              <a:ea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484280"/>
            <a:ext cx="8229600" cy="31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fine the autonom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cribe the structur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e the preganglionic &amp; postganglionic neurons in both sympathetic &amp; parasympathet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umerate in brief the main effects of sympathetic &amp; parasympatheti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274160" cy="3600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the innervation and control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voluntary structures: visceral org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ooth &amp; cardiac mus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ong with the endocrine system, its prima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omeostasis of the internal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th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ral and peripheral nervous syst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ulated (controlle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othalam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2808360"/>
          </a:xfrm>
          <a:prstGeom prst="rect">
            <a:avLst/>
          </a:prstGeom>
          <a:solidFill>
            <a:srgbClr val="7070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somatic nervous system,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hway of the autonomic nervous system is made up of two neurons called 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bodie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rain and spinal c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ir axons synapse with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whose cell bodie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utonomic gangl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ntent Placeholder 7" descr=""/>
          <p:cNvPicPr/>
          <p:nvPr/>
        </p:nvPicPr>
        <p:blipFill>
          <a:blip r:embed="rId3"/>
          <a:srcRect l="0" t="26471" r="0" b="21570"/>
          <a:stretch/>
        </p:blipFill>
        <p:spPr>
          <a:xfrm>
            <a:off x="1835280" y="3902040"/>
            <a:ext cx="5329080" cy="276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70" name="Rectangle 2"/>
          <p:cNvSpPr/>
          <p:nvPr/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4180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tom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ysi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armac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acteristics, the autonomic nervous system is divided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ated during exercise, excitement, and emergencies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fight, flight, or fr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conserving energy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rest and dige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C:\Documents and Settings\user\My Documents\My Pictures\aas.png"/>
          <p:cNvPicPr/>
          <p:nvPr/>
        </p:nvPicPr>
        <p:blipFill>
          <a:blip r:embed="rId2"/>
          <a:stretch/>
        </p:blipFill>
        <p:spPr>
          <a:xfrm>
            <a:off x="5292720" y="2565360"/>
            <a:ext cx="3673440" cy="2514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3" name="Picture 6" descr="C:\Documents and Settings\user\My Documents\My Pictures\cc.png"/>
          <p:cNvPicPr/>
          <p:nvPr/>
        </p:nvPicPr>
        <p:blipFill>
          <a:blip r:embed="rId3"/>
          <a:stretch/>
        </p:blipFill>
        <p:spPr>
          <a:xfrm>
            <a:off x="5292720" y="54000"/>
            <a:ext cx="3657600" cy="2438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4" name="Picture 8" descr="runner"/>
          <p:cNvPicPr/>
          <p:nvPr/>
        </p:nvPicPr>
        <p:blipFill>
          <a:blip r:embed="rId4"/>
          <a:stretch/>
        </p:blipFill>
        <p:spPr>
          <a:xfrm>
            <a:off x="8028000" y="549360"/>
            <a:ext cx="868320" cy="66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5108400"/>
            <a:ext cx="8713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divisions operate in conjunction with one another (hav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agonis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 over the viscera) to maintain a stable internal environ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3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2050920" y="1197000"/>
            <a:ext cx="2890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6516720" y="1197000"/>
            <a:ext cx="2872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050920" y="4365720"/>
            <a:ext cx="289080" cy="28728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516720" y="2924280"/>
            <a:ext cx="287280" cy="2887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1692360" y="3933720"/>
            <a:ext cx="93492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5940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547640" y="602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195640" y="1484280"/>
            <a:ext cx="0" cy="2665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14"/>
          <p:cNvSpPr/>
          <p:nvPr/>
        </p:nvSpPr>
        <p:spPr>
          <a:xfrm>
            <a:off x="6659640" y="148428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>
            <a:off x="2195640" y="4653000"/>
            <a:ext cx="0" cy="129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18"/>
          <p:cNvSpPr/>
          <p:nvPr/>
        </p:nvSpPr>
        <p:spPr>
          <a:xfrm>
            <a:off x="6659640" y="3213000"/>
            <a:ext cx="0" cy="273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0"/>
          <p:cNvSpPr/>
          <p:nvPr/>
        </p:nvSpPr>
        <p:spPr>
          <a:xfrm flipV="1">
            <a:off x="6588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22"/>
          <p:cNvSpPr/>
          <p:nvPr/>
        </p:nvSpPr>
        <p:spPr>
          <a:xfrm>
            <a:off x="6659640" y="5950080"/>
            <a:ext cx="14436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24"/>
          <p:cNvSpPr/>
          <p:nvPr/>
        </p:nvSpPr>
        <p:spPr>
          <a:xfrm flipH="1">
            <a:off x="6587640" y="2708280"/>
            <a:ext cx="7164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26"/>
          <p:cNvSpPr/>
          <p:nvPr/>
        </p:nvSpPr>
        <p:spPr>
          <a:xfrm>
            <a:off x="6659640" y="2708280"/>
            <a:ext cx="14436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9"/>
          <p:cNvSpPr/>
          <p:nvPr/>
        </p:nvSpPr>
        <p:spPr>
          <a:xfrm flipH="1">
            <a:off x="2123640" y="4076640"/>
            <a:ext cx="71640" cy="216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31"/>
          <p:cNvSpPr/>
          <p:nvPr/>
        </p:nvSpPr>
        <p:spPr>
          <a:xfrm>
            <a:off x="2195640" y="4149720"/>
            <a:ext cx="144360" cy="1429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35"/>
          <p:cNvSpPr/>
          <p:nvPr/>
        </p:nvSpPr>
        <p:spPr>
          <a:xfrm flipV="1">
            <a:off x="2124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52"/>
          <p:cNvSpPr/>
          <p:nvPr/>
        </p:nvSpPr>
        <p:spPr>
          <a:xfrm>
            <a:off x="2195640" y="5950080"/>
            <a:ext cx="108000" cy="712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9"/>
          <p:cNvSpPr/>
          <p:nvPr/>
        </p:nvSpPr>
        <p:spPr>
          <a:xfrm>
            <a:off x="2987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60"/>
          <p:cNvSpPr/>
          <p:nvPr/>
        </p:nvSpPr>
        <p:spPr>
          <a:xfrm>
            <a:off x="3132000" y="501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1"/>
          <p:cNvSpPr/>
          <p:nvPr/>
        </p:nvSpPr>
        <p:spPr>
          <a:xfrm>
            <a:off x="3059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2"/>
          <p:cNvSpPr/>
          <p:nvPr/>
        </p:nvSpPr>
        <p:spPr>
          <a:xfrm>
            <a:off x="313200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63"/>
          <p:cNvSpPr/>
          <p:nvPr/>
        </p:nvSpPr>
        <p:spPr>
          <a:xfrm>
            <a:off x="2987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Straight Arrow Connector 65"/>
          <p:cNvCxnSpPr/>
          <p:nvPr/>
        </p:nvCxnSpPr>
        <p:spPr>
          <a:xfrm>
            <a:off x="2195640" y="234900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67"/>
          <p:cNvCxnSpPr/>
          <p:nvPr/>
        </p:nvCxnSpPr>
        <p:spPr>
          <a:xfrm>
            <a:off x="2195640" y="530028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69"/>
          <p:cNvCxnSpPr/>
          <p:nvPr/>
        </p:nvCxnSpPr>
        <p:spPr>
          <a:xfrm>
            <a:off x="4932360" y="3141360"/>
            <a:ext cx="129600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4" name="Straight Arrow Connector 70"/>
          <p:cNvCxnSpPr>
            <a:endCxn id="180" idx="3"/>
          </p:cNvCxnSpPr>
          <p:nvPr/>
        </p:nvCxnSpPr>
        <p:spPr>
          <a:xfrm flipV="1">
            <a:off x="5651640" y="3169800"/>
            <a:ext cx="907200" cy="6912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5" name="Straight Arrow Connector 71"/>
          <p:cNvCxnSpPr>
            <a:endCxn id="178" idx="2"/>
          </p:cNvCxnSpPr>
          <p:nvPr/>
        </p:nvCxnSpPr>
        <p:spPr>
          <a:xfrm>
            <a:off x="5508720" y="1267920"/>
            <a:ext cx="100872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6" name="Straight Arrow Connector 77"/>
          <p:cNvCxnSpPr>
            <a:endCxn id="181" idx="7"/>
          </p:cNvCxnSpPr>
          <p:nvPr/>
        </p:nvCxnSpPr>
        <p:spPr>
          <a:xfrm flipH="1">
            <a:off x="2490480" y="3141360"/>
            <a:ext cx="1434240" cy="91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7" name="Straight Arrow Connector 79"/>
          <p:cNvCxnSpPr>
            <a:endCxn id="179" idx="6"/>
          </p:cNvCxnSpPr>
          <p:nvPr/>
        </p:nvCxnSpPr>
        <p:spPr>
          <a:xfrm flipH="1">
            <a:off x="2339640" y="3860640"/>
            <a:ext cx="1008720" cy="64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8" name="Straight Arrow Connector 81"/>
          <p:cNvCxnSpPr/>
          <p:nvPr/>
        </p:nvCxnSpPr>
        <p:spPr>
          <a:xfrm flipH="1">
            <a:off x="2339280" y="1267920"/>
            <a:ext cx="86436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09" name="TextBox 83"/>
          <p:cNvSpPr/>
          <p:nvPr/>
        </p:nvSpPr>
        <p:spPr>
          <a:xfrm>
            <a:off x="680400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84"/>
          <p:cNvSpPr/>
          <p:nvPr/>
        </p:nvSpPr>
        <p:spPr>
          <a:xfrm>
            <a:off x="1258920" y="47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5"/>
          <p:cNvSpPr/>
          <p:nvPr/>
        </p:nvSpPr>
        <p:spPr>
          <a:xfrm>
            <a:off x="1258920" y="21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6"/>
          <p:cNvSpPr/>
          <p:nvPr/>
        </p:nvSpPr>
        <p:spPr>
          <a:xfrm>
            <a:off x="6732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7"/>
          <p:cNvSpPr/>
          <p:nvPr/>
        </p:nvSpPr>
        <p:spPr>
          <a:xfrm>
            <a:off x="611280" y="404640"/>
            <a:ext cx="237636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 sympath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88"/>
          <p:cNvSpPr/>
          <p:nvPr/>
        </p:nvSpPr>
        <p:spPr>
          <a:xfrm>
            <a:off x="5724360" y="404640"/>
            <a:ext cx="201636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1" descr="C:\Users\Zeenat\Pictures\xxx.jpg"/>
          <p:cNvPicPr/>
          <p:nvPr/>
        </p:nvPicPr>
        <p:blipFill>
          <a:blip r:embed="rId1"/>
          <a:srcRect l="19546" t="2523" r="12103" b="25563"/>
          <a:stretch/>
        </p:blipFill>
        <p:spPr>
          <a:xfrm>
            <a:off x="6732720" y="692280"/>
            <a:ext cx="1439640" cy="5864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1915920"/>
            <a:ext cx="4176720" cy="20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al gray ho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racolumbar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7164360" y="3068640"/>
            <a:ext cx="503280" cy="20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6756480" y="5595840"/>
            <a:ext cx="12600" cy="68400"/>
          </a:xfrm>
          <a:custGeom>
            <a:avLst/>
            <a:gdLst/>
            <a:ahLst/>
            <a:rect l="l" t="t" r="r" b="b"/>
            <a:pathLst>
              <a:path w="13648" h="68239">
                <a:moveTo>
                  <a:pt x="0" y="68239"/>
                </a:moveTo>
                <a:lnTo>
                  <a:pt x="136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athetic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1052280"/>
            <a:ext cx="842472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nearer the central nervous system 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rtebra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 mesent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verteb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ing sympathetic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Content Placeholder 4" descr="177493"/>
          <p:cNvPicPr/>
          <p:nvPr/>
        </p:nvPicPr>
        <p:blipFill>
          <a:blip r:embed="rId2"/>
          <a:srcRect l="0" t="2317" r="0" b="5000"/>
          <a:stretch/>
        </p:blipFill>
        <p:spPr>
          <a:xfrm>
            <a:off x="1476360" y="2565360"/>
            <a:ext cx="3259080" cy="402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3" name="Picture 7" descr="st22"/>
          <p:cNvPicPr/>
          <p:nvPr/>
        </p:nvPicPr>
        <p:blipFill>
          <a:blip r:embed="rId3"/>
          <a:stretch/>
        </p:blipFill>
        <p:spPr>
          <a:xfrm>
            <a:off x="4932360" y="2565360"/>
            <a:ext cx="2795760" cy="403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vertebral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764640"/>
            <a:ext cx="4535280" cy="568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interconnected to form 2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athetic ch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ne on each side of vertebral colum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gangl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 of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ven to twel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oracic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mbar &amp; sac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ins end into a comm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ganglion impar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coccy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st22"/>
          <p:cNvPicPr/>
          <p:nvPr/>
        </p:nvPicPr>
        <p:blipFill>
          <a:blip r:embed="rId2"/>
          <a:stretch/>
        </p:blipFill>
        <p:spPr>
          <a:xfrm>
            <a:off x="5148360" y="1052640"/>
            <a:ext cx="364644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39:30Z</dcterms:created>
  <dc:creator>Dr. Zeenat Zaidi</dc:creator>
  <dc:description/>
  <dc:language>en-US</dc:language>
  <cp:lastModifiedBy>Jamila hafizelmedany</cp:lastModifiedBy>
  <dcterms:modified xsi:type="dcterms:W3CDTF">2014-09-03T08:12:07Z</dcterms:modified>
  <cp:revision>83</cp:revision>
  <dc:subject/>
  <dc:title>ANS</dc:title>
</cp:coreProperties>
</file>