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9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0227-ADEF-4AF6-B082-D094465C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2C4-9A7A-4948-AC6D-57512C4F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8CA-DFD6-485F-9E0F-FD387664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077-BA76-4F10-9775-D032B67D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56FD-383F-4C76-9A0C-6995D0EF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9F7E-64F9-4F25-8BF4-CE876C57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F62A-F00C-46BD-88B9-64EC5A44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18DC-C5AC-4DDD-A463-1B098AE5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8BC0-D51C-4D28-A257-85032E0E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F567-56E6-4C75-884E-B4BD18DC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F2F1-908D-46EA-BE54-08789E2AA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DA8-039D-41C4-85ED-5EE01BD3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DD47-EBD6-4121-A7BA-05547E2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9DCF-71CB-4D4D-A032-1B904BA2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7F05-F732-4676-ACD8-C0732390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B386-60F4-4F71-8473-00D4C33B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1E42-5773-4F45-83B9-436BF244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24F-6C56-4B1B-92C6-75E5CE6D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0A8-EB09-4D3B-A7BE-A4C2F592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41BE-9D86-44AE-94CB-28FAAFD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94C8-0178-4933-863E-6A0600B9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DF7F-A6AA-4F21-860C-A5B885E1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AC3-2F9D-4B3A-AB4C-86C3D39F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8807-5ABD-474B-A714-30897504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A812-9241-4524-BDA4-F4E82DD1E1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1C94-23B7-4028-9AD0-68EFCA034F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628640"/>
            <a:ext cx="8445240" cy="18288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ic Nervous Syste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Documents and Settings\user\My Documents\My Pictures\BISMILLAH\Bismillah_blue.jpg"/>
          <p:cNvPicPr/>
          <p:nvPr/>
        </p:nvPicPr>
        <p:blipFill>
          <a:blip r:embed="rId1"/>
          <a:stretch/>
        </p:blipFill>
        <p:spPr>
          <a:xfrm>
            <a:off x="4211640" y="189000"/>
            <a:ext cx="10810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468360" y="1557360"/>
            <a:ext cx="388764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in the ventral roots of the spinal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 through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inal nerv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n join the sympathetic chain via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ite rami communica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Content Placeholder 3" descr="autonomic 003.jpg"/>
          <p:cNvPicPr/>
          <p:nvPr/>
        </p:nvPicPr>
        <p:blipFill>
          <a:blip r:embed="rId3"/>
          <a:srcRect l="9790" t="6366" r="7716" b="0"/>
          <a:stretch/>
        </p:blipFill>
        <p:spPr>
          <a:xfrm>
            <a:off x="4427640" y="981000"/>
            <a:ext cx="4476600" cy="4464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9" name="Rectangle 3"/>
          <p:cNvSpPr/>
          <p:nvPr/>
        </p:nvSpPr>
        <p:spPr>
          <a:xfrm>
            <a:off x="73800" y="404640"/>
            <a:ext cx="42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eganglionic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4"/>
          <p:cNvSpPr/>
          <p:nvPr/>
        </p:nvSpPr>
        <p:spPr>
          <a:xfrm>
            <a:off x="5319720" y="2732040"/>
            <a:ext cx="2398680" cy="1239840"/>
          </a:xfrm>
          <a:custGeom>
            <a:avLst/>
            <a:gdLst/>
            <a:ahLst/>
            <a:rect l="l" t="t" r="r" b="b"/>
            <a:pathLst>
              <a:path w="2397457" h="1239672">
                <a:moveTo>
                  <a:pt x="2275" y="147851"/>
                </a:moveTo>
                <a:cubicBezTo>
                  <a:pt x="1137" y="230875"/>
                  <a:pt x="0" y="313899"/>
                  <a:pt x="2275" y="379863"/>
                </a:cubicBezTo>
                <a:cubicBezTo>
                  <a:pt x="4550" y="445827"/>
                  <a:pt x="1" y="495869"/>
                  <a:pt x="15923" y="543636"/>
                </a:cubicBezTo>
                <a:cubicBezTo>
                  <a:pt x="31845" y="591403"/>
                  <a:pt x="20472" y="691487"/>
                  <a:pt x="97809" y="666466"/>
                </a:cubicBezTo>
                <a:cubicBezTo>
                  <a:pt x="175146" y="641445"/>
                  <a:pt x="327547" y="491319"/>
                  <a:pt x="479947" y="393510"/>
                </a:cubicBezTo>
                <a:cubicBezTo>
                  <a:pt x="632347" y="295701"/>
                  <a:pt x="846161" y="143301"/>
                  <a:pt x="1012209" y="79612"/>
                </a:cubicBezTo>
                <a:cubicBezTo>
                  <a:pt x="1178257" y="15923"/>
                  <a:pt x="1323833" y="0"/>
                  <a:pt x="1476233" y="11373"/>
                </a:cubicBezTo>
                <a:cubicBezTo>
                  <a:pt x="1628633" y="22746"/>
                  <a:pt x="1783308" y="90985"/>
                  <a:pt x="1926609" y="147851"/>
                </a:cubicBezTo>
                <a:cubicBezTo>
                  <a:pt x="2069910" y="204717"/>
                  <a:pt x="2274627" y="252484"/>
                  <a:pt x="2336042" y="352567"/>
                </a:cubicBezTo>
                <a:cubicBezTo>
                  <a:pt x="2397457" y="452650"/>
                  <a:pt x="2342866" y="636895"/>
                  <a:pt x="2295099" y="748352"/>
                </a:cubicBezTo>
                <a:cubicBezTo>
                  <a:pt x="2247332" y="859809"/>
                  <a:pt x="2126776" y="948519"/>
                  <a:pt x="2049439" y="1021307"/>
                </a:cubicBezTo>
                <a:cubicBezTo>
                  <a:pt x="1972102" y="1094095"/>
                  <a:pt x="1906137" y="1148686"/>
                  <a:pt x="1831075" y="1185080"/>
                </a:cubicBezTo>
                <a:cubicBezTo>
                  <a:pt x="1756013" y="1221474"/>
                  <a:pt x="1677538" y="1230573"/>
                  <a:pt x="1599063" y="12396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324000" y="189000"/>
            <a:ext cx="4464000" cy="648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the sympathetic chain, these fibers m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end, descend or remain at the same level to synapse with neurons (postganglionic)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vertebral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sympathetic ch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the sympathetic chain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synaps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ac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liac &amp; mesenteric gang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ound branches of abdominal aorta) to synapse with their neurons (postganglioni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Content Placeholder 3" descr="autonomic 003.jpg"/>
          <p:cNvPicPr/>
          <p:nvPr/>
        </p:nvPicPr>
        <p:blipFill>
          <a:blip r:embed="rId2"/>
          <a:srcRect l="9790" t="6366" r="7716" b="0"/>
          <a:stretch/>
        </p:blipFill>
        <p:spPr>
          <a:xfrm>
            <a:off x="4861080" y="1197000"/>
            <a:ext cx="4114800" cy="41036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3" name="Freeform 4"/>
          <p:cNvSpPr/>
          <p:nvPr/>
        </p:nvSpPr>
        <p:spPr>
          <a:xfrm>
            <a:off x="6826320" y="1882800"/>
            <a:ext cx="393480" cy="2047680"/>
          </a:xfrm>
          <a:custGeom>
            <a:avLst/>
            <a:gdLst/>
            <a:ahLst/>
            <a:rect l="l" t="t" r="r" b="b"/>
            <a:pathLst>
              <a:path w="393511" h="2047165">
                <a:moveTo>
                  <a:pt x="393511" y="2047164"/>
                </a:moveTo>
                <a:cubicBezTo>
                  <a:pt x="275230" y="2047164"/>
                  <a:pt x="156950" y="2047165"/>
                  <a:pt x="93260" y="2019869"/>
                </a:cubicBezTo>
                <a:cubicBezTo>
                  <a:pt x="29570" y="1992574"/>
                  <a:pt x="0" y="1978925"/>
                  <a:pt x="11373" y="1883391"/>
                </a:cubicBezTo>
                <a:cubicBezTo>
                  <a:pt x="22746" y="1787857"/>
                  <a:pt x="125105" y="1567218"/>
                  <a:pt x="161499" y="1446663"/>
                </a:cubicBezTo>
                <a:cubicBezTo>
                  <a:pt x="197893" y="1326108"/>
                  <a:pt x="220640" y="1401171"/>
                  <a:pt x="229738" y="1160060"/>
                </a:cubicBezTo>
                <a:cubicBezTo>
                  <a:pt x="238837" y="918950"/>
                  <a:pt x="227463" y="459475"/>
                  <a:pt x="2160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5"/>
          <p:cNvSpPr/>
          <p:nvPr/>
        </p:nvSpPr>
        <p:spPr>
          <a:xfrm>
            <a:off x="7000920" y="3944880"/>
            <a:ext cx="231840" cy="1146240"/>
          </a:xfrm>
          <a:custGeom>
            <a:avLst/>
            <a:gdLst/>
            <a:ahLst/>
            <a:rect l="l" t="t" r="r" b="b"/>
            <a:pathLst>
              <a:path w="232012" h="1146412">
                <a:moveTo>
                  <a:pt x="232012" y="0"/>
                </a:moveTo>
                <a:cubicBezTo>
                  <a:pt x="159224" y="48904"/>
                  <a:pt x="86437" y="97809"/>
                  <a:pt x="54592" y="163773"/>
                </a:cubicBezTo>
                <a:cubicBezTo>
                  <a:pt x="22747" y="229737"/>
                  <a:pt x="47768" y="250209"/>
                  <a:pt x="40944" y="395785"/>
                </a:cubicBezTo>
                <a:cubicBezTo>
                  <a:pt x="34120" y="541361"/>
                  <a:pt x="20472" y="928048"/>
                  <a:pt x="13648" y="1037230"/>
                </a:cubicBezTo>
                <a:cubicBezTo>
                  <a:pt x="6824" y="1146412"/>
                  <a:pt x="0" y="1050878"/>
                  <a:pt x="0" y="10508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reeform 7"/>
          <p:cNvSpPr/>
          <p:nvPr/>
        </p:nvSpPr>
        <p:spPr>
          <a:xfrm>
            <a:off x="7056360" y="3780000"/>
            <a:ext cx="122400" cy="164880"/>
          </a:xfrm>
          <a:custGeom>
            <a:avLst/>
            <a:gdLst/>
            <a:ahLst/>
            <a:rect l="l" t="t" r="r" b="b"/>
            <a:pathLst>
              <a:path w="122829" h="163773">
                <a:moveTo>
                  <a:pt x="122829" y="16377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8"/>
          <p:cNvSpPr/>
          <p:nvPr/>
        </p:nvSpPr>
        <p:spPr>
          <a:xfrm>
            <a:off x="6195960" y="3930480"/>
            <a:ext cx="792360" cy="436680"/>
          </a:xfrm>
          <a:custGeom>
            <a:avLst/>
            <a:gdLst/>
            <a:ahLst/>
            <a:rect l="l" t="t" r="r" b="b"/>
            <a:pathLst>
              <a:path w="791570" h="436729">
                <a:moveTo>
                  <a:pt x="791570" y="0"/>
                </a:moveTo>
                <a:cubicBezTo>
                  <a:pt x="727880" y="13648"/>
                  <a:pt x="664191" y="27296"/>
                  <a:pt x="559558" y="81887"/>
                </a:cubicBezTo>
                <a:cubicBezTo>
                  <a:pt x="454925" y="136478"/>
                  <a:pt x="257033" y="268406"/>
                  <a:pt x="163773" y="327546"/>
                </a:cubicBezTo>
                <a:cubicBezTo>
                  <a:pt x="70513" y="386686"/>
                  <a:pt x="0" y="436729"/>
                  <a:pt x="0" y="436729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250920" y="1341360"/>
            <a:ext cx="4033800" cy="46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rom the sympathetic chain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again into the spinal nerve throug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grey rami communicantes (GR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uctures in head &amp; thorax + blood vessels &amp; sweat gla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rom the cells of coeliac &amp; mesenteric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dominal &amp; pelvic visc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Content Placeholder 3" descr="autonomic 003.jpg"/>
          <p:cNvPicPr/>
          <p:nvPr/>
        </p:nvPicPr>
        <p:blipFill>
          <a:blip r:embed="rId4"/>
          <a:srcRect l="9790" t="6366" r="7716" b="0"/>
          <a:stretch/>
        </p:blipFill>
        <p:spPr>
          <a:xfrm>
            <a:off x="4356000" y="1352520"/>
            <a:ext cx="4537080" cy="45244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9" name="Freeform 3"/>
          <p:cNvSpPr/>
          <p:nvPr/>
        </p:nvSpPr>
        <p:spPr>
          <a:xfrm>
            <a:off x="6769080" y="3416400"/>
            <a:ext cx="1528920" cy="782640"/>
          </a:xfrm>
          <a:custGeom>
            <a:avLst/>
            <a:gdLst/>
            <a:ahLst/>
            <a:rect l="l" t="t" r="r" b="b"/>
            <a:pathLst>
              <a:path w="1528549" h="782472">
                <a:moveTo>
                  <a:pt x="0" y="659642"/>
                </a:moveTo>
                <a:lnTo>
                  <a:pt x="218364" y="632346"/>
                </a:lnTo>
                <a:cubicBezTo>
                  <a:pt x="304800" y="589128"/>
                  <a:pt x="443551" y="495868"/>
                  <a:pt x="518614" y="400334"/>
                </a:cubicBezTo>
                <a:cubicBezTo>
                  <a:pt x="593677" y="304800"/>
                  <a:pt x="605050" y="118280"/>
                  <a:pt x="668740" y="59140"/>
                </a:cubicBezTo>
                <a:cubicBezTo>
                  <a:pt x="732430" y="0"/>
                  <a:pt x="812042" y="9098"/>
                  <a:pt x="900752" y="45492"/>
                </a:cubicBezTo>
                <a:cubicBezTo>
                  <a:pt x="989462" y="81886"/>
                  <a:pt x="1096370" y="154674"/>
                  <a:pt x="1201003" y="277504"/>
                </a:cubicBezTo>
                <a:cubicBezTo>
                  <a:pt x="1305636" y="400334"/>
                  <a:pt x="1473958" y="702860"/>
                  <a:pt x="1528549" y="782472"/>
                </a:cubicBezTo>
              </a:path>
            </a:pathLst>
          </a:custGeom>
          <a:noFill/>
          <a:ln w="38160">
            <a:solidFill>
              <a:srgbClr val="001d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-69120" y="476280"/>
            <a:ext cx="44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ostganglionic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84360" y="1267920"/>
            <a:ext cx="4248000" cy="47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eganglionic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i of the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7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ranial nerve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brain stem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ranial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teral gray hor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ments of spinal cord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cral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"/>
          <p:cNvPicPr/>
          <p:nvPr/>
        </p:nvPicPr>
        <p:blipFill>
          <a:blip r:embed="rId4"/>
          <a:srcRect l="23437" t="6818" r="16304" b="7813"/>
          <a:stretch/>
        </p:blipFill>
        <p:spPr>
          <a:xfrm>
            <a:off x="5076720" y="83808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4" name="Oval 7"/>
          <p:cNvSpPr/>
          <p:nvPr/>
        </p:nvSpPr>
        <p:spPr>
          <a:xfrm>
            <a:off x="5580000" y="90972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5842080" y="4387680"/>
            <a:ext cx="530280" cy="482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68360" y="1268280"/>
            <a:ext cx="4464000" cy="432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ganglionic fi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cranial outflow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arri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7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ranial nerv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erminate 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liary, pterygopalatine, submandibular, otic &amp; peripheral gangl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tganglionic fibe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vate organs of the head, neck, thorax, and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3"/>
          <a:srcRect l="23437" t="6818" r="16304" b="7813"/>
          <a:stretch/>
        </p:blipFill>
        <p:spPr>
          <a:xfrm>
            <a:off x="5076720" y="76500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8" name="Oval 4"/>
          <p:cNvSpPr/>
          <p:nvPr/>
        </p:nvSpPr>
        <p:spPr>
          <a:xfrm>
            <a:off x="5580000" y="83664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5"/>
          <p:cNvSpPr/>
          <p:nvPr/>
        </p:nvSpPr>
        <p:spPr>
          <a:xfrm>
            <a:off x="5842080" y="4314960"/>
            <a:ext cx="530280" cy="482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8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68360" y="1413000"/>
            <a:ext cx="4464000" cy="37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ganglionic fi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sacral outflow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carri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lvic splanchnic nerv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eripheral ganglia in pelvis where they synap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tganglionic fibe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vate organs of the pelvis and lower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"/>
          <p:cNvPicPr/>
          <p:nvPr/>
        </p:nvPicPr>
        <p:blipFill>
          <a:blip r:embed="rId4"/>
          <a:srcRect l="23437" t="6818" r="16304" b="7813"/>
          <a:stretch/>
        </p:blipFill>
        <p:spPr>
          <a:xfrm>
            <a:off x="5076720" y="76500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3" name="Oval 4"/>
          <p:cNvSpPr/>
          <p:nvPr/>
        </p:nvSpPr>
        <p:spPr>
          <a:xfrm>
            <a:off x="5580000" y="83664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5"/>
          <p:cNvSpPr/>
          <p:nvPr/>
        </p:nvSpPr>
        <p:spPr>
          <a:xfrm>
            <a:off x="5842080" y="4314960"/>
            <a:ext cx="530280" cy="482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8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C:\Documents and Settings\user1\Desktop\terminology\terminlology 005.jpg"/>
          <p:cNvPicPr/>
          <p:nvPr/>
        </p:nvPicPr>
        <p:blipFill>
          <a:blip r:embed="rId1"/>
          <a:stretch/>
        </p:blipFill>
        <p:spPr>
          <a:xfrm>
            <a:off x="1981080" y="174600"/>
            <a:ext cx="6019920" cy="6472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f2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3355920"/>
          </a:xfrm>
          <a:prstGeom prst="rect">
            <a:avLst/>
          </a:prstGeom>
          <a:ln w="0">
            <a:noFill/>
          </a:ln>
        </p:spPr>
      </p:pic>
      <p:sp>
        <p:nvSpPr>
          <p:cNvPr id="258" name="WordArt 2"/>
          <p:cNvSpPr txBox="1"/>
          <p:nvPr/>
        </p:nvSpPr>
        <p:spPr>
          <a:xfrm>
            <a:off x="1187280" y="2637000"/>
            <a:ext cx="651528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Lucida Console"/>
              </a:rPr>
              <a:t>Thank U &amp; Good Luck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Lucida Console"/>
              <a:ea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9640" y="1484280"/>
            <a:ext cx="8229600" cy="31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of the lecture, students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fine the autonomic nervous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cribe the structur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ce the preganglionic &amp; postganglionic neurons in both sympathetic &amp; parasympathetic nervous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numerate in brief the main effects of sympathetic &amp; parasympathetic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ic Nervous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274160" cy="3600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ed with the innervation and control of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voluntary structures: visceral orga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mooth &amp; cardiac musc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ong with the endocrine system, its primar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omeostasis of the internal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ca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th i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ntral and peripheral nervous system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gulated (controlled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ypothalamu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2808360"/>
          </a:xfrm>
          <a:prstGeom prst="rect">
            <a:avLst/>
          </a:prstGeom>
          <a:solidFill>
            <a:srgbClr val="7070ff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ke the somatic nervous system,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ffe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thway of the autonomic nervous system is made up of two neurons called a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ll bodies of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 are located in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rain and spinal co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ir axons synapse with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 whose cell bodies are located in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utonomic gangl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Content Placeholder 7" descr=""/>
          <p:cNvPicPr/>
          <p:nvPr/>
        </p:nvPicPr>
        <p:blipFill>
          <a:blip r:embed="rId3"/>
          <a:srcRect l="0" t="26471" r="0" b="21570"/>
          <a:stretch/>
        </p:blipFill>
        <p:spPr>
          <a:xfrm>
            <a:off x="1835280" y="3902040"/>
            <a:ext cx="5329080" cy="27669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70" name="Rectangle 2"/>
          <p:cNvSpPr/>
          <p:nvPr/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ic Nervous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4180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tom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ysiolog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armacolog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racteristics, the autonomic nervous system is divided i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ympa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tivated during exercise, excitement, and emergencies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fight, flight, or frigh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rasympa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ed with conserving energy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rest and diges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5" descr="C:\Documents and Settings\user\My Documents\My Pictures\aas.png"/>
          <p:cNvPicPr/>
          <p:nvPr/>
        </p:nvPicPr>
        <p:blipFill>
          <a:blip r:embed="rId2"/>
          <a:stretch/>
        </p:blipFill>
        <p:spPr>
          <a:xfrm>
            <a:off x="5292720" y="2565360"/>
            <a:ext cx="3673440" cy="25146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73" name="Picture 6" descr="C:\Documents and Settings\user\My Documents\My Pictures\cc.png"/>
          <p:cNvPicPr/>
          <p:nvPr/>
        </p:nvPicPr>
        <p:blipFill>
          <a:blip r:embed="rId3"/>
          <a:stretch/>
        </p:blipFill>
        <p:spPr>
          <a:xfrm>
            <a:off x="5292720" y="54000"/>
            <a:ext cx="3657600" cy="2438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4" name="Picture 8" descr="runner"/>
          <p:cNvPicPr/>
          <p:nvPr/>
        </p:nvPicPr>
        <p:blipFill>
          <a:blip r:embed="rId4"/>
          <a:stretch/>
        </p:blipFill>
        <p:spPr>
          <a:xfrm>
            <a:off x="8028000" y="549360"/>
            <a:ext cx="868320" cy="664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250920" y="5108400"/>
            <a:ext cx="87138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divisions operate in conjunction with one another (hav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tagonis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ol over the viscera) to maintain a stable internal environ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3"/>
          <p:cNvSpPr/>
          <p:nvPr/>
        </p:nvSpPr>
        <p:spPr>
          <a:xfrm>
            <a:off x="6227640" y="2565360"/>
            <a:ext cx="865440" cy="86364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"/>
          <p:cNvSpPr/>
          <p:nvPr/>
        </p:nvSpPr>
        <p:spPr>
          <a:xfrm>
            <a:off x="2050920" y="1197000"/>
            <a:ext cx="289080" cy="28728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6516720" y="1197000"/>
            <a:ext cx="287280" cy="28728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2050920" y="4365720"/>
            <a:ext cx="289080" cy="28728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6516720" y="2924280"/>
            <a:ext cx="287280" cy="28872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1692360" y="3933720"/>
            <a:ext cx="934920" cy="86364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5940360" y="6021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10"/>
          <p:cNvSpPr/>
          <p:nvPr/>
        </p:nvSpPr>
        <p:spPr>
          <a:xfrm>
            <a:off x="1547640" y="602136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2195640" y="1484280"/>
            <a:ext cx="0" cy="26654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traight Connector 14"/>
          <p:cNvSpPr/>
          <p:nvPr/>
        </p:nvSpPr>
        <p:spPr>
          <a:xfrm>
            <a:off x="6659640" y="148428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traight Connector 16"/>
          <p:cNvSpPr/>
          <p:nvPr/>
        </p:nvSpPr>
        <p:spPr>
          <a:xfrm>
            <a:off x="2195640" y="4653000"/>
            <a:ext cx="0" cy="12970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18"/>
          <p:cNvSpPr/>
          <p:nvPr/>
        </p:nvSpPr>
        <p:spPr>
          <a:xfrm>
            <a:off x="6659640" y="3213000"/>
            <a:ext cx="0" cy="27370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20"/>
          <p:cNvSpPr/>
          <p:nvPr/>
        </p:nvSpPr>
        <p:spPr>
          <a:xfrm flipV="1">
            <a:off x="6588000" y="5949720"/>
            <a:ext cx="7164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22"/>
          <p:cNvSpPr/>
          <p:nvPr/>
        </p:nvSpPr>
        <p:spPr>
          <a:xfrm>
            <a:off x="6659640" y="5950080"/>
            <a:ext cx="14436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24"/>
          <p:cNvSpPr/>
          <p:nvPr/>
        </p:nvSpPr>
        <p:spPr>
          <a:xfrm flipH="1">
            <a:off x="6587640" y="2708280"/>
            <a:ext cx="71640" cy="144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26"/>
          <p:cNvSpPr/>
          <p:nvPr/>
        </p:nvSpPr>
        <p:spPr>
          <a:xfrm>
            <a:off x="6659640" y="2708280"/>
            <a:ext cx="144360" cy="144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9"/>
          <p:cNvSpPr/>
          <p:nvPr/>
        </p:nvSpPr>
        <p:spPr>
          <a:xfrm flipH="1">
            <a:off x="2123640" y="4076640"/>
            <a:ext cx="71640" cy="216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31"/>
          <p:cNvSpPr/>
          <p:nvPr/>
        </p:nvSpPr>
        <p:spPr>
          <a:xfrm>
            <a:off x="2195640" y="4149720"/>
            <a:ext cx="144360" cy="1429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traight Connector 35"/>
          <p:cNvSpPr/>
          <p:nvPr/>
        </p:nvSpPr>
        <p:spPr>
          <a:xfrm flipV="1">
            <a:off x="2124000" y="5949720"/>
            <a:ext cx="7164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traight Connector 52"/>
          <p:cNvSpPr/>
          <p:nvPr/>
        </p:nvSpPr>
        <p:spPr>
          <a:xfrm>
            <a:off x="2195640" y="5950080"/>
            <a:ext cx="108000" cy="712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59"/>
          <p:cNvSpPr/>
          <p:nvPr/>
        </p:nvSpPr>
        <p:spPr>
          <a:xfrm>
            <a:off x="2987640" y="105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ganglionic neu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60"/>
          <p:cNvSpPr/>
          <p:nvPr/>
        </p:nvSpPr>
        <p:spPr>
          <a:xfrm>
            <a:off x="3132000" y="501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anglionic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61"/>
          <p:cNvSpPr/>
          <p:nvPr/>
        </p:nvSpPr>
        <p:spPr>
          <a:xfrm>
            <a:off x="3059280" y="29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2"/>
          <p:cNvSpPr/>
          <p:nvPr/>
        </p:nvSpPr>
        <p:spPr>
          <a:xfrm>
            <a:off x="3132000" y="36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anglionic neu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63"/>
          <p:cNvSpPr/>
          <p:nvPr/>
        </p:nvSpPr>
        <p:spPr>
          <a:xfrm>
            <a:off x="298764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ganglionic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1" name="Straight Arrow Connector 65"/>
          <p:cNvCxnSpPr/>
          <p:nvPr/>
        </p:nvCxnSpPr>
        <p:spPr>
          <a:xfrm>
            <a:off x="2195640" y="2349000"/>
            <a:ext cx="44647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2" name="Straight Arrow Connector 67"/>
          <p:cNvCxnSpPr/>
          <p:nvPr/>
        </p:nvCxnSpPr>
        <p:spPr>
          <a:xfrm>
            <a:off x="2195640" y="5300280"/>
            <a:ext cx="44647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3" name="Straight Arrow Connector 69"/>
          <p:cNvCxnSpPr/>
          <p:nvPr/>
        </p:nvCxnSpPr>
        <p:spPr>
          <a:xfrm>
            <a:off x="4932360" y="3141360"/>
            <a:ext cx="129600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4" name="Straight Arrow Connector 70"/>
          <p:cNvCxnSpPr>
            <a:endCxn id="180" idx="3"/>
          </p:cNvCxnSpPr>
          <p:nvPr/>
        </p:nvCxnSpPr>
        <p:spPr>
          <a:xfrm flipV="1">
            <a:off x="5651640" y="3169800"/>
            <a:ext cx="907200" cy="6912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5" name="Straight Arrow Connector 71"/>
          <p:cNvCxnSpPr>
            <a:endCxn id="178" idx="2"/>
          </p:cNvCxnSpPr>
          <p:nvPr/>
        </p:nvCxnSpPr>
        <p:spPr>
          <a:xfrm>
            <a:off x="5508720" y="1267920"/>
            <a:ext cx="1008720" cy="73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6" name="Straight Arrow Connector 77"/>
          <p:cNvCxnSpPr>
            <a:endCxn id="181" idx="7"/>
          </p:cNvCxnSpPr>
          <p:nvPr/>
        </p:nvCxnSpPr>
        <p:spPr>
          <a:xfrm flipH="1">
            <a:off x="2490480" y="3141360"/>
            <a:ext cx="1434240" cy="918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7" name="Straight Arrow Connector 79"/>
          <p:cNvCxnSpPr>
            <a:endCxn id="179" idx="6"/>
          </p:cNvCxnSpPr>
          <p:nvPr/>
        </p:nvCxnSpPr>
        <p:spPr>
          <a:xfrm flipH="1">
            <a:off x="2339640" y="3860640"/>
            <a:ext cx="1008720" cy="648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8" name="Straight Arrow Connector 81"/>
          <p:cNvCxnSpPr/>
          <p:nvPr/>
        </p:nvCxnSpPr>
        <p:spPr>
          <a:xfrm flipH="1">
            <a:off x="2339280" y="1267920"/>
            <a:ext cx="864360" cy="73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09" name="TextBox 83"/>
          <p:cNvSpPr/>
          <p:nvPr/>
        </p:nvSpPr>
        <p:spPr>
          <a:xfrm>
            <a:off x="680400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84"/>
          <p:cNvSpPr/>
          <p:nvPr/>
        </p:nvSpPr>
        <p:spPr>
          <a:xfrm>
            <a:off x="1258920" y="472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85"/>
          <p:cNvSpPr/>
          <p:nvPr/>
        </p:nvSpPr>
        <p:spPr>
          <a:xfrm>
            <a:off x="1258920" y="21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6"/>
          <p:cNvSpPr/>
          <p:nvPr/>
        </p:nvSpPr>
        <p:spPr>
          <a:xfrm>
            <a:off x="673272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87"/>
          <p:cNvSpPr/>
          <p:nvPr/>
        </p:nvSpPr>
        <p:spPr>
          <a:xfrm>
            <a:off x="611280" y="404640"/>
            <a:ext cx="237636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 sympath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88"/>
          <p:cNvSpPr/>
          <p:nvPr/>
        </p:nvSpPr>
        <p:spPr>
          <a:xfrm>
            <a:off x="5724360" y="404640"/>
            <a:ext cx="201636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1" descr="C:\Users\Zeenat\Pictures\xxx.jpg"/>
          <p:cNvPicPr/>
          <p:nvPr/>
        </p:nvPicPr>
        <p:blipFill>
          <a:blip r:embed="rId1"/>
          <a:srcRect l="19546" t="2523" r="12103" b="25563"/>
          <a:stretch/>
        </p:blipFill>
        <p:spPr>
          <a:xfrm>
            <a:off x="6732720" y="692280"/>
            <a:ext cx="1439640" cy="58640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1187280" y="1915920"/>
            <a:ext cx="4176720" cy="20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eganglionic neuron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ral gray ho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gments of spinal cord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oracolumbar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4"/>
          <p:cNvSpPr/>
          <p:nvPr/>
        </p:nvSpPr>
        <p:spPr>
          <a:xfrm>
            <a:off x="7164360" y="3068640"/>
            <a:ext cx="503280" cy="2089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Freeform 9"/>
          <p:cNvSpPr/>
          <p:nvPr/>
        </p:nvSpPr>
        <p:spPr>
          <a:xfrm>
            <a:off x="6756480" y="5595840"/>
            <a:ext cx="12600" cy="68400"/>
          </a:xfrm>
          <a:custGeom>
            <a:avLst/>
            <a:gdLst/>
            <a:ahLst/>
            <a:rect l="l" t="t" r="r" b="b"/>
            <a:pathLst>
              <a:path w="13648" h="68239">
                <a:moveTo>
                  <a:pt x="0" y="68239"/>
                </a:moveTo>
                <a:lnTo>
                  <a:pt x="1364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ympathetic Di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athetic Gan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5280" y="1052280"/>
            <a:ext cx="842472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nearer the central nervous system 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ertebra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iac &amp; mesente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averteb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ing sympathetic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Content Placeholder 4" descr="177493"/>
          <p:cNvPicPr/>
          <p:nvPr/>
        </p:nvPicPr>
        <p:blipFill>
          <a:blip r:embed="rId2"/>
          <a:srcRect l="0" t="2317" r="0" b="5000"/>
          <a:stretch/>
        </p:blipFill>
        <p:spPr>
          <a:xfrm>
            <a:off x="1476360" y="2565360"/>
            <a:ext cx="3259080" cy="4027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3" name="Picture 7" descr="st22"/>
          <p:cNvPicPr/>
          <p:nvPr/>
        </p:nvPicPr>
        <p:blipFill>
          <a:blip r:embed="rId3"/>
          <a:stretch/>
        </p:blipFill>
        <p:spPr>
          <a:xfrm>
            <a:off x="4932360" y="2565360"/>
            <a:ext cx="2795760" cy="403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vertebral Gan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764640"/>
            <a:ext cx="4535280" cy="568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interconnected to form 2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pathetic ch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ne on each side of vertebral colum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gangl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rv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 of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ven to twel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oracic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mbar &amp; sac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e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ins end into a comm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‘ganglion impar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ront of coccy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st22"/>
          <p:cNvPicPr/>
          <p:nvPr/>
        </p:nvPicPr>
        <p:blipFill>
          <a:blip r:embed="rId2"/>
          <a:stretch/>
        </p:blipFill>
        <p:spPr>
          <a:xfrm>
            <a:off x="5148360" y="1052640"/>
            <a:ext cx="364644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39:30Z</dcterms:created>
  <dc:creator>Dr. Zeenat Zaidi</dc:creator>
  <dc:description/>
  <dc:language>en-US</dc:language>
  <cp:lastModifiedBy>Jamila hafizelmedany</cp:lastModifiedBy>
  <dcterms:modified xsi:type="dcterms:W3CDTF">2014-09-03T08:12:07Z</dcterms:modified>
  <cp:revision>83</cp:revision>
  <dc:subject/>
  <dc:title>ANS</dc:title>
</cp:coreProperties>
</file>