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tif" ContentType="image/tiff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441-AD02-443B-A874-E89C9FF4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72D-82A2-4682-A455-B1271D9E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750B-894A-4106-9721-6FB9ACF1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E98-C297-4BBC-9B01-4EF21ACF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1AA5-FB80-45A4-A589-22344280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F583-7D7C-4890-99EA-C1F42DE4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7704-6BCE-40D6-99F4-80C65622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E58D-FFFF-4617-B149-8BE7642F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A91-724F-4F70-B1E0-DBA87EA5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0D6F9-CA0A-4E39-B09B-DB04B902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E5CB-69FD-40A8-829B-A3278281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BBD-74EA-4B8E-AF5A-C8DE6E09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0FCB-2E62-4BBB-BB44-10FE4AF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BE5E-CCD0-4EA3-ABBF-31F2AA23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3DA-605E-4338-84D6-203AF230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B47B-2E70-49EB-9970-05460A76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A3E6-3D0A-4F10-B907-FDBD38EC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9DC-17A9-4A41-B118-DCF07F02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D5F-9DAA-49A2-AABE-48380782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5A3-6924-4F64-B351-23081240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570-00D5-40F5-A2F4-B7A863EF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4DBD-052F-4361-80E2-F02523D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172-1B81-49A7-BE86-0BCD3340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A71-195E-4C53-BE86-4F18569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566A21D-F13D-4E57-9537-5A26EEC2B694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ifth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E327EBF-6CA5-4EF5-B438-2DE4BAF4FD2C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93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Times New Roman"/>
              </a:rPr>
              <a:t>Amino acids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3245040"/>
            <a:ext cx="6461280" cy="23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f8e8d"/>
                </a:solidFill>
                <a:latin typeface="Calibri"/>
              </a:rPr>
              <a:t>(Foundation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Ahmed Mujama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Sumbul Fa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ccording to the properties of the side chains, amino acids can also be grouped into three categori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7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Nonpolar amino acid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7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Uncharged amino acid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7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Polar amino acid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Nonpolar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amino acid does not bind or give off protons or participate in hydrogen or ionic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se amino acids promote hydrophobic interac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proteins found in aqueous solution, the side chains of the nonpolar amino acids tend to cluster together in the interior of the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nonpolar R-group fill up the interior of the folded protein and help give it its 3D shap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proteins located in hydrophobic environment, such as a membrane, the nonpolar R-groups are found on the outside surface of the protein, interacting with lipid environment to stabilize protein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Nonpolar.png"/>
          <p:cNvPicPr/>
          <p:nvPr/>
        </p:nvPicPr>
        <p:blipFill>
          <a:blip r:embed="rId1"/>
          <a:stretch/>
        </p:blipFill>
        <p:spPr>
          <a:xfrm>
            <a:off x="469800" y="240480"/>
            <a:ext cx="7613640" cy="63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tructure of the proline amino acid differs from other nonpolar amino acids that the side chain of proline and its α-amino group form a ring structure (an imino group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3" name="Picture 3" descr="Proline.png"/>
          <p:cNvPicPr/>
          <p:nvPr/>
        </p:nvPicPr>
        <p:blipFill>
          <a:blip r:embed="rId1"/>
          <a:stretch/>
        </p:blipFill>
        <p:spPr>
          <a:xfrm>
            <a:off x="2781360" y="3264480"/>
            <a:ext cx="3580920" cy="22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Uncharged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5" name="Picture 3" descr="Uncharged.png"/>
          <p:cNvPicPr/>
          <p:nvPr/>
        </p:nvPicPr>
        <p:blipFill>
          <a:blip r:embed="rId1"/>
          <a:stretch/>
        </p:blipFill>
        <p:spPr>
          <a:xfrm>
            <a:off x="427680" y="1891440"/>
            <a:ext cx="78066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Uncharged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se amino acids have zero net charge at neutral p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owev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ide chains of cysteine and tyrosine can lose a proton at an alkaline pH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erine, Therionine and Tyrosine each contain a polar hydroxyl group that can participate in hydrogen bond 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ide chains of asparagine and glutamine each contain a carboxyl group and an amide group, both of which can also participate in hydrogen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olar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4440" y="1600200"/>
            <a:ext cx="822924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with acidic side cha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spartic and glutamic acids are proton donor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t neutral pH, these amino acids are fully ionized (negatively charged). So, they are called aspartate and glutamat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0" name="Picture 4" descr="Acidic A A.png"/>
          <p:cNvPicPr/>
          <p:nvPr/>
        </p:nvPicPr>
        <p:blipFill>
          <a:blip r:embed="rId1"/>
          <a:stretch/>
        </p:blipFill>
        <p:spPr>
          <a:xfrm>
            <a:off x="1270080" y="2198520"/>
            <a:ext cx="6700680" cy="26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olar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2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with basic side cha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istidine, Lysine and Arginine are proton acceptor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t neutral pH, lysine and arginine are fully ionized (positively charged)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3" name="Picture 3" descr="Basic A A.png"/>
          <p:cNvPicPr/>
          <p:nvPr/>
        </p:nvPicPr>
        <p:blipFill>
          <a:blip r:embed="rId1"/>
          <a:stretch/>
        </p:blipFill>
        <p:spPr>
          <a:xfrm>
            <a:off x="1270080" y="2199600"/>
            <a:ext cx="6700680" cy="269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Optical properties 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α-carbon of most of the amino acids is attached to four different chemical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us, asymmetric molecules are optically active, and symmetric molecules are optically inactiv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ll mammalian amino acids are optically active except glyci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y rotate the plane of polarized light in a polarimet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685800" y="709560"/>
            <a:ext cx="7772040" cy="45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Learning outcom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What are the amino acid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General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lassification of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Optical properti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 configur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on-standard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rivatives of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Amino acid configuratio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8" name="Content Placeholder 4" descr="L and D configuration.png"/>
          <p:cNvPicPr/>
          <p:nvPr/>
        </p:nvPicPr>
        <p:blipFill>
          <a:blip r:embed="rId1"/>
          <a:srcRect l="4248" t="0" r="4248" b="0"/>
          <a:stretch/>
        </p:blipFill>
        <p:spPr>
          <a:xfrm>
            <a:off x="754200" y="1600200"/>
            <a:ext cx="6457680" cy="40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Amino acid configuratio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-Amino acids rotate polarized light to the lef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-Amino acids rotate polarized light to the righ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oth L and D forms are chemically sam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ll mammalian amino acids are found in L-configur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-amino acids are found in antibiotics, plants and in the cell wall of microorganism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Non-standard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2" name="Content Placeholder 4" descr=""/>
          <p:cNvPicPr/>
          <p:nvPr/>
        </p:nvPicPr>
        <p:blipFill>
          <a:blip r:embed="rId1"/>
          <a:stretch/>
        </p:blipFill>
        <p:spPr>
          <a:xfrm>
            <a:off x="853200" y="1417680"/>
            <a:ext cx="6629040" cy="522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Amino acids derivativ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Gamma amino butyric acid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GABA, a derivative of glutamic acid) an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dopamine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from tyrosine) are neurotransmitter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istamine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Histidine) is the mediator of allergic reac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hyroxine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Tyrosine) is an important thyroid hormon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Referenc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ippincott’s Illustrated reviews: Biochemistry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 – unit 1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What are amino acids?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ino acids are the chemical units that combine to form prote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ino acids are a type of organic acid that contain both a carboxyl group (COOH) and an amino group (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ino acids play central roles: as building blocks of proteins and as intermediates in metabolis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umans can produ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e about half of am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acids. The others must be supplied in the foo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proteins are digested or broken down, amino acids are lef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General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are carbon compounds that contain two functional groups: an amino group (-NH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 and a carboxylic acid group (-COOH). A side chain attached to the compound (R) gives each amino acid a unique set of characteristic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4" descr="free aa.tiff"/>
          <p:cNvPicPr/>
          <p:nvPr/>
        </p:nvPicPr>
        <p:blipFill>
          <a:blip r:embed="rId1"/>
          <a:stretch/>
        </p:blipFill>
        <p:spPr>
          <a:xfrm>
            <a:off x="2661480" y="3143880"/>
            <a:ext cx="2807640" cy="33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00" strike="noStrike">
                <a:solidFill>
                  <a:srgbClr val="675e47"/>
                </a:solidFill>
                <a:latin typeface="Times New Roman"/>
              </a:rPr>
              <a:t>Zwitterio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4546" r="0" b="4546"/>
          <a:stretch/>
        </p:blipFill>
        <p:spPr>
          <a:xfrm>
            <a:off x="1826280" y="2045520"/>
            <a:ext cx="4799520" cy="3023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2163240" y="5519520"/>
            <a:ext cx="42379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et charge is zero on the molec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Isoelectric point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05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H at which the molecule carries no net charg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acidic solution-cation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alkaline solution- anion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0" name="Picture 2" descr="http://www.esu.edu/~jfreeman/317/chem317l/Lab%20folders/317lamacion/img1.gif"/>
          <p:cNvPicPr/>
          <p:nvPr/>
        </p:nvPicPr>
        <p:blipFill>
          <a:blip r:embed="rId1"/>
          <a:stretch/>
        </p:blipFill>
        <p:spPr>
          <a:xfrm>
            <a:off x="596520" y="4070880"/>
            <a:ext cx="7646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K Valu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the ability of an acid to donate a proton (dissociate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lso known as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K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r acid dissociation constan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K values of α-carboxylic group is in the range of 2.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K values of α-amino group is in the range of 9.4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itration curve of glycin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67480"/>
            <a:ext cx="388584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1708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</a:rPr>
              <a:t>pK1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- pH at which 50% of molecules are in cation form and 50% are in zwitterion for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0872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Times New Roman"/>
              </a:rPr>
              <a:t>pK2-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pH at which 50% of molecules are in anion form and 50% are in zwitterion for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21708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uffering action is maximum around pK values and minimum at pI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5" name="Picture 2" descr="http://www.biochem.arizona.edu/classes/bioc462/462a/NOTES/Amino_Acids/Fig5_10GlyTitr.GIF"/>
          <p:cNvPicPr/>
          <p:nvPr/>
        </p:nvPicPr>
        <p:blipFill>
          <a:blip r:embed="rId1"/>
          <a:stretch/>
        </p:blipFill>
        <p:spPr>
          <a:xfrm>
            <a:off x="4343400" y="1447920"/>
            <a:ext cx="4114440" cy="527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Classification of amino acid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50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2392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Based on the body requirement, amino acids can be classified into three group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27120" indent="-22392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ssential amino acids: cannot be made by the bod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e.g. histidine, isoleucine, leucine, lysine, methionine, phenylalanine,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             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threonine, tryptophan, and valine.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27120" indent="-22392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onessential amino acids: produced by the bod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e.g. alanine, asparagine, aspartic acid, and glutamic acid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27120" indent="-22392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nditional amino acids: not essential, except in time of illness or stres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e.g. arginine, cysteine, glutamine, tyrosine, glycine, proline, and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478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            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serin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djacency.thmx</Template>
  <TotalTime>1811</TotalTime>
  <Application>LibreOffice/7.4.7.2$Linux_X86_64 LibreOffice_project/40$Build-2</Application>
  <AppVersion>15.0000</AppVersion>
  <Words>882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04:08:57Z</dcterms:created>
  <dc:creator>Ahmed</dc:creator>
  <dc:description/>
  <dc:language>en-US</dc:language>
  <cp:lastModifiedBy>Ahmed Mujamammi</cp:lastModifiedBy>
  <dcterms:modified xsi:type="dcterms:W3CDTF">2014-09-01T04:24:51Z</dcterms:modified>
  <cp:revision>74</cp:revision>
  <dc:subject/>
  <dc:title>Amino aci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4</vt:r8>
  </property>
</Properties>
</file>