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tif" ContentType="image/tiff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B80-0F1E-4C56-AA64-34A92D97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F6F-A2D4-4573-B904-0373AA5A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CA6-6C5D-4912-9ABC-D46683E1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C7C-4626-402A-BA00-E12724BE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9568-0BEE-409D-9F49-76F4992D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6423-63DB-40D9-ABA8-E9B6B6AD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BCDD-6303-4F76-A46A-F517C3C1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1C71-460C-4EC4-AD39-2D4E03E5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6F8B-BCCC-4401-B3FD-43D9EEC2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D81D-BD40-4ED7-9E1F-998A8781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09AF-FFCF-4A93-A353-DE8641F4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AFE-B495-4171-9222-3C4C2E58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5624-6DAD-4A94-B466-B93747BA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A1E0-562C-4400-8B42-F8BAE399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B45D-8AA5-4031-96EF-5B23714E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9865-B5FB-4742-973E-28AFBCAB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8650-0C5F-42F6-8EAA-6812A3F7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0D22-7D2A-4F9B-BFD7-959BD087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EE0B-6983-448B-80C0-59A75290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6476-D023-4F3D-A090-43B6497E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2DC8-E222-4490-BB3A-B726FB82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3685-6981-4B53-94E8-9A06930E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30B-1C51-49D8-9A33-F296968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5910-4886-4813-A176-86EA1265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50F8-CCA3-4CAC-A10D-B4B70F1D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2EC2-4C48-46BD-B470-BFE8FD1A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D4DF-FCA0-4AB6-98A0-4F8FD551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CECC-471D-4DD8-BC5F-A5FA72CC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CD2A-3386-4659-8E84-CED9C856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F0B6C-C8D3-4F3A-ADFC-20151B38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B24-DA79-4673-A2B5-5B1AC36D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008-6477-4E94-A05E-E8A36767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EC9-409D-48C0-AA86-A3FE1E5D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54D-1788-4D0C-9E02-C1D8DB44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6B6-CB6F-412C-B798-A22EB8F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850-6204-4DFA-B195-A9E9385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A985F9-BAD6-48B4-B493-1345C7552B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Master text sty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95a39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c89f5d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ifth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30A7C4E-E46D-4317-881D-7C99277D10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1999CAB-518E-42A9-8943-22C1567F7A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3524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Times New Roman"/>
              </a:rPr>
              <a:t>Protein structure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3245040"/>
            <a:ext cx="6461280" cy="23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f8e8d"/>
                </a:solidFill>
                <a:latin typeface="Calibri"/>
              </a:rPr>
              <a:t>(Foundation Bl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Ahmed Mujamam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Sumbul Fa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regular arrangements of amino acids that are located near to each other in the linear sequen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xcluding the conformations (3D arrangements) of its side cha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α-helix, β-sheet and β-bend are examples of secondary structures frequently found in prote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28680" y="1905120"/>
            <a:ext cx="7995960" cy="30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016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α-helix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a right-handed spiral, in which side chains of amino acids extended outwar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ydrogen bonds: Stabilize the α-helix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form between the peptide bond carbonyl oxygen and amide hydroge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per turn: Each turn contains 3.6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that disrupt an α-helix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Proline </a:t>
            </a:r>
            <a:r>
              <a:rPr b="0" lang="en-US" sz="18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imino group, interferes with the smooth helical structur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Glutamate, aspartate, histidine, lysine or arginine </a:t>
            </a:r>
            <a:r>
              <a:rPr b="0" lang="en-US" sz="18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form ionic bond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Bulky side chain, such as tryptopha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Branched amino acids at the β-carbon, such as valine or isoleucin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85455" t="0" r="0" b="0"/>
          <a:stretch/>
        </p:blipFill>
        <p:spPr>
          <a:xfrm>
            <a:off x="7440840" y="152280"/>
            <a:ext cx="874440" cy="23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68E-006 2.57355E-006 L -4.7968E-006 -0.10795 E">
                                      <p:cBhvr>
                                        <p:cTn id="8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9719E-006 -2.93954E-006 L 0.00156 -0.11234 E">
                                      <p:cBhvr>
                                        <p:cTn id="8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9906E-006 1.54737E-006 L 0.00121 -0.22516 E">
                                      <p:cBhvr>
                                        <p:cTn id="9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17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19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21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23" dur="1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β-sheet 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Composition of a β-shee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Two or more polypeptide chains make hydrogen bonding with each other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7772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Also called pleated sheets because they appear as folded structures with edge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β-shee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Antiparallel and parallel sheet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12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ydrogen bonds in parallel direction is less stable than in antiparallel directio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181440" y="2432520"/>
            <a:ext cx="7997040" cy="3569760"/>
            <a:chOff x="181440" y="2432520"/>
            <a:chExt cx="7997040" cy="356976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rcRect l="0" t="55738" r="48213" b="0"/>
            <a:stretch/>
          </p:blipFill>
          <p:spPr>
            <a:xfrm>
              <a:off x="1350000" y="2432520"/>
              <a:ext cx="154584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" descr=""/>
            <p:cNvPicPr/>
            <p:nvPr/>
          </p:nvPicPr>
          <p:blipFill>
            <a:blip r:embed="rId2"/>
            <a:srcRect l="54806" t="52570" r="0" b="0"/>
            <a:stretch/>
          </p:blipFill>
          <p:spPr>
            <a:xfrm>
              <a:off x="5471280" y="2432520"/>
              <a:ext cx="154764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" descr=""/>
            <p:cNvPicPr/>
            <p:nvPr/>
          </p:nvPicPr>
          <p:blipFill>
            <a:blip r:embed="rId3"/>
            <a:srcRect l="0" t="0" r="0" b="52112"/>
            <a:stretch/>
          </p:blipFill>
          <p:spPr>
            <a:xfrm>
              <a:off x="181440" y="3843000"/>
              <a:ext cx="3887640" cy="21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" descr=""/>
            <p:cNvPicPr/>
            <p:nvPr/>
          </p:nvPicPr>
          <p:blipFill>
            <a:blip r:embed="rId4"/>
            <a:srcRect l="0" t="47888" r="0" b="0"/>
            <a:stretch/>
          </p:blipFill>
          <p:spPr>
            <a:xfrm>
              <a:off x="4291920" y="3842640"/>
              <a:ext cx="3886560" cy="21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Other secondary structure exampl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l-GR" sz="2200" spc="-1" strike="noStrike" u="sng">
                <a:solidFill>
                  <a:srgbClr val="2f2b20"/>
                </a:solidFill>
                <a:uFillTx/>
                <a:latin typeface="Times New Roman"/>
              </a:rPr>
              <a:t>β</a:t>
            </a: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-bends (reverse turns)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3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Reverse the direction of a polypeptide chai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3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Usually found on the surface of the molecule and  often include charged residue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3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The name comes because they often connect successive strands of antiparallel β-sheet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3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β-bends are generally composed of four amino acid residues, proline or glycine are frequently found in β-bend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Nonrepetitive secondary structure: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.g. loop or coil conform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Other secondary structure exampl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upersecondary structures (motifs)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7772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A combination of secondary structural element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7772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7772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α α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motif: two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α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helices togethe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 α 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motif: a helix connects two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sheet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hairpin: reverse turns connect antiparallel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sheet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barrels: rolls of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sheet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6" name="Picture 3" descr="Suprsecondary structures.tiff"/>
          <p:cNvPicPr/>
          <p:nvPr/>
        </p:nvPicPr>
        <p:blipFill>
          <a:blip r:embed="rId1"/>
          <a:stretch/>
        </p:blipFill>
        <p:spPr>
          <a:xfrm>
            <a:off x="460440" y="3006720"/>
            <a:ext cx="764028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Terti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the three-dimensional (3D) structure of an entire polypeptide chain including side cha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fundamental functional and 3D structural units of a polypeptide known as domains, &gt;200 amino acids fold into two or more cluster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core of a domain is built from combinations of supersecondary structural elements (motifs) and their side cha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omains can be combined to form terti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Terti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Interactions stabilizing tertiary structur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Disulfide bond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ydrophobic interaction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ydrogen bond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Ionic interaction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Terti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rotein foldin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73" name="Group 12"/>
          <p:cNvGrpSpPr/>
          <p:nvPr/>
        </p:nvGrpSpPr>
        <p:grpSpPr>
          <a:xfrm>
            <a:off x="1284840" y="2338920"/>
            <a:ext cx="5973840" cy="3976200"/>
            <a:chOff x="1284840" y="2338920"/>
            <a:chExt cx="5973840" cy="3976200"/>
          </a:xfrm>
        </p:grpSpPr>
        <p:pic>
          <p:nvPicPr>
            <p:cNvPr id="174" name="Picture 3" descr="1.png"/>
            <p:cNvPicPr/>
            <p:nvPr/>
          </p:nvPicPr>
          <p:blipFill>
            <a:blip r:embed="rId1"/>
            <a:stretch/>
          </p:blipFill>
          <p:spPr>
            <a:xfrm>
              <a:off x="1284840" y="2338920"/>
              <a:ext cx="2420280" cy="16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" descr="2.png"/>
            <p:cNvPicPr/>
            <p:nvPr/>
          </p:nvPicPr>
          <p:blipFill>
            <a:blip r:embed="rId2"/>
            <a:stretch/>
          </p:blipFill>
          <p:spPr>
            <a:xfrm>
              <a:off x="4838400" y="2338920"/>
              <a:ext cx="2420280" cy="16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3.png"/>
            <p:cNvPicPr/>
            <p:nvPr/>
          </p:nvPicPr>
          <p:blipFill>
            <a:blip r:embed="rId3"/>
            <a:stretch/>
          </p:blipFill>
          <p:spPr>
            <a:xfrm>
              <a:off x="4811040" y="4695480"/>
              <a:ext cx="2447640" cy="16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7" descr="4.png"/>
            <p:cNvPicPr/>
            <p:nvPr/>
          </p:nvPicPr>
          <p:blipFill>
            <a:blip r:embed="rId4"/>
            <a:stretch/>
          </p:blipFill>
          <p:spPr>
            <a:xfrm>
              <a:off x="1284840" y="4695480"/>
              <a:ext cx="2447640" cy="1619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8" name="Straight Arrow Connector 9"/>
            <p:cNvCxnSpPr/>
            <p:nvPr/>
          </p:nvCxnSpPr>
          <p:spPr>
            <a:xfrm>
              <a:off x="3832560" y="3138840"/>
              <a:ext cx="876960" cy="360"/>
            </a:xfrm>
            <a:prstGeom prst="straightConnector1">
              <a:avLst/>
            </a:prstGeom>
            <a:ln>
              <a:solidFill>
                <a:srgbClr val="2f2b20"/>
              </a:solidFill>
              <a:round/>
              <a:tailEnd len="med" type="arrow" w="med"/>
            </a:ln>
          </p:spPr>
        </p:cxnSp>
        <p:cxnSp>
          <p:nvCxnSpPr>
            <p:cNvPr id="179" name="Straight Arrow Connector 10"/>
            <p:cNvCxnSpPr/>
            <p:nvPr/>
          </p:nvCxnSpPr>
          <p:spPr>
            <a:xfrm>
              <a:off x="5893200" y="4065840"/>
              <a:ext cx="360" cy="504360"/>
            </a:xfrm>
            <a:prstGeom prst="straightConnector1">
              <a:avLst/>
            </a:prstGeom>
            <a:ln>
              <a:solidFill>
                <a:srgbClr val="2f2b20"/>
              </a:solidFill>
              <a:round/>
              <a:tailEnd len="med" type="arrow" w="med"/>
            </a:ln>
          </p:spPr>
        </p:cxnSp>
        <p:cxnSp>
          <p:nvCxnSpPr>
            <p:cNvPr id="180" name="Straight Arrow Connector 11"/>
            <p:cNvCxnSpPr/>
            <p:nvPr/>
          </p:nvCxnSpPr>
          <p:spPr>
            <a:xfrm flipH="1">
              <a:off x="3813840" y="5574600"/>
              <a:ext cx="876960" cy="360"/>
            </a:xfrm>
            <a:prstGeom prst="straightConnector1">
              <a:avLst/>
            </a:prstGeom>
            <a:ln>
              <a:solidFill>
                <a:srgbClr val="2f2b20"/>
              </a:solidFill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Learning outcom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What are protein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tructure of protein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im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econd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erti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Quatern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naturation of prote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otein misfold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Terti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Role of chaperons in protein foldin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Chaperons are a specialized group of proteins, required for the proper folding of many species of protein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They also known as “</a:t>
            </a:r>
            <a:r>
              <a:rPr b="1" lang="en-US" sz="2000" spc="-1" strike="noStrike">
                <a:solidFill>
                  <a:srgbClr val="2f2b20"/>
                </a:solidFill>
                <a:latin typeface="Times New Roman"/>
              </a:rPr>
              <a:t>heat chock</a:t>
            </a: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” protein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The interact with polypeptide at various stages during the folding proces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Quaternary</a:t>
            </a: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 indent="0" algn="just">
              <a:lnSpc>
                <a:spcPct val="13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ome proteins contain two or more polypeptide chains that may be structurally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identical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r totally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unrelated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196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chain forms a 3D structure called subuni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196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ccording to the number of subunits: dimeric, trimeric, … or multimer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1960" indent="0" algn="just">
              <a:lnSpc>
                <a:spcPct val="11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ubunits may either function independently of each other, or work cooperatively, e.g.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hemoglobi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Hemoglobin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emoglobin is a globular prote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 multisubunit protein is called oligom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omposed of </a:t>
            </a:r>
            <a:r>
              <a:rPr b="0" lang="el-GR" sz="2200" spc="-1" strike="noStrike">
                <a:solidFill>
                  <a:srgbClr val="2f2b20"/>
                </a:solidFill>
                <a:latin typeface="Times New Roman"/>
              </a:rPr>
              <a:t>α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l-GR" sz="2200" spc="-1" strike="noStrike">
                <a:solidFill>
                  <a:srgbClr val="2f2b20"/>
                </a:solidFill>
                <a:latin typeface="Times New Roman"/>
              </a:rPr>
              <a:t> β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subunits (4 subunits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wo same subunits are called protomer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rcRect l="28999" t="0" r="0" b="0"/>
          <a:stretch/>
        </p:blipFill>
        <p:spPr>
          <a:xfrm>
            <a:off x="2367360" y="3660840"/>
            <a:ext cx="318564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Denaturation</a:t>
            </a: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 of protein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860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results in the unfolding and disorganization of the protein’s secondary and tertiary structur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naturating agents includ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eat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Organic solvent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Mechanical mixing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Strong acids or base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Detergent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Ions of heavy metals (e.g. lead and mercury)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Most proteins, once denatured, remain permanently disorder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natured proteins are often insoluble and, therefore, precipitate from solu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7048E-006 3.98425E-006 L 0.00086 -0.5578 E">
                                      <p:cBhvr>
                                        <p:cTn id="207" dur="1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8659E-006 -2.77276E-006 L -0.00086 -0.5425 E">
                                      <p:cBhvr>
                                        <p:cTn id="209" dur="1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very protein must fold to achieve its normal conformation and func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bnormal folding of proteins leads to a number of diseases in huma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rotein misfolding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lzheimer’s disea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l-GR" sz="22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amyloid protein is a misfolded prote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forms fibrous deposits or plaques in the brains of Alzheimer’s patien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reutzfeldt-Jacob or prion disea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ion protein is present in normal brain tissu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diseased brains, the same protein is misfold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, therefore, forms insoluble fibrous aggregates that damage brain cell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rotein misfolding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key.png"/>
          <p:cNvPicPr/>
          <p:nvPr/>
        </p:nvPicPr>
        <p:blipFill>
          <a:blip r:embed="rId1"/>
          <a:stretch/>
        </p:blipFill>
        <p:spPr>
          <a:xfrm>
            <a:off x="1441800" y="0"/>
            <a:ext cx="5900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Referenc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Lippincott’s Illustrated reviews: Biochemistry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edition – unit 2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What are proteins?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oteins are large, complex molecules that play many critical roles in the body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y do most of the work in cells and are required for the structure, function, and regulation of the body’s tissues and orga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oteins are made up of hundreds or thousands of smaller units called amino acids, which are attached to one another in long cha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What are proteins?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re are mainly 20 different types of amino acids that can be combined to make a prote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equence of amino acids determines each protein’s unique three-dimensional (3D) structure and its specific func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oteins can be described according to their large range of functions in the body e.g. antibody, enzyme, messenger, structural component and transport/storage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the linear sequence of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ovalent bonds in the primary structure of protei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Peptide bond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Disulfide bond (if any)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8" name="Picture 2" descr="http://users.rcn.com/jkimball.ma.ultranet/BiologyPages/P/Peptide.gif"/>
          <p:cNvPicPr/>
          <p:nvPr/>
        </p:nvPicPr>
        <p:blipFill>
          <a:blip r:embed="rId1"/>
          <a:stretch/>
        </p:blipFill>
        <p:spPr>
          <a:xfrm>
            <a:off x="3506040" y="2440440"/>
            <a:ext cx="4232520" cy="2306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rim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eptide Bond (amide bond)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263520" y="1231920"/>
            <a:ext cx="8042040" cy="55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users.rcn.com/jkimball.ma.ultranet/BiologyPages/T/Tripeptide.gif"/>
          <p:cNvPicPr/>
          <p:nvPr/>
        </p:nvPicPr>
        <p:blipFill>
          <a:blip r:embed="rId1"/>
          <a:stretch/>
        </p:blipFill>
        <p:spPr>
          <a:xfrm>
            <a:off x="2115360" y="414000"/>
            <a:ext cx="4343040" cy="3053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380880" y="3658680"/>
            <a:ext cx="793584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f2b2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amino acid in a chain makes two peptide b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2b2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amino acids at the two ends of a chain make only one peptide b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2b2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amino acid with a free amino group is called amino terminus or NH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-termin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2b2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amino acid with a free carboxylic group is called carboxyl terminus or COOH-termin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8691E-007 3.69238E-006 L -0.00017 -0.21566 E">
                                      <p:cBhvr>
                                        <p:cTn id="59" dur="1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24 L 0.00017 -0.20964 E">
                                      <p:cBhvr>
                                        <p:cTn id="61" dur="1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Peptid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mino acids can be polymerized to form chain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wo amino acids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dipeptide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ne peptide bon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ree amino acids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tripeptide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two peptide bo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Four amino acids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tetrapeptide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three peptide bo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Few (2-20 amino acids)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ligopeptid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More (&gt;20 amino acids)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polypeptid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2240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NA sequenc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irect amino acids sequenc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How to determine the primary structure sequence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60229E-006 -2.38592E-007 L -0.00295 -0.35881 E">
                                      <p:cBhvr>
                                        <p:cTn id="67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djacency.thmx</Template>
  <TotalTime>502</TotalTime>
  <Application>LibreOffice/7.4.7.2$Linux_X86_64 LibreOffice_project/40$Build-2</Application>
  <AppVersion>15.0000</AppVersion>
  <Words>1102</Words>
  <Paragraphs>18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04:46:36Z</dcterms:created>
  <dc:creator>Ahmed</dc:creator>
  <dc:description/>
  <dc:language>en-US</dc:language>
  <cp:lastModifiedBy>Ahmed Mujamammi</cp:lastModifiedBy>
  <dcterms:modified xsi:type="dcterms:W3CDTF">2014-09-01T04:17:28Z</dcterms:modified>
  <cp:revision>99</cp:revision>
  <dc:subject/>
  <dc:title>Protein 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7</vt:r8>
  </property>
</Properties>
</file>