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tif" ContentType="image/tiff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AE72-B0DB-43C1-8F11-3790E69A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A3F1-F821-4420-8817-BC31BA5D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E43-ABF4-4507-99AD-89F1F095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72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1024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72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1024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E88A-A41C-43E5-8B18-3D96E0C5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90EA-9542-4543-93F4-73EF68CF2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8B03-3633-4134-BC1E-148A0C8B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D947-4489-49B0-94A3-9700AFA5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1D1B-90B2-427D-96B2-A03D30B8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D178-258F-4187-8BA6-3334D06A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19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5B93-C7BF-4B9F-B913-3B19BF37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A4E5-8318-4F6D-B7A3-95485345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02F-C599-4636-AA4C-9D6203A4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FB84-DD04-4D0B-A445-9C699A4F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EC83-FD15-496B-8303-A7233354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BB3E-1D63-4431-B319-F5B87939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F757-687B-4C96-8AC5-05401F24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72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1024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72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1024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C1C8-18C5-401F-A119-86A734F6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ABF43-32B2-432A-9B3E-F351A852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4ABF3-CBF5-4273-BCFC-9AF233EA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5B1B4-5CF3-43F4-A365-1E732239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1437A-19B3-464E-8E9E-523FF243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15C94-B1CC-41C3-AB7D-C3784CD0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6E44-AA1B-4DC2-9A2B-1E25A62E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19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2738E-5FFB-4607-B19F-F3CF699B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C7947-13CB-433E-9241-F601947F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B91C6-FF42-4DF9-B439-A0758C9C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EB3D1-C7ED-4755-AFD2-1BDD42F7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EFE2D-F63E-4EA4-8E0F-5EF7EC26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40061-E10B-48F3-8872-38A84245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72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10240" y="16002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72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10240" y="410760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C1F9D-0D2C-442E-8CFF-90E15587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E71-149A-4BBF-B259-D1E54495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D081-27BF-4C75-92E3-F61A79C3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6197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FC16-AE97-465D-88A7-370DFE3F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2504-99B5-461B-803B-FF11AF0D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400" y="41076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6677-5298-4DA1-979F-7C06A5DF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400" y="1600200"/>
            <a:ext cx="37180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07600"/>
            <a:ext cx="76197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099-1101-42CD-9FAB-F8F182A2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600" spc="-100" strike="noStrike">
                <a:solidFill>
                  <a:srgbClr val="675e47"/>
                </a:solidFill>
                <a:latin typeface="Cambria"/>
              </a:rPr>
              <a:t>Click to edit Master title style</a:t>
            </a:r>
            <a:endParaRPr b="0" lang="en-US" sz="6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57521EC-4091-4810-A715-7554AAD86890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Cambria"/>
              </a:rPr>
              <a:t>Click to edit Master title styl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Master text styl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00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20"/>
              </a:spcBef>
              <a:buClr>
                <a:srgbClr val="95a39d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281"/>
              </a:spcBef>
              <a:buClr>
                <a:srgbClr val="c89f5d"/>
              </a:buClr>
              <a:buFont typeface="Arial"/>
              <a:buChar char="•"/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Fifth level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FEA9E74-2C70-4776-984F-59630810D00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C9E4070-F5B7-47CB-9B00-38F957C0F72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2f2b2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ti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3524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600" spc="-100" strike="noStrike">
                <a:solidFill>
                  <a:srgbClr val="675e47"/>
                </a:solidFill>
                <a:latin typeface="Times New Roman"/>
              </a:rPr>
              <a:t>Protein structure</a:t>
            </a:r>
            <a:endParaRPr b="0" lang="en-US" sz="6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3245040"/>
            <a:ext cx="6461280" cy="23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f8e8d"/>
                </a:solidFill>
                <a:latin typeface="Calibri"/>
              </a:rPr>
              <a:t>(Foundation Blo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8f8e8d"/>
                </a:solidFill>
                <a:latin typeface="Calibri"/>
              </a:rPr>
              <a:t>Dr. Ahmed Mujamam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8f8e8d"/>
                </a:solidFill>
                <a:latin typeface="Calibri"/>
              </a:rPr>
              <a:t>Dr. Sumbul Fat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Secondary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t is regular arrangements of amino acids that are located near to each other in the linear sequenc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Excluding the conformations (3D arrangements) of its side chai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α-helix, β-sheet and β-bend are examples of secondary structures frequently found in protei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328680" y="1905120"/>
            <a:ext cx="7995960" cy="30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Secondary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0164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α-helix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t is a right-handed spiral, in which side chains of amino acids extended outwar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Hydrogen bonds: Stabilize the α-helix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form between the peptide bond carbonyl oxygen and amide hydrogen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mino acids per turn: Each turn contains 3.6 amino acid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mino acids that disrupt an α-helix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 algn="just">
              <a:lnSpc>
                <a:spcPct val="10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Proline </a:t>
            </a:r>
            <a:r>
              <a:rPr b="0" lang="en-US" sz="18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imino group, interferes with the smooth helical structure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 algn="just">
              <a:lnSpc>
                <a:spcPct val="10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Glutamate, aspartate, histidine, lysine or arginine </a:t>
            </a:r>
            <a:r>
              <a:rPr b="0" lang="en-US" sz="18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form ionic bond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 algn="just">
              <a:lnSpc>
                <a:spcPct val="10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Bulky side chain, such as tryptophan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 algn="just">
              <a:lnSpc>
                <a:spcPct val="10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Branched amino acids at the β-carbon, such as valine or isoleucine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rcRect l="85455" t="0" r="0" b="0"/>
          <a:stretch/>
        </p:blipFill>
        <p:spPr>
          <a:xfrm>
            <a:off x="7440840" y="152280"/>
            <a:ext cx="874440" cy="23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68E-006 2.57355E-006 L -4.7968E-006 -0.10795 E">
                                      <p:cBhvr>
                                        <p:cTn id="86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9719E-006 -2.93954E-006 L 0.00156 -0.11234 E">
                                      <p:cBhvr>
                                        <p:cTn id="88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29906E-006 1.54737E-006 L 0.00121 -0.22516 E">
                                      <p:cBhvr>
                                        <p:cTn id="9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45 E">
                                      <p:cBhvr>
                                        <p:cTn id="115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45 E">
                                      <p:cBhvr>
                                        <p:cTn id="117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45 E">
                                      <p:cBhvr>
                                        <p:cTn id="119" dur="10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45 E">
                                      <p:cBhvr>
                                        <p:cTn id="121" dur="10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45 E">
                                      <p:cBhvr>
                                        <p:cTn id="123" dur="1000" fill="hold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Secondary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β-sheet 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(Composition of a β-sheet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 algn="just">
              <a:lnSpc>
                <a:spcPct val="10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Two or more polypeptide chains make hydrogen bonding with each other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777240"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 algn="just">
              <a:lnSpc>
                <a:spcPct val="10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Arial"/>
              </a:rPr>
              <a:t>Also called pleated sheets because they appear as folded structures with edge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Secondary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β-sheet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(Antiparallel and parallel sheet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120" indent="0" algn="just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Hydrogen bonds in parallel direction is less stable than in antiparallel direction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157" name="Group 7"/>
          <p:cNvGrpSpPr/>
          <p:nvPr/>
        </p:nvGrpSpPr>
        <p:grpSpPr>
          <a:xfrm>
            <a:off x="181440" y="2432520"/>
            <a:ext cx="7997040" cy="3569760"/>
            <a:chOff x="181440" y="2432520"/>
            <a:chExt cx="7997040" cy="3569760"/>
          </a:xfrm>
        </p:grpSpPr>
        <p:pic>
          <p:nvPicPr>
            <p:cNvPr id="158" name="Picture 2" descr=""/>
            <p:cNvPicPr/>
            <p:nvPr/>
          </p:nvPicPr>
          <p:blipFill>
            <a:blip r:embed="rId1"/>
            <a:srcRect l="0" t="55738" r="48213" b="0"/>
            <a:stretch/>
          </p:blipFill>
          <p:spPr>
            <a:xfrm>
              <a:off x="1350000" y="2432520"/>
              <a:ext cx="1545840" cy="12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2" descr=""/>
            <p:cNvPicPr/>
            <p:nvPr/>
          </p:nvPicPr>
          <p:blipFill>
            <a:blip r:embed="rId2"/>
            <a:srcRect l="54806" t="52570" r="0" b="0"/>
            <a:stretch/>
          </p:blipFill>
          <p:spPr>
            <a:xfrm>
              <a:off x="5471280" y="2432520"/>
              <a:ext cx="1547640" cy="12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2" descr=""/>
            <p:cNvPicPr/>
            <p:nvPr/>
          </p:nvPicPr>
          <p:blipFill>
            <a:blip r:embed="rId3"/>
            <a:srcRect l="0" t="0" r="0" b="52112"/>
            <a:stretch/>
          </p:blipFill>
          <p:spPr>
            <a:xfrm>
              <a:off x="181440" y="3843000"/>
              <a:ext cx="3887640" cy="215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" descr=""/>
            <p:cNvPicPr/>
            <p:nvPr/>
          </p:nvPicPr>
          <p:blipFill>
            <a:blip r:embed="rId4"/>
            <a:srcRect l="0" t="47888" r="0" b="0"/>
            <a:stretch/>
          </p:blipFill>
          <p:spPr>
            <a:xfrm>
              <a:off x="4291920" y="3842640"/>
              <a:ext cx="3886560" cy="215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Secondary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Other secondary structure example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l-GR" sz="2200" spc="-1" strike="noStrike" u="sng">
                <a:solidFill>
                  <a:srgbClr val="2f2b20"/>
                </a:solidFill>
                <a:uFillTx/>
                <a:latin typeface="Times New Roman"/>
              </a:rPr>
              <a:t>β</a:t>
            </a:r>
            <a:r>
              <a:rPr b="0" lang="en-US" sz="2200" spc="-1" strike="noStrike" u="sng">
                <a:solidFill>
                  <a:srgbClr val="2f2b20"/>
                </a:solidFill>
                <a:uFillTx/>
                <a:latin typeface="Times New Roman"/>
              </a:rPr>
              <a:t>-bends (reverse turns)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 algn="just">
              <a:lnSpc>
                <a:spcPct val="13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Reverse the direction of a polypeptide chain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 algn="just">
              <a:lnSpc>
                <a:spcPct val="13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Usually found on the surface of the molecule and  often include charged residue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 algn="just">
              <a:lnSpc>
                <a:spcPct val="13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The name comes because they often connect successive strands of antiparallel β-sheet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5840" indent="-228600" algn="just">
              <a:lnSpc>
                <a:spcPct val="130000"/>
              </a:lnSpc>
              <a:spcBef>
                <a:spcPts val="360"/>
              </a:spcBef>
              <a:buClr>
                <a:srgbClr val="d2cb6c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β-bends are generally composed of four amino acid residues, proline or glycine are frequently found in β-bend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 u="sng">
                <a:solidFill>
                  <a:srgbClr val="2f2b20"/>
                </a:solidFill>
                <a:uFillTx/>
                <a:latin typeface="Times New Roman"/>
              </a:rPr>
              <a:t>Nonrepetitive secondary structure: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e.g. loop or coil conforma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Secondary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Other secondary structure example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Supersecondary structures (motifs)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77724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A combination of secondary structural element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77724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77724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l-GR" sz="1800" spc="-1" strike="noStrike">
                <a:solidFill>
                  <a:srgbClr val="2f2b20"/>
                </a:solidFill>
                <a:latin typeface="Times New Roman"/>
              </a:rPr>
              <a:t>α α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motif: two </a:t>
            </a:r>
            <a:r>
              <a:rPr b="0" lang="el-GR" sz="1800" spc="-1" strike="noStrike">
                <a:solidFill>
                  <a:srgbClr val="2f2b20"/>
                </a:solidFill>
                <a:latin typeface="Times New Roman"/>
              </a:rPr>
              <a:t>α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helices togethe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l-GR" sz="1800" spc="-1" strike="noStrike">
                <a:solidFill>
                  <a:srgbClr val="2f2b20"/>
                </a:solidFill>
                <a:latin typeface="Times New Roman"/>
              </a:rPr>
              <a:t>β α β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motif: a helix connects two </a:t>
            </a:r>
            <a:r>
              <a:rPr b="0" lang="el-GR" sz="1800" spc="-1" strike="noStrike">
                <a:solidFill>
                  <a:srgbClr val="2f2b20"/>
                </a:solidFill>
                <a:latin typeface="Times New Roman"/>
              </a:rPr>
              <a:t>β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sheet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l-GR" sz="1800" spc="-1" strike="noStrike">
                <a:solidFill>
                  <a:srgbClr val="2f2b20"/>
                </a:solidFill>
                <a:latin typeface="Times New Roman"/>
              </a:rPr>
              <a:t>β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hairpin: reverse turns connect antiparallel </a:t>
            </a:r>
            <a:r>
              <a:rPr b="0" lang="el-GR" sz="1800" spc="-1" strike="noStrike">
                <a:solidFill>
                  <a:srgbClr val="2f2b20"/>
                </a:solidFill>
                <a:latin typeface="Times New Roman"/>
              </a:rPr>
              <a:t>β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sheet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	</a:t>
            </a:r>
            <a:r>
              <a:rPr b="0" lang="el-GR" sz="1800" spc="-1" strike="noStrike">
                <a:solidFill>
                  <a:srgbClr val="2f2b20"/>
                </a:solidFill>
                <a:latin typeface="Times New Roman"/>
              </a:rPr>
              <a:t>β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barrels: rolls of </a:t>
            </a:r>
            <a:r>
              <a:rPr b="0" lang="el-GR" sz="1800" spc="-1" strike="noStrike">
                <a:solidFill>
                  <a:srgbClr val="2f2b20"/>
                </a:solidFill>
                <a:latin typeface="Times New Roman"/>
              </a:rPr>
              <a:t>β</a:t>
            </a: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 sheet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66" name="Picture 3" descr="Suprsecondary structures.tiff"/>
          <p:cNvPicPr/>
          <p:nvPr/>
        </p:nvPicPr>
        <p:blipFill>
          <a:blip r:embed="rId1"/>
          <a:stretch/>
        </p:blipFill>
        <p:spPr>
          <a:xfrm>
            <a:off x="460440" y="3006720"/>
            <a:ext cx="764028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Cambria"/>
              </a:rPr>
              <a:t>Tertiary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t is the three-dimensional (3D) structure of an entire polypeptide chain including side chai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fundamental functional and 3D structural units of a polypeptide known as domains, &gt;200 amino acids fold into two or more cluster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core of a domain is built from combinations of supersecondary structural elements (motifs) and their side chai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omains can be combined to form tertiary structur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Tertiary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Interactions stabilizing tertiary structur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3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Disulfide bond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3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Hydrophobic interaction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3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Hydrogen bond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3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Ionic interaction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Tertiary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Protein folding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grpSp>
        <p:nvGrpSpPr>
          <p:cNvPr id="173" name="Group 12"/>
          <p:cNvGrpSpPr/>
          <p:nvPr/>
        </p:nvGrpSpPr>
        <p:grpSpPr>
          <a:xfrm>
            <a:off x="1284840" y="2338920"/>
            <a:ext cx="5973840" cy="3976200"/>
            <a:chOff x="1284840" y="2338920"/>
            <a:chExt cx="5973840" cy="3976200"/>
          </a:xfrm>
        </p:grpSpPr>
        <p:pic>
          <p:nvPicPr>
            <p:cNvPr id="174" name="Picture 3" descr="1.png"/>
            <p:cNvPicPr/>
            <p:nvPr/>
          </p:nvPicPr>
          <p:blipFill>
            <a:blip r:embed="rId1"/>
            <a:stretch/>
          </p:blipFill>
          <p:spPr>
            <a:xfrm>
              <a:off x="1284840" y="2338920"/>
              <a:ext cx="2420280" cy="16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5" descr="2.png"/>
            <p:cNvPicPr/>
            <p:nvPr/>
          </p:nvPicPr>
          <p:blipFill>
            <a:blip r:embed="rId2"/>
            <a:stretch/>
          </p:blipFill>
          <p:spPr>
            <a:xfrm>
              <a:off x="4838400" y="2338920"/>
              <a:ext cx="2420280" cy="16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6" descr="3.png"/>
            <p:cNvPicPr/>
            <p:nvPr/>
          </p:nvPicPr>
          <p:blipFill>
            <a:blip r:embed="rId3"/>
            <a:stretch/>
          </p:blipFill>
          <p:spPr>
            <a:xfrm>
              <a:off x="4811040" y="4695480"/>
              <a:ext cx="2447640" cy="161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7" descr="4.png"/>
            <p:cNvPicPr/>
            <p:nvPr/>
          </p:nvPicPr>
          <p:blipFill>
            <a:blip r:embed="rId4"/>
            <a:stretch/>
          </p:blipFill>
          <p:spPr>
            <a:xfrm>
              <a:off x="1284840" y="4695480"/>
              <a:ext cx="2447640" cy="16196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78" name="Straight Arrow Connector 9"/>
            <p:cNvCxnSpPr/>
            <p:nvPr/>
          </p:nvCxnSpPr>
          <p:spPr>
            <a:xfrm>
              <a:off x="3832560" y="3138840"/>
              <a:ext cx="876960" cy="360"/>
            </a:xfrm>
            <a:prstGeom prst="straightConnector1">
              <a:avLst/>
            </a:prstGeom>
            <a:ln>
              <a:solidFill>
                <a:srgbClr val="2f2b20"/>
              </a:solidFill>
              <a:round/>
              <a:tailEnd len="med" type="arrow" w="med"/>
            </a:ln>
          </p:spPr>
        </p:cxnSp>
        <p:cxnSp>
          <p:nvCxnSpPr>
            <p:cNvPr id="179" name="Straight Arrow Connector 10"/>
            <p:cNvCxnSpPr/>
            <p:nvPr/>
          </p:nvCxnSpPr>
          <p:spPr>
            <a:xfrm>
              <a:off x="5893200" y="4065840"/>
              <a:ext cx="360" cy="504360"/>
            </a:xfrm>
            <a:prstGeom prst="straightConnector1">
              <a:avLst/>
            </a:prstGeom>
            <a:ln>
              <a:solidFill>
                <a:srgbClr val="2f2b20"/>
              </a:solidFill>
              <a:round/>
              <a:tailEnd len="med" type="arrow" w="med"/>
            </a:ln>
          </p:spPr>
        </p:cxnSp>
        <p:cxnSp>
          <p:nvCxnSpPr>
            <p:cNvPr id="180" name="Straight Arrow Connector 11"/>
            <p:cNvCxnSpPr/>
            <p:nvPr/>
          </p:nvCxnSpPr>
          <p:spPr>
            <a:xfrm flipH="1">
              <a:off x="3813840" y="5574600"/>
              <a:ext cx="876960" cy="360"/>
            </a:xfrm>
            <a:prstGeom prst="straightConnector1">
              <a:avLst/>
            </a:prstGeom>
            <a:ln>
              <a:solidFill>
                <a:srgbClr val="2f2b20"/>
              </a:solidFill>
              <a:round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Cambria"/>
              </a:rPr>
              <a:t>Learning outcome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What are proteins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Structure of protein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3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Primary structur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3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Secondary structur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3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ertiary structur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3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Quaternary structur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enaturation of protei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Protein misfold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Tertiary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Role of chaperons in protein folding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Chaperons are a specialized group of proteins, required for the proper folding of many species of protein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They also known as “</a:t>
            </a:r>
            <a:r>
              <a:rPr b="1" lang="en-US" sz="2000" spc="-1" strike="noStrike">
                <a:solidFill>
                  <a:srgbClr val="2f2b20"/>
                </a:solidFill>
                <a:latin typeface="Times New Roman"/>
              </a:rPr>
              <a:t>heat chock</a:t>
            </a: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” protein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40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Times New Roman"/>
              </a:rPr>
              <a:t>The interact with polypeptide at various stages during the folding process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Quaternary</a:t>
            </a:r>
            <a:r>
              <a:rPr b="0" lang="en-US" sz="4600" spc="-100" strike="noStrike">
                <a:solidFill>
                  <a:srgbClr val="675e47"/>
                </a:solidFill>
                <a:latin typeface="Cambria"/>
              </a:rPr>
              <a:t>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 indent="0" algn="just">
              <a:lnSpc>
                <a:spcPct val="13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 algn="just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Some proteins contain two or more polypeptide chains that may be structurally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identical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or totally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unrelated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196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 algn="just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Each chain forms a 3D structure called subuni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196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 algn="just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ccording to the number of subunits: dimeric, trimeric, … or multimeric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1960" indent="0" algn="just">
              <a:lnSpc>
                <a:spcPct val="11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 algn="just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Subunits may either function independently of each other, or work cooperatively, e.g. </a:t>
            </a: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hemoglobin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Hemoglobin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Hemoglobin is a globular protei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 multisubunit protein is called oligomer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Composed of </a:t>
            </a:r>
            <a:r>
              <a:rPr b="0" lang="el-GR" sz="2200" spc="-1" strike="noStrike">
                <a:solidFill>
                  <a:srgbClr val="2f2b20"/>
                </a:solidFill>
                <a:latin typeface="Times New Roman"/>
              </a:rPr>
              <a:t>α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2</a:t>
            </a:r>
            <a:r>
              <a:rPr b="0" lang="el-GR" sz="2200" spc="-1" strike="noStrike">
                <a:solidFill>
                  <a:srgbClr val="2f2b20"/>
                </a:solidFill>
                <a:latin typeface="Times New Roman"/>
              </a:rPr>
              <a:t> β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subunits (4 subunits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3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wo same subunits are called protomer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rcRect l="28999" t="0" r="0" b="0"/>
          <a:stretch/>
        </p:blipFill>
        <p:spPr>
          <a:xfrm>
            <a:off x="2367360" y="3660840"/>
            <a:ext cx="318564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Denaturation</a:t>
            </a:r>
            <a:r>
              <a:rPr b="0" lang="en-US" sz="4600" spc="-100" strike="noStrike">
                <a:solidFill>
                  <a:srgbClr val="675e47"/>
                </a:solidFill>
                <a:latin typeface="Cambria"/>
              </a:rPr>
              <a:t> of protein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860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t results in the unfolding and disorganization of the protein’s secondary and tertiary structur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enaturating agents includ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Heat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Organic solvent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Mechanical mixing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Strong acids or base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Detergents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Ions of heavy metals (e.g. lead and mercury)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411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Most proteins, once denatured, remain permanently disordere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enatured proteins are often insoluble and, therefore, precipitate from solu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97048E-006 3.98425E-006 L 0.00086 -0.5578 E">
                                      <p:cBhvr>
                                        <p:cTn id="207" dur="10" fill="hold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8659E-006 -2.77276E-006 L -0.00086 -0.5425 E">
                                      <p:cBhvr>
                                        <p:cTn id="209" dur="10" fill="hold"/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Every protein must fold to achieve its normal conformation and func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Abnormal folding of proteins leads to a number of diseases in huma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Protein misfolding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Alzheimer’s diseas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3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l-GR" sz="2200" spc="-1" strike="noStrike">
                <a:solidFill>
                  <a:srgbClr val="2f2b20"/>
                </a:solidFill>
                <a:latin typeface="Times New Roman"/>
              </a:rPr>
              <a:t>β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amyloid protein is a misfolded protei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3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t forms fibrous deposits or plaques in the brains of Alzheimer’s patient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Creutzfeldt-Jacob or prion diseas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3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Prion protein is present in normal brain tissu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3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n diseased brains, the same protein is misfolde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3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t, therefore, forms insoluble fibrous aggregates that damage brain cell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Protein misfolding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key.png"/>
          <p:cNvPicPr/>
          <p:nvPr/>
        </p:nvPicPr>
        <p:blipFill>
          <a:blip r:embed="rId1"/>
          <a:stretch/>
        </p:blipFill>
        <p:spPr>
          <a:xfrm>
            <a:off x="1441800" y="0"/>
            <a:ext cx="59000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Referenc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-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Lippincott’s Illustrated reviews: Biochemistry 4</a:t>
            </a:r>
            <a:r>
              <a:rPr b="0" lang="en-US" sz="2200" spc="-1" strike="noStrike" baseline="30000">
                <a:solidFill>
                  <a:srgbClr val="2f2b20"/>
                </a:solidFill>
                <a:latin typeface="Times New Roman"/>
              </a:rPr>
              <a:t>th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edition – unit 2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What are proteins?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Proteins are large, complex molecules that play many critical roles in the body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y do most of the work in cells and are required for the structure, function, and regulation of the body’s tissues and orga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Proteins are made up of hundreds or thousands of smaller units called amino acids, which are attached to one another in long chai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What are proteins?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re are mainly 20 different types of amino acids that can be combined to make a protei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sequence of amino acids determines each protein’s unique three-dimensional (3D) structure and its specific functio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Proteins can be described according to their large range of functions in the body e.g. antibody, enzyme, messenger, structural component and transport/storage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It is the linear sequence of amino acid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Covalent bonds in the primary structure of protei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Peptide bond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 algn="just">
              <a:lnSpc>
                <a:spcPct val="100000"/>
              </a:lnSpc>
              <a:spcBef>
                <a:spcPts val="360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2f2b20"/>
                </a:solidFill>
                <a:latin typeface="Times New Roman"/>
              </a:rPr>
              <a:t>Disulfide bond (if any)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8" name="Picture 2" descr="http://users.rcn.com/jkimball.ma.ultranet/BiologyPages/P/Peptide.gif"/>
          <p:cNvPicPr/>
          <p:nvPr/>
        </p:nvPicPr>
        <p:blipFill>
          <a:blip r:embed="rId1"/>
          <a:stretch/>
        </p:blipFill>
        <p:spPr>
          <a:xfrm>
            <a:off x="3506040" y="2440440"/>
            <a:ext cx="4232520" cy="2306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Primary structure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Times New Roman"/>
              </a:rPr>
              <a:t>Peptide Bond (amide bond)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1"/>
          <a:stretch/>
        </p:blipFill>
        <p:spPr>
          <a:xfrm>
            <a:off x="263520" y="1231920"/>
            <a:ext cx="8042040" cy="55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users.rcn.com/jkimball.ma.ultranet/BiologyPages/T/Tripeptide.gif"/>
          <p:cNvPicPr/>
          <p:nvPr/>
        </p:nvPicPr>
        <p:blipFill>
          <a:blip r:embed="rId1"/>
          <a:stretch/>
        </p:blipFill>
        <p:spPr>
          <a:xfrm>
            <a:off x="2115360" y="414000"/>
            <a:ext cx="4343040" cy="30538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380880" y="3658680"/>
            <a:ext cx="793584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2f2b2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Each amino acid in a chain makes two peptide bon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2f2b2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amino acids at the two ends of a chain make only one peptide bo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2f2b2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amino acid with a free amino group is called amino terminus or NH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-termin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2f2b20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e amino acid with a free carboxylic group is called carboxyl terminus or COOH-termin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8691E-007 3.69238E-006 L -0.00017 -0.21566 E">
                                      <p:cBhvr>
                                        <p:cTn id="59" dur="1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024 L 0.00017 -0.20964 E">
                                      <p:cBhvr>
                                        <p:cTn id="61" dur="1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00" strike="noStrike">
                <a:solidFill>
                  <a:srgbClr val="675e47"/>
                </a:solidFill>
                <a:latin typeface="Cambria"/>
              </a:rPr>
              <a:t>Peptides</a:t>
            </a:r>
            <a:endParaRPr b="0" lang="en-US" sz="4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</a:pPr>
            <a:r>
              <a:rPr b="1" lang="en-US" sz="2200" spc="-1" strike="noStrike">
                <a:solidFill>
                  <a:srgbClr val="2f2b20"/>
                </a:solidFill>
                <a:latin typeface="Times New Roman"/>
              </a:rPr>
              <a:t>Amino acids can be polymerized to form chains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2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wo amino acids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dipeptide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one peptide bon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2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Three amino acids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tripeptide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two peptide bond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2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Four amino acids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tetrapeptide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three peptide bond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2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Few (2-20 amino acids)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oligopeptid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40080" indent="-228600">
              <a:lnSpc>
                <a:spcPct val="120000"/>
              </a:lnSpc>
              <a:spcBef>
                <a:spcPts val="439"/>
              </a:spcBef>
              <a:buClr>
                <a:srgbClr val="9cbebd"/>
              </a:buClr>
              <a:buFont typeface="Arial"/>
              <a:buChar char="•"/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More (&gt;20 amino acids) </a:t>
            </a:r>
            <a:r>
              <a:rPr b="0" lang="en-US" sz="2200" spc="-1" strike="noStrike">
                <a:solidFill>
                  <a:srgbClr val="2f2b20"/>
                </a:solidFill>
                <a:latin typeface="Wingdings"/>
              </a:rPr>
              <a:t></a:t>
            </a: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 polypeptide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2240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NA sequenc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just">
              <a:lnSpc>
                <a:spcPct val="100000"/>
              </a:lnSpc>
              <a:spcBef>
                <a:spcPts val="439"/>
              </a:spcBef>
              <a:buClr>
                <a:srgbClr val="a9a57c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Times New Roman"/>
              </a:rPr>
              <a:t>Direct amino acids sequenc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2f2b20"/>
                </a:solidFill>
                <a:latin typeface="Times New Roman"/>
              </a:rPr>
              <a:t>How to determine the primary structure sequence?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indent="0" algn="just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60229E-006 -2.38592E-007 L -0.00295 -0.35881 E">
                                      <p:cBhvr>
                                        <p:cTn id="67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Adjacency">
  <a:themeElements>
    <a:clrScheme name="Adjacency">
      <a:dk1>
        <a:srgbClr val="2f2b20"/>
      </a:dk1>
      <a:lt1>
        <a:srgbClr val="ffffff"/>
      </a:lt1>
      <a:dk2>
        <a:srgbClr val="675e47"/>
      </a:dk2>
      <a:lt2>
        <a:srgbClr val="dfdcb7"/>
      </a:lt2>
      <a:accent1>
        <a:srgbClr val="a9a57c"/>
      </a:accent1>
      <a:accent2>
        <a:srgbClr val="9cbebd"/>
      </a:accent2>
      <a:accent3>
        <a:srgbClr val="d2cb6c"/>
      </a:accent3>
      <a:accent4>
        <a:srgbClr val="95a39d"/>
      </a:accent4>
      <a:accent5>
        <a:srgbClr val="c89f5d"/>
      </a:accent5>
      <a:accent6>
        <a:srgbClr val="b1a089"/>
      </a:accent6>
      <a:hlink>
        <a:srgbClr val="d25814"/>
      </a:hlink>
      <a:folHlink>
        <a:srgbClr val="849a0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djacency">
  <a:themeElements>
    <a:clrScheme name="Adjacency">
      <a:dk1>
        <a:srgbClr val="2f2b20"/>
      </a:dk1>
      <a:lt1>
        <a:srgbClr val="ffffff"/>
      </a:lt1>
      <a:dk2>
        <a:srgbClr val="675e47"/>
      </a:dk2>
      <a:lt2>
        <a:srgbClr val="dfdcb7"/>
      </a:lt2>
      <a:accent1>
        <a:srgbClr val="a9a57c"/>
      </a:accent1>
      <a:accent2>
        <a:srgbClr val="9cbebd"/>
      </a:accent2>
      <a:accent3>
        <a:srgbClr val="d2cb6c"/>
      </a:accent3>
      <a:accent4>
        <a:srgbClr val="95a39d"/>
      </a:accent4>
      <a:accent5>
        <a:srgbClr val="c89f5d"/>
      </a:accent5>
      <a:accent6>
        <a:srgbClr val="b1a089"/>
      </a:accent6>
      <a:hlink>
        <a:srgbClr val="d25814"/>
      </a:hlink>
      <a:folHlink>
        <a:srgbClr val="849a0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djacency">
  <a:themeElements>
    <a:clrScheme name="Adjacency">
      <a:dk1>
        <a:srgbClr val="2f2b20"/>
      </a:dk1>
      <a:lt1>
        <a:srgbClr val="ffffff"/>
      </a:lt1>
      <a:dk2>
        <a:srgbClr val="675e47"/>
      </a:dk2>
      <a:lt2>
        <a:srgbClr val="dfdcb7"/>
      </a:lt2>
      <a:accent1>
        <a:srgbClr val="a9a57c"/>
      </a:accent1>
      <a:accent2>
        <a:srgbClr val="9cbebd"/>
      </a:accent2>
      <a:accent3>
        <a:srgbClr val="d2cb6c"/>
      </a:accent3>
      <a:accent4>
        <a:srgbClr val="95a39d"/>
      </a:accent4>
      <a:accent5>
        <a:srgbClr val="c89f5d"/>
      </a:accent5>
      <a:accent6>
        <a:srgbClr val="b1a089"/>
      </a:accent6>
      <a:hlink>
        <a:srgbClr val="d25814"/>
      </a:hlink>
      <a:folHlink>
        <a:srgbClr val="849a0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djacency.thmx</Template>
  <TotalTime>502</TotalTime>
  <Application>LibreOffice/7.4.7.2$Linux_X86_64 LibreOffice_project/40$Build-2</Application>
  <AppVersion>15.0000</AppVersion>
  <Words>1102</Words>
  <Paragraphs>18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04:46:36Z</dcterms:created>
  <dc:creator>Ahmed</dc:creator>
  <dc:description/>
  <dc:language>en-US</dc:language>
  <cp:lastModifiedBy>Ahmed Mujamammi</cp:lastModifiedBy>
  <dcterms:modified xsi:type="dcterms:W3CDTF">2014-09-01T04:17:28Z</dcterms:modified>
  <cp:revision>99</cp:revision>
  <dc:subject/>
  <dc:title>Protein struc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27</vt:r8>
  </property>
</Properties>
</file>