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tif" ContentType="image/tiff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tif" ContentType="image/tif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21B-E1B0-4CEB-961A-7DFFE593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8030-50F1-4117-9959-B6DBCBED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B76-6125-427C-8AA5-FBF82F21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25B-7638-43C5-8420-45E9A7EDE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8E2C-8931-4055-B7D3-51CA1EDF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F7EF-E5AD-4263-9348-BBD665DD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56A7-939C-4F8B-B45E-B336874C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0379-8A98-4199-82D3-B3D9AA5C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1F58-4285-4898-9524-5B4F9E8B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B867-817C-4C5B-8F7B-4699C764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B542-4BAC-41FF-89FB-4FFB50B5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09B-37BF-42A6-B5FB-D49CF5CD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5E7A-BA88-46C2-8D7C-0FC8EF5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6067-8F64-49DE-BADE-C861E17A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BCF1-3E51-4318-9DAD-D697D487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DBA3-0689-47F5-851F-CC16FCA9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14B7-DAD3-4554-85D0-B3B718C85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993-C8C4-4CB5-A537-C59C2AAB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290-62FC-4D14-B709-7687F8EF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9EF-230D-4D68-A38A-5A86668E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8741-0C2F-46A1-A2B3-D150978B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260-A43F-4439-9F3B-1441E87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1C6-58AC-482C-B201-226202CA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FDF-953F-4FA7-AE06-0F4BCFE4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EF7E886-0780-4F54-95E2-EE93BF019B0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Master text sty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95a39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c89f5d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ifth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021C7ED-B0DD-4BA6-BF25-6B41D0A8063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ti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tulane.edu/~biochem/nolan/lectures/rna/bzcomp2.htm" TargetMode="External"/><Relationship Id="rId2" Type="http://schemas.openxmlformats.org/officeDocument/2006/relationships/hyperlink" Target="http://www.tulane.edu/~biochem/nolan/lectures/rna/bzcomp2.htm" TargetMode="External"/><Relationship Id="rId3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4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5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6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7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8" Type="http://schemas.openxmlformats.org/officeDocument/2006/relationships/hyperlink" Target="http://biowiki.ucdavis.edu/Genetics/Unit_I:_Genes,_Nucleic_Acids,_Genomes_and_Chromosomes/Chapter_2._Structures_of_nucleic_acids/B-Form,_A-Form,_Z-Form_of_DNA" TargetMode="External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Times New Roman"/>
              </a:rPr>
              <a:t>Molecular biology (1)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3245040"/>
            <a:ext cx="6461280" cy="23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f8e8d"/>
                </a:solidFill>
                <a:latin typeface="Calibri"/>
              </a:rPr>
              <a:t>(Foundation Bl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f8e8d"/>
                </a:solidFill>
                <a:latin typeface="Calibri"/>
              </a:rPr>
              <a:t>Dr. Sumbul Fa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Function of nucleotid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olymers of nucleotides (as DNA or RNA) store and transfer genetic inform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Free nucleotides and their derivatives perform various metabolic functions not related to genetic informatio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Other nucleotides: FAD, NAD, CoA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Chemical structure of DNA &amp; RNA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rcRect l="0" t="0" r="46649" b="0"/>
          <a:stretch/>
        </p:blipFill>
        <p:spPr>
          <a:xfrm>
            <a:off x="556920" y="1265400"/>
            <a:ext cx="3798360" cy="5327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7"/>
          <p:cNvSpPr/>
          <p:nvPr/>
        </p:nvSpPr>
        <p:spPr>
          <a:xfrm>
            <a:off x="3835800" y="1615320"/>
            <a:ext cx="4820400" cy="320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O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bridges the 3’ and 5’ positions of ribose sug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O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and sugar bonding is the backbone of DNA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Symbol" charset="2"/>
              <a:buChar char="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linkage between the nucleotides is called </a:t>
            </a:r>
            <a:r>
              <a:rPr b="1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phosphodiester b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The double helix DNA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tructure of DNA was first determined by James Watson and Francis Crick in 1953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ommonly known as Watson-Crick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Features of Watson-Crick DNA structur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StarSymbo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wo polynucleotide chains wind around a common axis to form a double helix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two strands are anti-parallel (run in opposite direction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strand is a right-handed helix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nitrogenous bases are in the center of the double helix and the sugar-phosphate chains are on the sid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StarSymbo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urface of the double helix contains 2 grooves: the major and minor groov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base is hydrogen bonded to a base in the opposite strand to form a base pair (A-T and G-C), known as complementary base pair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helix has 10 base pairs (bp) per tur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Watson-Crick base pair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Adenine (A)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     Thymine (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Guanine (G) 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2f2b20"/>
                </a:solidFill>
                <a:latin typeface="Palatino"/>
              </a:rPr>
              <a:t>     Cytosine (C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17" name="Group 18"/>
          <p:cNvGrpSpPr/>
          <p:nvPr/>
        </p:nvGrpSpPr>
        <p:grpSpPr>
          <a:xfrm>
            <a:off x="4102560" y="2228040"/>
            <a:ext cx="414360" cy="549000"/>
            <a:chOff x="4102560" y="2228040"/>
            <a:chExt cx="414360" cy="549000"/>
          </a:xfrm>
        </p:grpSpPr>
        <p:grpSp>
          <p:nvGrpSpPr>
            <p:cNvPr id="118" name="Group 10"/>
            <p:cNvGrpSpPr/>
            <p:nvPr/>
          </p:nvGrpSpPr>
          <p:grpSpPr>
            <a:xfrm>
              <a:off x="4102560" y="2666880"/>
              <a:ext cx="414360" cy="110160"/>
              <a:chOff x="4102560" y="2666880"/>
              <a:chExt cx="414360" cy="110160"/>
            </a:xfrm>
          </p:grpSpPr>
          <p:sp>
            <p:nvSpPr>
              <p:cNvPr id="119" name="Line 7"/>
              <p:cNvSpPr/>
              <p:nvPr/>
            </p:nvSpPr>
            <p:spPr>
              <a:xfrm>
                <a:off x="4102560" y="2666880"/>
                <a:ext cx="414360" cy="360"/>
              </a:xfrm>
              <a:prstGeom prst="line">
                <a:avLst/>
              </a:prstGeom>
              <a:ln w="9525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  <p:sp>
            <p:nvSpPr>
              <p:cNvPr id="120" name="Line 8"/>
              <p:cNvSpPr/>
              <p:nvPr/>
            </p:nvSpPr>
            <p:spPr>
              <a:xfrm>
                <a:off x="4102560" y="2721960"/>
                <a:ext cx="414360" cy="360"/>
              </a:xfrm>
              <a:prstGeom prst="line">
                <a:avLst/>
              </a:prstGeom>
              <a:ln w="9525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4102560" y="2776680"/>
                <a:ext cx="414360" cy="360"/>
              </a:xfrm>
              <a:prstGeom prst="line">
                <a:avLst/>
              </a:prstGeom>
              <a:ln w="9525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  <p:grpSp>
          <p:nvGrpSpPr>
            <p:cNvPr id="122" name="Group 15"/>
            <p:cNvGrpSpPr/>
            <p:nvPr/>
          </p:nvGrpSpPr>
          <p:grpSpPr>
            <a:xfrm>
              <a:off x="4102560" y="2228040"/>
              <a:ext cx="414360" cy="55440"/>
              <a:chOff x="4102560" y="2228040"/>
              <a:chExt cx="414360" cy="55440"/>
            </a:xfrm>
          </p:grpSpPr>
          <p:sp>
            <p:nvSpPr>
              <p:cNvPr id="123" name="Line 12"/>
              <p:cNvSpPr/>
              <p:nvPr/>
            </p:nvSpPr>
            <p:spPr>
              <a:xfrm>
                <a:off x="4102560" y="2228040"/>
                <a:ext cx="414360" cy="360"/>
              </a:xfrm>
              <a:prstGeom prst="line">
                <a:avLst/>
              </a:prstGeom>
              <a:ln w="9525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  <p:sp>
            <p:nvSpPr>
              <p:cNvPr id="124" name="Line 13"/>
              <p:cNvSpPr/>
              <p:nvPr/>
            </p:nvSpPr>
            <p:spPr>
              <a:xfrm>
                <a:off x="4102560" y="2283120"/>
                <a:ext cx="414360" cy="360"/>
              </a:xfrm>
              <a:prstGeom prst="line">
                <a:avLst/>
              </a:prstGeom>
              <a:ln w="9525">
                <a:solidFill>
                  <a:srgbClr val="2f2b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2f2b20"/>
                  </a:solidFill>
                  <a:latin typeface="Calibri"/>
                </a:endParaRPr>
              </a:p>
            </p:txBody>
          </p:sp>
        </p:grpSp>
      </p:grpSp>
      <p:sp>
        <p:nvSpPr>
          <p:cNvPr id="125" name="TextBox 20"/>
          <p:cNvSpPr/>
          <p:nvPr/>
        </p:nvSpPr>
        <p:spPr>
          <a:xfrm>
            <a:off x="1758600" y="3391200"/>
            <a:ext cx="506088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RNA, Thymine is replaced by Uracil (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Types of DNA structure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7" name="Picture 2" descr="http://upload.wikimedia.org/wikipedia/commons/b/b1/A-DNA%2C_B-DNA_and_Z-DNA.png"/>
          <p:cNvPicPr/>
          <p:nvPr/>
        </p:nvPicPr>
        <p:blipFill>
          <a:blip r:embed="rId1"/>
          <a:stretch/>
        </p:blipFill>
        <p:spPr>
          <a:xfrm>
            <a:off x="2698560" y="3861000"/>
            <a:ext cx="5033880" cy="2915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28" name="Table 8"/>
          <p:cNvGraphicFramePr/>
          <p:nvPr/>
        </p:nvGraphicFramePr>
        <p:xfrm>
          <a:off x="567000" y="1397160"/>
          <a:ext cx="7509600" cy="2465280"/>
        </p:xfrm>
        <a:graphic>
          <a:graphicData uri="http://schemas.openxmlformats.org/drawingml/2006/table">
            <a:tbl>
              <a:tblPr/>
              <a:tblGrid>
                <a:gridCol w="1877400"/>
                <a:gridCol w="1877400"/>
                <a:gridCol w="1877400"/>
                <a:gridCol w="1877400"/>
              </a:tblGrid>
              <a:tr h="26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400" spc="-1" strike="noStrike">
                        <a:solidFill>
                          <a:srgbClr val="2f2b2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A-D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B-DNA</a:t>
                      </a:r>
                      <a:r>
                        <a:rPr b="1" lang="en-GB" sz="1400" spc="-1" strike="noStrike" baseline="30000">
                          <a:solidFill>
                            <a:srgbClr val="ff6600"/>
                          </a:solidFill>
                          <a:latin typeface="Times New Roman"/>
                          <a:ea typeface="ＭＳ 明朝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Z-D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38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Dir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Right-ha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Right-ha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Left-ha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</a:tr>
              <a:tr h="238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Helix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Sh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Elong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More elong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</a:tr>
              <a:tr h="238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Major gro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Deep and nar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W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Not real gro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</a:tr>
              <a:tr h="238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Minor gro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W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Nar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Narr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</a:tr>
              <a:tr h="551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Placement of b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Displaced away from the helical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Centred over the helical ax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Zig-zag pattern (nearly perpendicular to the helical axi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</a:tr>
              <a:tr h="2386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bp per tu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0f0ec"/>
                    </a:solidFill>
                  </a:tcPr>
                </a:tc>
              </a:tr>
              <a:tr h="367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Conformation of deoxyrib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C</a:t>
                      </a:r>
                      <a:r>
                        <a:rPr b="0" lang="en-GB" sz="1400" spc="-1" strike="noStrike" baseline="-25000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C</a:t>
                      </a:r>
                      <a:r>
                        <a:rPr b="0" lang="en-GB" sz="1400" spc="-1" strike="noStrike" baseline="-25000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G (C</a:t>
                      </a:r>
                      <a:r>
                        <a:rPr b="0" lang="en-GB" sz="1400" spc="-1" strike="noStrike" baseline="-25000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) ; C (C</a:t>
                      </a:r>
                      <a:r>
                        <a:rPr b="0" lang="en-GB" sz="1400" spc="-1" strike="noStrike" baseline="-25000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3</a:t>
                      </a:r>
                      <a:r>
                        <a:rPr b="0" lang="en-GB" sz="1400" spc="-1" strike="noStrike">
                          <a:solidFill>
                            <a:srgbClr val="2f2b20"/>
                          </a:solidFill>
                          <a:latin typeface="Times New Roman"/>
                          <a:ea typeface="ＭＳ 明朝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1e0d7"/>
                    </a:solidFill>
                  </a:tcPr>
                </a:tc>
              </a:tr>
            </a:tbl>
          </a:graphicData>
        </a:graphic>
      </p:graphicFrame>
      <p:sp>
        <p:nvSpPr>
          <p:cNvPr id="129" name="TextBox 9"/>
          <p:cNvSpPr/>
          <p:nvPr/>
        </p:nvSpPr>
        <p:spPr>
          <a:xfrm>
            <a:off x="477360" y="3920760"/>
            <a:ext cx="26211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* Watson-Crick model (B-DN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DNA supercoiling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chromosomes of many bacteria and viruses contain circular DNA which is supercoil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9960" y="2854440"/>
            <a:ext cx="7886160" cy="22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Melting temperature (MT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9680" y="1600200"/>
            <a:ext cx="805500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temperature at which the double-stranded DNA is separated into two single stran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MT of DNA depends on nitrogenous base content (A-T and G-C). G-C has 3 hydrogen bonds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stronger than A-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2539800" y="3715200"/>
            <a:ext cx="3302640" cy="29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RNA (Types and function)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RNA is a single-stranded polymer of ribonucleotid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ypes of RNA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mRNA (messenger RNA)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2f2b20"/>
                </a:solidFill>
                <a:latin typeface="Times New Roman"/>
              </a:rPr>
              <a:t>Functio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: Transcription process (from DNA to mRNA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tRNA (transfer RNA)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2f2b20"/>
                </a:solidFill>
                <a:latin typeface="Times New Roman"/>
              </a:rPr>
              <a:t>Functio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: Recognition and transferring. It recognizes amino acids’ codons and transfers the selected amino acids to the growing protein chai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33cc33"/>
              </a:buClr>
              <a:buFont typeface="Arial"/>
              <a:buChar char="•"/>
              <a:tabLst>
                <a:tab algn="l" pos="0"/>
              </a:tabLst>
            </a:pPr>
            <a:r>
              <a:rPr b="0" i="1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rRNA (ribosomal RNA)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2f2b20"/>
                </a:solidFill>
                <a:latin typeface="Times New Roman"/>
              </a:rPr>
              <a:t>Functio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: Site of protein synthesis (factory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Learning outcom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o learn the central dogma of molecular biology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o have an understanding of the composition, types and structure of DNA and RNA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o have an idea about the organization of DNA in the chromosome and the role of histone proteins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79920" y="5867280"/>
            <a:ext cx="8743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200" spc="-100" strike="noStrike">
                <a:solidFill>
                  <a:srgbClr val="2f2b20"/>
                </a:solidFill>
                <a:latin typeface="Times New Roman"/>
              </a:rPr>
              <a:t>Structure of a tRN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2290320" y="228600"/>
            <a:ext cx="3830400" cy="55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How DNA is organized in a chromosome?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human genome contains 3.5 billion base pairs and more than 95% is non-coding or “junk” DNA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DNA from single 23 human chromosomes have a length of 1 met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ow such large quantities of DNA are packed into a single cell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chromosome is a complex of a single linear DNA molecule and protein called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hromati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50% of chromatin consists of proteins called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histones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Histon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Five major types of histon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1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2A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2B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3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4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istones have positively charged amino acids (arginine and lysine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se proteins bind to negatively charged PO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groups of DNA to stabilize the chromatin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Nucleosom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Nucleosomes are particles consisting of DNA and histones connected by thin strands of naked DNA (like beads on a string; Sibhah in Arabic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Nucleosomes consist of the histone octamer (eight) and DN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ctr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(H2A)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(H2B)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(H3)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(H4)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40080" indent="0" algn="just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9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1 binds to 2 complete helical turns of DNA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8680" y="5403960"/>
            <a:ext cx="87436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200" spc="-100" strike="noStrike">
                <a:solidFill>
                  <a:srgbClr val="2f2b20"/>
                </a:solidFill>
                <a:latin typeface="Times New Roman"/>
              </a:rPr>
              <a:t>Electron micrograph of chromatin showing nucleosom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537200" y="911520"/>
            <a:ext cx="589392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09160" y="5638680"/>
            <a:ext cx="64162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2200" spc="-100" strike="noStrike">
                <a:solidFill>
                  <a:srgbClr val="2f2b20"/>
                </a:solidFill>
                <a:latin typeface="Times New Roman"/>
              </a:rPr>
              <a:t>A nucleosome showing interaction of histones with the DN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382040" y="878400"/>
            <a:ext cx="5588640" cy="37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NA regulation.tiff"/>
          <p:cNvPicPr/>
          <p:nvPr/>
        </p:nvPicPr>
        <p:blipFill>
          <a:blip r:embed="rId1"/>
          <a:stretch/>
        </p:blipFill>
        <p:spPr>
          <a:xfrm>
            <a:off x="175680" y="787320"/>
            <a:ext cx="8127000" cy="4679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1263960" y="5849640"/>
            <a:ext cx="67068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hromatin filament with nucleosomes and naked D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Referenc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Lippincott’s Illustrated reviews: Biochemistry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edition – unit 2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Biochemistry by Voet and Voet 3</a:t>
            </a:r>
            <a:r>
              <a:rPr b="0" lang="en-US" sz="2200" spc="-1" strike="noStrike" baseline="30000">
                <a:solidFill>
                  <a:srgbClr val="2f2b20"/>
                </a:solidFill>
                <a:latin typeface="Times New Roman"/>
              </a:rPr>
              <a:t>rd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edi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360"/>
              </a:spcBef>
              <a:buClr>
                <a:srgbClr val="a9a57c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1800" spc="-1" strike="noStrike" u="sng">
                <a:solidFill>
                  <a:srgbClr val="d25814"/>
                </a:solidFill>
                <a:uFillTx/>
                <a:latin typeface="Times New Roman"/>
                <a:hlinkClick r:id="rId1"/>
              </a:rPr>
              <a:t>http://www.tulane.edu/~biochem/nolan/lectures/rna/bzcomp2.</a:t>
            </a:r>
            <a:r>
              <a:rPr b="0" lang="en-US" sz="1800" spc="-1" strike="noStrike" u="sng">
                <a:solidFill>
                  <a:srgbClr val="d25814"/>
                </a:solidFill>
                <a:uFillTx/>
                <a:latin typeface="Times New Roman"/>
                <a:hlinkClick r:id="rId2"/>
              </a:rPr>
              <a:t>htm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320"/>
              </a:spcBef>
              <a:buClr>
                <a:srgbClr val="a9a57c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3"/>
              </a:rPr>
              <a:t>http://biowiki.ucdavis.edu/Genetics/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4"/>
              </a:rPr>
              <a:t>Unit_I%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5"/>
              </a:rPr>
              <a:t>3A_Genes,_Nucleic_Acids,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6"/>
              </a:rPr>
              <a:t>_Genomes_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5712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7"/>
              </a:rPr>
              <a:t>and_Chromosomes</a:t>
            </a:r>
            <a:r>
              <a:rPr b="0" lang="en-US" sz="1600" spc="-1" strike="noStrike" u="sng">
                <a:solidFill>
                  <a:srgbClr val="d25814"/>
                </a:solidFill>
                <a:uFillTx/>
                <a:latin typeface="Times New Roman"/>
                <a:hlinkClick r:id="rId8"/>
              </a:rPr>
              <a:t>/Chapter_2._Structures_of_nucleic_acids/B-Form,_A-Form,_Z-Form_of_DNA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The central dogma of Molecular Bi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1" name="Picture 2" descr="Central Dogma.tiff"/>
          <p:cNvPicPr/>
          <p:nvPr/>
        </p:nvPicPr>
        <p:blipFill>
          <a:blip r:embed="rId1"/>
          <a:stretch/>
        </p:blipFill>
        <p:spPr>
          <a:xfrm>
            <a:off x="1125360" y="1392840"/>
            <a:ext cx="2560320" cy="5075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4055760" y="2334960"/>
            <a:ext cx="356364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A portion of </a:t>
            </a:r>
            <a:r>
              <a:rPr b="1" i="1" lang="en-US" sz="2000" spc="-1" strike="noStrike">
                <a:solidFill>
                  <a:srgbClr val="2f2b20"/>
                </a:solidFill>
                <a:latin typeface="Times New Roman"/>
              </a:rPr>
              <a:t>DNA</a:t>
            </a: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, called a </a:t>
            </a:r>
            <a:r>
              <a:rPr b="1" i="1" lang="en-US" sz="2000" spc="-1" strike="noStrike">
                <a:solidFill>
                  <a:srgbClr val="2f2b20"/>
                </a:solidFill>
                <a:latin typeface="Times New Roman"/>
              </a:rPr>
              <a:t>gene</a:t>
            </a: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, is transcribed into </a:t>
            </a:r>
            <a:r>
              <a:rPr b="1" i="1" lang="en-US" sz="2000" spc="-1" strike="noStrike">
                <a:solidFill>
                  <a:srgbClr val="2f2b20"/>
                </a:solidFill>
                <a:latin typeface="Times New Roman"/>
              </a:rPr>
              <a:t>RNA</a:t>
            </a: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RNA is translated into </a:t>
            </a:r>
            <a:r>
              <a:rPr b="1" i="1" lang="en-US" sz="2000" spc="-1" strike="noStrike">
                <a:solidFill>
                  <a:srgbClr val="2f2b20"/>
                </a:solidFill>
                <a:latin typeface="Times New Roman"/>
              </a:rPr>
              <a:t>proteins</a:t>
            </a:r>
            <a:r>
              <a:rPr b="0" i="1" lang="en-US" sz="20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055760" y="4615200"/>
            <a:ext cx="3563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Human genome contains about 35,000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Nucleic acid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Required for the storage and expression of genetic inform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wo typ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NA (Deoxyribonucleic acid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RNA (Ribonucleic acid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Building blocks of nucleic acids are nuclueoside triphosphates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nucleotides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00" strike="noStrike">
                <a:solidFill>
                  <a:srgbClr val="675e47"/>
                </a:solidFill>
                <a:latin typeface="Times New Roman"/>
              </a:rPr>
              <a:t>Nucleotides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Nucleotides are composed of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23444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Nitrogenous ba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23444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Pentose sug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23444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Phosphate grou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3444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Nitrogenous bas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886040" indent="-51444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Purines: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nine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A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 and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uanine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G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886040" indent="-51444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Pyrimidines: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ytosine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,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ymine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 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7160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                            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nd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U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racil (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U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600" spc="-100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51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 startAt="2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Sugar: pentose with 5 carbon rin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783080" indent="-4572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AutoNum type="alphaLcParenR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Ribose (with –OH at C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783080" indent="-4572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AutoNum type="alphaLcParenR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oxyribos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3258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Cambria"/>
              <a:buAutoNum type="arabicPeriod" startAt="2"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Phosphate group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Content Placeholder 4" descr=""/>
          <p:cNvPicPr/>
          <p:nvPr/>
        </p:nvPicPr>
        <p:blipFill>
          <a:blip r:embed="rId1"/>
          <a:stretch/>
        </p:blipFill>
        <p:spPr>
          <a:xfrm>
            <a:off x="844200" y="2970720"/>
            <a:ext cx="7268400" cy="2483280"/>
          </a:xfrm>
          <a:prstGeom prst="rect">
            <a:avLst/>
          </a:prstGeom>
          <a:ln w="12700">
            <a:solidFill>
              <a:srgbClr val="2f2b2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rcRect l="1582" t="699" r="75688" b="72775"/>
          <a:stretch/>
        </p:blipFill>
        <p:spPr>
          <a:xfrm>
            <a:off x="4288680" y="2546640"/>
            <a:ext cx="4079160" cy="356112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43080" y="644040"/>
            <a:ext cx="3945240" cy="54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sugar carbo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numbers are primed (1’ 2’ 3’  etc.), while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the nitrogenous base atoms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are unprim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nitrogenous base is bonded to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2f2b2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f suga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PO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group is bonded to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2f2b2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</a:t>
            </a:r>
            <a:r>
              <a:rPr b="1" lang="en-US" sz="2200" spc="-1" strike="noStrike" baseline="-25000">
                <a:solidFill>
                  <a:srgbClr val="2f2b20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’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f suga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>
            <a:lum bright="-20000"/>
          </a:blip>
          <a:srcRect l="0" t="0" r="0" b="13835"/>
          <a:stretch/>
        </p:blipFill>
        <p:spPr>
          <a:xfrm>
            <a:off x="1499040" y="304920"/>
            <a:ext cx="57146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djacency.thmx</Template>
  <TotalTime>824</TotalTime>
  <Application>LibreOffice/7.4.7.2$Linux_X86_64 LibreOffice_project/40$Build-2</Application>
  <AppVersion>15.0000</AppVersion>
  <Words>892</Words>
  <Paragraphs>16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04:46:36Z</dcterms:created>
  <dc:creator>Ahmed</dc:creator>
  <dc:description/>
  <dc:language>en-US</dc:language>
  <cp:lastModifiedBy>sumbul fatma</cp:lastModifiedBy>
  <dcterms:modified xsi:type="dcterms:W3CDTF">2014-09-07T07:57:00Z</dcterms:modified>
  <cp:revision>160</cp:revision>
  <dc:subject/>
  <dc:title>Protein 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7</vt:r8>
  </property>
</Properties>
</file>