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tif" ContentType="image/tif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tif" ContentType="image/tif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F2C-92A6-47B5-8ED0-E8C53501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CB5-DC29-47A0-9861-8D683683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DFA-347A-400C-B88E-9842FE1C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59D-F60A-405E-8556-86D8558B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0D8C-3799-4D87-8D3D-EE4EDBEE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08A-527A-477F-A977-FA4E923B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2EFC-DFD1-40A7-9610-733188BB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A07-7186-4B2F-8CC6-EA571A9A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D9F-2DEA-4CAE-9A3C-91743F55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E43-9C83-451E-9EB7-2AE5A24C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0F92-2764-46F4-80DF-1A584446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D84-AA0E-47C1-9E28-3B68BED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80C9-20EA-4484-AEF0-52C8846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F60C-3B6F-4D48-B0CC-B42990ED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89E-417F-43FA-ABA4-879DB1F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DC4E-EB58-41E7-B578-10DFC26C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9564-E1C9-40DB-A593-15A67227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D95-53E7-44D8-8524-3BF661D7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9A6-8623-46DA-9F8B-872FBE08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D98-A586-47C3-A644-2CE0A107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5AD-34F5-46D8-B6F0-597EA04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B91-E1B1-4A03-917B-49320CA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274-F7B2-4A4B-AFF7-E65919E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3A0-136B-490C-8797-D86E94F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FD60BE8-D969-4AAF-AC24-13283CE234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703939-3B67-4A6B-BE07-7257D9A4D9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t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ulane.edu/~biochem/nolan/lectures/rna/bzcomp2.htm" TargetMode="External"/><Relationship Id="rId2" Type="http://schemas.openxmlformats.org/officeDocument/2006/relationships/hyperlink" Target="http://www.tulane.edu/~biochem/nolan/lectures/rna/bzcomp2.htm" TargetMode="External"/><Relationship Id="rId3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4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5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6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7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8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Molecular biology (1)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Function of nucleotid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olymers of nucleotides (as DNA or RNA) store and transfer genetic i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ree nucleotides and their derivatives perform various metabolic functions not related to genetic informa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Other nucleotides: FAD, NAD, Co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Chemical structure of DNA &amp; RNA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46649" b="0"/>
          <a:stretch/>
        </p:blipFill>
        <p:spPr>
          <a:xfrm>
            <a:off x="556920" y="1265400"/>
            <a:ext cx="3798360" cy="5327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3835800" y="1615320"/>
            <a:ext cx="4820400" cy="320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bridges the 3’ and 5’ positions of ribose su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nd sugar bonding is the backbone of DNA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linkage between the nucleotides is called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hosphodiester b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he double helix DNA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tructure of DNA was first determined by James Watson and Francis Crick in 1953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mmonly known as Watson-Crick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Features of Watson-Crick DNA structur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StarSymbo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polynucleotide chains wind around a common axis to form a double 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two strands are anti-parallel (run in opposite direction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strand is a right-handed 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itrogenous bases are in the center of the double helix and the sugar-phosphate chains are on the sid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tarSymbo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urface of the double helix contains 2 grooves: the major and minor groov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base is hydrogen bonded to a base in the opposite strand to form a base pair (A-T and G-C), known as complementary base pair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helix has 10 base pairs (bp) per tur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Watson-Crick base pair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Adenine (A)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     Thymine (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Guanine (G) 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     Cytosine (C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4102560" y="2228040"/>
            <a:ext cx="414360" cy="549000"/>
            <a:chOff x="4102560" y="2228040"/>
            <a:chExt cx="414360" cy="549000"/>
          </a:xfrm>
        </p:grpSpPr>
        <p:grpSp>
          <p:nvGrpSpPr>
            <p:cNvPr id="118" name="Group 10"/>
            <p:cNvGrpSpPr/>
            <p:nvPr/>
          </p:nvGrpSpPr>
          <p:grpSpPr>
            <a:xfrm>
              <a:off x="4102560" y="2666880"/>
              <a:ext cx="414360" cy="110160"/>
              <a:chOff x="4102560" y="2666880"/>
              <a:chExt cx="414360" cy="110160"/>
            </a:xfrm>
          </p:grpSpPr>
          <p:sp>
            <p:nvSpPr>
              <p:cNvPr id="119" name="Line 7"/>
              <p:cNvSpPr/>
              <p:nvPr/>
            </p:nvSpPr>
            <p:spPr>
              <a:xfrm>
                <a:off x="4102560" y="266688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4102560" y="272196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4102560" y="277668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22" name="Group 15"/>
            <p:cNvGrpSpPr/>
            <p:nvPr/>
          </p:nvGrpSpPr>
          <p:grpSpPr>
            <a:xfrm>
              <a:off x="4102560" y="2228040"/>
              <a:ext cx="414360" cy="55440"/>
              <a:chOff x="4102560" y="2228040"/>
              <a:chExt cx="414360" cy="55440"/>
            </a:xfrm>
          </p:grpSpPr>
          <p:sp>
            <p:nvSpPr>
              <p:cNvPr id="123" name="Line 12"/>
              <p:cNvSpPr/>
              <p:nvPr/>
            </p:nvSpPr>
            <p:spPr>
              <a:xfrm>
                <a:off x="4102560" y="222804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4102560" y="228312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125" name="TextBox 20"/>
          <p:cNvSpPr/>
          <p:nvPr/>
        </p:nvSpPr>
        <p:spPr>
          <a:xfrm>
            <a:off x="1758600" y="3391200"/>
            <a:ext cx="50608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RNA, Thymine is replaced by Uracil (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ypes of DNA structur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upload.wikimedia.org/wikipedia/commons/b/b1/A-DNA%2C_B-DNA_and_Z-DNA.png"/>
          <p:cNvPicPr/>
          <p:nvPr/>
        </p:nvPicPr>
        <p:blipFill>
          <a:blip r:embed="rId1"/>
          <a:stretch/>
        </p:blipFill>
        <p:spPr>
          <a:xfrm>
            <a:off x="2698560" y="3861000"/>
            <a:ext cx="5033880" cy="291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8" name="Table 8"/>
          <p:cNvGraphicFramePr/>
          <p:nvPr/>
        </p:nvGraphicFramePr>
        <p:xfrm>
          <a:off x="567000" y="1397160"/>
          <a:ext cx="7509600" cy="2465280"/>
        </p:xfrm>
        <a:graphic>
          <a:graphicData uri="http://schemas.openxmlformats.org/drawingml/2006/table">
            <a:tbl>
              <a:tblPr/>
              <a:tblGrid>
                <a:gridCol w="1877400"/>
                <a:gridCol w="1877400"/>
                <a:gridCol w="1877400"/>
                <a:gridCol w="1877400"/>
              </a:tblGrid>
              <a:tr h="26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A-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B-DNA</a:t>
                      </a:r>
                      <a:r>
                        <a:rPr b="1" lang="en-GB" sz="1400" spc="-1" strike="noStrike" baseline="30000">
                          <a:solidFill>
                            <a:srgbClr val="ff6600"/>
                          </a:solidFill>
                          <a:latin typeface="Times New Roman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Z-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Righ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Righ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Lef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Helix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Elong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ore elong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ajor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eep and 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W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ot real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inor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W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55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Placement of 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isplaced away from the helical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entred over the helical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Zig-zag pattern (nearly perpendicular to the helical ax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bp per t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367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onformation of deoxyrib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G (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) ; C (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9"/>
          <p:cNvSpPr/>
          <p:nvPr/>
        </p:nvSpPr>
        <p:spPr>
          <a:xfrm>
            <a:off x="477360" y="3920760"/>
            <a:ext cx="26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* Watson-Crick model (B-D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DNA supercoili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chromosomes of many bacteria and viruses contain circular DNA which is supercoil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9960" y="2854440"/>
            <a:ext cx="7886160" cy="22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Melting temperature (MT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9680" y="1600200"/>
            <a:ext cx="80550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temperature at which the double-stranded DNA is separated into two single stra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T of DNA depends on nitrogenous base content (A-T and G-C). G-C has 3 hydrogen bon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stronger than A-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539800" y="3715200"/>
            <a:ext cx="3302640" cy="29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RNA (Types and function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RNA is a single-stranded polymer of ribonucleotid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ypes of RN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mRNA (messenger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Transcription process (from DNA to mRNA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tRNA (transfer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Recognition and transferring. It recognizes amino acids’ codons and transfers the selected amino acids to the growing protein cha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rRNA (ribosomal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Site of protein synthesis (factory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Learning outcom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learn the central dogma of molecular biolog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have an understanding of the composition, types and structure of DNA and R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have an idea about the organization of DNA in the chromosome and the role of histone protein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79920" y="5867280"/>
            <a:ext cx="8743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Structure of a tR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290320" y="228600"/>
            <a:ext cx="383040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How DNA is organized in a chromosome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human genome contains 3.5 billion base pairs and more than 95% is non-coding or “junk” D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DNA from single 23 human chromosomes have a length of 1 met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ow such large quantities of DNA are packed into a single cell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chromosome is a complex of a single linear DNA molecule and protein calle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hromati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50% of chromatin consists of proteins calle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istone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Histon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ive major types of histon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1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2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2B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3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4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istones have positively charged amino acids (arginine and lysine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proteins bind to negatively charged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groups of DNA to stabilize the chromatin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osom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ucleosomes are particles consisting of DNA and histones connected by thin strands of naked DNA (like beads on a string; Sibhah in Arabic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ucleosomes consist of the histone octamer (eight) and D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ctr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2A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2B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3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4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40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1 binds to 2 complete helical turns of D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8680" y="540396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Electron micrograph of chromatin showing nucleosom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537200" y="911520"/>
            <a:ext cx="5893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9160" y="5638680"/>
            <a:ext cx="6416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A nucleosome showing interaction of histones with the D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382040" y="878400"/>
            <a:ext cx="5588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NA regulation.tiff"/>
          <p:cNvPicPr/>
          <p:nvPr/>
        </p:nvPicPr>
        <p:blipFill>
          <a:blip r:embed="rId1"/>
          <a:stretch/>
        </p:blipFill>
        <p:spPr>
          <a:xfrm>
            <a:off x="175680" y="787320"/>
            <a:ext cx="8127000" cy="467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263960" y="5849640"/>
            <a:ext cx="6706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hromatin filament with nucleosomes and naked D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iochemistry by Voet and Voet 3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r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360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800" spc="-1" strike="noStrike" u="sng">
                <a:solidFill>
                  <a:srgbClr val="d25814"/>
                </a:solidFill>
                <a:uFillTx/>
                <a:latin typeface="Times New Roman"/>
                <a:hlinkClick r:id="rId1"/>
              </a:rPr>
              <a:t>http://www.tulane.edu/~biochem/nolan/lectures/rna/bzcomp2.</a:t>
            </a:r>
            <a:r>
              <a:rPr b="0" lang="en-US" sz="1800" spc="-1" strike="noStrike" u="sng">
                <a:solidFill>
                  <a:srgbClr val="d25814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20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3"/>
              </a:rPr>
              <a:t>http://biowiki.ucdavis.edu/Genetics/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4"/>
              </a:rPr>
              <a:t>Unit_I%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5"/>
              </a:rPr>
              <a:t>3A_Genes,_Nucleic_Acids,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6"/>
              </a:rPr>
              <a:t>_Genomes_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571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7"/>
              </a:rPr>
              <a:t>and_Chromosomes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8"/>
              </a:rPr>
              <a:t>/Chapter_2._Structures_of_nucleic_acids/B-Form,_A-Form,_Z-Form_of_DN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he central dogma of Molecular Bi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2" descr="Central Dogma.tiff"/>
          <p:cNvPicPr/>
          <p:nvPr/>
        </p:nvPicPr>
        <p:blipFill>
          <a:blip r:embed="rId1"/>
          <a:stretch/>
        </p:blipFill>
        <p:spPr>
          <a:xfrm>
            <a:off x="1125360" y="1392840"/>
            <a:ext cx="2560320" cy="5075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4055760" y="2334960"/>
            <a:ext cx="3563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A portion of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DNA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, called a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gene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, is transcribed into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RNA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RNA is translated into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proteins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055760" y="4615200"/>
            <a:ext cx="356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Human genome contains about 35,000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ic acid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equired for the storage and expression of genetic i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wo typ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NA (Deoxyribonucleic acid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NA (Ribonucleic acid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uilding blocks of nucleic acids are nuclueoside triphosphates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ucleotide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otid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ucleotides are composed of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itrogenous b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entose sug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hosphate grou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itrogenous b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886040" indent="-51444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urines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uan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886040" indent="-51444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yrimidines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ytos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,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ym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716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acil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600" spc="-100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51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 startAt="2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Sugar: pentose with 5 carbon r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783080" indent="-4572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AutoNum type="alphaLcParenR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ibose (with –OH at C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783080" indent="-4572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AutoNum type="alphaLcParenR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oxyribos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 startAt="2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hosphate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Content Placeholder 4" descr=""/>
          <p:cNvPicPr/>
          <p:nvPr/>
        </p:nvPicPr>
        <p:blipFill>
          <a:blip r:embed="rId1"/>
          <a:stretch/>
        </p:blipFill>
        <p:spPr>
          <a:xfrm>
            <a:off x="844200" y="2970720"/>
            <a:ext cx="7268400" cy="2483280"/>
          </a:xfrm>
          <a:prstGeom prst="rect">
            <a:avLst/>
          </a:prstGeom>
          <a:ln w="12700">
            <a:solidFill>
              <a:srgbClr val="2f2b2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1582" t="699" r="75688" b="72775"/>
          <a:stretch/>
        </p:blipFill>
        <p:spPr>
          <a:xfrm>
            <a:off x="4288680" y="2546640"/>
            <a:ext cx="4079160" cy="356112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3080" y="644040"/>
            <a:ext cx="3945240" cy="54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sugar carb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numbers are primed (1’ 2’ 3’  etc.), while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he nitrogenous base atom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re unprim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itrogenous base is bonded to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f suga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group is bonded to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f suga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>
            <a:lum bright="-20000"/>
          </a:blip>
          <a:srcRect l="0" t="0" r="0" b="13835"/>
          <a:stretch/>
        </p:blipFill>
        <p:spPr>
          <a:xfrm>
            <a:off x="1499040" y="304920"/>
            <a:ext cx="5714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824</TotalTime>
  <Application>LibreOffice/7.4.7.2$Linux_X86_64 LibreOffice_project/40$Build-2</Application>
  <AppVersion>15.0000</AppVersion>
  <Words>892</Words>
  <Paragraphs>1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4:46:36Z</dcterms:created>
  <dc:creator>Ahmed</dc:creator>
  <dc:description/>
  <dc:language>en-US</dc:language>
  <cp:lastModifiedBy>sumbul fatma</cp:lastModifiedBy>
  <dcterms:modified xsi:type="dcterms:W3CDTF">2014-09-07T07:57:00Z</dcterms:modified>
  <cp:revision>160</cp:revision>
  <dc:subject/>
  <dc:title>Protein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