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D8E-EE89-4373-BCE5-31DE5DC1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F7B-56C8-43DB-A375-ED55B288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03C-AF41-4B32-BE1B-116469D7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5C0-B82C-4900-8CA2-22B4063B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413D-9C2F-4EAF-B9ED-0A0B9883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F52D-C83D-4E6B-9621-A453F44B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60CE-D0AF-4EF1-9BA9-B3E0CE3E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EBD0-C2D7-4FE1-BFA0-DE0C70BA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0092-402D-4B7B-93D6-A0C72757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C112-D359-4640-9064-C2658B53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C082-681E-4C38-A0F3-A4E6BC0F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670-5ADE-4C93-B205-130D404E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B876-EE9D-45FA-9AD6-4C7A9182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8E37-FDC9-467E-9A6A-30FBEA50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E27E-5D17-4D9F-9EFF-DFD7B10B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258E-3B85-4D7B-9868-C2F7BBB9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0D9F-9E1A-45EE-9B0B-2A250048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BCD11-0088-4063-A03C-01105FD9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9DC05-40E1-48C0-94E0-A2D95D12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9826B-3BF8-4276-890F-57437440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37E1D-50C7-4BFF-8EE5-7F983FDC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D3927-8D26-40A6-BC89-9B43F386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9DE-4A7A-4BA0-A552-D375A966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47AA6-4E4A-40DA-B848-9FB396DB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F5F6C-F434-4990-B3DA-D92BC9A0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98B14-C4AB-4BEB-849F-A9746CF7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8E008-6F3D-46C1-B0A3-859CFAED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2C888-99E9-413D-8FC1-9CD0D8EA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9611F-8978-476B-B564-6BDCF843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EAA2C-BB48-40C8-9740-4F0DCAE6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21FC4-B31A-4C2C-BD8D-D91D6DF1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DC3962-FDDB-48CA-B752-FDA8E146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56E47-3955-42AB-9C20-3AAB7AB8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2AB-9E65-4342-9705-A3530A96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11CC1-CE45-4D17-A456-5A4DC5C2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500E7-4389-4ADF-B4FD-320E2140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4200C-BA02-45FD-B7DD-D742BFB0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D6A82-B9AD-48B8-8AF5-D8875A96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85A225-7931-49CE-B553-31878CD6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2CFB8-E6A3-49C8-AFB4-A8C66CA2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C990E0-FBCD-4374-B78E-663F6BF0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280FC-86AA-45B9-9079-EA0C2116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99020-C8BC-4307-A472-525CD324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7743D-7D47-499E-9BF3-1B49AD17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EF8-1778-47D8-8BA0-80586D84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17651-09D5-42D5-9A7C-592F975F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CD316-2ED8-4BD8-A5EB-AC018461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ABA5F-BD73-4550-AD57-999F87B3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6F744-5BFC-45F8-8954-B835A577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B68EA-179E-45A3-BB61-635F5715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03340-DF11-4902-BAA4-25CCE1DB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C050C-B216-485F-8B39-0EDD5DC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545B8-17D8-4CD3-BB22-E66CAF2C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9CC8A-699F-44A4-9089-BFC7C5A4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196F0-D385-45A8-BF8B-136DB291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593-9258-44CB-BCB4-02D23BC4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B70CE-1F92-4990-8CED-E695CC09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A3B4B-EB55-43DB-8AF1-B5447626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F31CB-B7C3-4FBD-ADE1-1FE326C5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5E608-D35E-4051-A397-44454109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5A68-169A-44C1-9E66-13A89D7C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0A53B-18E1-400F-8258-D5E7D130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FA015-C921-4520-8A45-E411C74E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B4FB1-C97E-4345-8077-2E12ACA8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721A5-5E66-4505-9BBE-2D877AB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F41EE-5D26-490A-97C1-AFAF2F6C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1D8-3283-4278-AA83-FE397897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52312-2857-4222-834A-02F38A1B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4BE51-C764-4CDE-8517-90E9C424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C9D09-EEB8-4698-BC23-5B612A72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8BF85-697A-4E8F-8A74-4F4F61BC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03DF0-7112-4A52-B449-EE435816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B56BD-2B1D-45E0-AC0C-9A0601A3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59462-95C6-42A5-870A-5434A243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35214-E24C-4FA2-8A86-3861DFCF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8E12AD-F2D2-4B43-B144-A8E5F092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D37B9-D10D-4079-A413-488E8089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586-3832-4D87-A28C-C8DB8A43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180C7-A20A-45E1-89F1-7CE000F1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FEBA4-A468-4DEC-B8A0-248CB968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203D5-AA16-4C16-90FD-D6E09C28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2DE55-97DC-4683-9038-BA959513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D7D8D-2183-4B78-A0CB-F256FEBF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56190-F28E-4191-8B1D-3C3638A9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4C2BE-33DF-446C-80F1-8C6BDD44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9C13C-9646-4881-86E9-7D1D99B6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4CF9E-818C-4D73-8179-1971BA91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0A87C-4B7D-43AA-B672-51BD9D14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278-238A-4724-AE72-29B5C5E5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1BF04-FE22-4551-89DF-60DD2045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31B40-D5EF-47C1-B0C5-70D03B2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70F34-FB5D-41A2-8272-FB6ED767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3F28C-E408-46DC-A429-BE9108F2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598CB-1E07-4DD9-ACB9-4FF7E149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86A49-ADAF-43E0-B483-357F6186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224B1-BDB6-49EF-A3C1-CAE51909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142C-3E7D-4831-A88E-408CCBA049C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367A-04D1-4BE2-A250-4D63015A712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B09C-A391-47E2-AA83-BE8D0DB6B79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0226-8876-443D-B64E-AB84D183849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20DB-1703-4209-A4DD-A6CBAF93730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C488-A0E9-4375-83CB-963EB0D9877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8208-6D23-4B68-9F4A-D6CF33CA7493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5567-7C2C-44AC-B8E3-7ECAC64AA3B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696080" cy="220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ebddc3"/>
                </a:solidFill>
                <a:latin typeface="Tw Cen MT"/>
                <a:ea typeface="Arial"/>
              </a:rPr>
              <a:t>CARBOHYDRATES: STRUCTURE AND FUNCTION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3978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Dr. Sumbul Fatma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pi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880" y="158904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 dimers that differ in configuration around only one specific carbon ato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002060"/>
                </a:solidFill>
                <a:latin typeface="Tw Cen MT"/>
              </a:rPr>
              <a:t>Glucose and galactose, C4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Glucose and Mannose, C2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Galactose and mannose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are not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00600" y="57240"/>
            <a:ext cx="41148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7632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ructures that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mirror images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f each other and are designated as D- and L- sugars based on the position of –OH grp on th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asymmetric carbon farthest from the carbonyl carb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jority of sugars in humans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-suga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nantiomers (D- and L-For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9" name="Picture 2" descr="C:\Documents and Settings\Dr.Chisti\Desktop\OLD Computer\Biochemistry\lippincot Pic\c07\07_005.jpg"/>
          <p:cNvPicPr/>
          <p:nvPr/>
        </p:nvPicPr>
        <p:blipFill>
          <a:blip r:embed="rId1"/>
          <a:srcRect l="19644" t="1787" r="9822" b="41070"/>
          <a:stretch/>
        </p:blipFill>
        <p:spPr>
          <a:xfrm>
            <a:off x="4114800" y="1676520"/>
            <a:ext cx="477828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α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 and </a:t>
            </a: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β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For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Object 11" descr=""/>
          <p:cNvPicPr/>
          <p:nvPr/>
        </p:nvPicPr>
        <p:blipFill>
          <a:blip r:embed="rId1"/>
          <a:stretch/>
        </p:blipFill>
        <p:spPr>
          <a:xfrm>
            <a:off x="5562720" y="4422600"/>
            <a:ext cx="3555720" cy="220680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18" descr=""/>
          <p:cNvPicPr/>
          <p:nvPr/>
        </p:nvPicPr>
        <p:blipFill>
          <a:blip r:embed="rId2"/>
          <a:stretch/>
        </p:blipFill>
        <p:spPr>
          <a:xfrm>
            <a:off x="5694480" y="1219320"/>
            <a:ext cx="3144600" cy="3087720"/>
          </a:xfrm>
          <a:prstGeom prst="rect">
            <a:avLst/>
          </a:prstGeom>
          <a:ln w="0">
            <a:noFill/>
          </a:ln>
        </p:spPr>
      </p:pic>
      <p:sp>
        <p:nvSpPr>
          <p:cNvPr id="383" name="TextBox 7"/>
          <p:cNvSpPr/>
          <p:nvPr/>
        </p:nvSpPr>
        <p:spPr>
          <a:xfrm>
            <a:off x="304920" y="1847880"/>
            <a:ext cx="53337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Cyclization of Monosaccharides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nosaccharides with 5 or more carbon are predominantly found in the r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aldehyde or ketone grp react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th the –OH grp on the sam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yclization creates an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omeric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arbo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former carbonyl carbon) generating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utarot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9120" y="1665000"/>
            <a:ext cx="800100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In solution,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cyclic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omers of a sugar are in equilibrium with each other, and can be interconverted spontaneous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TextBox 9"/>
          <p:cNvSpPr/>
          <p:nvPr/>
        </p:nvSpPr>
        <p:spPr>
          <a:xfrm>
            <a:off x="1177920" y="59436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47520" y="3111480"/>
            <a:ext cx="9052200" cy="3581280"/>
          </a:xfrm>
          <a:prstGeom prst="rect">
            <a:avLst/>
          </a:prstGeom>
          <a:ln w="0">
            <a:noFill/>
          </a:ln>
        </p:spPr>
      </p:pic>
      <p:sp>
        <p:nvSpPr>
          <p:cNvPr id="388" name="TextBox 11"/>
          <p:cNvSpPr/>
          <p:nvPr/>
        </p:nvSpPr>
        <p:spPr>
          <a:xfrm>
            <a:off x="5627520" y="625968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Haworth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1007280" y="62658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ugar Iso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120" y="1969560"/>
            <a:ext cx="80010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-ket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 and L-Form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d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no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Joining of 2 monosaccharide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by O-glycosidic bo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Mal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 4)= glucose +  glucos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Sucr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2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 fru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Lac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4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gala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w Cen MT"/>
              </a:rPr>
              <a:t>Lactos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6" name="Picture 5" descr="C:\Documents and Settings\Dr.Chisti\Desktop\OLD Computer\Biochemistry\lippincot Pic\c07\07_003.jpg"/>
          <p:cNvPicPr/>
          <p:nvPr/>
        </p:nvPicPr>
        <p:blipFill>
          <a:blip r:embed="rId1"/>
          <a:srcRect l="4674" t="3508" r="4452" b="33335"/>
          <a:stretch/>
        </p:blipFill>
        <p:spPr>
          <a:xfrm>
            <a:off x="1096920" y="2286000"/>
            <a:ext cx="7010280" cy="41371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73000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oly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76520"/>
            <a:ext cx="837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om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Branched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Glycogen and starch (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Unbranched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ellulose (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eter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.g., glycosaminoglycans (GAGs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the O on the anomeric C of a sugar is not attached to any other structure 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(Free)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at sugar can act as a reducing ag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ducing sugars reduce chromogenic agents like Benedict’s reagent or Fehling’s solution to give a colored precipit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ine is tested for the presence of reducing sugars using these colorimetric t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onosaccharid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altose and Lacto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Sucrose is non-reducing, Why?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452360" y="9255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1523520"/>
            <a:ext cx="78487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carbohydrates of physiological significan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role of carbohydrates in providing and storing of energy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glycosaminoglycan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mplex Carbohydra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arbohydrates attached to non-carbohydrate structures by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glycosidic bonds (O- or N-type)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e.g.,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urine and pyrimidine bases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 nucleic ac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ilirubi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rotein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in glycoproteins and proteoglyc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Lipid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found in glycolip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idic Bon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8" name="Picture 2" descr="C:\Documents and Settings\Dr.Chisti\Desktop\OLD Computer\Biochemistry\lippincot Pic\c07\07_007.jpg"/>
          <p:cNvPicPr/>
          <p:nvPr/>
        </p:nvPicPr>
        <p:blipFill>
          <a:blip r:embed="rId1"/>
          <a:srcRect l="16185" t="3069" r="16598" b="15076"/>
          <a:stretch/>
        </p:blipFill>
        <p:spPr>
          <a:xfrm>
            <a:off x="3429000" y="1523880"/>
            <a:ext cx="4952880" cy="5334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560" y="2666880"/>
            <a:ext cx="38862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N-Glycosidic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220320" y="4876920"/>
            <a:ext cx="32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O-Glycosid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lycosaminoglycans (GAGs) are large complexes of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gatively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arged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tero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olysaccharide chain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re associated with a small amount of protein, forming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proteoglycan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, which consist of over 95 percent carbohydr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ind with large amounts of water, producing the gel-like matrix that forms body's ground substance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viscous, lubricating properties of mucous secretions also result from GAGs, which led to the original naming of these compounds as </a:t>
            </a:r>
            <a:r>
              <a:rPr b="0" lang="en-US" sz="2700" spc="-1" strike="noStrike">
                <a:solidFill>
                  <a:srgbClr val="002060"/>
                </a:solidFill>
                <a:latin typeface="Tw Cen MT"/>
              </a:rPr>
              <a:t>mucopolysaccharid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476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5960" y="1447560"/>
            <a:ext cx="5638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 </a:t>
            </a: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GAGs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re linear polymers of </a:t>
            </a:r>
            <a:r>
              <a:rPr b="1" lang="en-US" sz="2300" spc="-1" strike="noStrike">
                <a:solidFill>
                  <a:srgbClr val="000099"/>
                </a:solidFill>
                <a:latin typeface="Tw Cen MT"/>
              </a:rPr>
              <a:t>repeating disaccharide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nit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c00000"/>
                </a:solidFill>
                <a:latin typeface="Tw Cen MT"/>
              </a:rPr>
              <a:t>[acidic sugar-amino sugar]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mino sugar (usually sulfated)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osamine or D-galactosamin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cidic sugar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uronic acid or L-iduronic ac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Gs are strongly negatively-charged: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carboxyl groups of acidic sugar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Sulfate group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4" descr="14_001"/>
          <p:cNvPicPr/>
          <p:nvPr/>
        </p:nvPicPr>
        <p:blipFill>
          <a:blip r:embed="rId1"/>
          <a:srcRect l="12502" t="3261" r="16405" b="21843"/>
          <a:stretch/>
        </p:blipFill>
        <p:spPr>
          <a:xfrm>
            <a:off x="5486400" y="1847880"/>
            <a:ext cx="361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silience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52280" y="1512360"/>
            <a:ext cx="65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Tw Cen MT"/>
              </a:rPr>
              <a:t>Relationship between glycosaminoglycan structure and function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Because of negative charges, the GAG chains tend to be extended in solution and repel each other and when brought together, they "slip" past each other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duces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"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slippery" consistency of mucous secretions and synovial fluid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When a solution of GAGs is compressed, the water is "squeezed out" and the GAGs are forced to occupy a smaller volume. When the compression is released, the GAGs spring back to their original, hydrated volume because of the repulsion of their negative charg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perty contributes to 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resilience of synovial fluid and the vitreous humor of the ey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2" descr="E:\c14\14_003.jpg"/>
          <p:cNvPicPr/>
          <p:nvPr/>
        </p:nvPicPr>
        <p:blipFill>
          <a:blip r:embed="rId1"/>
          <a:srcRect l="29687" t="3069" r="39848" b="12068"/>
          <a:stretch/>
        </p:blipFill>
        <p:spPr>
          <a:xfrm>
            <a:off x="6705720" y="214200"/>
            <a:ext cx="22860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52280" y="1588680"/>
            <a:ext cx="87631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xamples of GAGs ar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096920" indent="-5090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ndroitin sulfates: Most abundant GA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096920" indent="-5090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Keratan sulfates: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heterogeneous GAG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096920" indent="-5090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yaluronic acid: Compared to other GAGs, it is unsulfated and not covalently attached to protei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096920" indent="-5090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parin: Unlike other GAGs,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Unlike other GAGs that are extracellular, heparin is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intracellular and serves as an anticoagulan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embers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ake home Mess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carbohyd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o-, Di-, and Poly-saccharid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gar Isomers: Aldo-keto, epimers, D- and L-,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nd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anom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lex carbohydrat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.g., Glycosaminoglycans and proteoglyca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GAG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mples of GAGs: chondroitin sulfate, keratin sulfate, hyaluronic acid and hepar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ere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ppincott’s Illustrated reviews- Biochemistry, 4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Edi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722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abundant organic molecules in natu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piric formula is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n,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hydrates of carbon”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important part of energy in die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as the storage form of energy in the bod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tructural component of cell membran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520" y="17226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y diseases associated with disorders of carbohydrate metabolism including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betes mellitu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alactosemia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ycogen storage diseas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ctose intoleranc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7110000" y="838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LASSIFIC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2027160"/>
            <a:ext cx="86868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Mon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Simple sugar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Di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2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Olig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3-10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Poly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more than 10 sugar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24520" indent="-223560"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Homopolysaccharides &amp; heteropolysaccharid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1920" y="158904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Further classified based 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1. No. of carbon ato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2. Functional sugar group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Aldehyde group –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ald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Keto group –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ket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1" descr="C:\Documents and Settings\Dr.Chisti\Desktop\OLD Computer\Biochemistry\lippincot Pic\c07\07_001.jpg"/>
          <p:cNvPicPr/>
          <p:nvPr/>
        </p:nvPicPr>
        <p:blipFill>
          <a:blip r:embed="rId1"/>
          <a:srcRect l="4514" t="3705" r="6596" b="29630"/>
          <a:stretch/>
        </p:blipFill>
        <p:spPr>
          <a:xfrm>
            <a:off x="4114800" y="2057400"/>
            <a:ext cx="4876920" cy="18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Dr.Chisti\Desktop\OLD Computer\Biochemistry\lippincot Pic\c07\07_002.jpg"/>
          <p:cNvPicPr/>
          <p:nvPr/>
        </p:nvPicPr>
        <p:blipFill>
          <a:blip r:embed="rId2"/>
          <a:srcRect l="6520" t="0" r="6520" b="22250"/>
          <a:stretch/>
        </p:blipFill>
        <p:spPr>
          <a:xfrm>
            <a:off x="4356000" y="4267080"/>
            <a:ext cx="4330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51000" y="2286000"/>
          <a:ext cx="8458200" cy="3122640"/>
        </p:xfrm>
        <a:graphic>
          <a:graphicData uri="http://schemas.openxmlformats.org/drawingml/2006/table">
            <a:tbl>
              <a:tblPr/>
              <a:tblGrid>
                <a:gridCol w="1752480"/>
                <a:gridCol w="3352680"/>
                <a:gridCol w="3353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Tw Cen MT"/>
                        </a:rPr>
                        <a:t>Ald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Ket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i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yceraldehy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hydroxyacet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n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ul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ex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uc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ruc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67" name="Rectangle 9"/>
          <p:cNvSpPr/>
          <p:nvPr/>
        </p:nvSpPr>
        <p:spPr>
          <a:xfrm>
            <a:off x="75286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2895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somer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33160" y="15238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some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ompounds having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same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chemical formula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ut different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structural formul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76920" y="217440"/>
            <a:ext cx="40384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ldo-Keto Isom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04560" y="182880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Glucose (Aldose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Fructose (Ketose)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3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495680" y="87480"/>
            <a:ext cx="4419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Fatma</cp:lastModifiedBy>
  <dcterms:modified xsi:type="dcterms:W3CDTF">2011-09-28T06:07:58Z</dcterms:modified>
  <cp:revision>82</cp:revision>
  <dc:subject/>
  <dc:title>Carbohydrates structure and FunCTION</dc:title>
</cp:coreProperties>
</file>