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11.jpeg" ContentType="image/jpeg"/>
  <Override PartName="/ppt/media/image8.wmf" ContentType="image/x-wmf"/>
  <Override PartName="/ppt/media/image9.png" ContentType="image/pn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D8B2-6BD8-48C6-98B4-9501D3502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96D3-DE81-4268-89D1-95680A15E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D3B9-3981-462A-828F-B6243AA10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0F9C-47E5-48C9-8042-D6735889A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B984A-A5DE-4F3C-A62F-8D02DB2EC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2F65F-E641-4CCC-A6F7-82A56682D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7F9A3-7418-4E7C-8AB7-153DD0268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3D7E9-FE74-4C04-82D6-A5B697CFF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76090-663B-464D-967E-D64216FD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E52E3-3889-4785-921E-D8B029F17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D3B0E-E515-433C-97A5-085B342C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859C-C751-4F28-8B34-261F0492E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E46A7-36C1-4939-8FB7-940BF082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E3BF9-BACD-4CBD-A0B0-F7F89731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7A394-EC66-44CC-B9A9-8898A2E67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F8179-A1B6-461A-BE46-00A7C42BC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7C238-695F-4D39-A6A2-EA670C687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4EB52C-0F93-4E03-BDFB-EBFB419A6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BC226F-AECA-4399-9491-6AA5AE9AC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AE5918-5EE0-4108-914C-97DF61A83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7323BD-0DFA-45B4-B512-846D58E56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736514-91E2-4D32-AC06-F73E388B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B502-1339-4C14-A4F3-0A0554C67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C2CC5F-4265-4776-8470-CA7967E07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607BFB-E095-4F75-A1BA-0DF29688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7D6DBC-82E9-4C0B-983C-9B3F6922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2C75ED-64D9-42E9-8EC0-19A73B82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D3B2EF-D3DD-40AB-8596-AEE90E23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ECF90E-5A77-45A9-AEDF-0DF7E18D7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E8EE89-880A-4CED-B618-6728DC055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EA1F3E-BC25-4F53-AB12-4C921CF95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28AB27-FEDA-4392-8F53-A99227E3B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5A1017-79C4-415A-B9B0-9918A0A75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1683-8B17-48D9-A4AB-808B608C4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90D1C2-A581-45D6-A293-17903CA29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7347DE-71D8-4A93-A6E4-B289BCD69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495BB3-98EE-485D-8573-9D4E087C5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608BF6-62D2-425B-A367-3E730CEB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028FE4-235B-47ED-8FD9-0D308DEF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8C2E04-21CF-4CE4-96D2-7DE23F33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C7A02A-3755-4253-A31D-B7E72B53D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D7DA44-776A-4BAD-9486-727AD4F50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32952A-BA35-4ED3-8264-8459BD638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F62052-54F2-4381-9C59-B467FA8C0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E46D-C5D0-456C-8C24-3098E8264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42F359-4005-44AF-86F1-8E0C9A2FE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97A6B5-DA9B-4E11-9628-6EF9147F9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07F0B3-1874-4535-BB45-18C53266F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C29847-B516-4CA4-84A8-04757A5E1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0CB0F4-D4F9-461D-A0E8-321D1F3AA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F2E35D-9713-4C20-A6E7-0EE993AE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7E1A0A-5480-409A-B5A0-29D3109D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6354B9-766B-4C8F-881C-04D38130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635A45-46EB-4035-B6C9-07803D5A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30133C-610F-4382-8931-D2EC22039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0A6B-6C9F-426F-9F21-7B9EFD6D3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40AA24-0D18-4957-B1C0-D63E45142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F6256-ADC7-4351-A0FF-0FF541758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03E2D-9835-4616-979C-6D85AFFC2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F4C42F-341D-4DD5-B5CB-C0ACF35EA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11F8F-731F-4EC2-BA4D-6912A7812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98A3D-9F2B-444E-8BD7-C35687CD8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965B9-2890-4EFF-AF18-18F5C202C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1AC83-2A86-479A-A586-90D2A0EC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8A40D-239D-424D-8722-E020F403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8F843-DE9B-428F-BC58-BC97496D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B679-E015-4A03-BBAF-B488F5F1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1C171-E1AA-42AA-9126-E29B62F4C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AC6BF-4756-4F0E-A2E2-5D0B1427E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57AF4-6E2F-4DCC-8668-F8A1F7987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7C1822-69FB-411B-A64C-CA41E8EEC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F481EE-10BA-4138-B4AE-B01E6A459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AEFAC4-8144-4194-8277-8B7F757A7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605EC4-9A6E-4C8C-9DCE-90B3FA920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C5BF03-582C-402B-92A0-5692BB56F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385689-2AF5-45CF-A3AE-EA611FA00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F80E53-11C6-46B1-BDD1-1EA2F37F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3809-A89C-42B4-899D-6B893C41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6E2A09-A302-4C95-BE80-3FA7762C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84F487-DB71-4171-9B58-73568AFC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F22E38-5E2B-4522-8886-42D3BB98F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B7FA8F-D9EF-4DA6-A030-2850704E4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DB70CC-80DF-4711-B3B2-3FC0189D1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0CA0EE-8663-4A65-ADB6-705CDC1F3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C2807A-8444-432A-BF38-25B6FFFE6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33702B-04CE-4CF7-AC54-9CA2334F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340D3F-9E8B-4B7C-A645-A728DE0D7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54A444-98B4-4474-8ECC-7FBDA4CA8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3074-7E25-4CD8-A4CD-FFB856E5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FCACD2-B37B-40E0-BDA8-7878E0EEE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F6312-3D2E-4874-9D6F-8E9669BC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61FF68-36DA-427E-8BA6-FF9C5BD4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B75FB-1D2F-421F-8562-C1B7FBA3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B181CE-0950-4EE2-B105-CF83F910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AC5E03-BD24-41B5-83D6-E486F7800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5D770-164E-48DB-8E9B-B8C298D0F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25A78-8552-4673-92B9-D0DD6345BCA7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690B5-2904-4480-A46B-8DA1B726D69B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6807E-1AA6-463E-80D0-2F8DEAAC940A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B5B54-056A-4CD1-B128-A7833E08349F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801C9-807F-45CE-9A7A-BAF6CF46C631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A37AC-0E41-4142-A770-58A31153C7A2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A2E88-1C77-481C-B4EA-6AA0AE8DF3FA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3D6ED-6581-4114-914E-31666EFC120E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62120" y="1219320"/>
            <a:ext cx="7696080" cy="220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ebddc3"/>
                </a:solidFill>
                <a:latin typeface="Tw Cen MT"/>
                <a:ea typeface="Arial"/>
              </a:rPr>
              <a:t>CARBOHYDRATES: STRUCTURE AND FUNCTION</a:t>
            </a:r>
            <a:endParaRPr b="0" lang="en-US" sz="49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3978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erlin Sans FB"/>
              </a:rPr>
              <a:t>By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erlin Sans FB"/>
              </a:rPr>
              <a:t>Dr. Sumbul Fatma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2971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Epimer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80880" y="1589040"/>
            <a:ext cx="4572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Epimer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CHO dimers that differ in configuration around only one specific carbon atom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-</a:t>
            </a:r>
            <a:r>
              <a:rPr b="1" lang="en-US" sz="2700" spc="-1" strike="noStrike">
                <a:solidFill>
                  <a:srgbClr val="002060"/>
                </a:solidFill>
                <a:latin typeface="Tw Cen MT"/>
              </a:rPr>
              <a:t>Glucose and galactose, C4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-</a:t>
            </a:r>
            <a:r>
              <a:rPr b="1" lang="en-US" sz="2700" spc="-1" strike="noStrike">
                <a:solidFill>
                  <a:srgbClr val="c00000"/>
                </a:solidFill>
                <a:latin typeface="Tw Cen MT"/>
              </a:rPr>
              <a:t>Glucose and Mannose, C2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Galactose and mannose </a:t>
            </a:r>
            <a:r>
              <a:rPr b="1" lang="en-US" sz="2700" spc="-1" strike="noStrike">
                <a:solidFill>
                  <a:srgbClr val="c00000"/>
                </a:solidFill>
                <a:latin typeface="Tw Cen MT"/>
              </a:rPr>
              <a:t>are not 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epimers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6" name="Picture 2" descr="C:\Documents and Settings\Dr.Chisti\Desktop\OLD Computer\Biochemistry\lippincot Pic\c07\07_004.jpg"/>
          <p:cNvPicPr/>
          <p:nvPr/>
        </p:nvPicPr>
        <p:blipFill>
          <a:blip r:embed="rId1"/>
          <a:srcRect l="25532" t="2321" r="29015" b="11773"/>
          <a:stretch/>
        </p:blipFill>
        <p:spPr>
          <a:xfrm>
            <a:off x="4800600" y="57240"/>
            <a:ext cx="411480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76320" y="182880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Structures that are 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mirror images 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of each other and are designated as D- and L- sugars based on the position of –OH grp on the 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asymmetric carbon farthest from the carbonyl carbon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Majority of sugars in humans are 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D-sugar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Enantiomers (D- and L-Forms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9" name="Picture 2" descr="C:\Documents and Settings\Dr.Chisti\Desktop\OLD Computer\Biochemistry\lippincot Pic\c07\07_005.jpg"/>
          <p:cNvPicPr/>
          <p:nvPr/>
        </p:nvPicPr>
        <p:blipFill>
          <a:blip r:embed="rId1"/>
          <a:srcRect l="19644" t="1787" r="9822" b="41070"/>
          <a:stretch/>
        </p:blipFill>
        <p:spPr>
          <a:xfrm>
            <a:off x="4114800" y="1676520"/>
            <a:ext cx="4778280" cy="50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775f55"/>
                </a:solidFill>
                <a:latin typeface="Arial"/>
                <a:ea typeface="Arial"/>
              </a:rPr>
              <a:t>α</a:t>
            </a:r>
            <a:r>
              <a:rPr b="1" lang="en-US" sz="4400" spc="-1" strike="noStrike">
                <a:solidFill>
                  <a:srgbClr val="775f55"/>
                </a:solidFill>
                <a:latin typeface="Arial"/>
                <a:ea typeface="Arial"/>
              </a:rPr>
              <a:t>- and </a:t>
            </a:r>
            <a:r>
              <a:rPr b="1" lang="el-GR" sz="4400" spc="-1" strike="noStrike">
                <a:solidFill>
                  <a:srgbClr val="775f55"/>
                </a:solidFill>
                <a:latin typeface="Arial"/>
                <a:ea typeface="Arial"/>
              </a:rPr>
              <a:t>β</a:t>
            </a:r>
            <a:r>
              <a:rPr b="1" lang="en-US" sz="4400" spc="-1" strike="noStrike">
                <a:solidFill>
                  <a:srgbClr val="775f55"/>
                </a:solidFill>
                <a:latin typeface="Arial"/>
                <a:ea typeface="Arial"/>
              </a:rPr>
              <a:t>-Form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81" name="Object 11" descr=""/>
          <p:cNvPicPr/>
          <p:nvPr/>
        </p:nvPicPr>
        <p:blipFill>
          <a:blip r:embed="rId1"/>
          <a:stretch/>
        </p:blipFill>
        <p:spPr>
          <a:xfrm>
            <a:off x="5562720" y="4422600"/>
            <a:ext cx="3555720" cy="2206800"/>
          </a:xfrm>
          <a:prstGeom prst="rect">
            <a:avLst/>
          </a:prstGeom>
          <a:ln w="0">
            <a:noFill/>
          </a:ln>
        </p:spPr>
      </p:pic>
      <p:pic>
        <p:nvPicPr>
          <p:cNvPr id="382" name="Object 18" descr=""/>
          <p:cNvPicPr/>
          <p:nvPr/>
        </p:nvPicPr>
        <p:blipFill>
          <a:blip r:embed="rId2"/>
          <a:stretch/>
        </p:blipFill>
        <p:spPr>
          <a:xfrm>
            <a:off x="5694480" y="1219320"/>
            <a:ext cx="3144600" cy="3087720"/>
          </a:xfrm>
          <a:prstGeom prst="rect">
            <a:avLst/>
          </a:prstGeom>
          <a:ln w="0">
            <a:noFill/>
          </a:ln>
        </p:spPr>
      </p:pic>
      <p:sp>
        <p:nvSpPr>
          <p:cNvPr id="383" name="TextBox 7"/>
          <p:cNvSpPr/>
          <p:nvPr/>
        </p:nvSpPr>
        <p:spPr>
          <a:xfrm>
            <a:off x="304920" y="1847880"/>
            <a:ext cx="5333760" cy="63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Cyclization of Monosaccharides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Monosaccharides with 5 or more carbon are predominantly found in the ring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 aldehyde or ketone grp reacts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with the –OH grp on the same su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yclization creates an </a:t>
            </a: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anomeric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carbon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(former carbonyl carbon) generating the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figu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Mutarot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09120" y="1665000"/>
            <a:ext cx="8001000" cy="16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In solution,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the cyclic 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 anomers of a sugar are in equilibrium with each other, and can be interconverted spontaneousl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TextBox 9"/>
          <p:cNvSpPr/>
          <p:nvPr/>
        </p:nvSpPr>
        <p:spPr>
          <a:xfrm>
            <a:off x="1177920" y="5943600"/>
            <a:ext cx="22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Fischer Proj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2" descr=""/>
          <p:cNvPicPr/>
          <p:nvPr/>
        </p:nvPicPr>
        <p:blipFill>
          <a:blip r:embed="rId1"/>
          <a:stretch/>
        </p:blipFill>
        <p:spPr>
          <a:xfrm>
            <a:off x="47520" y="3111480"/>
            <a:ext cx="9052200" cy="3581280"/>
          </a:xfrm>
          <a:prstGeom prst="rect">
            <a:avLst/>
          </a:prstGeom>
          <a:ln w="0">
            <a:noFill/>
          </a:ln>
        </p:spPr>
      </p:pic>
      <p:sp>
        <p:nvSpPr>
          <p:cNvPr id="388" name="TextBox 11"/>
          <p:cNvSpPr/>
          <p:nvPr/>
        </p:nvSpPr>
        <p:spPr>
          <a:xfrm>
            <a:off x="5627520" y="6259680"/>
            <a:ext cx="241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w Cen MT"/>
              </a:rPr>
              <a:t>Haworth Proj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7"/>
          <p:cNvSpPr/>
          <p:nvPr/>
        </p:nvSpPr>
        <p:spPr>
          <a:xfrm>
            <a:off x="1007280" y="6265800"/>
            <a:ext cx="22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w Cen MT"/>
              </a:rPr>
              <a:t>Fischer Proj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Sugar Isomer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609120" y="1969560"/>
            <a:ext cx="8001000" cy="36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spcAft>
                <a:spcPts val="2401"/>
              </a:spcAft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do-keto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spcAft>
                <a:spcPts val="2401"/>
              </a:spcAft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imer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spcAft>
                <a:spcPts val="2401"/>
              </a:spcAft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- and L-Form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spcAft>
                <a:spcPts val="2401"/>
              </a:spcAft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nd 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nomer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Disaccharid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04920" y="18288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Joining of 2 monosaccharides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600" spc="-1" strike="noStrike">
                <a:solidFill>
                  <a:srgbClr val="c00000"/>
                </a:solidFill>
                <a:latin typeface="Tw Cen MT"/>
              </a:rPr>
              <a:t>by O-glycosidic bond: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300" spc="-1" strike="noStrike">
                <a:solidFill>
                  <a:srgbClr val="002060"/>
                </a:solidFill>
                <a:latin typeface="Tw Cen MT"/>
              </a:rPr>
              <a:t>Maltose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 (</a:t>
            </a:r>
            <a:r>
              <a:rPr b="1" lang="el-GR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1, 4)= glucose +  glucose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300" spc="-1" strike="noStrike">
                <a:solidFill>
                  <a:srgbClr val="002060"/>
                </a:solidFill>
                <a:latin typeface="Tw Cen MT"/>
              </a:rPr>
              <a:t>Sucrose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 (</a:t>
            </a:r>
            <a:r>
              <a:rPr b="1" lang="el-GR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1,2)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= glucose 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+  fructose 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300" spc="-1" strike="noStrike">
                <a:solidFill>
                  <a:srgbClr val="002060"/>
                </a:solidFill>
                <a:latin typeface="Tw Cen MT"/>
              </a:rPr>
              <a:t>Lactose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 (</a:t>
            </a:r>
            <a:r>
              <a:rPr b="1" lang="el-GR" sz="3300" spc="-1" strike="noStrike">
                <a:solidFill>
                  <a:srgbClr val="000000"/>
                </a:solidFill>
                <a:latin typeface="Verdana"/>
              </a:rPr>
              <a:t>β</a:t>
            </a: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1,4)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= glucose 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+ galactose 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Disaccharid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61272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w Cen MT"/>
              </a:rPr>
              <a:t>Lactose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6" name="Picture 5" descr="C:\Documents and Settings\Dr.Chisti\Desktop\OLD Computer\Biochemistry\lippincot Pic\c07\07_003.jpg"/>
          <p:cNvPicPr/>
          <p:nvPr/>
        </p:nvPicPr>
        <p:blipFill>
          <a:blip r:embed="rId1"/>
          <a:srcRect l="4674" t="3508" r="4452" b="33335"/>
          <a:stretch/>
        </p:blipFill>
        <p:spPr>
          <a:xfrm>
            <a:off x="1096920" y="2286000"/>
            <a:ext cx="7010280" cy="413712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6"/>
          <p:cNvSpPr/>
          <p:nvPr/>
        </p:nvSpPr>
        <p:spPr>
          <a:xfrm>
            <a:off x="7300080" y="91440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CONT’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Polysaccharid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6840" y="1676520"/>
            <a:ext cx="8379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w Cen MT"/>
              </a:rPr>
              <a:t>Homopolysaccharides: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600" spc="-1" strike="noStrike">
                <a:solidFill>
                  <a:srgbClr val="002060"/>
                </a:solidFill>
                <a:latin typeface="Tw Cen MT"/>
              </a:rPr>
              <a:t>Branched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Glycogen and starch (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-glycosidic polymer)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600" spc="-1" strike="noStrike">
                <a:solidFill>
                  <a:srgbClr val="002060"/>
                </a:solidFill>
                <a:latin typeface="Tw Cen MT"/>
              </a:rPr>
              <a:t>Unbranched: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Tw Cen MT"/>
              </a:rPr>
              <a:t>	</a:t>
            </a:r>
            <a:r>
              <a:rPr b="1" lang="en-US" sz="3600" spc="-1" strike="noStrike">
                <a:solidFill>
                  <a:srgbClr val="002060"/>
                </a:solidFill>
                <a:latin typeface="Tw Cen MT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Cellulose (</a:t>
            </a:r>
            <a:r>
              <a:rPr b="1" lang="el-GR" sz="3200" spc="-1" strike="noStrike">
                <a:solidFill>
                  <a:srgbClr val="000000"/>
                </a:solidFill>
                <a:latin typeface="Verdana"/>
              </a:rPr>
              <a:t>β</a:t>
            </a: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-glycosidic polymer)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w Cen MT"/>
              </a:rPr>
              <a:t>Heteropolysaccharides: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e.g., glycosaminoglycans (GAGs)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Reducing Sugar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1272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f the O on the anomeric C of a sugar is not attached to any other structure </a:t>
            </a:r>
            <a:r>
              <a:rPr b="1" lang="en-US" sz="2900" spc="-1" strike="noStrike">
                <a:solidFill>
                  <a:srgbClr val="c00000"/>
                </a:solidFill>
                <a:latin typeface="Tw Cen MT"/>
              </a:rPr>
              <a:t>(Free)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,</a:t>
            </a:r>
            <a:r>
              <a:rPr b="1" lang="en-US" sz="2900" spc="-1" strike="noStrike">
                <a:solidFill>
                  <a:srgbClr val="c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at sugar can act as a reducing agent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R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ducing sugars reduce chromogenic agents like Benedict’s reagent or Fehling’s solution to give a colored precipita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U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ine is tested for the presence of reducing sugars using these colorimetric tes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1" dur="5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Reducing Sugar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1272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Examples: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Monosaccharide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Maltose and Lactose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Sucrose is non-reducing, Why?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7452360" y="92556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CONT’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Objectiv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09480" y="1523520"/>
            <a:ext cx="784872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understand: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ructure of carbohydrates of physiological significance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ain role of carbohydrates in providing and storing of energy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ructure and function of glycosaminoglycans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mplex Carbohydrat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6840" y="18288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77200" indent="-2772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Carbohydrates attached to non-carbohydrate structures by </a:t>
            </a:r>
            <a:r>
              <a:rPr b="1" lang="en-US" sz="3200" spc="-1" strike="noStrike">
                <a:solidFill>
                  <a:srgbClr val="002060"/>
                </a:solidFill>
                <a:latin typeface="Tw Cen MT"/>
              </a:rPr>
              <a:t>glycosidic bonds (O- or N-type) </a:t>
            </a: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e.g.,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1. </a:t>
            </a:r>
            <a:r>
              <a:rPr b="1" lang="en-US" sz="3200" spc="-1" strike="noStrike">
                <a:solidFill>
                  <a:srgbClr val="c00000"/>
                </a:solidFill>
                <a:latin typeface="Tw Cen MT"/>
              </a:rPr>
              <a:t>Purine and pyrimidine bases </a:t>
            </a: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in nucleic acid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2. </a:t>
            </a:r>
            <a:r>
              <a:rPr b="1" lang="en-US" sz="3200" spc="-1" strike="noStrike">
                <a:solidFill>
                  <a:srgbClr val="c00000"/>
                </a:solidFill>
                <a:latin typeface="Tw Cen MT"/>
              </a:rPr>
              <a:t>Bilirubin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3. </a:t>
            </a:r>
            <a:r>
              <a:rPr b="1" lang="en-US" sz="3200" spc="-1" strike="noStrike">
                <a:solidFill>
                  <a:srgbClr val="c00000"/>
                </a:solidFill>
                <a:latin typeface="Tw Cen MT"/>
              </a:rPr>
              <a:t>Proteins</a:t>
            </a: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 in glycoproteins and proteoglycan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4. </a:t>
            </a:r>
            <a:r>
              <a:rPr b="1" lang="en-US" sz="3200" spc="-1" strike="noStrike">
                <a:solidFill>
                  <a:srgbClr val="c00000"/>
                </a:solidFill>
                <a:latin typeface="Tw Cen MT"/>
              </a:rPr>
              <a:t>Lipids</a:t>
            </a: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 found in glycolipid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Glycosidic Bond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08" name="Picture 2" descr="C:\Documents and Settings\Dr.Chisti\Desktop\OLD Computer\Biochemistry\lippincot Pic\c07\07_007.jpg"/>
          <p:cNvPicPr/>
          <p:nvPr/>
        </p:nvPicPr>
        <p:blipFill>
          <a:blip r:embed="rId1"/>
          <a:srcRect l="16185" t="3069" r="16598" b="15076"/>
          <a:stretch/>
        </p:blipFill>
        <p:spPr>
          <a:xfrm>
            <a:off x="3429000" y="1523880"/>
            <a:ext cx="4952880" cy="533412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304560" y="2666880"/>
            <a:ext cx="388620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N-Glycosidic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0" name="TextBox 6"/>
          <p:cNvSpPr/>
          <p:nvPr/>
        </p:nvSpPr>
        <p:spPr>
          <a:xfrm>
            <a:off x="220320" y="4876920"/>
            <a:ext cx="329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O-Glycosid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Glycosaminoglycans (GAGs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86920" indent="-2869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Glycosaminoglycans (GAGs) are large complexes of 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negatively</a:t>
            </a:r>
            <a:r>
              <a:rPr b="0" lang="en-US" sz="2700" spc="-1" strike="noStrike">
                <a:solidFill>
                  <a:srgbClr val="ff0000"/>
                </a:solidFill>
                <a:latin typeface="Tw Cen MT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charged 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hetero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polysaccharide chains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are associated with a small amount of protein, forming 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proteoglycans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, which consist of over 95 percent carbohydrat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bind with large amounts of water, producing the gel-like matrix that forms body's ground substance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The viscous, lubricating properties of mucous secretions also result from GAGs, which led to the original naming of these compounds as </a:t>
            </a:r>
            <a:r>
              <a:rPr b="0" lang="en-US" sz="2700" spc="-1" strike="noStrike">
                <a:solidFill>
                  <a:srgbClr val="002060"/>
                </a:solidFill>
                <a:latin typeface="Tw Cen MT"/>
              </a:rPr>
              <a:t>mucopolysaccharides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2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7" dur="5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2" dur="500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7" dur="500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120" y="24768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Glycosaminoglycans (GAGs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75960" y="1447560"/>
            <a:ext cx="56386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lnSpc>
                <a:spcPct val="95000"/>
              </a:lnSpc>
              <a:spcAft>
                <a:spcPts val="862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7b615"/>
                </a:solidFill>
                <a:latin typeface="Tw Cen MT"/>
              </a:rPr>
              <a:t> </a:t>
            </a:r>
            <a:r>
              <a:rPr b="1" lang="en-US" sz="2300" spc="-1" strike="noStrike">
                <a:solidFill>
                  <a:srgbClr val="f7b615"/>
                </a:solidFill>
                <a:latin typeface="Tw Cen MT"/>
              </a:rPr>
              <a:t>GAGs </a:t>
            </a: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are linear polymers of </a:t>
            </a:r>
            <a:r>
              <a:rPr b="1" lang="en-US" sz="2300" spc="-1" strike="noStrike">
                <a:solidFill>
                  <a:srgbClr val="000099"/>
                </a:solidFill>
                <a:latin typeface="Tw Cen MT"/>
              </a:rPr>
              <a:t>repeating disaccharide </a:t>
            </a: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units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95000"/>
              </a:lnSpc>
              <a:spcAft>
                <a:spcPts val="8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2300" spc="-1" strike="noStrike">
                <a:solidFill>
                  <a:srgbClr val="c00000"/>
                </a:solidFill>
                <a:latin typeface="Tw Cen MT"/>
              </a:rPr>
              <a:t>[acidic sugar-amino sugar]n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95000"/>
              </a:lnSpc>
              <a:spcAft>
                <a:spcPts val="8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95000"/>
              </a:lnSpc>
              <a:spcAft>
                <a:spcPts val="862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The amino sugar (usually sulfated) is either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95000"/>
              </a:lnSpc>
              <a:spcAft>
                <a:spcPts val="8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2300" spc="-1" strike="noStrike">
                <a:solidFill>
                  <a:srgbClr val="002060"/>
                </a:solidFill>
                <a:latin typeface="Tw Cen MT"/>
              </a:rPr>
              <a:t>D-glucosamine or D-galactosamin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95000"/>
              </a:lnSpc>
              <a:spcAft>
                <a:spcPts val="8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95000"/>
              </a:lnSpc>
              <a:spcAft>
                <a:spcPts val="862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The acidic sugar is either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95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2300" spc="-1" strike="noStrike">
                <a:solidFill>
                  <a:srgbClr val="002060"/>
                </a:solidFill>
                <a:latin typeface="Tw Cen MT"/>
              </a:rPr>
              <a:t>D-glucuronic acid or L-iduronic acid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95000"/>
              </a:lnSpc>
              <a:spcAft>
                <a:spcPts val="862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GAGs are strongly negatively-charged: </a:t>
            </a: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2300" spc="-1" strike="noStrike">
                <a:solidFill>
                  <a:srgbClr val="002060"/>
                </a:solidFill>
                <a:latin typeface="Tw Cen MT"/>
              </a:rPr>
              <a:t>carboxyl groups of acidic sugars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95000"/>
              </a:lnSpc>
              <a:spcAft>
                <a:spcPts val="8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2060"/>
                </a:solidFill>
                <a:latin typeface="Tw Cen MT"/>
              </a:rPr>
              <a:t>	</a:t>
            </a:r>
            <a:r>
              <a:rPr b="1" lang="en-US" sz="2300" spc="-1" strike="noStrike">
                <a:solidFill>
                  <a:srgbClr val="002060"/>
                </a:solidFill>
                <a:latin typeface="Tw Cen MT"/>
              </a:rPr>
              <a:t>Sulfate group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5" name="Picture 4" descr="14_001"/>
          <p:cNvPicPr/>
          <p:nvPr/>
        </p:nvPicPr>
        <p:blipFill>
          <a:blip r:embed="rId1"/>
          <a:srcRect l="12502" t="3261" r="16405" b="21843"/>
          <a:stretch/>
        </p:blipFill>
        <p:spPr>
          <a:xfrm>
            <a:off x="5486400" y="1847880"/>
            <a:ext cx="36115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Resilience of GAG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152280" y="1512360"/>
            <a:ext cx="655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00000"/>
                </a:solidFill>
                <a:latin typeface="Tw Cen MT"/>
              </a:rPr>
              <a:t>Relationship between glycosaminoglycan structure and function 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Because of negative charges, the GAG chains tend to be extended in solution and repel each other and when brought together, they "slip" past each other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This produces the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Tw Cen MT"/>
              </a:rPr>
              <a:t>"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Tw Cen MT"/>
              </a:rPr>
              <a:t>slippery" consistency of mucous secretions and synovial fluid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When a solution of GAGs is compressed, the water is "squeezed out" and the GAGs are forced to occupy a smaller volume. When the compression is released, the GAGs spring back to their original, hydrated volume because of the repulsion of their negative charges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This property contributes to the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Tw Cen MT"/>
              </a:rPr>
              <a:t>resilience of synovial fluid and the vitreous humor of the eye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8" name="Picture 2" descr="E:\c14\14_003.jpg"/>
          <p:cNvPicPr/>
          <p:nvPr/>
        </p:nvPicPr>
        <p:blipFill>
          <a:blip r:embed="rId1"/>
          <a:srcRect l="29687" t="3069" r="39848" b="12068"/>
          <a:stretch/>
        </p:blipFill>
        <p:spPr>
          <a:xfrm>
            <a:off x="6705720" y="214200"/>
            <a:ext cx="2286000" cy="649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152280" y="1588680"/>
            <a:ext cx="876312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Examples of GAGs are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509040" indent="-509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1096920" indent="-509040">
              <a:lnSpc>
                <a:spcPct val="80000"/>
              </a:lnSpc>
              <a:spcBef>
                <a:spcPts val="499"/>
              </a:spcBef>
              <a:spcAft>
                <a:spcPts val="2401"/>
              </a:spcAft>
              <a:buClr>
                <a:srgbClr val="c00000"/>
              </a:buClr>
              <a:buFont typeface="Tw Cen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Chondroitin sulfates: Most abundant GAG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1096920" indent="-509040">
              <a:lnSpc>
                <a:spcPct val="80000"/>
              </a:lnSpc>
              <a:spcBef>
                <a:spcPts val="499"/>
              </a:spcBef>
              <a:spcAft>
                <a:spcPts val="2401"/>
              </a:spcAft>
              <a:buClr>
                <a:srgbClr val="c00000"/>
              </a:buClr>
              <a:buFont typeface="Tw Cen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Keratan sulfates: 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Most heterogeneous GAG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1096920" indent="-509040">
              <a:lnSpc>
                <a:spcPct val="80000"/>
              </a:lnSpc>
              <a:spcBef>
                <a:spcPts val="499"/>
              </a:spcBef>
              <a:spcAft>
                <a:spcPts val="2401"/>
              </a:spcAft>
              <a:buClr>
                <a:srgbClr val="c00000"/>
              </a:buClr>
              <a:buFont typeface="Tw Cen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Hyaluronic acid: Compared to other GAGs, it is unsulfated and not covalently attached to protein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1096920" indent="-509040">
              <a:lnSpc>
                <a:spcPct val="80000"/>
              </a:lnSpc>
              <a:spcBef>
                <a:spcPts val="499"/>
              </a:spcBef>
              <a:spcAft>
                <a:spcPts val="2401"/>
              </a:spcAft>
              <a:buClr>
                <a:srgbClr val="c00000"/>
              </a:buClr>
              <a:buFont typeface="Tw Cen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Heparin: Unlike other GAGs, 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Unlike other GAGs that are extracellular, heparin is </a:t>
            </a:r>
            <a:r>
              <a:rPr b="1" lang="en-US" sz="2700" spc="-1" strike="noStrike">
                <a:solidFill>
                  <a:srgbClr val="c00000"/>
                </a:solidFill>
                <a:latin typeface="Tw Cen MT"/>
              </a:rPr>
              <a:t>intracellular and serves as an anticoagulant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509040" indent="-509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Members of GAG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Take home Messag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61272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tructure and function of carbohydrat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ono-, Di-, and Poly-saccharid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ugar Isomers: Aldo-keto, epimers, D- and L-, </a:t>
            </a:r>
            <a:r>
              <a:rPr b="0" lang="el-GR" sz="29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- and </a:t>
            </a:r>
            <a:r>
              <a:rPr b="0" lang="el-GR" sz="29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-anomer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mplex carbohydrate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.g., Glycosaminoglycans and proteoglyca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tructure and function of GAG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xamples of GAGs: chondroitin sulfate, keratin sulfate, hyaluronic acid and hepari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Referenc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ippincott’s Illustrated reviews- Biochemistry, 4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th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Edi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OVERVIEW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04920" y="17226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arbohydrates: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509040" indent="-50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ost abundant organic molecules in natur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509040" indent="-50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mpiric formula is (C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)n, 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“hydrates of carbon”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509040" indent="-50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arbohydrates: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824760" indent="-509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important part of energy in die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824760" indent="-509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 as the storage form of energy in the body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824760" indent="-509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structural component of cell membrane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OVERVIEW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533520" y="17226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any diseases associated with disorders of carbohydrate metabolism including: 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iabetes mellitus 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Galactosemia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Glycogen storage diseases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actose intolerance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8" name="TextBox 3"/>
          <p:cNvSpPr/>
          <p:nvPr/>
        </p:nvSpPr>
        <p:spPr>
          <a:xfrm>
            <a:off x="7110000" y="83808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CONT’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LASSIFIC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920" y="2027160"/>
            <a:ext cx="8686800" cy="37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61360" indent="-261360">
              <a:spcBef>
                <a:spcPts val="700"/>
              </a:spcBef>
              <a:spcAft>
                <a:spcPts val="1800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w Cen MT"/>
              </a:rPr>
              <a:t>Monosaccharides</a:t>
            </a: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: Simple sugar     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>
              <a:spcBef>
                <a:spcPts val="700"/>
              </a:spcBef>
              <a:spcAft>
                <a:spcPts val="1800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w Cen MT"/>
              </a:rPr>
              <a:t>Disaccharides</a:t>
            </a: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: 2 monosaccharide unit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>
              <a:spcBef>
                <a:spcPts val="700"/>
              </a:spcBef>
              <a:spcAft>
                <a:spcPts val="1800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w Cen MT"/>
              </a:rPr>
              <a:t>Oligosaccharides</a:t>
            </a: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: 3-10 monosaccharide unit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>
              <a:spcBef>
                <a:spcPts val="700"/>
              </a:spcBef>
              <a:spcAft>
                <a:spcPts val="601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w Cen MT"/>
              </a:rPr>
              <a:t>Polysaccharides</a:t>
            </a: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: more than 10 sugar unit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24520" indent="-223560">
              <a:spcBef>
                <a:spcPts val="55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Homopolysaccharides &amp; heteropolysaccharide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Monosaccharid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51920" y="1589040"/>
            <a:ext cx="4038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w Cen MT"/>
              </a:rPr>
              <a:t>Further classified based on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1. No. of carbon atom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2. Functional sugar group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w Cen MT"/>
              </a:rPr>
              <a:t>Aldehyde group – </a:t>
            </a:r>
            <a:r>
              <a:rPr b="1" lang="en-US" sz="3200" spc="-1" strike="noStrike">
                <a:solidFill>
                  <a:srgbClr val="c00000"/>
                </a:solidFill>
                <a:latin typeface="Tw Cen MT"/>
              </a:rPr>
              <a:t>aldose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w Cen MT"/>
              </a:rPr>
              <a:t>Keto group – </a:t>
            </a:r>
            <a:r>
              <a:rPr b="1" lang="en-US" sz="3200" spc="-1" strike="noStrike">
                <a:solidFill>
                  <a:srgbClr val="002060"/>
                </a:solidFill>
                <a:latin typeface="Tw Cen MT"/>
              </a:rPr>
              <a:t>ketose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3" name="Picture 1" descr="C:\Documents and Settings\Dr.Chisti\Desktop\OLD Computer\Biochemistry\lippincot Pic\c07\07_001.jpg"/>
          <p:cNvPicPr/>
          <p:nvPr/>
        </p:nvPicPr>
        <p:blipFill>
          <a:blip r:embed="rId1"/>
          <a:srcRect l="4514" t="3705" r="6596" b="29630"/>
          <a:stretch/>
        </p:blipFill>
        <p:spPr>
          <a:xfrm>
            <a:off x="4114800" y="2057400"/>
            <a:ext cx="4876920" cy="18288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2" descr="C:\Documents and Settings\Dr.Chisti\Desktop\OLD Computer\Biochemistry\lippincot Pic\c07\07_002.jpg"/>
          <p:cNvPicPr/>
          <p:nvPr/>
        </p:nvPicPr>
        <p:blipFill>
          <a:blip r:embed="rId2"/>
          <a:srcRect l="6520" t="0" r="6520" b="22250"/>
          <a:stretch/>
        </p:blipFill>
        <p:spPr>
          <a:xfrm>
            <a:off x="4356000" y="4267080"/>
            <a:ext cx="43308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Monosaccharid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351000" y="2286000"/>
          <a:ext cx="8458200" cy="3122640"/>
        </p:xfrm>
        <a:graphic>
          <a:graphicData uri="http://schemas.openxmlformats.org/drawingml/2006/table">
            <a:tbl>
              <a:tblPr/>
              <a:tblGrid>
                <a:gridCol w="1752480"/>
                <a:gridCol w="3352680"/>
                <a:gridCol w="335304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Tw Cen MT"/>
                        </a:rPr>
                        <a:t>Aldos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2060"/>
                          </a:solidFill>
                          <a:latin typeface="Tw Cen MT"/>
                        </a:rPr>
                        <a:t>Ketos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rio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Glyceraldehyd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ihydroxyaceton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Pento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Ribo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Ribulo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Hexo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Gluco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Fructo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  <p:sp>
        <p:nvSpPr>
          <p:cNvPr id="367" name="Rectangle 9"/>
          <p:cNvSpPr/>
          <p:nvPr/>
        </p:nvSpPr>
        <p:spPr>
          <a:xfrm>
            <a:off x="7528680" y="91440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CONT’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28958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Isomeris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533160" y="1523880"/>
            <a:ext cx="4343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Isomer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Compounds having </a:t>
            </a:r>
            <a:r>
              <a:rPr b="1" lang="en-US" sz="3200" spc="-1" strike="noStrike">
                <a:solidFill>
                  <a:srgbClr val="002060"/>
                </a:solidFill>
                <a:latin typeface="Tw Cen MT"/>
              </a:rPr>
              <a:t>same</a:t>
            </a: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en-US" sz="3200" spc="-1" strike="noStrike">
                <a:solidFill>
                  <a:srgbClr val="002060"/>
                </a:solidFill>
                <a:latin typeface="Tw Cen MT"/>
              </a:rPr>
              <a:t>chemical formula </a:t>
            </a:r>
            <a:r>
              <a:rPr b="1" lang="en-US" sz="3200" spc="-1" strike="noStrike">
                <a:solidFill>
                  <a:srgbClr val="c00000"/>
                </a:solidFill>
                <a:latin typeface="Tw Cen MT"/>
              </a:rPr>
              <a:t>but different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w Cen MT"/>
              </a:rPr>
              <a:t>structural formula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0" name="Picture 2" descr="C:\Documents and Settings\Dr.Chisti\Desktop\OLD Computer\Biochemistry\lippincot Pic\c07\07_004.jpg"/>
          <p:cNvPicPr/>
          <p:nvPr/>
        </p:nvPicPr>
        <p:blipFill>
          <a:blip r:embed="rId1"/>
          <a:srcRect l="25532" t="2321" r="29015" b="11773"/>
          <a:stretch/>
        </p:blipFill>
        <p:spPr>
          <a:xfrm>
            <a:off x="4876920" y="217440"/>
            <a:ext cx="403848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4419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Aldo-Keto Isomer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304560" y="1828800"/>
            <a:ext cx="4190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Example: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w Cen MT"/>
              </a:rPr>
              <a:t>Glucose (Aldose)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and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en-US" sz="3600" spc="-1" strike="noStrike">
                <a:solidFill>
                  <a:srgbClr val="002060"/>
                </a:solidFill>
                <a:latin typeface="Tw Cen MT"/>
              </a:rPr>
              <a:t>Fructose (Ketose)</a:t>
            </a: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3" name="Picture 2" descr="C:\Documents and Settings\Dr.Chisti\Desktop\OLD Computer\Biochemistry\lippincot Pic\c07\07_004.jpg"/>
          <p:cNvPicPr/>
          <p:nvPr/>
        </p:nvPicPr>
        <p:blipFill>
          <a:blip r:embed="rId1"/>
          <a:srcRect l="25532" t="2321" r="29015" b="11773"/>
          <a:stretch/>
        </p:blipFill>
        <p:spPr>
          <a:xfrm>
            <a:off x="4495680" y="87480"/>
            <a:ext cx="441972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Fatma</cp:lastModifiedBy>
  <dcterms:modified xsi:type="dcterms:W3CDTF">2011-09-28T06:07:58Z</dcterms:modified>
  <cp:revision>82</cp:revision>
  <dc:subject/>
  <dc:title>Carbohydrates structure and FunCTION</dc:title>
</cp:coreProperties>
</file>