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2.xml" ContentType="application/vnd.openxmlformats-officedocument.presentationml.comments+xml"/>
  <Override PartName="/ppt/comments/comment21.xml" ContentType="application/vnd.openxmlformats-officedocument.presentationml.comments+xml"/>
  <Override PartName="/ppt/comments/comment3.xml" ContentType="application/vnd.openxmlformats-officedocument.presentationml.comments+xml"/>
  <Override PartName="/ppt/comments/comment10.xml" ContentType="application/vnd.openxmlformats-officedocument.presentationml.comments+xml"/>
  <Override PartName="/ppt/comments/comment4.xml" ContentType="application/vnd.openxmlformats-officedocument.presentationml.comments+xml"/>
  <Override PartName="/ppt/comments/comment5.xml" ContentType="application/vnd.openxmlformats-officedocument.presentationml.comments+xml"/>
  <Override PartName="/ppt/comments/comment12.xml" ContentType="application/vnd.openxmlformats-officedocument.presentationml.comments+xml"/>
  <Override PartName="/ppt/comments/comment7.xml" ContentType="application/vnd.openxmlformats-officedocument.presentationml.comments+xml"/>
  <Override PartName="/ppt/comments/comment8.xml" ContentType="application/vnd.openxmlformats-officedocument.presentationml.comments+xml"/>
  <Override PartName="/ppt/comments/comment15.xml" ContentType="application/vnd.openxmlformats-officedocument.presentationml.comments+xml"/>
  <Override PartName="/ppt/comments/comment18.xml" ContentType="application/vnd.openxmlformats-officedocument.presentationml.comments+xml"/>
  <Override PartName="/ppt/comments/comment1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Najd Alomran" initials="NA" lastIdx="2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<Relationship Id="rId30" Type="http://schemas.openxmlformats.org/officeDocument/2006/relationships/commentAuthors" Target="commentAuthors.xml"/>
</Relationships>
</file>

<file path=ppt/comments/comment10.xml><?xml version="1.0" encoding="utf-8"?>
<p:cmLst xmlns:p="http://schemas.openxmlformats.org/presentationml/2006/main">
  <p:cm authorId="0" dt="2014-10-17T14:12:00.504000000" idx="15">
    <p:pos x="3296" y="1689"/>
    <p:text>attached to some thing</p:text>
  </p:cm>
  <p:cm authorId="0" dt="2014-10-17T14:12:47.959000000" idx="16">
    <p:pos x="296" y="1496"/>
    <p:text>plasma acids</p:text>
  </p:cm>
</p:cmLst>
</file>

<file path=ppt/comments/comment12.xml><?xml version="1.0" encoding="utf-8"?>
<p:cmLst xmlns:p="http://schemas.openxmlformats.org/presentationml/2006/main">
  <p:cm authorId="0" dt="2014-10-17T14:22:22.152000000" idx="17">
    <p:pos x="5103" y="1074"/>
    <p:text>acids in nature
ph of blood 7.2</p:text>
  </p:cm>
</p:cmLst>
</file>

<file path=ppt/comments/comment15.xml><?xml version="1.0" encoding="utf-8"?>
<p:cmLst xmlns:p="http://schemas.openxmlformats.org/presentationml/2006/main">
  <p:cm authorId="0" dt="2014-10-17T15:22:58.221000000" idx="18">
    <p:pos x="3760" y="881"/>
    <p:text>all hyrophobic</p:text>
  </p:cm>
</p:cmLst>
</file>

<file path=ppt/comments/comment18.xml><?xml version="1.0" encoding="utf-8"?>
<p:cmLst xmlns:p="http://schemas.openxmlformats.org/presentationml/2006/main">
  <p:cm authorId="0" dt="2014-10-17T15:30:00.255000000" idx="19">
    <p:pos x="195" y="439"/>
    <p:text>أكثرهم شايل برتين أكثرهم density</p:text>
  </p:cm>
</p:cmLst>
</file>

<file path=ppt/comments/comment19.xml><?xml version="1.0" encoding="utf-8"?>
<p:cmLst xmlns:p="http://schemas.openxmlformats.org/presentationml/2006/main">
  <p:cm authorId="0" dt="2014-10-17T15:31:24.002000000" idx="20">
    <p:pos x="3925" y="875"/>
    <p:text>more protein more density low lipids</p:text>
  </p:cm>
</p:cmLst>
</file>

<file path=ppt/comments/comment2.xml><?xml version="1.0" encoding="utf-8"?>
<p:cmLst xmlns:p="http://schemas.openxmlformats.org/presentationml/2006/main">
  <p:cm authorId="0" dt="2014-10-17T13:35:18.054000000" idx="1">
    <p:pos x="2813" y="2308"/>
    <p:text>adek
vitamin
a
d
e
k</p:text>
  </p:cm>
  <p:cm authorId="0" dt="2014-10-17T13:34:47.587000000" idx="2">
    <p:pos x="5181" y="1565"/>
    <p:text>have polar and nonpolar</p:text>
  </p:cm>
  <p:cm authorId="0" dt="2014-10-17T13:35:31.565000000" idx="3">
    <p:pos x="2161" y="2999"/>
    <p:text>lipids in nature</p:text>
  </p:cm>
</p:cmLst>
</file>

<file path=ppt/comments/comment21.xml><?xml version="1.0" encoding="utf-8"?>
<p:cmLst xmlns:p="http://schemas.openxmlformats.org/presentationml/2006/main">
  <p:cm authorId="0" dt="2014-10-17T15:33:10.469000000" idx="21">
    <p:pos x="1324" y="2803"/>
    <p:text>bad
good</p:text>
  </p:cm>
</p:cmLst>
</file>

<file path=ppt/comments/comment3.xml><?xml version="1.0" encoding="utf-8"?>
<p:cmLst xmlns:p="http://schemas.openxmlformats.org/presentationml/2006/main">
  <p:cm authorId="0" dt="2014-10-17T13:36:24.065000000" idx="4">
    <p:pos x="4983" y="1757"/>
    <p:text>تصلب الشرايين و ضغط الدم</p:text>
  </p:cm>
</p:cmLst>
</file>

<file path=ppt/comments/comment4.xml><?xml version="1.0" encoding="utf-8"?>
<p:cmLst xmlns:p="http://schemas.openxmlformats.org/presentationml/2006/main">
  <p:cm authorId="0" dt="2014-10-17T13:38:38.987000000" idx="5">
    <p:pos x="3607" y="1092"/>
    <p:text>مجموعة مختلفة عن بعضها</p:text>
  </p:cm>
</p:cmLst>
</file>

<file path=ppt/comments/comment5.xml><?xml version="1.0" encoding="utf-8"?>
<p:cmLst xmlns:p="http://schemas.openxmlformats.org/presentationml/2006/main">
  <p:cm authorId="0" dt="2014-10-17T13:49:38.568000000" idx="6">
    <p:pos x="2910" y="1517"/>
    <p:text>subcoutenous 
adepose tissue which is made up of fat cell</p:text>
  </p:cm>
  <p:cm authorId="0" dt="2014-10-17T13:48:24.943000000" idx="7">
    <p:pos x="3539" y="982"/>
    <p:text>hydrocarbon
a vary hydrophobic chain
nonpolar</p:text>
  </p:cm>
</p:cmLst>
</file>

<file path=ppt/comments/comment7.xml><?xml version="1.0" encoding="utf-8"?>
<p:cmLst xmlns:p="http://schemas.openxmlformats.org/presentationml/2006/main">
  <p:cm authorId="0" dt="2014-10-17T13:45:09.632000000" idx="8">
    <p:pos x="4910" y="2074"/>
    <p:text>in nervous tissue</p:text>
  </p:cm>
  <p:cm authorId="0" dt="2014-10-17T13:59:42.264000000" idx="9">
    <p:pos x="3618" y="2689"/>
    <p:text>solud</p:text>
  </p:cm>
  <p:cm authorId="0" dt="2014-10-17T13:59:55.149000000" idx="10">
    <p:pos x="4046" y="3253"/>
    <p:text>more bonds liquid</p:text>
  </p:cm>
  <p:cm authorId="0" dt="2014-10-17T14:06:07.278000000" idx="11">
    <p:pos x="825" y="3618"/>
    <p:text>hydrogen:
same side -cis rigid
different sides - trans - flexible</p:text>
  </p:cm>
  <p:cm authorId="0" dt="2014-10-17T14:07:50.376000000" idx="12">
    <p:pos x="2824" y="3968"/>
    <p:text>i cant produce them i get it from nutriontionally essential</p:text>
  </p:cm>
</p:cmLst>
</file>

<file path=ppt/comments/comment8.xml><?xml version="1.0" encoding="utf-8"?>
<p:cmLst xmlns:p="http://schemas.openxmlformats.org/presentationml/2006/main">
  <p:cm authorId="0" dt="2014-10-17T14:09:38.427000000" idx="13">
    <p:pos x="3782" y="2939"/>
    <p:text>carbon number</p:text>
  </p:cm>
  <p:cm authorId="0" dt="2014-10-17T14:09:52.774000000" idx="14">
    <p:pos x="4153" y="2839"/>
    <p:text>double bond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533B-3E03-432E-B6A8-44EA1A0FA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8AAD-8DA4-47BB-B10D-F2B47274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C050-551B-425E-BB28-8C52FA038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B17C-CFAB-4282-B9EB-B385CE56D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9D60A-A1E2-4563-B2DC-2AC1A5C4D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BBE9-390E-45FB-858F-FB03B9B3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2240-A071-4DDE-92F0-96A5409A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1EC94-5F80-412F-87F5-5E38EEF4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7CE7-A50E-4645-AE8F-20D423EE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1C44-87AC-4E10-BDCC-ABF6DE9B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CC71-D4DB-43A3-B295-E4D7120B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5032-CE38-44DC-89C1-5DEFEA4C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2F30-08CB-4050-8D83-CBDEAB53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8DB1-1E93-4B26-B9A5-4FC72C35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CE95-9C08-4DAA-9F54-65FB2BA0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6207-3A5C-4677-B676-4C3470B71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9E1F-1566-4363-AA9F-51271F358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16856-D931-4CAB-941F-49AFB1A0A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B1150-6D4E-46A1-8FA7-329F3DBD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D1D78-B9D3-4265-B125-D15A62C3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D882C-65E4-4A15-9A00-5B61FAB7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5F948-33C0-4195-A0EC-0F7714ED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773E-D871-4CC6-8E16-23615CB8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9FC75-19B4-450D-9625-9C750B31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3B57E-7320-4724-BCED-45BC9837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508E9-4617-4943-A06E-900560B6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9E7B0-4CE4-45FF-8233-599C141A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4061F-263F-47D3-A3BD-AE42D7A6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98D85-F00D-4075-8AD5-E99DB1993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6C659-8297-4FB7-8706-036FA8D8F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08D8A-CECA-4158-9CD2-729808EFB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F6D71-8E49-4951-A130-CDC70989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C2559-9CC6-4504-BF1A-2281A310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054C-1706-4ACA-BF6A-5CADA9161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E3B2B-405B-4977-B290-BA14EF4C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7AB95-1E76-449D-8186-0CA4D471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267F3-39F0-4ED4-B0B9-EFC9E23B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19254-BD58-430A-879D-D26926DB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42F7F-09B0-412E-9B27-175A8F20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38106-8B57-4F1D-A71B-7449370B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86902-F23C-4210-B6DA-304D9F71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6F186-74B4-4A93-BAAD-28421D405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14096-B7AC-4DC0-8444-07D2EAA39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DFB75-7A70-43F5-A3A2-9B20F404D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E010-4C80-43ED-A024-D7F712A6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F2BE0-2E36-4674-9DDF-B2D9F4E3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D8967-942A-421E-974E-25A9DDC2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C230F-AB26-4C0C-9CCD-D57299A4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7DFE0-A723-4639-BFD2-0D363777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4E5DB-4E18-4C4F-9D73-525E625C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6B8A8-D60D-42B3-AE1E-97DC3D2B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18DE3-47F6-4B4B-A9D1-61BA2ED4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DDF68-6A8E-49CD-BFAB-A8C87CDC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BE780-8BBF-4C90-8015-0703EE12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AD0FA-CE0C-4B6D-86E5-6F05375B4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0A1D-C7BF-4EA3-8749-A5C92740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C1FE1-6665-44F8-BD77-233DE5B13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1C50-A2ED-4C4C-8C06-8C902EBC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32A1-9D9F-4B3C-937A-695B577B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7A7E-A6FE-448A-88AC-79AE704C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E7A7-E8C1-450E-BFD0-398704D1CC24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0508-43FE-4734-9903-2178824C2D28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3040" cy="6705360"/>
            <a:chOff x="60480" y="60480"/>
            <a:chExt cx="9023040" cy="670536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3040" cy="67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FC26-ED61-4993-B030-F32508A42263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F3D7-0203-4BA3-A848-A7C85B1EFDBE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59065-0927-483F-91CF-EE9267BA6943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Impact"/>
              </a:rPr>
              <a:t>Objectiv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75"/>
              </a:spcBef>
              <a:buClr>
                <a:srgbClr val="99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b2d1f"/>
                </a:solidFill>
                <a:latin typeface="Perpetua"/>
              </a:rPr>
              <a:t>Functions of lipid compound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99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b2d1f"/>
                </a:solidFill>
                <a:latin typeface="Perpetua"/>
              </a:rPr>
              <a:t>Clinical problem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99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b2d1f"/>
                </a:solidFill>
                <a:latin typeface="Perpetua"/>
              </a:rPr>
              <a:t>Lipid compounds of physiological importance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99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b2d1f"/>
                </a:solidFill>
                <a:latin typeface="Perpetua"/>
              </a:rPr>
              <a:t>Complex lipids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spcBef>
                <a:spcPts val="374"/>
              </a:spcBef>
              <a:buClr>
                <a:srgbClr val="99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b2d1f"/>
                </a:solidFill>
                <a:latin typeface="Perpetua"/>
              </a:rPr>
              <a:t>Phospholipids</a:t>
            </a:r>
            <a:endParaRPr b="0" lang="en-US" sz="34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spcBef>
                <a:spcPts val="374"/>
              </a:spcBef>
              <a:buClr>
                <a:srgbClr val="99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b2d1f"/>
                </a:solidFill>
                <a:latin typeface="Perpetua"/>
              </a:rPr>
              <a:t>Glycolipid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spcBef>
                <a:spcPts val="374"/>
              </a:spcBef>
              <a:buClr>
                <a:srgbClr val="99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b2d1f"/>
                </a:solidFill>
                <a:latin typeface="Perpetua"/>
              </a:rPr>
              <a:t>Lipoprotein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99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8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Impact"/>
              </a:rPr>
              <a:t>Plasma Fatty Ac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304920" y="2406600"/>
            <a:ext cx="883908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sterified form (~90%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I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triacylglycerol, cholesterol ester, phospholipids (as part of lipoprotei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ree-form (unesterified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Transported in association with albu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Impact"/>
              </a:rPr>
              <a:t>Triacylglycerols (TG)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3352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b2d1f"/>
                </a:solidFill>
                <a:latin typeface="Perpetua"/>
              </a:rPr>
              <a:t>Storage form of lipids in adipose tissue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23560" indent="-2235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b2d1f"/>
                </a:solidFill>
                <a:latin typeface="Perpetua"/>
              </a:rPr>
              <a:t>Constitute ~ 90% of dietary lipid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23560" indent="-2235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b2d1f"/>
                </a:solidFill>
                <a:latin typeface="Perpetua"/>
              </a:rPr>
              <a:t>Composed of glycerol plus 3 fatty acid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23560" indent="-2235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b2d1f"/>
                </a:solidFill>
                <a:latin typeface="Perpetua"/>
              </a:rPr>
              <a:t>Transported in blood: in c</a:t>
            </a:r>
            <a:r>
              <a:rPr b="1" lang="en-US" sz="3600" spc="-1" strike="noStrike">
                <a:solidFill>
                  <a:srgbClr val="990000"/>
                </a:solidFill>
                <a:latin typeface="Perpetua"/>
              </a:rPr>
              <a:t>hylomicrons &amp; very low density lipoprotein (VLDL)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16_022"/>
          <p:cNvPicPr/>
          <p:nvPr/>
        </p:nvPicPr>
        <p:blipFill>
          <a:blip r:embed="rId1"/>
          <a:srcRect l="32406" t="3027" r="31482" b="13241"/>
          <a:stretch/>
        </p:blipFill>
        <p:spPr>
          <a:xfrm>
            <a:off x="3048120" y="228600"/>
            <a:ext cx="2971800" cy="632448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12"/>
          <p:cNvSpPr/>
          <p:nvPr/>
        </p:nvSpPr>
        <p:spPr>
          <a:xfrm>
            <a:off x="942840" y="1371600"/>
            <a:ext cx="723924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1020240" y="2514600"/>
            <a:ext cx="359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9b2d1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b2d1f"/>
                </a:solidFill>
                <a:latin typeface="Times New Roman"/>
              </a:rPr>
              <a:t>Ace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b2d1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b2d1f"/>
                </a:solidFill>
                <a:latin typeface="Times New Roman"/>
              </a:rPr>
              <a:t>Acetoace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b2d1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9b2d1f"/>
                </a:solidFill>
                <a:latin typeface="Times New Roman"/>
              </a:rPr>
              <a:t>β</a:t>
            </a:r>
            <a:r>
              <a:rPr b="1" lang="en-US" sz="2800" spc="-1" strike="noStrike">
                <a:solidFill>
                  <a:srgbClr val="9b2d1f"/>
                </a:solidFill>
                <a:latin typeface="Times New Roman"/>
              </a:rPr>
              <a:t>-Hydroxybuty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921240" y="1635120"/>
            <a:ext cx="298656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Ketone Bod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4"/>
          <p:cNvSpPr/>
          <p:nvPr/>
        </p:nvSpPr>
        <p:spPr>
          <a:xfrm>
            <a:off x="4375080" y="1447920"/>
            <a:ext cx="373068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9b2d1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b2d1f"/>
                </a:solidFill>
                <a:latin typeface="Times New Roman"/>
              </a:rPr>
              <a:t>Water-soluble lip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buClr>
                <a:srgbClr val="9b2d1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b2d1f"/>
                </a:solidFill>
                <a:latin typeface="Times New Roman"/>
              </a:rPr>
              <a:t>Increase in Diabetic Ketoacidosis (DK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8"/>
          <p:cNvSpPr/>
          <p:nvPr/>
        </p:nvSpPr>
        <p:spPr>
          <a:xfrm>
            <a:off x="685800" y="1371600"/>
            <a:ext cx="8039160" cy="45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Glycerophospholip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b2d1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b2d1f"/>
                </a:solidFill>
                <a:latin typeface="Times New Roman"/>
              </a:rPr>
              <a:t>Glycerol-containing phospholip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b2d1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b2d1f"/>
                </a:solidFill>
                <a:latin typeface="Times New Roman"/>
              </a:rPr>
              <a:t>1. Phosphatidylcholine (Lecith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9b2d1f"/>
                </a:solidFill>
                <a:latin typeface="Times New Roman"/>
              </a:rPr>
              <a:t>e.g.,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Surfactant (Dipalmitoylecith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9b2d1f"/>
                </a:solidFill>
                <a:latin typeface="Times New Roman"/>
              </a:rPr>
              <a:t>2. Phosphatidyl inositol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(signaling molec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B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hingo-phospholipi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Sphingosine-containing phospholipi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e.g., sphingomyelin </a:t>
            </a:r>
            <a:r>
              <a:rPr b="1" lang="en-US" sz="2800" spc="-1" strike="noStrike">
                <a:solidFill>
                  <a:srgbClr val="9b2d1f"/>
                </a:solidFill>
                <a:latin typeface="Times New Roman"/>
              </a:rPr>
              <a:t>(Myelin sheat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</a:rPr>
              <a:t>(To be discussed with CNS Blo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2895480" y="492120"/>
            <a:ext cx="358164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Phospholip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17_001"/>
          <p:cNvPicPr/>
          <p:nvPr/>
        </p:nvPicPr>
        <p:blipFill>
          <a:blip r:embed="rId1"/>
          <a:srcRect l="24169" t="2831" r="46669" b="19813"/>
          <a:stretch/>
        </p:blipFill>
        <p:spPr>
          <a:xfrm>
            <a:off x="1600200" y="228600"/>
            <a:ext cx="2666880" cy="624852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7"/>
          <p:cNvSpPr/>
          <p:nvPr/>
        </p:nvSpPr>
        <p:spPr>
          <a:xfrm>
            <a:off x="4800600" y="3124080"/>
            <a:ext cx="4343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e.g. of me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b2d1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9b2d1f"/>
                </a:solidFill>
                <a:latin typeface="Times New Roman"/>
              </a:rPr>
              <a:t>1. Phosphatidylcho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b2d1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9b2d1f"/>
                </a:solidFill>
                <a:latin typeface="Times New Roman"/>
              </a:rPr>
              <a:t>(Lecith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b2d1f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9b2d1f"/>
                </a:solidFill>
                <a:latin typeface="Times New Roman"/>
              </a:rPr>
              <a:t>e.g., Surfac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b2d1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9b2d1f"/>
                </a:solidFill>
                <a:latin typeface="Times New Roman"/>
              </a:rPr>
              <a:t>(Dipalmitoyl lecith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4425840" y="415800"/>
            <a:ext cx="3935880" cy="10692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Phospholipid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. Glycerophospholip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13"/>
          <p:cNvSpPr/>
          <p:nvPr/>
        </p:nvSpPr>
        <p:spPr>
          <a:xfrm>
            <a:off x="5183640" y="5562720"/>
            <a:ext cx="314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Parent Comp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Phosphatidic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eft Arrow 6"/>
          <p:cNvSpPr/>
          <p:nvPr/>
        </p:nvSpPr>
        <p:spPr>
          <a:xfrm>
            <a:off x="4191120" y="4648320"/>
            <a:ext cx="761760" cy="228600"/>
          </a:xfrm>
          <a:prstGeom prst="leftArrow">
            <a:avLst>
              <a:gd name="adj1" fmla="val 50000"/>
              <a:gd name="adj2" fmla="val 49984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Oval 7"/>
          <p:cNvSpPr/>
          <p:nvPr/>
        </p:nvSpPr>
        <p:spPr>
          <a:xfrm>
            <a:off x="1523880" y="5410080"/>
            <a:ext cx="2819520" cy="1143000"/>
          </a:xfrm>
          <a:prstGeom prst="ellipse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eft Arrow 8"/>
          <p:cNvSpPr/>
          <p:nvPr/>
        </p:nvSpPr>
        <p:spPr>
          <a:xfrm>
            <a:off x="4419720" y="5867280"/>
            <a:ext cx="761760" cy="228600"/>
          </a:xfrm>
          <a:prstGeom prst="leftArrow">
            <a:avLst>
              <a:gd name="adj1" fmla="val 50000"/>
              <a:gd name="adj2" fmla="val 49984"/>
            </a:avLst>
          </a:prstGeom>
          <a:solidFill>
            <a:srgbClr val="0070c0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18_002"/>
          <p:cNvPicPr/>
          <p:nvPr/>
        </p:nvPicPr>
        <p:blipFill>
          <a:blip r:embed="rId1"/>
          <a:srcRect l="13866" t="3884" r="16968" b="17478"/>
          <a:stretch/>
        </p:blipFill>
        <p:spPr>
          <a:xfrm>
            <a:off x="4572000" y="380880"/>
            <a:ext cx="4038480" cy="617220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3505320" cy="16002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33"/>
            </a:solidFill>
            <a:miter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Impact"/>
              </a:rPr>
              <a:t>Cholesterol: Structur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1976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33"/>
            </a:solidFill>
            <a:miter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Impact"/>
              </a:rPr>
              <a:t>Overview and Functions of Cholesterol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76320" y="1128600"/>
            <a:ext cx="90676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aj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terol of animal t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omponent of cell membra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recursor f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Bile acids &amp; sa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Vitamin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Steroid horm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Mineralocorticoids e.g.,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Aldoster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Glucocorticoids, e.g.,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Corti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Sex hormones, e.g.,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 Testoster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             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Estrogen &amp; progester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bnormally high level in blood (Hypercholesterolemia)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Associated with Atherosclerosis &amp; Coronary Artery Disease (C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2057400" y="533520"/>
            <a:ext cx="5486400" cy="99036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Impact"/>
              </a:rPr>
              <a:t>Lipoprotein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306720" y="1847880"/>
            <a:ext cx="86479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Protein part: Apoproteins or apolipo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bbreviation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po-A, B,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Func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ＭＳ Ｐゴシック"/>
              </a:rPr>
              <a:t>Structural and transport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ＭＳ Ｐゴシック"/>
              </a:rPr>
              <a:t>Enzymatic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ＭＳ Ｐゴシック"/>
              </a:rPr>
              <a:t>Ligands for recep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Lipid par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ＭＳ Ｐゴシック"/>
              </a:rPr>
              <a:t>According to the type of lipoprote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ＭＳ Ｐゴシック"/>
              </a:rPr>
              <a:t>Different lipid components in various combin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18_014"/>
          <p:cNvPicPr/>
          <p:nvPr/>
        </p:nvPicPr>
        <p:blipFill>
          <a:blip r:embed="rId1"/>
          <a:srcRect l="17504" t="2021" r="15833" b="19294"/>
          <a:stretch/>
        </p:blipFill>
        <p:spPr>
          <a:xfrm>
            <a:off x="1600200" y="533520"/>
            <a:ext cx="6095880" cy="59436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7"/>
          <p:cNvSpPr/>
          <p:nvPr/>
        </p:nvSpPr>
        <p:spPr>
          <a:xfrm>
            <a:off x="5715000" y="5410080"/>
            <a:ext cx="3352680" cy="7621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b2d1f"/>
                </a:solidFill>
                <a:latin typeface="Impact"/>
              </a:rPr>
              <a:t>Lipoprotein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18_019"/>
          <p:cNvPicPr/>
          <p:nvPr/>
        </p:nvPicPr>
        <p:blipFill>
          <a:blip r:embed="rId1"/>
          <a:srcRect l="35835" t="2397" r="34170" b="15528"/>
          <a:stretch/>
        </p:blipFill>
        <p:spPr>
          <a:xfrm>
            <a:off x="2971800" y="152280"/>
            <a:ext cx="2743200" cy="662940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7"/>
          <p:cNvSpPr/>
          <p:nvPr/>
        </p:nvSpPr>
        <p:spPr>
          <a:xfrm>
            <a:off x="228600" y="2209680"/>
            <a:ext cx="2971800" cy="228600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Composi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Lipoprote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5715000" y="577800"/>
            <a:ext cx="3429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b2d1f"/>
                </a:solidFill>
                <a:latin typeface="Times New Roman"/>
              </a:rPr>
              <a:t>Chylomic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b2d1f"/>
                </a:solidFill>
                <a:latin typeface="Times New Roman"/>
              </a:rPr>
              <a:t>Very low den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b2d1f"/>
                </a:solidFill>
                <a:latin typeface="Times New Roman"/>
              </a:rPr>
              <a:t>Lipoprotein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(VLD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b2d1f"/>
                </a:solidFill>
                <a:latin typeface="Times New Roman"/>
              </a:rPr>
              <a:t>Low den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b2d1f"/>
                </a:solidFill>
                <a:latin typeface="Times New Roman"/>
              </a:rPr>
              <a:t>Lipoprotein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(LD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b2d1f"/>
                </a:solidFill>
                <a:latin typeface="Times New Roman"/>
              </a:rPr>
              <a:t>High dens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b2d1f"/>
                </a:solidFill>
                <a:latin typeface="Times New Roman"/>
              </a:rPr>
              <a:t>Lipoprotein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(HD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Franklin Gothic Book"/>
              </a:rPr>
              <a:t>Functions of lipid compound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4479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2480" indent="-222480">
              <a:buClr>
                <a:srgbClr val="99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b2d1f"/>
                </a:solidFill>
                <a:latin typeface="Perpetua"/>
              </a:rPr>
              <a:t>Major energy source for the body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22480" indent="-222480">
              <a:buClr>
                <a:srgbClr val="99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b2d1f"/>
                </a:solidFill>
                <a:latin typeface="Perpetua"/>
              </a:rPr>
              <a:t>Structural component of cell membranes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22480" indent="-222480">
              <a:buClr>
                <a:srgbClr val="99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b2d1f"/>
                </a:solidFill>
                <a:latin typeface="Perpetua"/>
              </a:rPr>
              <a:t>Important regulatory molecules; examples: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3" marL="448920" indent="-187200">
              <a:buClr>
                <a:srgbClr val="99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00"/>
                </a:solidFill>
                <a:latin typeface="Perpetua"/>
              </a:rPr>
              <a:t>Fat-soluble vitamins</a:t>
            </a:r>
            <a:endParaRPr b="0" lang="en-US" sz="3800" spc="-1" strike="noStrike">
              <a:solidFill>
                <a:srgbClr val="000000"/>
              </a:solidFill>
              <a:latin typeface="Perpetua"/>
            </a:endParaRPr>
          </a:p>
          <a:p>
            <a:pPr lvl="3" marL="448920" indent="-187200">
              <a:buClr>
                <a:srgbClr val="99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00"/>
                </a:solidFill>
                <a:latin typeface="Perpetua"/>
              </a:rPr>
              <a:t>Steroid hormones</a:t>
            </a:r>
            <a:endParaRPr b="0" lang="en-US" sz="3800" spc="-1" strike="noStrike">
              <a:solidFill>
                <a:srgbClr val="000000"/>
              </a:solidFill>
              <a:latin typeface="Perpetua"/>
            </a:endParaRPr>
          </a:p>
          <a:p>
            <a:pPr lvl="3" marL="448920" indent="-187200">
              <a:buClr>
                <a:srgbClr val="99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00"/>
                </a:solidFill>
                <a:latin typeface="Perpetua"/>
              </a:rPr>
              <a:t>Prostaglandins</a:t>
            </a:r>
            <a:endParaRPr b="0" lang="en-US" sz="3800" spc="-1" strike="noStrike">
              <a:solidFill>
                <a:srgbClr val="000000"/>
              </a:solidFill>
              <a:latin typeface="Perpetua"/>
            </a:endParaRPr>
          </a:p>
          <a:p>
            <a:pPr lvl="3" marL="448920" indent="-187200">
              <a:buClr>
                <a:srgbClr val="99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00"/>
                </a:solidFill>
                <a:latin typeface="Perpetua"/>
              </a:rPr>
              <a:t>Signaling molecules; e.g.  </a:t>
            </a:r>
            <a:r>
              <a:rPr b="0" lang="en-US" sz="3400" spc="-1" strike="noStrike">
                <a:solidFill>
                  <a:srgbClr val="990000"/>
                </a:solidFill>
                <a:latin typeface="Perpetua"/>
              </a:rPr>
              <a:t>Inositol triphosphate (IP3)</a:t>
            </a:r>
            <a:endParaRPr b="0" lang="en-US" sz="3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18_025"/>
          <p:cNvPicPr/>
          <p:nvPr/>
        </p:nvPicPr>
        <p:blipFill>
          <a:blip r:embed="rId1"/>
          <a:srcRect l="38387" t="23741" r="37629" b="17268"/>
          <a:stretch/>
        </p:blipFill>
        <p:spPr>
          <a:xfrm>
            <a:off x="1523880" y="304920"/>
            <a:ext cx="2667240" cy="624816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8"/>
          <p:cNvSpPr/>
          <p:nvPr/>
        </p:nvSpPr>
        <p:spPr>
          <a:xfrm>
            <a:off x="4343400" y="3048120"/>
            <a:ext cx="4572000" cy="190476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Ultracentrifug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Lipoprote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2057400" y="533520"/>
            <a:ext cx="5486400" cy="99036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Impact"/>
              </a:rPr>
              <a:t>Plasma Lipoprote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275760" y="2208240"/>
            <a:ext cx="859932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Transport of Triacylglycerol (TG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Chylomicrons: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G of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dietary ori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VLDL: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G of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endogenous 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Transport of Cholesterol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ＭＳ Ｐゴシック"/>
              </a:rPr>
              <a:t>LDL: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ＭＳ Ｐゴシック"/>
              </a:rPr>
              <a:t>Mainly free choleste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ＭＳ Ｐゴシック"/>
              </a:rPr>
              <a:t>HDL: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ＭＳ Ｐゴシック"/>
              </a:rPr>
              <a:t>Mainly esterified choleste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2057400" y="533520"/>
            <a:ext cx="5486400" cy="99036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Impact"/>
              </a:rPr>
              <a:t>Take Home Mess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181080" y="1828800"/>
            <a:ext cx="9100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Lipids are heterogeneous group of comp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Lipids are relatively water-insolu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imple lipi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Fatty Acid, TG, Ketone bodies, Choleste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Complex lipi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e.g., Phospholipids, Lipo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Lipids have important physiological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Lipid disorders are the basis for common hum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diseases, namely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obesity</a:t>
            </a: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theroscler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Franklin Gothic Book"/>
              </a:rPr>
              <a:t>Lipids and Related Clinical Problem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1828440"/>
            <a:ext cx="80773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Perpetua"/>
              </a:rPr>
              <a:t>Obesity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Perpetua"/>
              </a:rPr>
              <a:t>Atherosclerosis &amp; hypertension 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spcAft>
                <a:spcPts val="1199"/>
              </a:spcAft>
              <a:buClr>
                <a:srgbClr val="99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Perpetua"/>
              </a:rPr>
              <a:t>Coronary heart diseases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Franklin Gothic Book"/>
              </a:rPr>
              <a:t>Lipid Compound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14479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Perpetua"/>
              </a:rPr>
              <a:t>Heterogeneous group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Perpetua"/>
              </a:rPr>
              <a:t>Relatively water-insoluble </a:t>
            </a:r>
            <a:r>
              <a:rPr b="1" lang="en-US" sz="4000" spc="-1" strike="noStrike">
                <a:solidFill>
                  <a:srgbClr val="990000"/>
                </a:solidFill>
                <a:latin typeface="Perpetua"/>
              </a:rPr>
              <a:t>(Ketone bodies are the exception)</a:t>
            </a:r>
            <a:r>
              <a:rPr b="1" lang="en-US" sz="4000" spc="-1" strike="noStrike">
                <a:solidFill>
                  <a:srgbClr val="9b2d1f"/>
                </a:solidFill>
                <a:latin typeface="Perpetu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spcAft>
                <a:spcPts val="1199"/>
              </a:spcAft>
              <a:buClr>
                <a:srgbClr val="99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Perpetua"/>
              </a:rPr>
              <a:t>Soluble in non-polar solvents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Perpetua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15_001"/>
          <p:cNvPicPr/>
          <p:nvPr/>
        </p:nvPicPr>
        <p:blipFill>
          <a:blip r:embed="rId1"/>
          <a:srcRect l="25384" t="1868" r="22640" b="19627"/>
          <a:stretch/>
        </p:blipFill>
        <p:spPr>
          <a:xfrm>
            <a:off x="5446800" y="152280"/>
            <a:ext cx="3316320" cy="647712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11"/>
          <p:cNvSpPr/>
          <p:nvPr/>
        </p:nvSpPr>
        <p:spPr>
          <a:xfrm>
            <a:off x="921600" y="5673600"/>
            <a:ext cx="3525840" cy="94716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Lipid Compoun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Heterogeneous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609480" y="456840"/>
            <a:ext cx="4572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660960" indent="-66096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Simple Lipids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1" marL="1148400" indent="-66096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Perpetua"/>
              </a:rPr>
              <a:t>Fatty acid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1148400" indent="-66096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Perpetua"/>
              </a:rPr>
              <a:t>Ketone bodie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1148400" indent="-66096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Perpetua"/>
              </a:rPr>
              <a:t>Triacylglycero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1148400" indent="-66096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Perpetua"/>
              </a:rPr>
              <a:t>Cholestero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660960" indent="-66096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Complex Lipids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1" marL="1148400" indent="-66096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Perpetua"/>
              </a:rPr>
              <a:t>Phospholipid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1148400" indent="-66096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Perpetua"/>
              </a:rPr>
              <a:t>Lipoprotein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1148400" indent="-66096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Perpetua"/>
              </a:rPr>
              <a:t> </a:t>
            </a:r>
            <a:r>
              <a:rPr b="1" lang="en-US" sz="3200" spc="-1" strike="noStrike">
                <a:solidFill>
                  <a:srgbClr val="9b2d1f"/>
                </a:solidFill>
                <a:latin typeface="Perpetua"/>
              </a:rPr>
              <a:t>Glycolipid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Impact"/>
              </a:rPr>
              <a:t>Fatty Acid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40" name="Picture 4" descr="16_002"/>
          <p:cNvPicPr/>
          <p:nvPr/>
        </p:nvPicPr>
        <p:blipFill>
          <a:blip r:embed="rId1"/>
          <a:srcRect l="3027" t="2612" r="3150" b="55561"/>
          <a:stretch/>
        </p:blipFill>
        <p:spPr>
          <a:xfrm>
            <a:off x="1143000" y="2590920"/>
            <a:ext cx="7086600" cy="243828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10"/>
          <p:cNvSpPr/>
          <p:nvPr/>
        </p:nvSpPr>
        <p:spPr>
          <a:xfrm>
            <a:off x="537480" y="5359320"/>
            <a:ext cx="825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b2d1f"/>
                </a:solidFill>
                <a:latin typeface="Times New Roman"/>
              </a:rPr>
              <a:t>Amphipathic: Both hydrophobic &amp; hydrophilic p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Impact"/>
              </a:rPr>
              <a:t>Fatty Acid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560" y="14475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4080" indent="-244080"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Chain length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4" marL="492480" indent="-205560"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Perpetua"/>
              </a:rPr>
              <a:t>Short-chain &amp; Medium-Chai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492480" indent="-205560"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Perpetua"/>
              </a:rPr>
              <a:t>Long-Chain </a:t>
            </a:r>
            <a:r>
              <a:rPr b="1" lang="en-US" sz="3200" spc="-1" strike="noStrike">
                <a:solidFill>
                  <a:srgbClr val="008000"/>
                </a:solidFill>
                <a:latin typeface="Perpetua"/>
              </a:rPr>
              <a:t>e.g., Palmitic acid 16:0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492480" indent="-205560"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Perpetua"/>
              </a:rPr>
              <a:t>Very long-chain </a:t>
            </a:r>
            <a:r>
              <a:rPr b="1" lang="en-US" sz="3200" spc="-1" strike="noStrike">
                <a:solidFill>
                  <a:srgbClr val="008000"/>
                </a:solidFill>
                <a:latin typeface="Perpetua"/>
              </a:rPr>
              <a:t>e.g., Nervonic acid 24:1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204120" indent="-204120"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Degree of saturation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4" marL="492480" indent="-205560"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Perpetua"/>
              </a:rPr>
              <a:t>Saturated: No double bond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492480" indent="-205560"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Perpetua"/>
              </a:rPr>
              <a:t>Unsaturated: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492480" indent="-205560"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Perpetua"/>
              </a:rPr>
              <a:t>Mono- or poly-unsaturated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492480" indent="-205560"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Perpetua"/>
              </a:rPr>
              <a:t>Cis- or trans-form of double bond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204120" indent="-204120"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Essential fatty acid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4" marL="492480" indent="-205560"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16_004"/>
          <p:cNvPicPr/>
          <p:nvPr/>
        </p:nvPicPr>
        <p:blipFill>
          <a:blip r:embed="rId1"/>
          <a:srcRect l="22301" t="3975" r="23744" b="17654"/>
          <a:stretch/>
        </p:blipFill>
        <p:spPr>
          <a:xfrm>
            <a:off x="3149640" y="152280"/>
            <a:ext cx="5460840" cy="655344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9"/>
          <p:cNvSpPr/>
          <p:nvPr/>
        </p:nvSpPr>
        <p:spPr>
          <a:xfrm>
            <a:off x="460440" y="3200400"/>
            <a:ext cx="242856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Fatty Ac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ounded Rectangle 3"/>
          <p:cNvSpPr/>
          <p:nvPr/>
        </p:nvSpPr>
        <p:spPr>
          <a:xfrm>
            <a:off x="3505320" y="4572000"/>
            <a:ext cx="4800600" cy="533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533520" y="533520"/>
            <a:ext cx="79246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Impact"/>
              </a:rPr>
              <a:t>Essential Fatty Ac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8288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651960" indent="-651960"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Linoleic acid, 18:2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651960" indent="-651960"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Linolenic acid, 18:3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651960" indent="-651960"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The precursor of prostaglandins, 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Arachidonic acid 20:4</a:t>
            </a: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, is also considered 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essential fatty acid </a:t>
            </a: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if linoleic acid is deficient from diet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eem</dc:creator>
  <dc:description/>
  <dc:language>en-US</dc:language>
  <cp:lastModifiedBy>Najd Alomran</cp:lastModifiedBy>
  <dcterms:modified xsi:type="dcterms:W3CDTF">2014-10-17T12:36:52Z</dcterms:modified>
  <cp:revision>37</cp:revision>
  <dc:subject/>
  <dc:title>PowerPoint Presentation</dc:title>
</cp:coreProperties>
</file>