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.xml" ContentType="application/vnd.openxmlformats-officedocument.presentationml.comments+xml"/>
  <Override PartName="/ppt/comments/comment21.xml" ContentType="application/vnd.openxmlformats-officedocument.presentationml.comments+xml"/>
  <Override PartName="/ppt/comments/comment3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s/comment12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8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Najd Alomran" initials="NA" lastIdx="2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4-10-17T14:12:00.504000000" idx="15">
    <p:pos x="3296" y="1689"/>
    <p:text>attached to some thing</p:text>
  </p:cm>
  <p:cm authorId="0" dt="2014-10-17T14:12:47.959000000" idx="16">
    <p:pos x="296" y="1496"/>
    <p:text>plasma acids</p:text>
  </p:cm>
</p:cmLst>
</file>

<file path=ppt/comments/comment12.xml><?xml version="1.0" encoding="utf-8"?>
<p:cmLst xmlns:p="http://schemas.openxmlformats.org/presentationml/2006/main">
  <p:cm authorId="0" dt="2014-10-17T14:22:22.152000000" idx="17">
    <p:pos x="5103" y="1074"/>
    <p:text>acids in nature
ph of blood 7.2</p:text>
  </p:cm>
</p:cmLst>
</file>

<file path=ppt/comments/comment15.xml><?xml version="1.0" encoding="utf-8"?>
<p:cmLst xmlns:p="http://schemas.openxmlformats.org/presentationml/2006/main">
  <p:cm authorId="0" dt="2014-10-17T15:22:58.221000000" idx="18">
    <p:pos x="3760" y="881"/>
    <p:text>all hyrophobic</p:text>
  </p:cm>
</p:cmLst>
</file>

<file path=ppt/comments/comment18.xml><?xml version="1.0" encoding="utf-8"?>
<p:cmLst xmlns:p="http://schemas.openxmlformats.org/presentationml/2006/main">
  <p:cm authorId="0" dt="2014-10-17T15:30:00.255000000" idx="19">
    <p:pos x="195" y="439"/>
    <p:text>أكثرهم شايل برتين أكثرهم density</p:text>
  </p:cm>
</p:cmLst>
</file>

<file path=ppt/comments/comment19.xml><?xml version="1.0" encoding="utf-8"?>
<p:cmLst xmlns:p="http://schemas.openxmlformats.org/presentationml/2006/main">
  <p:cm authorId="0" dt="2014-10-17T15:31:24.002000000" idx="20">
    <p:pos x="3925" y="875"/>
    <p:text>more protein more density low lipids</p:text>
  </p:cm>
</p:cmLst>
</file>

<file path=ppt/comments/comment2.xml><?xml version="1.0" encoding="utf-8"?>
<p:cmLst xmlns:p="http://schemas.openxmlformats.org/presentationml/2006/main">
  <p:cm authorId="0" dt="2014-10-17T13:35:18.054000000" idx="1">
    <p:pos x="2813" y="2308"/>
    <p:text>adek
vitamin
a
d
e
k</p:text>
  </p:cm>
  <p:cm authorId="0" dt="2014-10-17T13:34:47.587000000" idx="2">
    <p:pos x="5181" y="1565"/>
    <p:text>have polar and nonpolar</p:text>
  </p:cm>
  <p:cm authorId="0" dt="2014-10-17T13:35:31.565000000" idx="3">
    <p:pos x="2161" y="2999"/>
    <p:text>lipids in nature</p:text>
  </p:cm>
</p:cmLst>
</file>

<file path=ppt/comments/comment21.xml><?xml version="1.0" encoding="utf-8"?>
<p:cmLst xmlns:p="http://schemas.openxmlformats.org/presentationml/2006/main">
  <p:cm authorId="0" dt="2014-10-17T15:33:10.469000000" idx="21">
    <p:pos x="1324" y="2803"/>
    <p:text>bad
good</p:text>
  </p:cm>
</p:cmLst>
</file>

<file path=ppt/comments/comment3.xml><?xml version="1.0" encoding="utf-8"?>
<p:cmLst xmlns:p="http://schemas.openxmlformats.org/presentationml/2006/main">
  <p:cm authorId="0" dt="2014-10-17T13:36:24.065000000" idx="4">
    <p:pos x="4983" y="1757"/>
    <p:text>تصلب الشرايين و ضغط الدم</p:text>
  </p:cm>
</p:cmLst>
</file>

<file path=ppt/comments/comment4.xml><?xml version="1.0" encoding="utf-8"?>
<p:cmLst xmlns:p="http://schemas.openxmlformats.org/presentationml/2006/main">
  <p:cm authorId="0" dt="2014-10-17T13:38:38.987000000" idx="5">
    <p:pos x="3607" y="1092"/>
    <p:text>مجموعة مختلفة عن بعضها</p:text>
  </p:cm>
</p:cmLst>
</file>

<file path=ppt/comments/comment5.xml><?xml version="1.0" encoding="utf-8"?>
<p:cmLst xmlns:p="http://schemas.openxmlformats.org/presentationml/2006/main">
  <p:cm authorId="0" dt="2014-10-17T13:49:38.568000000" idx="6">
    <p:pos x="2910" y="1517"/>
    <p:text>subcoutenous 
adepose tissue which is made up of fat cell</p:text>
  </p:cm>
  <p:cm authorId="0" dt="2014-10-17T13:48:24.943000000" idx="7">
    <p:pos x="3539" y="982"/>
    <p:text>hydrocarbon
a vary hydrophobic chain
nonpolar</p:text>
  </p:cm>
</p:cmLst>
</file>

<file path=ppt/comments/comment7.xml><?xml version="1.0" encoding="utf-8"?>
<p:cmLst xmlns:p="http://schemas.openxmlformats.org/presentationml/2006/main">
  <p:cm authorId="0" dt="2014-10-17T13:45:09.632000000" idx="8">
    <p:pos x="4910" y="2074"/>
    <p:text>in nervous tissue</p:text>
  </p:cm>
  <p:cm authorId="0" dt="2014-10-17T13:59:42.264000000" idx="9">
    <p:pos x="3618" y="2689"/>
    <p:text>solud</p:text>
  </p:cm>
  <p:cm authorId="0" dt="2014-10-17T13:59:55.149000000" idx="10">
    <p:pos x="4046" y="3253"/>
    <p:text>more bonds liquid</p:text>
  </p:cm>
  <p:cm authorId="0" dt="2014-10-17T14:06:07.278000000" idx="11">
    <p:pos x="825" y="3618"/>
    <p:text>hydrogen:
same side -cis rigid
different sides - trans - flexible</p:text>
  </p:cm>
  <p:cm authorId="0" dt="2014-10-17T14:07:50.376000000" idx="12">
    <p:pos x="2824" y="3968"/>
    <p:text>i cant produce them i get it from nutriontionally essential</p:text>
  </p:cm>
</p:cmLst>
</file>

<file path=ppt/comments/comment8.xml><?xml version="1.0" encoding="utf-8"?>
<p:cmLst xmlns:p="http://schemas.openxmlformats.org/presentationml/2006/main">
  <p:cm authorId="0" dt="2014-10-17T14:09:38.427000000" idx="13">
    <p:pos x="3782" y="2939"/>
    <p:text>carbon number</p:text>
  </p:cm>
  <p:cm authorId="0" dt="2014-10-17T14:09:52.774000000" idx="14">
    <p:pos x="4153" y="2839"/>
    <p:text>double bond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441F-0A01-46E7-B787-923FBA41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7E9-34CB-4067-83B6-253D2FEB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773-D7BA-4F8C-9458-3A46D29C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6A8-8847-4000-9339-3790F0FD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F228-A331-4F3D-8072-26A44CFE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84C6-D4B7-4752-953C-9881BA1C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DFD4-4939-451F-9121-EE0DA30C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2B53-53A6-4A76-8EA5-8CBAE161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203C-06F3-4D34-A328-6E2D00C3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DB1E-6B7D-4D7B-9A4E-0716BE18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376B-16E4-426C-AD91-B3BFBCA2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EDF-FE14-409A-9E82-AA18EF03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5ECA-3B34-484B-AAB7-49138AD8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8DE8-8A0A-472E-82E8-30E66105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9DCA-0C65-425F-B6E3-B6A2CEF5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4F09-78B7-44AC-907F-A437DEBA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AC45-5884-41A5-80DD-B7FFB035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21840-B4E9-4B6F-BF1F-E4646DB83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2D085-4428-492C-97E0-6277FA3A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D397C-8116-4D10-9B78-A63CD384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70E4F-9016-47A3-A55B-79F7B616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44587-82F4-4168-B65C-69903C4E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3EE-5663-4FF1-9F1D-C7D37701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5D63-808D-4F02-B9CA-02AFDB1B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665F7-061C-4ACD-9449-8B6E18ED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FF563-7642-4C5B-A70F-1D24578F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7F3C4-7467-43B2-8E72-465C6D3A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15FEA-31F3-4B58-BA37-3FE5BF3E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D43E7-BB50-4A34-92FB-50BECF8B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74797-68DE-4DBD-95F6-873F8852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7F5CC-0896-422B-9FE4-B9D4ECAB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FA908-30C2-4A09-81F1-CC3E45E7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599B7-B654-4087-B0C2-C965EFF8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FB8D-24F8-455D-AC5B-F43970FB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49DD5-44D1-4DB2-9405-A8A14963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153B6-379B-4540-8DE1-3E319773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C0011-96C3-4AC5-899B-18277921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DB7B0-C690-4887-9388-5C495297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BD5A8-B238-4881-8C1A-1D9CF800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E58BA-1C47-4D2A-B47D-3DE60B78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BE83C-ECB6-406F-8E14-6D00A8D8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8D2BF-A8C3-45AB-96A4-74668AD1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F3645-FB28-4287-9825-65A1E511D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0000E-CC55-4C11-A193-6C5DF1A5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C09-4A6D-4755-8E21-B0493F40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18D4A-E891-454A-B63B-4A501B8E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1EA5F-7C39-4056-BDF6-054A9EA5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585C5-16CE-4BCC-9298-41DFCD24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B0792-7776-4C5B-9B68-24CBF69F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1A374-CA53-433A-ABA9-82A757C9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31E02-DFD5-4531-BE62-571B0D64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31344-BE38-4EF0-88C7-D4443296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A0562-44CD-4A54-B50C-32424BCD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E2A46-448A-4687-B891-703E58D5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74165-2438-4346-8B95-5D377EAD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F601-8506-45B3-B91A-9E265FDC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E77EA-6A08-44E3-9FB7-48530189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0B6-B03C-48F8-B2B1-1137FC80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085-ECE0-406E-9B39-196D0AEC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A8BB-CD60-4273-B94B-C51DE4C4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9448-9CC8-4505-B3D3-1848F6023F80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276E-01A2-40FB-8BC6-D91B86A65F15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3040" cy="6705360"/>
            <a:chOff x="60480" y="60480"/>
            <a:chExt cx="9023040" cy="670536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304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53C9-D722-43A5-BC55-9F7C19D05508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AB23-0E94-4AA6-8BA9-6D1151DCC7DB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D064-3AAF-4B6E-9991-1065629687B8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Impact"/>
              </a:rPr>
              <a:t>Objectiv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Functions of lipid compound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Clinical problem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Lipid compounds of physiological importanc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Complex lipids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b2d1f"/>
                </a:solidFill>
                <a:latin typeface="Perpetua"/>
              </a:rPr>
              <a:t>Phospholipids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Glycolipid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514440" indent="-214560">
              <a:spcBef>
                <a:spcPts val="374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Lipoprotein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Impact"/>
              </a:rPr>
              <a:t>Plasma Fatty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304920" y="2406600"/>
            <a:ext cx="8839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sterified form (~90%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riacylglycerol, cholesterol ester, phospholipids (as part of lipoprotei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ee-form (unesterified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Transported in association with albu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Impact"/>
              </a:rPr>
              <a:t>Triacylglycerols (TG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Storage form of lipids in adipose tissue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Constitute ~ 90% of dietary lipid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Composed of glycerol plus 3 fatty acid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23560" indent="-22356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b2d1f"/>
                </a:solidFill>
                <a:latin typeface="Perpetua"/>
              </a:rPr>
              <a:t>Transported in blood: in c</a:t>
            </a:r>
            <a:r>
              <a:rPr b="1" lang="en-US" sz="3600" spc="-1" strike="noStrike">
                <a:solidFill>
                  <a:srgbClr val="990000"/>
                </a:solidFill>
                <a:latin typeface="Perpetua"/>
              </a:rPr>
              <a:t>hylomicrons &amp; very low density lipoprotein (VLDL)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16_022"/>
          <p:cNvPicPr/>
          <p:nvPr/>
        </p:nvPicPr>
        <p:blipFill>
          <a:blip r:embed="rId1"/>
          <a:srcRect l="32406" t="3027" r="31482" b="13241"/>
          <a:stretch/>
        </p:blipFill>
        <p:spPr>
          <a:xfrm>
            <a:off x="3048120" y="228600"/>
            <a:ext cx="2971800" cy="63244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2"/>
          <p:cNvSpPr/>
          <p:nvPr/>
        </p:nvSpPr>
        <p:spPr>
          <a:xfrm>
            <a:off x="942840" y="1371600"/>
            <a:ext cx="723924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020240" y="2514600"/>
            <a:ext cx="359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9b2d1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Ace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b2d1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Acetoace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9b2d1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9b2d1f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-Hydroxybuty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921240" y="1635120"/>
            <a:ext cx="29865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Ketone Bo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4375080" y="1447920"/>
            <a:ext cx="373068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9b2d1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Water-soluble 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9b2d1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Increase in Diabetic Ketoacidosis (DK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8"/>
          <p:cNvSpPr/>
          <p:nvPr/>
        </p:nvSpPr>
        <p:spPr>
          <a:xfrm>
            <a:off x="685800" y="1371600"/>
            <a:ext cx="80391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Glycerophospho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Glycerol-containing 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b2d1f"/>
                </a:solidFill>
                <a:latin typeface="Times New Roman"/>
              </a:rPr>
              <a:t>1. Phosphatidylcholine (Lec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9b2d1f"/>
                </a:solidFill>
                <a:latin typeface="Times New Roman"/>
              </a:rPr>
              <a:t>e.g.,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urfactant (Dipalmitoylec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9b2d1f"/>
                </a:solidFill>
                <a:latin typeface="Times New Roman"/>
              </a:rPr>
              <a:t>2. Phosphatidyl inositol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signaling molec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B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hingo-phospho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phingosine-containing phospholipi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.g., sphingomyelin </a:t>
            </a: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(Myelin sh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(To be discussed with CNS B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2895480" y="492120"/>
            <a:ext cx="35816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Phospholip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17_001"/>
          <p:cNvPicPr/>
          <p:nvPr/>
        </p:nvPicPr>
        <p:blipFill>
          <a:blip r:embed="rId1"/>
          <a:srcRect l="24169" t="2831" r="46669" b="19813"/>
          <a:stretch/>
        </p:blipFill>
        <p:spPr>
          <a:xfrm>
            <a:off x="1600200" y="228600"/>
            <a:ext cx="2666880" cy="62485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7"/>
          <p:cNvSpPr/>
          <p:nvPr/>
        </p:nvSpPr>
        <p:spPr>
          <a:xfrm>
            <a:off x="4800600" y="31240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.g. of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1. Phosphatidylcho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(Lecith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e.g., Surfa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(Dipalmitoyl lecith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4425840" y="415800"/>
            <a:ext cx="3935880" cy="10692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Phospholipi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. Glycero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5183640" y="5562720"/>
            <a:ext cx="314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Parent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Phosphatid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eft Arrow 6"/>
          <p:cNvSpPr/>
          <p:nvPr/>
        </p:nvSpPr>
        <p:spPr>
          <a:xfrm>
            <a:off x="4191120" y="4648320"/>
            <a:ext cx="76176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Oval 7"/>
          <p:cNvSpPr/>
          <p:nvPr/>
        </p:nvSpPr>
        <p:spPr>
          <a:xfrm>
            <a:off x="1523880" y="5410080"/>
            <a:ext cx="2819520" cy="114300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eft Arrow 8"/>
          <p:cNvSpPr/>
          <p:nvPr/>
        </p:nvSpPr>
        <p:spPr>
          <a:xfrm>
            <a:off x="4419720" y="5867280"/>
            <a:ext cx="76176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0070c0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18_002"/>
          <p:cNvPicPr/>
          <p:nvPr/>
        </p:nvPicPr>
        <p:blipFill>
          <a:blip r:embed="rId1"/>
          <a:srcRect l="13866" t="3884" r="16968" b="17478"/>
          <a:stretch/>
        </p:blipFill>
        <p:spPr>
          <a:xfrm>
            <a:off x="4572000" y="380880"/>
            <a:ext cx="4038480" cy="61722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33"/>
            </a:solidFill>
            <a:miter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Cholesterol: Structur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61976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33"/>
            </a:solidFill>
            <a:miter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Impact"/>
              </a:rPr>
              <a:t>Overview and Functions of Cholesterol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320" y="1128600"/>
            <a:ext cx="90676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aj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terol of animal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mponent of cell membra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Precursor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Bile acids &amp; sa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Vitamin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Steroid horm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Mineralocorticoids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Ald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Glucocorticoids,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Corti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x hormones,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Test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Estrogen &amp; proge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bnormally high level in blood (Hypercholesterolemia)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ssociated with Atherosclerosis &amp; Coronary Artery Disease (C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Impact"/>
              </a:rPr>
              <a:t>Lipoprotei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06720" y="1847880"/>
            <a:ext cx="86479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Protein part: Apoproteins or apolipo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bbrevia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o-A, B,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Structural and transpor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Enzymatic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Ligands for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Lipid p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According to the type of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Different lipid components in various comb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18_014"/>
          <p:cNvPicPr/>
          <p:nvPr/>
        </p:nvPicPr>
        <p:blipFill>
          <a:blip r:embed="rId1"/>
          <a:srcRect l="17504" t="2021" r="15833" b="19294"/>
          <a:stretch/>
        </p:blipFill>
        <p:spPr>
          <a:xfrm>
            <a:off x="1600200" y="53352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7"/>
          <p:cNvSpPr/>
          <p:nvPr/>
        </p:nvSpPr>
        <p:spPr>
          <a:xfrm>
            <a:off x="5715000" y="5410080"/>
            <a:ext cx="335268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b2d1f"/>
                </a:solidFill>
                <a:latin typeface="Impact"/>
              </a:rPr>
              <a:t>Lipoprotei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18_019"/>
          <p:cNvPicPr/>
          <p:nvPr/>
        </p:nvPicPr>
        <p:blipFill>
          <a:blip r:embed="rId1"/>
          <a:srcRect l="35835" t="2397" r="34170" b="15528"/>
          <a:stretch/>
        </p:blipFill>
        <p:spPr>
          <a:xfrm>
            <a:off x="2971800" y="152280"/>
            <a:ext cx="2743200" cy="66294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7"/>
          <p:cNvSpPr/>
          <p:nvPr/>
        </p:nvSpPr>
        <p:spPr>
          <a:xfrm>
            <a:off x="228600" y="2209680"/>
            <a:ext cx="2971800" cy="22860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Compos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715000" y="57780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Chylomic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Very 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V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High den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H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Franklin Gothic Book"/>
              </a:rPr>
              <a:t>Functions of lipid compoun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2480" indent="-222480"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2d1f"/>
                </a:solidFill>
                <a:latin typeface="Perpetua"/>
              </a:rPr>
              <a:t>Major energy source for the body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22480" indent="-222480"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2d1f"/>
                </a:solidFill>
                <a:latin typeface="Perpetua"/>
              </a:rPr>
              <a:t>Structural component of cell membran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22480" indent="-222480"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b2d1f"/>
                </a:solidFill>
                <a:latin typeface="Perpetua"/>
              </a:rPr>
              <a:t>Important regulatory molecules; examples: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3" marL="448920" indent="-187200">
              <a:buClr>
                <a:srgbClr val="99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Perpetua"/>
              </a:rPr>
              <a:t>Fat-soluble vitamins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 lvl="3" marL="448920" indent="-187200">
              <a:buClr>
                <a:srgbClr val="99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Perpetua"/>
              </a:rPr>
              <a:t>Steroid hormones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 lvl="3" marL="448920" indent="-187200">
              <a:buClr>
                <a:srgbClr val="99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Perpetua"/>
              </a:rPr>
              <a:t>Prostaglandins</a:t>
            </a:r>
            <a:endParaRPr b="0" lang="en-US" sz="3800" spc="-1" strike="noStrike">
              <a:solidFill>
                <a:srgbClr val="000000"/>
              </a:solidFill>
              <a:latin typeface="Perpetua"/>
            </a:endParaRPr>
          </a:p>
          <a:p>
            <a:pPr lvl="3" marL="448920" indent="-187200">
              <a:buClr>
                <a:srgbClr val="99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Perpetua"/>
              </a:rPr>
              <a:t>Signaling molecules; e.g.  </a:t>
            </a:r>
            <a:r>
              <a:rPr b="0" lang="en-US" sz="3400" spc="-1" strike="noStrike">
                <a:solidFill>
                  <a:srgbClr val="990000"/>
                </a:solidFill>
                <a:latin typeface="Perpetua"/>
              </a:rPr>
              <a:t>Inositol triphosphate (IP3)</a:t>
            </a:r>
            <a:endParaRPr b="0" lang="en-US" sz="3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18_025"/>
          <p:cNvPicPr/>
          <p:nvPr/>
        </p:nvPicPr>
        <p:blipFill>
          <a:blip r:embed="rId1"/>
          <a:srcRect l="38387" t="23741" r="37629" b="17268"/>
          <a:stretch/>
        </p:blipFill>
        <p:spPr>
          <a:xfrm>
            <a:off x="1523880" y="304920"/>
            <a:ext cx="2667240" cy="62481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4343400" y="3048120"/>
            <a:ext cx="4572000" cy="1904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Ultracentrifu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Impact"/>
              </a:rPr>
              <a:t>Plasma 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275760" y="2208240"/>
            <a:ext cx="85993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Transport of Triacylglycerol (TG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ylomicrons: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ietary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VL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ndogenous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Transport of Cholesterol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L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Mainly free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H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ＭＳ Ｐゴシック"/>
              </a:rPr>
              <a:t>Mainly esterifie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Take 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81080" y="1828800"/>
            <a:ext cx="9100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Lipids are heterogeneous group of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Lipids are relatively water-in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imple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Fatty Acid, TG, Ketone bodies, 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Complex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.g., Phospholipids, Lipo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Lipids have important physiologica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Lipid disorders are the basis for common hu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diseases, namel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obesity</a:t>
            </a: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theroscler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Franklin Gothic Book"/>
              </a:rPr>
              <a:t>Lipids and Related Clinical Proble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18284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Perpetua"/>
              </a:rPr>
              <a:t>Obesity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Perpetua"/>
              </a:rPr>
              <a:t>Atherosclerosis &amp; hypertension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spcAft>
                <a:spcPts val="1199"/>
              </a:spcAft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Perpetua"/>
              </a:rPr>
              <a:t>Coronary heart diseas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Franklin Gothic Book"/>
              </a:rPr>
              <a:t>Lipid Compoun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Perpetua"/>
              </a:rPr>
              <a:t>Heterogeneous group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Perpetua"/>
              </a:rPr>
              <a:t>Relatively water-insoluble </a:t>
            </a:r>
            <a:r>
              <a:rPr b="1" lang="en-US" sz="4000" spc="-1" strike="noStrike">
                <a:solidFill>
                  <a:srgbClr val="990000"/>
                </a:solidFill>
                <a:latin typeface="Perpetua"/>
              </a:rPr>
              <a:t>(Ketone bodies are the exception)</a:t>
            </a:r>
            <a:r>
              <a:rPr b="1" lang="en-US" sz="4000" spc="-1" strike="noStrike">
                <a:solidFill>
                  <a:srgbClr val="9b2d1f"/>
                </a:solidFill>
                <a:latin typeface="Perpet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spcAft>
                <a:spcPts val="1199"/>
              </a:spcAft>
              <a:buClr>
                <a:srgbClr val="99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Perpetua"/>
              </a:rPr>
              <a:t>Soluble in non-polar solvent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2d1f"/>
                </a:solidFill>
                <a:latin typeface="Perpetu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15_001"/>
          <p:cNvPicPr/>
          <p:nvPr/>
        </p:nvPicPr>
        <p:blipFill>
          <a:blip r:embed="rId1"/>
          <a:srcRect l="25384" t="1868" r="22640" b="19627"/>
          <a:stretch/>
        </p:blipFill>
        <p:spPr>
          <a:xfrm>
            <a:off x="5446800" y="152280"/>
            <a:ext cx="3316320" cy="64771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11"/>
          <p:cNvSpPr/>
          <p:nvPr/>
        </p:nvSpPr>
        <p:spPr>
          <a:xfrm>
            <a:off x="921600" y="5673600"/>
            <a:ext cx="35258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ipid Compoun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Heterogeneous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09480" y="45684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660960" indent="-6609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Simple Lipids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1148400" indent="-6609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Fatty aci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1148400" indent="-6609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Ketone bodie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1148400" indent="-6609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Triacylglycer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1148400" indent="-6609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660960" indent="-660960"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Complex Lipids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1" marL="1148400" indent="-6609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Phospholipi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1148400" indent="-6609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Lipoprotein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1148400" indent="-660960">
              <a:spcBef>
                <a:spcPts val="374"/>
              </a:spcBef>
              <a:buClr>
                <a:srgbClr val="9b2d1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 </a:t>
            </a:r>
            <a:r>
              <a:rPr b="1" lang="en-US" sz="3200" spc="-1" strike="noStrike">
                <a:solidFill>
                  <a:srgbClr val="9b2d1f"/>
                </a:solidFill>
                <a:latin typeface="Perpetua"/>
              </a:rPr>
              <a:t>Glycolipi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Impact"/>
              </a:rPr>
              <a:t>Fatty Aci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0" name="Picture 4" descr="16_002"/>
          <p:cNvPicPr/>
          <p:nvPr/>
        </p:nvPicPr>
        <p:blipFill>
          <a:blip r:embed="rId1"/>
          <a:srcRect l="3027" t="2612" r="3150" b="55561"/>
          <a:stretch/>
        </p:blipFill>
        <p:spPr>
          <a:xfrm>
            <a:off x="1143000" y="2590920"/>
            <a:ext cx="7086600" cy="24382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0"/>
          <p:cNvSpPr/>
          <p:nvPr/>
        </p:nvSpPr>
        <p:spPr>
          <a:xfrm>
            <a:off x="537480" y="535932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b2d1f"/>
                </a:solidFill>
                <a:latin typeface="Times New Roman"/>
              </a:rPr>
              <a:t>Amphipathic: Both hydrophobic &amp; hydrophilic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Fatty Acid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5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4080" indent="-244080"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Chain length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492480" indent="-205560"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rpetua"/>
              </a:rPr>
              <a:t>Short-chain &amp; Medium-Chai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492480" indent="-205560"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rpetua"/>
              </a:rPr>
              <a:t>Long-Chain </a:t>
            </a:r>
            <a:r>
              <a:rPr b="1" lang="en-US" sz="3200" spc="-1" strike="noStrike">
                <a:solidFill>
                  <a:srgbClr val="008000"/>
                </a:solidFill>
                <a:latin typeface="Perpetua"/>
              </a:rPr>
              <a:t>e.g., Palmitic acid 16:0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492480" indent="-205560"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rpetua"/>
              </a:rPr>
              <a:t>Very long-chain </a:t>
            </a:r>
            <a:r>
              <a:rPr b="1" lang="en-US" sz="3200" spc="-1" strike="noStrike">
                <a:solidFill>
                  <a:srgbClr val="008000"/>
                </a:solidFill>
                <a:latin typeface="Perpetua"/>
              </a:rPr>
              <a:t>e.g., Nervonic acid 24:1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204120" indent="-204120"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Degree of saturation: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492480" indent="-205560"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rpetua"/>
              </a:rPr>
              <a:t>Saturated: No double bon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492480" indent="-205560"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rpetua"/>
              </a:rPr>
              <a:t>Unsaturated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492480" indent="-205560"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rpetua"/>
              </a:rPr>
              <a:t>Mono- or poly-unsaturat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4" marL="492480" indent="-205560"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Perpetua"/>
              </a:rPr>
              <a:t>Cis- or trans-form of double bon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lvl="1" marL="204120" indent="-204120"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Essential fatty acid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lvl="4" marL="492480" indent="-205560"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16_004"/>
          <p:cNvPicPr/>
          <p:nvPr/>
        </p:nvPicPr>
        <p:blipFill>
          <a:blip r:embed="rId1"/>
          <a:srcRect l="22301" t="3975" r="23744" b="17654"/>
          <a:stretch/>
        </p:blipFill>
        <p:spPr>
          <a:xfrm>
            <a:off x="3149640" y="152280"/>
            <a:ext cx="5460840" cy="655344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9"/>
          <p:cNvSpPr/>
          <p:nvPr/>
        </p:nvSpPr>
        <p:spPr>
          <a:xfrm>
            <a:off x="460440" y="3200400"/>
            <a:ext cx="24285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Fatty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ounded Rectangle 3"/>
          <p:cNvSpPr/>
          <p:nvPr/>
        </p:nvSpPr>
        <p:spPr>
          <a:xfrm>
            <a:off x="3505320" y="4572000"/>
            <a:ext cx="480060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Impact"/>
              </a:rPr>
              <a:t>Essential Fatty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8288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51960" indent="-651960"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Linoleic acid, 18:2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651960" indent="-651960"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Linolenic acid, 18:3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651960" indent="-651960"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The precursor of prostaglandins, 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Arachidonic acid 20:4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, is also considered 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essential fatty acid 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if linoleic acid is deficient from diet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em</dc:creator>
  <dc:description/>
  <dc:language>en-US</dc:language>
  <cp:lastModifiedBy>Najd Alomran</cp:lastModifiedBy>
  <dcterms:modified xsi:type="dcterms:W3CDTF">2014-10-17T12:36:52Z</dcterms:modified>
  <cp:revision>37</cp:revision>
  <dc:subject/>
  <dc:title>PowerPoint Presentation</dc:title>
</cp:coreProperties>
</file>