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431D-9300-4C95-8CDD-F643F6A1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E9C-9501-47FA-B799-1B6F0485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DA2F-004A-4B08-B808-7E420696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1986-BE89-4393-85B1-DA1510EE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D83D-4B83-465A-A1C5-2EDA8F6F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1ABD-B48C-440F-B79C-86CA298C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04D6-1D6A-4E65-9C6B-4B49CD6B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F2EA-6ADA-4472-959C-D253B429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21E0-0FB6-431F-B870-1C8C6A5F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493A-1340-4CA6-BB57-1D99B832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3BDF-5AE0-440C-B9EC-03EE96CF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C768-3444-4C80-B875-BA8E2DD5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D2F8-9BE1-4599-BA72-38E69D5C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A212-6601-4B2D-9C7A-FF63723B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B40A-0CB1-43CE-A8A2-0EED5C3A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149E-A76F-43F9-9144-D0DD1540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238C-2876-44D1-88C4-DA724033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C5B-A22B-496C-BA64-B7410751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ECD0-34E5-499B-B8F9-0A0336F7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0F4-B889-408D-AC3E-07290859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E78A-6C37-441F-BA5F-C3890272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FAC-E39B-400B-B785-2229DF27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EBD-80CA-488E-BD70-596DCD42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51AE-496A-4FDD-A1FC-79D576C8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1738-B43D-4C86-8F7F-26470CC7A8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FE89-8BB0-4919-9DC2-0CD67ECF174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alibri"/>
              </a:rPr>
              <a:t>Enzymes and coenzymes II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5996"/>
                </a:solidFill>
                <a:latin typeface="Calibri"/>
              </a:rPr>
              <a:t>Dr. Sumbul Fat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5996"/>
                </a:solidFill>
                <a:latin typeface="Calibri"/>
              </a:rPr>
              <a:t>Clinical Chemistry Un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5996"/>
                </a:solidFill>
                <a:latin typeface="Calibri"/>
              </a:rPr>
              <a:t>Department of Patholog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82800" y="1905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26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The inhibitor does not have structural similarity to the substrate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26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9900"/>
                </a:solidFill>
                <a:latin typeface="Arial"/>
                <a:ea typeface="Arial"/>
              </a:rPr>
              <a:t>The inhibitor binds to the enzyme at a site away from the substrate binding site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26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No competition exists between the inhibitor and the substrate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26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9900"/>
                </a:solidFill>
                <a:latin typeface="Arial"/>
                <a:ea typeface="Arial"/>
              </a:rPr>
              <a:t>The inhibitor can bind to a free enzyme or to an enzyme-substrate complex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26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In both cases the complex is catalytically inactive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Noncompetitive  inhibi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82800" y="5331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ES + I </a:t>
            </a:r>
            <a:r>
              <a:rPr b="1" lang="en-US" sz="3300" spc="-1" strike="noStrike">
                <a:solidFill>
                  <a:srgbClr val="ff9900"/>
                </a:solidFill>
                <a:latin typeface="Symbol"/>
                <a:ea typeface="Symbol"/>
              </a:rPr>
              <a:t>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 ESI (inactive)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E + I </a:t>
            </a:r>
            <a:r>
              <a:rPr b="1" lang="en-US" sz="3300" spc="-1" strike="noStrike">
                <a:solidFill>
                  <a:srgbClr val="ff9900"/>
                </a:solidFill>
                <a:latin typeface="Symbol"/>
                <a:ea typeface="Symbol"/>
              </a:rPr>
              <a:t>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 EI (inactive)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The value of V</a:t>
            </a:r>
            <a:r>
              <a:rPr b="1" lang="en-US" sz="33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 is decreased by the inhibitor, but K</a:t>
            </a:r>
            <a:r>
              <a:rPr b="1" lang="en-US" sz="33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 is unchanged because the affinity of S for E is unchanged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800600" y="3273480"/>
            <a:ext cx="3048120" cy="366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8280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"/>
              </a:rPr>
              <a:t>Regulatory enzymes usually catalyze the first or an early reaction in a metabolic pathw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Palatino"/>
              </a:rPr>
              <a:t>They catalyze a rate limiting reaction that controls the overall pathw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"/>
              </a:rPr>
              <a:t>They may also catalyze a reaction unique to that pathway known as committed ste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Palatino"/>
              </a:rPr>
              <a:t>Regulation of enzyme activit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82800" y="457200"/>
            <a:ext cx="7315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Feedback inhibition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hen the end product of a metabolic pathway exceeds its concentration limit, it inhibits the regulatory enzyme to normalize the pathway (feedback inhibition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Feed positive activation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hen the end product of a metabolic pathway is below its concentration limit, it activates the regulatory enzyme to normalize the pathwa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8280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Allosteric enzyme regul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 enzymes in metabolic pathways whose activities can be regulated by certain compounds that bind to enzyme other than the catalytic site are known as allosteric enzym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  <a:ea typeface="Arial"/>
              </a:rPr>
              <a:t>The term “allosteric” came from Greek word “allos” meaning “other”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Types of regul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82800" y="99036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Cooperative bin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process by which binding of a ligand to a regulatory site affects binding of the same or of another ligand to the enzyme is known as cooperative bin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82800" y="9903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inding of an allosteric modulator causes a change in the conformation of the enzy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This causes a change in the binding affinity of enzyme for the substr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82800" y="8377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effect of a modulator may be positive (activation) or negative (inhibi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Positive: increased E, S affinit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Negative decreased E, S affinit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Most allosteric enzymes are oligomers (two or more polypeptide chains or subunit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subunits are known as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protom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82800" y="76212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wo types of interactions occur in allosteric enzym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Homotropic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Heterotropic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Homotropic: Effect of one ligand on the binding of the same ligand (a regulatory enzyme modulated by its own substrat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terotropic: Effect of one ligand on the binding of a different liga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7764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Inhibition is a process in which the enzyme activity is regulated or controlled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To inhibit means to stop the enzyme activity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nzyme inhibi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84240" y="456840"/>
            <a:ext cx="530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Enzymatic diagnosis and prognosis of disea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82800" y="19051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nzymes are used clinically in three ways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  <a:ea typeface="Arial"/>
              </a:rPr>
              <a:t>As indicators of enzyme activity or conc. in body fluids (serum, urine) in the diagnosis/prognosis of diseas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s analytical reagents in measuring activity of other enzymes or compounds in body fluid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  <a:ea typeface="Arial"/>
              </a:rPr>
              <a:t>As therapeutic agen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828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most commonly used body fluids for measuring enzyme activity are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seru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d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 plas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There ar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Plasma-specific enzym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Nonplasma-specific enzym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Serum markers in the diagnosis of dise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43828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Heart diseas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Pancreatic disease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Liver disease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ppincott- Illustrated Reviews in Biochemistry, 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oet 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</a:rPr>
              <a:t>Biochemistry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04 John Wiley &amp; S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62cb"/>
                </a:solidFill>
                <a:latin typeface="Arial"/>
              </a:rPr>
              <a:t>An enzyme without inhibi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703440" y="419040"/>
            <a:ext cx="7735680" cy="5105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 rot="16200000">
            <a:off x="-142560" y="470520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age 53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oet 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</a:rPr>
              <a:t>Biochemistry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04 John Wiley &amp; S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715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62cb"/>
                </a:solidFill>
                <a:latin typeface="Arial"/>
              </a:rPr>
              <a:t>An enzyme with inhibitor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685800" y="561960"/>
            <a:ext cx="7772400" cy="4818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 rot="16200000">
            <a:off x="-139320" y="470520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age 53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re are mainly two types of enzyme inhibiti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Competit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Noncompetit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nzyme inhibi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7535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1" lang="en-US" sz="33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 is a measure of the affinity of the inhibitor for the enzyme. Also known as dissociation constant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K</a:t>
            </a:r>
            <a:r>
              <a:rPr b="1" lang="en-US" sz="44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i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 (Inhibitor constant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The inhibitor is a structural analogue that competes with the substrate for binding at the active site of enzym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Two equilibria are possible: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E + S </a:t>
            </a:r>
            <a:r>
              <a:rPr b="1" lang="en-US" sz="3300" spc="-1" strike="noStrike">
                <a:solidFill>
                  <a:srgbClr val="ff9900"/>
                </a:solidFill>
                <a:latin typeface="Symbol"/>
                <a:ea typeface="Symbol"/>
              </a:rPr>
              <a:t>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 ES </a:t>
            </a:r>
            <a:r>
              <a:rPr b="1" lang="en-US" sz="3300" spc="-1" strike="noStrike">
                <a:solidFill>
                  <a:srgbClr val="ff99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 E + P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and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E + I </a:t>
            </a:r>
            <a:r>
              <a:rPr b="1" lang="en-US" sz="3300" spc="-1" strike="noStrike">
                <a:solidFill>
                  <a:srgbClr val="ff9900"/>
                </a:solidFill>
                <a:latin typeface="Symbol"/>
                <a:ea typeface="Symbol"/>
              </a:rPr>
              <a:t>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 EI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ompetitive inhibi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76320" y="1371600"/>
            <a:ext cx="9199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1760" y="914400"/>
            <a:ext cx="7535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In competitive inhibition,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</a:t>
            </a:r>
            <a:r>
              <a:rPr b="1" lang="en-US" sz="3300" spc="-1" strike="noStrike" u="sng" baseline="-25000">
                <a:solidFill>
                  <a:srgbClr val="ffffff"/>
                </a:solidFill>
                <a:uFillTx/>
                <a:latin typeface="Arial"/>
                <a:ea typeface="Arial"/>
              </a:rPr>
              <a:t>max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is unchanged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 in the presence and the absence of inhibitor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The value of </a:t>
            </a:r>
            <a:r>
              <a:rPr b="1" lang="en-US" sz="3300" spc="-1" strike="noStrike" u="sng">
                <a:solidFill>
                  <a:srgbClr val="ff9900"/>
                </a:solidFill>
                <a:uFillTx/>
                <a:latin typeface="Arial"/>
                <a:ea typeface="Arial"/>
              </a:rPr>
              <a:t>K</a:t>
            </a:r>
            <a:r>
              <a:rPr b="1" lang="en-US" sz="3300" spc="-1" strike="noStrike" u="sng" baseline="-25000">
                <a:solidFill>
                  <a:srgbClr val="ff9900"/>
                </a:solidFill>
                <a:uFillTx/>
                <a:latin typeface="Arial"/>
                <a:ea typeface="Arial"/>
              </a:rPr>
              <a:t>m</a:t>
            </a:r>
            <a:r>
              <a:rPr b="1" lang="en-US" sz="3300" spc="-1" strike="noStrike" u="sng">
                <a:solidFill>
                  <a:srgbClr val="ff9900"/>
                </a:solidFill>
                <a:uFillTx/>
                <a:latin typeface="Arial"/>
                <a:ea typeface="Arial"/>
              </a:rPr>
              <a:t> is increased 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because substrate and inhibitor compete for binding at the same sit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A higher concentration of substrate is required to achieve half-maximal velocity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25800" indent="0" algn="just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8:31:02Z</dcterms:created>
  <dc:creator>ddf</dc:creator>
  <dc:description/>
  <dc:language>en-US</dc:language>
  <cp:lastModifiedBy>sumbul fatma</cp:lastModifiedBy>
  <dcterms:modified xsi:type="dcterms:W3CDTF">2014-10-13T05:46:42Z</dcterms:modified>
  <cp:revision>12</cp:revision>
  <dc:subject/>
  <dc:title>Enzyme and coenzyme II</dc:title>
</cp:coreProperties>
</file>