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9C3-94DE-4EAE-BBA6-BD26E205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010-1318-487C-9725-F85813B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42A-3758-4F49-BDB8-659AE571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D91-AEE3-4DCA-87A6-EB7D782B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610E-BF96-47AE-A875-16A6993C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83D9-2C59-4D32-B35C-9AD8A0D0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0DE6-B6BF-4DD8-AAF7-4357B46C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2A30-538E-47B7-A7DB-05AD02FE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5079-F71C-4988-A722-2C5B682A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29EC-D7E0-4E0C-8EE4-3388BA20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5D0A-9D1C-46D9-8E05-89078384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0A8-BA4F-40F4-B20F-452BAE9C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CA3C-4366-4EFF-B4D7-779B401D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7E85-C125-4877-BF9F-1FDD5808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D08-6EBA-4ABF-9027-27C30C89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4C6E-8486-4CC2-A778-A8B0A768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EF81-07EF-4E69-9A7D-E855DF05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B739-401F-4F09-888C-7B44841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DE2E-2DC3-43DF-A83B-A6E47AEF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AD7A-FC3A-4D4B-BC2D-8B5DE6A4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CCF-6BDA-46DA-A9A2-D047C9CC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246D-422B-44FA-9C5F-D5EF5C22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ECE-1A8E-4BB0-8021-FA17C3F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CA85-6039-4483-BB4F-A29FE667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0BA-1EE3-49B3-A901-5610E3D4E3F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5407-2FB4-46B1-B713-5334CA2EB6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Enzymes and coenzymes I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The inhibitor does not have structural similarity to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binds to the enzyme at a site away from the substrate binding si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No competition exists between the inhibitor and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can bind to a free enzyme or to an enzyme-substrate complex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In both cases the complex is catalytically inactiv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Noncompetitive  inhib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2800" y="533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S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value of V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decreased by the inhibitor, but 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unchanged because the affinity of S for E is unchang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3273480"/>
            <a:ext cx="30481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Regulatory enzymes usually catalyze the first or an early reaction in a metabolic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Palatino"/>
              </a:rPr>
              <a:t>They catalyze a rate limiting reaction that controls the overall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They may also catalyze a reaction unique to that pathway known as committed st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"/>
              </a:rPr>
              <a:t>Regulation of enzyme activ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82800" y="4572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back inhibi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exceeds its concentration limit, it inhibits the regulatory enzyme to normalize the pathway (feedback inhibitio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 positive activa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is below its concentration limit, it activates the regulatory enzyme to normalize the pathwa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828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Allosteric enzyme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enzymes in metabolic pathways whose activities can be regulated by certain compounds that bind to enzyme other than the catalytic site are known as allosteric enzym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The term “allosteric” came from Greek word “allos” meaning “other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ypes of regul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process by which binding of a ligand to a regulatory site affects binding of the same or of another ligand to the enzyme is known as 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nding of an allosteric modulator causes a change in the conformation of the enzy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is causes a change in the binding affinity of enzyme for the substr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82800" y="8377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effect of a modulator may be positive (activation) or negative (inhibi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Positive: in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Negative de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Most allosteric enzymes are oligomers (two or more polypeptide chains or sub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bunits are known a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ro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types of interactions occur in alloster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om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eter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Homotropic: Effect of one ligand on the binding of the same ligand (a regulatory enzyme modulated by its own subst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pic: Effect of one ligand on the binding of a different lig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6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hibition is a process in which the enzyme activity is regulated or controll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o inhibit means to stop the enzyme activ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84240" y="456840"/>
            <a:ext cx="530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nzymatic diagnosis and prognosis of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nzymes are used clinically in three way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indicators of enzyme activity or conc. in body fluids (serum, urine) in the diagnosis/prognosis of dis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 analytical reagents in measuring activity of other enzymes or compounds in body flui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therapeutic ag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828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most commonly used body fluids for measuring enzyme activity ar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seru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rum markers in the diagnosis of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2800" y="2438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Heart dise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Pancreatic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Liver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pincott- Illustrated Reviews in Biochemistry,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out inhibi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03440" y="419040"/>
            <a:ext cx="773568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 rot="16200000">
            <a:off x="-14256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 inhibitor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85800" y="56196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 rot="16200000">
            <a:off x="-13932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mainly two types of enzyme inhibi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53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a measure of the affinity of the inhibitor for the enzyme. Also known as dissociation constant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K</a:t>
            </a:r>
            <a:r>
              <a:rPr b="1" lang="en-US" sz="4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(Inhibitor constan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inhibitor is a structural analogue that competes with the substrate for binding at the active site of enzym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wo equilibria are possible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S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 </a:t>
            </a:r>
            <a:r>
              <a:rPr b="1" lang="en-US" sz="33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 + P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an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etitiv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19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5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 competitive inhibition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</a:t>
            </a:r>
            <a:r>
              <a:rPr b="1" lang="en-US" sz="3300" spc="-1" strike="noStrike" u="sng" baseline="-25000">
                <a:solidFill>
                  <a:srgbClr val="ffffff"/>
                </a:solidFill>
                <a:uFillTx/>
                <a:latin typeface="Arial"/>
                <a:ea typeface="Arial"/>
              </a:rPr>
              <a:t>max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is unchanged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n the presence and the absence of inhibitor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The value of 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K</a:t>
            </a:r>
            <a:r>
              <a:rPr b="1" lang="en-US" sz="3300" spc="-1" strike="noStrike" u="sng" baseline="-25000">
                <a:solidFill>
                  <a:srgbClr val="ff9900"/>
                </a:solidFill>
                <a:uFillTx/>
                <a:latin typeface="Arial"/>
                <a:ea typeface="Arial"/>
              </a:rPr>
              <a:t>m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 is increased 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because substrate and inhibitor compete for binding at the same sit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A higher concentration of substrate is required to achieve half-maximal veloc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8:31:02Z</dcterms:created>
  <dc:creator>ddf</dc:creator>
  <dc:description/>
  <dc:language>en-US</dc:language>
  <cp:lastModifiedBy>sumbul fatma</cp:lastModifiedBy>
  <dcterms:modified xsi:type="dcterms:W3CDTF">2014-10-13T05:46:42Z</dcterms:modified>
  <cp:revision>12</cp:revision>
  <dc:subject/>
  <dc:title>Enzyme and coenzyme II</dc:title>
</cp:coreProperties>
</file>