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277F-2E23-4D34-B005-475DE81A8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B185-4F8D-40CE-BDD2-F18BA0F093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lain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8EDD-A070-4D19-A400-14D9A1C3AA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44FE-FA27-4217-A152-250750B51B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A7A-5ADD-4E93-B3FE-93F7AE75D7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FC2F-79A8-48A7-A7AF-25AA67BB77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0B1-60FF-4855-B041-DF7032CE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962-FFB1-47F3-B750-C53FFCA4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4F77-AFD5-4300-A9EE-EB7BE887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B01-D6EC-41D2-8F5F-9A9F9E6D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2F29-974D-46A5-A600-F6AA9687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8637-695C-4EEA-ABF3-E6EC2713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E3D4-AA3A-4491-8303-98AABE03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47FD-E5C9-459A-9CD8-6015D4CB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9481-0F99-4B2E-BEAC-F4D038BE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B2FE-503F-4BF6-B9D2-CEBC120FB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BD83-B191-4BD4-AFA3-17BC2F6D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36B-A9ED-4AE3-A569-23B171BB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91C-978E-48B0-8156-06E8CE41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0EDD-61FB-4DB8-A83D-F9B709F4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7F22-0204-4571-BBEF-BB86B9E5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56E2-D51F-43D4-8C7C-92DD828B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70E8-6C60-4E56-A0F7-83B15A98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02F56-5905-4CE5-9C5C-E3CE9B64D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E9FC-2ED2-49B7-A384-2DC87C0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F10A-F47C-4D3D-9224-D1C9263A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6D4B-3243-440B-8637-E770FC9F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D907B-E4F4-4682-B2E3-1E1A0268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C9E-B657-4179-AB23-EFEB815E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31E1-1BE5-41D2-B27F-7E8BEB84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A774-E473-4131-A285-C756DA1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02B5B-5A8E-4075-A298-D18A02C8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B727-DA07-462A-8C32-A5CF3337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CC23-BB5B-45D6-9E52-940BD969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BA6A8-F5E6-45DA-B4B6-2DF832E1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8663D-DD1F-4585-9D92-DCB94E7D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CD2B-8ED9-4693-A319-41F68F50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FB97E-04C3-47A0-AF1B-4DE177CB2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AC6C-A430-4A0B-A8E3-5F2A9904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3495-AF8E-4A87-BA59-3DF96B68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E041-0BE9-455D-BB0A-05FC1589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E9362-1463-4669-A9B9-ED5EE222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53FA-D5EF-408D-8212-1ECE51C6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00B5C-0994-459B-B0DA-2F042527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151F-D11F-4139-AC05-21FAEFD6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63C78-A2F0-4E6D-A865-64C8B2D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30ED9-2A94-452B-9376-D82DD10A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DCF85-41E9-4ABD-B098-4F311F87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49E4-47BB-464C-9F0A-E499A50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8A81B-D859-425E-9F2E-C22CE44E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F6F-93E6-446C-B769-57024ED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1A16E-94DC-4AB8-A88B-B83640D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094FD-1E98-430E-92CB-C74BAB2A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CED1-5186-49BA-8CD0-378B9BA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79EFB-5B3E-494A-B0FF-03EBC978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CF049-73DA-4EB3-9C7B-792D86AE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E375-537D-4160-9001-90F845C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8725D-F980-4D54-9766-B986304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1D281-C8F2-454F-9A9C-7848EA96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0E967-E76E-4E61-9910-6D4DF567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ADAC1-236F-42CF-854D-8C363581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65F-C36F-4B3B-AA63-E0A389E7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25A91-F4BB-4D3C-BC1B-340DB66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900BA-5E4B-4731-8BE3-4D28631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34025-9F5A-442D-B364-75E1AE05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79D3C-C4CA-46FE-9589-66087150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02013-C66B-420D-995C-AF87E1E4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AA66A-F238-4E11-AD57-B6109542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DE3E-CA7A-41B0-AA14-4E60F58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6A338-3FD5-43D5-99BC-4BEBA37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BDC6A-606E-450F-8066-D502F6F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6472-F752-41E6-8CFA-B758FCC7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E2B7-5918-4CDA-B11B-8E98C5E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37A49-288D-4309-AC11-F7973A53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B094-1A7F-4F78-A043-4703D1C58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399FA-08FE-4D33-9804-1B93DA39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940-1802-450D-BB63-E68FBEA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126-FB4C-4B2E-82D4-3F2E067D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38E6-5CA2-42E2-A8AA-D055F8BBA4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9BA-BDEF-4E5B-B6C5-6E9A453BB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5F70-6BD8-47F7-A157-B7D0EA17A0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CF30-27DE-4149-B48B-6EF030F0FB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D28F-912E-4843-8065-9BA8961388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19EF-4D86-440E-89DC-2BB7E7918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689040" y="53640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5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74b78"/>
                </a:solidFill>
                <a:latin typeface="Lucida Sans Unicode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r. Sumbul Fat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38412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" descr="http://thepointeedition.lww.com/FullTextService/CT%7b06b9ee1beed59419cc706ceee9ddda6cc77b987fd7479682287ccc275ac7ca3bb38b2b3d0236d7708568555d93246333%7d/DA2C8FF3.gif"/>
          <p:cNvPicPr/>
          <p:nvPr/>
        </p:nvPicPr>
        <p:blipFill>
          <a:blip r:embed="rId2"/>
          <a:stretch/>
        </p:blipFill>
        <p:spPr>
          <a:xfrm>
            <a:off x="571680" y="1600200"/>
            <a:ext cx="796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3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381880" cy="13716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0"/>
          <p:cNvSpPr/>
          <p:nvPr/>
        </p:nvSpPr>
        <p:spPr>
          <a:xfrm>
            <a:off x="3808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cursor molecules into complex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dergonic reactions require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verg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384120" y="152280"/>
            <a:ext cx="8381880" cy="993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My Documents\My Pictures\08_004.jpg"/>
          <p:cNvPicPr/>
          <p:nvPr/>
        </p:nvPicPr>
        <p:blipFill>
          <a:blip r:embed="rId2"/>
          <a:srcRect l="11012" t="2469" r="11012" b="16048"/>
          <a:stretch/>
        </p:blipFill>
        <p:spPr>
          <a:xfrm>
            <a:off x="1371600" y="13716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99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Anabolic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4720" y="1676520"/>
            <a:ext cx="40417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2763720"/>
            <a:ext cx="41925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imple to complex 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nd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red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89560" y="2763360"/>
            <a:ext cx="4349520" cy="34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plex to simple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x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oxid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</a:t>
            </a:r>
            <a:r>
              <a:rPr b="1" lang="en-US" sz="2800" spc="-1" strike="noStrike" baseline="30000">
                <a:solidFill>
                  <a:srgbClr val="227a8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            ADP +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ree energy liberated in the hydrolysis of ATP is used to drive the endergonic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is formed from ADP and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fuel molecules are oxidiz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TP-ADP cyc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the fundamental mode of energy exchange in biological sys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2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cxnSp>
        <p:nvCxnSpPr>
          <p:cNvPr id="313" name="Straight Arrow Connector 4"/>
          <p:cNvCxnSpPr/>
          <p:nvPr/>
        </p:nvCxnSpPr>
        <p:spPr>
          <a:xfrm>
            <a:off x="4524480" y="1777680"/>
            <a:ext cx="776880" cy="108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7" descr=""/>
          <p:cNvPicPr/>
          <p:nvPr/>
        </p:nvPicPr>
        <p:blipFill>
          <a:blip r:embed="rId1"/>
          <a:stretch/>
        </p:blipFill>
        <p:spPr>
          <a:xfrm>
            <a:off x="689040" y="231840"/>
            <a:ext cx="7924680" cy="113976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9"/>
          <p:cNvGrpSpPr/>
          <p:nvPr/>
        </p:nvGrpSpPr>
        <p:grpSpPr>
          <a:xfrm>
            <a:off x="2438280" y="1752480"/>
            <a:ext cx="4953240" cy="4191120"/>
            <a:chOff x="2438280" y="1752480"/>
            <a:chExt cx="4953240" cy="4191120"/>
          </a:xfrm>
        </p:grpSpPr>
        <p:pic>
          <p:nvPicPr>
            <p:cNvPr id="316" name="Picture 8" descr="C:\My Documents\My Pictures\06_005.jpg"/>
            <p:cNvPicPr/>
            <p:nvPr/>
          </p:nvPicPr>
          <p:blipFill>
            <a:blip r:embed="rId2"/>
            <a:srcRect l="5222" t="4347" r="4729" b="28264"/>
            <a:stretch/>
          </p:blipFill>
          <p:spPr>
            <a:xfrm>
              <a:off x="2438280" y="1752480"/>
              <a:ext cx="49532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Text Box 9"/>
            <p:cNvSpPr/>
            <p:nvPr/>
          </p:nvSpPr>
          <p:spPr>
            <a:xfrm>
              <a:off x="2566800" y="4929840"/>
              <a:ext cx="31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  <a:ea typeface="Arial"/>
                </a:rPr>
                <a:t>Δ Gº -7.3 kcal/mol/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5923080" y="6781680"/>
            <a:ext cx="2361960" cy="7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C:\My Documents\My Pictures\06_006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63248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3" descr=""/>
          <p:cNvPicPr/>
          <p:nvPr/>
        </p:nvPicPr>
        <p:blipFill>
          <a:blip r:embed="rId3"/>
          <a:stretch/>
        </p:blipFill>
        <p:spPr>
          <a:xfrm>
            <a:off x="689040" y="152280"/>
            <a:ext cx="8150040" cy="15242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5"/>
          <p:cNvSpPr/>
          <p:nvPr/>
        </p:nvSpPr>
        <p:spPr>
          <a:xfrm>
            <a:off x="394920" y="2128680"/>
            <a:ext cx="355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-rich compounds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586240" y="3038400"/>
            <a:ext cx="181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5884920" y="2444760"/>
            <a:ext cx="30916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-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duced co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2069640" y="5248440"/>
            <a:ext cx="889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3" descr=""/>
          <p:cNvPicPr/>
          <p:nvPr/>
        </p:nvPicPr>
        <p:blipFill>
          <a:blip r:embed="rId1"/>
          <a:stretch/>
        </p:blipFill>
        <p:spPr>
          <a:xfrm>
            <a:off x="689040" y="536400"/>
            <a:ext cx="7924680" cy="98748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9"/>
          <p:cNvSpPr/>
          <p:nvPr/>
        </p:nvSpPr>
        <p:spPr>
          <a:xfrm>
            <a:off x="1127160" y="1897200"/>
            <a:ext cx="717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Oxid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Loss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Redu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Gain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3" descr=""/>
          <p:cNvPicPr/>
          <p:nvPr/>
        </p:nvPicPr>
        <p:blipFill>
          <a:blip r:embed="rId1"/>
          <a:stretch/>
        </p:blipFill>
        <p:spPr>
          <a:xfrm>
            <a:off x="689040" y="304920"/>
            <a:ext cx="7924680" cy="993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C:\My Documents\My Pictures\28_014.jpg"/>
          <p:cNvPicPr/>
          <p:nvPr/>
        </p:nvPicPr>
        <p:blipFill>
          <a:blip r:embed="rId2"/>
          <a:srcRect l="28337" t="3918" r="15001" b="16410"/>
          <a:stretch/>
        </p:blipFill>
        <p:spPr>
          <a:xfrm>
            <a:off x="2514600" y="1219320"/>
            <a:ext cx="4343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384120" y="384120"/>
            <a:ext cx="8381880" cy="9874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8"/>
          <p:cNvSpPr/>
          <p:nvPr/>
        </p:nvSpPr>
        <p:spPr>
          <a:xfrm>
            <a:off x="1235880" y="1523880"/>
            <a:ext cx="75294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Intracellular sign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Substrat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Product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Allosteric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Intercellular commun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hemical signaling (hormon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Second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cAMP, c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Ca/phosphatidy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163332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rstand the concept of metabolic pathw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types &amp; characters of metabolic pathways- anabolic and 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ATP as the energy currency of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rbohydrates &amp; lipid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mainly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d protein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little extent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e used for energy produc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se are-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, fatty acids and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is the major metabolic fuel of most t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bolism is the sum of all biochemical pathways that occur inside the cell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 metabolic pathway is a multistep sequences of enzyme-catalyzed reaction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4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tabolism is a convergent process that provides energy to cells in the form of AT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abolism is a divergent process that consumes energy for the synthesis of complex molecu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c pathways are tightly regulated and highly integrat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6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TP is the energy currency of the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8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3" descr=""/>
          <p:cNvPicPr/>
          <p:nvPr/>
        </p:nvPicPr>
        <p:blipFill>
          <a:blip r:embed="rId1"/>
          <a:stretch/>
        </p:blipFill>
        <p:spPr>
          <a:xfrm>
            <a:off x="689040" y="0"/>
            <a:ext cx="7924680" cy="9144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0" descr="C:\My Documents\My Pictures\06_008.jpg"/>
          <p:cNvPicPr/>
          <p:nvPr/>
        </p:nvPicPr>
        <p:blipFill>
          <a:blip r:embed="rId2"/>
          <a:srcRect l="3332" t="3588" r="2497" b="36923"/>
          <a:stretch/>
        </p:blipFill>
        <p:spPr>
          <a:xfrm>
            <a:off x="304920" y="1155600"/>
            <a:ext cx="8610480" cy="4419720"/>
          </a:xfrm>
          <a:prstGeom prst="rect">
            <a:avLst/>
          </a:prstGeom>
          <a:ln w="38160">
            <a:solidFill>
              <a:srgbClr val="474b78"/>
            </a:solidFill>
            <a:miter/>
          </a:ln>
        </p:spPr>
      </p:pic>
      <p:sp>
        <p:nvSpPr>
          <p:cNvPr id="341" name="Text Box 15"/>
          <p:cNvSpPr/>
          <p:nvPr/>
        </p:nvSpPr>
        <p:spPr>
          <a:xfrm rot="20044800">
            <a:off x="4672080" y="18457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Non-protein mobil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6"/>
          <p:cNvSpPr/>
          <p:nvPr/>
        </p:nvSpPr>
        <p:spPr>
          <a:xfrm rot="17558400">
            <a:off x="4114440" y="2908080"/>
            <a:ext cx="457200" cy="304560"/>
          </a:xfrm>
          <a:prstGeom prst="leftArrowCallout">
            <a:avLst>
              <a:gd name="adj1" fmla="val 25002"/>
              <a:gd name="adj2" fmla="val 12500"/>
              <a:gd name="adj3" fmla="val 25020"/>
              <a:gd name="adj4" fmla="val 6667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8"/>
          <p:cNvSpPr/>
          <p:nvPr/>
        </p:nvSpPr>
        <p:spPr>
          <a:xfrm>
            <a:off x="756360" y="571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Electron transport and ATP synthesis are tightly coupl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1"/>
          <p:cNvSpPr/>
          <p:nvPr/>
        </p:nvSpPr>
        <p:spPr>
          <a:xfrm rot="19673400">
            <a:off x="-142920" y="1496880"/>
            <a:ext cx="3160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b78"/>
                </a:solidFill>
                <a:latin typeface="Arial"/>
              </a:rPr>
              <a:t>Figure For Illustr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2"/>
          <p:cNvSpPr/>
          <p:nvPr/>
        </p:nvSpPr>
        <p:spPr>
          <a:xfrm>
            <a:off x="4266360" y="52052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ites for ATP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4"/>
          <p:cNvCxnSpPr/>
          <p:nvPr/>
        </p:nvCxnSpPr>
        <p:spPr>
          <a:xfrm flipH="1">
            <a:off x="6248160" y="4584600"/>
            <a:ext cx="91512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7" name="Straight Arrow Connector 15"/>
          <p:cNvCxnSpPr/>
          <p:nvPr/>
        </p:nvCxnSpPr>
        <p:spPr>
          <a:xfrm flipH="1">
            <a:off x="5637960" y="4584600"/>
            <a:ext cx="108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8" name="Straight Arrow Connector 16"/>
          <p:cNvCxnSpPr/>
          <p:nvPr/>
        </p:nvCxnSpPr>
        <p:spPr>
          <a:xfrm>
            <a:off x="3200400" y="3822840"/>
            <a:ext cx="1829520" cy="137232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052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ll the chemical reactions taking place inside a cell are collectively known as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sm consists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consuming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(an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producing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cat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609480" y="384120"/>
            <a:ext cx="8077320" cy="13716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33520" y="1674720"/>
            <a:ext cx="8229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etabolic Path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multi-step sequence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product of first reac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comes a substrate for seco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egrated pathways: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http://thepointeedition.lww.com/FullTextService/CT%7b06b9ee1beed59419cc706ceee9ddda6cc77b987fd7479682287ccc275ac7ca3bb38b2b3d0236d7708568555d93246333%7d/DA2C8FF1.gif"/>
          <p:cNvPicPr/>
          <p:nvPr/>
        </p:nvPicPr>
        <p:blipFill>
          <a:blip r:embed="rId1"/>
          <a:stretch/>
        </p:blipFill>
        <p:spPr>
          <a:xfrm>
            <a:off x="1447920" y="1501920"/>
            <a:ext cx="6324480" cy="4973400"/>
          </a:xfrm>
          <a:prstGeom prst="rect">
            <a:avLst/>
          </a:prstGeom>
          <a:ln w="0">
            <a:noFill/>
          </a:ln>
        </p:spPr>
      </p:pic>
      <p:pic>
        <p:nvPicPr>
          <p:cNvPr id="292" name="Title 12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ifferent pathways can intersect, forming an integrated and purposeful network of chemical reactions </a:t>
            </a:r>
            <a:r>
              <a:rPr b="1" lang="en-US" sz="3600" spc="-1" strike="noStrike">
                <a:solidFill>
                  <a:srgbClr val="c00000"/>
                </a:solidFill>
                <a:latin typeface="Lucida Sans Unicode"/>
              </a:rPr>
              <a:t>“The Metabolic Map”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71252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ost pathways can be classified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at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Note: Pathways that regenerate a component are called cyc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mphi = Dual, amphibolic: dual pathwa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rebs cycle is mainly a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cat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cycle, but with some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an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features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e.g.,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part of Krebs cycle is used for the synthesis of glucose from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refore,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Krebs cycle is amphi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df</dc:creator>
  <dc:description/>
  <dc:language>en-US</dc:language>
  <cp:lastModifiedBy>sumbul fatma</cp:lastModifiedBy>
  <dcterms:modified xsi:type="dcterms:W3CDTF">2014-10-16T07:32:53Z</dcterms:modified>
  <cp:revision>95</cp:revision>
  <dc:subject/>
  <dc:title>Slide 1</dc:title>
</cp:coreProperties>
</file>