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E93-D2E5-4C27-A954-D557CB70F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D66-6CEE-4D9B-85ED-2DF72A5B27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lain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3646-F97A-48E5-8D3E-2303954C8E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3C5-4513-4771-A77F-8769EBCBD2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157-D56F-4748-B789-813D8F12FD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004-08D8-4D5B-B254-6D37C0EB56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0AE-603E-48BE-8207-209DC71A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BFF-FF00-40F1-8009-815D173E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8E6-B0A4-46C7-86DD-5432B704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6AE-8857-4D0A-A131-A86819F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E384-88D2-4C11-AE32-97A8E2D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268-DF5E-424B-BC9B-509CE23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F4FD-4837-4897-A4AC-BB23115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D14-E930-446A-87ED-D4366E5D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A291-92FB-4517-8B43-D27436A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075B-982E-4B18-9964-8EB1C16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D82-A1AC-4158-919E-80542C6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EB5-12AB-4524-870D-BCBD24B7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82C6-8105-4DE3-85B3-9E5AB34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60F-3AA2-4377-8511-BDD817E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36F-E85F-4AC4-8CB4-8ECC192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9335-9806-4B97-8266-7CE4BFFC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7D9-4F21-46D2-A32A-FAC3667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5BD3-8C26-41A6-927F-FADE0F43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4BB9-E42B-44BA-8F80-374917B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EFB1-C927-41B7-8510-73F6113C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C781-5A47-4C22-8949-F9743AA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289D-5776-4CAE-B398-D0D1CAD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F10-7EFB-49E8-A2BB-5F0C9EEF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F15F-4C3D-4C4A-8835-30903245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0F4C-04E7-4DD9-B20E-950B2DAD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637B-74D9-41E7-881B-A3F8BFD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DBA0-4619-416C-980F-B75D363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15AF-2C42-48D9-B2BE-AFFD4FA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AF04-A7B7-486A-AE73-3D71ADD3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636E-9241-4A89-9F0E-66197549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2B9F-C933-450B-B12E-497B3729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5502-F60E-4D95-BD06-E0B89926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23A0-7E4D-43F1-848D-990FAB34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F86-7A1A-4B2B-A520-5E6F9E6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FB78-F086-47A4-8D20-3711F6E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9C5D-8E4F-461D-BA15-0BCF66F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BB56-5244-4F55-B3B8-9A659EA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60A7-E094-4FFD-A738-3CF17BD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602F-26C5-451E-8053-61EC8CCF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FFB6-0434-4308-A82C-3E174A50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8018-F1F4-4604-93C5-07BC930B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9F1C-6AE6-4682-8E95-72442B0C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E5E4-F5BF-48DB-8139-25684ACC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552E-A81C-4042-8944-ED363274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1E9-DDF0-4E75-9C3D-B21A52E4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5D247-3C36-4657-9A68-3EB88AA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ED0F-0440-40B3-8AFF-C47337EF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E56A-3C7D-445A-A893-FF8670D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AA3A-9414-47D3-939E-8EAF93D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F00C-501A-4913-9AC6-42DA683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0C1E-2B38-422C-BA76-575DF62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6E54-2B13-49AC-A16E-E51C6A6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81AB-3EEB-465C-AEEA-1AE2216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5D82-A9BA-47EC-8279-32A06DAB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29B82-2786-499C-8579-406A2C5D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41B-F484-4A59-A1AE-C783D023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F085-D1EE-480F-9E0D-B8821538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EB8F-A6DF-4299-A234-810C7785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C5F15-1E50-450D-B231-1123C468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B20E6-531C-4951-8A38-3CA8DCE3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0CF8-3C41-42F6-80FE-7557019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D5065-2411-4DF5-A018-899CE31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158D-F573-431B-8570-342786CB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8BBF-64C4-4F21-B082-955C1B7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3810-A8F2-4AC1-9DA5-78541EF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484E-C8BC-4204-9E7C-900EFD9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DEB-3256-4FA8-995A-0CA3440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7ACD-B243-4BD4-AF83-C554035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8AA4-EDE6-4D68-829F-DC9A73FE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5189-C7CD-40C2-BCED-AC12514B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C0E-56F4-4B98-8581-E0CEBDF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127-8D63-4B5E-9BDE-92D1441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3A9-0501-4C4B-A27B-2F300357ED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5C84-082D-45BE-8491-A7A051309B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3D6-8744-4561-B427-C3CAD2261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DDD7-33F5-4A5C-8E2D-F24BCD569A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85A4-411F-44DD-84AC-6BBF1EB523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35A-6591-45EF-AB48-7D7FA51984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689040" y="53640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5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74b78"/>
                </a:solidFill>
                <a:latin typeface="Lucida Sans Unicode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r. Sumbul Fat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" descr="http://thepointeedition.lww.com/FullTextService/CT%7b06b9ee1beed59419cc706ceee9ddda6cc77b987fd7479682287ccc275ac7ca3bb38b2b3d0236d7708568555d93246333%7d/DA2C8FF3.gif"/>
          <p:cNvPicPr/>
          <p:nvPr/>
        </p:nvPicPr>
        <p:blipFill>
          <a:blip r:embed="rId2"/>
          <a:stretch/>
        </p:blipFill>
        <p:spPr>
          <a:xfrm>
            <a:off x="571680" y="1600200"/>
            <a:ext cx="796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3808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cursor molecules into complex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dergonic reactions require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verg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381880" cy="993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My Documents\My Pictures\08_004.jpg"/>
          <p:cNvPicPr/>
          <p:nvPr/>
        </p:nvPicPr>
        <p:blipFill>
          <a:blip r:embed="rId2"/>
          <a:srcRect l="11012" t="2469" r="11012" b="16048"/>
          <a:stretch/>
        </p:blipFill>
        <p:spPr>
          <a:xfrm>
            <a:off x="1371600" y="13716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99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Anabolic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4720" y="1676520"/>
            <a:ext cx="40417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2763720"/>
            <a:ext cx="41925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imple to complex 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nd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red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89560" y="2763360"/>
            <a:ext cx="4349520" cy="34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plex to simple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x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oxid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</a:t>
            </a:r>
            <a:r>
              <a:rPr b="1" lang="en-US" sz="2800" spc="-1" strike="noStrike" baseline="30000">
                <a:solidFill>
                  <a:srgbClr val="227a8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            ADP +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ree energy liberated in the hydrolysis of ATP is used to drive the endergonic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is formed from ADP and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fuel molecules are oxidiz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TP-ADP cyc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the fundamental mode of energy exchange in biological sys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313" name="Straight Arrow Connector 4"/>
          <p:cNvCxnSpPr/>
          <p:nvPr/>
        </p:nvCxnSpPr>
        <p:spPr>
          <a:xfrm>
            <a:off x="4524480" y="1777680"/>
            <a:ext cx="776880" cy="108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7" descr=""/>
          <p:cNvPicPr/>
          <p:nvPr/>
        </p:nvPicPr>
        <p:blipFill>
          <a:blip r:embed="rId1"/>
          <a:stretch/>
        </p:blipFill>
        <p:spPr>
          <a:xfrm>
            <a:off x="689040" y="231840"/>
            <a:ext cx="792468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9"/>
          <p:cNvGrpSpPr/>
          <p:nvPr/>
        </p:nvGrpSpPr>
        <p:grpSpPr>
          <a:xfrm>
            <a:off x="2438280" y="1752480"/>
            <a:ext cx="4953240" cy="4191120"/>
            <a:chOff x="2438280" y="1752480"/>
            <a:chExt cx="4953240" cy="4191120"/>
          </a:xfrm>
        </p:grpSpPr>
        <p:pic>
          <p:nvPicPr>
            <p:cNvPr id="316" name="Picture 8" descr="C:\My Documents\My Pictures\06_005.jpg"/>
            <p:cNvPicPr/>
            <p:nvPr/>
          </p:nvPicPr>
          <p:blipFill>
            <a:blip r:embed="rId2"/>
            <a:srcRect l="5222" t="4347" r="4729" b="28264"/>
            <a:stretch/>
          </p:blipFill>
          <p:spPr>
            <a:xfrm>
              <a:off x="2438280" y="1752480"/>
              <a:ext cx="49532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/>
            <p:cNvSpPr/>
            <p:nvPr/>
          </p:nvSpPr>
          <p:spPr>
            <a:xfrm>
              <a:off x="2566800" y="4929840"/>
              <a:ext cx="31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  <a:ea typeface="Arial"/>
                </a:rPr>
                <a:t>Δ Gº -7.3 kcal/mol/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5923080" y="6781680"/>
            <a:ext cx="2361960" cy="7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C:\My Documents\My Pictures\06_006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63248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3" descr=""/>
          <p:cNvPicPr/>
          <p:nvPr/>
        </p:nvPicPr>
        <p:blipFill>
          <a:blip r:embed="rId3"/>
          <a:stretch/>
        </p:blipFill>
        <p:spPr>
          <a:xfrm>
            <a:off x="689040" y="152280"/>
            <a:ext cx="8150040" cy="15242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394920" y="2128680"/>
            <a:ext cx="355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-rich compounds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586240" y="3038400"/>
            <a:ext cx="181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5884920" y="2444760"/>
            <a:ext cx="30916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-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duced co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069640" y="5248440"/>
            <a:ext cx="889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3" descr=""/>
          <p:cNvPicPr/>
          <p:nvPr/>
        </p:nvPicPr>
        <p:blipFill>
          <a:blip r:embed="rId1"/>
          <a:stretch/>
        </p:blipFill>
        <p:spPr>
          <a:xfrm>
            <a:off x="689040" y="536400"/>
            <a:ext cx="7924680" cy="987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9"/>
          <p:cNvSpPr/>
          <p:nvPr/>
        </p:nvSpPr>
        <p:spPr>
          <a:xfrm>
            <a:off x="1127160" y="1897200"/>
            <a:ext cx="717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Oxid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Loss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Redu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Gain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3" descr=""/>
          <p:cNvPicPr/>
          <p:nvPr/>
        </p:nvPicPr>
        <p:blipFill>
          <a:blip r:embed="rId1"/>
          <a:stretch/>
        </p:blipFill>
        <p:spPr>
          <a:xfrm>
            <a:off x="689040" y="304920"/>
            <a:ext cx="7924680" cy="993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My Documents\My Pictures\28_014.jpg"/>
          <p:cNvPicPr/>
          <p:nvPr/>
        </p:nvPicPr>
        <p:blipFill>
          <a:blip r:embed="rId2"/>
          <a:srcRect l="28337" t="3918" r="15001" b="16410"/>
          <a:stretch/>
        </p:blipFill>
        <p:spPr>
          <a:xfrm>
            <a:off x="2514600" y="1219320"/>
            <a:ext cx="4343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381880" cy="9874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8"/>
          <p:cNvSpPr/>
          <p:nvPr/>
        </p:nvSpPr>
        <p:spPr>
          <a:xfrm>
            <a:off x="1235880" y="1523880"/>
            <a:ext cx="75294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Intracellular sign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Substrat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Product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Allosteric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Intercellular commun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hemical signaling (hormon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Second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cAMP, c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Ca/phosphatidy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163332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rstand the concept of metabolic pathw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types &amp; characters of metabolic pathways- anabolic and 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ATP as the energy currency of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rbohydrates &amp; lipid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mainly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d protein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little extent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e used for energy produc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se are-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, fatty acids and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is the major metabolic fuel of most t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bolism is the sum of all biochemical pathways that occur inside the cell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 metabolic pathway is a multistep sequences of enzyme-catalyzed reaction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tabolism is a convergent process that provides energy to cells in the form of AT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abolism is a divergent process that consumes energy for the synthesis of complex molecu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c pathways are tightly regulated and highly integrat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TP is the energy currency of the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3" descr=""/>
          <p:cNvPicPr/>
          <p:nvPr/>
        </p:nvPicPr>
        <p:blipFill>
          <a:blip r:embed="rId1"/>
          <a:stretch/>
        </p:blipFill>
        <p:spPr>
          <a:xfrm>
            <a:off x="689040" y="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My Documents\My Pictures\06_008.jpg"/>
          <p:cNvPicPr/>
          <p:nvPr/>
        </p:nvPicPr>
        <p:blipFill>
          <a:blip r:embed="rId2"/>
          <a:srcRect l="3332" t="3588" r="2497" b="36923"/>
          <a:stretch/>
        </p:blipFill>
        <p:spPr>
          <a:xfrm>
            <a:off x="304920" y="1155600"/>
            <a:ext cx="8610480" cy="4419720"/>
          </a:xfrm>
          <a:prstGeom prst="rect">
            <a:avLst/>
          </a:prstGeom>
          <a:ln w="38160">
            <a:solidFill>
              <a:srgbClr val="474b78"/>
            </a:solidFill>
            <a:miter/>
          </a:ln>
        </p:spPr>
      </p:pic>
      <p:sp>
        <p:nvSpPr>
          <p:cNvPr id="341" name="Text Box 15"/>
          <p:cNvSpPr/>
          <p:nvPr/>
        </p:nvSpPr>
        <p:spPr>
          <a:xfrm rot="20044800">
            <a:off x="4672080" y="18457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Non-protein mobil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6"/>
          <p:cNvSpPr/>
          <p:nvPr/>
        </p:nvSpPr>
        <p:spPr>
          <a:xfrm rot="17558400">
            <a:off x="4114440" y="2908080"/>
            <a:ext cx="457200" cy="304560"/>
          </a:xfrm>
          <a:prstGeom prst="leftArrowCallout">
            <a:avLst>
              <a:gd name="adj1" fmla="val 25002"/>
              <a:gd name="adj2" fmla="val 12500"/>
              <a:gd name="adj3" fmla="val 25020"/>
              <a:gd name="adj4" fmla="val 6667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756360" y="571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Electron transport and ATP synthesis are tightly coupl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 rot="19673400">
            <a:off x="-142920" y="1496880"/>
            <a:ext cx="3160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b78"/>
                </a:solidFill>
                <a:latin typeface="Arial"/>
              </a:rPr>
              <a:t>Figure For Illustr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>
            <a:off x="4266360" y="52052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ites for ATP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4"/>
          <p:cNvCxnSpPr/>
          <p:nvPr/>
        </p:nvCxnSpPr>
        <p:spPr>
          <a:xfrm flipH="1">
            <a:off x="6248160" y="4584600"/>
            <a:ext cx="91512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7" name="Straight Arrow Connector 15"/>
          <p:cNvCxnSpPr/>
          <p:nvPr/>
        </p:nvCxnSpPr>
        <p:spPr>
          <a:xfrm flipH="1">
            <a:off x="5637960" y="4584600"/>
            <a:ext cx="108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8" name="Straight Arrow Connector 16"/>
          <p:cNvCxnSpPr/>
          <p:nvPr/>
        </p:nvCxnSpPr>
        <p:spPr>
          <a:xfrm>
            <a:off x="3200400" y="3822840"/>
            <a:ext cx="1829520" cy="137232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052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ll the chemical reactions taking place inside a cell are collectively known as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sm consists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consuming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(an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producing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cat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609480" y="384120"/>
            <a:ext cx="8077320" cy="13716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33520" y="1674720"/>
            <a:ext cx="8229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abolic Path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multi-step sequence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product of first reac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omes a substrate for seco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grated pathways: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http://thepointeedition.lww.com/FullTextService/CT%7b06b9ee1beed59419cc706ceee9ddda6cc77b987fd7479682287ccc275ac7ca3bb38b2b3d0236d7708568555d93246333%7d/DA2C8FF1.gif"/>
          <p:cNvPicPr/>
          <p:nvPr/>
        </p:nvPicPr>
        <p:blipFill>
          <a:blip r:embed="rId1"/>
          <a:stretch/>
        </p:blipFill>
        <p:spPr>
          <a:xfrm>
            <a:off x="1447920" y="1501920"/>
            <a:ext cx="6324480" cy="4973400"/>
          </a:xfrm>
          <a:prstGeom prst="rect">
            <a:avLst/>
          </a:prstGeom>
          <a:ln w="0">
            <a:noFill/>
          </a:ln>
        </p:spPr>
      </p:pic>
      <p:pic>
        <p:nvPicPr>
          <p:cNvPr id="292" name="Title 1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ifferent pathways can intersect, forming an integrated and purposeful network of chemical reactions </a:t>
            </a:r>
            <a:r>
              <a:rPr b="1" lang="en-US" sz="3600" spc="-1" strike="noStrike">
                <a:solidFill>
                  <a:srgbClr val="c00000"/>
                </a:solidFill>
                <a:latin typeface="Lucida Sans Unicode"/>
              </a:rPr>
              <a:t>“The Metabolic Map”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71252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ost pathways can be classified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at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Note: Pathways that regenerate a component are called cyc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mphi = Dual, amphibolic: dual pathwa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rebs cycle is mainly a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cat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cycle, but with some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an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features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e.g.,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part of Krebs cycle is used for the synthesis of glucose from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refore,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Krebs cycle is amphi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df</dc:creator>
  <dc:description/>
  <dc:language>en-US</dc:language>
  <cp:lastModifiedBy>sumbul fatma</cp:lastModifiedBy>
  <dcterms:modified xsi:type="dcterms:W3CDTF">2014-10-16T07:32:53Z</dcterms:modified>
  <cp:revision>95</cp:revision>
  <dc:subject/>
  <dc:title>Slide 1</dc:title>
</cp:coreProperties>
</file>