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B82-DE68-4062-B977-15895B02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D756-28E7-447B-B6DE-F38DB3858C22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534A-7ADD-47DF-AFF6-B96079923210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08C9-4C49-40EA-95C1-EB85689EA8D9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793B-2366-4A54-A6DB-D4827DE74F06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BD6D-63B7-4DF9-AD99-0EFC1F32A96C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D523-EFAD-4439-9AEB-10166EB35FBA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72D9-5259-42A2-8393-58A7552EADE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67B7-A6CC-4DFC-A2AD-677848B2CAFC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741B-763B-4EEA-86CB-9CB37CA11B9B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DD72-28C8-4995-9833-B3121052675B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9B42-5892-4ADE-9671-8A95DA7F504D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548-9F44-4A18-ACC4-9E12201B86BA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4FD-8DEB-4630-8369-D952B489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9887-3364-444F-9180-A947A772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166-FE40-4D8A-A397-02080C64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FF4-8547-46F9-A4EA-957C7CE0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97B-BA3D-4B0E-8A66-7A239246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92F-FC27-48BA-B620-6C879B23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5FBC-50CB-4C02-8E22-F8883289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4AD-F7DA-4809-AB1A-C00E827A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161-23C5-415A-B110-FB284802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3F31-E95D-4617-A7AB-F582B92B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65B-1BEF-4729-A8A7-F54C47AA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9F1-B5C1-4635-B85D-0E1FCB3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5FFC-D377-4D56-B8F1-A725178F78AA}" type="slidenum">
              <a:rPr b="0" lang="en-US" sz="1200" spc="-1" strike="noStrike">
                <a:solidFill>
                  <a:srgbClr val="b2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5" descr=""/>
          <p:cNvPicPr/>
          <p:nvPr/>
        </p:nvPicPr>
        <p:blipFill>
          <a:blip r:embed="rId1"/>
          <a:stretch/>
        </p:blipFill>
        <p:spPr>
          <a:xfrm>
            <a:off x="133200" y="133200"/>
            <a:ext cx="8656920" cy="629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p27_001"/>
          <p:cNvPicPr/>
          <p:nvPr/>
        </p:nvPicPr>
        <p:blipFill>
          <a:blip r:embed="rId2"/>
          <a:srcRect l="1001" t="2818" r="2002" b="1409"/>
          <a:stretch/>
        </p:blipFill>
        <p:spPr>
          <a:xfrm>
            <a:off x="304920" y="91440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solidFill>
            <a:srgbClr val="ff111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RTILIZATION &amp; IMPLANTATION AND TWINNING 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5943600"/>
            <a:ext cx="4343400" cy="914400"/>
          </a:xfrm>
          <a:prstGeom prst="rect">
            <a:avLst/>
          </a:prstGeom>
          <a:solidFill>
            <a:srgbClr val="9fc218"/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Prof. Saeed Abuel Makarem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amp; Dr. Sanaa Alshaarawi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2" name="Picture 6" descr="C:\Documents and Settings\Prof. Saeed Makarem\Desktop\ovum[1].gif"/>
          <p:cNvPicPr/>
          <p:nvPr/>
        </p:nvPicPr>
        <p:blipFill>
          <a:blip r:embed="rId3"/>
          <a:stretch/>
        </p:blipFill>
        <p:spPr>
          <a:xfrm>
            <a:off x="6921360" y="2133720"/>
            <a:ext cx="628920" cy="76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3657600" cy="86508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657600" cy="5105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It is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repeated mitotic divisions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zygot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Normall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ccur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Rapid increase in the number of the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These smaller embryonic cells are now called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mere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2" name="Picture 4" descr="Fertilization006"/>
          <p:cNvPicPr/>
          <p:nvPr/>
        </p:nvPicPr>
        <p:blipFill>
          <a:blip r:embed="rId1"/>
          <a:stretch/>
        </p:blipFill>
        <p:spPr>
          <a:xfrm>
            <a:off x="3962520" y="304920"/>
            <a:ext cx="487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3" name="Right Arrow 4"/>
          <p:cNvSpPr/>
          <p:nvPr/>
        </p:nvSpPr>
        <p:spPr>
          <a:xfrm>
            <a:off x="6400800" y="3352680"/>
            <a:ext cx="11430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3300"/>
          </a:solidFill>
          <a:ln w="25560">
            <a:solidFill>
              <a:srgbClr val="254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6400800" y="3124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c0000"/>
                </a:solidFill>
                <a:latin typeface="Arial"/>
              </a:rPr>
              <a:t>Blastomeres</a:t>
            </a:r>
            <a:endParaRPr b="0" lang="en-US" sz="11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480" y="151920"/>
            <a:ext cx="4648320" cy="6858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280" y="456840"/>
            <a:ext cx="3657600" cy="60958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t begi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u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fter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divides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lies within the thick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zona pellucid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uring cleavag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migrates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ing cleavage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ater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dial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 the microscope,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zona pellucid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a translucent membrane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7" name="Picture 4" descr="11"/>
          <p:cNvPicPr/>
          <p:nvPr/>
        </p:nvPicPr>
        <p:blipFill>
          <a:blip r:embed="rId1"/>
          <a:srcRect l="4617" t="1351" r="0" b="2703"/>
          <a:stretch/>
        </p:blipFill>
        <p:spPr>
          <a:xfrm>
            <a:off x="3886200" y="914400"/>
            <a:ext cx="5029200" cy="571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3276360" cy="6858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Morula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86200" cy="480060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en there ar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16-32 blastomere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developing human is calle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RULA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reaches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uterine cavity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 this stag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heric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formed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bout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 day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resembl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mulberry or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blackberr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0" name="Picture 4" descr="Fertilization006"/>
          <p:cNvPicPr/>
          <p:nvPr/>
        </p:nvPicPr>
        <p:blipFill>
          <a:blip r:embed="rId1"/>
          <a:srcRect l="67850" t="39698" r="15338" b="37109"/>
          <a:stretch/>
        </p:blipFill>
        <p:spPr>
          <a:xfrm>
            <a:off x="4724280" y="15228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3429000" cy="762120"/>
          </a:xfrm>
          <a:prstGeom prst="rect">
            <a:avLst/>
          </a:prstGeom>
          <a:solidFill>
            <a:srgbClr val="f2e4d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BLASTOCYST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3581280" cy="48006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vit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ppears within the morula dividing its cells into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2 group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Outer cell layer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all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Inner cell layer (mass) called Embryoblast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tached to one of the poles of the blastocy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cavity is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ystic cavity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el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3" name="Content Placeholder 4" descr="Fertilization006"/>
          <p:cNvPicPr/>
          <p:nvPr/>
        </p:nvPicPr>
        <p:blipFill>
          <a:blip r:embed="rId1"/>
          <a:srcRect l="67850" t="77608" r="15338" b="0"/>
          <a:stretch/>
        </p:blipFill>
        <p:spPr>
          <a:xfrm>
            <a:off x="4038480" y="228600"/>
            <a:ext cx="48006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4" name="Straight Arrow Connector 6"/>
          <p:cNvCxnSpPr/>
          <p:nvPr/>
        </p:nvCxnSpPr>
        <p:spPr>
          <a:xfrm flipV="1">
            <a:off x="2666520" y="4266720"/>
            <a:ext cx="3506040" cy="9151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5" name="Straight Arrow Connector 12"/>
          <p:cNvCxnSpPr/>
          <p:nvPr/>
        </p:nvCxnSpPr>
        <p:spPr>
          <a:xfrm flipV="1">
            <a:off x="3276360" y="1904760"/>
            <a:ext cx="3353400" cy="175320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6" name="Straight Arrow Connector 16"/>
          <p:cNvCxnSpPr/>
          <p:nvPr/>
        </p:nvCxnSpPr>
        <p:spPr>
          <a:xfrm flipV="1">
            <a:off x="2437920" y="2437920"/>
            <a:ext cx="2134440" cy="4579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152280"/>
            <a:ext cx="4038840" cy="64771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efinition 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the process by which the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 Blastocy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netrates the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superfici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mpact)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layer of the endometriu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the uter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ite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ormal si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i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BankGothic Md BT"/>
              </a:rPr>
              <a:t>posterior wall of the body of the uterus near the fundus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.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Time: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egi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day 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11th or 12th da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8" name="Picture 2" descr="sp17_001"/>
          <p:cNvPicPr/>
          <p:nvPr/>
        </p:nvPicPr>
        <p:blipFill>
          <a:blip r:embed="rId1"/>
          <a:srcRect l="4806" t="0" r="49043" b="16277"/>
          <a:stretch/>
        </p:blipFill>
        <p:spPr>
          <a:xfrm>
            <a:off x="4343400" y="990720"/>
            <a:ext cx="4572000" cy="541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9" name="TextBox 3"/>
          <p:cNvSpPr/>
          <p:nvPr/>
        </p:nvSpPr>
        <p:spPr>
          <a:xfrm>
            <a:off x="4343400" y="228600"/>
            <a:ext cx="4343400" cy="58140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Arial"/>
              </a:rPr>
              <a:t>IMPLANTATION</a:t>
            </a:r>
            <a:endParaRPr b="0" lang="en-US" sz="3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304560"/>
            <a:ext cx="8381880" cy="28954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h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Morula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reaches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uterine cavity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by the 4</a:t>
            </a:r>
            <a:r>
              <a:rPr b="1" lang="en-US" sz="2800" spc="-1" strike="noStrike" baseline="30000">
                <a:solidFill>
                  <a:srgbClr val="2542bd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day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after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&amp; remains free for one or two day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luid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passes </a:t>
            </a:r>
            <a:r>
              <a:rPr b="0" lang="en-US" sz="2800" spc="-1" strike="noStrike">
                <a:solidFill>
                  <a:srgbClr val="2542bd"/>
                </a:solidFill>
                <a:latin typeface="Calibri"/>
              </a:rPr>
              <a:t>from uterine cavity </a:t>
            </a:r>
            <a:r>
              <a:rPr b="0" lang="en-US" sz="2800" spc="-1" strike="noStrike">
                <a:solidFill>
                  <a:srgbClr val="ff1111"/>
                </a:solidFill>
                <a:latin typeface="Calibri"/>
              </a:rPr>
              <a:t>to the Morula.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Now the Morula is calle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cavity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called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astocystic cavity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 cells divided into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Embryobla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&amp;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1" name="Picture 4" descr="sp17_002"/>
          <p:cNvPicPr/>
          <p:nvPr/>
        </p:nvPicPr>
        <p:blipFill>
          <a:blip r:embed="rId1"/>
          <a:srcRect l="2857" t="11903" r="0" b="0"/>
          <a:stretch/>
        </p:blipFill>
        <p:spPr>
          <a:xfrm>
            <a:off x="838080" y="3352680"/>
            <a:ext cx="77724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228600" y="228600"/>
            <a:ext cx="8763120" cy="2432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Zona pellucida degenerates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stocy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begins implan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ophoblast cel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et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ometrium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results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olytic enzy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g.COX-2)  produc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hoblast</a:t>
            </a: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03" name="Picture 4" descr="sp17_001"/>
          <p:cNvPicPr/>
          <p:nvPr/>
        </p:nvPicPr>
        <p:blipFill>
          <a:blip r:embed="rId1"/>
          <a:srcRect l="0" t="0" r="0" b="2005"/>
          <a:stretch/>
        </p:blipFill>
        <p:spPr>
          <a:xfrm>
            <a:off x="380880" y="2819520"/>
            <a:ext cx="792504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360" y="0"/>
            <a:ext cx="4724280" cy="68580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1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2121"/>
                </a:solidFill>
                <a:latin typeface="Calibri"/>
              </a:rPr>
              <a:t>Zona pellucida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degener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disappears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 to allows the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crease in size and  penetrates the endometriu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embry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jects into the blastocystic cavity, while the </a:t>
            </a:r>
            <a:r>
              <a:rPr b="1" lang="en-US" sz="2000" spc="-1" strike="noStrike">
                <a:solidFill>
                  <a:srgbClr val="bf2600"/>
                </a:solidFill>
                <a:latin typeface="Calibri"/>
              </a:rPr>
              <a:t>troph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ms the wall of the blastocyst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lastocyst adheres to the endometrium (A)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ophobla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fferentiated into 2 layers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B)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2121"/>
                </a:solidFill>
                <a:uFillTx/>
                <a:latin typeface="Calibri"/>
              </a:rPr>
              <a:t>Cytotrophblast</a:t>
            </a:r>
            <a:r>
              <a:rPr b="0" lang="en-US" sz="2000" spc="-1" strike="noStrike">
                <a:solidFill>
                  <a:srgbClr val="ff2121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er layer, mitotically active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Syncytiotrophobl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uter multinucleated mass,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distin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ll boundary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en-US" sz="2000" spc="-1" strike="noStrike" u="sng" baseline="30000">
                <a:solidFill>
                  <a:srgbClr val="ff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perficially embed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 lay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ometrium</a:t>
            </a:r>
            <a:r>
              <a:rPr b="0" lang="en-US" sz="2000" spc="-1" strike="noStrike">
                <a:solidFill>
                  <a:srgbClr val="8c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5" name="Picture 2" descr="sp17_001"/>
          <p:cNvPicPr/>
          <p:nvPr/>
        </p:nvPicPr>
        <p:blipFill>
          <a:blip r:embed="rId1"/>
          <a:srcRect l="54811" t="7997" r="0" b="2005"/>
          <a:stretch/>
        </p:blipFill>
        <p:spPr>
          <a:xfrm>
            <a:off x="4724280" y="3048120"/>
            <a:ext cx="4267440" cy="32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Picture 3" descr="sp17_001"/>
          <p:cNvPicPr/>
          <p:nvPr/>
        </p:nvPicPr>
        <p:blipFill>
          <a:blip r:embed="rId2"/>
          <a:srcRect l="4806" t="2005" r="50005" b="20005"/>
          <a:stretch/>
        </p:blipFill>
        <p:spPr>
          <a:xfrm>
            <a:off x="4724280" y="152280"/>
            <a:ext cx="42674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7" name="Frame 7"/>
          <p:cNvSpPr/>
          <p:nvPr/>
        </p:nvSpPr>
        <p:spPr>
          <a:xfrm>
            <a:off x="7391520" y="2666880"/>
            <a:ext cx="76176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08" name="Frame 8"/>
          <p:cNvSpPr/>
          <p:nvPr/>
        </p:nvSpPr>
        <p:spPr>
          <a:xfrm>
            <a:off x="7238880" y="5257800"/>
            <a:ext cx="99072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09" name="Frame 9"/>
          <p:cNvSpPr/>
          <p:nvPr/>
        </p:nvSpPr>
        <p:spPr>
          <a:xfrm>
            <a:off x="7238880" y="4648320"/>
            <a:ext cx="1143000" cy="30456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80060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28240" y="152280"/>
            <a:ext cx="4343400" cy="647712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ood-filled Lacunae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ppear in the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Syncytiotrophoblast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communicate forming a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network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by the 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10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 or 11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ncytiotrophoblast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rodes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he endothelial lining of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maternal capillarie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known as sinusoid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Now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blood of maternal capillaries reaches the lacunae so,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teroplacental circulation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established by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1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or 12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2" name="Picture 4" descr="Blas"/>
          <p:cNvPicPr/>
          <p:nvPr/>
        </p:nvPicPr>
        <p:blipFill>
          <a:blip r:embed="rId1"/>
          <a:stretch/>
        </p:blipFill>
        <p:spPr>
          <a:xfrm>
            <a:off x="4800600" y="228600"/>
            <a:ext cx="411480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228600"/>
            <a:ext cx="4038480" cy="6324480"/>
          </a:xfrm>
          <a:prstGeom prst="rect">
            <a:avLst/>
          </a:prstGeom>
          <a:solidFill>
            <a:srgbClr val="ceeb5c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dometrial cell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go  a process called </a:t>
            </a:r>
            <a:r>
              <a:rPr b="1" lang="en-US" sz="2400" spc="-1" strike="noStrike">
                <a:solidFill>
                  <a:srgbClr val="ff2121"/>
                </a:solidFill>
                <a:latin typeface="Calibri"/>
              </a:rPr>
              <a:t>apopt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grammed cell death) to </a:t>
            </a:r>
            <a:r>
              <a:rPr b="0" lang="en-US" sz="2400" spc="-1" strike="noStrike">
                <a:solidFill>
                  <a:srgbClr val="2542bd"/>
                </a:solidFill>
                <a:latin typeface="Calibri"/>
              </a:rPr>
              <a:t>facilitates inva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metrium </a:t>
            </a:r>
            <a:r>
              <a:rPr b="0" lang="en-US" sz="2400" spc="-1" strike="noStrike">
                <a:solidFill>
                  <a:srgbClr val="2542bd"/>
                </a:solidFill>
                <a:latin typeface="Calibri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yncytio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ncytiotrophobla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gulf  these degenerated cells for nutrition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nograph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C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uman chorionic gonadotrophin) which is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creted 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yncytiotrophobla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ek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4" name="Picture 4" descr="Blastocy"/>
          <p:cNvPicPr/>
          <p:nvPr/>
        </p:nvPicPr>
        <p:blipFill>
          <a:blip r:embed="rId1"/>
          <a:srcRect l="3082" t="2380" r="8955" b="1193"/>
          <a:stretch/>
        </p:blipFill>
        <p:spPr>
          <a:xfrm>
            <a:off x="4419720" y="152280"/>
            <a:ext cx="449568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76920" cy="1067040"/>
          </a:xfrm>
          <a:prstGeom prst="rect">
            <a:avLst/>
          </a:prstGeom>
          <a:solidFill>
            <a:srgbClr val="d7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fb2136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4197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y the end of the lecture, you should be able to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ertilization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phase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result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ormatio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f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blastocyst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orm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of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primary chorionic villi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the sites of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ectopic pregnancy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5" name="Picture 4" descr="C:\Documents and Settings\Prof. Saeed Makarem\Desktop\ovum[1].gif"/>
          <p:cNvPicPr/>
          <p:nvPr/>
        </p:nvPicPr>
        <p:blipFill>
          <a:blip r:embed="rId1"/>
          <a:stretch/>
        </p:blipFill>
        <p:spPr>
          <a:xfrm>
            <a:off x="6664320" y="1828800"/>
            <a:ext cx="179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277560"/>
            <a:ext cx="6248160" cy="788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Early Pregnancy Factor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447920"/>
            <a:ext cx="8153280" cy="4495680"/>
          </a:xfrm>
          <a:prstGeom prst="rect">
            <a:avLst/>
          </a:prstGeom>
          <a:solidFill>
            <a:srgbClr val="ffd6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</a:t>
            </a:r>
            <a:r>
              <a:rPr b="1" lang="en-US" sz="3200" spc="-1" strike="noStrike">
                <a:solidFill>
                  <a:srgbClr val="2542bd"/>
                </a:solidFill>
                <a:latin typeface="Calibri"/>
              </a:rPr>
              <a:t>immunosuppressant protei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Secreted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ophoblast cells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Appears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nal seru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4--48 hrs., after fertilizatio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basis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arly pregnancy test) in the first 10 days of development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Formation of The Primary Chorionic villi</a:t>
            </a:r>
            <a:br>
              <a:rPr sz="3600"/>
            </a:b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371600"/>
            <a:ext cx="3505320" cy="403848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y the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day </a:t>
            </a:r>
            <a:r>
              <a:rPr b="0" i="1" lang="en-US" sz="2800" spc="-1" strike="noStrike">
                <a:solidFill>
                  <a:srgbClr val="8c0000"/>
                </a:solidFill>
                <a:latin typeface="Calibri"/>
              </a:rPr>
              <a:t>Proliferation</a:t>
            </a: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Cytotrophblast cell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produce extension insid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yncytiotrophoblast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o form the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primary chorionic villi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9" name="Picture 5" descr="sp17_007"/>
          <p:cNvPicPr/>
          <p:nvPr/>
        </p:nvPicPr>
        <p:blipFill>
          <a:blip r:embed="rId1"/>
          <a:srcRect l="1371" t="2667" r="2742" b="2667"/>
          <a:stretch/>
        </p:blipFill>
        <p:spPr>
          <a:xfrm>
            <a:off x="3733920" y="1295280"/>
            <a:ext cx="5257800" cy="541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0" name="Frame 5"/>
          <p:cNvSpPr/>
          <p:nvPr/>
        </p:nvSpPr>
        <p:spPr>
          <a:xfrm>
            <a:off x="5410080" y="1219320"/>
            <a:ext cx="1067040" cy="38088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244080"/>
            <a:ext cx="7315200" cy="6699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c0000"/>
                </a:solidFill>
                <a:latin typeface="Calibri"/>
              </a:rPr>
              <a:t>Ectopic Implantation (Pregnancy)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22" name="Picture 4" descr="oc01_009"/>
          <p:cNvPicPr/>
          <p:nvPr/>
        </p:nvPicPr>
        <p:blipFill>
          <a:blip r:embed="rId1"/>
          <a:srcRect l="0" t="1348" r="0" b="0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3" name="Frame 3"/>
          <p:cNvSpPr/>
          <p:nvPr/>
        </p:nvSpPr>
        <p:spPr>
          <a:xfrm>
            <a:off x="5867280" y="3962520"/>
            <a:ext cx="304920" cy="30456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4" name="Frame 4"/>
          <p:cNvSpPr/>
          <p:nvPr/>
        </p:nvSpPr>
        <p:spPr>
          <a:xfrm>
            <a:off x="3581280" y="4191120"/>
            <a:ext cx="30492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248520" y="3886200"/>
            <a:ext cx="2743200" cy="20142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ubal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ost commn type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A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varian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least common type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228600" y="1066680"/>
            <a:ext cx="2362320" cy="119124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usual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implantati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osterior wall of the uteru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X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51920" y="762120"/>
            <a:ext cx="2971800" cy="54864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t mean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mplantation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utside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95 to 97%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ectopic pregnancie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ccurs in 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Most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are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&amp; isthm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lacenta previa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mplantation occurs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lower uterine segmen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28600" y="152280"/>
            <a:ext cx="2971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Arial"/>
              </a:rPr>
              <a:t>Ectopic Pregnancy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29" name="Picture 7" descr="oc01_001"/>
          <p:cNvPicPr/>
          <p:nvPr/>
        </p:nvPicPr>
        <p:blipFill>
          <a:blip r:embed="rId1"/>
          <a:stretch/>
        </p:blipFill>
        <p:spPr>
          <a:xfrm>
            <a:off x="6172200" y="2590920"/>
            <a:ext cx="281952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" name="Rectangle 5"/>
          <p:cNvSpPr/>
          <p:nvPr/>
        </p:nvSpPr>
        <p:spPr>
          <a:xfrm>
            <a:off x="6019920" y="228600"/>
            <a:ext cx="2971800" cy="2228400"/>
          </a:xfrm>
          <a:prstGeom prst="rect">
            <a:avLst/>
          </a:prstGeom>
          <a:solidFill>
            <a:srgbClr val="f2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c0000"/>
                </a:solidFill>
                <a:uFillTx/>
                <a:latin typeface="Arial"/>
              </a:rPr>
              <a:t>Ectopic Pregnancy</a:t>
            </a: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1- Placenta Previa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2- Tubal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3- Ovarian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4- Abdominal.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5- Pelvic.   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6- Cervical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31" name="Picture 8" descr="oc01_003"/>
          <p:cNvPicPr/>
          <p:nvPr/>
        </p:nvPicPr>
        <p:blipFill>
          <a:blip r:embed="rId2"/>
          <a:srcRect l="45835" t="0" r="0" b="18441"/>
          <a:stretch/>
        </p:blipFill>
        <p:spPr>
          <a:xfrm>
            <a:off x="3429000" y="1522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7" descr="oc01_002"/>
          <p:cNvPicPr/>
          <p:nvPr/>
        </p:nvPicPr>
        <p:blipFill>
          <a:blip r:embed="rId3"/>
          <a:srcRect l="34544" t="0" r="0" b="7315"/>
          <a:stretch/>
        </p:blipFill>
        <p:spPr>
          <a:xfrm>
            <a:off x="3200400" y="2514600"/>
            <a:ext cx="27432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TextBox 8"/>
          <p:cNvSpPr/>
          <p:nvPr/>
        </p:nvSpPr>
        <p:spPr>
          <a:xfrm>
            <a:off x="3200400" y="4114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later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margin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34" name="TextBox 9"/>
          <p:cNvSpPr/>
          <p:nvPr/>
        </p:nvSpPr>
        <p:spPr>
          <a:xfrm>
            <a:off x="3048120" y="8906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nta previa centralis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Calibri"/>
              </a:rPr>
              <a:t>THANK YOU</a:t>
            </a:r>
            <a:endParaRPr b="0" lang="en-US" sz="7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09480" y="409680"/>
            <a:ext cx="8077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fertilization normally occur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In the fundus of the uteru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In the posterior wall of uteru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In the anterior wall of uteru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In the ampulla of the uterine tub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es the second meiotic division of the secondary oocyte complete 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Early foetal lif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ovulation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Fertilization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Menestrual cycl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 of the following is the result of fertilization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oration of the diploic number of chromosomes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of blastocyst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ion of implantation of the zygot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ning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iotic division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 of the following stages is concerning to implantation ?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cell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cell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ula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stocyst stage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FERTILIZATION</a:t>
            </a:r>
            <a:endParaRPr b="0" lang="en-US" sz="5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19560" y="1828800"/>
            <a:ext cx="2971800" cy="4114800"/>
          </a:xfrm>
          <a:prstGeom prst="rect">
            <a:avLst/>
          </a:prstGeom>
          <a:solidFill>
            <a:srgbClr val="dff296"/>
          </a:solidFill>
          <a:ln w="9360">
            <a:solidFill>
              <a:srgbClr val="8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Definition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t is the process during which a 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rm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)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unite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ith a fe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ocy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o form a single cell </a:t>
            </a:r>
            <a:r>
              <a:rPr b="0" lang="en-US" sz="2800" spc="-1" strike="noStrike">
                <a:solidFill>
                  <a:srgbClr val="72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720000"/>
                </a:solidFill>
                <a:latin typeface="Calibri"/>
              </a:rPr>
              <a:t>ZYGOTE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8" name="Picture 1028" descr="38AF9D98"/>
          <p:cNvPicPr/>
          <p:nvPr/>
        </p:nvPicPr>
        <p:blipFill>
          <a:blip r:embed="rId1"/>
          <a:stretch/>
        </p:blipFill>
        <p:spPr>
          <a:xfrm>
            <a:off x="228600" y="1295280"/>
            <a:ext cx="571500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Rectangle 1027"/>
          <p:cNvSpPr/>
          <p:nvPr/>
        </p:nvSpPr>
        <p:spPr>
          <a:xfrm>
            <a:off x="4572000" y="4365720"/>
            <a:ext cx="428796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60" name="Frame 6"/>
          <p:cNvSpPr/>
          <p:nvPr/>
        </p:nvSpPr>
        <p:spPr>
          <a:xfrm>
            <a:off x="5029200" y="1981080"/>
            <a:ext cx="457200" cy="228600"/>
          </a:xfrm>
          <a:prstGeom prst="pie">
            <a:avLst/>
          </a:prstGeom>
          <a:solidFill>
            <a:srgbClr val="ff3300"/>
          </a:solidFill>
          <a:ln w="25560">
            <a:solidFill>
              <a:srgbClr val="b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438280" cy="914400"/>
          </a:xfrm>
          <a:prstGeom prst="rect">
            <a:avLst/>
          </a:prstGeom>
          <a:solidFill>
            <a:srgbClr val="ffff59"/>
          </a:solidFill>
          <a:ln w="381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667240" cy="3581280"/>
          </a:xfrm>
          <a:prstGeom prst="rect">
            <a:avLst/>
          </a:prstGeom>
          <a:solidFill>
            <a:srgbClr val="dff296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is a complex proces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begin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with a </a:t>
            </a: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between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erm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&amp;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vum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Ends up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terminglin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m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3" name="Picture 4" descr="Fertilization004"/>
          <p:cNvPicPr/>
          <p:nvPr/>
        </p:nvPicPr>
        <p:blipFill>
          <a:blip r:embed="rId1"/>
          <a:srcRect l="5318" t="0" r="13832" b="60093"/>
          <a:stretch/>
        </p:blipFill>
        <p:spPr>
          <a:xfrm>
            <a:off x="2819520" y="457200"/>
            <a:ext cx="617220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324840" cy="9144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Baskerville Old Face"/>
              </a:rPr>
              <a:t>Site of Fertilization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3353040" cy="48006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ally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mpulla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s the  widest part of th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Fertilization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may occur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n any other part of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ve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occurs in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11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hemical signal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from oocyte attracts the sperm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6" name="Picture 4" descr="22"/>
          <p:cNvPicPr/>
          <p:nvPr/>
        </p:nvPicPr>
        <p:blipFill>
          <a:blip r:embed="rId1"/>
          <a:stretch/>
        </p:blipFill>
        <p:spPr>
          <a:xfrm>
            <a:off x="3657600" y="1371600"/>
            <a:ext cx="533412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76212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Fertiliz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114800" cy="5410080"/>
          </a:xfrm>
          <a:prstGeom prst="rect">
            <a:avLst/>
          </a:prstGeom>
          <a:solidFill>
            <a:srgbClr val="dff296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1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Passag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sperm through the cells of 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corona radiata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the effect of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: 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a) </a:t>
            </a:r>
            <a:r>
              <a:rPr b="1" i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Hyaluronidase enzyme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secreted from  the sperm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)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movement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of its  tail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2-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Penetra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zona pellucida 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in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(a substance secreted from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omal cap)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3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us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plasma membranes of the oocyte and the sper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4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Comple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 second meiotic division of the oocyte &amp; formation 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e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5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ormat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9" name="Picture 4" descr="Fertilization002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63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3886200" cy="533520"/>
          </a:xfrm>
          <a:prstGeom prst="rect">
            <a:avLst/>
          </a:prstGeom>
          <a:solidFill>
            <a:srgbClr val="e4d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CHROMOSOMES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4419720"/>
            <a:ext cx="9144000" cy="22860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Zygote is genetically </a:t>
            </a:r>
            <a:r>
              <a:rPr b="1" lang="en-US" sz="2200" spc="-1" strike="noStrike">
                <a:solidFill>
                  <a:srgbClr val="8c0000"/>
                </a:solidFill>
                <a:latin typeface="Calibri"/>
              </a:rPr>
              <a:t>unique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Half of its chromosome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other hal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ther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New combination is form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ich i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fferent  from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ither of the parent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s mechanism forms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biparental inheritanc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leads to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variation of the human specie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2" name="Picture 4" descr="Fertilization004"/>
          <p:cNvPicPr/>
          <p:nvPr/>
        </p:nvPicPr>
        <p:blipFill>
          <a:blip r:embed="rId1"/>
          <a:srcRect l="5318" t="0" r="13832" b="57965"/>
          <a:stretch/>
        </p:blipFill>
        <p:spPr>
          <a:xfrm>
            <a:off x="2133720" y="762120"/>
            <a:ext cx="495288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3581280" cy="7920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Sex of the Embryo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03848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Embryo's chromosomal sex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s determin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at the time of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ex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is determined by the type of sperm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or 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) that fertilizes the oocy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o, it is the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ose gamete </a:t>
            </a:r>
            <a:r>
              <a:rPr b="1" lang="en-US" sz="2400" spc="-1" strike="noStrike" u="sng">
                <a:solidFill>
                  <a:srgbClr val="690000"/>
                </a:solidFill>
                <a:uFillTx/>
                <a:latin typeface="Calibri"/>
              </a:rPr>
              <a:t>decides the sex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5" name="Picture 4" descr="Fertilization004"/>
          <p:cNvPicPr/>
          <p:nvPr/>
        </p:nvPicPr>
        <p:blipFill>
          <a:blip r:embed="rId1"/>
          <a:srcRect l="781" t="44568" r="60279" b="22353"/>
          <a:stretch/>
        </p:blipFill>
        <p:spPr>
          <a:xfrm>
            <a:off x="3886200" y="152280"/>
            <a:ext cx="50292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4"/>
          <p:cNvSpPr/>
          <p:nvPr/>
        </p:nvSpPr>
        <p:spPr>
          <a:xfrm>
            <a:off x="152280" y="5486400"/>
            <a:ext cx="8839440" cy="94716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Zonal reaction :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it is a change i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properties of zona pellucida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that makes i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meabl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 to other sperms.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2971800" cy="1401840"/>
          </a:xfrm>
          <a:prstGeom prst="rect">
            <a:avLst/>
          </a:prstGeom>
          <a:solidFill>
            <a:srgbClr val="ffb0b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Results of 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200400" cy="464832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timulat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the penetrate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ocyt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te  it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eiotic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divis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Restores the norm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ploid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number of 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Determines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x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nitiat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eavage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(cell division) of the zygo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9" name="Picture 4" descr="Fertilization004"/>
          <p:cNvPicPr/>
          <p:nvPr/>
        </p:nvPicPr>
        <p:blipFill>
          <a:blip r:embed="rId1"/>
          <a:srcRect l="0" t="43352" r="0" b="138"/>
          <a:stretch/>
        </p:blipFill>
        <p:spPr>
          <a:xfrm>
            <a:off x="3429000" y="380880"/>
            <a:ext cx="548640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1:59:06Z</dcterms:created>
  <dc:creator>Prof. Saeed Macarem</dc:creator>
  <dc:description/>
  <dc:language>en-US</dc:language>
  <cp:lastModifiedBy>user</cp:lastModifiedBy>
  <dcterms:modified xsi:type="dcterms:W3CDTF">2014-09-08T19:16:09Z</dcterms:modified>
  <cp:revision>107</cp:revision>
  <dc:subject/>
  <dc:title>Implantation</dc:title>
</cp:coreProperties>
</file>