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94D-E83E-4F03-8D45-6969626EC1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5A03-22F1-4A57-BE31-400BA9402EB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735-ACB3-410E-B868-B0535695582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3DD-75CD-4D3F-B47B-B2B4C6FBE10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3E7-D846-4C25-8BFF-D9A301DAFC2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FE9-5401-42DE-B0E1-304A5E17598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5E4-8FA3-48FC-BDA5-4D705A1A09A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995-E938-4F9D-8290-E42324C11F3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D4C-F2A3-42AD-AC36-12BC3B51B92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400-9EF9-4C37-9EB2-0354CAFFC1D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3F7-A853-4C5E-A67A-7524B24541C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693-8C76-4B06-BB69-5F2678A38BD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634-DBA7-4AA5-B8EA-EFCD00B11D5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2FC5-84D2-49EA-8254-7E4E5FBBFF8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CDE-7024-45F8-823D-9BFE2A36602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02E-8C0C-4CC7-ABEB-95581E5465E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600"/>
            <a:ext cx="5403960" cy="50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ardio-vascular system-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 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Sony</cp:lastModifiedBy>
  <dcterms:modified xsi:type="dcterms:W3CDTF">2014-09-07T18:06:49Z</dcterms:modified>
  <cp:revision>394</cp:revision>
  <dc:subject/>
  <dc:title>Epithelium</dc:title>
</cp:coreProperties>
</file>