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7E981-DB3D-4F17-A204-65BE8DCBC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4207B-9039-40AE-A45B-0D2551E7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4CBF9-1C35-4263-A635-9D3D05F2B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51A24-E1A7-452A-9BBA-61896BE3D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96CF-021C-4072-B2C9-186370AE6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0DA2C-A0FA-4CE6-9273-B9ED82F76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4D2C2-5A8B-431A-BC83-9352223BB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11736-03AC-4EDB-BD15-38E41A4E6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E764A-4967-4D08-8C3D-E4A366AB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4C8C6-6707-44BD-836A-EAA747F84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2710-9748-4164-A113-C314A38C8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A24C2-D95A-45EA-AF6C-F664312BC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5B90-92F6-44FB-8440-B63BB0EB209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773360"/>
            <a:ext cx="4176720" cy="4736880"/>
            <a:chOff x="971640" y="1773360"/>
            <a:chExt cx="4176720" cy="4736880"/>
          </a:xfrm>
        </p:grpSpPr>
        <p:pic>
          <p:nvPicPr>
            <p:cNvPr id="48" name="Picture 4" descr="F14_01"/>
            <p:cNvPicPr/>
            <p:nvPr/>
          </p:nvPicPr>
          <p:blipFill>
            <a:blip r:embed="rId2"/>
            <a:stretch/>
          </p:blipFill>
          <p:spPr>
            <a:xfrm>
              <a:off x="1042920" y="1773360"/>
              <a:ext cx="3922200" cy="4736880"/>
            </a:xfrm>
            <a:prstGeom prst="rect">
              <a:avLst/>
            </a:prstGeom>
            <a:ln w="0">
              <a:noFill/>
            </a:ln>
          </p:spPr>
        </p:pic>
        <p:sp>
          <p:nvSpPr>
            <p:cNvPr id="49" name="Oval 4"/>
            <p:cNvSpPr/>
            <p:nvPr/>
          </p:nvSpPr>
          <p:spPr>
            <a:xfrm>
              <a:off x="3945240" y="2768400"/>
              <a:ext cx="12031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49880" y="5438880"/>
              <a:ext cx="1203120" cy="26496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5240" y="4303800"/>
              <a:ext cx="1203120" cy="2682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4040" y="2101680"/>
              <a:ext cx="12049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3168720"/>
              <a:ext cx="1204920" cy="2664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5480" y="1901880"/>
              <a:ext cx="1203120" cy="268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635200"/>
              <a:ext cx="779400" cy="3333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ALI</cp:lastModifiedBy>
  <dcterms:modified xsi:type="dcterms:W3CDTF">2013-09-17T06:39:24Z</dcterms:modified>
  <cp:revision>167</cp:revision>
  <dc:subject/>
  <dc:title>LYMPHOID TISSUE</dc:title>
</cp:coreProperties>
</file>