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54CD-4B6B-4356-8DA2-32CC6CD4503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4446-A308-4431-95C5-93926A61F4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88C2-B097-418C-B36E-DB9AA1A822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038D-39D8-4DC1-B24C-6AF47D0125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7CEE-2360-4099-AF1C-931F5E3ED4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F308-3203-420D-A3E8-B5AF303200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6309-66E8-4CEC-BBBE-882C4E5BA7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D412-8C66-4A6B-99BE-B868040F9C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235-97D6-472B-80BE-76BCF0CFD40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7C6B-635F-4D41-81D9-874E379D9E3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469F-3F8F-4DD8-8BF6-0192B88B32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A60-BA89-4D84-8BFD-A9DEC40D98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F9E0-CD75-4311-B4BD-8F37FC668E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080E-3905-450B-88EE-3F49E3ECC7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A92A-0033-4C22-BF2D-92FCCECC56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204D-FEDF-409C-8F80-7B2F3392C9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0898-B80F-4615-B3D6-092E20DE4B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1573-ADC1-49AD-B6E0-B89F79BBA5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526-DE86-49CB-B13C-35BE047F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7A6-1F8B-44ED-AE82-250A5A25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BAD-DF58-4A01-A895-CB8955EA4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4F1-CCDD-4CB5-903B-714525B0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A670-CEF8-4271-AE54-15FD19C3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4BA6-8D8C-411D-9217-538E38E5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EB4C-92AF-41A2-91C1-EB2F978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9856-50C8-4502-92E6-FCA9342A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3533-4BFB-4B4A-8834-79E8E241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0113-1AD0-4BC5-BBBD-FEF61D03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8A3B-5BE5-4880-969C-12B35D78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11A-8478-45D5-8CDF-5CC88462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E80-5854-4E7F-91D1-511019ED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2B91-7CD5-4ABF-9B95-E1CEEE70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57D9-4D67-4E9A-BEA3-CD4ED98E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0760-06A6-45BC-9C1C-C6153A50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ABB1-F9A4-431E-9962-7B292E11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FB485-5FF7-41DE-8291-BC42CB67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D5455-C885-42E4-B750-742E1A17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C7A738-55ED-4207-BE2B-578EAB29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07F85-A3B3-48B6-BE7D-5382C5E1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5FA07-5D2D-4E0C-A2F7-FAE97984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2079-94C6-4756-8B88-ABEB031F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8A080-AF64-4397-B9F8-29154F9A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62D8C-92DC-4B2F-AF86-777B42C5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E284E-15FE-4A74-8E07-EBCD8CE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318244-FA5A-4DEB-B7F7-78B02707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D62EE-2C3A-4C97-9991-F56B073B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299CF-BD72-40C8-B8C4-AE9FCD52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495C5-1CB8-40BD-A973-13F8EFE4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F55D-6CF8-43FE-9B03-6836FE892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E50DD-2D44-4798-B710-6F28AF13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BC99-C82A-45B7-B6C4-FF56C8F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77A-600A-49D9-B2FD-C06D9019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0CE80-1313-4083-8C1F-28EBAD54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510C-1A99-4844-AED2-F4795C9D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BCF94-C981-41F9-B3B3-1AC9302D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1CB2F-4A96-4F60-864E-F41352A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1F17-5954-417D-9E7A-37EA55AF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6E764-6952-4265-B9EC-F1E5A01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B1F43-B9E7-4E4C-8131-7C9AC6AF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F026-C78B-4A0C-917D-9F579B42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3F72B-41A6-4866-A4B5-761BF90D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DB8-21FE-4AA9-A067-3EE757EA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481-EB35-49F9-A123-EB9DC559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C75-BEF2-4405-B490-A9259D5D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9FC-EB9D-47BB-8378-F040C76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311-790E-4E36-89AA-E120D943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E5A9-908B-40A3-8206-1FD82B8B28EF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FF8-8202-4FB8-9840-C7FA8F399063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B997-33B5-46CD-A6AE-ABBC4BB5A8CE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A72A-9515-4945-93EF-3F0CCCFB7A8B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Phagocytes%26toggle%3D1%26cop%3Dmss%26ei%3DUTF-8%26ni%3D20%26fr%3Dyfp-t-501%26b%3D121&amp;w=100&amp;h=100&amp;imgurl=www.netsoc.tcd.ie%2F%7Eelena%2Fcollegework%2Fapplet2%2Fphagocyte.jpg&amp;rurl=http%3A%2F%2Fwww.netsoc.tcd.ie%2F%7Eelena%2Fcollegework%2Fapplet2%2Flevel1.html&amp;size=2.6kB&amp;name=phagocyte.jpg&amp;p=Phagocytes&amp;type=jpeg&amp;no=129&amp;tt=183&amp;oid=38f49f2a14227ed4&amp;ei=UTF-8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NBK27109/figure/A1506/?report=objectonly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0" y="-4572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Times New Roman"/>
              </a:rPr>
              <a:t>Immune deficiency disorder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40384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r. Hend Alotaib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t professor &amp; Consultant </a:t>
            </a:r>
            <a:br>
              <a:rPr sz="20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Medicine, King Saud University</a:t>
            </a:r>
            <a:br>
              <a:rPr sz="19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matology Department /KKUH</a:t>
            </a:r>
            <a:br>
              <a:rPr sz="2000"/>
            </a:b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1447560"/>
            <a:ext cx="5105520" cy="51814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ildren  may present with tetany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treme susceptibility to viral protozoal, and  fungal  infection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Profound  depression of T-cell numbers 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bsence of T-cell response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5651640" y="2057400"/>
            <a:ext cx="3263760" cy="25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tal thymus tissue graft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(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4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weeks old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560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tients with B-cell defects  are subject to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981080"/>
            <a:ext cx="8076960" cy="4572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ut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y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??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X-linked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ales :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the diseas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2437920"/>
            <a:ext cx="8686800" cy="40388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Bruton Tyrosine Kinase (BTK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block in maturation of  pre- B- cells to mature B-cells in bone marro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28600" y="304920"/>
            <a:ext cx="8763120" cy="16002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ffected children suffer from recurrent pyogenic bacterial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026720"/>
            <a:ext cx="73152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ve immunoglobulin deficienc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2590920"/>
            <a:ext cx="746784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3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gA  deficiency   (1:700)</a:t>
            </a: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e3d2d"/>
                </a:solidFill>
                <a:latin typeface="Century Gothic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ost  are  asymptomatic: but may have increased  incidence  of respiratory tract infections (R.T.I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ome have recurrent R.T.I and gastrointestinal tract symptom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cture Objective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380880" y="1905120"/>
            <a:ext cx="8229600" cy="4190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380880" y="304920"/>
            <a:ext cx="7239240" cy="106668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(Congenital disease)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7238880" y="1905120"/>
            <a:ext cx="137160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agement of immunoglobulin   deficiencies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*Periodic intravenous immunoglobulin      (IVIG)  reduces infectious complications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685800" y="1828800"/>
            <a:ext cx="8077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Causes of  SCI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deficienci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DA (adenosine deaminase 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PN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metabolites accumulate in T and B cel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atible with life and affected infants usually die within the first 2 y unless they are rescued with BM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4920" y="1828440"/>
            <a:ext cx="8610480" cy="4876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velop recurrent infections early in lif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rolonged diarrhea due to rotavirus or bacterial infection of GIT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usually due to the protozoan, Pneumocystis carinii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common yeast organism Candida albicans (mouth or skin)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f they are vaccinated with live organisms, such as poliovirus or (BCG), they die of progressive infection from these ordinarily benign organism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2280" y="3049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ncreased susceptibility to :viral, fungal, bacterial protozoal infections  (starting at 3 months of age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380880" y="1676520"/>
            <a:ext cx="833760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nagement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the gene inducing G-CSF (granulocyte colony stimulating factor)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ature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otitis media, abscess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28600" y="1752480"/>
            <a:ext cx="8610480" cy="4724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.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LAD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ronic granulomatous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 in the oxidative complex responsible  for producing superoxide radica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57200" y="304920"/>
            <a:ext cx="830592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Defini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romised or entirely absent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mmuno-compromise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Chronic granulomatous disease (CGD)</a:t>
            </a:r>
            <a:br>
              <a:rPr sz="3600"/>
            </a:b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(Congenital disease)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33520" y="289548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ophils lack the "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upon phagocyt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aracterized by recurrent life-threatening bacterial and fungal infections and granuloma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095880" y="2286000"/>
            <a:ext cx="243864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533520" y="152280"/>
            <a:ext cx="7848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Figure 11.14. Defects in complement components are associated with susceptibility to certain infections and accumulation of immune complex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828800"/>
            <a:ext cx="861084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229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5201"/>
                </a:solidFill>
                <a:latin typeface="Times New Roman"/>
              </a:rPr>
              <a:t>Laboratory diagnosis of 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3520" y="20570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unt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(Flowcytometry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lement protei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nd function (CH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agocytosis and respiratory bur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oxygen radicals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1027080"/>
            <a:ext cx="707688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entury Gothic"/>
              </a:rPr>
              <a:t>Take Home Messag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2323800"/>
            <a:ext cx="807732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mmunodeficiency may be congenital or acquire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can involve any component of the immune system such as cells, antibodies, complement etc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ost common presentation of immunodeficiency is recurrent infections that may be fatal due to delay in diagnosis and lack of appropriate therap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nk you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705720" cy="358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cd3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Diagram 4" descr=""/>
          <p:cNvPicPr/>
          <p:nvPr/>
        </p:nvPicPr>
        <p:blipFill>
          <a:blip r:embed="rId1"/>
          <a:stretch/>
        </p:blipFill>
        <p:spPr>
          <a:xfrm>
            <a:off x="-92160" y="0"/>
            <a:ext cx="94014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Diagram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Diagram 1" descr=""/>
          <p:cNvPicPr/>
          <p:nvPr/>
        </p:nvPicPr>
        <p:blipFill>
          <a:blip r:embed="rId1"/>
          <a:stretch/>
        </p:blipFill>
        <p:spPr>
          <a:xfrm>
            <a:off x="-133200" y="0"/>
            <a:ext cx="94294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Ahmed</dc:creator>
  <dc:description/>
  <dc:language>en-US</dc:language>
  <cp:lastModifiedBy>Dr.Hend</cp:lastModifiedBy>
  <dcterms:modified xsi:type="dcterms:W3CDTF">2014-11-09T03:25:15Z</dcterms:modified>
  <cp:revision>1114</cp:revision>
  <dc:subject/>
  <dc:title>GENERAL FETURES OF IMMUNODEFICIENCY.</dc:title>
</cp:coreProperties>
</file>