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D69D-CAB7-428F-B906-03FD80D514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D39C-3AF8-4EA0-A3F8-E8365E106D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6752-1BF6-4D44-B4D8-33E88064C15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4A3E-FF85-4AF1-95CE-F03E9F42985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33EA-A1B5-4BC3-8C6F-4A77DC92C06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636A-9F7B-49A9-ABA3-7591959927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687F-030D-45A0-A77F-33EA1A4AD08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E241-3C3A-492F-8214-B19B5B55856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A54B-DD5F-433A-91A0-B302DCCCA6A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3F3A-6E5E-418D-99BF-49274AE622D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0CA4-5C19-442E-9AED-72F563D9920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E5CB-14EF-4781-A9AF-C9FD915EE96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2612-08EF-4B15-BA1F-E06B9D0B71D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3C66-37A6-4535-99B3-193AE394AC5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9BE9-BFF9-4460-B3D7-337767D419F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5880-92C0-4BE2-9E87-F57A9A2F344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F0A1-601E-4CF9-A30F-798A464554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F695-F7D7-449E-BEC8-5550C198448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0C7-B8F9-4EC7-B631-C9922220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D2B-4E5D-4325-B700-2FD75C9D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61E-A354-4551-9BF8-4407A16E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276-F5B4-435F-9365-9382D168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0DF6-0724-4160-8D89-7D43F611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E728-4E7D-48C6-A766-14E5234A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48FA-4771-4C9D-84E6-4D1C4B7B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CCBE-97CA-42FC-8496-756491F2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3A5B-0F3F-4E02-90CE-50AEFA1F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92E2-6A30-4838-9FB5-76F0CFFC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1CC6-5A5D-40B8-A42E-9C2C9119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287-15E6-47D3-AD23-E671D6A8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3AED-B84C-43B7-B096-EE602C66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D2FF-3BD0-42ED-ADF2-5477D3D0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59E8-A7C2-4461-ACB1-90791733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9955-E37E-4B18-A3F4-E2D4A174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D56F-63F4-4FCA-A5E1-2F503DAF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C6C3D-62C5-45C2-B1A8-BAD7656B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E2C25-5D42-4DBE-BE37-37B020FB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9CFB1-9FB0-4A21-A6FC-A8DDBA74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D6D7C-DA1E-4276-A892-FB2B9535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C02F8-4D13-440A-8105-8B932394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DC4-A363-4963-AA29-0B91A9AB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E7A8E-D9FF-483E-8DEB-18D3C18A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D565D-8234-4EF5-BEB9-A650A307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FC3A9-63FA-48B6-9710-C62146F4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3FEB8-FE91-439B-8425-B0E9249D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4BA92-BEDD-41D6-B407-1039B8E1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7EA7E-8135-4C1D-8FB8-12945232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C51F05-0A33-4C23-B575-E898A057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C1689-3E75-4941-8313-426DADED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7A641-1E00-4B71-BDB2-76113CC5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0CBAD-5ECB-4094-8FFE-8D1500F8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9E4-4AE7-4202-92D7-148E2223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B87CE-B8A1-41CC-83E8-CB2A5EFD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AA26-8A93-49C4-AB94-6044E6FB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57A20-3D29-4750-9EEE-29BAB6C4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915D0-21AA-457B-80DC-60FDFBDF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1218C-2E33-45FF-A250-41AC4B4C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5FEE0-3A7D-45AD-A44E-CBAB7AB2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3404C-1B75-4C53-A288-E1D01328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D0608-710F-4910-A498-5F8A3FF8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4B5FA-5885-4EFD-9538-410897BC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37B-82FF-415A-A9C7-4097F2CB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2E7-A050-4081-896D-46DC9BD8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5C0-8554-4B2F-B1FF-1D2E5A06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251-5D73-4123-A665-12A4FA17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043-846E-4E84-9A0E-A3A257A8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ABDD-E762-49C3-8969-1F9880EE4E8F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9145-F1CD-49F9-895C-2CC97AA51545}" type="slidenum"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8502-AAD2-4752-8759-8090BD1A2CCD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60A5-B065-4361-9471-D6983AEED658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Phagocytes%26toggle%3D1%26cop%3Dmss%26ei%3DUTF-8%26ni%3D20%26fr%3Dyfp-t-501%26b%3D121&amp;w=100&amp;h=100&amp;imgurl=www.netsoc.tcd.ie%2F%7Eelena%2Fcollegework%2Fapplet2%2Fphagocyte.jpg&amp;rurl=http%3A%2F%2Fwww.netsoc.tcd.ie%2F%7Eelena%2Fcollegework%2Fapplet2%2Flevel1.html&amp;size=2.6kB&amp;name=phagocyte.jpg&amp;p=Phagocytes&amp;type=jpeg&amp;no=129&amp;tt=183&amp;oid=38f49f2a14227ed4&amp;ei=UTF-8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ncbi.nlm.nih.gov/books/NBK27109/figure/A1506/?report=objectonly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0" y="-457200"/>
            <a:ext cx="36576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  <a:ea typeface="Times New Roman"/>
              </a:rPr>
              <a:t>Immune deficiency disorder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28600" y="4266720"/>
            <a:ext cx="4038480" cy="21337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r. Hend Alotaibi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ant professor &amp; Consultant </a:t>
            </a:r>
            <a:br>
              <a:rPr sz="20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Medicine, King Saud University</a:t>
            </a:r>
            <a:br>
              <a:rPr sz="19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matology Department /KKUH</a:t>
            </a:r>
            <a:br>
              <a:rPr sz="2000"/>
            </a:b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7200" y="1447560"/>
            <a:ext cx="5105520" cy="518148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hildren  may present with tetany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Extreme susceptibility to viral protozoal, and  fungal  infections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i="1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Profound  depression of T-cell numbers 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Absence of T-cell responses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685800" y="304920"/>
            <a:ext cx="7620120" cy="7617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atures of DiGeorge  syndro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5651640" y="2057400"/>
            <a:ext cx="3263760" cy="2552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7200" y="2438280"/>
            <a:ext cx="8229600" cy="36576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Fetal thymus tissue graft 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(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4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weeks old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80880" y="914400"/>
            <a:ext cx="7543800" cy="9144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agement of DiGeorge   syndrome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4"/>
          <p:cNvSpPr/>
          <p:nvPr/>
        </p:nvSpPr>
        <p:spPr>
          <a:xfrm>
            <a:off x="1600200" y="2514600"/>
            <a:ext cx="5410080" cy="106668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4f8be"/>
                </a:solidFill>
                <a:latin typeface="Times New Roman"/>
                <a:ea typeface="Times New Roman"/>
              </a:rPr>
              <a:t>   </a:t>
            </a:r>
            <a:r>
              <a:rPr b="0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-cell defect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1219320" y="4114800"/>
            <a:ext cx="6324480" cy="14479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ammaglobulinaemia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http://t3.gstatic.com/images?q=tbn:ANd9GcT6R0crhi6KxnXaWpjOyHLjMGSPmPgXCMQ23w28VquN1BTkHYYVFw"/>
          <p:cNvPicPr/>
          <p:nvPr/>
        </p:nvPicPr>
        <p:blipFill>
          <a:blip r:embed="rId1"/>
          <a:stretch/>
        </p:blipFill>
        <p:spPr>
          <a:xfrm>
            <a:off x="304920" y="228600"/>
            <a:ext cx="1828800" cy="220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5606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tients with B-cell defects  are subject to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3520" y="1981080"/>
            <a:ext cx="8076960" cy="45720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</a:t>
            </a:r>
            <a:r>
              <a:rPr b="0" lang="en-US" sz="4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Recurrent bacterial infections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but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isplay normal immunity to most viral and fungal  infections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y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???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04560" y="609480"/>
            <a:ext cx="8381880" cy="551664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verse spectrum  ranging from: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omplete absence of B-cell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omplete  absence of plasma cell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Low or absent immunoglobulin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elective absence of certain immunoglobulin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X-linked disease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Females : carriers (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ales :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nifest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the disease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04920" y="2437920"/>
            <a:ext cx="8686800" cy="403884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most common type, 80 to 90 percent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efect in Bruton Tyrosine Kinase (BTK)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defect involves a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Times New Roman"/>
                <a:ea typeface="Times New Roman"/>
              </a:rPr>
              <a:t>block in maturation of  pre- B- cells to mature B-cells in bone marrow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228600" y="304920"/>
            <a:ext cx="8763120" cy="16002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-linked agammaglobulinaemia (XLA) o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uton’s hypogammaglobulinaem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Congenital diseas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0880" y="1752480"/>
            <a:ext cx="8229600" cy="41148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 Reduced B-cell counts to 0.1 percent   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(normally 5-15 percent)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 Absence of Immunoglobulins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Affected children suffer from recurrent pyogenic bacterial infections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457200" y="304920"/>
            <a:ext cx="8229600" cy="129528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eatures of XL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1026720"/>
            <a:ext cx="7315200" cy="11430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lective immunoglobulin deficiency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r>
              <a:rPr b="0" lang="en-US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2590920"/>
            <a:ext cx="7467840" cy="36576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rtl="1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3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gA  deficiency   (1:700)</a:t>
            </a:r>
            <a:endParaRPr b="0" lang="en-US" sz="3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e3d2d"/>
                </a:solidFill>
                <a:latin typeface="Century Gothic"/>
                <a:ea typeface="Arial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ost  are  asymptomatic: but may have increased  incidence  of respiratory tract infections (R.T.I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ome have recurrent R.T.I and gastrointestinal tract symptom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cture Objective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76176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dentify that Immunodeficiency is due to a defect in the immune function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escribe the classification of Immunodeficiency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Explain the presentations of different types of Immuno-deficiencies (e.g. recurrent infections)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Understand the varieties of immune system deficiencies involving defects in :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 cells, B cells, phagocytes and complement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Know the laboratory investigations for immunodeficiency disorders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"/>
          <p:cNvSpPr/>
          <p:nvPr/>
        </p:nvSpPr>
        <p:spPr>
          <a:xfrm>
            <a:off x="380880" y="1905120"/>
            <a:ext cx="8229600" cy="41907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d by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Markedly elevated Ig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Low IgG, IgA &amp; I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380880" y="304920"/>
            <a:ext cx="7239240" cy="1066680"/>
          </a:xfrm>
          <a:prstGeom prst="rect">
            <a:avLst/>
          </a:prstGeom>
          <a:solidFill>
            <a:srgbClr val="74a510"/>
          </a:solidFill>
          <a:ln w="93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ec67a"/>
                </a:solidFill>
                <a:latin typeface="Times New Roman"/>
                <a:ea typeface="Times New Roman"/>
              </a:rPr>
              <a:t>X- linked  hyper-IgM  Syndro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c67a"/>
                </a:solidFill>
                <a:latin typeface="Times New Roman"/>
                <a:ea typeface="Times New Roman"/>
              </a:rPr>
              <a:t>(Congenital disease)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http://t1.gstatic.com/images?q=tbn:ANd9GcTbrUSFfTP1aydJ6sC_kYhfhiBwSZNTKItqGUJo0aXElfM7ap_P-Q"/>
          <p:cNvPicPr/>
          <p:nvPr/>
        </p:nvPicPr>
        <p:blipFill>
          <a:blip r:embed="rId1"/>
          <a:stretch/>
        </p:blipFill>
        <p:spPr>
          <a:xfrm>
            <a:off x="7238880" y="1905120"/>
            <a:ext cx="1371600" cy="130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20844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nagement of immunoglobulin   deficiencies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3657240"/>
            <a:ext cx="8229600" cy="20574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*Periodic intravenous immunoglobulin      (IVIG)  reduces infectious complications    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609480" y="304920"/>
            <a:ext cx="8153640" cy="12189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Severe Combined Immunodeficiency (SCI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(Congenital diseas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685800" y="1828800"/>
            <a:ext cx="80773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8be"/>
                </a:solidFill>
                <a:latin typeface="Times New Roman"/>
                <a:ea typeface="Times New Roman"/>
              </a:rPr>
              <a:t>Causes of  SCI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deficienci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DA (adenosine deaminase ) de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PN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ine phosphorylase) de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xic metabolites accumulate in T and B cel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atible with life and affected infants usually die within the first 2 y unless they are rescued with BM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144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eatures of SC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4920" y="1828440"/>
            <a:ext cx="8610480" cy="48769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evelop recurrent infections early in life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rolonged diarrhea due to rotavirus or bacterial infection of GIT.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neumonia, usually due to the protozoan, Pneumocystis carinii.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common yeast organism Candida albicans (mouth or skin)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f they are vaccinated with live organisms, such as poliovirus or (BCG), they die of progressive infection from these ordinarily benign organism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52280" y="3049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eatures of SCID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ncreased susceptibility to :viral, fungal, bacterial protozoal infections  (starting at 3 months of age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3" name="Picture 2" descr="http://www.pc.maricopa.edu/Biology/rcotter/BIO%20205/LessonBuilders/Chapter%2016LB/cow95289_16_18.jpg"/>
          <p:cNvPicPr/>
          <p:nvPr/>
        </p:nvPicPr>
        <p:blipFill>
          <a:blip r:embed="rId1"/>
          <a:stretch/>
        </p:blipFill>
        <p:spPr>
          <a:xfrm>
            <a:off x="380880" y="1676520"/>
            <a:ext cx="8337600" cy="4724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8229600" cy="11430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anagement of SC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2742840"/>
            <a:ext cx="7696080" cy="21337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. Infusion of purified enzymes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2. Gene therapy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4"/>
          <p:cNvSpPr/>
          <p:nvPr/>
        </p:nvSpPr>
        <p:spPr>
          <a:xfrm>
            <a:off x="1828800" y="2590920"/>
            <a:ext cx="5410080" cy="129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cyte defects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609480" y="4648320"/>
            <a:ext cx="3505320" cy="685800"/>
          </a:xfrm>
          <a:prstGeom prst="rect">
            <a:avLst/>
          </a:prstGeom>
          <a:solidFill>
            <a:srgbClr val="aaea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tativ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572000" y="4648320"/>
            <a:ext cx="3886200" cy="685800"/>
          </a:xfrm>
          <a:prstGeom prst="rect">
            <a:avLst/>
          </a:prstGeom>
          <a:solidFill>
            <a:srgbClr val="aaea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ativ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 rot="961200">
            <a:off x="2435400" y="3929040"/>
            <a:ext cx="145800" cy="571680"/>
          </a:xfrm>
          <a:prstGeom prst="downArrow">
            <a:avLst>
              <a:gd name="adj1" fmla="val 50000"/>
              <a:gd name="adj2" fmla="val 1437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8"/>
          <p:cNvSpPr/>
          <p:nvPr/>
        </p:nvSpPr>
        <p:spPr>
          <a:xfrm rot="20596800">
            <a:off x="5949720" y="3927240"/>
            <a:ext cx="153720" cy="600120"/>
          </a:xfrm>
          <a:prstGeom prst="downArrow">
            <a:avLst>
              <a:gd name="adj1" fmla="val 50000"/>
              <a:gd name="adj2" fmla="val 15614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28600"/>
            <a:ext cx="3543120" cy="213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ngenital agranulocytosis:  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efect in the gene inducing G-CSF (granulocyte colony stimulating factor)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Features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neumonia, otitis media, abscesse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685800" y="380880"/>
            <a:ext cx="5105520" cy="685800"/>
          </a:xfrm>
          <a:prstGeom prst="rect">
            <a:avLst/>
          </a:prstGeom>
          <a:solidFill>
            <a:srgbClr val="74a510"/>
          </a:solidFill>
          <a:ln w="93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ntitative Defec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228600" y="1752480"/>
            <a:ext cx="8610480" cy="472464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Arial"/>
                <a:ea typeface="Arial"/>
              </a:rPr>
              <a:t>             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.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</a:rPr>
              <a:t>Defect  in  chemotaxis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Leukocyte adhesion deficiency</a:t>
            </a:r>
            <a:r>
              <a:rPr b="0" lang="ar-SA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(LAD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</a:rPr>
              <a:t>Defect in intracellular Killing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hronic granulomatous disease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</a:rPr>
              <a:t>Defect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:  in the oxidative complex responsible  for producing superoxide radical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Arial"/>
                <a:ea typeface="Arial"/>
              </a:rPr>
              <a:t>      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457200" y="304920"/>
            <a:ext cx="8305920" cy="12189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Qualitative Defec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(Congenital diseas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Defini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52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 state in which  the ability of the immune system to fight infectious disease is 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promised or entirely absent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 person who has an immunodeficiency is said to be 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mmuno-compromise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Chronic granulomatous disease (CGD)</a:t>
            </a:r>
            <a:br>
              <a:rPr sz="3600"/>
            </a:b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(Congenital disease)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533520" y="2895480"/>
            <a:ext cx="556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ophils lack the "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respiratory bu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upon phagocyt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aracterized by recurrent life-threatening bacterial and fungal infections and granuloma 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http://www.humpath.com/IMG/jpg/granuloma_fgsd-2.jpg"/>
          <p:cNvPicPr/>
          <p:nvPr/>
        </p:nvPicPr>
        <p:blipFill>
          <a:blip r:embed="rId1"/>
          <a:stretch/>
        </p:blipFill>
        <p:spPr>
          <a:xfrm>
            <a:off x="6095880" y="2286000"/>
            <a:ext cx="2438640" cy="1676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838080" y="2895480"/>
            <a:ext cx="7620120" cy="990720"/>
          </a:xfrm>
          <a:prstGeom prst="rect">
            <a:avLst/>
          </a:prstGeom>
          <a:solidFill>
            <a:srgbClr val="74a510"/>
          </a:solidFill>
          <a:ln w="93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plement  Deficienc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533520" y="152280"/>
            <a:ext cx="78483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y of all complement components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been described C1-C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Figure 11.14. Defects in complement components are associated with susceptibility to certain infections and accumulation of immune complexe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828800"/>
            <a:ext cx="8610840" cy="487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229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f5201"/>
                </a:solidFill>
                <a:latin typeface="Times New Roman"/>
              </a:rPr>
              <a:t>Laboratory diagnosis of 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33520" y="20570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omplete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lood count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: total &amp; differentia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Evaluation of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ntibody levels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and response to antigen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 and B cells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unts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(Flowcytometry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easurement of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plement protein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nd function (CH</a:t>
            </a:r>
            <a:r>
              <a:rPr b="0" lang="en-US" sz="2800" spc="-1" strike="noStrike" baseline="-25000">
                <a:solidFill>
                  <a:srgbClr val="3e3d2d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ssessment of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hagocytosis and respiratory burs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(oxygen radicals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720" y="1027080"/>
            <a:ext cx="707688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entury Gothic"/>
              </a:rPr>
              <a:t>Take Home Messag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2323800"/>
            <a:ext cx="807732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mmunodeficiency may be congenital or acquire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t can involve any component of the immune system such as cells, antibodies, complement etc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ost common presentation of immunodeficiency is recurrent infections that may be fatal due to delay in diagnosis and lack of appropriate therap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 rtl="1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ank you</a:t>
            </a:r>
            <a:r>
              <a:rPr b="0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7" name="Picture 1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6705720" cy="358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http://bio116.pbworks.com/f/bubbleboy1_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3886200" y="152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cd3"/>
                </a:solidFill>
                <a:latin typeface="Times New Roman"/>
                <a:ea typeface="Times New Roman"/>
              </a:rPr>
              <a:t>A boy with congenital ID lived in a bubble for 12 years before he di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Diagram 4" descr=""/>
          <p:cNvPicPr/>
          <p:nvPr/>
        </p:nvPicPr>
        <p:blipFill>
          <a:blip r:embed="rId1"/>
          <a:stretch/>
        </p:blipFill>
        <p:spPr>
          <a:xfrm>
            <a:off x="-92160" y="0"/>
            <a:ext cx="94014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Diagram 1" descr=""/>
          <p:cNvPicPr/>
          <p:nvPr/>
        </p:nvPicPr>
        <p:blipFill>
          <a:blip r:embed="rId1"/>
          <a:stretch/>
        </p:blipFill>
        <p:spPr>
          <a:xfrm>
            <a:off x="-23760" y="0"/>
            <a:ext cx="9198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Diagram 1" descr=""/>
          <p:cNvPicPr/>
          <p:nvPr/>
        </p:nvPicPr>
        <p:blipFill>
          <a:blip r:embed="rId1"/>
          <a:stretch/>
        </p:blipFill>
        <p:spPr>
          <a:xfrm>
            <a:off x="-133200" y="0"/>
            <a:ext cx="942948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838080" y="304920"/>
            <a:ext cx="7086600" cy="9903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54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T-cell defect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http://t3.gstatic.com/images?q=tbn:ANd9GcSVGBMI6vkB0i2_XMEeLMNaPzI6IIowIqLhyf6xFgjSa_vOtMRO"/>
          <p:cNvPicPr/>
          <p:nvPr/>
        </p:nvPicPr>
        <p:blipFill>
          <a:blip r:embed="rId1"/>
          <a:stretch/>
        </p:blipFill>
        <p:spPr>
          <a:xfrm>
            <a:off x="457200" y="152388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http://t0.gstatic.com/images?q=tbn:ANd9GcSZ0FRBvkw-acEe0IEvCG4NWB4lRYk-r_c5E0IUffiGTROVss2Y8g"/>
          <p:cNvPicPr/>
          <p:nvPr/>
        </p:nvPicPr>
        <p:blipFill>
          <a:blip r:embed="rId2"/>
          <a:stretch/>
        </p:blipFill>
        <p:spPr>
          <a:xfrm>
            <a:off x="4419720" y="1523880"/>
            <a:ext cx="4181400" cy="396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3520" y="2438280"/>
            <a:ext cx="8229600" cy="41911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bsence or underdevelopment  of  the Thymus  gland (hypoplasia)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Hypoparathyroidism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Cardiovascular  abnormalities 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380880" y="1676520"/>
            <a:ext cx="8382240" cy="106668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genital defect that is  marked by: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http://t3.gstatic.com/images?q=tbn:ANd9GcRSayqznbuAtyhQleFDFaI7hZRw85WdRq0d-1bRPCrQfs-t_243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6761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304920" y="2286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George    Syndrom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 Thymic  Aplasia )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6:05:20Z</dcterms:created>
  <dc:creator>Ahmed</dc:creator>
  <dc:description/>
  <dc:language>en-US</dc:language>
  <cp:lastModifiedBy>Dr.Hend</cp:lastModifiedBy>
  <dcterms:modified xsi:type="dcterms:W3CDTF">2014-11-09T03:25:15Z</dcterms:modified>
  <cp:revision>1114</cp:revision>
  <dc:subject/>
  <dc:title>GENERAL FETURES OF IMMUNODEFICIENCY.</dc:title>
</cp:coreProperties>
</file>