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A785-A26F-490D-9576-20158009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86F7-A41B-4B11-8D43-D57115AFEE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B92-FC18-44D5-9172-C5E74EFB8DA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0606-A60E-4E5E-9D97-DF27C6403C8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A786-3F69-4CED-AB0C-4ECCDE3384B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E955-B38A-452C-A7AD-5FA2760A564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E70C-BC2C-40B3-A77A-E03C2338D90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3B28-9D72-4D48-B030-9FE4B58C75E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C47F-13FC-439F-839A-2BCE7F1D91B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7045-5A45-460E-9EE8-1CC21C1736C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684-49AC-4DEE-9964-D697C6A2EB9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E6AC-E165-459C-BB70-B16D464C76B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B39B-CC8B-4150-A78B-623EE2E8BF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EB66-E87B-4152-A308-D53BFEE1DE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7133-10DB-4BD0-A92C-D74806E9178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9729-DEB6-4E5E-AA51-FC9B319EF1D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C841-11D3-4F87-8D58-7AB2DDF8E0A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E8A-43FC-429A-A30E-CA1376BEB4F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EE40-C391-4897-8304-8BB7BE54966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B340-0BE7-40B6-B5D8-530A0A9E1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731B-B884-4EB2-BE3C-FFE883D70D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B519-8ACE-4D9F-B771-893C1A87853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6B8-FDF0-40B8-8B2F-6D0EB3CC16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BD75-B364-4995-B398-4FACA041AEC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B8FA-A9C4-4E00-A17B-C737265738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0AC7-6FDA-4617-B252-6E9AD28AA75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185-C95C-43D5-BAA6-456F47E2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CE2E-3A85-4C5A-939A-927281B7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59B-A720-4B8C-A3AC-E91D0B8D8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C1F-A653-459E-B490-0DAE496A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EC38-892A-4B9D-BDF8-66BBFE70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A68B-6959-444A-A002-B6D15AB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F68-30BF-49FF-A6F4-F2352027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21A6-6919-4969-BE38-CA7F3F6B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86E5-4392-4673-93D2-05B32DB1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B404-11B9-410B-AE09-80335807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C15B-AE3E-4C47-B752-9CB1CE2E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4F8-3EBD-427E-97DD-F11E8017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664A-5B30-4CC3-9D44-322C8711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C709-6319-4277-83E1-867861C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CF01-DB5A-41AC-8368-171EB75E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B83-CBE5-4AF1-93D8-142063F4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7822-1354-495D-94D1-FB9BD75F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6A9A1-497E-4985-82EC-FDF0F3E7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700AB-A300-4CF6-A5CA-B0364F7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3444A-7FFE-4B3C-9B63-87B4A49D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28E7A6-C43A-4942-A9D0-80790E89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F4F6E3-EAAA-4C53-8777-F8E2139B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3C2-9F24-4CB9-AC11-2C823CBD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20CB3-E7E5-4D77-8E79-0124ACB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EFB9CA-198E-4FD5-BD0F-255C7070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FF5BA-E775-431F-A4B3-0F89E0A7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ED302-0E15-4C8A-888E-5C571832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F28A3-7A0A-4480-9861-3BF203D0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60008-D4AE-4CC6-9E82-E757B6C6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C0E8CE-A265-4357-97C0-9BB8708D0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40165-669E-4BDF-B350-EE9270057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BA98-F7D0-4EC1-B655-D5B80DEB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1F4A1-8762-4485-BDA9-AC5B7508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2622-E585-4822-ABA6-D9E98E57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8573-3FCD-4265-905E-0C2EFBDC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FECA8-8A9E-4CBC-876F-3F42D740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96F68-BC68-4FCD-92E5-31031CB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94FB3-07E8-4414-B319-69444FC1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A7F0A-6687-4402-81F8-529EABEF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73497-3017-4B7C-AD9E-55EEEC49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C8EB4-4007-4909-BA8E-263DDF2B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B7CE9-E2C1-43C9-8429-E69C850E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3DF29-AB9D-48CC-B3A4-E827D56C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A964-561B-4693-BBC6-5B0996AA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F92-4A06-449E-A84C-09F3E194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763-A136-4520-9980-ED8DD40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F61F-C6F1-48F1-8E6F-E70E4224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9072-DAB1-4805-8E5A-A2A12C77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A566-D3C2-485C-B2D6-A8CC0C6D895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36C2-0056-48E0-A51F-E04C5E66AFA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0160-8D7F-413C-9F0F-1969EFE2A7F8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2425-30B5-4420-BF5A-2ED1AA65E52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  <a:ea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719280" y="-609480"/>
            <a:ext cx="7772400" cy="51879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get high  scores/grades in exa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  <a:ea typeface="Arial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  <a:ea typeface="Arial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b050"/>
                </a:solidFill>
                <a:latin typeface="Bernard MT Condensed"/>
              </a:rPr>
              <a:t>How to get high grades/scores?</a:t>
            </a:r>
            <a:br>
              <a:rPr sz="4800"/>
            </a:b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93" name="Content Placeholder 1" descr=""/>
          <p:cNvPicPr/>
          <p:nvPr/>
        </p:nvPicPr>
        <p:blipFill>
          <a:blip r:embed="rId1"/>
          <a:stretch/>
        </p:blipFill>
        <p:spPr>
          <a:xfrm>
            <a:off x="0" y="2249640"/>
            <a:ext cx="899172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ernard MT Condensed"/>
              </a:rPr>
              <a:t>Factors influencing high academic achievement include</a:t>
            </a:r>
            <a:r>
              <a:rPr b="0" lang="en-US" sz="3200" spc="-1" strike="noStrike">
                <a:solidFill>
                  <a:srgbClr val="424456"/>
                </a:solidFill>
                <a:latin typeface="Trebuchet MS"/>
              </a:rPr>
              <a:t>: 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ctures 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arly revision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Prioritization of learning need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ep learn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mall groups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Mind mapping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from mistake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time management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48320" y="175212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in skills lab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earning with patien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family support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expected exam results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leep deprivation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Home sic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language barriers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  <a:ea typeface="Arial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  <a:ea typeface="Arial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  <a:ea typeface="Arial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  <a:ea typeface="Arial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  <a:ea typeface="Arial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719280" y="198108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 HAMZA</cp:lastModifiedBy>
  <dcterms:modified xsi:type="dcterms:W3CDTF">2014-09-13T19:08:29Z</dcterms:modified>
  <cp:revision>108</cp:revision>
  <dc:subject/>
  <dc:title>PROFESSIONALISM        IN MEDICAL EDUCATION </dc:title>
</cp:coreProperties>
</file>