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CECE-DDD8-476D-973F-30DA91C3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Arial"/>
              </a:rPr>
              <a:t>للأمانة العلمية: جهزت هذه الشرائح من قبل أعضاء هيئة التدريس من الكلية و خارجهاو ليس عمل شخص واحد. هذه سلسلة من المحاضرات على مدار السنة بمعدل محاضرة واحدة أسبوعيا للفائدة. تعرض هذه المحاضرات باللغة الإنجليزية و لكن سيوضح عضو هيئة التدريس أي نقطة يستفسر الطالب عنها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kill; learning how to learn. Other names are given as “Meta-cognition” , Academic skills &amp; Learning skills. If we have these skills we can learn faster, we will not have difficulty in learning &amp; learning becomes enjoyable &amp;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AF83-F118-4A3D-8170-66802EE50E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A8CE-8EE5-4128-ACDF-C04A9C8FDB3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6FD-399D-4ECD-8B1F-31090AE544B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DABE-583D-4F76-BD20-4DD54B559CB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C1CC-78C1-4A30-BF9D-9F06B8AAB45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A97A-EB8C-402F-BD2E-207B5FEE249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225D-9D64-41AE-8101-0EF3F168499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1966-EE13-4BFD-98A6-428A5A3FFA6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96CE-DE0B-436E-9285-D7E5337E568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8380-AD82-4388-AC18-A8E82B48759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4535-A776-46A4-BC83-CFE1BDF320F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47AA-6E31-4822-A2ED-F1812DBA5E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F62-A5A8-4895-B713-8D6283DFA5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6D53-A756-4F18-A4C0-1088C422D94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B986-B634-4680-B45D-713B04D046F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270B-CA3A-4204-BE52-BBB6D0503AB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5AE1-F2CF-4D52-AA12-6B7E2CCDB68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F16E-DF9B-4B00-B22A-B258309BB86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ACC6-BA9A-4DCB-9414-0D1B5E276B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E040-EF3B-4A06-886D-45B79A73E0B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5EBA-4243-42F8-ADC3-2F505B5E5D8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D6C2-468F-476C-8915-C2E4464468E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male students is “Car driving” &amp; for female students is “Cooking a special dish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8136-6752-41D5-A50E-9E13B3953E1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1028-31DD-490C-B1D0-0D3338CB2D1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3988-971B-4AE6-9E1D-D5525E063A5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81F-4207-4B7F-93EA-B04C6F6A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135-2CAD-4405-9DF1-70DBCA94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C9C-58CE-42FB-A8FA-4EA6DD00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868-D30C-4B57-9420-A7BD70D9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68E1-A867-4B26-A617-41880FB9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74D7-34B2-4F54-AE7C-E2CE6B19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F25C-9A93-42E3-B749-B54708D6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D37E-77CF-4F6C-A6A8-4A15479F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FCE1-C6B2-4668-8D82-C9ED40AE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63E-A876-4C5C-9B9D-6A99F174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9AE7-D3F7-4D15-96F7-562F71C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86A-7585-4ADD-A49B-29A5B5E8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8BA2-9D9C-4EB8-A50C-3DDD72A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9099-5358-4EE6-893E-9110AAB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C72-A1AD-4A07-AF30-CA6A82BB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233C-E3AD-4B5B-B098-AFE022A2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6C73-3B8A-4753-B4C7-322664D0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395FF-F97A-42EF-9CC9-FF81E7D2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E2095-A03B-42A8-B77E-D6FA1152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437B1-24C3-4FA3-B53C-39A460C8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EB804-A242-438F-A814-D0DD6D0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7A335-B1C0-4E79-BC92-5EA6A8EA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C97-6FBF-462C-84FF-C9AFA73B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5C850-293E-4DF5-BCE1-2D867506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664D9-A24F-4DF8-95C3-9C62158D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5F77F-53AE-4331-BC45-ED8F61A8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E350A-4302-4479-BF0E-2DC06643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E33AA-429F-4AF5-8F49-F7155AF3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8CB14-3828-4130-B1D2-45A0F88F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3A76C-6F8A-405B-B534-F2D282F7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C0B62-C87A-4C30-AD8D-E3FF99B4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4AEC-F9BF-42A8-B9D6-497C9889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FD7A8-9393-4EB5-ACF2-F27EC90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138-089A-45E1-86F5-0646B499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B9C8-C2C1-4531-9358-85242503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6DACE-77D6-4003-AA3B-6762D613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EF65-96AD-4526-BD97-453FEE54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066D-E2AB-40CB-A8B5-E0EB3518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8B8CF-357F-49D8-B40F-C4F5F431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9C20-498D-4410-95B6-DFF8B77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B489-C081-40A7-8756-1C5960DC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5F272-C75B-410E-BAF1-F755108D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8786-11F3-4540-AD9D-272A69BC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96B-0685-4D1D-BC67-ED00184A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6D4-5DD5-435D-940C-1D406BA6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1CE-A743-4C71-A9F9-42BF04F3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4F5-A0C0-4711-8CD4-D78A211E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0C4-52AB-448C-986C-C2D5746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8BF9-E3D6-4865-AAFD-32498F85081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EC7C-1FD4-4B50-B715-35A74A255AF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8FF4-596E-4376-BF4C-EC7499B33A2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F482-77C7-4B41-98D6-2B753C5B109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Study Skills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Learning How to Learn 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123720" y="4419360"/>
            <a:ext cx="5334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udy Skill Cour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pt of Medical Edu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College of Medic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are these differences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285920" y="8571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e consider you as 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357120" y="14288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need t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adult learners need to know why they need to learn something before undertaking to lear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arner self-conce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need to be responsible for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ole of learners' experi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have a variety of experiences of life - the richest resour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adiness to lea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are ready to learn those things they need to know in order to cope effectively with life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ientation to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are motivated to learn to the extent that they perceive that it will help them perform tasks they confront in their life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428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If adult learning is to be achieved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28760" y="12142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has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e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earning as opposed to superficial and pass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680" y="2857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Why is deep/active lear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85840" y="3571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perficial learning is easily and very quickl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forg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285840" y="4572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superficial learning you will not be able to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r use it in practic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6437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ep learning accommodates varying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571680" y="25718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be a passive receiver of information.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th information and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and tr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o do different thin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tha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857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How can deep /active learning be ach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What do we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57176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% of what we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571760" y="22860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0% of what we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717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0% of what we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571760" y="3571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% of what we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1571760" y="42148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0% of what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1571760" y="49291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424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90% of what we read, hear, see,            say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500120" y="6429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earn actively and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000080" y="1643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Do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just read and close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928800" y="22860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o do different things with what you have read immediately af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643040" y="3357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aw 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643040" y="39290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aw diagrams using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643040" y="4500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643040" y="5072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empt answering pas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642960" y="57150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short, interact with what you ha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357200" y="64296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How to shift information from short term to long ter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643040" y="1857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Learn actively &amp; de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643040" y="24289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Revisit, repeat &amp; rev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57120" y="571500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Do not wait until you finish studying to rev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34290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Important points about revisiting &amp;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85840" y="40719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There is no special place of time to rev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85840" y="471492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Try to revisit and repeat at every given opport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ttp://www.adm.uwaterloo.ca/infocs/Images/curve.gif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4643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Forgett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719280" y="-609480"/>
            <a:ext cx="7772400" cy="51879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"/>
          <p:cNvSpPr/>
          <p:nvPr/>
        </p:nvSpPr>
        <p:spPr>
          <a:xfrm>
            <a:off x="2000160" y="1428840"/>
            <a:ext cx="478656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isual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928880" y="378612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ading/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928880" y="257184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udito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28880" y="500076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inaesthetic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earning styl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"/>
          <p:cNvSpPr/>
          <p:nvPr/>
        </p:nvSpPr>
        <p:spPr>
          <a:xfrm>
            <a:off x="1643040" y="2428920"/>
            <a:ext cx="236232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f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1483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agma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148360" y="24289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o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14907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tiv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7"/>
          <p:cNvSpPr/>
          <p:nvPr/>
        </p:nvSpPr>
        <p:spPr>
          <a:xfrm>
            <a:off x="880920" y="3648240"/>
            <a:ext cx="7391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"/>
          <p:cNvSpPr/>
          <p:nvPr/>
        </p:nvSpPr>
        <p:spPr>
          <a:xfrm rot="16200000">
            <a:off x="-26640" y="196488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 rot="16200000">
            <a:off x="493560" y="2358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n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0"/>
          <p:cNvSpPr/>
          <p:nvPr/>
        </p:nvSpPr>
        <p:spPr>
          <a:xfrm rot="5400000">
            <a:off x="-27360" y="455616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 rot="16200000">
            <a:off x="198360" y="455904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>
            <a:off x="4005000" y="3114360"/>
            <a:ext cx="114372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15"/>
          <p:cNvCxnSpPr/>
          <p:nvPr/>
        </p:nvCxnSpPr>
        <p:spPr>
          <a:xfrm flipV="1">
            <a:off x="4081320" y="3114000"/>
            <a:ext cx="99144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sp>
        <p:nvSpPr>
          <p:cNvPr id="299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earning style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071800" y="57168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571680" y="1785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is undergraduate learning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42960" y="2786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learn deeply and ac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85800" y="3733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at is your learning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42960" y="4714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promote reflectiv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get high  scores/grades in exa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learning style 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erceive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rocess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00000"/>
                </a:solidFill>
                <a:latin typeface="Arial Unicode MS"/>
              </a:rPr>
              <a:t>WHAT IS LEARING STYL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ay in which each individual learner begins to concentrate on, process, absorb, and retain new and difficult inform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the most important tool for us when we construct knowled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ight way of studying does not exis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body learns in his individual way, but without knowing this way, you can’t learn efficiently – sometimes you can’t learn at all.           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strategies or regular mental behaviors that are habitually applied by an individual to learn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Classical classification of Learning styl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(prefer to learn by see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ditory (prefer to learn by sou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esthetic (prefer to learn by do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bal (linguistic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gical (mathematic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(interperson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Visual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er to see the in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like reading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writing repeate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inactive, doodles, looks arou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ization-imag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prom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visual representation of information-posters et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uditory sty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ke to listen to teac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s fluently and logical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repeating words alou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ctivity leads to talking to self o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e lis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hyme and rhythm-mnemon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agine you can hear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85800" y="914400"/>
            <a:ext cx="6248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94be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lks about actions, speaks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activity leads to fi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tracted by physic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 </a:t>
            </a:r>
            <a:r>
              <a:rPr b="0" lang="en-US" sz="2800" spc="-1" strike="noStrike">
                <a:solidFill>
                  <a:srgbClr val="a6a6a6"/>
                </a:solidFill>
                <a:latin typeface="Trebuchet MS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objects that can be manip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dy language and physical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verbal (linguistic)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volves both the written and spoken wor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Express both in writing and 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love reading and wri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Know the meaning of many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temporal and frontal lobes drive this styl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logical (mathematic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brain for logical and mathematical reasoning. classify and group information to learn or underst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well with numbers and perform complex calcul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through problems and issues in a systematic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parietal lobes, especially the left side, drive our logical think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social (interperson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Communication well with people, both verbally and non-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isten well and understand other’s view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learning in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to stay around and talk with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-  The frontal and temporal lobes handle much of our social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4"/>
          <p:cNvSpPr/>
          <p:nvPr/>
        </p:nvSpPr>
        <p:spPr>
          <a:xfrm>
            <a:off x="40644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ISTEN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to a lecture, a presentation, or an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audiotape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5"/>
          <p:cNvSpPr/>
          <p:nvPr/>
        </p:nvSpPr>
        <p:spPr>
          <a:xfrm>
            <a:off x="396720" y="1447920"/>
            <a:ext cx="1595520" cy="464796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36"/>
          <p:cNvGrpSpPr/>
          <p:nvPr/>
        </p:nvGrpSpPr>
        <p:grpSpPr>
          <a:xfrm>
            <a:off x="554040" y="1523880"/>
            <a:ext cx="1163160" cy="733320"/>
            <a:chOff x="554040" y="1523880"/>
            <a:chExt cx="1163160" cy="733320"/>
          </a:xfrm>
        </p:grpSpPr>
        <p:sp>
          <p:nvSpPr>
            <p:cNvPr id="313" name="Line 1037"/>
            <p:cNvSpPr/>
            <p:nvPr/>
          </p:nvSpPr>
          <p:spPr>
            <a:xfrm>
              <a:off x="113544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038"/>
            <p:cNvSpPr/>
            <p:nvPr/>
          </p:nvSpPr>
          <p:spPr>
            <a:xfrm>
              <a:off x="554040" y="1523880"/>
              <a:ext cx="11631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39"/>
            <p:cNvSpPr/>
            <p:nvPr/>
          </p:nvSpPr>
          <p:spPr>
            <a:xfrm>
              <a:off x="699120" y="1627560"/>
              <a:ext cx="87228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1040"/>
          <p:cNvSpPr/>
          <p:nvPr/>
        </p:nvSpPr>
        <p:spPr>
          <a:xfrm>
            <a:off x="609480" y="1631880"/>
            <a:ext cx="106704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d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41"/>
          <p:cNvSpPr/>
          <p:nvPr/>
        </p:nvSpPr>
        <p:spPr>
          <a:xfrm>
            <a:off x="715176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ISCU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with others the new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and complex information they ar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42"/>
          <p:cNvSpPr/>
          <p:nvPr/>
        </p:nvSpPr>
        <p:spPr>
          <a:xfrm>
            <a:off x="7151760" y="1447920"/>
            <a:ext cx="159552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043"/>
          <p:cNvGrpSpPr/>
          <p:nvPr/>
        </p:nvGrpSpPr>
        <p:grpSpPr>
          <a:xfrm>
            <a:off x="7423200" y="1523880"/>
            <a:ext cx="1164960" cy="733320"/>
            <a:chOff x="7423200" y="1523880"/>
            <a:chExt cx="1164960" cy="733320"/>
          </a:xfrm>
        </p:grpSpPr>
        <p:sp>
          <p:nvSpPr>
            <p:cNvPr id="320" name="Line 1044"/>
            <p:cNvSpPr/>
            <p:nvPr/>
          </p:nvSpPr>
          <p:spPr>
            <a:xfrm>
              <a:off x="800568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045"/>
            <p:cNvSpPr/>
            <p:nvPr/>
          </p:nvSpPr>
          <p:spPr>
            <a:xfrm>
              <a:off x="7423200" y="1523880"/>
              <a:ext cx="11649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46"/>
            <p:cNvSpPr/>
            <p:nvPr/>
          </p:nvSpPr>
          <p:spPr>
            <a:xfrm>
              <a:off x="7568280" y="1627560"/>
              <a:ext cx="87372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047"/>
          <p:cNvSpPr/>
          <p:nvPr/>
        </p:nvSpPr>
        <p:spPr>
          <a:xfrm>
            <a:off x="7467480" y="1631880"/>
            <a:ext cx="108108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084"/>
          <p:cNvGrpSpPr/>
          <p:nvPr/>
        </p:nvGrpSpPr>
        <p:grpSpPr>
          <a:xfrm>
            <a:off x="3776760" y="1447920"/>
            <a:ext cx="1595520" cy="4647960"/>
            <a:chOff x="3776760" y="1447920"/>
            <a:chExt cx="1595520" cy="4647960"/>
          </a:xfrm>
        </p:grpSpPr>
        <p:sp>
          <p:nvSpPr>
            <p:cNvPr id="325" name="Rectangle 1048"/>
            <p:cNvSpPr/>
            <p:nvPr/>
          </p:nvSpPr>
          <p:spPr>
            <a:xfrm>
              <a:off x="3776760" y="2590920"/>
              <a:ext cx="157680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5000"/>
                </a:lnSpc>
                <a:spcBef>
                  <a:spcPts val="1687"/>
                </a:spcBef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embe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st when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y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REA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the written word (textbooks, memos, </a:t>
              </a:r>
              <a:br>
                <a:rPr sz="1800"/>
              </a:b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 and e-mail messag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49"/>
            <p:cNvSpPr/>
            <p:nvPr/>
          </p:nvSpPr>
          <p:spPr>
            <a:xfrm>
              <a:off x="3776760" y="1447920"/>
              <a:ext cx="1595520" cy="46479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074"/>
            <p:cNvGrpSpPr/>
            <p:nvPr/>
          </p:nvGrpSpPr>
          <p:grpSpPr>
            <a:xfrm>
              <a:off x="3898440" y="1523880"/>
              <a:ext cx="1351440" cy="735120"/>
              <a:chOff x="3898440" y="1523880"/>
              <a:chExt cx="1351440" cy="735120"/>
            </a:xfrm>
          </p:grpSpPr>
          <p:grpSp>
            <p:nvGrpSpPr>
              <p:cNvPr id="328" name="Group 1050"/>
              <p:cNvGrpSpPr/>
              <p:nvPr/>
            </p:nvGrpSpPr>
            <p:grpSpPr>
              <a:xfrm>
                <a:off x="3935880" y="1523880"/>
                <a:ext cx="1275840" cy="733320"/>
                <a:chOff x="3935880" y="1523880"/>
                <a:chExt cx="1275840" cy="733320"/>
              </a:xfrm>
            </p:grpSpPr>
            <p:sp>
              <p:nvSpPr>
                <p:cNvPr id="329" name="Line 1051"/>
                <p:cNvSpPr/>
                <p:nvPr/>
              </p:nvSpPr>
              <p:spPr>
                <a:xfrm>
                  <a:off x="4573800" y="1523880"/>
                  <a:ext cx="0" cy="73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1052"/>
                <p:cNvSpPr/>
                <p:nvPr/>
              </p:nvSpPr>
              <p:spPr>
                <a:xfrm>
                  <a:off x="3935880" y="1523880"/>
                  <a:ext cx="1275840" cy="733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053"/>
                <p:cNvSpPr/>
                <p:nvPr/>
              </p:nvSpPr>
              <p:spPr>
                <a:xfrm>
                  <a:off x="4095000" y="1627560"/>
                  <a:ext cx="956880" cy="2750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Rectangle 1054"/>
              <p:cNvSpPr/>
              <p:nvPr/>
            </p:nvSpPr>
            <p:spPr>
              <a:xfrm>
                <a:off x="3898440" y="1525680"/>
                <a:ext cx="1351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ual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arn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Rectangle 1055"/>
          <p:cNvSpPr/>
          <p:nvPr/>
        </p:nvSpPr>
        <p:spPr>
          <a:xfrm>
            <a:off x="546264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b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O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rather than sitting and listening, reading,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thinking about the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56"/>
          <p:cNvSpPr/>
          <p:nvPr/>
        </p:nvSpPr>
        <p:spPr>
          <a:xfrm>
            <a:off x="5462640" y="1447920"/>
            <a:ext cx="159696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58"/>
          <p:cNvSpPr/>
          <p:nvPr/>
        </p:nvSpPr>
        <p:spPr>
          <a:xfrm>
            <a:off x="6238800" y="152244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59"/>
          <p:cNvSpPr/>
          <p:nvPr/>
        </p:nvSpPr>
        <p:spPr>
          <a:xfrm>
            <a:off x="5600880" y="1522440"/>
            <a:ext cx="1276200" cy="733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Tactile and/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Kinesth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62"/>
          <p:cNvSpPr/>
          <p:nvPr/>
        </p:nvSpPr>
        <p:spPr>
          <a:xfrm>
            <a:off x="208296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(create) mental images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f what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they hear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63"/>
          <p:cNvSpPr/>
          <p:nvPr/>
        </p:nvSpPr>
        <p:spPr>
          <a:xfrm>
            <a:off x="2087640" y="1447920"/>
            <a:ext cx="1596960" cy="464796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65"/>
          <p:cNvSpPr/>
          <p:nvPr/>
        </p:nvSpPr>
        <p:spPr>
          <a:xfrm>
            <a:off x="2881440" y="152388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66"/>
          <p:cNvSpPr/>
          <p:nvPr/>
        </p:nvSpPr>
        <p:spPr>
          <a:xfrm>
            <a:off x="2243160" y="1523880"/>
            <a:ext cx="1276200" cy="7336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Visu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87"/>
          <p:cNvSpPr/>
          <p:nvPr/>
        </p:nvSpPr>
        <p:spPr>
          <a:xfrm>
            <a:off x="1130400" y="457200"/>
            <a:ext cx="688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ual Elements of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89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BJECTIVES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define “Learning” &amp; learning princip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recognize that undergraduate learning different from secondary schoo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identify different types of lear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apply these learning principles to our daily learning activit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214200" y="285840"/>
            <a:ext cx="87868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How can you learn from learning experiences (both academic &amp; non-academi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80880" y="22096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 active ref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785880" y="314316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on is purposeful and systematic revisiting of a learning experience with a view t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85880" y="52862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incident that you either participate in or see/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7120" y="2643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f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357120" y="47149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earning experi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1357200" y="1571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8086"/>
                </a:solidFill>
                <a:latin typeface="Calibri"/>
                <a:ea typeface="Arial"/>
              </a:rPr>
              <a:t>Kol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9"/>
          <p:cNvGrpSpPr/>
          <p:nvPr/>
        </p:nvGrpSpPr>
        <p:grpSpPr>
          <a:xfrm>
            <a:off x="1285920" y="2286000"/>
            <a:ext cx="6705360" cy="4102200"/>
            <a:chOff x="1285920" y="2286000"/>
            <a:chExt cx="6705360" cy="4102200"/>
          </a:xfrm>
        </p:grpSpPr>
        <p:grpSp>
          <p:nvGrpSpPr>
            <p:cNvPr id="351" name="Group 18"/>
            <p:cNvGrpSpPr/>
            <p:nvPr/>
          </p:nvGrpSpPr>
          <p:grpSpPr>
            <a:xfrm>
              <a:off x="2124000" y="2590920"/>
              <a:ext cx="4876920" cy="3429000"/>
              <a:chOff x="2124000" y="2590920"/>
              <a:chExt cx="4876920" cy="3429000"/>
            </a:xfrm>
          </p:grpSpPr>
          <p:sp>
            <p:nvSpPr>
              <p:cNvPr id="352" name="Oval 5"/>
              <p:cNvSpPr/>
              <p:nvPr/>
            </p:nvSpPr>
            <p:spPr>
              <a:xfrm>
                <a:off x="2124000" y="2590920"/>
                <a:ext cx="4876920" cy="3429000"/>
              </a:xfrm>
              <a:prstGeom prst="ellipse">
                <a:avLst/>
              </a:prstGeom>
              <a:solidFill>
                <a:srgbClr val="53548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3"/>
              <p:cNvSpPr/>
              <p:nvPr/>
            </p:nvSpPr>
            <p:spPr>
              <a:xfrm>
                <a:off x="6238800" y="3048120"/>
                <a:ext cx="15228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4"/>
              <p:cNvSpPr/>
              <p:nvPr/>
            </p:nvSpPr>
            <p:spPr>
              <a:xfrm flipH="1">
                <a:off x="6543360" y="5029200"/>
                <a:ext cx="22860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5"/>
              <p:cNvSpPr/>
              <p:nvPr/>
            </p:nvSpPr>
            <p:spPr>
              <a:xfrm flipH="1" flipV="1">
                <a:off x="2428560" y="51051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6"/>
              <p:cNvSpPr/>
              <p:nvPr/>
            </p:nvSpPr>
            <p:spPr>
              <a:xfrm flipV="1">
                <a:off x="2428920" y="32763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6"/>
            <p:cNvSpPr/>
            <p:nvPr/>
          </p:nvSpPr>
          <p:spPr>
            <a:xfrm>
              <a:off x="3267000" y="2362320"/>
              <a:ext cx="251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>
              <a:off x="3571920" y="228600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crete exper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8"/>
            <p:cNvSpPr/>
            <p:nvPr/>
          </p:nvSpPr>
          <p:spPr>
            <a:xfrm>
              <a:off x="6010200" y="38098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flective 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"/>
            <p:cNvSpPr/>
            <p:nvPr/>
          </p:nvSpPr>
          <p:spPr>
            <a:xfrm>
              <a:off x="3429000" y="5562720"/>
              <a:ext cx="242892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bstract conceptuali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1285920" y="40384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ture 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0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flection - cycl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2214720" y="857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ny 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609480" y="762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Reflective cycle: a simplifie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523880" y="17524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What is the learn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52388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What did I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523880" y="3276720"/>
            <a:ext cx="66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What more do I have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523880" y="41148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How can I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523880" y="4876920"/>
            <a:ext cx="69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Evidence for further learning / change of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4"/>
          <p:cNvGrpSpPr/>
          <p:nvPr/>
        </p:nvGrpSpPr>
        <p:grpSpPr>
          <a:xfrm>
            <a:off x="1447920" y="1828800"/>
            <a:ext cx="6705360" cy="3919320"/>
            <a:chOff x="1447920" y="1828800"/>
            <a:chExt cx="6705360" cy="3919320"/>
          </a:xfrm>
        </p:grpSpPr>
        <p:sp>
          <p:nvSpPr>
            <p:cNvPr id="371" name="Oval 5"/>
            <p:cNvSpPr/>
            <p:nvPr/>
          </p:nvSpPr>
          <p:spPr>
            <a:xfrm>
              <a:off x="2286000" y="2133720"/>
              <a:ext cx="4876920" cy="3429000"/>
            </a:xfrm>
            <a:prstGeom prst="ellipse">
              <a:avLst/>
            </a:prstGeom>
            <a:solidFill>
              <a:srgbClr val="53548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733920" y="182880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crete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6172200" y="335268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flective 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3809880" y="5105520"/>
              <a:ext cx="221004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bstract conceptu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9"/>
            <p:cNvSpPr/>
            <p:nvPr/>
          </p:nvSpPr>
          <p:spPr>
            <a:xfrm>
              <a:off x="1447920" y="3581280"/>
              <a:ext cx="1981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ture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"/>
            <p:cNvSpPr/>
            <p:nvPr/>
          </p:nvSpPr>
          <p:spPr>
            <a:xfrm>
              <a:off x="6400800" y="259092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"/>
            <p:cNvSpPr/>
            <p:nvPr/>
          </p:nvSpPr>
          <p:spPr>
            <a:xfrm flipH="1">
              <a:off x="6705360" y="4572000"/>
              <a:ext cx="2286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2"/>
            <p:cNvSpPr/>
            <p:nvPr/>
          </p:nvSpPr>
          <p:spPr>
            <a:xfrm flipH="1" flipV="1">
              <a:off x="2590560" y="46479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"/>
            <p:cNvSpPr/>
            <p:nvPr/>
          </p:nvSpPr>
          <p:spPr>
            <a:xfrm flipV="1">
              <a:off x="2590920" y="28191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"/>
          <p:cNvSpPr/>
          <p:nvPr/>
        </p:nvSpPr>
        <p:spPr>
          <a:xfrm>
            <a:off x="2514600" y="304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429000" y="1905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657600" y="25146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hat is the ev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60958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6172200" y="419112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hat did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371600" y="40384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w can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352680" y="106668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idence for learning / change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6172200" y="49528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hat more do I have to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Why should you participate in other non-academic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57120" y="17859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provide a rich source of learning experiences for you to develop a lot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000080" y="27860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on/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am work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sational and management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357120" y="5643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olist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b050"/>
                </a:solidFill>
                <a:latin typeface="Bernard MT Condensed"/>
              </a:rPr>
              <a:t>How to get high grades/scores?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93" name="Content Placeholder 1" descr=""/>
          <p:cNvPicPr/>
          <p:nvPr/>
        </p:nvPicPr>
        <p:blipFill>
          <a:blip r:embed="rId1"/>
          <a:stretch/>
        </p:blipFill>
        <p:spPr>
          <a:xfrm>
            <a:off x="0" y="2249640"/>
            <a:ext cx="89917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Bernard MT Condensed"/>
              </a:rPr>
              <a:t>Factors influencing high academic achievement include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75212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ctures attend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Early revision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Prioritization of learning need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ep learning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in small group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Mind mapping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from mistakes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time management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48320" y="175212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in skills la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with pati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family suppor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nternal moti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expected exam resul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leep deprivation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Home sick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anguage barriers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2500200" y="357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"/>
          <p:cNvSpPr/>
          <p:nvPr/>
        </p:nvSpPr>
        <p:spPr>
          <a:xfrm>
            <a:off x="357120" y="1143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in university is fundamentally different from learning in second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428760" y="2286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e and deep learning is the key to success in the university (and in later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428760" y="50720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o learning from all experiences (both academic and non-academic) in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428760" y="3500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he learning style that suits you best to achieve deep learning and use it to the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143000" y="1571760"/>
            <a:ext cx="65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arlow Solid Italic"/>
                <a:ea typeface="Arial"/>
              </a:rPr>
              <a:t>I wish you a very successful and enjoyable time in your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1785960" y="38577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Harlow Solid Italic"/>
                <a:ea typeface="Arial"/>
              </a:rPr>
              <a:t>All the b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071800" y="571680"/>
            <a:ext cx="52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Some Open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42960" y="2571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people have made a decision to be success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642960" y="350028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14240" y="4429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is a journey not a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14240" y="528624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2571840" y="6429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Lear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642960" y="17859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nard MT Condensed"/>
                <a:ea typeface="Arial"/>
              </a:rPr>
              <a:t>The process of acquisition of new 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  <a:ea typeface="Arial"/>
              </a:rPr>
              <a:t>knowledge, skills, attitudes, values, behaviours,  preferences, &amp; understanding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8580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  <a:ea typeface="Arial"/>
              </a:rPr>
              <a:t>You should be able to demonstrate such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3429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  <a:ea typeface="Arial"/>
              </a:rPr>
              <a:t>It is </a:t>
            </a:r>
            <a:r>
              <a:rPr b="1" lang="en-US" sz="2800" spc="-1" strike="noStrike">
                <a:solidFill>
                  <a:srgbClr val="c00000"/>
                </a:solidFill>
                <a:latin typeface="Bernard MT Condensed"/>
                <a:ea typeface="Arial"/>
              </a:rPr>
              <a:t>not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  <a:ea typeface="Arial"/>
              </a:rPr>
              <a:t> on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3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“ </a:t>
            </a: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Reading with a purpose i.e to obtain specific answers to specific question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8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 </a:t>
            </a:r>
            <a:r>
              <a:rPr b="0" i="1" lang="en-US" sz="3200" spc="-1" strike="noStrike">
                <a:solidFill>
                  <a:srgbClr val="424456"/>
                </a:solidFill>
                <a:latin typeface="Georgia"/>
              </a:rPr>
              <a:t>Ailan Mora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71720" y="135720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undergradu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different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econdary school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14200" y="428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University vs. secondary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85840" y="1214280"/>
          <a:ext cx="8501040" cy="5954760"/>
        </p:xfrm>
        <a:graphic>
          <a:graphicData uri="http://schemas.openxmlformats.org/drawingml/2006/table">
            <a:tbl>
              <a:tblPr/>
              <a:tblGrid>
                <a:gridCol w="1309680"/>
                <a:gridCol w="2833560"/>
                <a:gridCol w="43578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econd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graduate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from teachers &amp;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from teachers. Books, internet, peers are also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re knowledge ori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knowledge. In a professional course there are skills and behavi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 pass an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to pass an exam, but mainly to train for a profession (especially in a professional  cour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ssive and superficial mostly (unfortunat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e and deep learning. Learning needs to be with you for a lif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 books &amp; teacher’s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ctures, small group discussions, computer assisted learning, library, internet, clinical skills sessions, 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, practicals (OSPE), vivas (oral exams), clinical exams (e.g. &amp; OS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0:05:42Z</dcterms:created>
  <dc:creator>NURULHUDA</dc:creator>
  <dc:description/>
  <dc:language>en-US</dc:language>
  <cp:lastModifiedBy>DR HAMZA</cp:lastModifiedBy>
  <dcterms:modified xsi:type="dcterms:W3CDTF">2014-09-13T19:08:29Z</dcterms:modified>
  <cp:revision>108</cp:revision>
  <dc:subject/>
  <dc:title>PROFESSIONALISM        IN MEDICAL EDUCATION </dc:title>
</cp:coreProperties>
</file>