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58B-4427-4567-9A48-7717D6EA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358-39CA-44D8-8576-489E7FD3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E4631-D8A6-412D-995C-2C18AA42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CCCDF-DFB2-47E2-99EE-ED37F99F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70EE1-6371-4A02-8CC4-442FCD28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C6941-68E5-42B8-839C-A47504BF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9D177-6AA3-4FAD-83C4-94D7409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A96A7-B91A-4BCD-BA2D-9C1E3735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3C8E6-BEEF-4A86-BCD2-C0E5AC32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CF103-3D8A-4693-AAE8-225B391E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6B1ED-A0BC-451A-BE60-8E378FD4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3EC2C-DA6C-44B8-9723-568957F7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381-B1BD-43D6-AA82-5FA0DD33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53C69-9745-43E7-A5AC-6EBFE41B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7982B-F452-40EE-8F8D-95FA2463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4398F-ACB6-481A-A2E5-BDC1EA81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560C2-21BC-45D2-8E34-80CF2018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47078-69F1-4223-B631-070C3F46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C8C57-4658-4187-A355-66F8A4B1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64A97-F250-424B-BA22-9968EEC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9DD10-CDE4-4A0F-A131-CC77BA3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AA40C-20D5-4270-8A10-D9793C27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772CD-02D3-4050-BEB4-D35828A9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C36-84DF-4367-B313-359D9E3B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5BE9C-A109-4460-B84E-60661F1F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5F764-239A-4B75-9C62-54E23A09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2F2AE-DA17-4A83-8371-F40DF568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91D47-ECD0-41AA-A049-C04BA929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5855C-93E8-4929-A3E2-57F6A8DA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68561-896D-4990-99C5-45E0BE87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DC5B2-1D44-4166-95D7-FC0A9A8E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C3739-5E20-401A-98FC-2CA5A61D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CCBBF-1422-4357-8B71-33100E94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B5E8B-B859-4555-9BAC-359FF03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5E9E-3951-48F5-A4C5-8F3F1DB5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DD34A-CB95-41CC-A437-1F6654BA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CABD2-8652-4A4F-B128-F9103A8F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066A0-FF9F-46B5-A063-FFF09E3F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1A615-A629-4A8E-88C6-0D6CE64E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01F31-CAF1-44E1-83B2-F4C5E2AF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D6F6B-48AD-47FB-9F28-47280424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B52D0-06EC-4C21-BCB2-1CFE3F7D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610D0-8414-4FEC-B5B3-461C13EA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4C26A-B1F1-4B92-BB08-E5E71D80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C4680-9127-43F7-B86C-774E60C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393-2D7E-4E66-A17C-5CFACCFA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E3549-CA68-4607-9FB9-23BC7951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279F0-A4A3-4525-88B6-78695343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57B1F-80A5-4E64-B743-25A2D6EB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8C770-8DAB-4C04-ADBA-C4423C8D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C98FE-180B-4E05-AD30-B1C475A3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1103B-E010-4587-BD08-4F4A3ECA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0A13F-813F-4D7F-B9C5-A0A80C24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30001-2680-4935-BEEF-E2666116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4ED3A-C58B-4663-BAB4-A49C7BBC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4277F-E837-488A-AA84-75A94783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B05C-47D7-44AF-BA00-F0B5F39C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F2A1F-3BB0-47A8-A288-CB610FDD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4D466-E241-4163-8AE5-3ACED4B9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0201B-ED2F-48CC-A644-AA8ECDE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CC609-E54E-4486-820D-16750DE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EFD8A-39A5-40B3-83B2-90B1CD11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63A5D-2E0D-48B9-B224-95FDC576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0740E-CAC7-44CD-B34C-34BA03E0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F5AD9-EB72-40FB-8070-551F1507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4DAF8-4579-42E7-9CB9-041ED7E1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B2545-074E-4585-9A57-23C91120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5666-B2E8-476F-89B0-3CFA203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D1FFD-CEA1-41EC-915E-DAD29A09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2203D-6DFD-4973-90D7-BE83546E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49D13-7798-4E92-B2D4-E6636FFC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44E4F-00C5-455D-B1F0-023A50F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F5B78-D264-47C5-B6FE-6BB0582A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5040D-A619-4726-B8E0-414848B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831DC-FEB5-42C6-8AD8-D1DB2DEC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12009-F1FA-4B73-8F3F-1C9D6641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ADE63-571D-4E1C-9A02-CD4BF5D0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0F049-88CB-4ED3-8480-E3EC2ED7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994C-9AFE-4DE9-81E7-0BDF7424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AE4B3-6201-4B71-9ABE-CF8E2E8C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F130D-2CDB-4224-A2AC-21E1B335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6B1A7-A295-4019-9B83-16805789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BBC74-FEEF-474B-B438-00F6309B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7504E-CA2C-4149-BCC7-405B11DC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365F7-69F7-4AD2-A567-69C3D436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4BAD5-1E2A-4AF6-8893-680D4D2F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2BF4F-FB5E-4C49-A8C5-60F15D19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1F6EA-4BB1-4C57-96A2-E67BB273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1A282-D35E-4EC0-8377-E4F85FD8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28B-FE5F-4BDA-B969-62452FD1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9F8FF-B547-4D8C-AE70-F1AC4BF8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B42FA-1C84-49ED-94CE-BF8209F2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BC98A-8F7E-4982-9060-EB66D5D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BDA19-BBA8-4786-9F5E-B5AC70DD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056AA-3E3C-4C88-AD15-7E30A7A5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AB576-D7B0-43CD-A9BA-D35562AC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AA514-F8C3-4EE4-B7C2-DD76B9C4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8CB1B-722C-4CD4-9FCF-A63C3E6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B36FE-FCF1-4E3F-89EA-990D04D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CEB5A-12E8-4E18-9B91-1992C7E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B586-B351-478D-AC93-4A13C29D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7C13C-510A-46EA-9389-0F4D62C9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0BE9C-8DF1-4160-AFB6-F9908C44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CDE95-79E7-4CFF-BADC-820706DB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2C6-D99B-40A8-95A5-8B1CE329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10C9-9E33-424A-B056-CD65C93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8494-24B3-4C3F-B4F7-D9A3FFD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D058-3141-4F1C-87E3-2D857D43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28D0-6EE4-4D56-BF90-1D248C62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F6C7-94FD-4770-A236-C9B797FE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8113-AB2C-4670-AB0E-0375EFAA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621F-6F02-4D30-8753-0694F1A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8618-A49E-41D8-B9A9-ECABE6B7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CE92-AA3D-4E54-867B-B45CB07A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8480-2A6B-4A50-B36D-0863976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8CE-09B6-4B22-A90F-B2C1F4DD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94C0-4BE5-4BAA-95F2-C0B5718C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2793-D0A7-4B58-B027-54BF615C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7E8F-C4C0-49EF-A044-D9E60A5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17A5-DE2A-48D1-9705-F494CCC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E6A8-8091-49B3-8652-5049178F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EF22-3E5A-4074-97B4-CA2D8372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22F2-FD35-4939-9B6B-E1498786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AADE-BD37-4AA7-94E8-C0102549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0B8C-DA2F-4B42-8D9C-690D26C8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CF8AD-1CE4-49E4-84EE-21C6A93D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169-359C-44EE-912C-C1A36B64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7438-907F-48A2-9A7F-8B301082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8917-92AA-4B7C-83B6-A68B9634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5715-5108-43A7-B5D2-3097CF1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DF6E-83A9-4CB8-8399-D59B5AFD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4C7B-105A-4070-BA3A-BBD624E3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3733-4ECE-489F-99B9-3A0D2729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C01D8-38A3-40EE-A959-961D2778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1722-E3E9-4EDE-9470-9FB4FF39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4F5F-36BA-4546-84CF-7F0E4291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EAA3C-7235-4847-BE9F-E319745E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70E-3863-4779-B0CB-4DC73F63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A1C5D-4A42-49A0-9C86-15287955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0BB4-E99B-4722-9B32-680E0BE6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ECD1-4E9E-42A2-BC93-4E24F4B1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FB19-8A5F-4322-ADAE-43639473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4869-D707-48C8-BCA2-68028F4E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53CA-9D89-40EC-B7AB-B2650F4E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EB65-D027-477B-92BE-65190B4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7C98-C6C8-4583-9636-B9F93DB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2FB0E-2555-423C-A4AB-47058D16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279F-76F1-4D18-B2DC-5715DE2F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8D1-A148-48D8-8173-87D74463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27C2-D2C0-4808-843D-01D80BC5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423B-92D4-4EE7-B83A-2E1C66C3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314C9-20E8-4EF8-AA5E-B4D7D905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63A8E-460F-4C5E-B8E0-56A323D1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9522B-CC65-4410-8D59-017BD2D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31819-1E85-4132-9671-D227CACD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B6BDB-72DC-444C-8A6C-C4B36BDC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749D-0C50-4459-B671-322E3CA9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1516E-BBED-4817-8F17-72CE01D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7AF0-AEC3-4802-B00F-D633BB39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34F-F618-4778-ABDF-0EC2651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55DF1-C8A8-4BE3-B280-97D8FB4D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01062-7E34-4F16-8634-DE293370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B5404-0620-4358-8C7A-76E3DDE5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48B3E-6852-4B17-A9D8-264659B5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5FBF8-4D2C-4679-9AF5-EEEA82AF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658A3-AEB2-4A94-B287-51566C2F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A9B47-8575-440A-887C-1BFFEB56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408E6-68D5-4E0D-B7D3-71C9687E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7FB9-93F4-4EC2-8D15-376802CB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6EF78-3E08-409B-B421-4BCB6382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6AA-F15E-4137-B950-7FA94B75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75D79-BDD7-4CB8-8002-88AC962C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B012-A9CA-494E-915D-F485643B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1BE85-C89C-4C19-BFCA-2CCCCB30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2FC53-A8AA-4C59-B4C0-168BEA7F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F7579-EA1A-4FEC-8E9E-7F9B4C8E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F76BB-D233-4724-B6A1-2DC17A4D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DC1F2-AEE2-4F1D-BDB0-7B002C09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ABEFF-7BA1-4D9E-B65E-ABDB1C0F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89BB6-3B93-4860-8AE0-36E72BAC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A6056-175E-4448-A6E9-1AD87E6B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E2F-AE4C-45AD-8566-2C56AC00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4E7BB-9387-4531-8017-6518D232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D94AD-2546-4F31-9B64-B692979A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4BC04-2A81-4850-A889-40D40CAE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40D85-D2A2-4224-B3D4-680B8CF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0D661-260F-45D5-A69D-DC8D2816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05F76-8F04-4242-81EB-27FDF51B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7649B-D55C-4C3B-85DC-A84A14E9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6435D-0941-4AAB-9467-9E2052A9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5E568-42FD-4A3B-B86B-3FC0D1B9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2BE29-ACB9-4C52-AE45-6E2DF39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5F96-DEA1-4F87-B14C-EDDEC1452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A2EA-152F-45E0-B563-BC54A4A18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C900-0F91-4E61-A769-C700B50C7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B703-3BAA-4727-B006-13A656F91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D7C1-254C-496E-9233-C62438A68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443D-0B49-421D-B4F6-69D5D0084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595-F2E3-4445-8FD2-916C07603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D66A-30FE-4529-BB69-FFC52050E9E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AC11-0102-44D8-A9CE-A97B1034B433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2978-57E2-4E37-9F3C-0AD9E7988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66D1-D482-48B2-B647-FD4BFB50B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6845-9CB6-46A2-A6DD-ACD229E61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8EA9-D474-495B-A475-C55B22722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9F7F-184F-4E22-9C1A-F68F5BF0D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D0B4-1693-4576-8AE5-1AB9736A7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192D-3AB2-4092-BAD9-43A25EC48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1"/>
          <p:cNvSpPr/>
          <p:nvPr/>
        </p:nvSpPr>
        <p:spPr>
          <a:xfrm>
            <a:off x="2209680" y="0"/>
            <a:ext cx="69343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Arthropod  Agents and Vectors of Diseases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ahoma"/>
              </a:rPr>
              <a:t>Dr:MONA BADR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Fisiolahepatica-cow"/>
          <p:cNvPicPr/>
          <p:nvPr/>
        </p:nvPicPr>
        <p:blipFill>
          <a:blip r:embed="rId1"/>
          <a:stretch/>
        </p:blipFill>
        <p:spPr>
          <a:xfrm>
            <a:off x="0" y="428760"/>
            <a:ext cx="8763120" cy="58417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" descr="Fisiolahepatica-c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4"/>
          <p:cNvSpPr/>
          <p:nvPr/>
        </p:nvSpPr>
        <p:spPr>
          <a:xfrm>
            <a:off x="1000080" y="4495680"/>
            <a:ext cx="77439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The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Trematodes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flat worm ,unsegmented ,leaf lik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-360" y="52574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Taenia saginata Example of a Cestode ,Tapelike worm segmente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6" name="Picture 3" descr="Taenia_saginataL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2666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Taenia_saginataK"/>
          <p:cNvPicPr/>
          <p:nvPr/>
        </p:nvPicPr>
        <p:blipFill>
          <a:blip r:embed="rId2"/>
          <a:stretch/>
        </p:blipFill>
        <p:spPr>
          <a:xfrm>
            <a:off x="0" y="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" descr="Taenia_saginataH_v2"/>
          <p:cNvPicPr/>
          <p:nvPr/>
        </p:nvPicPr>
        <p:blipFill>
          <a:blip r:embed="rId3"/>
          <a:stretch/>
        </p:blipFill>
        <p:spPr>
          <a:xfrm>
            <a:off x="4419720" y="2819520"/>
            <a:ext cx="1854000" cy="18540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" descr="tae3"/>
          <p:cNvPicPr/>
          <p:nvPr/>
        </p:nvPicPr>
        <p:blipFill>
          <a:blip r:embed="rId4"/>
          <a:stretch/>
        </p:blipFill>
        <p:spPr>
          <a:xfrm>
            <a:off x="6934320" y="2743200"/>
            <a:ext cx="2209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DICAL IMPORTANCE OF ARTHROP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)As aetiologic agents (causes) of dis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ssue da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ion of hypersensitivity reac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jection of poi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omophobia (acarophob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) As vectors of diseas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: Mechanical transmission - simple carriage of pathoge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: Biological transmi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ic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o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: Transovarian trans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scabies1"/>
          <p:cNvPicPr/>
          <p:nvPr/>
        </p:nvPicPr>
        <p:blipFill>
          <a:blip r:embed="rId1"/>
          <a:stretch/>
        </p:blipFill>
        <p:spPr>
          <a:xfrm>
            <a:off x="228600" y="2438280"/>
            <a:ext cx="5283360" cy="41911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4"/>
          <p:cNvSpPr/>
          <p:nvPr/>
        </p:nvSpPr>
        <p:spPr>
          <a:xfrm>
            <a:off x="457200" y="3808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b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issue damage example of Arthrop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4" name="Picture 2" descr="biopara-scabies"/>
          <p:cNvPicPr/>
          <p:nvPr/>
        </p:nvPicPr>
        <p:blipFill>
          <a:blip r:embed="rId2"/>
          <a:stretch/>
        </p:blipFill>
        <p:spPr>
          <a:xfrm>
            <a:off x="5562720" y="259092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Object 2"/>
          <p:cNvGraphicFramePr/>
          <p:nvPr/>
        </p:nvGraphicFramePr>
        <p:xfrm>
          <a:off x="685800" y="372960"/>
          <a:ext cx="821520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2960"/>
                    <a:ext cx="821520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ortant arthropod vectors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disea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0" y="1752480"/>
          <a:ext cx="8458200" cy="5105520"/>
        </p:xfrm>
        <a:graphic>
          <a:graphicData uri="http://schemas.openxmlformats.org/drawingml/2006/table">
            <a:tbl>
              <a:tblPr/>
              <a:tblGrid>
                <a:gridCol w="3218040"/>
                <a:gridCol w="5240160"/>
              </a:tblGrid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Musca domest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hanical transmission of  many viruses, bacteria and parasi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squitoe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عو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pheles :malaria filariasis Culex: filariasis, viruses                Aedes: yellow fever, dengue fever, Rift Valley Fe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ce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مل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y louse: vector for: Relapsing fever, typhus and trench fev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ea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راغيث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 flea is vector for plague due to Yersinia pest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cks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راد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 ticks , some are vestors for : Borrela duttoni         Hard ticks Include vectors for Babesiosis (protozoa), Q fever, and Rocky mountain spotted fever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e t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Glossina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تس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African Trynanosomiasis (African sleeping sick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ck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imulium)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ذبابة السوداء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Onchocerca (river blind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hlebotomus)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رم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s for leishmania and sandfly fever vir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cl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Dracunculus medinen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icture 1"/>
          <p:cNvSpPr/>
          <p:nvPr/>
        </p:nvSpPr>
        <p:spPr>
          <a:xfrm>
            <a:off x="1714680" y="2786040"/>
            <a:ext cx="528624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2"/>
          <p:cNvSpPr/>
          <p:nvPr/>
        </p:nvSpPr>
        <p:spPr>
          <a:xfrm>
            <a:off x="3568680" y="4287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2012400" y="928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se(singular) , Lice (pleur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0" y="1357200"/>
            <a:ext cx="84582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Pediculus human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3" name="Picture 5" descr="C:\Users\hp\Desktop\download.jpg"/>
          <p:cNvPicPr/>
          <p:nvPr/>
        </p:nvPicPr>
        <p:blipFill>
          <a:blip r:embed="rId1"/>
          <a:stretch/>
        </p:blipFill>
        <p:spPr>
          <a:xfrm>
            <a:off x="0" y="2209680"/>
            <a:ext cx="5562720" cy="44197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C:\Users\hp\Desktop\images.jpg"/>
          <p:cNvPicPr/>
          <p:nvPr/>
        </p:nvPicPr>
        <p:blipFill>
          <a:blip r:embed="rId2"/>
          <a:stretch/>
        </p:blipFill>
        <p:spPr>
          <a:xfrm>
            <a:off x="5562720" y="236232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Ae_albo_30Ap01_P4300281"/>
          <p:cNvPicPr/>
          <p:nvPr/>
        </p:nvPicPr>
        <p:blipFill>
          <a:blip r:embed="rId1"/>
          <a:stretch/>
        </p:blipFill>
        <p:spPr>
          <a:xfrm>
            <a:off x="5943600" y="457200"/>
            <a:ext cx="2338560" cy="1824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Ae_albo_Pb230730"/>
          <p:cNvPicPr/>
          <p:nvPr/>
        </p:nvPicPr>
        <p:blipFill>
          <a:blip r:embed="rId2"/>
          <a:stretch/>
        </p:blipFill>
        <p:spPr>
          <a:xfrm>
            <a:off x="3886200" y="533520"/>
            <a:ext cx="1560600" cy="12286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4"/>
          <p:cNvSpPr/>
          <p:nvPr/>
        </p:nvSpPr>
        <p:spPr>
          <a:xfrm>
            <a:off x="457200" y="4572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osquitoes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533520" y="1371600"/>
            <a:ext cx="32763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mopolitan , more than 3000 spe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val and pupal stages always aqu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th parts in female adapted to piercing and suck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us and species distinguished by morphology of adult and deveopmetal stag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9" name="Picture 6" descr="mosquito2"/>
          <p:cNvPicPr/>
          <p:nvPr/>
        </p:nvPicPr>
        <p:blipFill>
          <a:blip r:embed="rId3"/>
          <a:stretch/>
        </p:blipFill>
        <p:spPr>
          <a:xfrm>
            <a:off x="5029200" y="2514600"/>
            <a:ext cx="3070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sandfly2"/>
          <p:cNvPicPr/>
          <p:nvPr/>
        </p:nvPicPr>
        <p:blipFill>
          <a:blip r:embed="rId1"/>
          <a:stretch/>
        </p:blipFill>
        <p:spPr>
          <a:xfrm>
            <a:off x="1447920" y="914400"/>
            <a:ext cx="3039840" cy="2617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" descr="sandfly3"/>
          <p:cNvPicPr/>
          <p:nvPr/>
        </p:nvPicPr>
        <p:blipFill>
          <a:blip r:embed="rId2"/>
          <a:stretch/>
        </p:blipFill>
        <p:spPr>
          <a:xfrm>
            <a:off x="4876920" y="1295280"/>
            <a:ext cx="3200400" cy="27068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Sandfly4"/>
          <p:cNvPicPr/>
          <p:nvPr/>
        </p:nvPicPr>
        <p:blipFill>
          <a:blip r:embed="rId3"/>
          <a:stretch/>
        </p:blipFill>
        <p:spPr>
          <a:xfrm>
            <a:off x="4876920" y="41148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sandflyreserve1"/>
          <p:cNvPicPr/>
          <p:nvPr/>
        </p:nvPicPr>
        <p:blipFill>
          <a:blip r:embed="rId4"/>
          <a:stretch/>
        </p:blipFill>
        <p:spPr>
          <a:xfrm>
            <a:off x="83808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6"/>
          <p:cNvSpPr/>
          <p:nvPr/>
        </p:nvSpPr>
        <p:spPr>
          <a:xfrm>
            <a:off x="106668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hlebotom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 sand fl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1922400"/>
            <a:ext cx="7391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end of this lecture the student should be able to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 the three main groups of parasitic helminths and their characteristic  morphological feature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life cycle of 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Ascaris lumbricoid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 an example of parasitic helminth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ss the role of arthropods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ent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cto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diseases  in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examples of the main arthropod vectors of dise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0" y="1066680"/>
          <a:ext cx="9144000" cy="5791320"/>
        </p:xfrm>
        <a:graphic>
          <a:graphicData uri="http://schemas.openxmlformats.org/drawingml/2006/table">
            <a:tbl>
              <a:tblPr/>
              <a:tblGrid>
                <a:gridCol w="4514760"/>
                <a:gridCol w="46292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Protoz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Single cell for all 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Mul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Amoeba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move by psudob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Flagellat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Ciliat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move by cil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Apicomplex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(sporozoa) Tissue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A- </a:t>
                      </a:r>
                      <a:r>
                        <a:rPr b="1" i="1" lang="en-US" sz="2800" spc="-1" strike="noStrike" u="sng">
                          <a:solidFill>
                            <a:srgbClr val="c00000"/>
                          </a:solidFill>
                          <a:uFillTx/>
                          <a:latin typeface="Tahoma"/>
                          <a:ea typeface="MS PGothic"/>
                        </a:rPr>
                        <a:t>Round worms =       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ahoma"/>
                          <a:ea typeface="MS PGothic"/>
                        </a:rPr>
                        <a:t>Nematod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                cylindrical,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un-segmented(Ascar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B-  </a:t>
                      </a:r>
                      <a:r>
                        <a:rPr b="1" i="1" lang="en-US" sz="2800" spc="-1" strike="noStrike" u="sng">
                          <a:solidFill>
                            <a:srgbClr val="7030a0"/>
                          </a:solidFill>
                          <a:uFillTx/>
                          <a:latin typeface="Tahoma"/>
                          <a:ea typeface="MS PGothic"/>
                        </a:rPr>
                        <a:t>Flat wor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254"/>
                          </a:solidFill>
                          <a:latin typeface="Tahoma"/>
                          <a:ea typeface="MS PGothic"/>
                        </a:rPr>
                        <a:t>1-Trema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leaf-like, un-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254"/>
                          </a:solidFill>
                          <a:latin typeface="Tahoma"/>
                          <a:ea typeface="MS PGothic"/>
                        </a:rPr>
                        <a:t>2-Cestodes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tape-like, 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Text Box 38"/>
          <p:cNvSpPr/>
          <p:nvPr/>
        </p:nvSpPr>
        <p:spPr>
          <a:xfrm>
            <a:off x="6094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tion of Parasi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Location of helminths in the body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Intestinal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Tissue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731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Nemato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General feature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ongated worm, cylindrical, unsegmented and tapering at both e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 in size, measure &lt;1 cm to  about 100cm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x separate and male is smaller than fe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1" name="Picture 5" descr="untitled"/>
          <p:cNvPicPr/>
          <p:nvPr/>
        </p:nvPicPr>
        <p:blipFill>
          <a:blip r:embed="rId1"/>
          <a:stretch/>
        </p:blipFill>
        <p:spPr>
          <a:xfrm>
            <a:off x="2895480" y="4419720"/>
            <a:ext cx="29718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4" descr="Ascarisalumbmf"/>
          <p:cNvPicPr/>
          <p:nvPr/>
        </p:nvPicPr>
        <p:blipFill>
          <a:blip r:embed="rId1"/>
          <a:stretch/>
        </p:blipFill>
        <p:spPr>
          <a:xfrm>
            <a:off x="1371600" y="1219320"/>
            <a:ext cx="6426360" cy="46479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7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-360" y="1676520"/>
            <a:ext cx="67057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onest  intestinal helminthes can cause  infection to hum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in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jejunum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upper part of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le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male (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 20-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 which is longer  than male (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 10-15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m)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 on semi digested f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1028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6" name="Picture 1029" descr="1Ascaris_adultK"/>
          <p:cNvPicPr/>
          <p:nvPr/>
        </p:nvPicPr>
        <p:blipFill>
          <a:blip r:embed="rId1"/>
          <a:stretch/>
        </p:blipFill>
        <p:spPr>
          <a:xfrm>
            <a:off x="4419720" y="3505320"/>
            <a:ext cx="4190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10439280" y="5943600"/>
            <a:ext cx="6858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caris lumbric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Pathogeni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914400"/>
            <a:ext cx="89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1-Migrating LARVA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scaris pneumonia , some times LARVA reach aberrant sites like brain ,heart or spinal cord  can cause unusual disturb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2-Adult WORM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he worm consumes proteins and vitamins from host’s diet and leads to malnutr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an cause intussusception, intestinal ulcers and  in massive infection can cause intestinal obstruction.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14:58:24Z</dcterms:created>
  <dc:creator>Prof.Adeel</dc:creator>
  <dc:description/>
  <dc:language>en-US</dc:language>
  <cp:lastModifiedBy>hp ksa</cp:lastModifiedBy>
  <dcterms:modified xsi:type="dcterms:W3CDTF">2014-11-01T21:40:36Z</dcterms:modified>
  <cp:revision>90</cp:revision>
  <dc:subject/>
  <dc:title>Photo Album</dc:title>
</cp:coreProperties>
</file>