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29F-BB3E-4EB5-A6C5-4BE4314F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620-22A5-4D6E-970E-5D30172D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43198-385B-49B4-9C44-FDF26608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34314-F99E-4DC7-AEB3-A9A29234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3ABD0-82AD-4D71-9980-AB122749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32B70-8144-43F0-A6C0-2D704500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6F6B9-4FC5-49F2-970D-A50DF6F2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EAC55-EDFE-4DE0-AE3B-1813513A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F637F-9D17-49FD-8BA8-C04ABC7A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9B5EA-186F-4454-B998-E893D8D7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BA9C8-960E-4D79-B97B-2FFB94BC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BF3B6-93E2-401C-928D-BC4CACC4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194F-A86A-48E1-BD09-82346D52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7C7B3-203C-4E68-B54F-27781370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1FEC2-B730-4015-A5ED-39248DD3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ABAAE-7A50-4A92-866E-06881DDE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ACD71-CAB6-45F1-9894-960FC07B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12C3B-5F5F-4E4E-AE35-F24B59A8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47CCD-C445-4FDE-80B5-88F572D0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2762E-027C-4816-9363-3EAC3818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F74B9-E6A9-4F52-A217-C43DC816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B4591-1967-4FB5-A1FA-165FDA0D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EB497-D0F5-4746-BAC0-F47A4D76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793-3571-44F7-8FB3-9ADEBB3F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02420-95B2-4603-93FC-2EB40C9C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3D988-7A33-42DC-9F79-06B4F526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8B44B-937B-44CF-AA87-79A4B72F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C5BE7-F9D8-4162-9C54-7753E7C5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C6408-D50E-4E18-806E-95D8AF9D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760C3-56BF-4D4C-86EA-818EC876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2BD71-B7FC-41AD-AC8C-EE6D2A9D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C0BC0-7CD4-41A0-A2AB-CF16F76E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3ADBA-FE4F-4A79-89EA-224510B8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FF6EE-AB33-4437-B139-21B59B01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28BD-E988-4A15-90D1-A92899A54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A6866-E4B6-4277-AB38-E4BC26F3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853CA-4226-41E7-9DE5-C189EAD3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DA3C8-57CA-4F49-82A5-E57C664D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ACF0E-13B6-4916-9E69-05726C3B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D18AD-0E1C-432E-BDF8-E283174E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D5255-9D97-4BE4-B533-85CF6034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C0479-1FEA-4CBC-9B94-2926BE11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4BCFC-F771-4474-A048-14E2EF2F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3EBBB-20A9-4F56-8723-9CC5FAEE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A2758-DFD6-4978-A221-C073B2A2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F1E8-87B6-4560-8FA9-8F626645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D80B8-EACE-4DB7-AC5E-70A80EE1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3197E-8069-40BA-8AD0-69CDBC56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374FD-1CD4-4EAC-A293-2E840EE9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11868-8A64-4BB0-B447-E749ECC2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C0103-7646-4935-81C8-B874D2C7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E47B9-BF0F-4B46-9735-CE4A579C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E127F8-CC49-42A2-B6C5-D0FF9553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030E6-3D07-434F-82F6-061E6577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5094F-3B75-4CB9-9C8C-4677F819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CBE99-9CF0-41D7-B1A1-D4163C1E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0B3B-16AB-4B85-BAC8-85ACB0B0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97DD3-B402-4CA7-980F-4D2A2CD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03F7A-FBF5-4639-88A0-A354AD91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CE331-6375-47A9-B87E-B8CA02E2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036D6-4C08-4EDA-B3ED-639870CF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68FD0-EF35-455A-9E04-EE1DCD92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315BF-90A7-485C-B4BB-23F62DEA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A36FD-B74B-436B-B9FB-1A1DA9AB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CE5D0-D900-4FD2-A3FA-6E1CD356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3286B2-5D39-4F90-91BC-8752B96F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BC696-E206-470A-AB25-BF7ABBD2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E6AD-B041-4680-A8A3-AA327A5A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EB6279-2C7C-4659-BE07-C78C8554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15CF1-4CA5-4F3D-BEE4-55D13DF5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D89CD-8324-4966-AEBB-111FB40E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314C2-3723-483F-90D5-B1709F34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A5C2C-6366-485B-89A8-4DFFA2DB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58057-17BB-46D8-BE2E-928A3203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B21DF-49A1-46E0-BF4B-ABA402B7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6C4EB-2682-4969-A5EC-85796527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9546A-BA54-47BC-8D6E-44B47A4D5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A0726A-3D61-4AFC-8C86-3C682FAD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9AD9-5D88-4500-A5EB-726C38EE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3F93A-5A04-49E8-BEE5-546A374D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9BD58-F2CD-4D51-8DBE-11D00BE4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D87A2-F70D-4782-A0BF-982E3D7F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0374E2-E3C8-488E-8E40-9C56CC56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1F431-1247-4362-9073-8133B4F5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BE73A-0E16-4C52-9ABC-C65C529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FE5FEE-FA6F-4DDF-A509-FD40FCFF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37081D-F8FF-40D0-8324-2741C6D1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6DC1B8-6DD4-49BD-8944-6285E79E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B32A53-A82F-47D0-A34F-22562A97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92FD-A703-472E-902D-6E3668C4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4F5FA-5AEB-4973-A710-162EB55C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341CEA-146C-4DC9-8987-A68D0A34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F5C630-4B53-4498-98A5-1DA2B79D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21DB65-EEBF-45DB-9BDD-EF36B067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B3F93-1791-4A7E-A1E0-6CB2C2BD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F5562-26E1-4B91-8D50-9A155D1E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445A7B-3769-4790-BD19-DB45E2DB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506DD7-95B0-476B-988B-CBD8E3B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2911A4-0351-4D72-8856-425E798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54EC8-B7EB-441A-A3B4-64FCFB27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1198-3637-49F4-BA85-088601B6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6461A-E47D-409A-B43E-CE84AF30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113AAC-9C61-4AB5-9390-AD617642A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19F490-46CA-43BD-AC80-7ACCCA0A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D53-368B-41E8-9716-CDB1FD57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6070-DD5B-458B-A4D7-D185630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D946-7B6C-43AD-A4E2-462EC853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84A9-403C-40B6-9673-18C8C3B7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FE3B-5B02-422C-A59A-4C4230A2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1998-FA84-493B-B60C-B4CD98B5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6497-EA98-4CF4-8002-C6BF64CA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3ABEC-3A4C-4C47-8B6C-10977AE5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9307-2EAB-4F7B-9AFB-BD927409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118A6-FB3C-43A8-AEA0-58F8356A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1C40-5ED1-4484-9474-5E55D6DB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6155-6D2D-4B09-8D36-1C07AE9E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478B-C683-4B7F-90D7-1FBD1E0B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39B3-4D07-42E5-9755-984FCA7B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3F0E-ED38-48FE-B8FA-B841EC94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7118-EA8B-4B69-9236-6BE2D7C3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CD3E4-DF06-48F4-BA2B-5038E9C2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8767-F6D9-44B9-BAA2-14232202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E8421-5F38-4EDE-B43D-9B8A04016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D7CB0-F776-46BD-8BC4-0FD2C9FF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D7455-4F67-4768-ACFE-F62DCD67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85D0F-A200-425A-8B6C-1F98F888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008-C6EC-4943-BADE-5E840B9E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75F7-2819-415D-8A65-E8C86E59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3726A-C4CE-4067-8A42-E885DE5E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E130E-66B4-42BE-AE65-FFDE3EE1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02E1-AF28-4D9C-BA60-942567CA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C3D72-72D3-423B-A4A1-25F30C71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60860-9E80-4A28-BD34-BB0A5E49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705E5-95F0-4CEC-ABC0-D7CCBDE2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6E75E-E0E4-45AD-A294-9C048B96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808FD-16F5-4632-B8B3-18BC8BED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01E52-6B80-4721-96A8-2C937912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1F5-B3BE-4F23-B023-28AD8921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1C76C-9548-4812-A284-6B74A688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789B-DFE9-4041-B6E1-BE14D666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C9723-B1DA-486A-8153-56EF4B1B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6A1EB-872E-4AC5-ABD7-5EA2E918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C05EB-6E9A-47C8-B2B7-6FAAC6B4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2F029-1329-4E7C-AA56-44B00B99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5CBD8-5BA5-4CBC-A80A-0437865D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76002-CC2C-49CA-A501-120E1455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8429-4561-4D22-9D0F-E77277BA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7E570-78EA-46D8-A6C5-37E4AC47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A5D-0BEA-4C56-9852-6D671F91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50F96-DF99-4EA0-A816-7943C6C6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C8CD3-41EA-4866-9DB3-D9518A42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05462-D3F7-4C6C-8906-AE01278F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31047-CFAB-49E9-8E02-0A48F49B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22D21-335B-4394-A590-41D5926B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FF834-47F2-41FC-80CD-06DA8D4D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BAA32-0ECB-4AAF-9FCF-576106C9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D55EC-2D90-4423-91AC-0AD47773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700F3-362B-4E27-B2B3-0278C63A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314AC-2146-45A8-8983-445C872C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341-DADE-4250-A060-EF7BC8BE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EF360-5478-457D-A47B-C2D3E746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8D222-9A67-47AB-AE24-D2A3FF57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71DEA-C400-4FDC-8B93-171CA38B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9819A-B605-4D32-B345-721DC4A3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1A107-454B-4292-8DEE-73AE3652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AE547-CD7E-4B12-BC2C-F0012841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ED356-B30D-44A1-896A-85571CF1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33A7B-862E-4737-B7D9-48306671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5DB97-DAFE-40ED-81AC-AB688913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847B3-589A-4D74-97D8-B2DF7706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CC0C-CD36-48C5-92BD-1ED736C3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C4109-4BE6-46B9-98EF-6AEBD89A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FBF75-B0C4-4C03-87E4-BFCBD157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6AD73-C038-4D5F-8D49-36ABFE8B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BF78F-F406-4DD2-853E-C1CBDBAD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FB695-92E9-4FDD-8761-491FFED4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48687-6994-4C53-8757-925A078A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BDC03-3A74-42A1-AB61-CB10FC1E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A120C-C7DE-4708-9FAB-C1C3E54C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3F828-4807-4E1C-8358-66079378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DB1F2-2E8A-4249-A8BD-B2C369C6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633-8925-4BF0-A9E6-E4FC5E65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005CA-F2C8-42F1-8966-10F18970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119A5-FE66-47A2-90EC-52D6D804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F7F17-3062-4E80-AF49-B679C1E7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6A486-644A-4D8A-859D-110CE67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1B63E-8CAF-4D6E-A9F7-E40ECBE9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6C410-ED91-4D76-B9D1-82BF6E59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39CA8-3034-4578-9105-9F4DE468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AEB07-39F0-4FBF-8FE4-8DF88C72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69912-B9F3-492F-AC10-F95B02A8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78C5F-3D5A-4B13-BD0D-24D9C100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85C7-2542-48FD-B8AA-27CE1A49E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02E2-61A2-41AD-B515-D4182E7DF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7F1B-B0C9-4054-BE3B-43778D7AE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77EA-A317-46B5-BD2B-02388602CF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1987-0BE4-496D-9760-8FAC14505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682F-E145-40A8-837E-1C2A621A7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A09C-5349-436E-ADB1-62ED118D9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652C-04D6-43AD-A05D-AD5AE592E54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35EB-5686-4B02-BFD9-9594FD3E790B}" type="slidenum">
              <a:rPr b="0" lang="en-US" sz="1400" spc="-1" strike="noStrike">
                <a:solidFill>
                  <a:srgbClr val="1c1c1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C224-DE5B-4D20-95DC-4528E3511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B186-318B-4E8B-AFFD-481CEE305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2DBF-FC86-4FB3-8376-553A60556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6DF9-1C03-4C1A-BDA2-82347EB2A5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09BF-DA48-442E-B1DD-7450D877D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7058-631B-4368-8C5D-9375155E2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8C19-9925-458D-A67B-8D5F9577E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1"/>
          <p:cNvSpPr/>
          <p:nvPr/>
        </p:nvSpPr>
        <p:spPr>
          <a:xfrm>
            <a:off x="2209680" y="0"/>
            <a:ext cx="69343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ahoma"/>
              </a:rPr>
              <a:t>Arthropod  Agents and Vectors of Diseases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ahoma"/>
              </a:rPr>
              <a:t>Dr:MONA BADR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Fisiolahepatica-cow"/>
          <p:cNvPicPr/>
          <p:nvPr/>
        </p:nvPicPr>
        <p:blipFill>
          <a:blip r:embed="rId1"/>
          <a:stretch/>
        </p:blipFill>
        <p:spPr>
          <a:xfrm>
            <a:off x="0" y="428760"/>
            <a:ext cx="8763120" cy="584172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2" descr="Fisiolahepatica-cow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4"/>
          <p:cNvSpPr/>
          <p:nvPr/>
        </p:nvSpPr>
        <p:spPr>
          <a:xfrm>
            <a:off x="1000080" y="4495680"/>
            <a:ext cx="77439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The 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Trematodes</a:t>
            </a: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flat worm ,unsegmented ,leaf lik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-360" y="52574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Taenia saginata Example of a Cestode ,Tapelike worm segmented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96" name="Picture 3" descr="Taenia_saginataL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26668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" descr="Taenia_saginataK"/>
          <p:cNvPicPr/>
          <p:nvPr/>
        </p:nvPicPr>
        <p:blipFill>
          <a:blip r:embed="rId2"/>
          <a:stretch/>
        </p:blipFill>
        <p:spPr>
          <a:xfrm>
            <a:off x="0" y="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5" descr="Taenia_saginataH_v2"/>
          <p:cNvPicPr/>
          <p:nvPr/>
        </p:nvPicPr>
        <p:blipFill>
          <a:blip r:embed="rId3"/>
          <a:stretch/>
        </p:blipFill>
        <p:spPr>
          <a:xfrm>
            <a:off x="4419720" y="2819520"/>
            <a:ext cx="1854000" cy="18540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6" descr="tae3"/>
          <p:cNvPicPr/>
          <p:nvPr/>
        </p:nvPicPr>
        <p:blipFill>
          <a:blip r:embed="rId4"/>
          <a:stretch/>
        </p:blipFill>
        <p:spPr>
          <a:xfrm>
            <a:off x="6934320" y="2743200"/>
            <a:ext cx="2209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DICAL IMPORTANCE OF ARTHROP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)As aetiologic agents (causes) of dis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ssue da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tion of hypersensitivity reac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jection of poi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omophobia (acarophobi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) As vectors of diseas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: Mechanical transmission - simple carriage of pathoge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: Biological transmi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ic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o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: Transovarian trans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2" descr="scabies1"/>
          <p:cNvPicPr/>
          <p:nvPr/>
        </p:nvPicPr>
        <p:blipFill>
          <a:blip r:embed="rId1"/>
          <a:stretch/>
        </p:blipFill>
        <p:spPr>
          <a:xfrm>
            <a:off x="228600" y="2438280"/>
            <a:ext cx="5283360" cy="419112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4"/>
          <p:cNvSpPr/>
          <p:nvPr/>
        </p:nvSpPr>
        <p:spPr>
          <a:xfrm>
            <a:off x="457200" y="380880"/>
            <a:ext cx="86868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b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tissue damage example of Arthrop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4" name="Picture 2" descr="biopara-scabies"/>
          <p:cNvPicPr/>
          <p:nvPr/>
        </p:nvPicPr>
        <p:blipFill>
          <a:blip r:embed="rId2"/>
          <a:stretch/>
        </p:blipFill>
        <p:spPr>
          <a:xfrm>
            <a:off x="5562720" y="2590920"/>
            <a:ext cx="3352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Object 2"/>
          <p:cNvGraphicFramePr/>
          <p:nvPr/>
        </p:nvGraphicFramePr>
        <p:xfrm>
          <a:off x="685800" y="372960"/>
          <a:ext cx="821520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2960"/>
                    <a:ext cx="821520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ortant arthropod vectors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uman disea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0" y="1752480"/>
          <a:ext cx="8458200" cy="5105520"/>
        </p:xfrm>
        <a:graphic>
          <a:graphicData uri="http://schemas.openxmlformats.org/drawingml/2006/table">
            <a:tbl>
              <a:tblPr/>
              <a:tblGrid>
                <a:gridCol w="3218040"/>
                <a:gridCol w="5240160"/>
              </a:tblGrid>
              <a:tr h="55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Musca domest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chanical transmission of  many viruses, bacteria and parasi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squitoe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عو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pheles :malaria filariasis Culex: filariasis, viruses                Aedes: yellow fever, dengue fever, Rift Valley Fe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ce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مل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y louse: vector for: Relapsing fever, typhus and trench fev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ea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راغيث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 flea is vector for plague due to Yersinia pest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cks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راد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 ticks , some are vestors for : Borrela duttoni         Hard ticks Include vectors for Babesiosis (protozoa), Q fever, and Rocky mountain spotted fever 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e t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Glossina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تس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African Trynanosomiasis (African sleeping sick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ck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imulium)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لذبابة السوداء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Onchocerca (river blind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hlebotomus)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رمل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s for leishmania and sandfly fever vir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cl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Dracunculus medinen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icture 1"/>
          <p:cNvSpPr/>
          <p:nvPr/>
        </p:nvSpPr>
        <p:spPr>
          <a:xfrm>
            <a:off x="1714680" y="2786040"/>
            <a:ext cx="528624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Rectangle 2"/>
          <p:cNvSpPr/>
          <p:nvPr/>
        </p:nvSpPr>
        <p:spPr>
          <a:xfrm>
            <a:off x="3568680" y="4287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2012400" y="9288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se(singular) , Lice (pleur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0" y="1357200"/>
            <a:ext cx="84582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Pediculus human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3" name="Picture 5" descr="C:\Users\hp\Desktop\download.jpg"/>
          <p:cNvPicPr/>
          <p:nvPr/>
        </p:nvPicPr>
        <p:blipFill>
          <a:blip r:embed="rId1"/>
          <a:stretch/>
        </p:blipFill>
        <p:spPr>
          <a:xfrm>
            <a:off x="0" y="2209680"/>
            <a:ext cx="5562720" cy="44197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6" descr="C:\Users\hp\Desktop\images.jpg"/>
          <p:cNvPicPr/>
          <p:nvPr/>
        </p:nvPicPr>
        <p:blipFill>
          <a:blip r:embed="rId2"/>
          <a:stretch/>
        </p:blipFill>
        <p:spPr>
          <a:xfrm>
            <a:off x="5562720" y="236232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Ae_albo_30Ap01_P4300281"/>
          <p:cNvPicPr/>
          <p:nvPr/>
        </p:nvPicPr>
        <p:blipFill>
          <a:blip r:embed="rId1"/>
          <a:stretch/>
        </p:blipFill>
        <p:spPr>
          <a:xfrm>
            <a:off x="5943600" y="457200"/>
            <a:ext cx="2338560" cy="182412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Ae_albo_Pb230730"/>
          <p:cNvPicPr/>
          <p:nvPr/>
        </p:nvPicPr>
        <p:blipFill>
          <a:blip r:embed="rId2"/>
          <a:stretch/>
        </p:blipFill>
        <p:spPr>
          <a:xfrm>
            <a:off x="3886200" y="533520"/>
            <a:ext cx="1560600" cy="12286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4"/>
          <p:cNvSpPr/>
          <p:nvPr/>
        </p:nvSpPr>
        <p:spPr>
          <a:xfrm>
            <a:off x="457200" y="4572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osquitoes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533520" y="1371600"/>
            <a:ext cx="327636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mopolitan , more than 3000 spe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val and pupal stages always aqu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th parts in female adapted to piercing and suck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us and species distinguished by morphology of adult and deveopmetal stag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9" name="Picture 6" descr="mosquito2"/>
          <p:cNvPicPr/>
          <p:nvPr/>
        </p:nvPicPr>
        <p:blipFill>
          <a:blip r:embed="rId3"/>
          <a:stretch/>
        </p:blipFill>
        <p:spPr>
          <a:xfrm>
            <a:off x="5029200" y="2514600"/>
            <a:ext cx="3070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sandfly2"/>
          <p:cNvPicPr/>
          <p:nvPr/>
        </p:nvPicPr>
        <p:blipFill>
          <a:blip r:embed="rId1"/>
          <a:stretch/>
        </p:blipFill>
        <p:spPr>
          <a:xfrm>
            <a:off x="1447920" y="914400"/>
            <a:ext cx="3039840" cy="261792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" descr="sandfly3"/>
          <p:cNvPicPr/>
          <p:nvPr/>
        </p:nvPicPr>
        <p:blipFill>
          <a:blip r:embed="rId2"/>
          <a:stretch/>
        </p:blipFill>
        <p:spPr>
          <a:xfrm>
            <a:off x="4876920" y="1295280"/>
            <a:ext cx="3200400" cy="27068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Sandfly4"/>
          <p:cNvPicPr/>
          <p:nvPr/>
        </p:nvPicPr>
        <p:blipFill>
          <a:blip r:embed="rId3"/>
          <a:stretch/>
        </p:blipFill>
        <p:spPr>
          <a:xfrm>
            <a:off x="4876920" y="411480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5" descr="sandflyreserve1"/>
          <p:cNvPicPr/>
          <p:nvPr/>
        </p:nvPicPr>
        <p:blipFill>
          <a:blip r:embed="rId4"/>
          <a:stretch/>
        </p:blipFill>
        <p:spPr>
          <a:xfrm>
            <a:off x="838080" y="38862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6"/>
          <p:cNvSpPr/>
          <p:nvPr/>
        </p:nvSpPr>
        <p:spPr>
          <a:xfrm>
            <a:off x="106668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hlebotom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 sand fl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pod  Agents and Vectors of Disea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1922400"/>
            <a:ext cx="73915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the end of this lecture the student should be able to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me the three main groups of parasitic helminths and their characteristic  morphological feature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life cycle of 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Ascaris lumbricoid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 an example of parasitic helminth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uss the role of arthropods a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gent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a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cto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diseases  in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examples of the main arthropod vectors of dise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0" y="1066680"/>
          <a:ext cx="9144000" cy="5791320"/>
        </p:xfrm>
        <a:graphic>
          <a:graphicData uri="http://schemas.openxmlformats.org/drawingml/2006/table">
            <a:tbl>
              <a:tblPr/>
              <a:tblGrid>
                <a:gridCol w="4514760"/>
                <a:gridCol w="46292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Protoz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Single cell for all 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Mul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3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Amoeba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move by psudob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Flagellat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Ciliate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move by cil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Apicomplex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(sporozoa) Tissue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A- </a:t>
                      </a:r>
                      <a:r>
                        <a:rPr b="1" i="1" lang="en-US" sz="2800" spc="-1" strike="noStrike" u="sng">
                          <a:solidFill>
                            <a:srgbClr val="c00000"/>
                          </a:solidFill>
                          <a:uFillTx/>
                          <a:latin typeface="Tahoma"/>
                          <a:ea typeface="MS PGothic"/>
                        </a:rPr>
                        <a:t>Round worms =       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ahoma"/>
                          <a:ea typeface="MS PGothic"/>
                        </a:rPr>
                        <a:t>Nematod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                cylindrical,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un-segmented(Ascar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B-  </a:t>
                      </a:r>
                      <a:r>
                        <a:rPr b="1" i="1" lang="en-US" sz="2800" spc="-1" strike="noStrike" u="sng">
                          <a:solidFill>
                            <a:srgbClr val="7030a0"/>
                          </a:solidFill>
                          <a:uFillTx/>
                          <a:latin typeface="Tahoma"/>
                          <a:ea typeface="MS PGothic"/>
                        </a:rPr>
                        <a:t>Flat wor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254"/>
                          </a:solidFill>
                          <a:latin typeface="Tahoma"/>
                          <a:ea typeface="MS PGothic"/>
                        </a:rPr>
                        <a:t>1-Tremato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leaf-like, un-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7254"/>
                          </a:solidFill>
                          <a:latin typeface="Tahoma"/>
                          <a:ea typeface="MS PGothic"/>
                        </a:rPr>
                        <a:t>2-Cestodes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  <a:ea typeface="MS PGothic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MS PGothic"/>
                        </a:rPr>
                        <a:t>tape-like, segm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Text Box 38"/>
          <p:cNvSpPr/>
          <p:nvPr/>
        </p:nvSpPr>
        <p:spPr>
          <a:xfrm>
            <a:off x="6094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tion of Parasi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Location of helminths in the body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Intestinal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Tissue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7315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Nemato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General feature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ongated worm, cylindrical, unsegmented and tapering at both e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 in size, measure &lt;1 cm to  about 100cm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x separate and male is smaller than fem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1" name="Picture 5" descr="untitled"/>
          <p:cNvPicPr/>
          <p:nvPr/>
        </p:nvPicPr>
        <p:blipFill>
          <a:blip r:embed="rId1"/>
          <a:stretch/>
        </p:blipFill>
        <p:spPr>
          <a:xfrm>
            <a:off x="2895480" y="4419720"/>
            <a:ext cx="29718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4" descr="Ascarisalumbmf"/>
          <p:cNvPicPr/>
          <p:nvPr/>
        </p:nvPicPr>
        <p:blipFill>
          <a:blip r:embed="rId1"/>
          <a:stretch/>
        </p:blipFill>
        <p:spPr>
          <a:xfrm>
            <a:off x="1371600" y="1219320"/>
            <a:ext cx="6426360" cy="464796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7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-360" y="1676520"/>
            <a:ext cx="67057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monest  intestinal helminthes can cause  infection to hum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 in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jejunum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upper part of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le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male (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 20-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 which is longer  than male (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 10-15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m)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 on semi digested f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1028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6" name="Picture 1029" descr="1Ascaris_adultK"/>
          <p:cNvPicPr/>
          <p:nvPr/>
        </p:nvPicPr>
        <p:blipFill>
          <a:blip r:embed="rId1"/>
          <a:stretch/>
        </p:blipFill>
        <p:spPr>
          <a:xfrm>
            <a:off x="4419720" y="3505320"/>
            <a:ext cx="4190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10439280" y="5943600"/>
            <a:ext cx="68580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caris lumbric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Pathogeni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-360" y="914400"/>
            <a:ext cx="8955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1-Migrating LARVA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scaris pneumonia , some times LARVA reach aberrant sites like brain ,heart or spinal cord  can cause unusual disturb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2-Adult WORM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The worm consumes proteins and vitamins from host’s diet and leads to malnutri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Can cause intussusception, intestinal ulcers and  in massive infection can cause intestinal obstruction.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14:58:24Z</dcterms:created>
  <dc:creator>Prof.Adeel</dc:creator>
  <dc:description/>
  <dc:language>en-US</dc:language>
  <cp:lastModifiedBy>hp ksa</cp:lastModifiedBy>
  <dcterms:modified xsi:type="dcterms:W3CDTF">2014-11-01T21:40:36Z</dcterms:modified>
  <cp:revision>90</cp:revision>
  <dc:subject/>
  <dc:title>Photo Album</dc:title>
</cp:coreProperties>
</file>