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41E-9BE1-4961-88FB-D12E56BB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C18-C0D7-471F-9C7A-641DF61F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963E-09C5-4DB2-8DD2-CE576E48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17E-B633-4DB0-A91D-BFA7C372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BCE-DCAD-48A1-A738-AE76D7C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AFFA-E65F-452A-BCEC-F1C95E6D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5A0-BB6F-4A15-AEE8-F12B3AA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4B6-B435-4BEA-8694-1A6DAB7B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65B-0893-4077-914C-42A7629E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AEE3-6DA3-46BB-A0D5-2AE46B60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C58-977E-4CAE-BFCD-B8B9860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BE8-CD87-462D-B54F-62F58915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54E60-2420-4B3B-A1FF-F07AF1098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Ceftobiprole" TargetMode="External"/><Relationship Id="rId3" Type="http://schemas.openxmlformats.org/officeDocument/2006/relationships/hyperlink" Target="http://en.wikipedia.org/wiki/Ceftobiprole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File:THFsynthesispathway.png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n.wikipedia.org/wiki/Pyridoxine" TargetMode="External"/><Relationship Id="rId3" Type="http://schemas.openxmlformats.org/officeDocument/2006/relationships/hyperlink" Target="http://en.wikipedia.org/wiki/Pyridoxine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79646"/>
                </a:solidFill>
                <a:latin typeface="Footlight MT Light"/>
              </a:rPr>
              <a:t>Dr. Fawzia Alotaib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deada"/>
                </a:solidFill>
                <a:uFillTx/>
                <a:latin typeface="Footlight MT Light"/>
                <a:ea typeface="SimSun"/>
              </a:rPr>
              <a:t>ANTIBIOTICS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 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- 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ontain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eta- Lactam ring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&amp; organ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ind to </a:t>
            </a:r>
            <a:r>
              <a:rPr b="0" i="1" lang="en-US" sz="2400" spc="-1" strike="noStrike">
                <a:solidFill>
                  <a:srgbClr val="ffff00"/>
                </a:solidFill>
                <a:latin typeface="Footlight MT Light"/>
              </a:rPr>
              <a:t>PBP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, interfere with trans-peptid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Toxicity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ainl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hypersensi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  <a:ea typeface="Arial"/>
              </a:rPr>
              <a:t>Diarrhea, ..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334120" y="426708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Penicill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Benzyl penicillin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   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-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enicillin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Procaine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  <a:ea typeface="Arial"/>
              </a:rPr>
              <a:t>Benzathine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Isoxazolyl penicillins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loxacillin –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St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Footlight MT Light"/>
              </a:rPr>
              <a:t>Amino-penicillin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-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mpicillin –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Enterobacteria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.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i="1" lang="en-US" sz="3200" spc="-1" strike="noStrike">
                <a:solidFill>
                  <a:srgbClr val="fdeada"/>
                </a:solidFill>
                <a:latin typeface="Footlight MT Light"/>
              </a:rPr>
              <a:t>Acylaminopenicillins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iperacillin,mezlocillin-        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Psudom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CEPHALOSPOR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80880" y="1676520"/>
            <a:ext cx="4114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irst 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phra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ohalex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econd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urox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Cephamycin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(Cefoxi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ird generation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expand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4648320" y="1981080"/>
            <a:ext cx="38098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eg.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ria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azi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ep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 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ootlight MT Light"/>
                <a:hlinkClick r:id="rId3"/>
              </a:rPr>
              <a:t> Ceftobip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400" spc="-1" strike="noStrike">
                <a:solidFill>
                  <a:srgbClr val="fdeada"/>
                </a:solidFill>
                <a:latin typeface="Calibri"/>
                <a:ea typeface="Arial"/>
              </a:rPr>
              <a:t>β</a:t>
            </a: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-Lactamas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s with no antibacteri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rreversibly bind to </a:t>
            </a: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Clavulanic acid, Sulbactam, Tazobac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ffective on staph. Penicillinases and broad spectrum </a:t>
            </a:r>
            <a:r>
              <a:rPr b="0" lang="el-GR" sz="3200" spc="-1" strike="noStrike">
                <a:solidFill>
                  <a:srgbClr val="ffff00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-lactam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g. amoxicillin/clavulanic acid, ticarcillin /clavulanic acid and piperacillin /tazoba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Glyco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actericidal .Acts on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ram positive bacteria only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Inhibit cell wall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Given by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sed for  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MRSA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,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S.epidermidi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, pseudomembran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d man syndrome ,phlebitis, nephrotoxic &amp; oto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3520" y="15238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Only used </a:t>
            </a:r>
            <a:r>
              <a:rPr b="1" i="1" lang="en-US" sz="2400" spc="-1" strike="noStrike">
                <a:solidFill>
                  <a:srgbClr val="fdeada"/>
                </a:solidFill>
                <a:latin typeface="Footlight MT Light"/>
              </a:rPr>
              <a:t>LOCALLY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due to serious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nephr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olistin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used for the treatment of multi-resistant organisms (MRO) such as :</a:t>
            </a:r>
            <a:r>
              <a:rPr b="1" i="1" lang="en-US" sz="2400" spc="-1" strike="noStrike">
                <a:solidFill>
                  <a:srgbClr val="ffff00"/>
                </a:solidFill>
                <a:latin typeface="Footlight MT Light"/>
              </a:rPr>
              <a:t>Pseudomonas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 and </a:t>
            </a:r>
            <a:r>
              <a:rPr b="1" i="1" lang="en-US" sz="2400" spc="-1" strike="noStrike">
                <a:solidFill>
                  <a:srgbClr val="ffff00"/>
                </a:solidFill>
                <a:latin typeface="Footlight MT Light"/>
              </a:rPr>
              <a:t>Acinetobacter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AMINOGLYCOSIDES S30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TETRACYCLINE          S30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HLORAMPHENICOL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ACROLIDES          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MINOGLYCOSID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533520" y="1523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Gram negativ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xamples: Gentamicin ,Amikacin , Neomyci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-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do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Calibri"/>
              </a:rPr>
              <a:t>TETRACYCLI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Broad spectrum , bacterio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lso for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Short acting: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Long acting: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inocycline ,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Doxycycline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( CSF pene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New tetracycline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1" i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Tigycycline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0" i="1" lang="en-US" sz="2800" spc="-1" strike="noStrike">
                <a:solidFill>
                  <a:srgbClr val="92d050"/>
                </a:solidFill>
                <a:latin typeface="Footlight MT Light"/>
              </a:rPr>
              <a:t>(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Footlight MT Light"/>
              </a:rPr>
              <a:t>Teeth discoloration , GIT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Broad spectrum ,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Affects bone marrow cells and cause a plastic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Used for severe infections not responding to treatment , also for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disea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By the end of this lecture 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antibiotic ,chemotherapy and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scribe the difference between bactericidal  and bacteriostatic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narrow and broad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the therapeutic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MACROLI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80880" y="114300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Erythromycin &amp; 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Bacterio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Footlight MT Light"/>
              </a:rPr>
              <a:t>Legionella, Camylobact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, </a:t>
            </a: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Gram negative and positive infections for patients allergic to Penicillins and Cephalospor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Clindamycin acts on anaerobe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Footlight MT Light"/>
              </a:rPr>
              <a:t>Cause GIT disturbance,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seudomembrane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Footlight MT Light"/>
              </a:rPr>
              <a:t>New Macrolid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Azithromycin &amp; Clarithromyc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68580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RIFAMPIC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Causes discoloration of body fluids &amp; hepat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QUINOLONES</a:t>
            </a:r>
            <a:r>
              <a:rPr b="1" lang="en-US" sz="4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58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Synthetic, bactericidal, inhibit DNA </a:t>
            </a:r>
            <a:r>
              <a:rPr b="0" i="1" lang="en-US" sz="2800" spc="-1" strike="noStrike">
                <a:solidFill>
                  <a:srgbClr val="ffff00"/>
                </a:solidFill>
                <a:latin typeface="Footlight MT Light"/>
              </a:rPr>
              <a:t>Gyrase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Footlight MT Light"/>
              </a:rPr>
              <a:t>Generations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irst generation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–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locally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g. </a:t>
            </a: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Side effects:</a:t>
            </a:r>
            <a:r>
              <a:rPr b="0" lang="en-US" sz="3600" spc="-1" strike="noStrike">
                <a:solidFill>
                  <a:srgbClr val="ffff00"/>
                </a:solidFill>
                <a:latin typeface="Footlight MT Light"/>
              </a:rPr>
              <a:t> on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rtilage &amp;  he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anaerobic bacteria, and para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used DNA brea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Used for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B.fragilis , Trichomonas vaginali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, amoebiasis and giardi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ETABOLITES ( folate inhibitor 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3520" y="16765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Trimethoprim-Sulfamethoxazole ( TMP-S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Combination of TMP-SMX called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:  Bactrim / Sep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Block sequential steps in folic aci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Footlight MT Light"/>
              </a:rPr>
              <a:t>Used to treat </a:t>
            </a:r>
            <a:r>
              <a:rPr b="0" i="1" lang="en-US" sz="2400" spc="-1" strike="noStrike">
                <a:solidFill>
                  <a:srgbClr val="ff3399"/>
                </a:solidFill>
                <a:latin typeface="Footlight MT Light"/>
              </a:rPr>
              <a:t>:Nocardia, Chlamydia, Protozoa &amp; P.cr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UTI,  LRTI, OM., Sinusitis, infectious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Side effects:   GIT, hepatitis , bone marrow depression,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http://upload.wikimedia.org/wikipedia/en/e/e9/THFsynthesispathway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2000160"/>
            <a:ext cx="7572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TUBERCULOUS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167652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First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RIFAMPI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ETHAMBU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YRAZIN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495680" y="1676520"/>
            <a:ext cx="419112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Second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REPTO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YCLOSE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PRE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962520" y="17524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ISONIAZIDE  (IN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85800" y="1752480"/>
            <a:ext cx="8077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ffects mycobacteria at different sites of lung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Used for the treatment &amp; prophylaxis of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Cause peripheral neuritis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3"/>
              </a:rPr>
              <a:t>pyridoxin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(vitamin B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685800" y="198108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CONCENTRATED IN PHAGOLYSOSOME OF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  <a:ea typeface="Arial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ACID ENVIRONMENT OF 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HEPATITIS &amp; ARTHRAL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Know the mechanism of action of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various classes of antimicrobial agents(action, spectrum and 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Explain the criteria for an ideal antimicrob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BIOTIC RESISTANCE 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33520" y="17524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ootlight MT Light"/>
              </a:rPr>
              <a:t>INDISCRIMINATE USE OF ANTIMICROB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ELECTIVE ADVANTAGE OF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YPES OF RES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PRIMARY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Innate  eg. 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Streptococcus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&amp; anaerobes are resistant to gentam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NTIBIOTIC RESISTANCE IN BACTERIA (Continue</a:t>
            </a: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80880" y="137160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cquired resis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Footlight MT Light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:   </a:t>
            </a:r>
            <a:r>
              <a:rPr b="0" lang="en-US" sz="1800" spc="-1" strike="noStrike">
                <a:solidFill>
                  <a:srgbClr val="ffff00"/>
                </a:solidFill>
                <a:latin typeface="Footlight MT Light"/>
              </a:rPr>
              <a:t>MTB RESISTANT  TO SRTEPTO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Footlight MT Light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ross resistance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eg.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erythromy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Dissociate resistance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ent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does not confer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tobr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13716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- Permeabilit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- modification of site of action, eg.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- inactivation by enzymes . eg. 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- passing blocked metabolic reaction eg.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PABA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---------folic acid , plasmid med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96920" y="5068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PRINCIPLES OF ANTIMICROBIAL THERA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HOIC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PROPHYLAXIS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191120" y="198108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SHORT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LONG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B, UTI , RHEUMATIC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CRITERIA FOR IDEAL ANTIMICROBI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85800" y="1447920"/>
            <a:ext cx="8077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IV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ENETERATE TISSU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ISTANCE NOT DEVELOP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EFFECT ON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RO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Sherries Medical Microbiology, an introduction to Infectious Diseases. 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Latest edition, Kenneth Ryan and George Ray. Publisher: Mc Gra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deada"/>
                </a:solidFill>
                <a:latin typeface="Footlight MT Light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286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ANTIBIOTICS:</a:t>
            </a: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roduced by microorganism  which inhibit the growth of other microorganism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HEMOTHERA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72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SELECTIVE TOXICI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0492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he ability to kill or inhibit the growth of a microorganism without harming the hos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04920" y="8380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CIDAL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: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OSTATIC 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revents multiplication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Narrow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selected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ERAPEUTIC INDE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808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the dose toxic to the host to the effective therapeutic d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Footlight MT Light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    </a:t>
            </a: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Aminoglycosides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Footlight MT Light"/>
              </a:rPr>
              <a:t>Polymyxin B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: 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lowes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1981080"/>
            <a:ext cx="8915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)  Inhibition of cell wall 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)  alteration of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)  Inhibition of 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)  Inhibition of nucleic acid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5)  Anti-metabolite OR competitive antago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ANTIMICROBIALS THAT  INHIBIT CELL WALL SYNTH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Footlight MT Light"/>
              </a:rPr>
              <a:t>1- Beta –Lactam antimicrobial agents</a:t>
            </a:r>
            <a:r>
              <a:rPr b="0" lang="en-US" sz="2400" spc="-1" strike="noStrike">
                <a:solidFill>
                  <a:srgbClr val="ff0000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eph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Beta-lactamas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Footlight MT Light"/>
              </a:rPr>
              <a:t>2-  Vancomycin</a:t>
            </a:r>
            <a:r>
              <a:rPr b="0" lang="en-US" sz="2400" spc="-1" strike="noStrike">
                <a:solidFill>
                  <a:srgbClr val="ff0000"/>
                </a:solidFill>
                <a:latin typeface="Footlight MT Light"/>
              </a:rPr>
              <a:t> ( Teicoplan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Fawzia Alotaibi</cp:lastModifiedBy>
  <dcterms:modified xsi:type="dcterms:W3CDTF">2014-11-11T07:47:20Z</dcterms:modified>
  <cp:revision>16</cp:revision>
  <dc:subject/>
  <dc:title>Slide 1</dc:title>
</cp:coreProperties>
</file>