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F03-7827-41A2-898D-309B4A21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17B-E23C-46F0-93EC-19ED8EB0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DDE-A660-45B9-93B1-E3CC6F60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2B3-8491-4428-A617-C4D1EE40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D09-7724-46BE-98C3-98DEF9B3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224-0512-4BF1-B396-5FAF01BF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A04-6F92-4CBE-AAB9-93EA47EF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7EA-BB01-4EA0-89C4-0647528B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9516-5498-4192-B34B-B5977C84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078-5DC1-4E15-B6C5-8D6F4327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636-C992-4EBA-BA0E-66326B29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17E-310B-404C-8C23-3F3E2497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AFAE3-F497-4DD3-B150-B12BFFE1B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n.wikipedia.org/wiki/Ceftobiprole" TargetMode="External"/><Relationship Id="rId3" Type="http://schemas.openxmlformats.org/officeDocument/2006/relationships/hyperlink" Target="http://en.wikipedia.org/wiki/Ceftobiprole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en.wikipedia.org/wiki/File:THFsynthesispathway.pn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n.wikipedia.org/wiki/Pyridoxine" TargetMode="External"/><Relationship Id="rId3" Type="http://schemas.openxmlformats.org/officeDocument/2006/relationships/hyperlink" Target="http://en.wikipedia.org/wiki/Pyridoxine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6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79646"/>
                </a:solidFill>
                <a:latin typeface="Footlight MT Light"/>
              </a:rPr>
              <a:t>Dr. Fawzia Alotaib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Footlight MT Light"/>
              </a:rPr>
              <a:t>Department of  Pathology, Microbiology 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304920" y="838080"/>
            <a:ext cx="9296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dce6f2"/>
                </a:solidFill>
                <a:latin typeface="Footlight MT Light"/>
                <a:ea typeface="Century Gothic"/>
              </a:rPr>
              <a:t>Lecture Titl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deada"/>
                </a:solidFill>
                <a:uFillTx/>
                <a:latin typeface="Footlight MT Light"/>
                <a:ea typeface="SimSun"/>
              </a:rPr>
              <a:t>ANTIBIOTICS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Footlight MT Light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 </a:t>
            </a: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- LACTAM ANTIBIO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Contain :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Beta- Lactam ring 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&amp; organ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Natural &amp; Semi-synth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Bacterici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Bind to </a:t>
            </a:r>
            <a:r>
              <a:rPr b="0" i="1" lang="en-US" sz="2400" spc="-1" strike="noStrike">
                <a:solidFill>
                  <a:srgbClr val="ffff00"/>
                </a:solidFill>
                <a:latin typeface="Footlight MT Light"/>
              </a:rPr>
              <a:t>PBP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, interfere with trans-peptidatio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Footlight MT Light"/>
              </a:rPr>
              <a:t>Toxicity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Footlight MT Ligh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mainl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ootlight MT Light"/>
                <a:ea typeface="Arial"/>
              </a:rPr>
              <a:t>hypersensi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ootlight MT Light"/>
                <a:ea typeface="Arial"/>
              </a:rPr>
              <a:t>Anaphylaxis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ootlight MT Light"/>
                <a:ea typeface="Arial"/>
              </a:rPr>
              <a:t>Diarrhea, ..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334120" y="4267080"/>
            <a:ext cx="2819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deada"/>
                </a:solidFill>
                <a:uFillTx/>
                <a:latin typeface="Footlight MT Light"/>
              </a:rPr>
              <a:t>Penicill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6002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Footlight MT Light"/>
              </a:rPr>
              <a:t>Benzyl penicillin</a:t>
            </a:r>
            <a:r>
              <a:rPr b="1" i="1" lang="en-US" sz="3200" spc="-1" strike="noStrike">
                <a:solidFill>
                  <a:srgbClr val="ffff99"/>
                </a:solidFill>
                <a:latin typeface="Footlight MT Light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Footlight MT Light"/>
              </a:rPr>
              <a:t>    </a:t>
            </a:r>
            <a:r>
              <a:rPr b="1" i="1" lang="en-US" sz="3200" spc="-1" strike="noStrike">
                <a:solidFill>
                  <a:srgbClr val="ffff99"/>
                </a:solidFill>
                <a:latin typeface="Footlight MT Light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Penicillin 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ootlight MT Light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Footlight MT Light"/>
                <a:ea typeface="Arial"/>
              </a:rPr>
              <a:t>Procaine penicill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ootlight MT Light"/>
                <a:ea typeface="Arial"/>
              </a:rPr>
              <a:t>Benzathine penicil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Footlight MT Light"/>
              </a:rPr>
              <a:t>Isoxazolyl penicillins</a:t>
            </a:r>
            <a:r>
              <a:rPr b="1" lang="en-US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cloxacillin – </a:t>
            </a: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St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Footlight MT Light"/>
              </a:rPr>
              <a:t>Amino-penicillins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-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ampicillin –</a:t>
            </a: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Enterobacteria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i="1" lang="en-US" sz="3200" spc="-1" strike="noStrike">
                <a:solidFill>
                  <a:srgbClr val="fdeada"/>
                </a:solidFill>
                <a:latin typeface="Footlight MT Light"/>
              </a:rPr>
              <a:t>Acylaminopenicillins</a:t>
            </a: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: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piperacillin,mezlocillin-         </a:t>
            </a: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Psudom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CEPHALOSPORI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80880" y="1676520"/>
            <a:ext cx="4114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First  Gen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phra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ohalex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Second gen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furox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otlight MT Light"/>
              </a:rPr>
              <a:t>Cephamycin</a:t>
            </a: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 (Cefoxit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Third generation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Footlight MT Light"/>
              </a:rPr>
              <a:t>expanded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48320" y="1981080"/>
            <a:ext cx="38098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eg.  </a:t>
            </a: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ftriax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       </a:t>
            </a: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ftazid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Fourth gen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      </a:t>
            </a: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fep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Fourth gen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Footlight MT Light"/>
                <a:hlinkClick r:id="rId2"/>
              </a:rPr>
              <a:t>    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Footlight MT Light"/>
                <a:hlinkClick r:id="rId3"/>
              </a:rPr>
              <a:t> Ceftobip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4400" spc="-1" strike="noStrike">
                <a:solidFill>
                  <a:srgbClr val="fdeada"/>
                </a:solidFill>
                <a:latin typeface="Calibri"/>
                <a:ea typeface="Arial"/>
              </a:rPr>
              <a:t>β</a:t>
            </a:r>
            <a:r>
              <a:rPr b="0" lang="en-US" sz="4400" spc="-1" strike="noStrike">
                <a:solidFill>
                  <a:srgbClr val="fdeada"/>
                </a:solidFill>
                <a:latin typeface="Footlight MT Light"/>
              </a:rPr>
              <a:t>-Lactamase inhibi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-Lactams with no antibacteri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Irreversibly bind to </a:t>
            </a:r>
            <a:r>
              <a:rPr b="0" lang="el-GR" sz="3200" spc="-1" strike="noStrike">
                <a:solidFill>
                  <a:srgbClr val="ffff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-lactamase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Clavulanic acid, Sulbactam, Tazobac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Effective on staph. Penicillinases and broad spectrum </a:t>
            </a:r>
            <a:r>
              <a:rPr b="0" lang="el-GR" sz="3200" spc="-1" strike="noStrike">
                <a:solidFill>
                  <a:srgbClr val="ffff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-lactam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eg. amoxicillin/clavulanic acid, ticarcillin /clavulanic acid and piperacillin /tazobact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VANCOMY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5720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Glycopep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Bactericidal .Acts on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Gram positive bacteria only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Inhibit cell wall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Given by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injectio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Used for  </a:t>
            </a:r>
            <a:r>
              <a:rPr b="0" i="1" lang="en-US" sz="2400" spc="-1" strike="noStrike">
                <a:solidFill>
                  <a:srgbClr val="fdeada"/>
                </a:solidFill>
                <a:latin typeface="Footlight MT Light"/>
              </a:rPr>
              <a:t>MRSA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,</a:t>
            </a:r>
            <a:r>
              <a:rPr b="0" i="1" lang="en-US" sz="2400" spc="-1" strike="noStrike">
                <a:solidFill>
                  <a:srgbClr val="fdeada"/>
                </a:solidFill>
                <a:latin typeface="Footlight MT Light"/>
              </a:rPr>
              <a:t>S.epidermidis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, pseudomembranous colit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Red man syndrome ,phlebitis, nephrotoxic &amp; ototox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ANTIBIOTICS THAT ALTER CELL MEMBRA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3520" y="152388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Polymyxin B and Coli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Polymyxin B 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:</a:t>
            </a: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a Peptide active against Gram </a:t>
            </a:r>
            <a:r>
              <a:rPr b="1" lang="en-US" sz="2400" spc="-1" strike="noStrike">
                <a:solidFill>
                  <a:srgbClr val="ff3399"/>
                </a:solidFill>
                <a:latin typeface="Footlight MT Light"/>
              </a:rPr>
              <a:t>negative bacteria only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Bactericid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Only used </a:t>
            </a:r>
            <a:r>
              <a:rPr b="1" i="1" lang="en-US" sz="2400" spc="-1" strike="noStrike">
                <a:solidFill>
                  <a:srgbClr val="fdeada"/>
                </a:solidFill>
                <a:latin typeface="Footlight MT Light"/>
              </a:rPr>
              <a:t>LOCALLY</a:t>
            </a: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due to serious </a:t>
            </a: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nephro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Colistin </a:t>
            </a: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used for the treatment of multi-resistant organisms (MRO) such as :</a:t>
            </a:r>
            <a:r>
              <a:rPr b="1" i="1" lang="en-US" sz="2400" spc="-1" strike="noStrike">
                <a:solidFill>
                  <a:srgbClr val="ffff00"/>
                </a:solidFill>
                <a:latin typeface="Footlight MT Light"/>
              </a:rPr>
              <a:t>Pseudomonas</a:t>
            </a: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 and </a:t>
            </a:r>
            <a:r>
              <a:rPr b="1" i="1" lang="en-US" sz="2400" spc="-1" strike="noStrike">
                <a:solidFill>
                  <a:srgbClr val="ffff00"/>
                </a:solidFill>
                <a:latin typeface="Footlight MT Light"/>
              </a:rPr>
              <a:t>Acinetobacter </a:t>
            </a: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inf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ANTIBIOTICS  THAT INHIBIT PROTIEN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AMINOGLYCOSIDES S30S ribosomal sub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TETRACYCLINE          S30S ribosomal sub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CHLORAMPHENICOL  50 Sub Unit of 23 r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MACROLIDES            50 Sub Unit of 23 r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AMINOGLYCOSIDE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533520" y="1523880"/>
            <a:ext cx="8305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Acts only on 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Gram negative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Streptococci &amp; anaerobes are naturally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Examples: Gentamicin ,Amikacin , Neomycin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Given by 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injection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Nephrotoxic &amp; Ototoxic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 -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dose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Calibri"/>
              </a:rPr>
              <a:t>TETRACYCLI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49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Footlight MT Light"/>
              </a:rPr>
              <a:t>Broad spectrum , bacteriost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Footlight MT Light"/>
              </a:rPr>
              <a:t>Oral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Footlight MT Light"/>
              </a:rPr>
              <a:t>Intracellular organisms eg. </a:t>
            </a:r>
            <a:r>
              <a:rPr b="0" i="1" lang="en-US" sz="2800" spc="-1" strike="noStrike">
                <a:solidFill>
                  <a:srgbClr val="ff3399"/>
                </a:solidFill>
                <a:latin typeface="Footlight MT Light"/>
              </a:rPr>
              <a:t>Mycoplasma, Chlamydia ,Brucella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also for </a:t>
            </a:r>
            <a:r>
              <a:rPr b="0" i="1" lang="en-US" sz="2800" spc="-1" strike="noStrike">
                <a:solidFill>
                  <a:srgbClr val="ff3399"/>
                </a:solidFill>
                <a:latin typeface="Footlight MT Light"/>
              </a:rPr>
              <a:t>V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. </a:t>
            </a:r>
            <a:r>
              <a:rPr b="0" i="1" lang="en-US" sz="2800" spc="-1" strike="noStrike">
                <a:solidFill>
                  <a:srgbClr val="ff3399"/>
                </a:solidFill>
                <a:latin typeface="Footlight MT Light"/>
              </a:rPr>
              <a:t>cholera  &amp; Noca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Footlight MT Light"/>
              </a:rPr>
              <a:t>Short acting: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Tetracyc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Footlight MT Light"/>
              </a:rPr>
              <a:t>Long acting: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Minocycline , </a:t>
            </a: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Doxycycline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 </a:t>
            </a:r>
            <a:r>
              <a:rPr b="0" lang="en-US" sz="2800" spc="-1" strike="noStrike">
                <a:solidFill>
                  <a:srgbClr val="92d050"/>
                </a:solidFill>
                <a:latin typeface="Footlight MT Light"/>
              </a:rPr>
              <a:t>( CSF penetr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Footlight MT Light"/>
              </a:rPr>
              <a:t>New tetracycline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1" i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Tigycycline</a:t>
            </a: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 </a:t>
            </a:r>
            <a:r>
              <a:rPr b="0" i="1" lang="en-US" sz="2800" spc="-1" strike="noStrike">
                <a:solidFill>
                  <a:srgbClr val="92d050"/>
                </a:solidFill>
                <a:latin typeface="Footlight MT Light"/>
              </a:rPr>
              <a:t>( MRSA,MSSA, some Gram negative bacteria  and anaero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Side effec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Footlight MT Light"/>
              </a:rPr>
              <a:t>Teeth discoloration , GIT distu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CHLORAMPHENI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Footlight MT Light"/>
              </a:rPr>
              <a:t>Broad spectrum ,bacteric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Affects bone marrow cells and cause a plastic an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Footlight MT Light"/>
              </a:rPr>
              <a:t>Used for severe infections not responding to treatment , also for 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Rickettsial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92d050"/>
                </a:solidFill>
                <a:latin typeface="Footlight MT Light"/>
              </a:rPr>
              <a:t>diseas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deada"/>
                </a:solidFill>
                <a:latin typeface="Footlight MT Light"/>
                <a:ea typeface="Century Gothic"/>
              </a:rPr>
              <a:t>Lecture Objectives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deada"/>
                </a:solidFill>
                <a:latin typeface="Footlight MT Light"/>
              </a:rPr>
              <a:t>By the end of this lecture the student should be abl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Define antibiotic ,chemotherapy and selective 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Describe the difference between bactericidal  and bacteriostatic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Recognize the narrow and broad spectrum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Define the therapeutic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MACROLI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80880" y="114300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Erythromycin &amp; Clindamy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Footlight MT Light"/>
              </a:rPr>
              <a:t>Bacterio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ootlight MT Light"/>
              </a:rPr>
              <a:t>Legionella, Camylobacter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, </a:t>
            </a:r>
            <a:r>
              <a:rPr b="0" lang="en-US" sz="2400" spc="-1" strike="noStrike">
                <a:solidFill>
                  <a:srgbClr val="92d050"/>
                </a:solidFill>
                <a:latin typeface="Footlight MT Light"/>
              </a:rPr>
              <a:t>Gram negative and positive infections for patients allergic to Penicillins and Cephalospor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Footlight MT Light"/>
              </a:rPr>
              <a:t>Clindamycin acts on anaerobe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Footlight MT Light"/>
              </a:rPr>
              <a:t>Cause GIT disturbance,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Pseudomembraneous colit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92d050"/>
                </a:solidFill>
                <a:uFillTx/>
                <a:latin typeface="Footlight MT Light"/>
              </a:rPr>
              <a:t>New Macrolid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   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Azithromycin &amp; Clarithromyc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ANTIMICROBIALS THAT ACT ON  NUCLEIC ACI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68580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Rifampi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Metronidaz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RIFAMPIC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Semi-synthetic, bactericidal , acts on Gram positive bacteria and selected Gram negative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Reserved for Tubercu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Resistance develop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Used in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Causes discoloration of body fluids &amp; hepato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QUINOLONES</a:t>
            </a:r>
            <a:r>
              <a:rPr b="1" lang="en-US" sz="4400" spc="-1" strike="noStrike">
                <a:solidFill>
                  <a:srgbClr val="fdeada"/>
                </a:solidFill>
                <a:latin typeface="Footlight MT Light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8580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ootlight MT Light"/>
              </a:rPr>
              <a:t>Synthetic, bactericidal, inhibit DNA </a:t>
            </a:r>
            <a:r>
              <a:rPr b="0" i="1" lang="en-US" sz="2800" spc="-1" strike="noStrike">
                <a:solidFill>
                  <a:srgbClr val="ffff00"/>
                </a:solidFill>
                <a:latin typeface="Footlight MT Light"/>
              </a:rPr>
              <a:t>Gyrase</a:t>
            </a:r>
            <a:r>
              <a:rPr b="0" lang="en-US" sz="2800" spc="-1" strike="noStrike">
                <a:solidFill>
                  <a:srgbClr val="ffff00"/>
                </a:solidFill>
                <a:latin typeface="Footlight MT Light"/>
              </a:rPr>
              <a:t> and /or topoisomer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Footlight MT Light"/>
              </a:rPr>
              <a:t>Generations: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Footlight MT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first generation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nalidexic acid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–</a:t>
            </a:r>
            <a:r>
              <a:rPr b="0" lang="en-US" sz="2800" spc="-1" strike="noStrike">
                <a:solidFill>
                  <a:srgbClr val="ffff00"/>
                </a:solidFill>
                <a:latin typeface="Footlight MT Light"/>
              </a:rPr>
              <a:t>locally 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Second generation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fluoroquinolones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eg. </a:t>
            </a:r>
            <a:r>
              <a:rPr b="0" lang="en-US" sz="2800" spc="-1" strike="noStrike">
                <a:solidFill>
                  <a:srgbClr val="ffff00"/>
                </a:solidFill>
                <a:latin typeface="Footlight MT Light"/>
              </a:rPr>
              <a:t>ciprofloxacin, norfloxacin, ofloxacin,levofloxa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Third generation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sparfloxacin, gatifloxa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Fourth generation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moxifloxacin, trovafloxa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Side effects:</a:t>
            </a:r>
            <a:r>
              <a:rPr b="0" lang="en-US" sz="3600" spc="-1" strike="noStrike">
                <a:solidFill>
                  <a:srgbClr val="ffff00"/>
                </a:solidFill>
                <a:latin typeface="Footlight MT Light"/>
              </a:rPr>
              <a:t> on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cartilage &amp;  he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deada"/>
                </a:solidFill>
                <a:latin typeface="Footlight MT Light"/>
              </a:rPr>
              <a:t>Metronidaz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Nitroimidazole active on 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anaerobic bacteria, and para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Caused DNA brea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Used for </a:t>
            </a: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B.fragilis , Trichomonas vaginalis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 , amoebiasis and giardi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ANTIMETABOLITES ( folate inhibitor s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533520" y="1676520"/>
            <a:ext cx="83055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Trimethoprim-Sulfamethoxazole ( TMP-SM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Footlight MT Light"/>
              </a:rPr>
              <a:t>Combination of TMP-SMX called 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:  Bactrim / Sept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Block sequential steps in folic acid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Footlight MT Light"/>
              </a:rPr>
              <a:t>Used to treat </a:t>
            </a:r>
            <a:r>
              <a:rPr b="0" i="1" lang="en-US" sz="2400" spc="-1" strike="noStrike">
                <a:solidFill>
                  <a:srgbClr val="ff3399"/>
                </a:solidFill>
                <a:latin typeface="Footlight MT Light"/>
              </a:rPr>
              <a:t>:Nocardia, Chlamydia, Protozoa &amp; P.cran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UTI,  LRTI, OM., Sinusitis, infectious 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Side effects:   GIT, hepatitis , bone marrow depression, hyper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http://upload.wikimedia.org/wikipedia/en/e/e9/THFsynthesispathway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2000160"/>
            <a:ext cx="75722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ANTITUBERCULOUS AG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1676520"/>
            <a:ext cx="3505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Footlight MT Light"/>
              </a:rPr>
              <a:t>First line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 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I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RIFAMPI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ETHAMBUT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PYRAZINA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495680" y="1676520"/>
            <a:ext cx="4191120" cy="36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Footlight MT Light"/>
              </a:rPr>
              <a:t>Second line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STREPTOMYC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PA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CYCLOSER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CAPREOMY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62520" y="175248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deada"/>
                </a:solidFill>
                <a:uFillTx/>
                <a:latin typeface="Footlight MT Light"/>
              </a:rPr>
              <a:t>ISONIAZIDE  (IN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85800" y="1752480"/>
            <a:ext cx="8077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Affects mycobacteria at different sites of lung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Used for the treatment &amp; prophylaxis of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Cause peripheral neuritis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Footlight MT Light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Footlight MT Light"/>
                <a:hlinkClick r:id="rId3"/>
              </a:rPr>
              <a:t>pyridoxine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(vitamin B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685800" y="1981080"/>
            <a:ext cx="3809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Footlight MT Light"/>
              </a:rPr>
              <a:t>Ethambut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BACTERICI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CONCENTRATED IN PHAGOLYSOSOME OF ALVE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OPTIC NEUR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1055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  <a:ea typeface="Arial"/>
              </a:rPr>
              <a:t>Pyrazina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deada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ACID ENVIRONMENT OF MACROPH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deada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HEPATITIS &amp; ARTHRALG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deada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deada"/>
                </a:solidFill>
                <a:latin typeface="Footlight MT Light"/>
                <a:ea typeface="Century Gothic"/>
              </a:rPr>
              <a:t>Lecture Objectives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Know the mechanism of action of antimicrobial ag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Recognize the various classes of antimicrobial agents(action, spectrum and side eff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Explain the criteria for an ideal antimicrob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ANTIBIOTIC RESISTANCE IN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33520" y="175248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ootlight MT Light"/>
              </a:rPr>
              <a:t>INDISCRIMINATE USE OF ANTIMICROB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SELECTIVE ADVANTAGE OF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TYPES OF RESIS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RIMARY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Innate  eg. </a:t>
            </a:r>
            <a:r>
              <a:rPr b="0" i="1" lang="en-US" sz="2800" spc="-1" strike="noStrike">
                <a:solidFill>
                  <a:srgbClr val="ffffff"/>
                </a:solidFill>
                <a:latin typeface="Footlight MT Light"/>
              </a:rPr>
              <a:t>Streptococcus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 &amp; anaerobes are resistant to gentamic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ANTIBIOTIC RESISTANCE IN BACTERIA (Continue</a:t>
            </a: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80880" y="1371600"/>
            <a:ext cx="8077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Acquired resistan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ootlight MT Light"/>
              </a:rPr>
              <a:t>1-  </a:t>
            </a:r>
            <a:r>
              <a:rPr b="1" lang="en-US" sz="1800" spc="-1" strike="noStrike">
                <a:solidFill>
                  <a:srgbClr val="ff3399"/>
                </a:solidFill>
                <a:latin typeface="Footlight MT Light"/>
              </a:rPr>
              <a:t>MUTATION</a:t>
            </a:r>
            <a:r>
              <a:rPr b="0" lang="en-US" sz="1800" spc="-1" strike="noStrike">
                <a:solidFill>
                  <a:srgbClr val="000000"/>
                </a:solidFill>
                <a:latin typeface="Footlight MT Light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Footlight MT Light"/>
              </a:rPr>
              <a:t>MTB RESISTANT  TO SRTEPTOMY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2- </a:t>
            </a:r>
            <a:r>
              <a:rPr b="1" lang="en-US" sz="2000" spc="-1" strike="noStrike">
                <a:solidFill>
                  <a:srgbClr val="ff3399"/>
                </a:solidFill>
                <a:latin typeface="Footlight MT Light"/>
              </a:rPr>
              <a:t>GENE TRANSFER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:   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plasmid mediated or through transpo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Cross resistance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Resistance to one group confer resistance to  other drug of the same group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eg. Resistance to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erythromyci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and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clindamy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Dissociate resistance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resistance to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gentamici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does not confer resistance to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tobramici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MECHANISMS OR RE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09480" y="13716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1- Permeability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2- modification of site of action, eg. </a:t>
            </a: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3- inactivation by enzymes . eg. Beta- Lactamase &amp;  aminoglycoside inactivating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4- passing blocked metabolic reaction eg. </a:t>
            </a: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PABA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	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---------folic acid , plasmid medi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96920" y="506880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PRINCIPLES OF ANTIMICROBIAL THERAP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286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IN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CHOICE OF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DO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EX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TOX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PROPHYLAXIS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191120" y="1981080"/>
            <a:ext cx="4267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Footlight MT Light"/>
              </a:rPr>
              <a:t>SHORT TERM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MENING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Footlight MT Light"/>
              </a:rPr>
              <a:t>LONG TERM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TB, UTI , RHEUMATIC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CRITERIA FOR IDEAL ANTIMICROBI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85800" y="1447920"/>
            <a:ext cx="8077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SELECTIVE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NO HYPER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PENETERATE TISSUE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RESISTANCE NOT DEVELOP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NO EFFECT ON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BROAD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Footlight MT Light"/>
                <a:ea typeface="Century Gothic"/>
              </a:rPr>
              <a:t>Reference book and the relevant page numbers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20271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deada"/>
                </a:solidFill>
                <a:latin typeface="Footlight MT Light"/>
              </a:rPr>
              <a:t>Sherries Medical Microbiology, an introduction to Infectious Diseases. </a:t>
            </a: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Latest edition, Kenneth Ryan and George Ray. Publisher: Mc Graw H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5053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entury Gothic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-990720" y="761760"/>
            <a:ext cx="92966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500" spc="-1" strike="noStrike" u="sng">
                <a:solidFill>
                  <a:srgbClr val="eeece1"/>
                </a:solidFill>
                <a:uFillTx/>
                <a:latin typeface="Century Gothic"/>
                <a:ea typeface="Century Gothic"/>
              </a:rPr>
              <a:t>T</a:t>
            </a:r>
            <a:r>
              <a:rPr b="1" lang="en-US" sz="6600" spc="-1" strike="noStrike">
                <a:solidFill>
                  <a:srgbClr val="eeece1"/>
                </a:solidFill>
                <a:latin typeface="Century Gothic"/>
                <a:ea typeface="Century Gothic"/>
              </a:rPr>
              <a:t>hank You </a:t>
            </a:r>
            <a:r>
              <a:rPr b="1" lang="en-US" sz="6600" spc="-1" strike="noStrike">
                <a:solidFill>
                  <a:srgbClr val="eeece1"/>
                </a:solidFill>
                <a:latin typeface="Wingdings"/>
                <a:ea typeface="Wingdings"/>
              </a:rPr>
              <a:t>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deada"/>
                </a:solidFill>
                <a:latin typeface="Footlight MT Light"/>
              </a:rPr>
              <a:t>ANTIMICROBIAL AG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28600" y="17524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ANTIBIOTICS:</a:t>
            </a:r>
            <a:r>
              <a:rPr b="1" lang="en-US" sz="2800" spc="-1" strike="noStrike">
                <a:solidFill>
                  <a:srgbClr val="ffff99"/>
                </a:solidFill>
                <a:latin typeface="Footlight MT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Natural compound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produced by microorganism  which inhibit the growth of other microorganism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CHEMOTHERAP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Synthetic compound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Antimicrobial agent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72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SELECTIVE TOXICI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04920" y="1638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The ability to kill or inhibit the growth of a microorganism without harming the host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304920" y="83808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Footlight MT Light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3399"/>
                </a:solidFill>
                <a:uFillTx/>
                <a:latin typeface="Footlight MT Light"/>
              </a:rPr>
              <a:t>BACTERICIDAL </a:t>
            </a: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:   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kills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3399"/>
                </a:solidFill>
                <a:uFillTx/>
                <a:latin typeface="Footlight MT Light"/>
              </a:rPr>
              <a:t>BACTERIOSTATIC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Footlight MT Light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 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prevents multiplication</a:t>
            </a: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Footlight MT Light"/>
              </a:rPr>
              <a:t>Spectrum of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Footlight MT Light"/>
              </a:rPr>
              <a:t>Broad spectrum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: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Gram positive &amp; Gram negative 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Footlight MT Light"/>
              </a:rPr>
              <a:t>Narrow spectrum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: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selected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THERAPEUTIC INDE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Footlight MT Light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f the dose toxic to the host to the effective therapeutic d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Footlight MT Light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Footlight MT Light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Penicilli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: 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        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Aminoglycosides 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Footlight MT Light"/>
              </a:rPr>
              <a:t>Polymyxin B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:  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he lowe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deada"/>
                </a:solidFill>
                <a:latin typeface="Footlight MT Light"/>
              </a:rPr>
              <a:t>MECHANISMS OF ACTION OF ANTIMICROB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28600" y="1981080"/>
            <a:ext cx="8915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1)  Inhibition of cell wall syn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2)  alteration of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3)  Inhibition of protein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4)  Inhibition of nucleic acid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5)  Anti-metabolite OR competitive antago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deada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deada"/>
                </a:solidFill>
                <a:latin typeface="Footlight MT Light"/>
              </a:rPr>
              <a:t>ANTIMICROBIALS THAT  INHIBIT CELL WALL SYNTHE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ootlight MT Light"/>
              </a:rPr>
              <a:t>1- Beta –Lactam antimicrobial agents</a:t>
            </a:r>
            <a:r>
              <a:rPr b="0" lang="en-US" sz="2400" spc="-1" strike="noStrike">
                <a:solidFill>
                  <a:srgbClr val="ff0000"/>
                </a:solidFill>
                <a:latin typeface="Footlight MT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 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Penicill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Cephalospo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Cepha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Carbapenems ( imipenem &amp; meropen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Monobactam (aztreo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Beta-lactamas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Footlight MT Light"/>
              </a:rPr>
              <a:t>2-  Vancomycin</a:t>
            </a:r>
            <a:r>
              <a:rPr b="0" lang="en-US" sz="2400" spc="-1" strike="noStrike">
                <a:solidFill>
                  <a:srgbClr val="ff0000"/>
                </a:solidFill>
                <a:latin typeface="Footlight MT Light"/>
              </a:rPr>
              <a:t> ( Teicoplani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7:07:28Z</dcterms:created>
  <dc:creator/>
  <dc:description/>
  <dc:language>en-US</dc:language>
  <cp:lastModifiedBy>Fawzia Alotaibi</cp:lastModifiedBy>
  <dcterms:modified xsi:type="dcterms:W3CDTF">2014-11-11T07:47:20Z</dcterms:modified>
  <cp:revision>16</cp:revision>
  <dc:subject/>
  <dc:title>Slide 1</dc:title>
</cp:coreProperties>
</file>