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E4E-5BEC-40A4-A9B7-93B70646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CDF-ED3E-4C66-A82D-0266E39B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D94-9227-4328-9F36-FD4CCF30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682-503E-4B8C-8F2C-0DD5DEC8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1CF9-4CF9-440F-9E9F-00E0FF39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4D0-AB17-412D-8496-6E8775F0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3C8-E36A-49DB-91D2-BF0C6FE1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E86D-DE03-4533-9308-2CC355A3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6BD-5D62-4E9C-9ABA-63ABE093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FC3-60B4-4AA4-9481-B40CE75B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A127-9109-453A-9935-21949BEA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8BAC-4064-425B-A524-E0EF7A04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56D99-894B-411F-8300-D8A6E85E6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6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ootlight MT Light"/>
              </a:rPr>
              <a:t>Lecturer name: </a:t>
            </a: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Prof Hanan Habib &amp; </a:t>
            </a:r>
            <a:r>
              <a:rPr b="1" i="1" lang="en-US" sz="3200" spc="-1" strike="noStrike">
                <a:solidFill>
                  <a:srgbClr val="ffff00"/>
                </a:solidFill>
                <a:latin typeface="Footlight MT Light"/>
              </a:rPr>
              <a:t>Prof. A.M. Kam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ootlight MT Light"/>
              </a:rPr>
              <a:t>Department of  Pathology, Microbiology Unit, KS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304920" y="838080"/>
            <a:ext cx="9296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4f81bd"/>
                </a:solidFill>
                <a:latin typeface="Footlight MT Light"/>
                <a:ea typeface="Century Gothic"/>
              </a:rPr>
              <a:t>Lecture Title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otlight MT Light"/>
              </a:rPr>
              <a:t>NORMAL  FLO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114800" y="2743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ootlight MT Light"/>
                <a:ea typeface="Century Gothic"/>
              </a:rPr>
              <a:t>(Foundation Block, MICROBIOLOG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ootlight MT Light"/>
              </a:rPr>
              <a:t>Areas of the body with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52280" y="182880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Footlight MT Light"/>
              </a:rPr>
              <a:t>GIT: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mouth &amp; large co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Footlight MT Light"/>
              </a:rPr>
              <a:t>Urogenital tract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: vagina &amp; distal 1/3 of the ureth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Footlight MT Light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1981080" y="228600"/>
            <a:ext cx="5327640" cy="638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S17"/>
          <p:cNvPicPr/>
          <p:nvPr/>
        </p:nvPicPr>
        <p:blipFill>
          <a:blip r:embed="rId2"/>
          <a:stretch/>
        </p:blipFill>
        <p:spPr>
          <a:xfrm>
            <a:off x="685800" y="762120"/>
            <a:ext cx="7201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Normal flora of the respiratory 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0492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Upper respiratory tract colonized by flora as in mouth &amp; nasophary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Lower respiratory tract  is ster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Nose: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    -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Staph. epidermid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             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- Staph. aur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             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-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Oropharynx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049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Viridance streptococ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Commensal neisser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Coryne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Bacter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Fusobacteria , Veillonella, actinomyces, spirocha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Heamophilus inflenzea &amp; Pneumcoccus are potential patho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Less common: </a:t>
            </a:r>
            <a:r>
              <a:rPr b="0" i="1" lang="en-US" sz="2400" spc="-1" strike="noStrike">
                <a:solidFill>
                  <a:srgbClr val="f2f2f2"/>
                </a:solidFill>
                <a:latin typeface="Footlight MT Light"/>
              </a:rPr>
              <a:t>Streptococcus pyogenes ,N.meningiti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Gastrointestinal tract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Saliva contains 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Footlight MT Light"/>
              </a:rPr>
              <a:t>8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 bacteria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Gingival margin debris &amp; dental Plaque continually colonized by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Oesophagus flora same as pharyngeal fl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Empty stomach sterile due to gastric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Footlight MT Light"/>
              </a:rPr>
              <a:t>Duodenum, jejunum&amp; upper ielium have scanty fl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Large intestine heavily colonized by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Fae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1/3 of faeces weight is bacteria , mainly dead bac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Living bacteria = ~ 10</a:t>
            </a:r>
            <a:r>
              <a:rPr b="0" lang="en-US" sz="3200" spc="-1" strike="noStrike" baseline="30000">
                <a:solidFill>
                  <a:srgbClr val="f2f2f2"/>
                </a:solidFill>
                <a:latin typeface="Footlight MT Light"/>
              </a:rPr>
              <a:t>10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/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99% are an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Anaerobic environment maintained by aerobic bacteria utilizing free O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Bacteroides fragilis 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group are the dominant anaerobes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, bifidobacteria , Lactobacilli…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Less common: E.coli ,Proteus,….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Genital tract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57200" y="179064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Female genital tract heavily colonized , wh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Footlight MT Light"/>
              </a:rPr>
              <a:t>8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/ml bacteria in normal vaginal secretion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In both sexes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Mycoplasma Smegmatis 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(AFB) in secretions which contaminate urine and leads to confusion /misdiagn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Male &amp; Female distal urethra: -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S.epidermidis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                                                 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- 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                                                     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-Mycoplasm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Female genital 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Footlight MT Light"/>
              </a:rPr>
              <a:t>Vulva</a:t>
            </a: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 : S. epidermidis , Corynebacteria, E.coli and other coliforms  &amp; E. faecal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Footlight MT Light"/>
              </a:rPr>
              <a:t>Vagin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Lactobacillus (Doderlein’s bacil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 </a:t>
            </a:r>
            <a:r>
              <a:rPr b="0" i="1" lang="en-US" sz="2400" spc="-1" strike="noStrike">
                <a:solidFill>
                  <a:srgbClr val="f2f2f2"/>
                </a:solidFill>
                <a:latin typeface="Footlight MT Light"/>
              </a:rPr>
              <a:t>Bacteroides melaninogeni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2f2f2"/>
                </a:solidFill>
                <a:latin typeface="Footlight MT Light"/>
              </a:rPr>
              <a:t>-E.faec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 Coryne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</a:t>
            </a:r>
            <a:r>
              <a:rPr b="0" i="1" lang="en-US" sz="2400" spc="-1" strike="noStrike">
                <a:solidFill>
                  <a:srgbClr val="f2f2f2"/>
                </a:solidFill>
                <a:latin typeface="Footlight MT Light"/>
              </a:rPr>
              <a:t>Myco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 Ye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Normal Skin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2860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kin has rich resident bacterial flora(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Footlight MT Light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/cm</a:t>
            </a:r>
            <a:r>
              <a:rPr b="0" lang="en-US" sz="3200" spc="-1" strike="noStrike" baseline="30000">
                <a:solidFill>
                  <a:srgbClr val="ffff00"/>
                </a:solidFill>
                <a:latin typeface="Footlight MT Light"/>
              </a:rPr>
              <a:t>2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Exist as microcolo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Anaerobic organisms predominate in areas with sebaceous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Moist skin ,often colonized by colif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3808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ootlight MT Light"/>
                <a:ea typeface="Century Gothic"/>
              </a:rPr>
              <a:t>Lecture Objectives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380880" y="3505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Footlight MT Light"/>
              </a:rPr>
              <a:t>By the end of this lecture the student is expected to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Define the terms: </a:t>
            </a:r>
            <a:r>
              <a:rPr b="0" i="1" lang="en-US" sz="2000" spc="-1" strike="noStrike">
                <a:solidFill>
                  <a:srgbClr val="f2f2f2"/>
                </a:solidFill>
                <a:latin typeface="Footlight MT Light"/>
              </a:rPr>
              <a:t>Normal Flora, Resident flora, Transient flora</a:t>
            </a: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 and carrier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the origin of normal fl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the importance of normal flora with examples, including importance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Source of opportunistic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Immunostim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Nutrition: Vitamins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Production of Carcino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Protection against external inva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areas of the body with normal flora (GIT, Urogenital tract, and skin) and most common types of organism in these areas and relation to pathogenicity of thes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sites of the body with no normal flora e.g. sterile body sites and the importance of this fact in relation to interpretation of culture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Main Skin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0492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Propionibacterium ac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Anaerobic coc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S. epidermi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S. aureus  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(less common,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potential pathogen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Coli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otlight MT Light"/>
              </a:rPr>
              <a:t>External auditory meat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28600" y="160020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Footlight MT Light"/>
              </a:rPr>
              <a:t>S. epidermi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AFB ( acid fast bacilli) occasionally found in ear wa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Footlight MT Light"/>
              </a:rPr>
              <a:t>CONJUNCTIVAL SAC FL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-</a:t>
            </a: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Corynebacterium xe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- S.epidermi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ootlight MT Light"/>
                <a:ea typeface="Century Gothic"/>
              </a:rPr>
              <a:t>Reference book and the relevant page numbers</a:t>
            </a:r>
            <a:r>
              <a:rPr b="1" lang="en-US" sz="3600" spc="-1" strike="noStrike">
                <a:solidFill>
                  <a:srgbClr val="eeece1"/>
                </a:solidFill>
                <a:latin typeface="Footlight MT Light"/>
                <a:ea typeface="Century Gothic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1760" y="18288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HERRIS MEDICAL MICROBIOLOGY, AN INTRODUCTION TO INFECTIOUS DISEASES. KENNETH RYAN /GEORGE RAY. LATEST EDITION. PUBLISHER MC GRW HI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CHAPTER 9,PAGE 141-1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ootlight MT Light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8088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Normal flora  are microorganisms that are frequently found in a particular site in normal healthy individ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Some are found in association with humans / animals only.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The Majority are bacteria</a:t>
            </a:r>
            <a:r>
              <a:rPr b="0" lang="en-US" sz="3200" spc="-1" strike="noStrike">
                <a:solidFill>
                  <a:srgbClr val="92d05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Symbolic relationship with the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Subject to constant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Altered by antimicrobial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otlight MT Light"/>
              </a:rPr>
              <a:t>Types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Commensals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has natural relationship with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Residents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Footlight MT Light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present for invariable perio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Transients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: establish itself briefly , excluded by host defense or competition from resi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Carrier state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: potentially pathogenic , eg. </a:t>
            </a:r>
            <a:r>
              <a:rPr b="0" i="1" lang="en-US" sz="3200" spc="-1" strike="noStrike">
                <a:solidFill>
                  <a:srgbClr val="ffffff"/>
                </a:solidFill>
                <a:latin typeface="Footlight MT Light"/>
              </a:rPr>
              <a:t>Streptococcus pneumoniae,  Neisseria  meningetidis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in throat of healthy individ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00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otlight MT Light"/>
              </a:rPr>
              <a:t>Origin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8736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Newborn is sterile in ut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After birth , exposed to flora of mother’s genital tract, skin, respiratory tract flora of those handling him ,and organisms in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otlight MT Light"/>
              </a:rPr>
              <a:t>Beneficial effects 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1- Immunostimulation 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(antibody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2- Exclusionary effect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(vacuum effect ) and protection from external invader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3-Production of essential nutrients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(vitamin K &amp; B) by some normal intestinal flora eg. </a:t>
            </a:r>
            <a:r>
              <a:rPr b="0" i="1" lang="en-US" sz="3200" spc="-1" strike="noStrike">
                <a:solidFill>
                  <a:srgbClr val="ffffff"/>
                </a:solidFill>
                <a:latin typeface="Footlight MT Light"/>
              </a:rPr>
              <a:t>E.coli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otlight MT Light"/>
              </a:rPr>
              <a:t>Other facts regarding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83808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May be a source of opportunistic infections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. eg . In patients with impaired defense mechanisms. eg </a:t>
            </a:r>
            <a:r>
              <a:rPr b="0" i="1" lang="en-US" sz="3200" spc="-1" strike="noStrike">
                <a:solidFill>
                  <a:srgbClr val="ffffff"/>
                </a:solidFill>
                <a:latin typeface="Footlight MT Light"/>
              </a:rPr>
              <a:t>Staphylococcus epidermidis, E.coli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Some may cross react with normal tissue components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,eg. antibodies to various ABO group arise because of cross reaction between intestinal flora and the antigens of </a:t>
            </a:r>
            <a:r>
              <a:rPr b="1" lang="en-US" sz="3200" spc="-1" strike="noStrike">
                <a:solidFill>
                  <a:srgbClr val="ffc000"/>
                </a:solidFill>
                <a:latin typeface="Footlight MT Light"/>
              </a:rPr>
              <a:t>A &amp; B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blood sub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otlight MT Light"/>
              </a:rPr>
              <a:t>Continu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335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Production of carcinogen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Some normal flora may modify through their enzymes chemicals in our diets into carcinogens. eg. artificial sweeteners may be enzymaticaly modified into bladder carcino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otlight MT Light"/>
              </a:rPr>
              <a:t>Distribution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8088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Internal organs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(except alimentary tract)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sterile at health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Sterility maintained by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- local defens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- chemical substances in serum &amp; tissues eg. Complement , antibo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-phagocytic activity of polymor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17:07:28Z</dcterms:created>
  <dc:creator/>
  <dc:description/>
  <dc:language>en-US</dc:language>
  <cp:lastModifiedBy>DRHANNAN</cp:lastModifiedBy>
  <dcterms:modified xsi:type="dcterms:W3CDTF">2014-09-08T06:40:52Z</dcterms:modified>
  <cp:revision>21</cp:revision>
  <dc:subject/>
  <dc:title>Slide 1</dc:title>
</cp:coreProperties>
</file>