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5AC4-3872-4CDA-9B57-1701A73F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31D0-AB0E-4309-8628-85AB0993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0A5-DEE9-4096-9170-45490450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FD5-D7BA-41A0-82EC-18637260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32C4-BA30-4B5F-A836-96D0A61C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423-8165-4508-A572-5F5A8EC0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2DB-EEA0-453A-86A4-566F157C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95F4-A100-485A-A166-6144CEFA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EA1-DC6B-4E4D-9071-BBB3DC12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B09C-3EE8-4C42-98D0-F5DB3E25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5EB-0E20-42E8-ABD2-5AB35F5F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14A1-D24B-4810-BE6C-BBF92ADA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2B607-9797-4062-84C8-E69F380A7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Prof Hanan Habib &amp; </a:t>
            </a:r>
            <a:r>
              <a:rPr b="1" i="1" lang="en-US" sz="3200" spc="-1" strike="noStrike">
                <a:solidFill>
                  <a:srgbClr val="ffff00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</a:rPr>
              <a:t>Department of  Pathology, Microbiology Unit, K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4f81bd"/>
                </a:solidFill>
                <a:latin typeface="Footlight MT Light"/>
                <a:ea typeface="Century Gothic"/>
              </a:rPr>
              <a:t>Lecture Title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NORMAL  FLO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ootlight MT Light"/>
              </a:rPr>
              <a:t>Areas of the body with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5228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GIT: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mouth &amp; larg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Urogenital tract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vagina &amp; distal 1/3 of the 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5327640" cy="638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S17"/>
          <p:cNvPicPr/>
          <p:nvPr/>
        </p:nvPicPr>
        <p:blipFill>
          <a:blip r:embed="rId2"/>
          <a:stretch/>
        </p:blipFill>
        <p:spPr>
          <a:xfrm>
            <a:off x="685800" y="762120"/>
            <a:ext cx="7201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flora of the respiratory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Upper respiratory tract colonized by flora as in mouth &amp; naso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Lower respiratory tract  is ste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Nose: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-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taph. epidermid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 Staph. aur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Oropharynx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iridance strepto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mmensal neisse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Bac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Fusobacteria , Veillonella, actinomyces, spirocha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ootlight MT Light"/>
              </a:rPr>
              <a:t>Heamophilus inflenzea &amp; Pneumcoccus are potential path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Less common: 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Streptococcus pyogenes ,N.meningiti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astrointestin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aliva contains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 bacteria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Gingival margin debris &amp; dental Plaque continually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Oesophagus flora same as pharyngeal fl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mpty stomach sterile due to gastr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Duodenum, jejunum&amp; upper ielium have scanty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Large intestine heavily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ae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/3 of faeces weight is bacteria , mainly dead bac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iving bacteria = ~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99% are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environment maintained by aerobic bacteria utilizing free O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Bacteroides fragilis 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group are the dominant anaerobes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, bifidobacteria , Lactobacilli…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ess common: E.coli ,Proteus,….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enit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179064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Female genital tract heavily colonized , wh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/ml bacteria in normal vaginal secretion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In both sexes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Mycoplasma Smegmatis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(AFB) in secretions which contaminate urine and leads to confusion /misdiagn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ale &amp; Female distal urethra: -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.epidermidis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  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Mycoplasm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emale genital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ootlight MT Light"/>
              </a:rPr>
              <a:t>Vulva</a:t>
            </a: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 : S. epidermidis , Corynebacteria, E.coli and other coliforms  &amp; E. faeca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ootlight MT Light"/>
              </a:rPr>
              <a:t>Vagin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Lactobacillus (Doderlein’s bacil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Bacteroides melaninogen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-E.faec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Myc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Ye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kin has rich resident bacterial flora(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Footlight MT Light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/cm</a:t>
            </a:r>
            <a:r>
              <a:rPr b="0" lang="en-US" sz="3200" spc="-1" strike="noStrike" baseline="30000">
                <a:solidFill>
                  <a:srgbClr val="ffff00"/>
                </a:solidFill>
                <a:latin typeface="Footlight MT Light"/>
              </a:rPr>
              <a:t>2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xist as micro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organisms predominate in areas with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oist skin ,often colonized by coli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Footlight MT Light"/>
                <a:ea typeface="Century Gothic"/>
              </a:rPr>
              <a:t>Lecture Objective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38088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Footlight MT Light"/>
              </a:rPr>
              <a:t>By the end of this lecture the student is expected to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Define the terms: </a:t>
            </a:r>
            <a:r>
              <a:rPr b="0" i="1" lang="en-US" sz="2000" spc="-1" strike="noStrike">
                <a:solidFill>
                  <a:srgbClr val="f2f2f2"/>
                </a:solidFill>
                <a:latin typeface="Footlight MT Light"/>
              </a:rPr>
              <a:t>Normal Flora, Resident flora, Transient flora</a:t>
            </a: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 and carri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origin of normal f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importance of normal flora with examples, including importanc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Source of opportunistic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Immunost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Nutrition: Vitamins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duction of Carcino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tection against external inva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areas of the body with normal flora (GIT, Urogenital tract, and skin) and most common types of organism in these areas and relation to pathogenicity of thes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sites of the body with no normal flora e.g. sterile body sites and the importance of this fact in relation to interpretation of cultur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Main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Propionibacterium ac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. aureus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(less common,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otential pathogen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li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External auditory meat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28600" y="16002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FB ( acid fast bacilli) occasionally found in ear w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Footlight MT Light"/>
              </a:rPr>
              <a:t>CONJUNCTIVAL SAC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Corynebacterium x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- S.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Footlight MT Light"/>
                <a:ea typeface="Century Gothic"/>
              </a:rPr>
              <a:t>Reference book and the relevant page numbers</a:t>
            </a: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17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HERRIS MEDICAL MICROBIOLOGY, AN INTRODUCTION TO INFECTIOUS DISEASES. KENNETH RYAN /GEORGE RAY. LATEST EDITION. PUBLISHER MC GR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HAPTER 9,PAGE 141-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ootlight MT Light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Normal flora  are microorganisms that are frequently found in a particular site in normal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ome are found in association with humans / animals only.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The Majority are bacteria</a:t>
            </a:r>
            <a:r>
              <a:rPr b="0" lang="en-US" sz="3200" spc="-1" strike="noStrike">
                <a:solidFill>
                  <a:srgbClr val="92d05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ymbolic relationship with the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ubject to constant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ltered by antimicrobial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Types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Commensals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has natural relationship with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Residents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present for invariable perio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Transients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establish itself briefly , excluded by host defense or competition from resi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Footlight MT Light"/>
              </a:rPr>
              <a:t>Carrier state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potentially pathogenic , eg.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Streptococcus pneumoniae,  Neisseria  meningetidis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in throat of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Origi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736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Newborn is sterile in ut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fter birth , exposed to flora of mother’s genital tract, skin, respiratory tract flora of those handling him ,and organisms i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Beneficial effects 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1- Immunostimulation 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antibody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2- Exclusionary effect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vacuum effect ) and protection from external invader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3-Production of essential nutrients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vitamin K &amp; B) by some normal intestinal flora eg.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E.coli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Other facts regarding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83808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May be a source of opportunistic infection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 eg . In patients with impaired defense mechanisms. eg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Staphylococcus epidermidis, E.coli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ome may cross react with normal tissue components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,eg. antibodies to various ABO group arise because of cross reaction between intestinal flora and the antigens of </a:t>
            </a:r>
            <a:r>
              <a:rPr b="1" lang="en-US" sz="3200" spc="-1" strike="noStrike">
                <a:solidFill>
                  <a:srgbClr val="ffc000"/>
                </a:solidFill>
                <a:latin typeface="Footlight MT Light"/>
              </a:rPr>
              <a:t>A &amp; B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lood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Contin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35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Production of carcinoge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ome normal flora may modify through their enzymes chemicals in our diets into carcinogens. eg. artificial sweeteners may be enzymaticaly modified into bladder carcino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ootlight MT Light"/>
              </a:rPr>
              <a:t>Distributio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Internal organs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except alimentary tract)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are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terile at health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ootlight MT Light"/>
              </a:rPr>
              <a:t>Sterility maintained by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 local defens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 chemical substances in serum &amp; tissues eg. Complement ,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phagocytic activity of polymor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/>
  <dc:description/>
  <dc:language>en-US</dc:language>
  <cp:lastModifiedBy>DRHANNAN</cp:lastModifiedBy>
  <dcterms:modified xsi:type="dcterms:W3CDTF">2014-09-08T06:40:52Z</dcterms:modified>
  <cp:revision>21</cp:revision>
  <dc:subject/>
  <dc:title>Slide 1</dc:title>
</cp:coreProperties>
</file>