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whoosh.wav" ContentType="audio/x-wav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DE92-4A00-4E8D-B810-F5F04CF3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6F95-F6F7-4073-8717-DDEE551B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9028-3132-4064-A12A-DC94E430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2BC-7F44-4CF0-98FB-199BA28A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0C7-8A37-4ECC-B8D7-C03C0D9A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06C-5490-495A-A73C-8DD8D1DA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16C-B802-45AE-82DD-2F9F9119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100-C400-430C-9F53-6F0EAA64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03B-61BF-4CD5-A2AD-CB77893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79C-FB37-4507-B95D-55794688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FFF-3247-4D5B-BE83-7B92A9B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E29-DDB2-4F01-B6FE-F957135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240-1F4B-4527-A1C4-026711EA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D29-4CE5-4EB5-A9B8-6517B78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443-9489-4F92-9648-433B986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4C7-54C3-4525-81BB-D0BA3327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C8D-EF4F-4568-BE5C-CFC8F87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32A-ABB8-410E-B6A7-18763A2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69E-E530-429D-85FC-993FBA1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6254-04A8-4203-83D6-E6D0E818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2B8-17F6-4165-8EAD-4CC2F324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9290-9782-43E9-AD04-927B2BEB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AF62-649F-4A4B-A9A7-F3E5E40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5F14-20FE-48BD-AD25-BA0763B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65F3-3F91-4CEE-9F03-9CA163F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6480-7ECA-4202-B845-2E2C29B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37B-D6BF-4CD2-B42F-24FFC7FA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8365-3AE6-44F5-ACC0-126022C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84F0-5B3A-4426-9269-2682384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A9B8-016B-476A-BFF3-2D18A0F5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2DDE-6279-4221-AD25-7423A13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1FDC-E727-455D-AE81-C2A71F1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67D6-6C3B-4365-8B44-F20C3AC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5808-B27B-43D1-8951-69D78037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705-0D81-4A9D-8916-F9B6CA37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584-19C9-4F31-BE23-34D82B5C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DB-1E24-4974-97B0-5AA906C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118-E9C2-4F46-917F-23F16D1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7FB-8FB5-4F02-9333-32F01AE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24B-9359-4EF4-868A-A5D179D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90EC-D184-4720-8723-45EB84A6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CE4F-3A9B-4173-8EE0-6544C9A4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D74-F238-4D4F-9E2B-EDFFD934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0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Foundation Bloc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46FA-7821-4BFA-BEF2-585A7C4A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97180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  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6776-11E1-47F5-9C7B-A4833A77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10240" cy="426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upload.wikimedia.org/wikipedia/commons/c/cd/Giardia_lamblia.png"/>
          <p:cNvPicPr/>
          <p:nvPr/>
        </p:nvPicPr>
        <p:blipFill>
          <a:blip r:embed="rId2"/>
          <a:stretch/>
        </p:blipFill>
        <p:spPr>
          <a:xfrm>
            <a:off x="4876920" y="0"/>
            <a:ext cx="39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74F3-842D-44DE-B343-68459DE0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552760" cy="6324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486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iagram 1" descr=""/>
          <p:cNvPicPr/>
          <p:nvPr/>
        </p:nvPicPr>
        <p:blipFill>
          <a:blip r:embed="rId1"/>
          <a:stretch/>
        </p:blipFill>
        <p:spPr>
          <a:xfrm>
            <a:off x="890640" y="974880"/>
            <a:ext cx="7272360" cy="431640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82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8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FF9E-D63A-4DFB-B360-D5E86B51B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Pentagon 9"/>
          <p:cNvGrpSpPr/>
          <p:nvPr/>
        </p:nvGrpSpPr>
        <p:grpSpPr>
          <a:xfrm>
            <a:off x="549360" y="4309920"/>
            <a:ext cx="4003560" cy="871560"/>
            <a:chOff x="549360" y="4309920"/>
            <a:chExt cx="4003560" cy="871560"/>
          </a:xfrm>
        </p:grpSpPr>
        <p:pic>
          <p:nvPicPr>
            <p:cNvPr id="188" name="Pentagon 9" descr=""/>
            <p:cNvPicPr/>
            <p:nvPr/>
          </p:nvPicPr>
          <p:blipFill>
            <a:blip r:embed="rId1"/>
            <a:stretch/>
          </p:blipFill>
          <p:spPr>
            <a:xfrm>
              <a:off x="549360" y="4309920"/>
              <a:ext cx="4003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9DD-F885-4419-B722-BBEAC98DF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7FC2-08F8-43C7-B753-50734281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9906120" y="-1066680"/>
            <a:ext cx="3809880" cy="426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http://upload.wikimedia.org/wikipedia/commons/c/cd/Giardia_lamblia.png"/>
          <p:cNvPicPr/>
          <p:nvPr/>
        </p:nvPicPr>
        <p:blipFill>
          <a:blip r:embed="rId2"/>
          <a:stretch/>
        </p:blipFill>
        <p:spPr>
          <a:xfrm>
            <a:off x="0" y="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9448920" y="29718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B2E-8BEA-4DCD-8AE5-12DC07EC6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59092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3"/>
          <p:cNvSpPr/>
          <p:nvPr/>
        </p:nvSpPr>
        <p:spPr>
          <a:xfrm>
            <a:off x="68580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y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nfective 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4038480" cy="33606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875-BCF9-4F14-BFD9-18C9A064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267080" y="1752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E2B6-DF70-4955-AA39-88D53151B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87B-5615-496B-9D8E-C1F76015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DFC8-0692-47C9-951F-B9A3DE6E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main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1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AAA4-A8BA-469A-8378-217FF51E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106668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Define common terms describing host-parasite  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33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34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49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57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61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75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77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81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91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92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95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97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301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9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310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312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313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25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27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29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36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38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49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50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54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63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74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78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80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81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94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97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02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403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419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21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26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67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0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5CB-83DE-4B94-A717-B0129473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4324-99C5-4C79-AC0E-0D1BA532F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1219320" y="0"/>
            <a:ext cx="5867280" cy="51069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1676520" y="5410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thology of malaria is due to invasion of the RB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Pentagon 9"/>
          <p:cNvGrpSpPr/>
          <p:nvPr/>
        </p:nvGrpSpPr>
        <p:grpSpPr>
          <a:xfrm>
            <a:off x="476280" y="2859120"/>
            <a:ext cx="3998880" cy="871560"/>
            <a:chOff x="476280" y="2859120"/>
            <a:chExt cx="3998880" cy="871560"/>
          </a:xfrm>
        </p:grpSpPr>
        <p:pic>
          <p:nvPicPr>
            <p:cNvPr id="479" name="Pentagon 9" descr=""/>
            <p:cNvPicPr/>
            <p:nvPr/>
          </p:nvPicPr>
          <p:blipFill>
            <a:blip r:embed="rId1"/>
            <a:stretch/>
          </p:blipFill>
          <p:spPr>
            <a:xfrm>
              <a:off x="476280" y="285912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C280-700F-4710-9930-AD67F66C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560D-0086-4E3E-A3B5-872A4DAF8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D1B-5EC6-4D7F-8C40-4CD57586E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&lt;i&gt;Leihsmania&lt;/i&gt; 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F4F-2597-4036-848C-BB3B040F2A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791D-7AAD-4D3F-86A1-8941D6BA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EBC3-B423-4819-9C78-1B34D49D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b050"/>
                </a:solidFill>
                <a:uFillTx/>
                <a:latin typeface="Century Gothic"/>
              </a:rPr>
              <a:t>Infection: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Century Gothic"/>
              </a:rPr>
              <a:t>infectious agent   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 the body of  humans or animals. The result may be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manifest (symptomatic) </a:t>
            </a:r>
            <a:r>
              <a:rPr b="1" i="1" lang="en-US" sz="4000" spc="-1" strike="noStrike" u="sng">
                <a:solidFill>
                  <a:srgbClr val="92d050"/>
                </a:solidFill>
                <a:uFillTx/>
                <a:latin typeface="Century Gothic"/>
              </a:rPr>
              <a:t>infection.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C05-28F3-49C0-A3A7-4FA673CE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cccff"/>
                </a:solidFill>
                <a:uFillTx/>
                <a:latin typeface="Century Gothi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8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e8ea"/>
                </a:solidFill>
                <a:uFillTx/>
                <a:latin typeface="Century Gothic"/>
              </a:rPr>
              <a:t>Host: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human or animal which harbo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ff"/>
                </a:solidFill>
                <a:uFillTx/>
                <a:latin typeface="Century Gothic"/>
              </a:rPr>
              <a:t>Definitive host (primary host)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- A host in which the parasite passes its           </a:t>
            </a:r>
            <a:r>
              <a:rPr b="1" lang="en-US" sz="3200" spc="-1" strike="noStrike">
                <a:solidFill>
                  <a:srgbClr val="ff33cc"/>
                </a:solidFill>
                <a:latin typeface="Century Gothic"/>
              </a:rPr>
              <a:t>sexual</a:t>
            </a:r>
            <a:r>
              <a:rPr b="1" lang="ar-SA" sz="3200" spc="-1" strike="noStrike">
                <a:solidFill>
                  <a:srgbClr val="ff33cc"/>
                </a:solidFill>
                <a:latin typeface="Century Gothic"/>
                <a:ea typeface="Tahoma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Century Gothic"/>
              </a:rPr>
              <a:t>stage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Intermediate host (secondary host)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host in which the parasite passes its</a:t>
            </a:r>
            <a:r>
              <a:rPr b="1" lang="en-US" sz="28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larval</a:t>
            </a:r>
            <a:r>
              <a:rPr b="1" lang="en-US" sz="28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r </a:t>
            </a: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asexual stages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565-41D4-4AA1-B36D-A877B45A2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carrier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rs a specific infectious agent  in the absence of symptoms and signs of a disease and serves as a </a:t>
            </a:r>
            <a:r>
              <a:rPr b="1" i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pathogenesis: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pathogenicity: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</a:t>
            </a:r>
            <a:r>
              <a:rPr b="1" i="1" lang="en-US" sz="3200" spc="-1" strike="noStrike" u="sng">
                <a:solidFill>
                  <a:srgbClr val="88c9ce"/>
                </a:solidFill>
                <a:uFillTx/>
                <a:latin typeface="Century Gothic"/>
              </a:rPr>
              <a:t>susceptible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4397-AD4F-44F9-83ED-136564C3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ff"/>
                </a:solidFill>
                <a:uFillTx/>
                <a:latin typeface="Century Gothic"/>
              </a:rPr>
              <a:t>Parasitism: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relationship in which an organism (the infectious agent, the parasite)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entury Gothic"/>
              </a:rPr>
              <a:t>benefits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from the  association with another organism          </a:t>
            </a:r>
            <a:r>
              <a:rPr b="1" i="1" lang="en-US" sz="3200" spc="-1" strike="noStrike">
                <a:solidFill>
                  <a:srgbClr val="ff0000"/>
                </a:solidFill>
                <a:latin typeface="Century Gothic"/>
              </a:rPr>
              <a:t>(the host)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hereas the host i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harme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in some wa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commensalism: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Kind of relationship  in which one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, the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mmensa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 , i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entury Gothic"/>
              </a:rPr>
              <a:t>benefite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whereas the other organism , the host ,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no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t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armed or even  helped by the association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D0A-8099-44C7-BA11-FE28F389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Ectoparasite: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Endoparasite: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entury Gothic"/>
              </a:rPr>
              <a:t>zoonosis: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4181-1286-40F8-88E1-4B24991C6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Donut 3"/>
          <p:cNvSpPr/>
          <p:nvPr/>
        </p:nvSpPr>
        <p:spPr>
          <a:xfrm>
            <a:off x="3505320" y="4572000"/>
            <a:ext cx="2133360" cy="83808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33600" h="838200">
                <a:moveTo>
                  <a:pt x="0" y="419100"/>
                </a:moveTo>
                <a:lnTo>
                  <a:pt x="0" y="419100"/>
                </a:lnTo>
                <a:arcTo wR="1066800" hR="419100" stAng="-10799997" swAng="5400005"/>
                <a:lnTo>
                  <a:pt x="1066801" y="1"/>
                </a:lnTo>
                <a:arcTo wR="1066800" hR="419100" stAng="-5400000" swAng="5400006"/>
                <a:lnTo>
                  <a:pt x="2133601" y="419103"/>
                </a:lnTo>
                <a:arcTo wR="1066800" hR="419100" stAng="0" swAng="5400000"/>
                <a:lnTo>
                  <a:pt x="1066801" y="838203"/>
                </a:lnTo>
                <a:arcTo wR="1066800" hR="419100" stAng="5400000" swAng="5400003"/>
                <a:close/>
                <a:moveTo>
                  <a:pt x="209550" y="419100"/>
                </a:moveTo>
                <a:lnTo>
                  <a:pt x="209550" y="419100"/>
                </a:lnTo>
                <a:arcTo wR="857250" hR="209550" stAng="-10799996" swAng="-5400004"/>
                <a:lnTo>
                  <a:pt x="1066800" y="628651"/>
                </a:lnTo>
                <a:arcTo wR="857250" hR="209550" stAng="5400000" swAng="-5400000"/>
                <a:lnTo>
                  <a:pt x="1924050" y="419101"/>
                </a:lnTo>
                <a:arcTo wR="857250" hR="209550" stAng="0" swAng="-5400000"/>
                <a:lnTo>
                  <a:pt x="1066800" y="209551"/>
                </a:lnTo>
                <a:arcTo wR="857250" hR="209550" stAng="-5400000" swAng="-5399996"/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nut 4"/>
          <p:cNvSpPr/>
          <p:nvPr/>
        </p:nvSpPr>
        <p:spPr>
          <a:xfrm>
            <a:off x="3352680" y="5181480"/>
            <a:ext cx="2514600" cy="914400"/>
          </a:xfrm>
          <a:custGeom>
            <a:avLst/>
            <a:gdLst>
              <a:gd name="textAreaLeft" fmla="*/ 368280 w 2514600"/>
              <a:gd name="textAreaRight" fmla="*/ 2146320 w 25146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514600" h="914400">
                <a:moveTo>
                  <a:pt x="0" y="457200"/>
                </a:moveTo>
                <a:lnTo>
                  <a:pt x="0" y="457200"/>
                </a:lnTo>
                <a:arcTo wR="1257300" hR="457200" stAng="-10799997" swAng="5400005"/>
                <a:lnTo>
                  <a:pt x="1257301" y="1"/>
                </a:lnTo>
                <a:arcTo wR="1257300" hR="457200" stAng="-5399992" swAng="5399998"/>
                <a:lnTo>
                  <a:pt x="2514600" y="457203"/>
                </a:lnTo>
                <a:arcTo wR="1257300" hR="457200" stAng="0" swAng="5400000"/>
                <a:lnTo>
                  <a:pt x="1257300" y="914403"/>
                </a:lnTo>
                <a:arcTo wR="1257300" hR="457200" stAng="5400000" swAng="5400003"/>
                <a:close/>
                <a:moveTo>
                  <a:pt x="228600" y="457200"/>
                </a:moveTo>
                <a:lnTo>
                  <a:pt x="228600" y="457200"/>
                </a:lnTo>
                <a:arcTo wR="1028700" hR="228600" stAng="-10799997" swAng="-5400003"/>
                <a:lnTo>
                  <a:pt x="1257300" y="685801"/>
                </a:lnTo>
                <a:arcTo wR="1028700" hR="228600" stAng="5400000" swAng="-5399997"/>
                <a:lnTo>
                  <a:pt x="2286000" y="457202"/>
                </a:lnTo>
                <a:arcTo wR="1028700" hR="228600" stAng="0" swAng="-5400000"/>
                <a:lnTo>
                  <a:pt x="1257300" y="228602"/>
                </a:lnTo>
                <a:arcTo wR="1028700" hR="228600" stAng="-5400000" swAng="-5399997"/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8774-CB0C-48F5-97A7-85B620F4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10"/>
          <p:cNvSpPr/>
          <p:nvPr/>
        </p:nvSpPr>
        <p:spPr>
          <a:xfrm>
            <a:off x="2819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C60-673B-4BB4-A201-88227DDD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 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hp ksa</cp:lastModifiedBy>
  <dcterms:modified xsi:type="dcterms:W3CDTF">2014-09-18T04:27:12Z</dcterms:modified>
  <cp:revision>349</cp:revision>
  <dc:subject/>
  <dc:title>DEFINITIONS</dc:title>
</cp:coreProperties>
</file>